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BJ.WAV" ContentType="audio/x-wav"/>
  <Override PartName="/ppt/media/%E9%92%A2%E7%90%B4.wav" ContentType="audio/x-wav"/>
  <Override PartName="/ppt/media/chimes.wav" ContentType="audio/x-wav"/>
  <Override PartName="/ppt/media/image6.jpeg" ContentType="image/jpeg"/>
  <Override PartName="/ppt/media/cashreg.wav" ContentType="audio/x-wav"/>
  <Override PartName="/ppt/media/image4.png" ContentType="image/png"/>
  <Override PartName="/ppt/media/image5.jpeg" ContentType="image/jpeg"/>
  <Override PartName="/ppt/media/type.wav" ContentType="audio/x-wav"/>
  <Override PartName="/ppt/media/projctor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706-DE0E-4434-B175-5BF7C7DE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950E-2598-470A-A3B4-5D2D1D69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0E1D-8844-4291-94A0-B5A04384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F8F-2561-42BC-B20A-A0E41316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7E65-1074-482D-8971-E0C75877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C124-20A7-4802-9314-B1718061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18B3-0363-4D04-88BD-01883546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2E61-02AE-4ABF-B3A3-DB9A97BF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DD01-2681-4D5C-917A-D9BD92D4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043-21E3-49B9-BF32-D0C82B32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DE70-B8C5-4E17-AEDD-E7AEC0EE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A519-B210-4D8A-B1E2-CBE64390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A1A9-8717-4229-BDE0-1A0DFE0E02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&#38050;&#29748;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BJ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86000" y="2133720"/>
            <a:ext cx="48290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庄暴见孟子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random/>
    <p:sndAc>
      <p:stSnd>
        <p:snd r:embed="rId3" name="%E9%92%A2%E7%90%B4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43000" y="2057400"/>
            <a:ext cx="6934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寡人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非能好先王之乐也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直好世俗之乐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独乐乐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与人乐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与少乐乐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与众乐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④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举疾首蹙而相告曰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举欣欣然有喜色而相告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⑤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吾王之好鼓乐，夫何使我至于此极也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吾王庶几无疾病与，何以能鼓乐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71800" y="990720"/>
            <a:ext cx="312408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对比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5486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运用对比揭示矛盾，阐发观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endshow"/>
          </p:cNvPr>
          <p:cNvSpPr/>
          <p:nvPr/>
        </p:nvSpPr>
        <p:spPr>
          <a:xfrm>
            <a:off x="7872480" y="6248520"/>
            <a:ext cx="738000" cy="380880"/>
          </a:xfrm>
          <a:custGeom>
            <a:avLst/>
            <a:gdLst>
              <a:gd name="textAreaLeft" fmla="*/ 24480 w 738000"/>
              <a:gd name="textAreaRight" fmla="*/ 713520 w 738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1833" h="21600">
                <a:moveTo>
                  <a:pt x="0" y="0"/>
                </a:moveTo>
                <a:lnTo>
                  <a:pt x="41833" y="0"/>
                </a:lnTo>
                <a:lnTo>
                  <a:pt x="41833" y="21600"/>
                </a:lnTo>
                <a:lnTo>
                  <a:pt x="0" y="21600"/>
                </a:lnTo>
                <a:close/>
              </a:path>
              <a:path fill="lightenLess" w="41833" h="21600">
                <a:moveTo>
                  <a:pt x="0" y="0"/>
                </a:moveTo>
                <a:lnTo>
                  <a:pt x="41833" y="0"/>
                </a:lnTo>
                <a:lnTo>
                  <a:pt x="40433" y="1400"/>
                </a:lnTo>
                <a:lnTo>
                  <a:pt x="1400" y="1400"/>
                </a:lnTo>
                <a:close/>
              </a:path>
              <a:path fill="darken" w="41833" h="21600">
                <a:moveTo>
                  <a:pt x="41833" y="0"/>
                </a:moveTo>
                <a:lnTo>
                  <a:pt x="41833" y="21600"/>
                </a:lnTo>
                <a:lnTo>
                  <a:pt x="40433" y="20200"/>
                </a:lnTo>
                <a:lnTo>
                  <a:pt x="40433" y="1400"/>
                </a:lnTo>
                <a:close/>
              </a:path>
              <a:path fill="darkenLess" w="41833" h="21600">
                <a:moveTo>
                  <a:pt x="418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33" y="20200"/>
                </a:lnTo>
                <a:close/>
              </a:path>
              <a:path fill="lighten" w="418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b6b6e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退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5410080"/>
            <a:ext cx="5562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The end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med">
    <p:checker dir="vert"/>
    <p:sndAc>
      <p:stSnd>
        <p:snd r:embed="rId2" name="BJ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666880" y="990720"/>
            <a:ext cx="3657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词语认读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2819520"/>
            <a:ext cx="609588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王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语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暴以好乐          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庶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有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诸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    独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乐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孰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乐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  臣请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王言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管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之音                  疾首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蹙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羽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旄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   则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28195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28195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hùj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35053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zh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19920" y="34290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uèl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41148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86600" y="4114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wèil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4724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u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47242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ù’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54100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á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5410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wà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553080" y="21337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438280" y="914400"/>
            <a:ext cx="40388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通假字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2514600"/>
            <a:ext cx="4419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可得闻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今王田猎于此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32767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方正舒体"/>
                <a:ea typeface="方正舒体"/>
              </a:rPr>
              <a:t>与，通“欤”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4724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方正舒体"/>
                <a:ea typeface="方正舒体"/>
              </a:rPr>
              <a:t>田，通“畋”，打猎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86000" y="380880"/>
            <a:ext cx="4572000" cy="20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词类活用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590920"/>
            <a:ext cx="457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王语暴以好乐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独乐乐，与人乐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与少乐乐，与众乐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则王矣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25909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名词作动词，告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32767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名词作动词，欣赏音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886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形容词作名词，少数人，多数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44956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隶书"/>
              </a:rPr>
              <a:t>名词作动词，成就王业，取得天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057400" y="1066680"/>
            <a:ext cx="46483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彩云"/>
              </a:rPr>
              <a:t>特殊句式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3352680"/>
            <a:ext cx="342900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暴见于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他日，见于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 rot="5400000">
            <a:off x="552240" y="3485880"/>
            <a:ext cx="255276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被动句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</p:spTree>
  </p:cSld>
  <p:transition spd="med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057400" y="1066680"/>
            <a:ext cx="46483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彩云"/>
              </a:rPr>
              <a:t>特殊句式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429000"/>
            <a:ext cx="3200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不若与人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不若与众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5400000">
            <a:off x="990360" y="3581280"/>
            <a:ext cx="266688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省略句</a:t>
            </a:r>
            <a:endParaRPr b="1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med"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43200" y="2971800"/>
            <a:ext cx="4343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好乐何如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?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何以能鼓乐也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?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何以能田猎也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057400" y="1066680"/>
            <a:ext cx="46483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彩云"/>
              </a:rPr>
              <a:t>特殊句式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74" name=""/>
          <p:cNvSpPr txBox="1"/>
          <p:nvPr/>
        </p:nvSpPr>
        <p:spPr>
          <a:xfrm rot="5400000">
            <a:off x="-152280" y="3505320"/>
            <a:ext cx="358128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方正姚体"/>
              </a:rPr>
              <a:t>宾语前置句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方正姚体"/>
              <a:ea typeface="方正姚体"/>
            </a:endParaRPr>
          </a:p>
        </p:txBody>
      </p:sp>
    </p:spTree>
  </p:cSld>
  <p:transition spd="med"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057400" y="1066680"/>
            <a:ext cx="46483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彩云"/>
              </a:rPr>
              <a:t>特殊句式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3048120"/>
            <a:ext cx="4876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王语暴以好乐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今王鼓乐于此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今王田猎于此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 rot="5400000">
            <a:off x="38160" y="3543120"/>
            <a:ext cx="373356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状语后置句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</p:spTree>
  </p:cSld>
  <p:transition spd="med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28800" y="1371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孟子喜欢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对比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，以揭示矛盾，阐发观点。参照下列资料，找出本文中运用对比的句子，并说说这样用的好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mj</cp:lastModifiedBy>
  <dcterms:modified xsi:type="dcterms:W3CDTF">2009-08-14T10:07:23Z</dcterms:modified>
  <cp:revision>7</cp:revision>
  <dc:subject/>
  <dc:title>幻灯片 1</dc:title>
</cp:coreProperties>
</file>