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90AE-F327-4E4B-900A-61561ADF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54AF-573E-4DEA-A5E4-248CA1A0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90F8-2E5B-4866-8B1E-69D341F8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D913-511F-409A-8254-B344D321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4370-4B8D-47AD-90BA-0C3CAEAB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2F71-12B8-4539-9BF6-220CA978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EC89-D20E-4D39-ABC8-BB1E2559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C0E3-E393-4F86-B97E-92D086FB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4075-CE60-4379-94ED-778B0295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D4CF-2468-41B6-8496-4EE2F27A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4AC5-5943-4C2C-A7C5-B7203AE0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0509-4C4C-42FF-BD77-E170D798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8A77-0C85-49DC-BEF1-C276AB1F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B670-5362-4B82-9241-42D1D169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A8F6-E25F-4E33-9D2C-E1B21F7E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B678-9B0D-41DA-BD11-6A42C333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1F46-F02C-4278-8C69-6F4D1819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D5D1-5131-45E4-9238-6F5B98CF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73BB-5597-4EE0-8DA4-5C27240A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9F5A-758D-463A-8E70-7AB634E6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C130-E245-438B-AA10-CBAF759C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FCBB-91B3-4596-B0BF-426B3C05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59B5-C02B-4A5C-B204-86DCD360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E4F7-B176-4D7B-BE7B-8E6284C0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8783-A419-4BE0-9201-E4C2397DFC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A9C6-9224-4C13-A092-6BA93A7476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3" name=""/>
          <p:cNvGraphicFramePr/>
          <p:nvPr/>
        </p:nvGraphicFramePr>
        <p:xfrm>
          <a:off x="0" y="1447920"/>
          <a:ext cx="9144000" cy="204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20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66960"/>
            <a:ext cx="7696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304560"/>
            <a:ext cx="77724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【学习目标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掌握文中出现的文言基础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本文正反对比论证的方法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了解孟子“与民同乐”的政治理想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13487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7631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304920" y="-380880"/>
            <a:ext cx="8458200" cy="7238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古之圣人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,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其出人也远矣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,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犹且从师而问焉；今之众人其下圣人也亦远矣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,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而耻学于师长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是故圣益圣，愚益愚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560" y="0"/>
            <a:ext cx="845820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商纣王自高自大，一意孤行，最终落得个葬身火海的下场；唐太宗虚心纳下，开创了“贞观盛世”；楚怀王闭目塞听，弃屈子的诤谏于不顾，落得个客死他乡的结果；齐威王善于纳谏，门庭若市，赢得诸侯朝拜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样的事例不胜枚举，同是帝王，为何结局如此不同？真的是“从谏如流”势在必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                   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论“从谏如流”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560" y="151920"/>
            <a:ext cx="88390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粒种子躺在泥土里，春天到了，一粒种子破土而出。而另一粒种子说到：“我没那么勇敢。我若向下扎根，也许会碰到岩石；我若向上长，也许会伤到我的茎。”于是它甘心呆在泥土里。几天后，它被一只母鸡吃掉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两粒种子的不同结果，我们可以看出，困难与挫折虽往往给人以挑战，却也可以催人奋进，给人以力量；安逸与保守虽可以暂时保身，但最终却使人堕落而遭淘汰。有一句话说得好：苦，可以折磨人，也可以锻炼人；蜜，可以养人，也可以害人。可见：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人生于忧患，而死于安乐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-6840" y="-360"/>
            <a:ext cx="217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    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228240"/>
            <a:ext cx="83818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生长在同一片土地上，一粒种子敢于面对挑战与困境，破土而出，为自己开创了一个美好的未来。而另一粒种子，却害怕挫折与磨难，甘心呆在自己的“安乐窝”里，结果埋葬了自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e40000"/>
                </a:solidFill>
                <a:latin typeface="Arial"/>
                <a:ea typeface="黑体"/>
              </a:rPr>
              <a:t>论辩艺术</a:t>
            </a:r>
            <a:endParaRPr b="0" lang="en-US" sz="7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54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引出话题     提出论题 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   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投其所好     转换话题   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层层铺垫      对比说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得出结论    水到渠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2-08T12:51:2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