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gif" ContentType="image/gi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F4B-D438-432B-8FAB-31A80755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6E9-A74A-4BA8-8BBE-BD1129BB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6C3-BFA8-4348-A1CF-E5C66640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001-B8A7-44DD-9DDE-88ADA5C4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CB0-FE95-4AA2-A42B-F2119B4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B66-A663-4C45-BD00-AB096C01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8D7-A45A-4A9E-94E1-8E8B886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D47-4C51-446E-9513-CB33662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36D-B1D4-4F25-982F-6C93FE78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73C-184E-4493-B2F7-8CB3FFEE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6B0-A60C-4962-8DA5-77DB393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BD4-EB20-46B1-936A-876510D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98C6-04CE-46E7-BA9C-F80D3D74D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304920"/>
            <a:ext cx="57909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庄暴见孟子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73392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  <a:ea typeface="隶书"/>
              </a:rPr>
              <a:t>《孟子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" descr=""/>
          <p:cNvPicPr/>
          <p:nvPr/>
        </p:nvPicPr>
        <p:blipFill>
          <a:blip r:embed="rId1"/>
          <a:srcRect l="0" t="0" r="0" b="8741"/>
          <a:stretch/>
        </p:blipFill>
        <p:spPr>
          <a:xfrm>
            <a:off x="7162920" y="5029200"/>
            <a:ext cx="15573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8153280" cy="499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孟子见梁襄王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《孟子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孟子见梁襄王。出，语人曰：“望之不似人君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之而不见所畏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然问曰：‘天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乎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吾对曰：‘定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“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孰能一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对曰：‘不嗜杀人者能一之。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05560" y="4724280"/>
            <a:ext cx="1738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295280"/>
            <a:ext cx="8077320" cy="257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孰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对曰：‘天下莫不与也。王知夫苗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七八月之间旱，则苗槁矣。天油然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云，沛然下雨，则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然兴之矣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是，孰能御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今夫天下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人牧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未有不嗜杀人者也。如有不嗜杀人者，则天下之民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引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而望之矣。诚如是也，民归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由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水之就下，沛然谁能御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’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971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066680" y="1066680"/>
            <a:ext cx="71629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彩云"/>
              </a:rPr>
              <a:t>祝同学们进步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3880"/>
            <a:ext cx="8534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华文新魏"/>
                <a:ea typeface="华文新魏"/>
              </a:rPr>
              <a:t>1</a:t>
            </a:r>
            <a:r>
              <a:rPr b="1" lang="zh-CN" sz="54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民归之，由水之就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孟子见梁襄王。出，语人曰：“望之不似人君，就之而不见所畏焉。卒然问曰：‘天下恶乎定？’吾对曰：‘定于一。’‘孰能一之？’对曰；‘不嗜杀人者，则天下之民皆引领而望之矣！诚如是也，民归之，由水之就下，沛然谁能御之？’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〈梁惠王上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       </a:t>
            </a:r>
            <a:r>
              <a:rPr b="1" i="1" lang="zh-CN" sz="6600" spc="-1" strike="noStrike" u="sng">
                <a:solidFill>
                  <a:srgbClr val="6600cc"/>
                </a:solidFill>
                <a:uFillTx/>
                <a:latin typeface="Times New Roman"/>
                <a:ea typeface="隶书"/>
              </a:rPr>
              <a:t>孟子的民本思想</a:t>
            </a:r>
            <a:r>
              <a:rPr b="1" i="1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76312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华文新魏"/>
                <a:ea typeface="华文新魏"/>
              </a:rPr>
              <a:t>2</a:t>
            </a:r>
            <a:r>
              <a:rPr b="1" lang="zh-CN" sz="72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与民同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不得而非其上者，非也；为民上而不与民同乐者，亦非也。乐民之乐者，民亦乐其乐；忧民之忧者，民亦忧其忧。乐以天下，然而不王者，未之有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〈梁惠王下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未命名" descr=""/>
          <p:cNvPicPr/>
          <p:nvPr/>
        </p:nvPicPr>
        <p:blipFill>
          <a:blip r:embed="rId1"/>
          <a:stretch/>
        </p:blipFill>
        <p:spPr>
          <a:xfrm>
            <a:off x="6391440" y="5724360"/>
            <a:ext cx="27525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534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仁者无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地方百里而可以王。王如施仁政于民，省刑罚，薄税敛，深耕耨，壮者以暇日修其孝悌忠信，入以事其父兄，出以事其长上，可使制梃以挞秦楚之坚甲利兵矣。彼夺其民时，使不得耕耨以养其父母，父母冻饿，兄弟妻子离散。彼陷溺其民，王往而征之，夫谁与王敌？故曰：‘仁者无敌。’王请勿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〈梁惠王上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ccff99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252360"/>
            <a:ext cx="883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华文新魏"/>
                <a:ea typeface="华文新魏"/>
              </a:rPr>
              <a:t>4</a:t>
            </a:r>
            <a:r>
              <a:rPr b="1" lang="zh-CN" sz="6000" spc="-1" strike="noStrike">
                <a:solidFill>
                  <a:srgbClr val="009900"/>
                </a:solidFill>
                <a:latin typeface="华文新魏"/>
                <a:ea typeface="华文新魏"/>
              </a:rPr>
              <a:t>、为民父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左右皆曰贤，未可也；诸大夫皆曰贤，未可也；国人皆曰贤，然后察之；见贤焉，然后用之。左右皆曰不可，勿听；诸大夫皆曰不可，勿听；国人皆曰不可，然后察之；见不可焉，然后去之。左右皆曰可杀，勿听；诸大夫皆曰可杀，勿听；国人皆曰可杀，然后察之；见可杀焉，然后杀之。故曰国人杀之也。如此，然后可以为民父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〈梁惠王上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94560" y="6267600"/>
            <a:ext cx="6494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Times New Roman"/>
                <a:ea typeface="华文行楷"/>
              </a:rPr>
              <a:t>       </a:t>
            </a:r>
            <a:r>
              <a:rPr b="1" lang="zh-CN" sz="6000" spc="-1" strike="noStrike" u="sng">
                <a:solidFill>
                  <a:srgbClr val="d60093"/>
                </a:solidFill>
                <a:uFillTx/>
                <a:latin typeface="Times New Roman"/>
                <a:ea typeface="华文行楷"/>
              </a:rPr>
              <a:t>古人对音乐的看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00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．凡音之起，由人心生也。人心之动，物使之然也。感于物而动，故形于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．是故先王慎所以感之者。故礼以道其志，乐以和其声，政以一其行，刑以防其奸。礼乐政刑，其极一也；所以同民心而出治道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cc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．是故治世之音安以乐，其政和；乱世之音怨以怒，其政乖；亡国之音哀以思，其民困。声音之道，与政通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2767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．乐者，通伦理者也。是故知声而不知音者，禽兽是也；知音而不知乐者，众庶是也；唯君子为能知乐……知乐，则几于礼矣。礼乐皆得，谓之有德。德者得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839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庄暴见孟子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《孟子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庄暴见孟子，曰：“暴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王，王语暴以好乐，暴未有以对也。”曰：“好乐何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孟子曰：“王之好乐甚，则齐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庶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乎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他日，见于王，曰：“王尝语庄子以好乐，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诸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王变乎色曰：“寡人非能好先王之乐也，直好世俗之乐耳。”曰：“王之好乐甚，则齐国其庶几乎。今之乐犹古之乐也。”曰：“可得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曰：“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与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孰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曰：“不若与人。”曰：“与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与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孰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曰：“不若与众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臣请为王言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今王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此，百姓闻王钟鼓之声，管籥之音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疾首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而相告曰：‘吾王之好鼓乐，夫何使我至于此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父子不相见，兄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妻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离散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!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今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猎于此，百姓闻王车马之音，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羽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之美，举疾首蹙而相告曰：‘吾王之好田猎，夫何使我至于此极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!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父子不相见，兄弟妻子离散。’此无他，不与民同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也。今王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此，百姓闻王钟鼓之声，管之音，举欣欣然有喜色而相告曰：‘吾王庶几无疾病与，何以能鼓乐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今王田猎于此，百姓闻王车马之音，见羽旄之美，举欣欣然有喜色而相告曰：‘吾王庶几无疾病与，何以能田猎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?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此无他，与民同乐也。今王与百姓同乐，则王矣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y</cp:lastModifiedBy>
  <dcterms:modified xsi:type="dcterms:W3CDTF">2003-08-12T11:00:08Z</dcterms:modified>
  <cp:revision>60</cp:revision>
  <dc:subject/>
  <dc:title>PowerPoint Presentation</dc:title>
</cp:coreProperties>
</file>