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34FF-C127-49C5-8F49-C1A43C0F8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FD63-F981-40D4-B475-3E49F03F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8B65-8F17-4C85-931C-4D880BCA3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4ACD-8CEA-4D4C-9A3A-4BF213DE0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30CA5-9BAC-4733-A79F-736784BEA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9397-532F-40DB-8E3F-45F70B3B1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F1BA-A7A4-4298-BF74-73AA9EB1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FE8B-E2F4-441A-8305-308A913D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2B38-6CD4-4D1A-8126-F0ACB819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2454-C63B-4989-A7F0-7C8EF61E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04ED5-E8DA-44B0-8B2C-48293EEE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F63C-00DC-457B-8211-8FB30078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3941-972D-4102-A613-231CD2D1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1C3EF-79FF-468D-B2EA-8E46F7BA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DEA46-1AB4-4176-A9EC-45A27858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11793-CA2E-401D-AC30-407025413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EA39-4AEC-418A-B677-FDF6046C0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A169-B887-4309-B20D-93148CA75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5E97-10CD-4B95-81D8-2EA57BE8A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810E-A9B4-4591-8734-C40CA8EA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9A6F-86FD-4151-9324-D8F7710C2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BEFC-6478-403B-BA66-75B42202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0FE2-C245-4F5A-B8A2-4079CCD6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9873-241C-4342-AA08-CC58361DA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1FA5-C2EE-48FA-817A-D36C7A122592}" type="slidenum">
              <a:rPr b="0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4BED-C067-448B-9A97-FE5B67E19471}" type="slidenum">
              <a:rPr b="0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nguyuan.com/html/tupianshijie/lishitupian/200809/13-320_6.html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cnguyuan.com/html/tupianshijie/lishitupian/200809/13-320_2.html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gaibangshequ.com/viewthread.php?tid=146288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32360" y="907920"/>
            <a:ext cx="1944720" cy="39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狱中杂记</a:t>
            </a:r>
            <a:r>
              <a:rPr b="0" lang="zh-CN" sz="7400" spc="-1" strike="noStrike">
                <a:solidFill>
                  <a:srgbClr val="ffff00"/>
                </a:solidFill>
                <a:latin typeface="华文行楷"/>
                <a:ea typeface="华文行楷"/>
              </a:rPr>
              <a:t> </a:t>
            </a:r>
            <a:endParaRPr b="0" lang="en-US" sz="7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236000" y="3645000"/>
            <a:ext cx="720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Arial"/>
                <a:ea typeface="华文彩云"/>
              </a:rPr>
              <a:t>方苞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3952800" cy="5334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84360" y="5558400"/>
            <a:ext cx="40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方苞 </a:t>
            </a:r>
            <a:r>
              <a:rPr b="1" lang="zh-CN" sz="3200" spc="-1" strike="noStrike">
                <a:solidFill>
                  <a:srgbClr val="990000"/>
                </a:solidFill>
                <a:latin typeface="黑体"/>
                <a:ea typeface="黑体"/>
              </a:rPr>
              <a:t>(1668—174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050920" y="6165720"/>
            <a:ext cx="60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祁阳二中高二语文备课组    周礼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概读课文，理清层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593280"/>
            <a:ext cx="9144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全文共分五段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     第一段，自开头至“皆轻系及牵连佐证法所不及者”，写刑部狱中瘟疫流行情景，揭露造成瘟疫的根源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     第二段，自“余日’’至“于是乎书”，写刑部狱中系囚之多的原因，揭露刑部狱官吏诈取钱财的罪恶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     第三段，自‘‘凡死刑狱上”至“信夫”，写行刑者、主缚者、主梏扑者心狠手辣，揭穿刑部狱敲诈勒索的黑幕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     第四段，自“部中老胥”至“人皆以为冥谪云”，写胥吏放纵主犯，残害无辜，主谳者不敢追究，揭露清代司法机构的黑暗与腐败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     第五段，自“凡杀人”至结尾，写胥吏狱卒与罪犯奸徒勾结舞弊，揭露刑部狱成了杀人犯寻欢作乐牟取钱财的场所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539280" y="188640"/>
            <a:ext cx="7993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牢狱生存条件之差表现在哪里？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79200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二百多人挤在一排没有窗户的狭小暗室里，吃喝拉撒都在一处，人死后不能及时处理，传染病动辄流行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2421000"/>
            <a:ext cx="7272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狱吏是如何贪赃枉法的？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3068640"/>
            <a:ext cx="7848720" cy="24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恣意妄为，制作伪章，篡改公文，甚至调换主罪者名单，即使是良吏亦多以脱人于死为功，而不求其情，法律之正义公理荡然无存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8604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  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监狱里的黑恶势力结成一个很大的网。</a:t>
            </a: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2090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主管官员管理着狱中囚犯的一举一动，囚犯的命运可以说是直接操纵在他们手上。监狱中的狱霸虽然他们本身也是囚犯，但他们与狱吏内外勾结，也能赚大钱。作者笔下的狱霸最后都乐不思蜀了，这一奇怪现象足可见封建牢狱黑暗之一般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8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8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24000" y="764640"/>
            <a:ext cx="842472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00"/>
                </a:solidFill>
                <a:latin typeface="Arial"/>
                <a:ea typeface="黑体"/>
              </a:rPr>
              <a:t>            </a:t>
            </a:r>
            <a:r>
              <a:rPr b="1" lang="zh-CN" sz="3100" spc="-1" strike="noStrike">
                <a:solidFill>
                  <a:srgbClr val="ff0000"/>
                </a:solidFill>
                <a:latin typeface="Arial"/>
                <a:ea typeface="黑体"/>
              </a:rPr>
              <a:t>康熙五十一年三月，余在刑部狱，见死而由窦出者，日三四人。有洪洞令杜君者，作而言曰：“此疫作也。今天时顺正，死者尚稀，往岁多至日十数人。”</a:t>
            </a:r>
            <a:r>
              <a:rPr b="1" lang="zh-CN" sz="27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4920" y="2636640"/>
            <a:ext cx="845964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康熙五十一年三月，我被关在刑部监狱里，亲眼看到死后从牢墙的洞口被拖出去的犯人，每天有三、四个，有位曾任过洪洞县令的杜君，站起来对我说：“这是瘟疫发作了。现在天时正常，死的人还不多，往年多到每天要死十几个。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19640" y="189000"/>
            <a:ext cx="22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翻译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78920" y="620640"/>
            <a:ext cx="864252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余叩所以，杜君曰：“是疾易传染，遘者虽戚属不敢同卧起。而狱中为老监者四，监五室。禁卒居中央，牖其前以通明，屋极有窗以达气。旁四室则无之，而系囚常二百余。</a:t>
            </a:r>
            <a:r>
              <a:rPr b="1" lang="zh-CN" sz="27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94920" y="2491920"/>
            <a:ext cx="84978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我向他询问原因，杜君说：“这种疾病非常容易传染，得了瘟疫的人，即使是他的亲属也不敢陪伴他同起同卧。而狱中设立了四个老监，每监分五个牢房。看管犯人的狱卒住在正中那间。他在前面墙上开一个窗户照明，屋顶开一个天窗来通气。旁边四间则没有窗户，但是关押的犯人常常多达二百多个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189000"/>
            <a:ext cx="22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翻译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78920" y="692280"/>
            <a:ext cx="867564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Arial"/>
                <a:ea typeface="黑体"/>
              </a:rPr>
              <a:t>    </a:t>
            </a:r>
            <a:r>
              <a:rPr b="1" lang="zh-CN" sz="2900" spc="-1" strike="noStrike">
                <a:solidFill>
                  <a:srgbClr val="ff0000"/>
                </a:solidFill>
                <a:latin typeface="Arial"/>
                <a:ea typeface="黑体"/>
              </a:rPr>
              <a:t>每薄暮下管键，矢溺皆闭其中，与饮食之气相薄；又隆冬，贫者席地而卧，春气动，鲜不疫矣。狱中成法，质明启钥，方夜中，生人与死者并踵顶而卧，无可旋避，此所以染者众中。</a:t>
            </a:r>
            <a:r>
              <a:rPr b="1" lang="zh-CN" sz="2300" spc="-1" strike="noStrike">
                <a:solidFill>
                  <a:srgbClr val="ff0000"/>
                </a:solidFill>
                <a:latin typeface="Arial"/>
                <a:ea typeface="黑体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79280" y="2565000"/>
            <a:ext cx="8748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每到傍晚就锁门，犯人的大小便都拉在牢里，臭气与食品的气味相混杂。又是寒冬，贫穷的犯人就睡在地上，春天一到，很少不生病的。狱中的老规矩，天快亮时才开锁。正在夜里，活人和死人脚挨脚、头并头而睡，没有办法回避，这样得传染病的人就多了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419640" y="189000"/>
            <a:ext cx="22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翻译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8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8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78920" y="549000"/>
            <a:ext cx="867564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又可怪者，大盗、积贼、杀人重囚，气杰旺，染此者十不一二，或随有瘳。其骈死者皆轻系及牵连佐证法所不及者。”余曰：“京师有京兆狱，有五城御史司坊，何故刑部系囚之多至此？”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2349000"/>
            <a:ext cx="87487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令人奇怪的是，那些大盗、惯贼、杀人要犯，精力特别旺盛，被传染上疾病的十个不到一二个，有的得了病，随即又痊愈了。那些接连死去的，都是因轻罪被关押的人，以及被牵连作证而依法不该判罪的。”我说：“京师有京兆狱，有五城御史司坊，什么原因刑部监狱关押的犯人如此之多？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19640" y="189000"/>
            <a:ext cx="22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翻译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250560" y="691920"/>
            <a:ext cx="856908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00"/>
                </a:solidFill>
                <a:latin typeface="Arial"/>
                <a:ea typeface="黑体"/>
              </a:rPr>
              <a:t>   </a:t>
            </a:r>
            <a:r>
              <a:rPr b="1" lang="zh-CN" sz="2700" spc="-1" strike="noStrike">
                <a:solidFill>
                  <a:srgbClr val="ff0000"/>
                </a:solidFill>
                <a:latin typeface="Arial"/>
                <a:ea typeface="黑体"/>
              </a:rPr>
              <a:t>杜君曰：“迩年狱讼，情稍重，京兆、五城即不敢专决；又九门提督所访缉纠诘，皆归刑部；而十四司正副郎好事者及书吏、狱官、禁卒，皆利系者之多，少有连，必多方钩致。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4000" y="2331720"/>
            <a:ext cx="8424720" cy="35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杜君说：“近年打官司，案情较重的，京兆狱和五城御史衙门都不敢擅自判决；加上九门提督所搜捕查究的犯人，都归刑部拘禁。而十四司正副郎官中喜欢乘机营私者以及掌管文书的小吏、狱官、小卒，都把多关押人看作有利可图的事情，所以，稍有牵连的人，一定千方百计拘捕到牢里来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19640" y="189000"/>
            <a:ext cx="22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翻译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896472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苟入狱，不问罪之有无，必械手足，置老监，俾困苦不可忍，然后导以取保，出居于外，量其家之所有以为剂，而官与吏部分焉。中家以上，皆竭资取保；其次，求脱械居监外板屋，费亦数十金；惟极贫无依，则械系不稍宽，为标准以警其余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79280" y="3041280"/>
            <a:ext cx="8964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如果进了监狱，不问有罪无罪，必定戴上手铐脚镣，关进老监，使他们痛苦不堪，然后劝诱他们寻找保证人，缴纳保证金，才放他们到外面居住，狱官估计他家财产来确定敲诈的数额，得钱后官吏就坐地分赃。中产以上的家庭，都倾尽家财去找人取保；次一点的人家，只求脱掉镣铐，住在监狱外的板屋，也得花费数十两银子；只有极其贫困而又无依无靠的囚犯，则被铐得很紧，作为样子来警告其余的犯人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9640" y="189000"/>
            <a:ext cx="22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翻译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50920" y="691920"/>
            <a:ext cx="8604000" cy="206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或同系，情罪重者，反出在外，而轻者无罪者罹其毒。积忧愤，寝食违节，及病，又无医药，故往往至死。”余伏见圣上好生之德，同于往圣，每质狱辞，必于死中求其生。而无辜者乃至此。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-360" y="2492280"/>
            <a:ext cx="8893080" cy="467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有时同一个案子，案情罪行严重的，反而能居住在监狱外，而罪轻或无罪的人却遭受其害。这些人忧愤积结，饮食起居又不正常，等到染病，又缺医少药，所以往往病到死去。”我见皇上有爱惜生灵的品德，和以往那些好皇帝一样，每次审察判决书，必然能在被判死刑的犯人中寻求出一些可以放生的人。可是无辜者竟然到了这个样子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19640" y="189000"/>
            <a:ext cx="22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翻译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987640" y="981000"/>
            <a:ext cx="397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教学目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14480" y="2133720"/>
            <a:ext cx="142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掌握本文叙事、议论相结合的写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把握重点实词和一词多义的用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傥仁人君子为上昌言，除死刑及发塞外重犯，其轻系及牵连未结正者，别置一所以羁之，手足毋械。所全活可数计哉？或曰：“狱旧有室五，名曰现监，讼而未结正者居之。傥举旧典，可小补也。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0" y="2491920"/>
            <a:ext cx="9144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假使仁人君子向皇上直言：除死刑犯以及发配到边远地方充军的重刑犯外，那些罪行较轻以及受牵连还没有结案定罪的人，可以另外关在一座监狱里，不给他们上手铐和脚镣。这样，保全活下来的人能数得清吗？有人说：“监狱原有的五个牢房，名为临时拘留所，让那些正在打官司而没有结案定罪的人住。这样即使实行过去的规章制度，也可以稍有补益。”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19640" y="189000"/>
            <a:ext cx="22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翻译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89647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Arial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杜君曰：“上推恩，凡职官居板屋；今贫者转系老监，而大盗有居板屋者，此中可细诘哉！不若别置一所，为拔本塞源之道也。”余同系朱翁、余生及在狱同官僧某，遘疫死，皆不应重罚。又某氏以不孝讼其子，左右邻械系入老监，号呼达旦。余感焉，以杜君言泛讯之，众言同，于是乎书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2492280"/>
            <a:ext cx="8856720" cy="42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ffff"/>
                </a:solidFill>
                <a:latin typeface="Arial"/>
                <a:ea typeface="黑体"/>
              </a:rPr>
              <a:t>    </a:t>
            </a:r>
            <a:r>
              <a:rPr b="1" lang="zh-CN" sz="2900" spc="-1" strike="noStrike">
                <a:solidFill>
                  <a:srgbClr val="000000"/>
                </a:solidFill>
                <a:latin typeface="Arial"/>
                <a:ea typeface="黑体"/>
              </a:rPr>
              <a:t>杜君说：“皇上开恩，凡犯罪官员住板屋；如今贫困犯人转到老监关押，而大盗中却有住板屋的人，这里面是可以仔细查究啊！不如另外安置一所监狱，才是从根本上解决问题的办法。”同我一起被捕的朱老先生、姓余的青年，和狱中的同官县僧某，先后得了传染病死去，都是不应该重判的。又有某人因儿子不孝控告他儿子，左右邻居也被牵连关押在老监，呼天喊地一直到天亮。我十分感慨，并把杜君所说的话广泛核实，大家所说的都相同，于是我就写了下来。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419640" y="0"/>
            <a:ext cx="22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翻译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1988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第二课时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凡死刑狱上，行刑者先俟于门外，使其党入索财物，名曰“斯罗”。富者就其戚属，贫则面语之。其极刑，曰：“顺我，即先刺心；否则，四肢解尽，心犹不死。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2924280"/>
            <a:ext cx="8820000" cy="286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凡判死刑的案件已经上奏的，刽子手就先等候在门外，叫他的同伙进去勒索财物，叫做“斯罗”。有钱的人就对他的亲属勒索，穷苦的就当面对本人说。如果犯人被处以凌迟，就说：“满足我的条件，就先刺心；否则，就先砍去你的四肢，心还不死。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189000"/>
            <a:ext cx="22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翻译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-360" y="836640"/>
            <a:ext cx="889308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其绞缢，曰：“顺我，始缢即气绝；否则，三缢加别械，然后得死。”惟大辟无可要，然犹质其首。用此，富者赂数十百金，贫亦罄衣装；绝无有者，则治之如所言。主缚者亦然，不如所欲，缚时即先折筋骨。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78920" y="2852280"/>
            <a:ext cx="87138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对那些被处以绞刑的，就说：“满足我的条件，一绞就死；否则，三绞三放再加上别的刑具，然后才让你死。”只有斩首的无法要挟，但是还要把砍下的人头作抵押品。因此，有钱的用数十两、上百两银子作贿赂，贫穷的也要卖光衣物；穷得一点钱都没有的，就按以上所说的处置。掌管捆绑犯人的差役也是如此，不按要求做的，绑时就先折断犯人的筋骨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189000"/>
            <a:ext cx="22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翻译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-360" y="90792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每岁大决，勾者十三四，留者十六七，皆缚至西市待命。其伤于缚者，即幸留，病数月乃瘳，或竟成痼疾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2637000"/>
            <a:ext cx="8532720" cy="25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每年秋天大决时，皇帝用朱笔勾过的约占十分之三四；留下的约占十分之六七，但都须捆绑到西市刑场等待命令。那些因捆绑而受伤的，即使幸而不死，也得病上几个月才痊愈，有的竟成了终生残疾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19640" y="189000"/>
            <a:ext cx="22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翻译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余尝就老胥而问焉：“彼于刑者、缚者，非相仇也，期有得耳；果无有，终亦稍宽之，非仁术乎？”曰：“是立法以警其余，且惩后也；不如此，则人有幸心。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2923920"/>
            <a:ext cx="8820000" cy="32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我曾经接近一个供职多年的小吏并问他：“他们与被判刑者、被捆绑者，并非互相仇恨，只是期望得到一些钱财罢了；如果犯人真的拿不出，最后对他稍微宽容一些，不是做了一件善事吗？”小吏说：“这是做出规矩来警告其他犯人，并且惩诫后来的犯人；不这样做，那么犯人就会有侥幸心理。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19640" y="189000"/>
            <a:ext cx="22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翻译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2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0" y="620640"/>
            <a:ext cx="88200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主梏扑者亦然。余同逮以木讯者三人：一人予三十金，骨微伤，病间月；一人倍之，伤肤，兼旬愈；一人六倍，即夕行步如平常。或叩之曰：“罪人有无不均，既各有得，何必更以多寡为差？”曰：“无差，谁为多与者！”孟子曰：“术不可不慎。”信夫！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0" y="2852640"/>
            <a:ext cx="9036000" cy="666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掌管上刑具、打板子的狱卒也是如此。同我一起被捕遭到木制刑具审讯的有三个人：其中一个给银子三十两，被打之后骨头微伤，病了一个多月才好；另一个加倍给钱，只伤了皮肤，二十天就好了；再一个给六倍的钱，当晚走路就象平常人一样了。有人问小吏说：“犯人贫富不等，既然从他们那里都有所得，何必一定要按贿赂的多少来区别对待？”小吏说：“不分别对待，谁愿意多给钱！”孟子说：“选择职业不可不慎重。”真对呀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419640" y="0"/>
            <a:ext cx="22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翻译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-360" y="549000"/>
            <a:ext cx="889308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部中老胥，家藏伪章，文书下行直省，多潜易之，增减要语，奉行者莫辨也。其上闻及移关诸部犹未敢然。功令：大盗未杀人，及他犯同谋多人者，止主谋一二人立决；余经秋审，皆减等发配。狱辞上，中有立决者，行刑人先俟于门外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2636640"/>
            <a:ext cx="88200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刑部中的老吏，家里藏有假印章。公文下发到直属中央的各省，都被他们暗中更改，增加或删去公文中的重要词句，执行的人难辨真假。只有那些给皇帝的奏章以及发到平行各部的公文，他们还不敢这样做。法令规定：大盗没有杀人，以及和他同伙的几个罪犯，仅主谋一二人立刻处死；其余的经秋季审讯，都可以罪减一等，发配充军。判决书上奏后，其中有立即处死的，刽子手已先等在门外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492360" y="0"/>
            <a:ext cx="225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翻译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8964720" cy="22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命下，遂缚以出，不羁晷刻。有某姓兄弟，以把持公仓，法应立决，狱具矣。胥某谓曰：“予我千金，吾生若。”叩其术，曰：“是无难，别具本章，狱辞无易，但取案末独身无亲戚者二人易汝名，俟封奏时潜易之而已。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2923920"/>
            <a:ext cx="8820000" cy="37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命令一下，就绑出来，片刻也不停留。有某姓兄弟，因为把持公仓，法律规定应当立即处决，案件已经判决。某狱吏对他说：“给我一千两银子，我让你活命。”问他有什么办法，则说：“这个并不难，我另外准备一份奏章，判决书不需要改动，只取列在判决书后面的没有亲属的两个人换你俩的名字，等判决书加封上奏时，暗中调换一下姓名就是了。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189000"/>
            <a:ext cx="22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翻译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988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第一课时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89647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其同事者曰：“是可欺死者，而不能欺主谳者；倘复请之，吾辈无生理矣。”胥某笑曰：“复请之，吾辈无生理，而主谳者亦各罢去。彼不能以二人之命易其官，则吾辈终无死道也。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2781000"/>
            <a:ext cx="8496000" cy="37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他的同伙说：“这样可以欺骗被处死的人，却不能欺骗主审官；假如主审官再上奏请示，我们就没有活路了。”某狱吏笑着说：“再上奏请示，我们没有活路，但主审官也会因此被撤职，他不可能为了这两人的生命而放弃自己的官位，那么，我们终究没有死的道理。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19640" y="189000"/>
            <a:ext cx="22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翻译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250560" y="836280"/>
            <a:ext cx="88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00"/>
                </a:solidFill>
                <a:latin typeface="Arial"/>
                <a:ea typeface="黑体"/>
              </a:rPr>
              <a:t>   </a:t>
            </a:r>
            <a:r>
              <a:rPr b="1" lang="zh-CN" sz="2900" spc="-1" strike="noStrike">
                <a:solidFill>
                  <a:srgbClr val="ff0000"/>
                </a:solidFill>
                <a:latin typeface="Arial"/>
                <a:ea typeface="黑体"/>
              </a:rPr>
              <a:t>竟行之，案末二人立决。主者口呿舌挢，终不敢诘。余在狱，犹见某姓。狱中人群指曰：“是以某某易其首者。”胥某一夕暴卒，人皆以为冥谪云。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2636640"/>
            <a:ext cx="864216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后来真的这样做了，案件末位的两个犯人立刻被处死。主审官发觉后惊讶得张口结舌，但始终不敢追究。我在监狱，还亲眼看到这兄弟，监狱中的人都指着他们说：“这就是用某某人换下他们的脑袋的。”后来这个狱吏在一夜间突然死去，人们都以为是阴曹地府给他的责罚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19640" y="189000"/>
            <a:ext cx="22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翻译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88200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凡杀人，狱辞无谋故者，终秋审入矜疑，即免死。吏因以巧法。有郭四者，凡四杀人，复以矜疑减等，随遇赦。将出，日与其徒置酒酣歌达曙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9280" y="2637000"/>
            <a:ext cx="87854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凡杀了人的，状辞上没有预谋杀人或故意杀人的，经秋审归入矜疑类，就可以免死。狱吏便乘机利用法令舞弊。有一个叫郭四的犯人，已经四次杀人，又以矜疑罪减一等，随后又遇大赦。将要出狱时，天天与他的同伙饮酒狂歌通宵达旦。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419640" y="189000"/>
            <a:ext cx="22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翻译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-360" y="764640"/>
            <a:ext cx="8604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或叩以往事，一一详述之，意色扬扬，若自矜诩。噫，渫恶吏忍于鬻狱，无责也；而道之不明，良吏亦多以脱人于死为功，而不求其情。其枉民也，亦甚矣哉！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920" y="2923920"/>
            <a:ext cx="864216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有人问他过去的事，他一一详细叙述，扬扬得意，就像在自我炫耀似的。唉！行为污浊、作恶多端的狱吏忍心贪赃枉法，那不必去责备了；然而治狱之道不明，好的官吏也往往把帮别人解脱死罪作为功德，而不研究具体的案情。他们使百姓蒙受冤枉，也太过分了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19640" y="189000"/>
            <a:ext cx="22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翻译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1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8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8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-360" y="620280"/>
            <a:ext cx="889308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奸民久于狱，与胥卒表里，颇有奇羡。山阴李姓，以杀人系狱，每岁致数百金。康熙四十八年，以赦出，居数月，漠然无所事。其乡人有杀人者，因代承之。盖以律非故杀，必久系，终无死法也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9280" y="3186000"/>
            <a:ext cx="896472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奸诈之徒入狱久了，就与狱吏内外勾结，颇能赚大钱。山阴县有个姓李的，因杀人下狱，每年可以弄到数百两银子。康熙四十八年，因大赦出狱，在外住了几个月，寂寞无聊。他有个同乡杀了人，于是就替此人承担了罪名。因为根据法律规定不是故意杀人者，一定要长期蹲狱，但最终不会被处死的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19640" y="189000"/>
            <a:ext cx="22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翻译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87487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五十一年，复援赦减等谪戍。叹曰：“吾不得复入此矣！”故例，谪戍者移顺天府羁候，时方冬停遣，李具状求在狱，候春发遣，至再三，不得所请，怅然而出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0" y="2781360"/>
            <a:ext cx="8748720" cy="37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康熙五十一年，又援例大赦减罪充军。李某叹息说：“我再也不能进这监狱了！”按旧规定，被充军的犯人要转到顺天府监狱关押起来等候遣送，当时正值冬季，遣送暂停，李某写了状子要求留在刑部监狱，等候到春天遣送，他再三请求，没有得到批准，只好失望地离开这里。 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419640" y="189000"/>
            <a:ext cx="22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翻译 </a:t>
            </a:r>
            <a:r>
              <a:rPr b="1" lang="zh-CN" sz="3200" spc="-1" strike="noStrike">
                <a:solidFill>
                  <a:srgbClr val="000099"/>
                </a:solidFill>
                <a:latin typeface="Arial"/>
              </a:rPr>
              <a:t>1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8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8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8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8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艺术特色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8686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文在写作方法上比较好地体现了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桐城派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倡的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"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义理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"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"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考据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"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"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词章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者并重和相互为用的主张，体现了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桐城派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散文的特点。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义理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即文章的中心）来看，作者大胆地揭露了清朝司法制度的黑暗和腐朽，令人发指，不失为有胆有识之作。在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考据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，本文内容详实而有说服力，使人惊心动魄。文章列举了许多由作者目见耳闻和亲身经历的事实：狱官与禁卒相互勾结，贪赃枉法，草营人命，等等。在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词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"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上，本文借助于选材的真实性和典型而具有很强的说服力，不在文字上过分的雕琢、修饰。作者以确凿的事实为线索，将材料编排井井有条，环环相接。全文以对话的方式叙事，语言简洁有力。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作者简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-360" y="620640"/>
            <a:ext cx="8893080" cy="66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ffffff"/>
                </a:solidFill>
                <a:latin typeface="黑体"/>
                <a:ea typeface="黑体"/>
              </a:rPr>
              <a:t>         </a:t>
            </a:r>
            <a:r>
              <a:rPr b="1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方苞</a:t>
            </a:r>
            <a:r>
              <a:rPr b="1" lang="zh-CN" sz="29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zh-CN" sz="2900" spc="-1" strike="noStrike">
                <a:solidFill>
                  <a:srgbClr val="ff0000"/>
                </a:solidFill>
                <a:latin typeface="Arial"/>
              </a:rPr>
              <a:t>1668</a:t>
            </a:r>
            <a:r>
              <a:rPr b="1" lang="zh-CN" sz="2900" spc="-1" strike="noStrike">
                <a:solidFill>
                  <a:srgbClr val="ff0000"/>
                </a:solidFill>
                <a:latin typeface="Arial"/>
              </a:rPr>
              <a:t>一</a:t>
            </a:r>
            <a:r>
              <a:rPr b="1" lang="zh-CN" sz="2900" spc="-1" strike="noStrike">
                <a:solidFill>
                  <a:srgbClr val="ff0000"/>
                </a:solidFill>
                <a:latin typeface="Arial"/>
              </a:rPr>
              <a:t>1749</a:t>
            </a:r>
            <a:r>
              <a:rPr b="1" lang="zh-CN" sz="2900" spc="-1" strike="noStrike">
                <a:solidFill>
                  <a:srgbClr val="ff0000"/>
                </a:solidFill>
                <a:latin typeface="Arial"/>
              </a:rPr>
              <a:t>）</a:t>
            </a:r>
            <a:r>
              <a:rPr b="1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 ，字凤九，又字灵皋，号望溪，清朝桐城（现在安徽省桐城县）人，清初著名散文家。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为了加强思想统治，巩固封建专制政权，清朝统治者曾多次</a:t>
            </a:r>
            <a:r>
              <a:rPr b="1" lang="zh-CN" sz="2900" spc="-1" strike="noStrike">
                <a:solidFill>
                  <a:srgbClr val="ff0000"/>
                </a:solidFill>
                <a:latin typeface="黑体"/>
                <a:ea typeface="黑体"/>
              </a:rPr>
              <a:t>大兴文字狱</a:t>
            </a:r>
            <a:r>
              <a:rPr b="1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r>
              <a:rPr b="1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1711</a:t>
            </a:r>
            <a:r>
              <a:rPr b="1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年发生的《南山集》案，就是清初著名文字狱之一。</a:t>
            </a:r>
            <a:br>
              <a:rPr sz="2900"/>
            </a:br>
            <a:r>
              <a:rPr b="1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　　《南山集》是方苞的好友戴名世所著的散文集。戴名世在《南山集》中引用了同乡方孝标在《滇黔纪闻》中记叙的有关桂王抗清的史料。方苞曾为《南山集》作序，刻书的木板又藏在他家。后来有人告发《南山集》中有攻击清廷的话，戴名世被杀，方苞也因牵连，于康熙五十年（公元</a:t>
            </a:r>
            <a:r>
              <a:rPr b="1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1711</a:t>
            </a:r>
            <a:r>
              <a:rPr b="1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年）被逮捕。开始下江宁狱，不久解往京师，下刑部狱，初定绞刑，后经大学士李光地多方营救，又因他当时已有文名，才在康熙五十二年三月被释放。</a:t>
            </a:r>
            <a:br>
              <a:rPr sz="2900"/>
            </a:br>
            <a:r>
              <a:rPr b="1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　 《狱中杂记》这篇文章，是他</a:t>
            </a:r>
            <a:r>
              <a:rPr b="1" lang="zh-CN" sz="2900" spc="-1" strike="noStrike">
                <a:solidFill>
                  <a:srgbClr val="ff0000"/>
                </a:solidFill>
                <a:latin typeface="黑体"/>
                <a:ea typeface="黑体"/>
              </a:rPr>
              <a:t>在刑部狱中所见所闻的记录。 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424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《狱中杂记》是方苞出狱后，追述他在刑部狱中见闻和感想，揭露并批判了封建社会的腐败和法律制度的罪恶本质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2133720"/>
            <a:ext cx="864072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杂记”，是古代散文中一种杂文体，因事立义，记述见闻。本文以“杂记”名篇，材料繁富，错综复杂，人物众多，作者善于选择典型事例重点描写，“杂”而有序，散中见整，中心突出。如用方苞提出的古文“义法”来衡量，繁富的材料就是“义”，即“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言之有物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；井然有序的记叙就是“法”，即“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言之有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”。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692280"/>
            <a:ext cx="4098960" cy="5113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24000" y="333360"/>
            <a:ext cx="4248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643280" y="3357720"/>
            <a:ext cx="4286520" cy="32382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4248000" cy="53276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788000" y="260280"/>
            <a:ext cx="381636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15160" cy="4876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305160" y="1916280"/>
            <a:ext cx="5838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300" spc="-1" strike="noStrike">
                <a:solidFill>
                  <a:srgbClr val="ffff00"/>
                </a:solidFill>
                <a:latin typeface="华文行楷"/>
                <a:ea typeface="华文行楷"/>
              </a:rPr>
              <a:t>狱中杂记 </a:t>
            </a:r>
            <a:endParaRPr b="0" lang="en-US" sz="8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00:27:15Z</dcterms:created>
  <dc:creator>周礼华</dc:creator>
  <dc:description/>
  <dc:language>en-US</dc:language>
  <cp:lastModifiedBy>zmj</cp:lastModifiedBy>
  <dcterms:modified xsi:type="dcterms:W3CDTF">2010-01-07T10:13:24Z</dcterms:modified>
  <cp:revision>16</cp:revision>
  <dc:subject/>
  <dc:title>幻灯片 1</dc:title>
</cp:coreProperties>
</file>