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6D71-DFD2-4A2B-94C5-1FC103B1D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8473-ECF7-4E9E-9E76-BA012CCB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F804-5A9F-413D-8740-B3D15201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876-63B9-4A2D-9812-8F8747AA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CA33-A367-4E91-B743-01FCD85A5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098A-CA4A-408F-A860-97F14ABA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B5E56-962D-4356-9B74-0EBAE077B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4564-E824-4D2E-8127-942092FB9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1A80-9C0A-493D-8F94-1CC76FD0D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C78BC-BF88-4688-853F-0905507F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29853-4A30-4FBD-8F8E-C3077CB7B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0EE2-65BD-4681-AE4A-B246298D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986F-AE79-4BCC-9C41-0017EFFE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E200B-1F49-4B69-ABF0-5A444F8D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4239-B053-4DFD-9784-5232E1D6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2B22C-1008-4B96-BC82-6CD09ED0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2132-BCC0-403D-AF1A-C4781F222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0844-A5A9-4E23-9D42-0CBF54134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95C2-0E14-468D-AB90-6277E1E31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B691-471A-4899-A73F-497B24278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0A4A-293D-4FF0-B224-50D5589E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C08A-26D9-4EB1-AB53-E938313A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A47-846D-4CE8-9E97-1B0DBD66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735-742D-4B43-9E12-4F7FD8C4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2454E-4F2C-46F3-8B0F-CDB2EE5CA421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4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D989-CA88-490A-9D9E-F4DBFFDE607A}" type="slidenum">
              <a:rPr b="0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nguyuan.com/html/tupianshijie/lishitupian/200809/13-320_6.html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32360" y="907920"/>
            <a:ext cx="1944720" cy="395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400" spc="-1" strike="noStrike">
                <a:solidFill>
                  <a:srgbClr val="ffff00"/>
                </a:solidFill>
                <a:latin typeface="华文行楷"/>
                <a:ea typeface="华文行楷"/>
              </a:rPr>
              <a:t>狱中杂记 </a:t>
            </a:r>
            <a:endParaRPr b="0" lang="en-US" sz="7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236000" y="3645000"/>
            <a:ext cx="720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"/>
                <a:ea typeface="华文彩云"/>
              </a:rPr>
              <a:t>方苞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3952800" cy="5334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11280" y="5299920"/>
            <a:ext cx="406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方苞 </a:t>
            </a:r>
            <a:r>
              <a:rPr b="1" lang="zh-CN" sz="2800" spc="-1" strike="noStrike">
                <a:solidFill>
                  <a:srgbClr val="990000"/>
                </a:solidFill>
                <a:latin typeface="Arial"/>
              </a:rPr>
              <a:t>(1668—1749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0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Arial"/>
                <a:ea typeface="黑体"/>
              </a:rPr>
              <a:t>监狱里的黑恶势力结成一个很大的网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280" y="1700280"/>
            <a:ext cx="820908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主管官员管理着狱中囚犯的一举一动，囚犯的命运可以说是直接操纵在他们手上。监狱中的狱霸虽然他们本身也是囚犯，但他们与狱吏内外勾结，也能赚大钱。作者笔下的狱霸最后都乐不思蜀了，这一奇怪现象足可见封建牢狱黑暗之一般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8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424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Arial"/>
                <a:ea typeface="黑体"/>
              </a:rPr>
              <a:t>康熙五十一年三月，余在刑部狱，见死而由窦出者，日三四人。有洪洞令杜君者，作而言曰：“此疫作也。今天时顺正，死者尚稀，往岁多至日十数人。”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4920" y="2349360"/>
            <a:ext cx="845964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康熙五十一年三月，我被关在刑部监狱里，亲眼看到死后从牢墙的洞口被拖出去的犯人，每天有三、四个，有位曾任过洪洞县令的杜君，站起来对我说：“这是发生了瘟疫。现在天时正常，死的人还不多，往年多到每天要死十几个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78920" y="333000"/>
            <a:ext cx="864252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Arial"/>
                <a:ea typeface="黑体"/>
              </a:rPr>
              <a:t>余叩所以，杜君曰：“是疾易传染，遘者虽戚属，不敢同卧起。而狱中为老监者四，监五室。禁卒居中央，牖其前以通明，屋极有窗以达气。旁四室则无之，而系囚常二百余。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5280" y="2492280"/>
            <a:ext cx="835344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我向他询问原因，杜君说：“这种疾病非常容易传染，得了瘟疫的人，即使是他的亲属也不敢陪伴他同起同卧。而狱中设立了四个老监，每监分五个牢房。看管犯人的狱卒住在正中那间。他在前面墙上开一个窗户照明，屋顶开一个天窗通气。两旁四间则没有窗户，但是关押的犯人常常多达二百多个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78920" y="404280"/>
            <a:ext cx="8675640" cy="17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Arial"/>
                <a:ea typeface="黑体"/>
              </a:rPr>
              <a:t>每薄暮下管键，矢溺皆闭其中，与饮食之气相薄；又，隆冬，贫者席地而卧，春气动，鲜不疫矣。狱中成法，质明启钥，方夜中，生人与死者并踵顶而卧，无可旋避，此所以染者众中。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50920" y="2637000"/>
            <a:ext cx="8748720" cy="28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每到傍晚就锁门，犯人的大小便都拉在牢里，臭气与食品的气味相混杂。到了寒冬，贫穷的犯人就睡在地上，春天一到，很少不生病的。狱中的老规矩，天快亮时才开锁。到了半夜，活人和死人脚挨脚、头并头而睡，没有办法回避，这样得传染病的人就多了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8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78920" y="259920"/>
            <a:ext cx="867564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又可怪者，大盗、积贼、杀人重囚，气杰旺，染此者十不一二，或随有瘳。其骈死者皆轻系及牵连佐证，法所不及者。”余曰：“京师有京兆狱，有五城御史司坊，何故刑部系囚之多至此？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874872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令人奇怪的是，那些大盗、惯贼、杀人要犯，却体质强壮，精力旺盛，被传染上疾病的十个中不到一、二个，即使有的得了病，随即又痊愈了。那些接连死去的，都是因轻罪被关押的人，以及被牵连作证而依法不该判罪的。”我说：“京师有京兆狱，有五城御史司坊，为什么刑部监狱关押的犯人如此之多？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00"/>
                </a:solidFill>
                <a:latin typeface="Arial"/>
                <a:ea typeface="黑体"/>
              </a:rPr>
              <a:t>杜君曰：“迩年狱讼，情稍重，京兆、五城即不敢专决；又九门提督所访缉纠诘，皆归刑部；而十四司正副郎好事者及书吏、狱官、禁卒，皆利系者之多，少有连，必多方钩致。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2331720"/>
            <a:ext cx="8424720" cy="35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杜君说：“近年打官司，案情较重的，京兆狱和五城御史衙门都不敢擅自判决；加上九门提督所搜捕查究的犯人，都归刑部拘禁。而十四司正副郎官中乘机营私者以及掌理文书的小吏、狱官、小卒，都把多关押人视作有利可图，所以，稍有牵连的人，一定千方百计拘捕到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96472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苟入狱，不问罪之有无，必械手足，置老监，俾困苦不可忍，然后导以取保，出居于外，量其家之所有以为剂，而官与吏部分焉。中家以上，皆竭资取保；其次，求脱械居监外板屋，费亦数十金；惟极贫无依，则械系不稍宽，为标准以警其余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9280" y="2565000"/>
            <a:ext cx="8964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一旦投入监狱，不问有罪无罪，必定戴上手铐脚镣，关进老监，使他们痛苦不堪，然后劝诱他们寻找保证人，缴纳保证金，才放他迁出狱外，狱官估计他家财产来定敲诈的数额，得钱后官吏就坐地分赃。中产以上的家庭，都倾尽家财去找人取保，次一等的人家，只求脱掉镣铐，住在监狱外的板屋，也得化费数十两银子；只有极其贫困而又无依靠的囚犯，则被铐得很紧，以作为样子来警告其余的犯人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920" y="260280"/>
            <a:ext cx="8604000" cy="20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或同系，情罪重者，反出在外，而轻者无罪者罹其毒。积忧愤，寝食违节，及病，又无医药，故往往至死。”余伏见圣上好生之德，同于往圣，每质狱辞，必于死中求其生。而无辜者乃至此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-360" y="213372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有时同是一个案子，案情罪行严重的，反而能居住在监狱外，而罪轻或无罪的人却遭受其害。这些人忧愤积结，饮食起居又不正常，一旦染病，又缺医少药，所以往往死去。”我见皇上有爱惜生灵的品德，和以往那些好皇帝一样，每次审察判决书，必然能在被判死刑的犯人中寻求出一些可以放生的人，而如今无辜者竟然到了这个样子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8930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倘仁人君子为上昌言，除死刑及发塞外重犯，其轻系及牵连未结正者，别置一所以羁之，手足毋械。所全活可数计哉！或曰：“狱旧有室五，名曰现监，讼而未结正者居之。倘举旧典，可小补也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8748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假使仁人君子向皇上直言：除死刑犯以及发配到边远地充军的重刑犯外，那些罪行较轻以及受牵连还没有结案定罪的犯人，可以另外关在一座监狱里，不给他们上手铐和脚镣，这样，所保全而活下来的人能数得清吗！或者说：“监狱原有的五个牢房，定名为临时拘留所，让那些正在打官司而没有结案定罪的人住。这样即使实行过去的规章制度，也可以稍有补益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250560" y="836640"/>
            <a:ext cx="353844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00"/>
                </a:solidFill>
                <a:latin typeface="Arial"/>
                <a:ea typeface="黑体"/>
              </a:rPr>
              <a:t>杜君曰：“上推恩，凡职官居板屋；今贫者转系老监，而大盗有居板屋者，此中可细诘哉！不若别置一所，为拔本塞源之道也。”余同系朱翁、余生及在狱同官僧某，遘疫死，皆不应重罚。又某氏以不孝讼其子，左右邻械系入老监，号呼达旦。余感焉，以杜君言泛讯之，众言同，于是乎书。</a:t>
            </a:r>
            <a:br>
              <a:rPr sz="2300"/>
            </a:br>
            <a:r>
              <a:rPr b="1" lang="zh-CN" sz="23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708360" y="692280"/>
            <a:ext cx="5076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  <a:ea typeface="黑体"/>
              </a:rPr>
              <a:t>杜君说：“皇上开恩，凡犯罪官员住板屋；如今贫困犯人转到老监关押，而大盗中却有住板屋的人，这里面是可以仔细查究的啊！不如安置在另一所监狱里，才是从根本上解决问题的办法。”同我一起被捕的朱老先生、姓余的青年，和狱中的同官县僧某，先后得了传染病死去，都是不应该判重罪的。又有某人因儿子不孝控告他儿子，左右邻居也被牵连关押在老监，呼天喊地一直到天亮。我十分感慨，并以杜君所说的话广泛核实，大家所说的都相同，于是我就写了下来。</a:t>
            </a:r>
            <a:br>
              <a:rPr sz="2300"/>
            </a:b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-243000"/>
            <a:ext cx="8229600" cy="13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作者方苞（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668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1749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89308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方苞，字凤九，又字灵皋，号望溪，清朝桐城（现在安徽省桐城县）人，清初著名散文家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为了加强思想统治，巩固封建专制政权，清朝统治者曾多次大兴文字狱。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1711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年发生的《南山集》案，就是清初著名文字狱之一。</a:t>
            </a:r>
            <a:br>
              <a:rPr sz="2600"/>
            </a:b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　　《南山集》是方苞的好友戴名世所著的散文集。戴名世在《南山集》中引用了同乡方孝标在〈滇黔纪闻》中记叙的有关桂王抗清的史料。方苞曾为《南山集》作序，刻书的木板又藏在他家。后来有人告发《南山集》中有攻击清廷的话，戴名世被杀，方苞也因牵连，于康熙五十年（公元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1711</a:t>
            </a: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年）被逮捕。开始下江宁狱，不久解往京师，下刑部狱，初定绞刑，后经大学士李光地多方营救，又因他当时已有文名，才在康熙五十二年三月被释放。</a:t>
            </a:r>
            <a:br>
              <a:rPr sz="2600"/>
            </a:br>
            <a:r>
              <a:rPr b="1" lang="zh-CN" sz="2600" spc="-1" strike="noStrike">
                <a:solidFill>
                  <a:srgbClr val="ffffff"/>
                </a:solidFill>
                <a:latin typeface="黑体"/>
                <a:ea typeface="黑体"/>
              </a:rPr>
              <a:t>《狱中杂记》这篇文章，是他在刑部狱中所见所闻的记录。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0" y="9079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凡死刑，狱上，行刑者先俟于门外，使其党入索财物，名曰“斯罗”。富者就其戚属，贫则面语之。其极刑，曰：“顺我，即先刺心；否则，四肢解尽，心犹不死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780000" y="1052640"/>
            <a:ext cx="5117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凡判死刑的案件已经上奏的，刽子手就先等候在门外，叫他的同伙进去勒索财物，叫做“斯罗”。有钱的人就对他的亲属勒索，穷苦的就当面对本人说。如果犯人被处以凌迟，就说：“满足我的条件，就先刺心；否则，就先砍去你的四肢，心还不死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其绞缢，曰：“顺我，始缢即气绝；否则，三缢加别械，然后得死。”惟大辟无可要，然犹质其首。用此，富者赂数十百金，贫亦罄衣装；绝无有者，则治之如所言。主缚者亦然，不如所欲，缚时即先折筋骨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92360" y="404280"/>
            <a:ext cx="54007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有对那些被处以绞刑的，就说：“满足我的条件，一绞就死；否则，三绞三放再加上别的刑具，然后才让你死。”只有斩首的无法要挟，但是还要把砍下的犯人头作抵押品。因此，有钱的用数十两、上百两银子作贿赂，贫穷的也要卖光衣物；穷得一点钱都没有的，就按以上所说的处置。掌管捆绑犯人的差役也是如此，欲望得不到满足，绑时就先折断犯人的筋骨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每岁大决，勾者十三四，留者十六七，皆缚至西市待命。其伤于缚者，即幸留，病数月乃瘳，或竟成痼疾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995280" y="836640"/>
            <a:ext cx="4753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每年秋天大决时，皇帝用朱笔勾过的约占十分之三四；未勾暂留的约占十分之六七，但都须缚到西市刑场等待命令。那些因捆绑而受伤的，即使幸而不死，也得病上几个月才痊愈，有的竟成了终生残疾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余尝就老胥而问焉：“彼于刑者、缚者，非相仇也，期有得耳。果无有，终亦稍宽之，非仁术乎？”曰：“是立法以警其余，且惩后也。不如此，则人有幸心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708000" y="259920"/>
            <a:ext cx="511164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我曾经问过一个供职多年的小吏：“他们和被判刑者、被捆绑者，并非互相仇恨，只是想得到一些钱财罢了；如果犯人真的拿不出，最后对他稍微宽容一些，不是做了一件善事吗？”小吏说：“这是做出规矩来警告其他犯人，并且惩诫后来的犯人；不这样做，那些犯人就会有侥幸心理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211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主梏扑者亦然。余同逮以木讯者三人：一人予三十金，骨微伤，病间月；一人倍之，伤肤，兼旬愈；一人六倍，即夕行步如平常。或叩之曰：“罪人有无不均，既各有得，何必更以多寡为差？”曰：“无差，谁为多与者！”孟子曰：“术不可不慎。”信夫！</a:t>
            </a:r>
            <a:br>
              <a:rPr sz="2800"/>
            </a:b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780000" y="188640"/>
            <a:ext cx="536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掌管上刑具、打板子的狱卒也是如此。同我一起被捕遭到木制刑具审讯的有三个人：其中一个给银子三十两，被打之后骨头微伤，病了一个多月才好；另一个加倍给钱，只伤了皮肤，二十天就好了；再一个给六倍的钱，当晚走路就象平常人一样了。有人问小吏说：“犯人贫富不等，既然从他们那里都有所得，何必一定要按贿赂的多少来区别对待？”小吏说：“不分别对待，谁愿意多给钱！”孟子说：“选择职业不可不慎重。”真对呀！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 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部中老胥，家藏伪章，文书下行直省，多潜易之，增减要语，奉行者莫辨也。其上闻及移关诸部犹未敢然。功令：大盗未杀人，及他犯同谋多人者，止主谋一二人立决；余经秋审，皆减等发配。狱辞上，中有立决者，行刑人先俟于门外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259920"/>
            <a:ext cx="532764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刑部中的老吏，家里藏有假印章。公文下发到直属中央的各省，都被他们暗中更改，增加或删去公文中的重要词句，执行的人难辨真假。只有那些给皇帝的奏章以及发到平行各部的公文，他们还不敢这样做。法令规定：大盗没有杀人，以及和他同伙的几个罪犯，仅立刻处死主谋一、二人；其余的经秋季审讯，都可以罪减一等，发配充军。判决书上奏后，其中有立即处死的，刽子手已先等在门外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命下，遂缚以出，不羁晷刻。有某姓兄弟，以把持公仓，法应立决，狱具矣。胥某谓曰：“予我千金，吾生若。”叩其术，曰：“是无难，别具本章，狱辞无易，但取案末独身无亲戚者二人易汝名，俟封奏时潜易之而已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708000" y="475920"/>
            <a:ext cx="504036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命令一下，就绑出来，片刻也不停留。有某姓兄弟俩，因为把持公仓，法律规定应当立即处决，案件已经判决。某狱吏对他说：“给我一千两银子，我让你活命。”问他有什么办法，则说：“这个并不难，我另外准备一份奏章，判决书不需要改动，取列名在判决书后面的从犯中没有亲属的两个单身汉换你俩的名字，等叛决书加封上奏时暗中调换一下姓名就是了。”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其同事者曰：“是可欺死者，而不能欺主谳者；倘复请之，吾辈无生理矣。”胥某笑曰：“复请之，吾辈无生理，而主谳者亦各罢去。彼不能以二人之命易其官，则吾辈终无死道也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51280" y="260280"/>
            <a:ext cx="4968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他的同伙说：“这样可以欺骗被处死的人，却不能欺骗主审官；假如主审官再上奏请示，我们就没有活路了。”某狱吏笑着说：“再上奏请示，我们没有活路，但主审官也会因此被撤职，他不可能为了这两人的生命而放弃自己的官位，所以，我们终究没有死的道理。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341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竟行之，案末二人立决。主者口呿舌挢，终不敢诘。余在狱，犹见某姓。狱中人群指曰：“是以某某易其首者。”胥某一夕暴卒，人皆以为冥谪云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708360" y="404280"/>
            <a:ext cx="51847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后来真的这样做了，列名末位的两个从犯立刻被处死。主审官发觉后惊讶得张口结舌，但始终不敢追究。我在监狱，还亲眼看到这兄弟俩，监狱中的人都指着他们说：“这就是用某某人换下他们的脑袋的。”后来这个狱吏在一夜间突然死去，人们都以为是阴曹地府给他的责罚。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0" y="1052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凡杀人，狱辞无谋、故者，终秋审入矜疑，即免死。吏因以巧法。有郭四者，凡四杀人，复以矜疑减等，随遇赦。将出，日与其徒置酒酣歌达曙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24000" y="620280"/>
            <a:ext cx="48243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凡杀了人的，状辞上没有预谋杀人或故意杀人的话的，经秋审归入矜疑类，就可以免死。狱吏便乘机利用法令舞弊。有一个叫郭四的犯人，已经四次杀人，又以矜疑罪减一等，随后又遇大赦。将要出狱时，整天与他的同伙饮酒狂歌通宵达旦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76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0" lang="zh-CN" sz="3500" spc="-1" strike="noStrike">
                <a:solidFill>
                  <a:srgbClr val="ffff00"/>
                </a:solidFill>
                <a:latin typeface="Arial"/>
                <a:ea typeface="黑体"/>
              </a:rPr>
              <a:t>杂记”，是古代散文中一种杂文体，因事立义，记述见闻。本文以“杂记”名篇，材料繁富，错综复杂，人物众多，作者善于选择典型事例重点描写，“杂”而有序，散中见整，中心突出。如用方苞提出的古文“义法”来衡量，繁富的材料就是“义”，即“言之有物”；井然有序的记叙就是“法”，即“言之有序”。</a:t>
            </a:r>
            <a:br>
              <a:rPr sz="3500"/>
            </a:br>
            <a:r>
              <a:rPr b="0" lang="zh-CN" sz="35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0" y="764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或叩以往事，一一详述之，意色扬扬，若自矜诩。噫，渫恶吏忍于鬻狱，无责也；而道之不明，良吏亦多以脱人于死为功，而不求其情。其枉民也，亦甚矣哉！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211640" y="549360"/>
            <a:ext cx="468144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有人问他过去的事，他一一详细叙述，扬扬得意，就象在自我炫耀似的。唉！行为污浊、作恶多端的狱吏忍心于贪赃枉法，那不必去责备了；然而不明白治狱之道，好的官吏也往往把帮别人解脱死罪作为功德，而不研究具体的案情。他们使百姓蒙受冤枉，也太过分了！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8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03848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奸民久于狱，与胥卒表里，颇有奇羡。山阴李姓，以杀人系狱，每岁致数百金。康熙四十八年，以赦出，居数月，漠然无所事。其乡人有杀人者，因代承之。盖以律非故杀，必久系，终无死法也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780000" y="260280"/>
            <a:ext cx="5364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奸诈之徒入狱久了，就与狱吏内外勾结，颇能赚大钱。山阴县有个姓李的，因杀人下狱，每年可以弄到数百两银子。康熙四十八年，因大赦出狱，在外住了几个月，寂寞无聊。他有个同乡杀了人，于是就替此人承担了罪名。因为根据法律规定不是故意杀人者，一定要长期蹲狱，但最终不会被处死的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黑体"/>
              </a:rPr>
              <a:t>五十一年，复援赦减等谪戍。叹曰：“吾不得复入此矣！”故例，谪戍者移顺天府羁候，时方冬停遣，李具状求在狱，候春发遣，至再三，不得所请，怅然而出。</a:t>
            </a:r>
            <a:br>
              <a:rPr sz="3200"/>
            </a:b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780000" y="188640"/>
            <a:ext cx="496872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康熙五十一年，又遇大赦援例减罪充军。李某叹息说：“我再也不能进这监狱了！”按旧规定，被充军的犯人要转到顺天府监狱关押起来等候遣送，当时正值冬季，遣送暂停，李某写了状子要求留在刑部监狱，等候到春天遣送，他再三请求没有得到批准，只好失望地离开这里。  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艺术特色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6868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本文在写作方法上比较好地体现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桐城派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提倡的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义理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考据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词章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者并重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和相互为用的主张，体现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桐城派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散文的特点。从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义理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即文章的中心）来看，作者大胆地揭露了清朝司法制度的黑暗和腐朽，令人发指，不失为有胆有识之作。在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考据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，本文内容详实而有说服力，使人惊心动魄。文章列举了许多由作者目见耳闻和亲身经历的事实：狱官与禁卒相互勾结，贪赃枉法，草营人命，等等。在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词章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上，本文借助于选材的真实性和典型而具有很强的说服力，不在文字上过分的雕琢、修饰。作者以确凿的事实为线索，将材料编排井井有条，环环相接。全文</a:t>
            </a:r>
            <a:r>
              <a:rPr b="1" lang="zh-CN" sz="28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以对话的方式叙事</a:t>
            </a: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，语言简洁有力。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"/>
              </a:rPr>
              <a:t>．下列词语注音有误的一项（    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088720"/>
            <a:ext cx="815328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窦（ｄ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òu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穴   遐迩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ěr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老胥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xū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户牖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ǒu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  违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wéi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背 矜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jī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疑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骈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ián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文 俾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使 大辟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pì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罹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lí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难   绞缢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yì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  日晷（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guǐ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．下列句子编为四组，全都写胥吏贪赃枉法的一组是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(   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29840" y="1483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①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少有连，必多方钩致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②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械系不稍宽，为标准以警其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③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文书下行直省，多潜易之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④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其上闻及移关诸部，犹未敢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⑤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中有立决者，行刑人先俟于门外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⑥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但取案末独身无亲戚者二人易汝名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①②④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③⑤⑥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①③⑥ 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．②③④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．下列对原文的叙述分析，不正确的一项是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(   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掌管刑狱的官员枉法作恶的现象，不仅普遍见于下级官吏，还涉及许多“部”级官员。可见在“康熙盛世”时，吏治腐败的问题已很严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封建家长以“不孝”的罪名对子女提起诉讼，左右邻居也帮着把“忤逆”之人捆入牢房。为这样的事都能坐牢受罪，作者为此感慨不已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胥吏之所以胆敢篡改判决书的内容，就是因为他摸准了上级的心理：主审官宁可让案子错下去，也不愿因为事后追究错案的责任而丢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作者在狱中了解到许多黑幕，对于那些从他人口中听来的事实，作者也向同牢的犯人一一印证，体现了桐城派作家注重考据的行文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．下列对选文内容概括和分析不准确的一项是（    ）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9280" y="1628280"/>
            <a:ext cx="8153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选文第一段先后记述了行刑者、主缚者、主梏扑者对“囚犯”的层层盘剥，揭示了刑部监狱的腐朽黑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作者引用了孟子“术不可不慎”的话，是想说明刑部衙门的胥吏、禁卒不一定生下来就是坏人，可是他们的职业使他们只能做坏事。所以说选择职业要慎重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部中老胥家里有许多假的印章，任何案宗他都敢改动，甚至一些已经定案为死刑的案件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选文第三段侧重记述了刑部老胥用作伪的手段贪污枉法的事情，从而揭示清朝监狱的腐化是从上到下的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5328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．对选文写作手法分析不当的一项是（     ）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79280" y="980640"/>
            <a:ext cx="896472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本文在写作方法上体现了清代以姚鼐为宗祖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桐城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提倡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义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考据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词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三者并重和相互为用的主张，体现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桐城派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散文的特点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义理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（即文章的中心）来看，作者大胆地揭露了清朝司法制度的黑暗和腐朽，令人发指，不失为有胆有识之作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“考据”上，本文内容详实而有说服力，使人惊心动魄。文章列举了许多由作者目见耳闻和亲身经历的事实：狱官与禁卒相互勾结，贪赃枉法，草菅人命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在“词章”上，本文借助于选材的真实性和典型性而具有很强的说服力，不在文字上过分的雕琢、修饰。作者以确凿的事实为线索，将材料编排井井有条，环环相接。全文以对话的方式叙事，语言简洁有力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《狱中杂记》是方苞出狱后，追述他在刑部狱中见闻和感想，揭露并批判了封建社会的腐败和法律制度的罪恶本质。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692280"/>
            <a:ext cx="4098960" cy="5113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4248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43280" y="3357720"/>
            <a:ext cx="4286520" cy="3238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248000" cy="5327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4788000" y="260280"/>
            <a:ext cx="38163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915160" cy="4876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3305160" y="1916280"/>
            <a:ext cx="58388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280" y="691920"/>
            <a:ext cx="799308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牢狱生存条件之差表现在哪里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1280" y="2133360"/>
            <a:ext cx="792000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百多人挤在一排没有窗户的狭小暗室里，吃喝拉撒都在一处，人死后不能及时处理，传染病动辄流行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55280" y="69192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狱吏是如何贪赃枉法的？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84836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恣意妄为，制作伪章，篡改公文，甚至调换主罪者名单，即使是良吏亦多以脱人于死为功，而不求其情，法律之正义公理荡然无存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6T00:27:15Z</dcterms:created>
  <dc:creator>Lenovo User</dc:creator>
  <dc:description/>
  <dc:language>en-US</dc:language>
  <cp:lastModifiedBy>*</cp:lastModifiedBy>
  <dcterms:modified xsi:type="dcterms:W3CDTF">2011-06-02T05:53:03Z</dcterms:modified>
  <cp:revision>17</cp:revision>
  <dc:subject/>
  <dc:title>幻灯片 1</dc:title>
</cp:coreProperties>
</file>