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camera.wav" ContentType="audio/x-wav"/>
  <Override PartName="/ppt/media/image18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13.jpeg" ContentType="image/jpeg"/>
  <Override PartName="/ppt/media/image23.jpeg" ContentType="image/jpeg"/>
  <Override PartName="/ppt/media/image2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</p:sldMasterIdLst>
  <p:sldIdLst>
    <p:sldId id="256" r:id="rId70"/>
    <p:sldId id="257" r:id="rId71"/>
    <p:sldId id="258" r:id="rId72"/>
    <p:sldId id="259" r:id="rId73"/>
    <p:sldId id="260" r:id="rId74"/>
    <p:sldId id="261" r:id="rId75"/>
    <p:sldId id="262" r:id="rId76"/>
    <p:sldId id="263" r:id="rId77"/>
    <p:sldId id="264" r:id="rId78"/>
    <p:sldId id="265" r:id="rId79"/>
    <p:sldId id="266" r:id="rId80"/>
    <p:sldId id="267" r:id="rId81"/>
    <p:sldId id="268" r:id="rId82"/>
    <p:sldId id="269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" Target="slides/slide1.xml"/><Relationship Id="rId71" Type="http://schemas.openxmlformats.org/officeDocument/2006/relationships/slide" Target="slides/slide2.xml"/><Relationship Id="rId72" Type="http://schemas.openxmlformats.org/officeDocument/2006/relationships/slide" Target="slides/slide3.xml"/><Relationship Id="rId73" Type="http://schemas.openxmlformats.org/officeDocument/2006/relationships/slide" Target="slides/slide4.xml"/><Relationship Id="rId74" Type="http://schemas.openxmlformats.org/officeDocument/2006/relationships/slide" Target="slides/slide5.xml"/><Relationship Id="rId75" Type="http://schemas.openxmlformats.org/officeDocument/2006/relationships/slide" Target="slides/slide6.xml"/><Relationship Id="rId76" Type="http://schemas.openxmlformats.org/officeDocument/2006/relationships/slide" Target="slides/slide7.xml"/><Relationship Id="rId77" Type="http://schemas.openxmlformats.org/officeDocument/2006/relationships/slide" Target="slides/slide8.xml"/><Relationship Id="rId78" Type="http://schemas.openxmlformats.org/officeDocument/2006/relationships/slide" Target="slides/slide9.xml"/><Relationship Id="rId79" Type="http://schemas.openxmlformats.org/officeDocument/2006/relationships/slide" Target="slides/slide10.xml"/><Relationship Id="rId80" Type="http://schemas.openxmlformats.org/officeDocument/2006/relationships/slide" Target="slides/slide11.xml"/><Relationship Id="rId81" Type="http://schemas.openxmlformats.org/officeDocument/2006/relationships/slide" Target="slides/slide12.xml"/><Relationship Id="rId82" Type="http://schemas.openxmlformats.org/officeDocument/2006/relationships/slide" Target="slides/slide13.xml"/><Relationship Id="rId83" Type="http://schemas.openxmlformats.org/officeDocument/2006/relationships/slide" Target="slides/slide14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80E-6A7E-4AEF-B9CC-DE52D186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8A5-55AA-4C5B-B81D-34A75C1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4E35D-5403-4496-8EA3-22B7D42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7E35B-E831-4CF4-96AA-0BAA1343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E7396-3BB5-4168-A9E2-C71A1DF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B0896-94C1-47F5-89B6-2EB4DA9E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0FBA7-3BF8-4480-BB3C-3E650C9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AA85E-86C0-4059-9B1C-E257E79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8DAEB-ED15-4296-B082-C8D4C7A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863DF-7320-45C8-AF38-C98E7646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A163E-8438-4E2C-A269-78FA7460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74002-B15E-4D3B-8E5B-A3F42821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5BF-274C-4931-A410-95BD9D34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3C285-2D8E-4E47-AE9D-F9C5942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19983-E5A3-4925-B641-2EB8097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C1B9F-D37B-433C-9559-66058CA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D4D48-96D0-4C68-BFEB-32C6E8E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4C7E6-F1DE-4F0A-B2D7-0F758E92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D3E08-A707-49FB-AC62-24D0266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ECFCC-AE6C-4D3E-ACA6-67ED0C14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ABB24-29B9-463A-9C0E-411BA8A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7324F-960C-42B0-B843-A305614B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617F9-04A8-4F7A-990E-FCC26ECD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53A-6264-4EEE-B745-00A2F5A9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EDFA5-B624-47F3-A142-EC0B62CD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3859B-4890-472D-9C5D-A7F86257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DA1BE-355C-4834-832A-C17CAA1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23ACD-3193-4DAE-988C-ED61651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B04C-B1AE-4EC9-8858-405CF25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61ABD-CF12-4A50-B2B7-DA03ED21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CCAA6-34E2-4FE7-AEDC-DC891F82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96EEE-D051-4BD4-9BAA-B94A2955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7EB5D-69A1-44D6-A55B-0B1CA26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F33BF-23F8-4DE1-85B2-FEDE887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3BA9-B1A8-42BB-A465-0BA7511F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950B7-4FE4-4976-93C8-100DF83B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4C608-86C8-451A-A9C0-521A5058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7FE71-C105-440D-AAAF-68E12C5C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A00D2-BC18-4A01-A56B-A4F91046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CBA73-DFCC-4047-9EEB-5966F1D7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A6CFB-867D-4043-996A-9DC80DAD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4CF16-5C2D-42A6-8BA3-F5625DD6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0E84C-51F3-4D90-A3D5-B558BF5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9AB54-10AD-4467-B564-5659AD9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A0A80-377A-4247-AB9A-4345AE17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3692-C547-43FA-932A-F41533B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1C169-213F-49BA-90BE-552599FC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C2DB1-9577-41AE-938C-47DD431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E32DF-C114-45AF-86FE-DCC62CD9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EA3D8-42FF-4FC0-86FA-F24EB29D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D9AD2-CF97-48EB-9E34-F0A6034A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C1F3B-433F-4063-85D1-ED711765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60B12-E25F-4939-82E0-CD13050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67444-A6B1-4B25-8477-D0A2468C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50B1F-0CFE-4CCA-8B47-F3825C8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861B5-57A4-4B10-B4E0-68B3A33F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3BF6-ECFB-49FB-9B9F-D7DF717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38F32-3E6E-448F-8BE7-57A9A710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C7754-1547-4BCF-82DF-3C4E3985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3C6B8-05EE-47A5-8611-84784702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3B6A8-D693-485F-A067-6955769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D8605-E66F-4D10-AEF1-A4CB9CAE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3281C-305F-4E3F-9A9D-C1A01EFB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02E59-C233-4F00-979B-0CE989C6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CFAC9-AF7E-4F4E-A47E-2F2E49D6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ECBC0-45E9-464B-B4C1-A77132B5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BD91F-3965-468C-BC95-467894E2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C5B5-3A9E-4854-801B-66584B8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535B9-13DE-4AC8-8D8C-AFB94AFA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D431B-D419-4233-86F4-EA8A35E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3CE7B-2FA9-400C-9A55-2DC2DBE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31E6D-4167-4C70-9DEE-80542162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5FA8A-2706-4F54-943D-6617136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25E33-7541-4A83-B51B-0257004F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BF1FB-C147-42CA-A533-B648EBB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6D4C5-CDEF-4207-994C-8AD83F91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CCA6B-CCB4-4986-B5DE-48AE17F8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EABBE-7085-4E25-8D35-891D5422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9EA7-F070-4294-8F82-2910AADF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FD36F-3234-438A-A664-FDEADDE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72ACF-B4DC-4AD0-AB29-D053B22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69A30-D90A-4CEB-83A1-8CB0434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3B9CA-68E9-4E66-82CC-F3F02055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B9E9F-79CC-41E0-B926-8F9FDD06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B1019-AF72-46DB-B331-C85D5722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69D78-C81E-4833-8C3F-DCCDEB8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4D8E1-F87B-4DE2-A7E7-267D54D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926DE-1822-4E30-9787-28ED276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C0BFE-3A5F-45BD-802F-6B02A7DF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C1B3-30F3-419E-B1FA-68BE9657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550BE-8F4F-4FA5-95CA-52571091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97281-7443-4CEF-A5D2-FDEE5D56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29993-D2F8-4B66-9C2F-A853B056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E58A1-4A09-4D11-81F0-0950DA88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C23D3-D38B-430B-845A-F68972C2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BDB6C-FA4D-4FA4-9870-1BA38CBA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1B643-40FD-4CC2-ABE8-94BD20CB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AD7A8-352F-4B28-88A2-E17C694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D1668-22BB-4746-9CEC-AABE5DA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856F3-3DBD-4265-9483-46DA47F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5A84-3DF0-4983-A158-AC597C5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CB3EE-E471-4B5C-AA67-1DA3D93E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C4241-EF7E-44ED-9ACA-0BA1C5A7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3CDE9-CD3C-4A76-983D-A24EB35E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A7790-F9F7-4E90-8C3F-1588324F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45392-71F6-4651-869C-A762CE77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570CD-F604-46A8-B3B7-2346CC0B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952A4-ADA6-46A5-A9B4-3A2C7FAD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82F429-D284-43F8-90FB-EB5C6C4C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02D0A-E078-4A73-B2E7-BED6230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BBDFA-EC58-4094-BA0F-3581FD2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650-E7CD-4584-9B61-F51E2772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174B-E3D5-49EB-B560-D68DC60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67932-EAD8-4928-A3FC-66C03D28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53345-EF75-4F7C-BB5C-7A8ED72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6820B-DC89-4C66-A3B8-48A0593A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80F66-D351-4D0B-B170-D09F123B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6A5CC-267E-4D4E-970E-AD325085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C036F-40AE-4205-895C-EFCCB2A3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1A5E9-6F2F-4F37-9C40-93A7AA6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98400-3A1A-4CD2-8AF9-F985BA6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B563B-819A-485F-A5CB-12F2E336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348FA-1D3B-47B0-BD39-FC9C6F39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4E18-A929-42F2-93EC-ECB14422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9F136-9C06-42A6-BFBD-1F14F09E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2F76A-7378-49A6-8279-90E71A4C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6EF91-00DD-4799-8C02-59822B1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25BE5-040B-455D-A101-F15174BA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F81F8-9876-4E10-BFCD-DC302F0E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6608F-D2CF-494A-8183-B233A390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A0990-C0CE-43DC-BD40-F90178EB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F5AF7-B04D-4E3B-9AE2-B21D1FE1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31774-0E22-4E36-A567-69681A2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9F608-C2D1-45C5-B96B-5C86E584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ACF-FAF0-4EDD-97B9-58E3311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6CFD8-C142-429A-8383-62A21FC8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95818-5F27-4703-B9CF-0A254FD8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AAAC74-A5F6-400D-9015-7A9EC598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B7F64-F1B0-49E9-A77A-1D971A07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E3DAD-5E14-461D-A756-CB5A326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A1311-F94B-4522-B524-F10F5BA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3BC9D5-E069-42F1-947F-FECB0A04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7F409-1E43-48D6-BF15-D7C4EF20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3B9FA-BD4B-4DEA-9402-F4553B10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F4E4B-1363-46AC-8E74-CBD9C60E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772C-C900-4ED0-9035-6CBA7E7D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BA157-4187-457B-A282-8494002E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8264C-F389-40E1-94F0-4BE1AA56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EFDD7-5C60-4C28-8BCC-6A2B38AB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A17FD-77E9-4BF9-AA90-B1CAD7AA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9A050-71A7-44B3-9D45-8B470CA2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87F08-BF7C-46A3-AA2D-9E24CDF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BE965-3959-44A2-BFA2-42BE4C8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4267C-5F2A-487F-8ED0-67029B3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8D4A0A-FBC1-4D20-B1BF-E381B5AD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95884-FB41-44B5-AF9A-9BE7AA96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0E10-03C6-4AEF-BB18-2A5075C6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9D740-FCD3-4C8B-85B6-3D89688B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D5F4C-4A90-4FF0-8814-BB5D6194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7330C7-12B4-466E-945B-2D36770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3BD30-0BA5-423C-9F20-373D980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901E83-94DB-49FC-B4F3-FC91F55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0992F-5A45-4024-B2EE-3198E2B0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53C9B-93A4-46C6-BF4E-D0961A97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792AC-9CB6-46D1-BC9F-575028D4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8FF93-C364-4A11-A6B0-50CF3D0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5048F-338C-4422-8D62-AFA2720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9D68-C338-478D-B48C-C74C53E6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45D85-BF7D-41A2-B793-12755093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072AC-AEF6-4B35-8EF3-E94DCA84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F50C1-917B-409B-8FE2-F114F992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69ECB6-C252-4D3B-B368-064DF363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6B9AC-F98A-47DB-B3C2-9A3440EE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10AB3E-DCB2-4086-8579-94A13D94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61A292-7C8D-428B-8296-8A84D70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900670-5624-4AC9-821A-4D26924A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8159F2-EFD3-4140-8152-C5C3AF2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9142D4-41DB-4936-ACE8-98FBC727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239D-9FE3-489C-9C2F-3A282A1D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077C7-E1A8-4079-8673-7006766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70B91E-730C-41A6-9BEF-9E9E163C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815D3-A5D0-4BB6-8EF7-8C427E1C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A0CE0C-8609-4343-9222-D45306CC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FE7AE4-5C12-49E7-BCE5-17A1C9BD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C6DDA-641B-4173-8618-A884E0B2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FCC9BB-E5B9-48C9-BFD8-1653C131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EA9971-3A5F-4FCA-B0C8-525C61C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41017F-12A3-4065-8131-04EC8EE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2A386-81D2-4A05-889F-70E2BAA3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6881-1DAB-4D10-A3FE-5844874A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365C8E-CBB3-4C54-9702-3BB8E61C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F125C1-4BEB-4F92-9F94-7899A1E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62AF25-4F6D-4567-B87E-E5CFE3E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A8AA59-0E85-464B-95DC-642B6D27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78CD58-0F9F-400F-AA13-447EAE42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FA63A0-9116-42B3-A8C9-AB9F94D3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7EE79E-1FA5-4BFC-9AA4-331C4674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BC661C-35FB-4A09-B0AB-6E83A6D3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6C54B4-5545-4945-8F2A-B9C4CFEA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CF80F3-4EB9-484C-871F-97DF3A0E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493CA-8192-4305-800D-EC83ADA6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95C507-482A-4DB1-BC6F-3846467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434783-B94D-450C-A65C-8068EBF0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579C1C-B8AB-4792-9808-5DEF535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E61230-EE6E-4DAD-BEBE-0CD74E1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CD432C-F0ED-474F-AEC4-0C7F973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36E4C-F175-443F-8AAE-C290DEB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399119-DF8F-4BB5-A717-E0644034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FCB2AB-47A1-4F28-AA41-6E04444A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88A909-C6F4-4ACA-A18C-77575C3D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D3CF9A-85F9-4743-BBFE-667B2FDC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054F-30BC-4CA9-BA3F-4B9CB3A1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325444-425A-45D4-8947-569A7EED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D883C2-2C9D-413F-9957-B7D7F49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958B7D-D2D8-4002-8F51-266B2462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35F878-7A45-4586-8689-3A58744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39FA96-3D32-4BF5-AC61-DB7327E1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027CB6-6E7D-49F4-818D-DB71254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778021-3208-46D2-8822-C2BA343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152A6B-E649-49B4-B76E-B2B3438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51E5A8-F46E-4835-8D59-F70F56BA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14FDF0-9088-49A5-AFAE-5AC702E2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002-DA23-4693-B138-4C578DF1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B959-032C-4B66-A99E-F38AE26D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84986F-3B3B-423E-9ED3-217D1DDB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4C9003-4297-464D-B645-38B629C5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DE476E-0F68-4EBE-BCF0-10C3908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975AAF-89B4-4F3F-AEAF-28B6CE7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3E6E90-4733-4B3D-91B2-BD667B9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818DCD-5C02-401B-8F70-5AD6D45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9935D6-E255-4AC3-AB19-F91635B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4C378E-4AA1-4018-83A1-0E60549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276D11-5C05-4879-9489-A0776B7A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D4D9C9-8252-4103-84E0-7B607AF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F6F8-3DC3-4EDE-9FCF-9F129CA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E4CFB8-EAE6-4DD3-82AF-BDF8011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B12629-835B-40B1-BACA-85ECA68B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FAA02E-3FA9-4113-820E-2B8690D9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C26C8F-1E29-4D37-8C48-94ACE040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C13DDA-3578-4357-8429-2A8C4852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C115BB-F614-465E-814F-CD7AAA6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579960-CFE0-4F39-AFA2-43CCBBEB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C68C47-2F68-4B64-9B15-ADC09752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4E0308-8C28-42FB-87A8-C5847004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EEF130-814B-42A3-8134-3C951BD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386A-09FE-4570-88BF-B63FB7DF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38370E-5553-4EE1-8313-F15AB94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38A25A-2E7E-4B18-851C-8837A73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E16CC6-E743-438B-97CD-38F8966E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DD904B-828A-4FB1-889E-95330E3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B87738-0300-4D59-99AD-7D2DD39F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0A99F-1948-4473-8DB5-45F0B790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0979EA-E065-4886-BD3D-E5E16E64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728D10-5511-4132-A9B7-1AC43D39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ED9AA3-0BB4-4732-86EC-B6D35367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A13932-0181-405F-BDC6-BC4992C4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B1CC-8C30-481E-95CB-B1F07FE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C06764-D443-4ADF-92C2-C00109A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8EFDF8-2747-4703-BE82-41FF504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2E6DD1-48F9-47A9-B500-E106B3EC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1CB480-128A-4DD4-B827-59F5F50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BC58B6-E040-47F8-B675-062B55AB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697DF2-E0A7-4D8A-8F6B-8C0651C7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F9A6F5-AC4B-4DB1-A1EB-3AA7BB8C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A4D49B-19B3-47AE-9772-BD5876F7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E9C9F-3BBC-4FF7-9BF7-BCCC5C38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6F7E67-47C2-41FA-84D3-FE9A5171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F7F1-54CE-41CA-8B2E-F8F60FB0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5CE863-FB86-4F94-80D0-D7CC1DBF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D4EDCC-05B3-472E-BF28-08E20D8A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1E9C11-519D-4FB7-9876-176726E9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9B0D08-D465-471F-ACDD-F4E4F1B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C7A28B-BC4A-46F5-897F-D5FF4A2C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9077BE-BDCA-418F-95E2-FC02ED3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100ED3-207B-4869-8DE2-55790785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F88430-0B88-4C43-9D69-739A510E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40F041-2F80-4F48-B547-4E778DE8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6F9165-789E-4236-B9D6-922166DA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B4E0-AEAD-4996-82A0-5B9C01A2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07EAA5-F474-444D-A8E5-D0E3810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4C2E00-A594-4209-86A8-B1E4A0E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D9E380-C5CF-4EDD-9418-A86271F6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95D18E-D3D0-48A9-B495-2A496A38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A5AD3C-4565-48B5-9DC4-A8662CF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1B0224-3E4F-4570-922C-117B63D4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08CA5F-90E8-4409-8293-6DD6C0DE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733110-72A5-4C56-B3A2-D1A79F9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E51170-C238-4BC6-9697-36A150A1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5C95A5-7249-4C14-88AB-8D1A3DDD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9751-766A-4ECC-9EBF-8AE1C6EE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3AE318-8F41-4243-BEA3-86903F3B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79A833-7C25-415B-8842-6CEB4254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BD45DB-BE89-4A61-9D70-D413F15A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0836C1-B7C0-4519-A677-EEB98D2E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68E27B-785B-423B-8076-FD943E0B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01FAC3-5A72-4743-98EB-A02DFAE6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128228-7508-4F9B-8729-84F3609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B17C90-B6FA-4BC7-821D-BA1CF515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726959-D15D-46B1-80C9-2ACAA7B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467720-777E-464D-B60C-F2DAFE51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F82A-3F62-40A2-BB08-F54B1F1A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31051F-2436-4823-B169-89546791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85B402-A20E-4304-9AAD-AA92CB75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BC0570-ACE2-4947-8211-5B85352E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F8CFC0-C1C2-4148-B47A-6E43A747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B27B22-9335-4A85-B614-409CA1E9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6EAF2-6F69-4D90-B6E8-D1196D35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AB2B35-A414-4718-A204-23CEC61F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FEC864-0F22-42A8-AA4D-1A66ED04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D5ED3D-9B0D-4C03-B1B3-355F4BEE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BC9B70-D40B-4C0C-AA4A-4E7222D0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E388-6BF7-4C70-AED9-0B740E7E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AC136D-B6F8-4411-BD5C-A27063D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B74862-9170-4E25-95C0-7397412D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E339C3-72C7-4387-AC39-3DE92DCB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79AA31-D9C1-4789-A41F-F2D12260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478BF9-2E52-445B-A820-1C6EF5DE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4443B4-0D67-483B-B948-67004AEF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FF8706-C882-493B-B0B7-FCE0A495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B26D31-8E99-435C-AF12-E5309000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6BA1CC-2CAC-4256-8618-56ABA18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4103D5-28F3-406E-A416-E584E665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B59C-0EFC-4985-AC2E-8D888E08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593935-B962-4928-B33F-8883ADD4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C1B247-2C21-47D5-BA15-D868756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ACC583-7F19-406B-9E3E-1A7C458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D44638-B3E5-4DDB-80F9-B958E3E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324BF8-4F22-4811-9EDD-9DC6DA9A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6AB14C-67FD-4E94-9784-B55FB917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F538A9-A838-45C4-B042-5AA96744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51B2F7-8473-498F-8E6F-46E96B84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7267E3-F335-448B-85D5-5DAC68ED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2667D7-B6CE-4CC0-8979-D1717A0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89C-7038-4E98-915F-8BEC371E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2A67-2FDD-41B6-A1EA-4AB1D086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03B194-3F93-43E7-B24F-632A3FA2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F78868-FC98-47E8-A03A-8700290C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5C64F5-4B66-4271-8859-050B37AE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29FA6A-B6A7-4765-8225-D51DD7CB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74A8D7-33F4-4284-8229-B4E6E8D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1469A3-8091-4300-A5D8-187A508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3594CD-92EA-47FD-A151-B2EFF604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BE89E7-052A-47EE-AB21-281335EA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5F3113-9D4F-4602-B687-D55D239A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D25843-DB57-4E2C-8817-3CBF2B3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2603-9E99-425F-9CFE-40793EB0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913582-C02D-4874-9CDD-01A4AE20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0EB866-1FBA-407C-B8D9-B22CEACA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5216B1-CC7B-4921-9C53-D1DFA2B3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8F759C-1E1F-4D8C-810E-A5010DD8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D6BF68-8397-41D8-92C2-02A31036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291940-F89B-426F-B9B3-88B8A37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CF1C11-B55E-4198-9496-12E59A65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5AE925-B37E-44AA-92ED-FAD776F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09E407-FBAA-468B-AF7D-4AC956B6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7ADD2A-D8D2-43A5-9039-61AFFE05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B667-8E33-4910-ADE0-F51DCF1F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1B4B2D-AA62-4567-B760-775E0473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2109E6-D88C-44A3-9EFF-6C201F48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3D42C4-7579-4B0D-AF58-516188C4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74ABBE-A730-4996-BF39-49A15545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E02FB6-62B9-4D5C-AAF0-D08EF6DE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2E3259-5CEF-4A98-8372-982BA3C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FA1DB1-9FA1-432C-BA50-0CA42D7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ECE834-A739-4DFB-BC6B-C4B7CFD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C1B839-0D18-45DC-B0BF-1A880FFD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FB98BE-AB14-413F-9B59-7C5FA1D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0FB5-E348-47C7-9689-B96BCA0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A42A84-D147-4282-A1EB-3EF239FF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5D3DD9-D57C-4755-B15B-C6BC64D0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0FD619-BF2B-4338-96FF-BAB0007C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F16E47-2F65-42C1-A479-3BA89916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93E39A-0248-49EC-8021-4E6CC2E9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95F785-4D22-4892-94D7-566E40E9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D14507-D28E-4B7D-A7E6-0DADFE06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D56BF2-146F-4A2D-ADBA-1714ABFB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3CC998-8ED2-4C80-BF38-2C0D9C9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E9B619-A933-423C-A7E5-A3EFFB8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130E-D261-4C56-8D56-27896D7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64E077-E73E-4019-B303-ECF5602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EE1BC8-E7F1-446B-B583-9A111C7A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EBB061-4AF4-4FA6-AE62-9ACD4FE1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93B58C-D033-4490-A22C-3E329985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ADD46F-42E8-4431-873F-0ACA97B0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D0B51B-F568-48C9-9CF1-79115FCC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3538ED-FB12-412F-858D-CB4EA08B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0346BC-D8FB-40FF-B85E-9BDC458D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7BB035-A4DC-49FB-9724-D2933981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11DCC4-7878-4D41-B2E9-AE063E34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9C60-C38A-4343-96C5-BCCAEFD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B67E14-AB38-49C1-AD86-D94B5B3D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DA3CF5-1B45-4B4C-B458-F71FF1C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25597E-D114-4D0F-AD37-8FE6CD47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EDE107-10E3-42AB-9479-A49D174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342D0C-E46C-46C8-9132-DFB7E43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CAD906-DD8B-48F8-82D4-772B6686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29CD17-535A-4073-A6B0-9DDA04D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EA23CD-9826-4470-8912-BC268B58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E4587D-EA51-48EB-8596-BC90169C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8F90C6-0748-43B7-BD7A-B008F469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88BF-E930-49A5-9A5C-131B4DF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D8AD73B-0E30-492A-AA53-F4FB4A6E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CB39DD-908D-416A-AA05-264D3078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40C7C4-26D9-4ABA-8734-5F8C1C9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5E1351-5C5C-419B-A7F7-B2CA283E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B9E7B8-CA46-4132-AC06-B87F530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407920-2EA6-4FA8-B824-84D9B763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BEB70D-BC80-4BC4-8604-D2068D7A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B98F48-D711-4E2D-8ABF-D1642FB1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737673-DD82-49C6-89C6-64FC34AE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761047-834B-4B61-A452-DBDEB0AA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6ED9-623D-426A-B03D-810FB18B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246C3C-CEF8-4C23-9B8B-42054BAB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E6D321-EEF2-410D-9419-F54740A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1C9970-DD1A-4994-B653-5E323BC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65B51E-D265-429D-9987-22ED449C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086ADD-8B7F-404C-9053-563CA33F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80453DE-3E7E-4A92-852D-F1F2D78B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6FD774-0BCB-49CA-8EB4-0CF05023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2CE54D-12B6-4EB3-AC29-FED0762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50D56A-B8D0-404A-AD42-EEEBCE8D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F60731-35B8-4556-A4F9-258AAFE3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8960-17AA-44EC-A1E2-6896890E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FF6E91-9CCC-4919-B2B8-202F0D8D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1EF28E-D384-4EEF-A7E9-5F8096E4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44FF9C-9953-4E1F-A7F4-10361478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0FE141-4C92-40F0-BCAD-F4D60C8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6B4012-67C0-444B-9742-0ED1112D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E7441F-7E9C-4CC7-A57D-5EBB6D3F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90C90A-6351-4B50-BC5F-0D496BA1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AEA21A-D163-48F2-BEA6-AB5FEC5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F01F78-0AFE-4D14-B48A-A144BF1E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30E0CD-F895-4545-8F2E-F1ED5803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94421-FB1A-4623-8DE2-870012D9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D9F1A7-B1BD-4069-8B9C-7AA57C56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52B232-1334-4139-B3DA-5EDCB285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A9DE7E-46D8-4D1C-AECA-407C6AC1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95A3F08-73D6-4A90-ADCC-F706E1D1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C5151F3-DD19-476A-933C-D97E7AE5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9B714C-D524-45CA-8736-058B68FB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3091CF-C6CD-4E21-A12C-81C8B8D6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B2EBCC-5083-40DA-BEE7-033AF1CA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368EAB-8514-4095-951E-7B989897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DD4039-281F-47F3-AD77-0D024B57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B0F-AA5A-46F9-95BE-BD1A5A89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9954-B962-4E3B-8EE5-EFF909F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C01B75-6B2C-416C-9D09-3A162A7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EA30C9-6AFF-416A-A2E9-437F8BD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F965F7-1AC3-4E70-A144-4417E4E9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2C2024-54E0-4EB3-8367-12EF14CE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907AD2-81E2-4A5E-896D-E9559C27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B9150E-AF3F-49F8-8B29-1F29CDBB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CC63DC-8DA5-45D2-9F8B-AFD6D34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C3DC5AC-B5FB-4293-BF3F-8379C7B7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F38D93-3AD4-47E4-BD5C-C86CDBB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AD4584-CFC7-43E3-9F87-3B09E9EE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135B-4BA9-49FF-9CFF-5328128D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E42592-3030-4F14-8F5D-6014AEB2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EACB5A-CAEB-4B1B-830F-8613789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1B7075-DDAF-4AA8-B0DC-4AB811A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C2502E-7A44-4A47-92EC-01EC7BD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5F256D-2854-4B1D-ABCF-F2AA9B3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B31744-6C1B-4D6B-AE1D-04E58D35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06BB33C-BB44-4E8B-A438-5051BD6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E7D33E-5D4F-4C1F-B936-135235A1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688E19-AEDD-44BB-9EDD-0F141B44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62515C-0CAC-417D-BD06-7E7D440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4A483-CF2F-4CC9-9D29-D7237769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C772D3-DF3C-44C0-A9BB-459EDAA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709EF0-DAD5-46A1-8331-E98D30B1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FD0FF0-0E69-4470-97AF-AD08DC44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526260-E997-4260-B31D-0CDB40DB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B362B5-5943-4DCC-B878-2CE2B14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181B7C-BCE2-4583-A834-AB70EE0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5E9518-C992-4BD3-80B6-D59A4F16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BF1BDE-F1DF-43C4-9EB9-24C12FBA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ED67E9-EDC9-4BBC-9B3E-6C6C5346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20C333-4F6A-4143-8463-1EB7655C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F4E3-938D-468A-A394-44EFD7E3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5DFAD8-B4D7-49E2-BAC5-5DD91907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87AE9F-6849-41DC-999D-BB7A3D0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8A18B2-5817-4574-B639-1E46CCEB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9AE6B7-1D16-4DB9-8D9D-C23B4302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E2CD6C2-136F-4F53-B910-06145647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E35B12-A1CF-41E6-95F3-AA20856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B2A0E6-261A-439E-A1A9-2A8AF39F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9CAD4A-87E5-4752-9CBF-89E3476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D4530EF-C205-464F-BF9B-DAD3DB8B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DFCB470-1ECB-457F-8967-58F78EAC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B27F2-6E56-4B3F-8400-518CCA2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973B0F-B55E-46A8-937E-DF2ED6E4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F15548-113D-4390-B263-32CD4CB2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94B723-EDF9-40D0-B850-CF5F83C9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F72A72-C48F-412F-A732-04AAC1F6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3FF24AF-F88F-47C9-A1AA-9AB9414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787DE1-9863-497C-BE6A-A58D77C7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248587-5899-4CE2-A059-EDC1EA6D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98D97C-1D65-4AC9-9963-D885FEEA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CE84AB-6213-4827-BCB6-53603247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6E4007B-C2E9-46A1-9280-4E0ED9EB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BD6D5-6EE8-46C3-9EBB-A703859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C1941B-B081-471F-8CAC-A3EA7D7B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90AEDBD-1586-4064-9126-135263E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B10A759-47B8-4871-8024-08EE71F8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102AF8-711E-498B-B9F5-751706B6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270C94E-00FE-4A5D-AF97-BE7A25EA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46B7759-39FF-4F2F-AC10-DFF489D0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9559DA-05CF-454A-8773-96887E17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C6C24A-C08A-4006-A93F-9B62D322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C12587-7854-4880-B447-FB925E3A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7F42E8-CB89-4B57-826D-1B27DE9E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EC676-A1AD-4B6D-83EA-F808FA8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4D2C8FD-DA09-4EC7-9D21-C1CB67C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966969-BE49-4AB0-8A7F-8787AAF5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EAD8B37-C9E6-4AEE-9CE0-78A6733C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F31940-B2E6-48CA-9F76-4781EF42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FA7BBE-3D1D-49EE-9374-980CEDC8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839849-524F-47A6-8600-1A053F3D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50A520-6288-4579-927C-C7982D6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730BAF3-9569-45C6-B666-280CA8E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162BE5-1866-4432-BDD2-B14C2450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DA14D1-D560-470F-B6B9-BF75FCFA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8DB7-10E3-4607-B04A-D5DE95BE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4B27F7-DF25-45D7-A16F-D59BCF1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6EBE95-DF02-457A-AF0C-B81A442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D29474-5378-47DA-8A8F-A47D910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E83C74-7E1C-4E6B-A9D0-52A34FA3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585D480-98A7-4226-AEE2-2271073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3C1FF8-942A-4ED9-A9F6-B7055044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AC2858-3824-4C5F-BB1D-B403C22C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EF0326-90C2-4528-A1A1-B0BF9621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C87FC6-9194-4AD0-B498-6A95EF41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21E87E-72A2-4705-B799-009C6383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3DC8-CBD6-404E-8BB1-209A781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BA21123-B42B-4FA8-8359-B2207F3F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8A9630-7EA5-43FD-B372-3116F739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A25200-56F9-435D-9B41-36C9B805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FADF26-FAE9-43F9-8F97-2E53D34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D50141-476B-46C4-8A5A-D2BC827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42092F-B26B-4AC0-91B3-1F855ACA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485359-181D-439C-8586-3FBDC874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79D4EC-C0F0-4479-B658-96FF79BF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E3265F7-AF5B-4701-A4AA-3C7798D6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082EB28-37D6-4595-BD08-FA5A7728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8BED-2CAD-4703-B06E-43CF254F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E44B31C-2DAC-4331-B3F5-932E67F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D0A8AD7-A2B5-4259-AEFE-D477414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98EA33-E39C-4267-8B4B-CD373AA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637EB6-FDFD-4DD0-B8AE-66E535DF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76F868A-5FA5-4BAC-BB06-337BAA80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5FA039D-46C9-43F6-B17F-D6474B87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325EBA-4AC8-4440-A484-61FF406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F1F41C-4C89-4CD0-B039-BE5BA6D9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A3308B-4BBF-4124-A9F3-E5B9A2A1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6691F7-0CF1-40CF-A4CD-F372080C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EA3-7CF2-48FA-9E19-3B704234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DE08F-C4A0-451B-AC42-9098D541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A6A33A-C74A-44FA-9F25-D989AC31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0873A6-F480-452A-8E8C-BE193BC0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FC89E3-C8AF-4620-96F6-665590CD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1BDF596-0245-4409-9E23-84B55D2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2FA1B1-041B-4F9C-A3AE-FB3BF58E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DA29C23-D9BF-4875-B5D4-87EE5C85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244D46-3FB9-4754-800B-05D79974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07D2C40-3B3B-4814-BBD3-5DFBC51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83AA341-569B-4F27-936B-B2DEF4F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748A27D-66FE-4455-A45D-5377D92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A92C-CF09-4551-97D2-565EB3C4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066ACA-C8B8-47C4-A0A4-8349FF4A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173E73-8BC2-4909-8EA9-69FE8EC4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E5644B9-F514-43C5-8A93-38EFB799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151C28E-6632-4DD1-A41B-EDE28AA5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688FAEE-3EF7-4D53-AFE7-0C8D40E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8DB54A7-3717-4A9E-96C7-FB9B2BA9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A5F454-33DF-49FD-BF2C-7149252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7434095-50A1-4F1E-A01A-12891DAF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FAD0E9-C3B0-48E3-ADAB-3FBF9309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D0E7AEE-3249-4691-B576-F3B44F74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6C3D-DA94-4ACB-8C39-DDCF215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EF7304-99BC-40AD-BFE9-E43FAC26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26C82D-6E85-4679-8B84-562F12D1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A72B2A-697D-4C8F-8B1A-F4DC4CEA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C4EBA9-4195-411D-8492-93A292A3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4D89E9E-50AD-40C3-BC0B-914BEBB8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BE0919C-5A2F-4A21-8F40-11EE757D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BEDEB8-0F39-40F8-94F0-8EF7AC1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6C17541-BD2F-4074-A9BA-4197336D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1819EB4-6A3B-4203-884E-DFC6700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4C6B8E4-5CA8-49F8-910E-34B76EC9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8C3D-F16B-494B-9465-A0309BE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3D7A832-F38B-47BB-89A2-F312ED95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D12A1E1-643B-4AD6-9626-6FEFEAD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45922DF-34D0-4722-AD0B-BA064D4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837B010-ED58-4814-9F75-6CBAF53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E57B6C-AAFC-491E-B8E8-DB2BBE8F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F6813A-150D-4B2E-8566-79B35488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8C5DCC-0171-487F-80DE-32FCE472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DBB459-18DD-467E-9C6A-4F685689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0627759-F724-400B-9674-9AF69E9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62CBB4-0556-42F9-BB0D-1315D429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295B-ED02-46F6-9616-A1CAF133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F884F5E-6B16-4DBA-9EFC-C0FB05A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E42BD7-CAD4-4BCA-BF39-0A86D544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83619F-5735-4FC0-A84B-3984E92A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C7F323-4204-4B48-9ADC-D84161EC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D43DD24-4F44-4A03-977A-4517CDC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CCB96D-F968-4FDA-9AC9-92E4654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42A00A-B265-4759-A927-8326E6E5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CE691B-2BB4-490A-A0D6-E8E4C64E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9CF4DA-1A66-4AA1-98C3-F6BA71D4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12469E-666E-41E6-B20F-A31AE0CE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5773-4F02-44C5-AF68-CA3E3AE0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5C6550C-4479-41E1-B03E-44AD07B8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AF32A2B-0C2B-405B-AF6E-D8D860E5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CA1B23-847D-40E9-8FBD-FF7911CC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54A2E7-78C9-454E-A1DD-0640AAF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092280-38C3-4526-8E23-C0262F8C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9773BF0-C54E-49BC-8255-95DE365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098F318-8A99-4B25-B43A-75442F3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B935F5-B537-4F6C-A051-329D870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026B9AD-6E25-4319-B836-B32BF94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0AC1A5-6C6D-4752-9566-B93DEC8A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937A8-2943-4711-A596-950D34E2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174AC36-D048-4BA0-A2AE-BDF079BF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DCE722F-C136-41F5-BCCD-87832B12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C29972-DCD3-4B66-BC73-6B464F03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45751C2-AF49-44D7-9826-B1D7D957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77552D-9A56-43DC-9C90-EE37881B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A262012-CDB9-40CD-8BB7-9BBD8F7C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24A36E-A557-416D-B180-A903DF3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B8D292-AD1A-4176-9CE0-465A00D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60F454-A00A-4A48-B085-2D878154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4B73BF-8016-466F-B6DE-07BC1F6C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94A8-003C-45C8-A56B-63300CD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2ACC52-E7CC-47A3-A205-305651D6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A9BB70F-489A-4169-8011-8AB4D738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8638A34-9DEB-49A6-8AEB-E2A84778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0E6607C-B464-486E-941B-F593F332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8EFA90D-ADDE-45C9-B9D5-64889F47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1F9B7A3-C318-40FD-B18A-10E895E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5E0373-700B-4AA0-9A43-D076DCA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321029-88DD-46C6-9A41-408DCB1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E95087A-4A79-4789-9688-EF60B3EE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9350B2-755F-4547-A0DD-4750A35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BB97-87C7-46D5-915A-14372CB6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A3CE626-C8D5-4E61-AF72-D5CCAE0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63619A-4095-4F44-B004-EAB5419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47E9887-7477-4C2D-A8AF-319FF647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A0A708-EC22-4CE3-B82F-9AB3488E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CAE58E-DC53-4D17-A40C-D1013196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4B8F19-1907-486B-9882-6D200CED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D64AA1E-6ED4-403A-BC1D-B075858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A54149F-6D77-49ED-BC29-36D67A29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CC7DA47-3B00-4C39-983E-33A208F1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8BE2123-0408-46D9-8C4A-37C77B9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76F54-ED16-40F1-AA1A-E3AA4942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A302D74-031E-47D5-A2FF-7682496A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171A290-CD3D-40AB-8F3E-508E3DD5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5EDD4CF-DEA3-4CFF-AA8D-E2B4729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009D5B0-F242-47B1-A11D-51E5D0F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E606216-24AB-4DED-9E55-2B081C7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4915891-384A-454D-8BAC-B52DD99E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9B53603-EB38-4722-98B4-D4C7F624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5795B9F-30D5-4070-9802-39305E6E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2003545-02E1-4180-B89E-BB8994A2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89FE909-3874-41E3-8BA0-8C7B9B6A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0F9-A252-4EDC-8EA4-1B24AF1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4B8D8-FF21-478D-B363-926DA9BD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F84CF96-A727-476A-87FC-540A88E3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20930E-BA09-41FD-BB5F-86542E66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12166F1-891B-4B83-98F2-62D7BDD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45AA53E-A62B-46E2-9825-9FFC5138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02D5CB-EE45-4A7A-AD50-EAC1314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0D7D8F-E821-4E46-8AA3-AFA37982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1A7BAFE-01C5-46D1-B491-513EEF3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2B4A3A-148D-4257-8C37-28EDA1CF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A794D2A-2C02-4EC1-A86C-D33F70F7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4B454D-FE8D-4299-B541-F31B076B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757A-C130-4BA1-8F61-103AE92F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D628641-E4A7-4053-AD51-FE0DFE07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28EB030-9F6B-409F-A322-80C39844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1634FCC-52B9-4CC1-9CF5-13E9A53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2DFC142-9971-454A-8FCA-4DCB767D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D24A723-3B08-439B-9067-9857F4F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ABA0632-59DC-4D01-938B-A231578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4819766-0556-4B2D-A79E-F9DB0C53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CAC556F-5BD8-46ED-8A99-E01896D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91E9909-4682-4CA7-934F-783F556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9FA878B-4036-442E-AC41-0C279ED1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361A4-D174-4834-BBB9-60AD5167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36FDAB-1B9D-441E-B9AE-B59F1162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5330764-603C-4703-819E-75A7D486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F9C27BB-6A54-49B8-9CB7-BB65A18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3861256-10E3-4CEB-ADED-E385917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56C21E8-E3DC-4110-AC1E-8772213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D3A116E-1374-44C7-8C35-C16A44F0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34BD3B5-D1F3-4DEC-B0BD-F8357C9C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47A955A-1FFB-4EE9-8B47-8DB9AA7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5407B7A-5666-4046-BD32-4D239B1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A64B067-224A-465B-98F7-2815D20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FFF3-7615-41F1-8FA2-8061D879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3EB4978-1CF3-46D3-AC08-5D4FAFFA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51C290-E1C8-4CD9-8BBF-97577EE8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A9B4043-00C4-4191-9A6E-D101D78B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0BE6C8C-EF19-4D37-94DD-C2F2D980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FEACA25-EB5D-44C1-AF4C-2829B798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27CCA0A-8228-4DDA-9AB6-5A5680B8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74BBB0-F2C0-41D7-A66A-10837B3F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DDA1DDC-D696-4F3E-92DF-7F8481D4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E450A27-4302-4DDC-987B-354EA674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F20112D-3F91-4889-9AA9-964FBDB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EC1D9-A842-4F1E-81EA-835ECBDE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27DC46B-F138-4729-9326-0AAF58F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E833A64-F154-4590-992F-C4EBB65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5BEE3A6-CD2A-4DD5-8896-FB2C225A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A0499D4-ACDC-451B-B298-B5BCACB3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EC01ED6-626E-4A7B-BE78-12217B7D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27DC497-3180-4EF0-8C68-69242FB9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4D34E5E-16A3-476A-92A2-8943359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CA9F0F0-D282-42F5-BD38-ED683A87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B4C28C2-3860-4C49-AE70-541CD83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E042BFD-AF3F-46AA-8568-2814927A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CE1C-FD63-49A3-BC6F-C8921771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F14ACF3-D271-4B4F-91F5-E954664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1ADBA05-19C2-49FB-BEF2-EEDCB40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0AAD40F-0910-4D99-BD69-830AD03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7627705-C3A3-49B3-9C96-74A33522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1427CEC-E0AB-4BCB-84EC-71AE0F6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BEE8DF6-3426-4C7B-80B7-8502A218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1F6DFDD-1C5B-4805-9269-FCBABB35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606E967-0CE8-45AD-BD14-BC9FF645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9D94D68-F8F4-466B-93CD-23CA76C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8057987-5309-4BC4-BC2F-466037DB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D75F-0199-4D3A-B697-DF0646D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B2D28E7-237F-40FF-B882-FFB88B9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FE05A4A-AB2A-4927-8139-F00E8DD7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AC76DD4-BD40-41DC-AB3E-F9562CE0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5E543C8-BC1F-4E2B-8763-5793CAF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5566018-B04E-4E4A-8530-0B7AD48D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E8F8E7E-C985-493C-8403-04E1174F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8C53241-2646-4FA6-961E-8493F531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65B1F01-9C00-4DB8-8CD7-6CC06F6B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04C3BBA-8623-418E-B7E8-0FCE4A4F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2AC8533-DFFA-4BF7-B7A5-ED268ABC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6AD01-B063-4436-A924-E1D3C239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108F7FC-0286-4BF6-9DC9-DE1D5619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0DD892C-C5C0-4BBC-B349-AC72FA6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5969AC-AC64-404B-A60E-BDADC70D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06B4518-03E1-4140-98F0-D94CAF65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C88F289-119D-4D1D-8EF0-B99DEF0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7EC3636-0306-4A15-BCBA-E56C00E1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9076C71-60B4-40F4-ACC4-D888407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2C0DBBF-3412-4614-A74B-F9959A4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6777AAA-7EF0-4D53-A397-EF681EC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1ED3047-EE4F-4589-8CDB-A8E8580F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83CA4-60A8-4D8C-9313-3CB435DF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904F985-2EF9-4378-B254-AB44B647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C3E6CDF-1329-40A9-BA21-10338974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6E040C7-4DD4-451F-AC09-27A7D89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02BE53F-1EEE-4E3F-B826-43908AE5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D103C53-CFB1-469C-891A-00FA0AD8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461C181-E372-47E6-8838-E45CDAC1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DB64884-D8BB-4EF1-AC92-D153EBC5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3C092B0-CB6D-4EF9-95E2-32D47CC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29452EB-540C-458A-8E15-16A0FF62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3FD5A08-B901-4CD1-A5FF-73F34845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6194-62B7-4731-A7B7-AD0540E4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CF5F27D-401D-47A1-B9DC-9EF37C2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6C9A30B-9E50-4F5D-AE4E-76D89758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6AA2C68-F3A5-4ABC-AE67-32C73469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DF676D4-C525-41B7-B6D7-B2F62419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2E01AF4-D2FF-4910-AD66-372BD0CF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6C25D43-2F5A-4FEE-ABFB-13765D4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784765B-123B-4387-B236-1381F8F4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EEAF187-15D3-4482-9433-5D9C1721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27E06A6-483C-4EA4-97FD-B1B39451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51498B5-C7DF-4141-9F17-FC7CC35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41C-4A08-4BE5-BF07-0341149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4C38-2103-4618-98EE-DD340655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D86D10F-734E-4E13-B701-03B42C02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C754B21-C1DA-414E-BB6E-50E33BA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CDAE951-8FE1-41E5-A40D-380A9605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A74F32D-E3B1-4EAB-BFC2-EE0C045E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F5FFD54-8023-4799-8D67-7AB4CC9E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27BD498-E7C5-4624-9746-099934EB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F2760C7-9E15-4070-ACF9-BFFE819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5E32974-FFE2-4ADC-8FF4-4FEE8F4D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EB04795-7262-47D6-A06F-745DDE1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53079D7-6326-473C-ABBA-AC718C71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0433-4A9F-4D8D-81E2-692C70D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02CD855-797F-4117-A0BB-7A41FFD3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C0E5756-7D2A-493E-9C99-4CF19120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065062D-3324-4096-8B57-22669780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F8727F9-384F-4F9B-9225-5D97256C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9447F16-1078-474C-AA86-C0FB879A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D5BB7C2-D138-48BF-92DB-4AE20A4A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5FB984D-9476-4ABF-94DE-C9E23D71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FA21-1B02-4834-BE7B-59447CA7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E6835-6CCA-4D80-96D6-26B444AB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71763-C81D-4697-98DC-BA051608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9B4AB-DB61-4068-B7D7-EB580DCA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3E45C-CFA0-4B63-ABB1-55DDA135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A4581-905C-4DD3-8F09-E39382CF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0BB7-3013-4351-A541-622D1CE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0F40-E484-4E5C-BCE3-E79EDF75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B65-11C4-4800-85AB-9268EBB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B3F46-6245-427C-8CDD-2AB7514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026BF-D3E3-4A7E-B37E-D82F89F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B5BBC-AB9E-410D-B069-52081264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1C9FA-3045-46E3-9F52-75F07D2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9A59-7F5C-479D-B07A-9526D44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B29E1-CCFE-4DAB-8B6B-474E4791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5E68E-71B5-48D2-A624-82ACE036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7F9AA-FDC1-48CF-A828-13661203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9445D-D6AB-4C03-9204-FF429AB7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7FB3-CA08-49BF-A877-8A103002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E5D-1E09-4478-8200-E3A24245A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747C-E8E2-45B2-AD5A-C5528BFC64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E40A-CCFE-4497-927E-B3FE957905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EB00-58A5-48E1-9111-3F53C336E7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00B0-4156-42EA-9233-41140960C2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874-3D51-45A1-8230-976B2C8214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9142-6607-47F4-9FDB-3F4005D201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B600-B8DE-4FAC-969E-537FCCE428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320-4645-45E9-A786-40D4752987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9B3A-0FC3-4D08-A8EB-980B124A0E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941-9F8F-40F7-9E90-A401E6CDA6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DB69-D4FA-4268-BD78-30615516BA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474A-833B-4CEF-9078-052C34B7F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D217-9405-40B3-9735-03FE93A413A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F1E5-86A0-4FE0-B7C7-AFA10D62790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CC5-C0C9-4BD5-9BFF-162F66D723E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E070-F7C1-49B6-96D3-7B0A6FCC24A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721A-0DD7-479B-AC90-271F8BD8450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0170-B479-49CB-8273-05B05458A96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255A-8109-44CD-9D19-E5F0F9F42D9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063A-F0C8-42DA-B951-859313363D9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884D-36D6-42C4-ABC0-B24C0B9181E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91BD-A81E-45C1-84BB-1711E60BA18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B1B-6503-45F0-80DF-830FDA13F58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7331-2464-48A1-BBDF-457150AD861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ABC-32B5-4854-8B70-3D2FF2E3DB3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2473-70F7-4025-8797-B3247B73BEB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58B1-6685-43D5-8458-4489546A9C8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8012-2DC2-44FA-81FF-4A399430F93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6524-BE81-472B-9CF8-DA9F951B19A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90A5-BEA7-4514-9542-DEF300D1C1D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1548-E054-4F6B-BB2A-770718D5DB0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09A4-6D66-4166-970D-9256CF6F570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EB4B-7871-4D9F-B5D2-2163B3E2786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E5FD-0E6B-44A0-824B-5244280B955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BB81-CB4B-4795-91FC-BFA77607DCB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AD78-8B12-4063-A610-E093308DB5D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5662-EE71-44D9-B281-10CDCEDE8E3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8FB6-AE74-4A3B-824A-08E1F7D7497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43C4-D7B2-4AC9-9FAF-C5482E8279E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1D63-9EFF-447D-A9B7-EEC065CBC55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7905-F07A-4DD1-AA68-26BB3481627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34FC-E9A1-4BDD-B88F-4AD4F815B0F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90E4-32A4-47A2-8718-49DF24988CE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51A2-B359-439B-A359-1F4F547ED57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9F32-9602-4798-AB49-54596C27097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660C-D2CF-40A7-B6B1-93783D19EBD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F745-648C-49EF-B6DD-0D9AC42B7CB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194F-0BB6-49C6-B332-F0DFFA227D4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B92-F014-4CA8-88FC-19F220E034F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5BD1-8DBC-4F21-91D5-94974213F76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767F-7E94-483D-B14E-6C4FBBB7E25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7E36-50FA-4976-A3B7-BE2F314843F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E7A8-DD74-46B1-84CB-C71A6D6791A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5A85-744F-4BB0-B473-A206F325413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AFF0-C2A3-49BB-B5DF-232C48A1D8A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4ED4-7059-4598-874C-523429FFA18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6C50-B4EA-4011-8B61-B4E684011EE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2060-6C68-48F6-831D-2C912118DFE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65A0-324B-4E9C-AD83-2BA6210BB06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D4D-28A9-4897-96F2-A79DD849C54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48A-3AE6-44FE-84D9-94211C6B57F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42D-5B5A-4293-B3BD-9C18B1D1CB5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4E36-CD58-49E8-9A3C-ABB84C4137B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F559-D72B-46D6-A84D-8F1788A61C2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27AF-3505-4D0D-8AA5-11C9C41D8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D78-D208-402A-ADB0-51D9290F08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8AC8-3F1D-47DD-8D1C-F3CE5F4A83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6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4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4360" y="11736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想想猜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684360" y="1123920"/>
            <a:ext cx="77025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看下面的英语单词与它后面所接的句子，这些是用来写我们身边的一个重要的人 ，你猜到是谁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any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她赠予我成千上万的东西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Ol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 她正在慢慢衰老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ea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她为我留下的泪水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ear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她那颗纯净关爱的心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y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 她充满慈爱的双眼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Righ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 她始终是正确的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-O-T-H-E-R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THER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WordArt 4"/>
          <p:cNvSpPr txBox="1"/>
          <p:nvPr/>
        </p:nvSpPr>
        <p:spPr>
          <a:xfrm>
            <a:off x="6661080" y="3718080"/>
            <a:ext cx="15242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妈妈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27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7" descr="28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pic>
        <p:nvPicPr>
          <p:cNvPr id="2811" name="Picture 9" descr="23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2812" name="Picture 6" descr="15"/>
          <p:cNvPicPr/>
          <p:nvPr/>
        </p:nvPicPr>
        <p:blipFill>
          <a:blip r:embed="rId3"/>
          <a:stretch/>
        </p:blipFill>
        <p:spPr>
          <a:xfrm>
            <a:off x="3905280" y="3571920"/>
            <a:ext cx="5238720" cy="3286080"/>
          </a:xfrm>
          <a:prstGeom prst="rect">
            <a:avLst/>
          </a:prstGeom>
          <a:ln w="0">
            <a:noFill/>
          </a:ln>
        </p:spPr>
      </p:pic>
      <p:pic>
        <p:nvPicPr>
          <p:cNvPr id="2813" name="Picture 4" descr="31"/>
          <p:cNvPicPr/>
          <p:nvPr/>
        </p:nvPicPr>
        <p:blipFill>
          <a:blip r:embed="rId4"/>
          <a:stretch/>
        </p:blipFill>
        <p:spPr>
          <a:xfrm>
            <a:off x="4140360" y="0"/>
            <a:ext cx="304776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4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2815" name="Picture 4" descr="0"/>
          <p:cNvPicPr/>
          <p:nvPr/>
        </p:nvPicPr>
        <p:blipFill>
          <a:blip r:embed="rId2"/>
          <a:stretch/>
        </p:blipFill>
        <p:spPr>
          <a:xfrm rot="19758600">
            <a:off x="1042560" y="692280"/>
            <a:ext cx="3673440" cy="2768400"/>
          </a:xfrm>
          <a:prstGeom prst="rect">
            <a:avLst/>
          </a:prstGeom>
          <a:ln w="0">
            <a:noFill/>
          </a:ln>
        </p:spPr>
      </p:pic>
      <p:pic>
        <p:nvPicPr>
          <p:cNvPr id="2816" name="Picture 7" descr="9"/>
          <p:cNvPicPr/>
          <p:nvPr/>
        </p:nvPicPr>
        <p:blipFill>
          <a:blip r:embed="rId3"/>
          <a:stretch/>
        </p:blipFill>
        <p:spPr>
          <a:xfrm rot="1762800">
            <a:off x="5651280" y="40464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2817" name="Picture 8" descr="29"/>
          <p:cNvPicPr/>
          <p:nvPr/>
        </p:nvPicPr>
        <p:blipFill>
          <a:blip r:embed="rId4"/>
          <a:stretch/>
        </p:blipFill>
        <p:spPr>
          <a:xfrm>
            <a:off x="2484360" y="4221000"/>
            <a:ext cx="3797280" cy="23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10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8" name="Picture 5" descr="chatu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9" name="1.wav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28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5" descr="2009061259283581"/>
          <p:cNvPicPr/>
          <p:nvPr/>
        </p:nvPicPr>
        <p:blipFill>
          <a:blip r:embed="rId2"/>
          <a:stretch/>
        </p:blipFill>
        <p:spPr>
          <a:xfrm>
            <a:off x="395280" y="69228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2821" name="WordArt 6"/>
          <p:cNvSpPr txBox="1"/>
          <p:nvPr/>
        </p:nvSpPr>
        <p:spPr>
          <a:xfrm>
            <a:off x="1835280" y="476280"/>
            <a:ext cx="3168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后作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22" name="Text Box 7"/>
          <p:cNvSpPr/>
          <p:nvPr/>
        </p:nvSpPr>
        <p:spPr>
          <a:xfrm>
            <a:off x="468360" y="242100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、背熟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游子吟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、查找并熟悉其他与母爱有关的诗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、以制作卡片或文章的形式向母亲表达谢意与挚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学过本诗后，你有什么感想呢？听着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游子吟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这首歌，你又想对你的母亲说什么或做什么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824" name="Picture 5" descr="Mother003"/>
          <p:cNvPicPr/>
          <p:nvPr/>
        </p:nvPicPr>
        <p:blipFill>
          <a:blip r:embed="rId2"/>
          <a:stretch/>
        </p:blipFill>
        <p:spPr>
          <a:xfrm>
            <a:off x="468360" y="1989000"/>
            <a:ext cx="3070080" cy="2301840"/>
          </a:xfrm>
          <a:prstGeom prst="rect">
            <a:avLst/>
          </a:prstGeom>
          <a:ln w="0">
            <a:noFill/>
          </a:ln>
        </p:spPr>
      </p:pic>
      <p:pic>
        <p:nvPicPr>
          <p:cNvPr id="2825" name="Picture 6" descr="20101511452364"/>
          <p:cNvPicPr/>
          <p:nvPr/>
        </p:nvPicPr>
        <p:blipFill>
          <a:blip r:embed="rId3"/>
          <a:stretch/>
        </p:blipFill>
        <p:spPr>
          <a:xfrm>
            <a:off x="4500720" y="2060640"/>
            <a:ext cx="3528720" cy="2232000"/>
          </a:xfrm>
          <a:prstGeom prst="rect">
            <a:avLst/>
          </a:prstGeom>
          <a:ln w="0">
            <a:noFill/>
          </a:ln>
        </p:spPr>
      </p:pic>
      <p:pic>
        <p:nvPicPr>
          <p:cNvPr id="2826" name="Picture 7" descr="70c0b64c12ff14c0d62afc07"/>
          <p:cNvPicPr/>
          <p:nvPr/>
        </p:nvPicPr>
        <p:blipFill>
          <a:blip r:embed="rId4"/>
          <a:stretch/>
        </p:blipFill>
        <p:spPr>
          <a:xfrm>
            <a:off x="2556000" y="4292640"/>
            <a:ext cx="252072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1" name="Picture 5" descr="XC409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ff"/>
                </a:solidFill>
                <a:latin typeface="Arial"/>
                <a:ea typeface="华文新魏"/>
              </a:rPr>
              <a:t>古诗：</a:t>
            </a:r>
            <a:r>
              <a:rPr b="0" lang="en-US" sz="6600" spc="-1" strike="noStrike">
                <a:solidFill>
                  <a:srgbClr val="3399ff"/>
                </a:solidFill>
                <a:latin typeface="Arial"/>
                <a:ea typeface="华文新魏"/>
              </a:rPr>
              <a:t>《</a:t>
            </a:r>
            <a:r>
              <a:rPr b="0" lang="zh-CN" sz="6600" spc="-1" strike="noStrike">
                <a:solidFill>
                  <a:srgbClr val="3399ff"/>
                </a:solidFill>
                <a:latin typeface="Arial"/>
                <a:ea typeface="华文新魏"/>
              </a:rPr>
              <a:t>游子吟</a:t>
            </a:r>
            <a:r>
              <a:rPr b="0" lang="en-US" sz="6600" spc="-1" strike="noStrike">
                <a:solidFill>
                  <a:srgbClr val="3399ff"/>
                </a:solidFill>
                <a:latin typeface="Arial"/>
                <a:ea typeface="华文新魏"/>
              </a:rPr>
              <a:t>》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孟母三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从前孟子小的时候和母亲住在墓地旁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孟子就和邻居的小孩一起学着大人跪拜、哭嚎的样子，玩起办理丧事的游戏。孟子的妈妈看到了，就皱起眉头：“不行！我不能让我的孩子住在这里了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301680" y="3859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250920" y="1557000"/>
            <a:ext cx="86407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孟子的妈妈就带着孟子搬到市集，靠近杀猪宰羊的地方去住。到了市集，孟子又和邻居的小孩，学起商人做生意和屠宰猪羊的事。孟子的妈妈知道了，又皱皱眉头：“这个地方也不适合我的孩子居住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于是，他们又搬家了。这一次，他们搬到了学校附近。每月夏历初一这个时候，官员到文庙，行礼跪拜，互相礼貌相待，孟子见了之后都学习记住。孟子的妈妈很满意地点着头说：“这才是我儿子应该住的地方呀！”于是居住在了这个地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82e3d"/>
                </a:solidFill>
                <a:latin typeface="Arial"/>
              </a:rPr>
              <a:t>游 子 吟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唐（孟郊）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慈母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手中线，游子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身上衣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临行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密密缝，意恐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迟迟归。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谁言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寸草心，报得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三春晖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304920" y="1699920"/>
            <a:ext cx="8540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游子：出门远游的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寸草：比喻非常微小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晖：阳光；三春晖，形容母爱如春天和煦的阳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翻译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慈祥的母亲手里把着针线。 为将远游的孩子赶制新衣。 临行她忙着缝得严严实实， 是耽心孩子此去难得回归。 谁能说象小草的那点孝心， 可报答春晖般的慈母恩惠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5" name="Picture 13" descr="XC409008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06" name="02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07" name="Picture 2" descr="chatu2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08" name="Picture 11" descr="XC409005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09" name="Picture 12" descr="XC409006"/>
          <p:cNvPicPr/>
          <p:nvPr/>
        </p:nvPicPr>
        <p:blipFill>
          <a:blip r:embed="rId6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6:48:42Z</dcterms:created>
  <dc:creator/>
  <dc:description/>
  <dc:language>en-US</dc:language>
  <cp:lastModifiedBy>admin</cp:lastModifiedBy>
  <dcterms:modified xsi:type="dcterms:W3CDTF">2019-06-03T04:10:22Z</dcterms:modified>
  <cp:revision>19</cp:revision>
  <dc:subject/>
  <dc:title>古诗：《游子吟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