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8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2D6-B49C-4683-B81F-7FFEE21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F6E-49A2-44EA-A0DF-C7D878E7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A40-6CB6-4799-AD59-AA6C49D5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245-B5E8-4804-9D1B-C1937BF9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331-42DC-4A12-9C50-DE47EA0C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068-BCFD-43A6-AB9A-81C00E55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BB5-35B6-4519-96C6-B64E736A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695-41DD-43B8-9FE8-DAEEA21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0D4-35D0-46B7-BD25-42E192F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68E-662B-4209-9042-091B9C38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CCA-C8BC-40C5-8152-E24A2E4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A2B-607F-4306-A24B-C3E1BFC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B28C-C5E3-42B7-BE0C-A8B991086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8.xml"/><Relationship Id="rId5" Type="http://schemas.openxmlformats.org/officeDocument/2006/relationships/slide" Target="slide16.xml"/><Relationship Id="rId6" Type="http://schemas.openxmlformats.org/officeDocument/2006/relationships/image" Target="../media/image5.jpeg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6.xml"/><Relationship Id="rId18" Type="http://schemas.openxmlformats.org/officeDocument/2006/relationships/image" Target="../media/image10.gif"/><Relationship Id="rId1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-311040"/>
            <a:ext cx="9374400" cy="7385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4760" y="793800"/>
            <a:ext cx="590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1484280"/>
            <a:ext cx="4030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游子吟</a:t>
            </a:r>
            <a:endParaRPr b="0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532720" y="6497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2407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82160" cy="691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33360"/>
            <a:ext cx="1971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" y="1667520"/>
            <a:ext cx="211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拼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4642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部首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240" y="3035520"/>
            <a:ext cx="30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基本字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627920"/>
            <a:ext cx="310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f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2421000"/>
            <a:ext cx="22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49280" y="43232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用针线连缀：～纫。～缀。～制。～补。～连。裁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16720" y="549360"/>
            <a:ext cx="128916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56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1303200" cy="1303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177156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拼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63520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部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8880" y="3548880"/>
            <a:ext cx="35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基本字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1771560"/>
            <a:ext cx="26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kǒ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2720" y="2575080"/>
            <a:ext cx="26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9440" y="473076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害怕，畏惧：恐惧。恐怖。恐慌。惊恐。有恃无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74200" cy="6886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8640" y="1412640"/>
            <a:ext cx="9010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1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、游子：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  <a:ea typeface="新宋体"/>
              </a:rPr>
              <a:t>出门远游的人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。 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2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、吟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吟诵。吟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: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诗歌的一种名称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3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、临：</a:t>
            </a:r>
            <a:r>
              <a:rPr b="0" lang="zh-CN" sz="4400" spc="-1" strike="noStrike">
                <a:solidFill>
                  <a:srgbClr val="990099"/>
                </a:solidFill>
                <a:latin typeface="Arial"/>
                <a:ea typeface="新宋体"/>
              </a:rPr>
              <a:t>将要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。 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4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、意恐：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新宋体"/>
              </a:rPr>
              <a:t>担心。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5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新宋体"/>
              </a:rPr>
              <a:t>、归：</a:t>
            </a:r>
            <a:r>
              <a:rPr b="0" lang="zh-CN" sz="4400" spc="-1" strike="noStrike">
                <a:solidFill>
                  <a:srgbClr val="777777"/>
                </a:solidFill>
                <a:latin typeface="Arial"/>
                <a:ea typeface="新宋体"/>
              </a:rPr>
              <a:t>回来，回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4046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基本注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8000" y="-92160"/>
            <a:ext cx="9397800" cy="6905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23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拓展注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 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63520" y="2057400"/>
            <a:ext cx="4572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9160" y="1486080"/>
            <a:ext cx="4572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101520" y="1557360"/>
            <a:ext cx="251460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寸草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177840" y="1125360"/>
            <a:ext cx="8912160" cy="4824720"/>
          </a:xfrm>
          <a:prstGeom prst="ellipse">
            <a:avLst/>
          </a:prstGeom>
          <a:solidFill>
            <a:srgbClr val="bbe0e3">
              <a:alpha val="18000"/>
            </a:srgbClr>
          </a:solidFill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557360"/>
            <a:ext cx="56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比喻非常微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5200" y="2781360"/>
            <a:ext cx="206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2565360"/>
            <a:ext cx="68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指春天的孟春、仲春、季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718080"/>
            <a:ext cx="23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371808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3645000"/>
            <a:ext cx="720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阳光；</a:t>
            </a:r>
            <a:r>
              <a:rPr b="1" i="1" lang="zh-CN" sz="3600" spc="-1" strike="noStrike">
                <a:solidFill>
                  <a:srgbClr val="99cc00"/>
                </a:solidFill>
                <a:latin typeface="Arial"/>
              </a:rPr>
              <a:t>形容母爱如春天和煦的阳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BatangChe"/>
                <a:ea typeface="Meiryo UI"/>
              </a:rPr>
              <a:t>意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080" y="1197000"/>
            <a:ext cx="41749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cí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手中线，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慈祥的母亲手里针线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3280" y="1414440"/>
            <a:ext cx="4469040" cy="5402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2997360"/>
            <a:ext cx="5472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游子身上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为远行的孩子缝制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60" y="422100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 临行密密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.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临行她忙着缝得严严实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5880" y="32464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101520" y="-20520"/>
            <a:ext cx="9210600" cy="69069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意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2720" y="1212840"/>
            <a:ext cx="4896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(kǒng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迟迟归。                                           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黑体"/>
              </a:rPr>
              <a:t>是耽心孩子此去难得回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852640"/>
            <a:ext cx="573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谁言寸草心，                                   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黑体"/>
              </a:rPr>
              <a:t>谁能说象小草的那点孝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9000" y="4686480"/>
            <a:ext cx="5553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 报得三春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(hu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                        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黑体"/>
              </a:rPr>
              <a:t>报答春晖般的慈母恩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165800" y="333360"/>
            <a:ext cx="1467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0" y="47520"/>
            <a:ext cx="9252000" cy="6767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-20880"/>
            <a:ext cx="8867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名句赏析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谁言寸草心，报得三春晖？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715480"/>
            <a:ext cx="842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孟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才中进士，当上溧阳县尉，这样一个小官，结束了长年的漂泊流离生活，便将母亲接来住。这首诗就写于此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以一个极为平常而又十分典型的生活细节揭示了母爱的伟大：老母牵针引线为临行的儿子缝补衣裳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担心儿子长时间不回来，就把针脚缝得非常细密，希望它能结实一点，更结实一点。慈母对儿子的笃爱之情，就这样一针一线地缝进衣服中，随着儿子千里万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爱是不期望报答，也是儿女所报答不完的，因为它像三春的阳光对小草的哺育，是无穷无尽的。诗歌画面简洁，语言朴素，而内涵深厚，动人心弦，所以能脍炙人口，千古流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148360" y="44280"/>
            <a:ext cx="4038480" cy="3554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619280" y="-81000"/>
            <a:ext cx="4321080" cy="18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母爱伟大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6" name=""/>
          <p:cNvSpPr/>
          <p:nvPr/>
        </p:nvSpPr>
        <p:spPr>
          <a:xfrm flipH="1" rot="20520000">
            <a:off x="726840" y="281160"/>
            <a:ext cx="8842320" cy="7691400"/>
          </a:xfrm>
          <a:custGeom>
            <a:avLst/>
            <a:gdLst>
              <a:gd name="textAreaLeft" fmla="*/ 2078280 w 8842320"/>
              <a:gd name="textAreaRight" fmla="*/ 6758640 w 8842320"/>
              <a:gd name="textAreaTop" fmla="*/ 904320 h 7691400"/>
              <a:gd name="textAreaBottom" fmla="*/ 4824360 h 7691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>
              <a:alpha val="13000"/>
            </a:srgbClr>
          </a:solidFill>
          <a:ln w="284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820000">
            <a:off x="360" y="1412640"/>
            <a:ext cx="70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100000">
            <a:off x="236160" y="2204640"/>
            <a:ext cx="591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820000">
            <a:off x="113760" y="422316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</a:t>
            </a:r>
            <a:r>
              <a:rPr b="0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这是一首母爱的颂歌。诗中亲切          真淳地吟颂了伟大的人性美——母爱。开头两句，所写的人是母与子，所写的物是线与衣，然而却点出了母子相依为命的骨肉之情。中间两句集中写慈母的动作和意态，表现了母亲对儿子的深笃之情。虽无言语，也无泪水，却充溢着爱的纯情，扣人心弦，催人泪下。最后两句是前四句的升华，以通俗形象   的比喻，寄托赤子炽烈的情怀，对于春日般的母爱。小草似的儿女，怎能报答于万一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Arial"/>
              </a:rPr>
              <a:t>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920" y="117360"/>
            <a:ext cx="1422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81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8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74600" y="-236520"/>
            <a:ext cx="9745560" cy="7307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765440" y="-523800"/>
            <a:ext cx="489564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隶书"/>
              </a:rPr>
              <a:t>找朋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06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í mǔ shǒu zhōng xià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925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n xíng mì mì f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7180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ào dé sān chūn hu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5100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óu zǐ shēn shàng y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530208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ì kǒng chí chí qu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623736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uí yán cùn cǎo xīn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631044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慈 母 手 中 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2852640"/>
            <a:ext cx="309564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报 得 三 春 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37180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临 行 密 密 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45100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意 恐 迟 迟 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53020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游 子 身 上 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2205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谁 言 寸 草 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2349360"/>
            <a:ext cx="1871640" cy="450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213000"/>
            <a:ext cx="23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92360" y="2997360"/>
            <a:ext cx="2087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941720"/>
            <a:ext cx="23032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03640" y="4653000"/>
            <a:ext cx="2663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2204640"/>
            <a:ext cx="180036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308720" y="190440"/>
            <a:ext cx="1511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165240"/>
            <a:ext cx="9180360" cy="6836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想跟我一起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yóu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____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泳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2709360"/>
            <a:ext cx="82915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妈妈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fé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（　　）衣裳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14860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ùn(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光阴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ùn (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0640" y="2951640"/>
            <a:ext cx="827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老奶奶是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í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　　）祥的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7628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3440" y="18792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155628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1483920"/>
            <a:ext cx="17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8720" y="263592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61080" y="400428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88800" y="-236520"/>
            <a:ext cx="10147320" cy="709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38800" y="909720"/>
            <a:ext cx="101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64240" y="-20520"/>
            <a:ext cx="10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生字，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20240" y="1197000"/>
            <a:ext cx="1010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5480" y="695160"/>
            <a:ext cx="1010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拓展,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6520" y="692280"/>
            <a:ext cx="45468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91160" y="1376280"/>
            <a:ext cx="4572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021440" y="4581360"/>
            <a:ext cx="1727280" cy="151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40360" y="333360"/>
            <a:ext cx="10285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注解，意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1080" y="46080"/>
            <a:ext cx="8928000" cy="676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617880" y="1271520"/>
            <a:ext cx="10947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5800" y="1628640"/>
            <a:ext cx="85068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文背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16240" y="1413000"/>
            <a:ext cx="8506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。帮妈妈做一件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360" y="47520"/>
            <a:ext cx="5545440" cy="6767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7080" y="32295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57320" y="2108160"/>
            <a:ext cx="797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-133920"/>
            <a:ext cx="7452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í mǔ shǒu zhōng xiàn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慈 母 手 中 线 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yóu zǐ shēn shàng yī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游 子 身 上 衣 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lín xíng mì mì fé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临 行 密 密 缝 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yì kǒng chí chí quī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意 恐 迟 迟 归 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huí yán cùn cǎo xīn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谁 言 寸 草 心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bào dé sān chūn huī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报 得 三 春 晖 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71400" y="1266840"/>
            <a:ext cx="118584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游子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82080" y="3789360"/>
            <a:ext cx="1155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4941720"/>
            <a:ext cx="16560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3635280" cy="707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08360" y="1052640"/>
            <a:ext cx="52563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孟郊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1-8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唐代诗人。字东野，湖州武康（今浙江德清）人。少年时居蒿山，与韩愈是好朋友。一生穷困，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时才中进士。孟郊写诗以寒苦之音著称，追求奇特的构思和瘦硬的语言风格，多表现下层民众和自己的贫寒生活及遭遇，与贾岛齐名，有“郊寒岛瘦”之称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0"/>
            <a:ext cx="32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cc00"/>
                </a:solidFill>
                <a:uFillTx/>
                <a:latin typeface="Arial"/>
                <a:ea typeface="幼圆"/>
              </a:rPr>
              <a:t>      </a:t>
            </a:r>
            <a:r>
              <a:rPr b="1" lang="zh-CN" sz="4000" spc="-1" strike="noStrike" u="sng">
                <a:solidFill>
                  <a:srgbClr val="99cc00"/>
                </a:solidFill>
                <a:uFillTx/>
                <a:latin typeface="Arial"/>
                <a:ea typeface="幼圆"/>
              </a:rPr>
              <a:t>作者背景</a:t>
            </a:r>
            <a:r>
              <a:rPr b="0" lang="zh-CN" sz="4000" spc="-1" strike="noStrike" u="sng">
                <a:solidFill>
                  <a:srgbClr val="99cc00"/>
                </a:solidFill>
                <a:uFillTx/>
                <a:latin typeface="Arial"/>
                <a:ea typeface="幼圆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-88920"/>
            <a:ext cx="9144000" cy="7477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生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1.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慈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 action="ppaction://hlinksldjump"/>
              </a:rPr>
              <a:t>(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 action="ppaction://hlinksldjump"/>
              </a:rPr>
              <a:t>cí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6" action="ppaction://hlinksldjump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7" action="ppaction://hlinksldjump"/>
              </a:rPr>
              <a:t>2.游(yóu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8" action="ppaction://hlinksldjump"/>
              </a:rPr>
              <a:t>3.缝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9" action="ppaction://hlinksldjump"/>
              </a:rPr>
              <a:t>(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0" action="ppaction://hlinksldjump"/>
              </a:rPr>
              <a:t>féng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1" action="ppaction://hlinksldjump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5080" y="1486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2" action="ppaction://hlinksldjump"/>
              </a:rPr>
              <a:t>4.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3" action="ppaction://hlinksldjump"/>
              </a:rPr>
              <a:t>恐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4" action="ppaction://hlinksldjump"/>
              </a:rPr>
              <a:t>(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5" action="ppaction://hlinksldjump"/>
              </a:rPr>
              <a:t>kǒng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6" action="ppaction://hlinksldjump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7" action="ppaction://hlinksldjump"/>
              </a:rPr>
              <a:t>5.寸(cù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826920" y="-20520"/>
            <a:ext cx="2075040" cy="172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03640" y="4653000"/>
            <a:ext cx="33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6.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晖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(huī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76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021440" y="476280"/>
            <a:ext cx="1771560" cy="1839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960" y="1572120"/>
            <a:ext cx="24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拼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509560"/>
            <a:ext cx="260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部首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285000"/>
            <a:ext cx="40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基本字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155628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ù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98720" y="2531160"/>
            <a:ext cx="29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00464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度单位。十分等于一寸，十寸等于一尺。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形容极短极小：鼠目～光。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240" y="-20520"/>
            <a:ext cx="9172800" cy="680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77080" y="117360"/>
            <a:ext cx="2124000" cy="2517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1494360"/>
            <a:ext cx="28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拼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6800" y="2459520"/>
            <a:ext cx="22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部首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720" y="3285000"/>
            <a:ext cx="31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基本字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9760" y="1543680"/>
            <a:ext cx="28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hu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63880" y="2513160"/>
            <a:ext cx="243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74760" y="4287600"/>
            <a:ext cx="76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阳光，亦泛指光辉：～映。春～。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ā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～。斜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476280"/>
            <a:ext cx="1150920" cy="115236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01520" y="-236520"/>
            <a:ext cx="9391680" cy="706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765000"/>
            <a:ext cx="115236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476280"/>
            <a:ext cx="122580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360" y="549360"/>
            <a:ext cx="1008000" cy="86364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404640"/>
            <a:ext cx="1081080" cy="108144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720" y="909720"/>
            <a:ext cx="1368360" cy="129528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61080" y="40464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28640" y="174456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拼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412280"/>
            <a:ext cx="31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098880"/>
            <a:ext cx="32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基本字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4210560"/>
            <a:ext cx="862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仁爱，和善：～爱。～善。～悲。～祥。仁～。～和。～眉善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特指“慈母”，多用于对人称自己的母亲：家～。～闱。～颜。～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父母的孝敬奉养：孝子～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275560"/>
            <a:ext cx="279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部首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2347920"/>
            <a:ext cx="31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" y="46080"/>
            <a:ext cx="9250560" cy="681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781440" y="190440"/>
            <a:ext cx="116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15451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拼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484280"/>
            <a:ext cx="18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ó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275560"/>
            <a:ext cx="182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部首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34432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140640"/>
            <a:ext cx="25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基本字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4027320"/>
            <a:ext cx="77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或动物在水里行动：～泳。～水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流的一段：上～。中～。下～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往，来往：交～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容地行走：周～。～历。～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72360" y="54936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9:46:42Z</dcterms:created>
  <dc:creator>Administrator</dc:creator>
  <dc:description/>
  <cp:keywords/>
  <dc:language>en-US</dc:language>
  <cp:lastModifiedBy>微软用户</cp:lastModifiedBy>
  <cp:lastPrinted>1899-12-30T00:00:00Z</cp:lastPrinted>
  <dcterms:modified xsi:type="dcterms:W3CDTF">2012-02-23T02:54:1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