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2C3-4DD4-4B8C-926D-65B000C8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D36-B6AD-4F16-B7FD-FEE761CA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89B-F302-44D3-A3E9-0A633431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07E-0D48-48B9-AA59-B20A544D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98B-F4EF-4BB6-82E0-7D294FE4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FBC-3ED7-4AEC-BB6B-C00B1392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1D8-C305-44A3-A6C2-C5377072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A66-9919-49F9-85C3-208456DC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191-CAE4-4751-85DB-38987039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939-2F3D-423F-A5B9-D769AF4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3AD-9C62-40DF-B6B8-4BECB837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87F-736A-4D7A-B321-7A7E9FD9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28A4-2FC8-48A5-BEB4-421348BAE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XC409006"/>
          <p:cNvPicPr/>
          <p:nvPr/>
        </p:nvPicPr>
        <p:blipFill>
          <a:blip r:embed="rId1"/>
          <a:stretch/>
        </p:blipFill>
        <p:spPr>
          <a:xfrm>
            <a:off x="-219240" y="-255600"/>
            <a:ext cx="9582480" cy="736920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0"/>
          <p:cNvGrpSpPr/>
          <p:nvPr/>
        </p:nvGrpSpPr>
        <p:grpSpPr>
          <a:xfrm>
            <a:off x="6127200" y="500040"/>
            <a:ext cx="1730880" cy="3857760"/>
            <a:chOff x="6127200" y="500040"/>
            <a:chExt cx="1730880" cy="3857760"/>
          </a:xfrm>
        </p:grpSpPr>
        <p:pic>
          <p:nvPicPr>
            <p:cNvPr id="43" name="图片 7" descr="6副本.gif"/>
            <p:cNvPicPr/>
            <p:nvPr/>
          </p:nvPicPr>
          <p:blipFill>
            <a:blip r:embed="rId2"/>
            <a:srcRect l="0" t="0" r="0" b="44333"/>
            <a:stretch/>
          </p:blipFill>
          <p:spPr>
            <a:xfrm>
              <a:off x="6572160" y="500040"/>
              <a:ext cx="12859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9"/>
            <p:cNvSpPr/>
            <p:nvPr/>
          </p:nvSpPr>
          <p:spPr>
            <a:xfrm>
              <a:off x="6127200" y="1500120"/>
              <a:ext cx="15210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游子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TextBox 11"/>
          <p:cNvSpPr/>
          <p:nvPr/>
        </p:nvSpPr>
        <p:spPr>
          <a:xfrm>
            <a:off x="5582160" y="3286080"/>
            <a:ext cx="667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XC409006"/>
          <p:cNvPicPr/>
          <p:nvPr/>
        </p:nvPicPr>
        <p:blipFill>
          <a:blip r:embed="rId1"/>
          <a:stretch/>
        </p:blipFill>
        <p:spPr>
          <a:xfrm>
            <a:off x="-219240" y="-255600"/>
            <a:ext cx="9582480" cy="736920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16"/>
          <p:cNvGrpSpPr/>
          <p:nvPr/>
        </p:nvGrpSpPr>
        <p:grpSpPr>
          <a:xfrm>
            <a:off x="6379920" y="571680"/>
            <a:ext cx="1478160" cy="4714560"/>
            <a:chOff x="6379920" y="571680"/>
            <a:chExt cx="1478160" cy="4714560"/>
          </a:xfrm>
        </p:grpSpPr>
        <p:pic>
          <p:nvPicPr>
            <p:cNvPr id="48" name="图片 6" descr="6副本.gif"/>
            <p:cNvPicPr/>
            <p:nvPr/>
          </p:nvPicPr>
          <p:blipFill>
            <a:blip r:embed="rId2"/>
            <a:srcRect l="0" t="0" r="0" b="44333"/>
            <a:stretch/>
          </p:blipFill>
          <p:spPr>
            <a:xfrm>
              <a:off x="6572160" y="571680"/>
              <a:ext cx="1285920" cy="47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7"/>
            <p:cNvSpPr/>
            <p:nvPr/>
          </p:nvSpPr>
          <p:spPr>
            <a:xfrm>
              <a:off x="6379920" y="1428840"/>
              <a:ext cx="115524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知诗人，解诗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组合 14"/>
          <p:cNvGrpSpPr/>
          <p:nvPr/>
        </p:nvGrpSpPr>
        <p:grpSpPr>
          <a:xfrm>
            <a:off x="3714840" y="571680"/>
            <a:ext cx="1285920" cy="4714560"/>
            <a:chOff x="3714840" y="571680"/>
            <a:chExt cx="1285920" cy="4714560"/>
          </a:xfrm>
        </p:grpSpPr>
        <p:pic>
          <p:nvPicPr>
            <p:cNvPr id="51" name="图片 9" descr="6副本.gif"/>
            <p:cNvPicPr/>
            <p:nvPr/>
          </p:nvPicPr>
          <p:blipFill>
            <a:blip r:embed="rId3"/>
            <a:srcRect l="0" t="0" r="0" b="44333"/>
            <a:stretch/>
          </p:blipFill>
          <p:spPr>
            <a:xfrm>
              <a:off x="3714840" y="571680"/>
              <a:ext cx="1285920" cy="47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矩形 10"/>
            <p:cNvSpPr/>
            <p:nvPr/>
          </p:nvSpPr>
          <p:spPr>
            <a:xfrm>
              <a:off x="4010040" y="1006560"/>
              <a:ext cx="667800" cy="39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诵诗文，悟诗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组合 13"/>
          <p:cNvGrpSpPr/>
          <p:nvPr/>
        </p:nvGrpSpPr>
        <p:grpSpPr>
          <a:xfrm>
            <a:off x="5143680" y="571680"/>
            <a:ext cx="1285560" cy="4714560"/>
            <a:chOff x="5143680" y="571680"/>
            <a:chExt cx="1285560" cy="4714560"/>
          </a:xfrm>
        </p:grpSpPr>
        <p:pic>
          <p:nvPicPr>
            <p:cNvPr id="54" name="图片 11" descr="6副本.gif"/>
            <p:cNvPicPr/>
            <p:nvPr/>
          </p:nvPicPr>
          <p:blipFill>
            <a:blip r:embed="rId4"/>
            <a:srcRect l="0" t="0" r="0" b="44333"/>
            <a:stretch/>
          </p:blipFill>
          <p:spPr>
            <a:xfrm>
              <a:off x="5143680" y="571680"/>
              <a:ext cx="1285560" cy="47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矩形 12"/>
            <p:cNvSpPr/>
            <p:nvPr/>
          </p:nvSpPr>
          <p:spPr>
            <a:xfrm>
              <a:off x="5438160" y="1077840"/>
              <a:ext cx="667800" cy="39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读诗句，明诗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XC409006"/>
          <p:cNvPicPr/>
          <p:nvPr/>
        </p:nvPicPr>
        <p:blipFill>
          <a:blip r:embed="rId1"/>
          <a:stretch/>
        </p:blipFill>
        <p:spPr>
          <a:xfrm>
            <a:off x="-219240" y="-255600"/>
            <a:ext cx="9582480" cy="7369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000240" y="1000080"/>
            <a:ext cx="55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孟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唐代诗人，汉族。现存诗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首，以短篇的五言古诗最多，代表作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游子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有“诗囚”之称，又与贾岛齐名，人称“郊寒岛瘦”。元和九年，在阌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今河南灵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病去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游子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首母爱的颂歌。诗中亲切真淳地吟颂了伟大的人性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母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http://imgsrc.baidu.com/baike/abpic/item/8cf0d5132a3d2113dd5401be.jpg"/>
          <p:cNvPicPr/>
          <p:nvPr/>
        </p:nvPicPr>
        <p:blipFill>
          <a:blip r:embed="rId2"/>
          <a:stretch/>
        </p:blipFill>
        <p:spPr>
          <a:xfrm>
            <a:off x="785880" y="500040"/>
            <a:ext cx="1861920" cy="235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Administrator\Local Settings\Temporary Internet Files\Content.IE5\3LO6TN8R\MC900433049[1].jpg"/>
          <p:cNvPicPr/>
          <p:nvPr/>
        </p:nvPicPr>
        <p:blipFill>
          <a:blip r:embed="rId3"/>
          <a:stretch/>
        </p:blipFill>
        <p:spPr>
          <a:xfrm>
            <a:off x="8115480" y="50004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D:\游子吟\XC409008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数据库\六年级\第五单元\15.古诗两首\chatu2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D:\游子吟\XC409005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D:\游子吟\XC409006.jpg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XC409006"/>
          <p:cNvPicPr/>
          <p:nvPr/>
        </p:nvPicPr>
        <p:blipFill>
          <a:blip r:embed="rId1"/>
          <a:stretch/>
        </p:blipFill>
        <p:spPr>
          <a:xfrm>
            <a:off x="-219240" y="-255600"/>
            <a:ext cx="9582480" cy="7369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1832040" y="1143000"/>
            <a:ext cx="219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华文楷体"/>
                <a:ea typeface="华文楷体"/>
              </a:rPr>
              <a:t>慈母手中</a:t>
            </a:r>
            <a:r>
              <a:rPr b="1" lang="zh-CN" sz="4400" spc="-1" strike="noStrike">
                <a:solidFill>
                  <a:srgbClr val="000099"/>
                </a:solidFill>
                <a:latin typeface="华文楷体"/>
                <a:ea typeface="华文楷体"/>
              </a:rPr>
              <a:t>线</a:t>
            </a:r>
            <a:r>
              <a:rPr b="1" lang="zh-TW" sz="4400" spc="-1" strike="noStrike">
                <a:solidFill>
                  <a:srgbClr val="000099"/>
                </a:solidFill>
                <a:latin typeface="华文楷体"/>
                <a:ea typeface="华文楷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748480" y="1143000"/>
            <a:ext cx="78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楷体"/>
                <a:ea typeface="华文楷体"/>
              </a:rPr>
              <a:t>游</a:t>
            </a:r>
            <a:r>
              <a:rPr b="1" lang="zh-TW" sz="4400" spc="-1" strike="noStrike">
                <a:solidFill>
                  <a:srgbClr val="000099"/>
                </a:solidFill>
                <a:latin typeface="华文楷体"/>
                <a:ea typeface="华文楷体"/>
              </a:rPr>
              <a:t>子身上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00040" y="2357280"/>
            <a:ext cx="8305920" cy="703440"/>
          </a:xfrm>
          <a:prstGeom prst="rect">
            <a:avLst/>
          </a:prstGeom>
          <a:solidFill>
            <a:srgbClr val="f2f2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慈母用手中的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针线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做成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游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身上所穿的衣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XC409006"/>
          <p:cNvPicPr/>
          <p:nvPr/>
        </p:nvPicPr>
        <p:blipFill>
          <a:blip r:embed="rId1"/>
          <a:stretch/>
        </p:blipFill>
        <p:spPr>
          <a:xfrm>
            <a:off x="-219240" y="-255600"/>
            <a:ext cx="9582480" cy="7369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903320" y="1071720"/>
            <a:ext cx="219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临</a:t>
            </a:r>
            <a:r>
              <a:rPr b="1" lang="zh-TW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行密密</a:t>
            </a: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缝</a:t>
            </a:r>
            <a:r>
              <a:rPr b="1" lang="zh-TW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86160" y="1143000"/>
            <a:ext cx="33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意恐</a:t>
            </a: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迟迟归</a:t>
            </a:r>
            <a:r>
              <a:rPr b="1" lang="zh-TW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09480" y="2209680"/>
            <a:ext cx="7963200" cy="1922400"/>
          </a:xfrm>
          <a:prstGeom prst="rect">
            <a:avLst/>
          </a:prstGeom>
          <a:solidFill>
            <a:srgbClr val="d9d9d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女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出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门远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行的時候，母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亲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便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一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针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线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细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心又密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实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缝制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衣裳，唯恐子女久久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法回家，衣服破了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替他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缝补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XC409006"/>
          <p:cNvPicPr/>
          <p:nvPr/>
        </p:nvPicPr>
        <p:blipFill>
          <a:blip r:embed="rId1"/>
          <a:stretch/>
        </p:blipFill>
        <p:spPr>
          <a:xfrm>
            <a:off x="-219240" y="-255600"/>
            <a:ext cx="9582480" cy="736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055240" y="1285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华文楷体"/>
                <a:ea typeface="华文楷体"/>
              </a:rPr>
              <a:t>谁</a:t>
            </a:r>
            <a:r>
              <a:rPr b="1" lang="zh-TW" sz="4000" spc="-1" strike="noStrike">
                <a:solidFill>
                  <a:srgbClr val="ff9900"/>
                </a:solidFill>
                <a:latin typeface="华文楷体"/>
                <a:ea typeface="华文楷体"/>
              </a:rPr>
              <a:t>言寸草心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967640" y="123840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华文楷体"/>
                <a:ea typeface="华文楷体"/>
              </a:rPr>
              <a:t>报</a:t>
            </a:r>
            <a:r>
              <a:rPr b="1" lang="zh-TW" sz="4000" spc="-1" strike="noStrike">
                <a:solidFill>
                  <a:srgbClr val="ff9900"/>
                </a:solidFill>
                <a:latin typeface="华文楷体"/>
                <a:ea typeface="华文楷体"/>
              </a:rPr>
              <a:t>得三春</a:t>
            </a:r>
            <a:r>
              <a:rPr b="1" lang="zh-CN" sz="4000" spc="-1" strike="noStrike">
                <a:solidFill>
                  <a:srgbClr val="ff9900"/>
                </a:solidFill>
                <a:latin typeface="华文楷体"/>
                <a:ea typeface="华文楷体"/>
              </a:rPr>
              <a:t>晖</a:t>
            </a:r>
            <a:r>
              <a:rPr b="1" lang="en-US" sz="4000" spc="-1" strike="noStrike">
                <a:solidFill>
                  <a:srgbClr val="ff9900"/>
                </a:solidFill>
                <a:latin typeface="华文楷体"/>
                <a:ea typeface="华文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09480" y="2362320"/>
            <a:ext cx="7963200" cy="1312920"/>
          </a:xfrm>
          <a:prstGeom prst="rect">
            <a:avLst/>
          </a:prstGeom>
          <a:solidFill>
            <a:srgbClr val="d9d9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谁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說子女那份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细致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得像小草一般的孝心，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得了慈母像春天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阳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光般溫暖、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</a:t>
            </a:r>
            <a:r>
              <a:rPr b="1" lang="zh-TW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博的深恩呢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:\Documents and Settings\Administrator\Local Settings\Temporary Internet Files\Content.IE5\3LO6TN8R\MC900433049[1].jpg"/>
          <p:cNvPicPr/>
          <p:nvPr/>
        </p:nvPicPr>
        <p:blipFill>
          <a:blip r:embed="rId2"/>
          <a:stretch/>
        </p:blipFill>
        <p:spPr>
          <a:xfrm>
            <a:off x="8115480" y="50004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内容占位符 4" descr="01000000000000119093144011875.jpg"/>
          <p:cNvPicPr/>
          <p:nvPr/>
        </p:nvPicPr>
        <p:blipFill>
          <a:blip r:embed="rId1"/>
          <a:stretch/>
        </p:blipFill>
        <p:spPr>
          <a:xfrm>
            <a:off x="1000080" y="142920"/>
            <a:ext cx="7286760" cy="6576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D:\数据库\六年级\第五单元\15.古诗两首\chat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1.wav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Administrator\Local Settings\Temporary Internet Files\Content.IE5\3LO6TN8R\MC900433049[1].jpg"/>
          <p:cNvPicPr/>
          <p:nvPr/>
        </p:nvPicPr>
        <p:blipFill>
          <a:blip r:embed="rId3"/>
          <a:stretch/>
        </p:blipFill>
        <p:spPr>
          <a:xfrm>
            <a:off x="8115480" y="50004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6:48:42Z</dcterms:created>
  <dc:creator/>
  <dc:description/>
  <dc:language>en-US</dc:language>
  <cp:lastModifiedBy>微软用户</cp:lastModifiedBy>
  <dcterms:modified xsi:type="dcterms:W3CDTF">2016-11-14T15:03:39Z</dcterms:modified>
  <cp:revision>22</cp:revision>
  <dc:subject/>
  <dc:title>古诗：《游子吟》</dc:title>
</cp:coreProperties>
</file>