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3.gif" ContentType="image/gif"/>
  <Override PartName="/ppt/media/image17.jpeg" ContentType="image/jpeg"/>
  <Override PartName="/ppt/media/image4.jpeg" ContentType="image/jpeg"/>
  <Override PartName="/ppt/media/image22.gif" ContentType="image/gif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2A3-E4CC-4F56-847C-3AB7A90F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812-9E14-467C-A4FB-F99C56DC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610-82ED-4863-B76B-34775E0E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122-62CE-4DEC-A1B2-9E2AA26A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566-82E1-4DE6-97C9-1C7FA091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C1E-2916-4808-A92B-B96EBFCA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CB2-FBBD-4E7B-BF1C-6569403F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1EC-B8D1-4CBC-95B7-D728E811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859-B4CF-4E19-A814-8E44AEA0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C23-FFE4-45A9-97F0-9B1B1FFB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EA0-33C0-47C2-9FCD-7CA340FD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0F7-B6BA-4912-A571-2E2A128A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EAC2-6A5A-4F22-AF52-382EB5A9C4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gif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3543" t="11160" r="4323" b="19559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763640" y="1628640"/>
              <a:ext cx="5761080" cy="258192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3333ff"/>
                  </a:solidFill>
                  <a:latin typeface="华文新魏"/>
                  <a:ea typeface="华文新魏"/>
                </a:rPr>
                <a:t>杨震暮夜却金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  </a:t>
              </a:r>
              <a:r>
                <a:rPr b="1" lang="en-US" sz="5400" spc="-1" strike="noStrike">
                  <a:solidFill>
                    <a:srgbClr val="9933ff"/>
                  </a:solidFill>
                  <a:latin typeface="华文隶书"/>
                  <a:ea typeface="华文隶书"/>
                </a:rPr>
                <a:t>《</a:t>
              </a:r>
              <a:r>
                <a:rPr b="1" lang="zh-CN" sz="5400" spc="-1" strike="noStrike">
                  <a:solidFill>
                    <a:srgbClr val="9933ff"/>
                  </a:solidFill>
                  <a:latin typeface="华文隶书"/>
                  <a:ea typeface="华文隶书"/>
                </a:rPr>
                <a:t>后汉书</a:t>
              </a:r>
              <a:r>
                <a:rPr b="1" lang="en-US" sz="5400" spc="-1" strike="noStrike">
                  <a:solidFill>
                    <a:srgbClr val="9933ff"/>
                  </a:solidFill>
                  <a:latin typeface="华文隶书"/>
                  <a:ea typeface="华文隶书"/>
                </a:rPr>
                <a:t>》</a:t>
              </a:r>
              <a:r>
                <a:rPr b="0" lang="en-US" sz="60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755" t="13119" r="0" b="13890"/>
          <a:stretch/>
        </p:blipFill>
        <p:spPr>
          <a:xfrm>
            <a:off x="0" y="-200160"/>
            <a:ext cx="9605880" cy="7058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86320" y="260280"/>
            <a:ext cx="23749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33ff"/>
                </a:solidFill>
                <a:latin typeface="Times New Roman"/>
                <a:ea typeface="华文行楷"/>
              </a:rPr>
              <a:t>请观看表演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60560" y="549360"/>
            <a:ext cx="152100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——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杨震暮夜却金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56760" y="1484280"/>
            <a:ext cx="18262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思考如何朗读第二层，读出人物的感情色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736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00000" y="476280"/>
            <a:ext cx="3384720" cy="251928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03640" y="3789360"/>
            <a:ext cx="3313440" cy="252108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292720" y="3068640"/>
            <a:ext cx="2590920" cy="906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395280" y="2997360"/>
            <a:ext cx="1047600" cy="1423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19280" y="321300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震暮夜拒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59280" y="620640"/>
            <a:ext cx="3600360" cy="2376720"/>
          </a:xfrm>
          <a:prstGeom prst="flowChartMultidocument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4292640"/>
            <a:ext cx="3456000" cy="1944720"/>
          </a:xfrm>
          <a:custGeom>
            <a:avLst/>
            <a:gdLst>
              <a:gd name="textAreaLeft" fmla="*/ 864000 w 3456000"/>
              <a:gd name="textAreaRight" fmla="*/ 2592000 w 3456000"/>
              <a:gd name="textAreaTop" fmla="*/ 24300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7"/>
            <a:srcRect/>
            <a:stretch/>
          </a:blip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32000" y="836640"/>
            <a:ext cx="41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1052640"/>
            <a:ext cx="41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0"/>
            <a:ext cx="9144000" cy="6816600"/>
            <a:chOff x="0" y="0"/>
            <a:chExt cx="9144000" cy="681660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763640" y="549360"/>
              <a:ext cx="4969080" cy="21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8000"/>
                  </a:solidFill>
                  <a:latin typeface="Times New Roman"/>
                  <a:ea typeface="华文行楷"/>
                </a:rPr>
                <a:t>写作特点分析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、本文对人物的主要描写方法是什么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2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、在刻画人物时运用了什么样的写作方法？这样写的好处是什么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508720" y="2060640"/>
            <a:ext cx="2087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语言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03280" y="4437000"/>
            <a:ext cx="6048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文章以对话勾勒人物形象，并用对比与衬托的手法来刻画人物，更突出杨震严于律己、清正廉明的清官形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77200" cy="6859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089080" cy="2017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659640" y="436572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050920" y="18900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小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16000" y="981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通过本课的学习，我们进一步学习了文言实词，在朗读中也体会了本文运用简洁的语言勾勒人物形象的方法，向大家展示了一位廉洁奉公、品德高尚的清官，作为新世纪的学生，我们也要立志成为品德高尚的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67600" cy="5761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892160" y="1746360"/>
            <a:ext cx="10033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ff"/>
                </a:solidFill>
                <a:latin typeface="方正少儿简体"/>
                <a:ea typeface="方正少儿简体"/>
              </a:rPr>
              <a:t>拓展阅读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16360" y="2421000"/>
            <a:ext cx="5472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3366"/>
                </a:solidFill>
                <a:latin typeface="Times New Roman"/>
                <a:ea typeface="华文彩云"/>
              </a:rPr>
              <a:t>《</a:t>
            </a:r>
            <a:r>
              <a:rPr b="1" lang="zh-CN" sz="6600" spc="-1" strike="noStrike">
                <a:solidFill>
                  <a:srgbClr val="993366"/>
                </a:solidFill>
                <a:latin typeface="Times New Roman"/>
                <a:ea typeface="华文彩云"/>
              </a:rPr>
              <a:t>毁屋留名</a:t>
            </a:r>
            <a:r>
              <a:rPr b="1" lang="en-US" sz="6600" spc="-1" strike="noStrike">
                <a:solidFill>
                  <a:srgbClr val="993366"/>
                </a:solidFill>
                <a:latin typeface="Times New Roman"/>
                <a:ea typeface="华文彩云"/>
              </a:rPr>
              <a:t>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1000" y="0"/>
            <a:ext cx="9063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3298680" cy="4390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5400000">
            <a:off x="4176360" y="1736640"/>
            <a:ext cx="4248360" cy="20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“</a:t>
            </a:r>
            <a:r>
              <a:rPr b="1" lang="zh-CN" sz="44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四知”太守</a:t>
            </a:r>
            <a:endParaRPr b="1" lang="en-US" sz="4400" spc="1" strike="noStrike">
              <a:ln w="255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——</a:t>
            </a:r>
            <a:r>
              <a:rPr b="1" lang="zh-CN" sz="44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杨震</a:t>
            </a:r>
            <a:endParaRPr b="1" lang="en-US" sz="4400" spc="1" strike="noStrike">
              <a:ln w="255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92360" y="5516640"/>
            <a:ext cx="5832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新魏"/>
              </a:rPr>
              <a:t>天知地知你知我知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3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916360" y="5229360"/>
            <a:ext cx="3240000" cy="79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杨震简介</a:t>
            </a:r>
            <a:endParaRPr b="1" lang="en-US" sz="44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04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杨震，字伯起，是东汉弘农华阴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今陕西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。少年时期，家境清贫，开私塾与租田务农为生，他勤奋好学，博览群书，世人赞其“时经博览，无不穷究”，后因德高望重，学识渊博，从师者如市，当时被誉为关西孔子。五十岁才步入仕途，历任荆州刺史、东莱太守、涿郡太守。他做官清正廉明，后被提拔到朝中历任太仆、太常和司徒等职，颇受朝廷重用。但因好直谏不久受奸人诬陷被撤职，蒙受冤屈而死，后沉冤昭雪，后世人们为了纪念他，建了“四知书院”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>
            <a:lum bright="6000"/>
          </a:blip>
          <a:srcRect l="9827" t="13505" r="7332" b="15017"/>
          <a:stretch/>
        </p:blipFill>
        <p:spPr>
          <a:xfrm>
            <a:off x="325440" y="4941720"/>
            <a:ext cx="2446200" cy="1584360"/>
          </a:xfrm>
          <a:prstGeom prst="rect">
            <a:avLst/>
          </a:prstGeom>
          <a:ln w="25560">
            <a:solidFill>
              <a:srgbClr val="9933ff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3">
            <a:lum bright="12000"/>
          </a:blip>
          <a:srcRect l="5999" t="4295" r="10498" b="9878"/>
          <a:stretch/>
        </p:blipFill>
        <p:spPr>
          <a:xfrm>
            <a:off x="6300720" y="4797360"/>
            <a:ext cx="2411640" cy="1731960"/>
          </a:xfrm>
          <a:prstGeom prst="rect">
            <a:avLst/>
          </a:prstGeom>
          <a:ln w="25560">
            <a:solidFill>
              <a:srgbClr val="9933ff"/>
            </a:solidFill>
            <a:miter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69280" cy="6851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03280" y="404640"/>
            <a:ext cx="662472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廉洁：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不损公肥私；不贪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廉洁”一词</a:t>
            </a:r>
            <a:r>
              <a:rPr b="1" lang="en-US" sz="3200" spc="-1" strike="noStrike">
                <a:solidFill>
                  <a:srgbClr val="cc0066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辞源</a:t>
            </a:r>
            <a:r>
              <a:rPr b="1" lang="en-US" sz="3200" spc="-1" strike="noStrike">
                <a:solidFill>
                  <a:srgbClr val="cc0066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上解释为“公正，不贪污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辞海</a:t>
            </a:r>
            <a:r>
              <a:rPr b="1" lang="en-US" sz="3200" spc="-1" strike="noStrike">
                <a:solidFill>
                  <a:srgbClr val="cc0066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上解释为“清廉，清白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屈原</a:t>
            </a:r>
            <a:r>
              <a:rPr b="1" lang="en-US" sz="3200" spc="-1" strike="noStrike">
                <a:solidFill>
                  <a:srgbClr val="cc0066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楚辞</a:t>
            </a:r>
            <a:r>
              <a:rPr b="1" lang="en-US" sz="3200" spc="-1" strike="noStrike">
                <a:solidFill>
                  <a:srgbClr val="cc0066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中有“联幼清以廉洁兮”之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王逸注释为“不受曰廉，不污曰洁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76360" y="4508640"/>
            <a:ext cx="1871640" cy="154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084720" y="4508640"/>
            <a:ext cx="1872000" cy="1531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711600" y="4491000"/>
            <a:ext cx="2084400" cy="153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85880" y="581040"/>
            <a:ext cx="7570800" cy="56944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8211960" y="0"/>
            <a:ext cx="392040" cy="6856920"/>
            <a:chOff x="8211960" y="0"/>
            <a:chExt cx="392040" cy="6856920"/>
          </a:xfrm>
        </p:grpSpPr>
        <p:grpSp>
          <p:nvGrpSpPr>
            <p:cNvPr id="60" name=""/>
            <p:cNvGrpSpPr/>
            <p:nvPr/>
          </p:nvGrpSpPr>
          <p:grpSpPr>
            <a:xfrm>
              <a:off x="8211960" y="0"/>
              <a:ext cx="391680" cy="6856920"/>
              <a:chOff x="8211960" y="0"/>
              <a:chExt cx="391680" cy="6856920"/>
            </a:xfrm>
          </p:grpSpPr>
          <p:sp>
            <p:nvSpPr>
              <p:cNvPr id="61" name=""/>
              <p:cNvSpPr/>
              <p:nvPr/>
            </p:nvSpPr>
            <p:spPr>
              <a:xfrm>
                <a:off x="8211960" y="0"/>
                <a:ext cx="391680" cy="4899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11960" y="6366960"/>
                <a:ext cx="391680" cy="4899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44440" y="489960"/>
                <a:ext cx="129600" cy="58766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8211960" y="587520"/>
              <a:ext cx="392040" cy="5682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906720" y="1844640"/>
            <a:ext cx="12556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55640" y="0"/>
            <a:ext cx="358560" cy="6856920"/>
            <a:chOff x="755640" y="0"/>
            <a:chExt cx="358560" cy="6856920"/>
          </a:xfrm>
        </p:grpSpPr>
        <p:grpSp>
          <p:nvGrpSpPr>
            <p:cNvPr id="67" name=""/>
            <p:cNvGrpSpPr/>
            <p:nvPr/>
          </p:nvGrpSpPr>
          <p:grpSpPr>
            <a:xfrm>
              <a:off x="755640" y="0"/>
              <a:ext cx="358200" cy="6856920"/>
              <a:chOff x="755640" y="0"/>
              <a:chExt cx="358200" cy="6856920"/>
            </a:xfrm>
          </p:grpSpPr>
          <p:sp>
            <p:nvSpPr>
              <p:cNvPr id="68" name=""/>
              <p:cNvSpPr/>
              <p:nvPr/>
            </p:nvSpPr>
            <p:spPr>
              <a:xfrm>
                <a:off x="755640" y="0"/>
                <a:ext cx="358200" cy="489960"/>
              </a:xfrm>
              <a:prstGeom prst="ellipse">
                <a:avLst/>
              </a:pr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55640" y="6366960"/>
                <a:ext cx="358200" cy="489960"/>
              </a:xfrm>
              <a:prstGeom prst="ellipse">
                <a:avLst/>
              </a:pr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76600" y="489960"/>
                <a:ext cx="118800" cy="5876640"/>
              </a:xfrm>
              <a:prstGeom prst="rect">
                <a:avLst/>
              </a:pr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755640" y="587520"/>
              <a:ext cx="358560" cy="568260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95280" y="0"/>
            <a:ext cx="360000" cy="6856920"/>
            <a:chOff x="395280" y="0"/>
            <a:chExt cx="360000" cy="6856920"/>
          </a:xfrm>
        </p:grpSpPr>
        <p:grpSp>
          <p:nvGrpSpPr>
            <p:cNvPr id="73" name=""/>
            <p:cNvGrpSpPr/>
            <p:nvPr/>
          </p:nvGrpSpPr>
          <p:grpSpPr>
            <a:xfrm>
              <a:off x="395280" y="0"/>
              <a:ext cx="359640" cy="6856920"/>
              <a:chOff x="395280" y="0"/>
              <a:chExt cx="359640" cy="6856920"/>
            </a:xfrm>
          </p:grpSpPr>
          <p:sp>
            <p:nvSpPr>
              <p:cNvPr id="74" name=""/>
              <p:cNvSpPr/>
              <p:nvPr/>
            </p:nvSpPr>
            <p:spPr>
              <a:xfrm>
                <a:off x="395280" y="0"/>
                <a:ext cx="359640" cy="4899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5280" y="6366960"/>
                <a:ext cx="359640" cy="4899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16960" y="489960"/>
                <a:ext cx="119160" cy="58766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395280" y="587520"/>
              <a:ext cx="360000" cy="5682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900000" y="692280"/>
            <a:ext cx="6985080" cy="1556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本文出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后汉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纪传体断代史，记载了东汉一代的历史。今通行本共一百二十卷。本纪、列传部分为南朝宋著名史学家、文学家范晔撰，志未作完，范被杀。南朝梁刘昭取司马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续汉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中的“八志”与之配合，北宋时将两书合刻为一书。文章写人叙事，简明周详，生动感人。且收录了大量的东汉的散文、辞赋、诗歌。学者们誉为兼有一代文章总集的性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684360" y="-171360"/>
            <a:ext cx="7847640" cy="7028280"/>
            <a:chOff x="684360" y="-171360"/>
            <a:chExt cx="7847640" cy="7028280"/>
          </a:xfrm>
        </p:grpSpPr>
        <p:pic>
          <p:nvPicPr>
            <p:cNvPr id="80" name="" descr=""/>
            <p:cNvPicPr/>
            <p:nvPr/>
          </p:nvPicPr>
          <p:blipFill>
            <a:blip r:embed="rId1"/>
            <a:srcRect l="18764" t="0" r="14267" b="6875"/>
            <a:stretch/>
          </p:blipFill>
          <p:spPr>
            <a:xfrm>
              <a:off x="684360" y="-171360"/>
              <a:ext cx="7561080" cy="648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" name=""/>
            <p:cNvGrpSpPr/>
            <p:nvPr/>
          </p:nvGrpSpPr>
          <p:grpSpPr>
            <a:xfrm>
              <a:off x="8140680" y="0"/>
              <a:ext cx="391320" cy="6856920"/>
              <a:chOff x="8140680" y="0"/>
              <a:chExt cx="391320" cy="685692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8140680" y="0"/>
                <a:ext cx="390960" cy="6856920"/>
                <a:chOff x="8140680" y="0"/>
                <a:chExt cx="390960" cy="68569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8140680" y="0"/>
                  <a:ext cx="390960" cy="48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7546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140680" y="6366960"/>
                  <a:ext cx="390960" cy="48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7546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8272800" y="489960"/>
                  <a:ext cx="129600" cy="5876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7546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>
                <a:off x="8140680" y="587520"/>
                <a:ext cx="391320" cy="568260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55640" y="0"/>
            <a:ext cx="358560" cy="6856920"/>
            <a:chOff x="755640" y="0"/>
            <a:chExt cx="358560" cy="6856920"/>
          </a:xfrm>
        </p:grpSpPr>
        <p:grpSp>
          <p:nvGrpSpPr>
            <p:cNvPr id="88" name=""/>
            <p:cNvGrpSpPr/>
            <p:nvPr/>
          </p:nvGrpSpPr>
          <p:grpSpPr>
            <a:xfrm>
              <a:off x="755640" y="0"/>
              <a:ext cx="358200" cy="6856920"/>
              <a:chOff x="755640" y="0"/>
              <a:chExt cx="358200" cy="6856920"/>
            </a:xfrm>
          </p:grpSpPr>
          <p:sp>
            <p:nvSpPr>
              <p:cNvPr id="89" name=""/>
              <p:cNvSpPr/>
              <p:nvPr/>
            </p:nvSpPr>
            <p:spPr>
              <a:xfrm>
                <a:off x="755640" y="0"/>
                <a:ext cx="358200" cy="489960"/>
              </a:xfrm>
              <a:prstGeom prst="ellipse">
                <a:avLst/>
              </a:pr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55640" y="6366960"/>
                <a:ext cx="358200" cy="489960"/>
              </a:xfrm>
              <a:prstGeom prst="ellipse">
                <a:avLst/>
              </a:pr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76600" y="489960"/>
                <a:ext cx="118800" cy="5876640"/>
              </a:xfrm>
              <a:prstGeom prst="rect">
                <a:avLst/>
              </a:pr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755640" y="587520"/>
              <a:ext cx="358560" cy="568260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8360" y="0"/>
            <a:ext cx="360000" cy="6856920"/>
            <a:chOff x="468360" y="0"/>
            <a:chExt cx="360000" cy="6856920"/>
          </a:xfrm>
        </p:grpSpPr>
        <p:grpSp>
          <p:nvGrpSpPr>
            <p:cNvPr id="94" name=""/>
            <p:cNvGrpSpPr/>
            <p:nvPr/>
          </p:nvGrpSpPr>
          <p:grpSpPr>
            <a:xfrm>
              <a:off x="468360" y="0"/>
              <a:ext cx="359640" cy="6856920"/>
              <a:chOff x="468360" y="0"/>
              <a:chExt cx="359640" cy="6856920"/>
            </a:xfrm>
          </p:grpSpPr>
          <p:sp>
            <p:nvSpPr>
              <p:cNvPr id="95" name=""/>
              <p:cNvSpPr/>
              <p:nvPr/>
            </p:nvSpPr>
            <p:spPr>
              <a:xfrm>
                <a:off x="468360" y="0"/>
                <a:ext cx="359640" cy="4899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8360" y="6366960"/>
                <a:ext cx="359640" cy="4899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90040" y="489960"/>
                <a:ext cx="119160" cy="58766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68360" y="587520"/>
              <a:ext cx="360000" cy="5682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042920" y="836640"/>
            <a:ext cx="6840720" cy="29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隶书"/>
              </a:rPr>
              <a:t>杨震暮夜却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震少</a:t>
            </a:r>
            <a:r>
              <a:rPr b="1" lang="zh-CN" sz="2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好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，年五十，乃始</a:t>
            </a:r>
            <a:r>
              <a:rPr b="1" lang="zh-CN" sz="2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仕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州郡。大将军邓骘闻其贤而辟</a:t>
            </a:r>
            <a:r>
              <a:rPr b="1" lang="en-US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①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之，</a:t>
            </a:r>
            <a:r>
              <a:rPr b="1" lang="zh-CN" sz="2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举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茂才</a:t>
            </a:r>
            <a:r>
              <a:rPr b="1" lang="en-US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②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四迁荆州刺史、东莱太守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</a:t>
            </a:r>
            <a:r>
              <a:rPr b="1" lang="zh-CN" sz="2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之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郡，道经昌邑，故所举荆州茂才王密为昌邑令，</a:t>
            </a:r>
            <a:r>
              <a:rPr b="1" lang="zh-CN" sz="2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谒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见，至夜，怀金十斤以</a:t>
            </a:r>
            <a:r>
              <a:rPr b="1" lang="zh-CN" sz="2600" spc="-1" strike="noStrike">
                <a:solidFill>
                  <a:srgbClr val="ff0000"/>
                </a:solidFill>
                <a:latin typeface="华文楷体"/>
                <a:ea typeface="华文楷体"/>
              </a:rPr>
              <a:t>遗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震。震曰：“故人</a:t>
            </a:r>
            <a:r>
              <a:rPr b="1" lang="zh-CN" sz="2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知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君，君不知故人，何也？”密曰：“暮夜无</a:t>
            </a:r>
            <a:r>
              <a:rPr b="1" lang="zh-CN" sz="2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知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者。”震曰：“天知，神知，我知，子知。何谓无知！”密愧而出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后转涿郡太守。公性廉，不受秘谒。子孙常蔬食步行，故旧长者</a:t>
            </a:r>
            <a:r>
              <a:rPr b="1" lang="zh-CN" sz="2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或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欲令为开产业</a:t>
            </a:r>
            <a:r>
              <a:rPr b="1" lang="en-US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③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震不肯，曰：“</a:t>
            </a:r>
            <a:r>
              <a:rPr b="1" lang="zh-CN" sz="2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使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后世称为清白吏子孙，以此</a:t>
            </a:r>
            <a:r>
              <a:rPr b="1" lang="zh-CN" sz="2600" spc="-1" strike="noStrike">
                <a:solidFill>
                  <a:srgbClr val="ff0000"/>
                </a:solidFill>
                <a:latin typeface="华文楷体"/>
                <a:ea typeface="华文楷体"/>
              </a:rPr>
              <a:t>遗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之，不亦</a:t>
            </a:r>
            <a:r>
              <a:rPr b="1" lang="zh-CN" sz="2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厚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乎！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71640" y="76500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初读课文，进一步了解内容；简要分析文章结构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2637000"/>
            <a:ext cx="720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杨震的为官之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杨震暮夜拒金 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杨震的清廉及对子孙的教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77200" cy="685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1125360"/>
            <a:ext cx="417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解释加点实词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700280"/>
            <a:ext cx="6048360" cy="59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好                       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举                       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之                       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厚                       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33336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精讲课文。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260360" y="5084640"/>
            <a:ext cx="633564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1773360"/>
            <a:ext cx="15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1700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（喜欢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2421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（做官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3141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（推荐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386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到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..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76360" y="4653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（拜见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32000" y="5300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（重，深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177336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（了解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（知道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3141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（让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386064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赠送）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wè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4508640"/>
            <a:ext cx="216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遗留）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y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56000" y="53006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（有人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684360" y="-171360"/>
            <a:ext cx="7847640" cy="7028280"/>
            <a:chOff x="684360" y="-171360"/>
            <a:chExt cx="7847640" cy="702828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rcRect l="18764" t="0" r="14267" b="6875"/>
            <a:stretch/>
          </p:blipFill>
          <p:spPr>
            <a:xfrm>
              <a:off x="684360" y="-171360"/>
              <a:ext cx="7561080" cy="648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"/>
            <p:cNvGrpSpPr/>
            <p:nvPr/>
          </p:nvGrpSpPr>
          <p:grpSpPr>
            <a:xfrm>
              <a:off x="8140680" y="0"/>
              <a:ext cx="391320" cy="6856920"/>
              <a:chOff x="8140680" y="0"/>
              <a:chExt cx="391320" cy="685692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8140680" y="0"/>
                <a:ext cx="390960" cy="6856920"/>
                <a:chOff x="8140680" y="0"/>
                <a:chExt cx="390960" cy="68569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8140680" y="0"/>
                  <a:ext cx="390960" cy="48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7546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140680" y="6366960"/>
                  <a:ext cx="390960" cy="48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7546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272800" y="489960"/>
                  <a:ext cx="129600" cy="5876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7546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8140680" y="587520"/>
                <a:ext cx="391320" cy="568260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755640" y="0"/>
            <a:ext cx="358560" cy="6856920"/>
            <a:chOff x="755640" y="0"/>
            <a:chExt cx="358560" cy="6856920"/>
          </a:xfrm>
        </p:grpSpPr>
        <p:grpSp>
          <p:nvGrpSpPr>
            <p:cNvPr id="130" name=""/>
            <p:cNvGrpSpPr/>
            <p:nvPr/>
          </p:nvGrpSpPr>
          <p:grpSpPr>
            <a:xfrm>
              <a:off x="755640" y="0"/>
              <a:ext cx="358200" cy="6856920"/>
              <a:chOff x="755640" y="0"/>
              <a:chExt cx="358200" cy="6856920"/>
            </a:xfrm>
          </p:grpSpPr>
          <p:sp>
            <p:nvSpPr>
              <p:cNvPr id="131" name=""/>
              <p:cNvSpPr/>
              <p:nvPr/>
            </p:nvSpPr>
            <p:spPr>
              <a:xfrm>
                <a:off x="755640" y="0"/>
                <a:ext cx="358200" cy="489960"/>
              </a:xfrm>
              <a:prstGeom prst="ellipse">
                <a:avLst/>
              </a:pr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55640" y="6366960"/>
                <a:ext cx="358200" cy="489960"/>
              </a:xfrm>
              <a:prstGeom prst="ellipse">
                <a:avLst/>
              </a:pr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76600" y="489960"/>
                <a:ext cx="118800" cy="5876640"/>
              </a:xfrm>
              <a:prstGeom prst="rect">
                <a:avLst/>
              </a:prstGeom>
              <a:gradFill rotWithShape="0">
                <a:gsLst>
                  <a:gs pos="0">
                    <a:srgbClr val="754600"/>
                  </a:gs>
                  <a:gs pos="100000">
                    <a:srgbClr val="ff99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755640" y="587520"/>
              <a:ext cx="358560" cy="568260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68360" y="0"/>
            <a:ext cx="360000" cy="6856920"/>
            <a:chOff x="468360" y="0"/>
            <a:chExt cx="360000" cy="6856920"/>
          </a:xfrm>
        </p:grpSpPr>
        <p:grpSp>
          <p:nvGrpSpPr>
            <p:cNvPr id="136" name=""/>
            <p:cNvGrpSpPr/>
            <p:nvPr/>
          </p:nvGrpSpPr>
          <p:grpSpPr>
            <a:xfrm>
              <a:off x="468360" y="0"/>
              <a:ext cx="359640" cy="6856920"/>
              <a:chOff x="468360" y="0"/>
              <a:chExt cx="359640" cy="6856920"/>
            </a:xfrm>
          </p:grpSpPr>
          <p:sp>
            <p:nvSpPr>
              <p:cNvPr id="137" name=""/>
              <p:cNvSpPr/>
              <p:nvPr/>
            </p:nvSpPr>
            <p:spPr>
              <a:xfrm>
                <a:off x="468360" y="0"/>
                <a:ext cx="359640" cy="4899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68360" y="6366960"/>
                <a:ext cx="359640" cy="4899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90040" y="489960"/>
                <a:ext cx="119160" cy="58766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68360" y="587520"/>
              <a:ext cx="360000" cy="5682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042920" y="836640"/>
            <a:ext cx="6840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836640"/>
            <a:ext cx="62643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cc"/>
                </a:solidFill>
                <a:latin typeface="黑体"/>
                <a:ea typeface="黑体"/>
              </a:rPr>
              <a:t>阅读第二部分，思考问题，理解中心；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1628640"/>
            <a:ext cx="7128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王密为什么要暮夜给杨震送礼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杨震是怎样说、怎样做的？（杨震当时的话应该怎样朗读 ？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你认为杨震是个什么样的人？经过了杨震的教育，你认为王密会怎样想，怎样做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mj</cp:lastModifiedBy>
  <dcterms:modified xsi:type="dcterms:W3CDTF">2008-11-28T01:31:59Z</dcterms:modified>
  <cp:revision>72</cp:revision>
  <dc:subject/>
  <dc:title>PowerPoint Presentation</dc:title>
</cp:coreProperties>
</file>