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758-32F6-477D-8654-C5BF5A3D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DBD-D24F-4054-ADBC-A469E2C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43A-055D-4414-B6EA-40D1545F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19E-7969-4F6D-BA42-5EA41CF0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165-38FB-457C-B0E3-250FEE12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774-CE17-46C5-9F71-7829515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6D6-B204-4C53-BC05-08E3ECC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97E-687A-466B-BB50-E30849E2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786-FF1A-4C37-9081-A6BD7802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B9B-E6AD-4E40-B846-16ABA66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693-3418-4362-BA53-08B08B7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AA7-BF59-4317-9EE2-FBE6635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E20E-0BAD-4486-BD71-10254B5437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419640" y="443700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成都市锦江区大观小学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665440" cy="532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492360" y="2205000"/>
            <a:ext cx="4114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杨震暮夜却金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03640" y="907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朗读译文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8428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060640"/>
            <a:ext cx="8207280" cy="14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杨震四次升迁，担任荆州刺史、东莱太守。当他到郡上任，路过昌邑时，过去他曾经举荐的荆州秀才王密正做昌邑的县令。晚上，王密去拜见杨震，怀中揣了十斤金子，送给杨震。杨震说：“我了解你，你却不了解我，这是怎么回事呢？”王密说：“这么晚了，没有人能知道这件事。”杨震说：“天知道，神知道，我知道，你知道。怎么能说没人知道！”王密羞愧地退出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1484280"/>
            <a:ext cx="64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杨震深夜推辞别人送来的黄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68360" y="0"/>
            <a:ext cx="8532000" cy="6856920"/>
            <a:chOff x="468360" y="0"/>
            <a:chExt cx="8532000" cy="6856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18764" t="0" r="14267" b="6875"/>
            <a:stretch/>
          </p:blipFill>
          <p:spPr>
            <a:xfrm>
              <a:off x="468360" y="0"/>
              <a:ext cx="8220240" cy="632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8574840" y="167040"/>
              <a:ext cx="425520" cy="6689880"/>
              <a:chOff x="8574840" y="167040"/>
              <a:chExt cx="425520" cy="66898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574840" y="167040"/>
                <a:ext cx="425160" cy="6689880"/>
                <a:chOff x="8574840" y="167040"/>
                <a:chExt cx="425160" cy="6689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574840" y="167040"/>
                  <a:ext cx="42516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4840" y="6378840"/>
                  <a:ext cx="42516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718480" y="645120"/>
                  <a:ext cx="140760" cy="573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574840" y="740160"/>
                <a:ext cx="425520" cy="554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755640" y="0"/>
            <a:ext cx="358560" cy="6856920"/>
            <a:chOff x="755640" y="0"/>
            <a:chExt cx="358560" cy="6856920"/>
          </a:xfrm>
        </p:grpSpPr>
        <p:grpSp>
          <p:nvGrpSpPr>
            <p:cNvPr id="150" name=""/>
            <p:cNvGrpSpPr/>
            <p:nvPr/>
          </p:nvGrpSpPr>
          <p:grpSpPr>
            <a:xfrm>
              <a:off x="755640" y="0"/>
              <a:ext cx="358200" cy="6856920"/>
              <a:chOff x="755640" y="0"/>
              <a:chExt cx="358200" cy="6856920"/>
            </a:xfrm>
          </p:grpSpPr>
          <p:sp>
            <p:nvSpPr>
              <p:cNvPr id="151" name=""/>
              <p:cNvSpPr/>
              <p:nvPr/>
            </p:nvSpPr>
            <p:spPr>
              <a:xfrm>
                <a:off x="755640" y="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5640" y="636696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76600" y="489960"/>
                <a:ext cx="118800" cy="587664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55640" y="587520"/>
              <a:ext cx="358560" cy="56826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8360" y="0"/>
            <a:ext cx="360000" cy="6856920"/>
            <a:chOff x="468360" y="0"/>
            <a:chExt cx="360000" cy="6856920"/>
          </a:xfrm>
        </p:grpSpPr>
        <p:grpSp>
          <p:nvGrpSpPr>
            <p:cNvPr id="156" name=""/>
            <p:cNvGrpSpPr/>
            <p:nvPr/>
          </p:nvGrpSpPr>
          <p:grpSpPr>
            <a:xfrm>
              <a:off x="468360" y="0"/>
              <a:ext cx="359640" cy="6856920"/>
              <a:chOff x="468360" y="0"/>
              <a:chExt cx="359640" cy="6856920"/>
            </a:xfrm>
          </p:grpSpPr>
          <p:sp>
            <p:nvSpPr>
              <p:cNvPr id="157" name=""/>
              <p:cNvSpPr/>
              <p:nvPr/>
            </p:nvSpPr>
            <p:spPr>
              <a:xfrm>
                <a:off x="468360" y="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8360" y="6366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0040" y="489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68360" y="587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042920" y="836640"/>
            <a:ext cx="684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836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学习课文内容 体会人物品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1628640"/>
            <a:ext cx="71280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王密为什么要给杨震送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什么要晚上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震是怎样说、怎样做的？（杨震当时的话应该怎样朗读 ？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认为杨震是个什么样的人？经过了杨震的教育，你认为王密会怎样想，怎样做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492360" y="189000"/>
            <a:ext cx="223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各抒己见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765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由：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3720" y="1700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密借此向杨震表示感谢并请求关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47360" y="2276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怕给杨震招惹麻烦，怕杨震拒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119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杨震推荐王密做县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795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杨震当时的神态：严肃、气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气：失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：可能是猛地站起，挥着手，来回走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3657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杨震是一个严于律己、不贪不占、光明磊落、清正廉明的好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5229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密可能会想：“我错了。今后决不能做这样的蠢事了。要向杨震一样，做一个好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836640"/>
            <a:ext cx="820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本文对人物的主要描写方法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在刻画人物时运用了什么样的写作方法？这样写的好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14400" y="52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写作特点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2276640"/>
            <a:ext cx="2087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437000"/>
            <a:ext cx="8136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以对话勾勒人物形象，并用对比与衬托的手法来刻画人物，更突出杨震严于律己、清正廉明的清官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11280" y="1197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杨震的高尚行为表现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06560" y="525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解决课后红花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421000"/>
            <a:ext cx="8136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现在他为官清廉、严于律己、不贪不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没有第三者知道的情况下拒收重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7200" cy="6859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50920" y="189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141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通过本课的学习，我们进一步学习了文言实词，在朗读中也体会了本文运用简洁的语言勾勒人物形象的方法，向大家展示了一位廉洁奉公、品德高尚的清官，作为新世纪的学生，我们也要立志成为品德高尚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7600" cy="5761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340000" y="2919240"/>
            <a:ext cx="496872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63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再见！</a:t>
            </a:r>
            <a:endParaRPr b="1" lang="en-US" sz="8000" spc="1" strike="noStrike">
              <a:ln w="63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907920"/>
            <a:ext cx="806472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杨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字伯起，是东汉时期华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今陕西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人。少年时期，家境清贫，勤奋好学，博览群书，被誉为“关西孔子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杨震历任荆州刺史、东莱太守、涿郡太守。任职期间，曾举荐才华出众的王密担任了昌邑县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杨震做官清正廉明，后被提拔到朝中历任太仆、太常和司徒等职，颇受朝廷重用。但因好直谏不久受奸人诬陷被撤职，蒙受冤屈而死，后沉冤昭雪，后世人们为了纪念他，建了“四知书院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48000" y="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简介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000"/>
          </a:blip>
          <a:srcRect l="9827" t="13505" r="7332" b="15017"/>
          <a:stretch/>
        </p:blipFill>
        <p:spPr>
          <a:xfrm>
            <a:off x="1403280" y="4653000"/>
            <a:ext cx="2446560" cy="158436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93120" y="4724280"/>
            <a:ext cx="911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知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bright="12000"/>
          </a:blip>
          <a:srcRect l="5999" t="4295" r="10498" b="9878"/>
          <a:stretch/>
        </p:blipFill>
        <p:spPr>
          <a:xfrm>
            <a:off x="6084720" y="4653000"/>
            <a:ext cx="2411640" cy="151596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785480" y="4724280"/>
            <a:ext cx="911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杨震遗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9063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2986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4176360" y="173664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“</a:t>
            </a:r>
            <a:r>
              <a:rPr b="1" lang="zh-CN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四知”太守</a:t>
            </a:r>
            <a:endParaRPr b="1" lang="en-US" sz="4400" spc="1" strike="noStrike">
              <a:ln w="255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——</a:t>
            </a:r>
            <a:r>
              <a:rPr b="1" lang="zh-CN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杨震</a:t>
            </a:r>
            <a:endParaRPr b="1" lang="en-US" sz="4400" spc="1" strike="noStrike">
              <a:ln w="255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92360" y="5516640"/>
            <a:ext cx="513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天知、神知、我知、子知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427960" y="216000"/>
            <a:ext cx="391680" cy="6856920"/>
            <a:chOff x="8427960" y="216000"/>
            <a:chExt cx="391680" cy="6856920"/>
          </a:xfrm>
        </p:grpSpPr>
        <p:grpSp>
          <p:nvGrpSpPr>
            <p:cNvPr id="55" name=""/>
            <p:cNvGrpSpPr/>
            <p:nvPr/>
          </p:nvGrpSpPr>
          <p:grpSpPr>
            <a:xfrm>
              <a:off x="8427960" y="216000"/>
              <a:ext cx="391320" cy="6856920"/>
              <a:chOff x="8427960" y="216000"/>
              <a:chExt cx="391320" cy="6856920"/>
            </a:xfrm>
          </p:grpSpPr>
          <p:sp>
            <p:nvSpPr>
              <p:cNvPr id="56" name=""/>
              <p:cNvSpPr/>
              <p:nvPr/>
            </p:nvSpPr>
            <p:spPr>
              <a:xfrm>
                <a:off x="8427960" y="216000"/>
                <a:ext cx="39132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7960" y="6582960"/>
                <a:ext cx="39132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080" y="705960"/>
                <a:ext cx="12960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427960" y="803520"/>
              <a:ext cx="39168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216000"/>
            <a:ext cx="360000" cy="6856920"/>
            <a:chOff x="611280" y="216000"/>
            <a:chExt cx="360000" cy="6856920"/>
          </a:xfrm>
        </p:grpSpPr>
        <p:grpSp>
          <p:nvGrpSpPr>
            <p:cNvPr id="61" name=""/>
            <p:cNvGrpSpPr/>
            <p:nvPr/>
          </p:nvGrpSpPr>
          <p:grpSpPr>
            <a:xfrm>
              <a:off x="611280" y="216000"/>
              <a:ext cx="359640" cy="6856920"/>
              <a:chOff x="611280" y="216000"/>
              <a:chExt cx="359640" cy="6856920"/>
            </a:xfrm>
          </p:grpSpPr>
          <p:sp>
            <p:nvSpPr>
              <p:cNvPr id="62" name=""/>
              <p:cNvSpPr/>
              <p:nvPr/>
            </p:nvSpPr>
            <p:spPr>
              <a:xfrm>
                <a:off x="611280" y="21600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1280" y="6582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2960" y="705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11280" y="803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187280" y="1700280"/>
            <a:ext cx="6985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出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记载了东汉一代的历史。今通行本共一百二十卷。作者为南宋朝著名史学家、文学家范晔撰写。文章写人叙事，简明周详，生动感人。且收录了大量的东汉的散文、辞赋、诗歌。学者们誉为兼有一代文章总集的性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59280" y="907920"/>
            <a:ext cx="280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释课文题目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492280"/>
            <a:ext cx="388944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暮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杨震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夜却金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2565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指深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284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推辞；推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458136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指杨震深夜推辞别人送来的黄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059280" y="836640"/>
            <a:ext cx="280008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认识课文中的生字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2276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晔    莱    邑    谒    遗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1628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162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1628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155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155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59280" y="3141720"/>
            <a:ext cx="280008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认识课文中的多音字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7862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47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508640"/>
            <a:ext cx="169920" cy="1295280"/>
          </a:xfrm>
          <a:custGeom>
            <a:avLst/>
            <a:gdLst>
              <a:gd name="textAreaLeft" fmla="*/ 108720 w 169920"/>
              <a:gd name="textAreaRight" fmla="*/ 170280 w 169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4508640"/>
            <a:ext cx="169920" cy="1295280"/>
          </a:xfrm>
          <a:custGeom>
            <a:avLst/>
            <a:gdLst>
              <a:gd name="textAreaLeft" fmla="*/ 108720 w 169920"/>
              <a:gd name="textAreaRight" fmla="*/ 170280 w 169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4365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ān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妥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í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5445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之千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69280" cy="6851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404640"/>
            <a:ext cx="6624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廉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不损公肥私；不贪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廉洁”一词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辞源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上解释为“公正，不贪污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辞海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上解释为“清廉，清白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屈原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楚辞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中有“联幼清以廉洁兮”之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王逸注释为“不受曰廉，不污曰洁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089080" cy="205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2016360" cy="20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564000" y="4005360"/>
            <a:ext cx="2232000" cy="201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-456480" y="2840760"/>
            <a:ext cx="24494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黑体"/>
              </a:rPr>
              <a:t>理       解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黑体"/>
              <a:ea typeface="黑体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4360" y="-171360"/>
            <a:ext cx="7847640" cy="7028280"/>
            <a:chOff x="684360" y="-171360"/>
            <a:chExt cx="7847640" cy="70282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18764" t="0" r="14267" b="6875"/>
            <a:stretch/>
          </p:blipFill>
          <p:spPr>
            <a:xfrm>
              <a:off x="684360" y="-171360"/>
              <a:ext cx="7561080" cy="648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8140680" y="0"/>
              <a:ext cx="391320" cy="6856920"/>
              <a:chOff x="8140680" y="0"/>
              <a:chExt cx="391320" cy="68569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8140680" y="0"/>
                <a:ext cx="390960" cy="6856920"/>
                <a:chOff x="8140680" y="0"/>
                <a:chExt cx="390960" cy="68569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0680" y="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140680" y="636696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272800" y="489960"/>
                  <a:ext cx="129600" cy="5876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8140680" y="587520"/>
                <a:ext cx="391320" cy="56826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55640" y="0"/>
            <a:ext cx="358560" cy="6856920"/>
            <a:chOff x="755640" y="0"/>
            <a:chExt cx="358560" cy="6856920"/>
          </a:xfrm>
        </p:grpSpPr>
        <p:grpSp>
          <p:nvGrpSpPr>
            <p:cNvPr id="103" name=""/>
            <p:cNvGrpSpPr/>
            <p:nvPr/>
          </p:nvGrpSpPr>
          <p:grpSpPr>
            <a:xfrm>
              <a:off x="755640" y="0"/>
              <a:ext cx="358200" cy="6856920"/>
              <a:chOff x="755640" y="0"/>
              <a:chExt cx="358200" cy="6856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5640" y="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5640" y="636696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600" y="489960"/>
                <a:ext cx="118800" cy="587664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55640" y="587520"/>
              <a:ext cx="358560" cy="56826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68360" y="0"/>
            <a:ext cx="360000" cy="6856920"/>
            <a:chOff x="468360" y="0"/>
            <a:chExt cx="360000" cy="6856920"/>
          </a:xfrm>
        </p:grpSpPr>
        <p:grpSp>
          <p:nvGrpSpPr>
            <p:cNvPr id="109" name=""/>
            <p:cNvGrpSpPr/>
            <p:nvPr/>
          </p:nvGrpSpPr>
          <p:grpSpPr>
            <a:xfrm>
              <a:off x="468360" y="0"/>
              <a:ext cx="359640" cy="6856920"/>
              <a:chOff x="468360" y="0"/>
              <a:chExt cx="359640" cy="6856920"/>
            </a:xfrm>
          </p:grpSpPr>
          <p:sp>
            <p:nvSpPr>
              <p:cNvPr id="110" name=""/>
              <p:cNvSpPr/>
              <p:nvPr/>
            </p:nvSpPr>
            <p:spPr>
              <a:xfrm>
                <a:off x="468360" y="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360" y="6366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0040" y="489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68360" y="587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116000" y="2060640"/>
            <a:ext cx="705816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杨震暮夜却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     </a:t>
            </a:r>
            <a:r>
              <a:rPr b="1" lang="zh-CN" sz="24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杨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震四迁荆（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  <a:ea typeface="方正少儿简体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ng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）州刺史、东莱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(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  <a:ea typeface="方正少儿简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)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太守。当之郡，道经昌邑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(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)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，故所举荆州茂才王密为昌邑令，谒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(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)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见，至夜，怀金十斤以遗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(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èi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)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震。震曰：“故人知君，君不知故人，何也？”密曰：“暮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(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  <a:ea typeface="方正少儿简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)</a:t>
            </a: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夜无知者。”震曰：“天知，神知，我知，子知。何谓无知！”密愧而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33"/>
                </a:solidFill>
                <a:latin typeface="方正少儿简体"/>
                <a:ea typeface="方正少儿简体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92360" y="1052640"/>
            <a:ext cx="193860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习文章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少儿简体"/>
              </a:rPr>
              <a:t>范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少儿简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7200" cy="685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1197000"/>
            <a:ext cx="813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解释加点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迁：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：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故：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举：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茂才：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谒见：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何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怀：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故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33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精讲课文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260360" y="5084640"/>
            <a:ext cx="633564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1700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升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205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08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过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141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举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2720" y="3645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秀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149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拜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6720" y="4653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怀里揣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5157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2720" y="558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老朋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70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708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知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645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怎么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4653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羞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8-12-31T07:33:04Z</dcterms:modified>
  <cp:revision>86</cp:revision>
  <dc:subject/>
  <dc:title>PowerPoint Presentation</dc:title>
</cp:coreProperties>
</file>