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E22-98D7-4158-B370-A377F498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220-BB0C-4584-9029-AF01D684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E1DD-BF0E-45BF-9655-686667CE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6E4-9CB1-4B20-9723-5769E56B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728A-0DCC-49F7-80F3-D3CED446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90A-F75A-45D9-BD31-C40AF395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88C2-7920-48A0-9A5D-FE5B3A06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B354-D3AF-46CE-9DA0-8962BDBD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EFB8-156D-4DCB-A5CD-10110B48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6869-CBAB-4C5B-9E62-4F90DCF6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EDC4-9BDC-4587-86D9-766D5D2C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E9E1-62E6-4F62-8A7F-C13080EE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B3C2-1059-47C9-BAAC-53CC38C2D6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kinico.com/desk/html/desk340_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y510.com/forum/adecoler.php?articleid=692434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oepower.cn/bbs/read.php?tid=7630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kinico.com/desk/html/desk340_3.htm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8114727.spaces.live.com/blog/cns!A7E30331D1D351E9!143.entry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xwjinxiu.cn/xxwy/xkja/ggsc/200508/78.html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baike.baidu.com/view/310970.htm" TargetMode="External"/><Relationship Id="rId3" Type="http://schemas.openxmlformats.org/officeDocument/2006/relationships/hyperlink" Target="http://baike.baidu.com/view/74768.htm" TargetMode="External"/><Relationship Id="rId4" Type="http://schemas.openxmlformats.org/officeDocument/2006/relationships/hyperlink" Target="http://baike.baidu.com/view/291484.ht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diybbs.it168.com/thread-152478-1-1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wcn.net/viewthread-24569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wcn.net/viewthread-24569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700360" y="1700280"/>
            <a:ext cx="51116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越中览古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084720" y="4221000"/>
            <a:ext cx="17780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李白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14400" y="1295280"/>
            <a:ext cx="3124080" cy="51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越王勾践破吴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战士还家尽锦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宫女如花满春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只今惟有鹧鸪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04920"/>
            <a:ext cx="707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（三）、诵读并理解内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5480" y="10666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越中览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2514600"/>
            <a:ext cx="685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20574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起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述历史事件：勾践破吴归。（带着胜利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喜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581280"/>
            <a:ext cx="457200" cy="152424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4038480"/>
            <a:ext cx="13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342900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句描述越军胜利者姿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骄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038480" y="4495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句写王宫繁华欢乐的景象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荣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6095880"/>
            <a:ext cx="685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5791320"/>
            <a:ext cx="138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转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5715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四句写眼前凄凉景象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凄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438280"/>
            <a:ext cx="152280" cy="2514600"/>
          </a:xfrm>
          <a:custGeom>
            <a:avLst/>
            <a:gdLst>
              <a:gd name="textAreaLeft" fmla="*/ 97200 w 152280"/>
              <a:gd name="textAreaRight" fmla="*/ 152640 w 15228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819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58672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4038480"/>
            <a:ext cx="0" cy="1828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20" y="4267080"/>
            <a:ext cx="6069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4920" y="22860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（四）整体思路及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838080"/>
            <a:ext cx="86868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首句叙述历史事件，选取他感受最深的一部分，即吴败越胜，越王班师回国的两个镜头来写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首句点明题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说明所怀古迹的具体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、三两句分写战士还家、勾践还宫的情况。只“尽锦衣”三字，将越王及其战士得意归来，充满了胜利者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喜悦和骄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神情烘托了出来。“春殿”应上“如花”，充分地表达出越王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胜利以后把过去的卧薪尝胆之事丢得干干净净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句一转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把上面一切全部勾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现在人们所看到的只有几只鹧鸪在王城故址上飞来飞去罢了。至此全诗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主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写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人事的变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盛衰的无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慨叹而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cc00"/>
                </a:solidFill>
                <a:latin typeface="Arial"/>
                <a:ea typeface="华文行楷"/>
              </a:rPr>
              <a:t>比较阅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76360" y="1484280"/>
            <a:ext cx="583236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旧苑荒台杨柳新，</a:t>
            </a:r>
            <a:endParaRPr b="0" lang="en-US" sz="1800" spc="1" strike="noStrike">
              <a:ln w="0">
                <a:noFill/>
              </a:ln>
              <a:solidFill>
                <a:srgbClr val="00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菱歌清唱不胜春。</a:t>
            </a:r>
            <a:endParaRPr b="0" lang="en-US" sz="1800" spc="1" strike="noStrike">
              <a:ln w="0">
                <a:noFill/>
              </a:ln>
              <a:solidFill>
                <a:srgbClr val="00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只今惟有西江月，</a:t>
            </a:r>
            <a:endParaRPr b="0" lang="en-US" sz="1800" spc="1" strike="noStrike">
              <a:ln w="0">
                <a:noFill/>
              </a:ln>
              <a:solidFill>
                <a:srgbClr val="00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99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曾照吴王宫里人。</a:t>
            </a:r>
            <a:endParaRPr b="0" lang="en-US" sz="1800" spc="1" strike="noStrike">
              <a:ln w="0">
                <a:noFill/>
              </a:ln>
              <a:solidFill>
                <a:srgbClr val="0099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627280" y="333360"/>
            <a:ext cx="3240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《苏台览古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458136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比较：两首诗在思想内容和表达技巧方面有哪些相同和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907920"/>
            <a:ext cx="3359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《苏台览古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4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2000" y="76500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此两诗都是览古之作，主题相同，题材近似，都用了对比手法。但越中一首，着重在明写昔日之繁华，以四分之三的篇幅竭力渲染，而以结句写今日之荒凉抹杀之，转出主意。苏台一首则着重写今日之荒凉，以暗示昔日之繁华，以今古常新的自然景物来衬托变幻无常的人事，见出今昔盛衰之感，所以其表现手段又各自不同。从这里也可以看出诗人变化多端的艺术技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2421000"/>
            <a:ext cx="413244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00"/>
                </a:solidFill>
                <a:latin typeface="华文行楷"/>
                <a:ea typeface="华文行楷"/>
              </a:rPr>
              <a:t>旧苑荒台杨柳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00"/>
                </a:solidFill>
                <a:latin typeface="华文行楷"/>
                <a:ea typeface="华文行楷"/>
              </a:rPr>
              <a:t>菱歌清唱不胜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00"/>
                </a:solidFill>
                <a:latin typeface="华文行楷"/>
                <a:ea typeface="华文行楷"/>
              </a:rPr>
              <a:t>只今惟有西江月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00"/>
                </a:solidFill>
                <a:latin typeface="华文行楷"/>
                <a:ea typeface="华文行楷"/>
              </a:rPr>
              <a:t>曾照吴王宫里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836640"/>
            <a:ext cx="0" cy="533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1440" y="19080"/>
            <a:ext cx="9145440" cy="6838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924360" y="981000"/>
            <a:ext cx="4535280" cy="12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The end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92360" y="2492280"/>
            <a:ext cx="460872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Thank you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126828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996633"/>
                </a:solidFill>
                <a:latin typeface="Arial"/>
              </a:rPr>
              <a:t>咏史诗是我国古代诗歌中重要的一类。它直接以历史人物、历史事件为歌咏的题材，寄托作者的思想感情，表达某种议论或见解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50920" y="260280"/>
            <a:ext cx="3097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咏史诗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9640" y="278136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什么是怀古咏史诗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357336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33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666633"/>
                </a:solidFill>
                <a:latin typeface="Arial"/>
              </a:rPr>
              <a:t>余秋雨说过，中国传统文学中最大的抒情主题，不是爱，不是死，而是怀古之情、兴亡之叹。咏史诗就是以吟咏或评论历史故事或人物为题材，借此抒发情怀、讽刺时事的诗歌。怀古诗则是由作者身临旧地凭吊古迹而产生联想、想象，引起感慨而抒发情怀抱负。这类作品内容与思想大都比较沉重，感情基调一般都比较苍劲悲凉。诗人们对历史的处理往往是“攻其一点，不及其余” ，使诗作文短意长、含蓄蕴藉，令人回味再三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95280" y="476280"/>
            <a:ext cx="4572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怀古咏史诗的思想内容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700280"/>
            <a:ext cx="871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33ff"/>
                </a:solidFill>
                <a:latin typeface="Arial"/>
              </a:rPr>
              <a:t>抒发感慨，感伤兴衰</a:t>
            </a:r>
            <a:br>
              <a:rPr sz="2400"/>
            </a:br>
            <a:r>
              <a:rPr b="1" lang="zh-CN" sz="2400" spc="-1" strike="noStrike">
                <a:solidFill>
                  <a:srgbClr val="666633"/>
                </a:solidFill>
                <a:latin typeface="Arial"/>
              </a:rPr>
              <a:t>现实的不尽人意常常使诗人亲临旧地或回想史实时触景生情， 感念物换星移、物是人非</a:t>
            </a:r>
            <a:r>
              <a:rPr b="1" lang="zh-CN" sz="2400" spc="-1" strike="noStrike">
                <a:solidFill>
                  <a:srgbClr val="666633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666633"/>
                </a:solidFill>
                <a:latin typeface="Arial"/>
              </a:rPr>
              <a:t>慨叹昔盛今衰，独抒思古之幽情。尤其是做为六朝古都、曾经繁华一时的金陵更是成为古代诗人们感情的集射地，不知触发了多少人的怀古之情，金陵怀古几乎成为咏诗的一个专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"/>
              </a:rPr>
              <a:t>2 </a:t>
            </a:r>
            <a:r>
              <a:rPr b="1" lang="zh-CN" sz="2400" spc="-1" strike="noStrike">
                <a:solidFill>
                  <a:srgbClr val="9933ff"/>
                </a:solidFill>
                <a:latin typeface="Arial"/>
              </a:rPr>
              <a:t>怀古咏史，别有寓意：</a:t>
            </a:r>
            <a:br>
              <a:rPr sz="2400"/>
            </a:br>
            <a:r>
              <a:rPr b="1" lang="zh-CN" sz="2400" spc="-1" strike="noStrike">
                <a:solidFill>
                  <a:srgbClr val="666633"/>
                </a:solidFill>
                <a:latin typeface="Arial"/>
              </a:rPr>
              <a:t>　　这类诗作大多是作者在怀古咏史的同时，融进了的自己切实的生活感受和独特的生活体验，借古事、故地发出自己的声音，具有强烈个人意识。</a:t>
            </a:r>
            <a:br>
              <a:rPr sz="2400"/>
            </a:br>
            <a:r>
              <a:rPr b="1" lang="zh-CN" sz="2400" spc="-1" strike="noStrike">
                <a:solidFill>
                  <a:srgbClr val="666633"/>
                </a:solidFill>
                <a:latin typeface="Arial"/>
              </a:rPr>
              <a:t>　　或是借古讽今，别有寄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43280" y="620640"/>
            <a:ext cx="472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（一）写作背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413000"/>
            <a:ext cx="822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诗人游览越中（唐越州，治所在今浙江绍兴），有感于其地在古代历史上所发生过的历史事件而写下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在春秋时代，吴越两国争霸南方，成为世仇。越王勾践于公元前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494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年，被吴王夫差打败；回到国内，卧薪尝胆，誓报此仇。公元前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473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年，他果然把吴国灭了。诗写的就是这件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588000" y="260280"/>
            <a:ext cx="2376720" cy="6121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300720" y="404640"/>
            <a:ext cx="0" cy="590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819520"/>
            <a:ext cx="396252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990720"/>
            <a:ext cx="4495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89000"/>
            <a:ext cx="611964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白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701—76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字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太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号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青莲居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唐代伟大的浪漫主义诗人。其诗风雄奇豪放，想象丰富，语言流转自然，音律和谐多变。他善于从民歌、神话中汲取营养素材，构成其特有的瑰丽绚烂的色彩，是屈原以来积极浪漫主义诗歌的新高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白生活在唐代极盛时期，具有“济苍生” 、“安黎元”的进步理想，毕生为实现这一理想而奋斗。它的大量诗篇，既反映了那个时代的繁荣气象，也揭露和批判了统治集团的荒淫和腐败，表现出蔑视权贵，反抗传统束缚，追求自由和理想的积极精神。在艺术上，他的诗想象新奇，感情强烈，意境奇伟瑰丽，语言清新明快，形成豪放、超迈的艺术风格，达到了我国古代积极浪漫主义诗歌艺术的高峰。存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余首，有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李太白集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763640" y="260280"/>
            <a:ext cx="28814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越中怀古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1341360"/>
            <a:ext cx="604836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越王勾践破吴归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战士还家尽锦衣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　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宫女如花满春殿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只今惟有鹧鸪飞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24000" y="2602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（二）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1052640"/>
            <a:ext cx="79930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这首绝句是怀古之作，亦即诗人游览越中（唐越州，治所在今浙江绍兴），有感于其地在古代历史上所发生过的著名事件而写下的。诗人选取这一历史事件中他感受得最深的吴败越胜，越王班师回国以后的镜头，来抒发他的无限感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春秋时期，吴越争霸。越国战败后，越王勾践卧薪尝胆，十年生聚，十年教训，终于打败吴国，成为最终的胜利者。诗就从胜利者班师凯旋落笔，首说越王破吴，次说战士还家，两句写出了破吴后越国上下额手称庆的欢乐气氛。三句从越王宫殿遗址联想到当年充满后宫的如花宫女。整首诗的前三句写昔，最后一句写今，结构十分特殊。七绝若要前后对比，一般要在第三句转折，第四句作结，两两相对。然而此诗却用三句写昔，一气直下，极力渲染越王昔日繁盛，末句突然转折，跌入今日之荒凉冷落，昔盛今衰之感极为强烈，故而后世传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352320" y="404280"/>
            <a:ext cx="57913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5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楷体_GB2312"/>
              </a:rPr>
              <a:t>讨论：作者选取了哪些镜头？渲染了怎样的气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155736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镜头一：</a:t>
            </a: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楷体_GB2312"/>
              </a:rPr>
              <a:t>战士还家尽锦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战士凯旋，得到赏赐，不穿盔甲穿锦衣。只“尽锦衣”三字，就将越王及其战士得胜归来的喜悦和骄傲神情烘托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52680" y="3506760"/>
            <a:ext cx="5791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楷体_GB2312"/>
                <a:ea typeface="楷体_GB2312"/>
              </a:rPr>
              <a:t>镜头二：“宫女如花满春殿”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越王回宫，不但耀武扬威，而且荒淫逸乐起来，花朵儿样的美人，在宫殿簇拥着他，侍候着他。锦衣战士、如花宫女，渲染出繁盛、美好、热闹、欢乐的气氛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54878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Arial"/>
                <a:ea typeface="楷体_GB2312"/>
              </a:rPr>
              <a:t>镜头三：只今惟有鹧鸪飞 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眼前景，“鹧鸪飞”点出凄凉之境。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645000"/>
            <a:ext cx="353844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Arial"/>
                <a:ea typeface="华文行楷"/>
              </a:rPr>
              <a:t>越王勾践破吴归，</a:t>
            </a:r>
            <a:br>
              <a:rPr sz="3200"/>
            </a:br>
            <a:r>
              <a:rPr b="1" lang="zh-CN" sz="3200" spc="-1" strike="noStrike">
                <a:solidFill>
                  <a:srgbClr val="ffccff"/>
                </a:solidFill>
                <a:latin typeface="Arial"/>
                <a:ea typeface="华文行楷"/>
              </a:rPr>
              <a:t>战士还家尽锦衣。</a:t>
            </a:r>
            <a:br>
              <a:rPr sz="3200"/>
            </a:br>
            <a:r>
              <a:rPr b="1" lang="zh-CN" sz="3200" spc="-1" strike="noStrike">
                <a:solidFill>
                  <a:srgbClr val="ffccff"/>
                </a:solidFill>
                <a:latin typeface="Arial"/>
                <a:ea typeface="华文行楷"/>
              </a:rPr>
              <a:t>宫女如花满春殿，</a:t>
            </a:r>
            <a:br>
              <a:rPr sz="3200"/>
            </a:br>
            <a:r>
              <a:rPr b="1" lang="zh-CN" sz="3200" spc="-1" strike="noStrike">
                <a:solidFill>
                  <a:srgbClr val="ffccff"/>
                </a:solidFill>
                <a:latin typeface="Arial"/>
                <a:ea typeface="华文行楷"/>
              </a:rPr>
              <a:t>只今惟有鹧鸪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324000" y="263700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99"/>
                </a:solidFill>
                <a:latin typeface="Arial"/>
                <a:ea typeface="华文行楷"/>
              </a:rPr>
              <a:t>《越中览古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6640"/>
            <a:ext cx="0" cy="541008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284640"/>
            <a:ext cx="353844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Arial"/>
                <a:ea typeface="华文行楷"/>
              </a:rPr>
              <a:t>越王勾践破吴归，</a:t>
            </a:r>
            <a:br>
              <a:rPr sz="3200"/>
            </a:br>
            <a:r>
              <a:rPr b="1" lang="zh-CN" sz="3200" spc="-1" strike="noStrike">
                <a:solidFill>
                  <a:srgbClr val="ffccff"/>
                </a:solidFill>
                <a:latin typeface="Arial"/>
                <a:ea typeface="华文行楷"/>
              </a:rPr>
              <a:t>战士还家尽锦衣。</a:t>
            </a:r>
            <a:br>
              <a:rPr sz="3200"/>
            </a:br>
            <a:r>
              <a:rPr b="1" lang="zh-CN" sz="3200" spc="-1" strike="noStrike">
                <a:solidFill>
                  <a:srgbClr val="ffccff"/>
                </a:solidFill>
                <a:latin typeface="Arial"/>
                <a:ea typeface="华文行楷"/>
              </a:rPr>
              <a:t>宫女如花满春殿，</a:t>
            </a:r>
            <a:br>
              <a:rPr sz="3200"/>
            </a:br>
            <a:r>
              <a:rPr b="1" lang="zh-CN" sz="3200" spc="-1" strike="noStrike">
                <a:solidFill>
                  <a:srgbClr val="ffccff"/>
                </a:solidFill>
                <a:latin typeface="Arial"/>
                <a:ea typeface="华文行楷"/>
              </a:rPr>
              <a:t>只今惟有鹧鸪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324000" y="177336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99"/>
                </a:solidFill>
                <a:latin typeface="Arial"/>
                <a:ea typeface="华文行楷"/>
              </a:rPr>
              <a:t>《越中览古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32000" y="836640"/>
            <a:ext cx="0" cy="5410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132000" y="2133720"/>
            <a:ext cx="60120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前三句所写景物为作者的推测想像之景，极力渲染出当时的热闹繁华， “只今惟有鹧鸪飞”为眼前景，写出今日此地的凄凉冷落，“鹧鸪飞”三字饱含无限的惋惜和感慨，与前三句形成鲜明的对比。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这中间蕴涵着作者对勾践的嘲讽和对盛衰无常的感慨。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透过这首诗，我们可以发现诗人的历史思考：忘却昔日的屈辱和苦难，陶醉于暂时的胜利和光荣，其结果只能使胜利化为乌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19640" y="189000"/>
            <a:ext cx="5724360" cy="1191240"/>
          </a:xfrm>
          <a:prstGeom prst="rect">
            <a:avLst/>
          </a:prstGeom>
          <a:noFill/>
          <a:ln w="572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讨论：前三句极写得胜之盛，与 第四句是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从第四句中，你读出了诗人怎样的感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悟出了怎样的道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4:41:52Z</dcterms:created>
  <dc:creator>YlmF</dc:creator>
  <dc:description/>
  <dc:language>en-US</dc:language>
  <cp:lastModifiedBy>zmj</cp:lastModifiedBy>
  <dcterms:modified xsi:type="dcterms:W3CDTF">2009-10-15T04:38:13Z</dcterms:modified>
  <cp:revision>7</cp:revision>
  <dc:subject/>
  <dc:title>幻灯片 1</dc:title>
</cp:coreProperties>
</file>