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25A-FF02-4943-8DFA-B61D8014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B211-E00F-4CEF-B89E-36696E29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4ED-4591-4970-9EAD-9AE98BEC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6594-E896-4B6D-9CB5-3C10C75C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FED-E9C4-4AAA-911B-92596765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5DD-E7AB-4715-AE13-7CE80492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96F-6643-44EF-9402-5F089A842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DE6-B173-45DF-939C-E386B3A7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E37-73E0-42CC-86E8-B280C172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E68-480F-432B-8F54-3E96AF70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0009-6563-41AE-9EE9-5D2ABC58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224-2CC5-4153-9DAE-EC4C8BD8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BC00-E9B6-4688-8CEE-C9AB26E9DC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117360"/>
            <a:ext cx="822960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99"/>
                </a:solidFill>
                <a:latin typeface="Arial"/>
                <a:ea typeface="黑体"/>
              </a:rPr>
              <a:t>越中览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80000" y="3933720"/>
            <a:ext cx="299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ffff"/>
                </a:solidFill>
                <a:latin typeface="Arial"/>
                <a:ea typeface="方正舒体"/>
              </a:rPr>
              <a:t>李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2454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709760" y="1628640"/>
            <a:ext cx="139932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仿宋_GB2312"/>
              </a:rPr>
              <a:t>李白的当涂之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476280"/>
            <a:ext cx="47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《</a:t>
            </a:r>
            <a:r>
              <a:rPr b="1" lang="en-US" sz="2800" spc="-1" strike="noStrike">
                <a:solidFill>
                  <a:srgbClr val="00ff00"/>
                </a:solidFill>
                <a:latin typeface="Arial"/>
              </a:rPr>
              <a:t>越中览古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写作背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413000"/>
            <a:ext cx="82296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诗人游览越中，有感于其地在古代历史上所发生过的历史事件而写下这首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在春秋时代，吴越两国争霸南方，成为世仇。越王勾践于公元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9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，被吴王夫差打败；卧薪尝胆，誓报此仇。公元前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7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，他果然把吴国灭了。这首诗写的就是这件事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  <a:ea typeface="华文行楷"/>
              </a:rPr>
              <a:t>越中览古</a:t>
            </a:r>
            <a:r>
              <a:rPr b="1" lang="zh-CN" sz="4400" spc="-1" strike="noStrike">
                <a:solidFill>
                  <a:srgbClr val="000404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404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66ffff"/>
                </a:solidFill>
                <a:latin typeface="Arial"/>
                <a:ea typeface="方正舒体"/>
              </a:rPr>
              <a:t>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0560" y="2133720"/>
            <a:ext cx="600732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越王勾践破吴归，</a:t>
            </a:r>
            <a:br>
              <a:rPr sz="4400"/>
            </a:br>
            <a:r>
              <a:rPr b="1" lang="en-US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战士还家尽锦衣。</a:t>
            </a:r>
            <a:br>
              <a:rPr sz="4400"/>
            </a:br>
            <a:r>
              <a:rPr b="1" lang="en-US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宫女如花满春殿，</a:t>
            </a:r>
            <a:br>
              <a:rPr sz="4400"/>
            </a:br>
            <a:r>
              <a:rPr b="1" lang="en-US" sz="4400" spc="-1" strike="noStrike">
                <a:solidFill>
                  <a:srgbClr val="bbe0e3"/>
                </a:solidFill>
                <a:latin typeface="Arial"/>
                <a:ea typeface="楷体_GB2312"/>
              </a:rPr>
              <a:t>只今惟有鹧鸪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cc"/>
                </a:solidFill>
                <a:latin typeface="Arial"/>
              </a:rPr>
              <a:t>赏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23920"/>
            <a:ext cx="82296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三两句分写战士还家、勾践还宫的情况。消灭了敌人，雪了耻，战士都凯旋了；由于战事已经结束，大家都受到了赏赐，所以不穿铁甲，而穿锦衣。只“尽锦衣”三字，就将越王及其战士得意归来，充满了胜利者的喜悦和骄傲的神情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充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烘托出来。越王回国以后，不但耀武扬威，而且荒淫逸乐起来，于是，花朵儿一般的美人，就站满了宫殿，拥簇着他，侍候着他。“春殿”的“春”字，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加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上“如花”，描摹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了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美好的时光和景象，</a:t>
            </a:r>
            <a:r>
              <a:rPr b="0" lang="zh-CN" sz="3200" spc="-1" strike="noStrike">
                <a:solidFill>
                  <a:srgbClr val="66ff33"/>
                </a:solidFill>
                <a:latin typeface="黑体"/>
                <a:ea typeface="黑体"/>
              </a:rPr>
              <a:t>但</a:t>
            </a:r>
            <a:r>
              <a:rPr b="0" lang="en-US" sz="3200" spc="-1" strike="noStrike">
                <a:solidFill>
                  <a:srgbClr val="66ff33"/>
                </a:solidFill>
                <a:latin typeface="黑体"/>
                <a:ea typeface="黑体"/>
              </a:rPr>
              <a:t>不一定是指春天。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只写这一点，就把越王将卧薪尝胆的往事丢得干干净净的情形表现得非常充分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6560" y="76500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都城中到处是锦衣战士，宫殿上站满了如花宫女。这种场景十分繁盛、美好、热闹、欢乐，然而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结句突然一转，将上面所写的一切一笔勾销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。过去曾经存在过的胜利、威武、富贵、荣华，现在所剩下的，只是几只鹧鸪在王城故址上飞来飞去罢了。这一句写</a:t>
            </a: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人事的变化，盛衰的无常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，过去的统治者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不希望他们的富贵荣华是子孙万世之业，而诗篇却如实地指出了这种希望的破灭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5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鹧鸪”这个意象在古文中一般有何寓意？</a:t>
            </a:r>
            <a:r>
              <a:rPr b="0" lang="zh-CN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560" y="270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鹧鸪的鸣声极容易勾起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旅途艰险的联想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满腔的离愁别绪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。如“落照苍茫秋草明，鹧鸪啼处远人行”（唐人李群玉《九子坡闻鹧鸪》）、“江晚正愁余，山深闻鹧鸪”（辛弃疾《菩萨蛮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书江西造口壁》）等，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诗中的鹧鸪都不是纯客观意义上的一种鸟。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765000"/>
            <a:ext cx="83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00"/>
                </a:solidFill>
                <a:latin typeface="Times New Roman"/>
                <a:ea typeface="华文彩云"/>
              </a:rPr>
              <a:t>重点鉴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84640"/>
            <a:ext cx="86853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新魏"/>
                <a:ea typeface="华文新魏"/>
              </a:rPr>
              <a:t>   </a:t>
            </a:r>
            <a:r>
              <a:rPr b="0" lang="en-US" sz="4400" spc="-1" strike="noStrike">
                <a:solidFill>
                  <a:srgbClr val="ffff66"/>
                </a:solidFill>
                <a:latin typeface="华文新魏"/>
                <a:ea typeface="华文新魏"/>
              </a:rPr>
              <a:t>一、诗歌中作者选取了哪两个镜头？说明什么问题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作者选取了哪两个镜头？说明什么问题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123920"/>
            <a:ext cx="85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答：镜头一：“战士还家尽锦衣”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衣锦还乡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）</a:t>
            </a:r>
            <a:br>
              <a:rPr sz="3200"/>
            </a:b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  镜头二：“宫女如花满春殿”（</a:t>
            </a:r>
            <a:r>
              <a:rPr b="1" lang="zh-CN" sz="32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纵情欢乐</a:t>
            </a:r>
            <a:r>
              <a:rPr b="1" lang="zh-CN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357720"/>
            <a:ext cx="7924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bbe0e3"/>
                </a:solidFill>
                <a:latin typeface="楷体_GB2312"/>
                <a:ea typeface="楷体_GB2312"/>
              </a:rPr>
              <a:t>这表明越王已经把苦难和屈辱忘记，而完全陶醉在胜利的喜悦之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ff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68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华文中宋"/>
              </a:rPr>
              <a:t>二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  <a:ea typeface="华文中宋"/>
              </a:rPr>
              <a:t>前三句极写得胜之盛，与第四句是什么关系？从第四句中，你读出了诗人怎样的感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2276280"/>
            <a:ext cx="805824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0ee5"/>
                </a:solidFill>
                <a:latin typeface="Arial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99ff"/>
                </a:solidFill>
                <a:latin typeface="Arial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答：前三句渲染当时的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热闹繁华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，第四句写出今日此地的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  <a:ea typeface="楷体_GB2312"/>
              </a:rPr>
              <a:t>凄凉冷落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，“鹧鸪飞”三字饱含无限的惋惜和感慨，与前三句形成鲜明的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楷体_GB2312"/>
              </a:rPr>
              <a:t>对比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47242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ff99"/>
                </a:solidFill>
                <a:latin typeface="华文新魏"/>
                <a:ea typeface="华文新魏"/>
              </a:rPr>
              <a:t>         </a:t>
            </a:r>
            <a:r>
              <a:rPr b="1" lang="zh-CN" sz="4400" spc="-1" strike="noStrike">
                <a:solidFill>
                  <a:srgbClr val="ccff99"/>
                </a:solidFill>
                <a:latin typeface="华文新魏"/>
                <a:ea typeface="华文新魏"/>
              </a:rPr>
              <a:t>这中间蕴涵着作者对人生盛衰无常的感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640" y="4042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华文行楷"/>
              </a:rPr>
              <a:t>《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  <a:ea typeface="华文行楷"/>
              </a:rPr>
              <a:t>越中览古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》</a:t>
            </a:r>
            <a:r>
              <a:rPr b="0" lang="en-US" sz="4800" spc="-1" strike="noStrike">
                <a:solidFill>
                  <a:srgbClr val="000404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7640" y="1860120"/>
            <a:ext cx="4753080" cy="25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越王勾践破吴归，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战士还家尽锦衣。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宫女如花满春殿，</a:t>
            </a:r>
            <a:br>
              <a:rPr sz="3600"/>
            </a:b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只今惟有鹧鸪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692280"/>
            <a:ext cx="52801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华文行楷"/>
                <a:ea typeface="华文行楷"/>
              </a:rPr>
              <a:t>《苏台览古》</a:t>
            </a:r>
            <a:r>
              <a:rPr b="1" lang="en-US" sz="3600" spc="-1" strike="noStrike">
                <a:solidFill>
                  <a:srgbClr val="090ee5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090ee5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旧苑荒台杨柳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菱歌清唱不胜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只今惟有西江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曾照吴王宫里人。</a:t>
            </a:r>
            <a:r>
              <a:rPr b="1" lang="en-US" sz="3600" spc="-1" strike="noStrike">
                <a:solidFill>
                  <a:srgbClr val="090ee5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65880" y="2060640"/>
            <a:ext cx="1155240" cy="2016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Arial"/>
                <a:ea typeface="华文行楷"/>
              </a:rPr>
              <a:t>对比阅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472428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请比较两首诗在主旨、写法上的异同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195640" y="1484280"/>
            <a:ext cx="50403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ff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李白生平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ff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1341360"/>
            <a:ext cx="55800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华文行楷"/>
                <a:ea typeface="华文行楷"/>
              </a:rPr>
              <a:t>《</a:t>
            </a:r>
            <a:r>
              <a:rPr b="0" lang="en-US" sz="3600" spc="-1" strike="noStrike">
                <a:solidFill>
                  <a:srgbClr val="ffff99"/>
                </a:solidFill>
                <a:latin typeface="华文行楷"/>
                <a:ea typeface="华文行楷"/>
              </a:rPr>
              <a:t>苏台</a:t>
            </a:r>
            <a:r>
              <a:rPr b="0" lang="en-US" sz="2000" spc="-1" strike="noStrike">
                <a:solidFill>
                  <a:srgbClr val="ffff99"/>
                </a:solidFill>
                <a:latin typeface="华文行楷"/>
                <a:ea typeface="华文行楷"/>
              </a:rPr>
              <a:t>①</a:t>
            </a:r>
            <a:r>
              <a:rPr b="0" lang="en-US" sz="3600" spc="-1" strike="noStrike">
                <a:solidFill>
                  <a:srgbClr val="ffff99"/>
                </a:solidFill>
                <a:latin typeface="华文行楷"/>
                <a:ea typeface="华文行楷"/>
              </a:rPr>
              <a:t>览</a:t>
            </a:r>
            <a:r>
              <a:rPr b="0" lang="en-US" sz="2000" spc="-1" strike="noStrike">
                <a:solidFill>
                  <a:srgbClr val="ffff99"/>
                </a:solidFill>
                <a:latin typeface="华文行楷"/>
                <a:ea typeface="华文行楷"/>
              </a:rPr>
              <a:t>②</a:t>
            </a:r>
            <a:r>
              <a:rPr b="0" lang="en-US" sz="3600" spc="-1" strike="noStrike">
                <a:solidFill>
                  <a:srgbClr val="ffff99"/>
                </a:solidFill>
                <a:latin typeface="华文行楷"/>
                <a:ea typeface="华文行楷"/>
              </a:rPr>
              <a:t>古</a:t>
            </a:r>
            <a:r>
              <a:rPr b="1" lang="en-US" sz="3600" spc="-1" strike="noStrike">
                <a:solidFill>
                  <a:srgbClr val="ffff99"/>
                </a:solidFill>
                <a:latin typeface="华文行楷"/>
                <a:ea typeface="华文行楷"/>
              </a:rPr>
              <a:t>》</a:t>
            </a:r>
            <a:r>
              <a:rPr b="1" lang="en-US" sz="3600" spc="-1" strike="noStrike">
                <a:solidFill>
                  <a:srgbClr val="090ee5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0099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旧苑</a:t>
            </a:r>
            <a:r>
              <a:rPr b="1" lang="en-US" sz="2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③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荒台杨柳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菱歌</a:t>
            </a:r>
            <a:r>
              <a:rPr b="1" lang="en-US" sz="2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④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清唱</a:t>
            </a:r>
            <a:r>
              <a:rPr b="1" lang="en-US" sz="2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⑤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不胜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只今惟有西江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曾照吴王宫里人</a:t>
            </a:r>
            <a:r>
              <a:rPr b="1" lang="en-US" sz="2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⑥</a:t>
            </a: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。</a:t>
            </a:r>
            <a:r>
              <a:rPr b="1" lang="en-US" sz="3600" spc="-1" strike="noStrike">
                <a:solidFill>
                  <a:srgbClr val="090ee5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8360" y="549360"/>
            <a:ext cx="426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　　①苏台：即姑苏台，故址在今江苏省苏州市西南姑苏山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②览：观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③旧苑：指苏台。苑：园林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④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菱歌：东南水乡老百姓采菱时唱的民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⑤清唱：形容歌声婉转清亮。 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　⑥吴王宫里人：指吴王夫差宫廷里的嫔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此诗一上来就写吴苑的残破，苏台的荒凉，而人事的变化，兴废的无常，自在其中。后面紧接以杨柳在春天又发新芽，柳色青青，年年如旧，岁岁常新，以“新”与“旧”，不变的景物与变化的人事，作</a:t>
            </a:r>
            <a:r>
              <a:rPr b="1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鲜明的对照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更加深了凭吊古迹的感慨。一句之中，以两种不同的事物来对比，写出古今盛衰之感，用意遣词，精炼而又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65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此两诗都是</a:t>
            </a:r>
            <a:r>
              <a:rPr b="1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览古之作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题材近似，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都表达了作者对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黑体"/>
              </a:rPr>
              <a:t>人生盛衰无常的感慨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但越中一首，着重在写</a:t>
            </a:r>
            <a:r>
              <a:rPr b="1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昔日之繁华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以四分之三的篇幅竭力渲染，而以结句写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今日之荒凉抹杀之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转出主意。苏台一首则着重写</a:t>
            </a:r>
            <a:r>
              <a:rPr b="1" lang="en-US" sz="3200" spc="-1" strike="noStrike">
                <a:solidFill>
                  <a:srgbClr val="ffff66"/>
                </a:solidFill>
                <a:latin typeface="黑体"/>
                <a:ea typeface="黑体"/>
              </a:rPr>
              <a:t>今日之荒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以暗示昔日之繁华，以今古常新的自然景物来衬托变幻无常的人事，见出今昔盛衰之感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，所以其表现手段又各自不同。从这里也可以看出诗人变化多端的艺术技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82920" y="1339920"/>
            <a:ext cx="4895640" cy="453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050920" y="1700280"/>
            <a:ext cx="51134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谢谢观赏</a:t>
            </a:r>
            <a:endParaRPr b="0" i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p:transition spd="med">
    <p:fade thruBlk="true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907920"/>
            <a:ext cx="896472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 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五岁诵六甲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十岁观百家。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岁，学剑术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岁前后，在家乡的匡山读书，从友人那里学习纵横术。李白勤奋好学，“常横经籍书，制作不倦”。 在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岁以后，李白游历了蜀中不少名胜古迹。李白有着</a:t>
            </a:r>
            <a:r>
              <a:rPr b="1" lang="zh-CN" sz="3200" spc="-1" strike="noStrike">
                <a:solidFill>
                  <a:srgbClr val="99ff33"/>
                </a:solidFill>
                <a:latin typeface="Arial"/>
              </a:rPr>
              <a:t>很强的事业心，希望建功立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；但他受道教和道家思想影响较深，又热切地</a:t>
            </a:r>
            <a:r>
              <a:rPr b="1" lang="zh-CN" sz="3200" spc="-1" strike="noStrike">
                <a:solidFill>
                  <a:srgbClr val="99ff33"/>
                </a:solidFill>
                <a:latin typeface="Arial"/>
              </a:rPr>
              <a:t>向往着求仙学道的隐逸生活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这种矛盾的生活理想，在他身上最后形成二者兼顾的愿望，即“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功成，名遂，身退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 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4000" y="260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、好任侠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喜纵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773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ff33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开元十四年（公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26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），正是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开元盛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国家呈现出一派欣欣向荣，李白坚信“天生我材必有用”，对前途充满信心。那时的人，要想在政治上有所作为，通常是走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科举考试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道路。此外，还有一条“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终南捷径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”，即通过求仙访道的隐居生活，扩大影响，引起朝廷重视，也可能被召去做官。李白豪放不羁，又抱负很大，自视甚高，不愿走科举道路，所以选择了终南捷径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620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方正综艺简体"/>
                <a:ea typeface="方正综艺简体"/>
              </a:rPr>
              <a:t>二、 仗剑远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923760"/>
            <a:ext cx="8064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公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42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，李白被朝廷征召去长安，李白结识了任太子宾客的老诗人贺知章。贺知章对李白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蜀道难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十分赞赏，认为此诗只有神仙才写得出来，因而称李白为“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谪仙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”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由于玉真公主和贺知章的进一步推荐，李白终于受到玄宗皇帝的亲自接见，并以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翰林供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身份被安置在翰林院。这身份是为迎合皇帝的兴趣，随时写些应景诗文。李白曾利用与玄宗接近的机会，向玄宗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申述过自己对国家大事的看法和主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但当时的皇帝已把“朝事付之宰相”．深居官中，沉溺声色。当玄宗觉得李白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好言政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不满足于当驯服的御用文人时，就疏远了他。 从李白方面来说，玄宗之所以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疏远他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与他那傲岸性格有关。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33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58480" y="328680"/>
            <a:ext cx="134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66"/>
                </a:solidFill>
                <a:latin typeface="Arial"/>
                <a:ea typeface="经典平黑简"/>
              </a:rPr>
              <a:t>三、</a:t>
            </a:r>
            <a:r>
              <a:rPr b="0" lang="zh-CN" sz="3200" spc="-1" strike="noStrike">
                <a:solidFill>
                  <a:srgbClr val="ffff66"/>
                </a:solidFill>
                <a:latin typeface="经典平黑简"/>
                <a:ea typeface="经典平黑简"/>
              </a:rPr>
              <a:t>翰林供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98100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杜甫在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饮中八仙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中说：“李白斗酒诗百篇，长安市上酒家眠。天子呼来不上船，自称臣是酒中仙。”李白这种</a:t>
            </a:r>
            <a:r>
              <a:rPr b="1" lang="zh-CN" sz="2800" spc="-1" strike="noStrike">
                <a:solidFill>
                  <a:srgbClr val="66ff33"/>
                </a:solidFill>
                <a:latin typeface="Arial"/>
              </a:rPr>
              <a:t>无视封建秩序的叛逆精神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显然是统治者所不喜欢的。相传，玄宗在便殿召见李白时，李白曾让高力士为他脱靴。高力士是最有权势的一个大宦官，为解“脱靴”之恨，他挑拨杨贵妃说，李白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清平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中的“借问汉宫谁得似，可怜飞燕倚新妆”二句，“以飞燕指妃子，是贱之甚矣！”使杨贵妃由此深恨李白。他们都是玄宗最宠的人，在玄宗面前进谗言，再加上权臣贵戚的谗毁，自然会影响玄宗对李白的看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787320"/>
            <a:ext cx="806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　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宝三载春，李白知道自己留在长安已不能再有所作为，于是上疏，“恳求归山”。玄宗没有挽留他，而是“赐金放还”。 李白在长安实际上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只有一年半时间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宝三载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李白在东都洛阳认识了比他小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岁的诗人杜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他们情同手足。 和杜甫分别后，李白又在漫游中度过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O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。他的漫游，一是求仙访道，欣赏大自然的美。他说：“五岳寻仙不辞远，一生好人名山游。”此外也是寻求为国效力的机会。 这个时期，他目睹了朝政日加黑暗，李白内心的痛苦也与日俱增。但他决不向权贵屈膝，在著名的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梦游天姥吟留别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诗中，他写道：“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安能推眉折腰事权贵，使我不得开心颜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”表现了他的高尚人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54800" y="26028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  <a:ea typeface="经典平黑简"/>
              </a:rPr>
              <a:t>四、再次远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1080" y="693720"/>
            <a:ext cx="878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天宝十四载，安史之乱爆发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 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宝十五载，玄宗西逃成都，太子李亨即位。永王经过寻阳，知道李白在庐山隐居，派谋士韦子春三次上山聘请李白参加他的幕府。李白表示要辅佐永王，平定叛乱。但没想到，永王与肃宗发生矛盾，不久，永王即被肃宗的军队所消灭。李白也因此获罪，被捕入狱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流放夜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今贵州桐梓县一带）。（公元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5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年）二月，在经历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个月的流放，行至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巫山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时，遇到朝廷大赦，李白才重新获得自由。他随即雇船东归，名作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早发白帝城</a:t>
            </a:r>
            <a:r>
              <a:rPr b="1" lang="en-US" sz="2800" spc="-1" strike="noStrike">
                <a:solidFill>
                  <a:srgbClr val="99ff33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写道：“朝辞白帝彩云间，千里江陵一日还。两岸猿声啼不住，轻舟已过万重山。”此诗笔调明朗轻快，反映了李白遇赦获释的欢快情绪。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76500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李白在一生的最后几年中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穷愁潦倒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生活十分凄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岁时，高龄的李白，仍不肯放弃这最后的报国机会，打算赶往临淮，参加李光弼的军队。可惜走到半路就病倒了，未能如愿。第二年，李白在安徽当涂与世长辞。 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李白一生政治上不得志，在贫病中死去，但他以杰出的诗歌创作，为自己树起了一座丰碑。其诗</a:t>
            </a:r>
            <a:r>
              <a:rPr b="1" lang="zh-CN" sz="2800" spc="-1" strike="noStrike">
                <a:solidFill>
                  <a:srgbClr val="99ff33"/>
                </a:solidFill>
                <a:latin typeface="Arial"/>
              </a:rPr>
              <a:t>气象宏大，格调雄浑，感情豪迈，境界开阔，清新自然，余味无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李白和伟大的现实主义诗人杜甫，把中国诗歌艺术推向顶峰，给后世留下了宝贵的遗产。正如韩愈所说：“李杜文章在，光焰万丈长。”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4960" y="1620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  <a:ea typeface="经典平黑简"/>
              </a:rPr>
              <a:t>五、病逝途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6:05:32Z</dcterms:created>
  <dc:creator>Administrator</dc:creator>
  <dc:description/>
  <cp:keywords/>
  <dc:language>en-US</dc:language>
  <cp:lastModifiedBy>雨林木风</cp:lastModifiedBy>
  <dcterms:modified xsi:type="dcterms:W3CDTF">2010-12-06T05:58:21Z</dcterms:modified>
  <cp:revision>57</cp:revision>
  <dc:subject/>
  <dc:title>《越中览古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2</vt:r8>
  </property>
</Properties>
</file>