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FE9C-9881-4B4A-A6A4-A0E3C7EB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BDA-60BC-4487-8944-B62154D9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0CF-BFB9-4C4D-AE37-E193B472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2A5-CB2B-4510-A015-2E1B090E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CD8A-E542-4CDE-BA81-D3300407C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C768-23D4-48BD-B9BA-D937C80B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01F8-C684-4482-ADAA-2814E917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5A97-3F45-4A71-ACA1-C765DAD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1ACD-FAD7-4657-A666-0DA93802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644A-29F2-4DDB-ADC4-FED3423B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2CAF-B9AE-499B-8724-D1A1388F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904E-3948-437E-A834-8F9A188D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D80D5-78B1-4BA8-BFF0-9E9E469A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514C-614E-4755-93DE-DACA0DE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3FA1-FC2B-4837-984F-E542B019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4232-05D4-4540-B531-EA8F193F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77CA-07BA-45EC-88E4-43EEF70E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02B-CD1E-4EFA-AC9F-36C04803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FE6-0478-46EE-9E70-43ACEC4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3B9-B462-4C5C-AA7C-5B54DF8D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27E-295D-4EFF-B6B5-1B534E19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9829-E1EC-47CC-A5B9-D54645CB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D07C-417D-4C7C-A2A1-8B52D36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BF39-FDEE-4AF6-B9A1-7BF1B16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27AC-6ED7-4C28-9192-F45585EAC892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04DD-375D-402C-AF10-2DC5E30822CD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292,8,&#24187;&#28783;&#29255; 8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292,10,&#24187;&#28783;&#29255; 10" TargetMode="External"/><Relationship Id="rId4" Type="http://schemas.openxmlformats.org/officeDocument/2006/relationships/hyperlink" Target="292,9,&#24187;&#28783;&#29255; 9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971640" y="1557360"/>
            <a:ext cx="5905440" cy="25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行楷"/>
              </a:rPr>
              <a:t>越中览古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66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029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>
            <a:lum brigh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03640" y="189000"/>
            <a:ext cx="563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镜头一：义士还家尽锦衣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战士凯旋，得到赏赐，不穿盔甲穿锦衣。只“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尽锦衣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”三字，就将越王及其战士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得胜归来的喜悦和骄傲神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烘托出来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637000"/>
            <a:ext cx="57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镜头二：宫女如花满春殿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越王回宫，不但耀武扬威，而且荒淫逸乐起来，花朵儿样的美人，在宫殿簇拥着他，侍候着他。锦衣战士、如花宫女，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渲染出繁盛、美好、热闹、欢乐的气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54849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镜头三：只今惟有鹧鸪飞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眼前景，“鹧鸪飞”</a:t>
            </a:r>
            <a:r>
              <a:rPr b="1" lang="zh-CN" sz="2800" spc="-1" strike="noStrike">
                <a:solidFill>
                  <a:srgbClr val="cc0099"/>
                </a:solidFill>
                <a:latin typeface="黑体"/>
                <a:ea typeface="黑体"/>
              </a:rPr>
              <a:t>点出凄凉冷落之境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645000"/>
            <a:ext cx="3538440" cy="26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越王勾践破吴归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义士还家尽锦衣。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宫女如花满春殿，</a:t>
            </a: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只今惟有鹧鸪飞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22200" y="2637000"/>
            <a:ext cx="388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越中览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Arial"/>
                <a:ea typeface="黑体"/>
                <a:hlinkClick r:id="rId3"/>
              </a:rPr>
              <a:t>古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836640"/>
            <a:ext cx="0" cy="5410080"/>
          </a:xfrm>
          <a:prstGeom prst="line">
            <a:avLst/>
          </a:prstGeom>
          <a:ln w="381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686800" y="6400800"/>
            <a:ext cx="304920" cy="152280"/>
          </a:xfrm>
          <a:custGeom>
            <a:avLst/>
            <a:gdLst>
              <a:gd name="textAreaLeft" fmla="*/ 53280 w 304920"/>
              <a:gd name="textAreaRight" fmla="*/ 221040 w 30492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2362320"/>
            <a:ext cx="304920" cy="22860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133720"/>
            <a:ext cx="5486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战士尽锦衣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宫女满春殿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惟有鹧鸪飞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3623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762120"/>
            <a:ext cx="2362320" cy="3809880"/>
          </a:xfrm>
          <a:prstGeom prst="cloudCallout">
            <a:avLst>
              <a:gd name="adj1" fmla="val -38305"/>
              <a:gd name="adj2" fmla="val 56416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忘记过去，陶醉于胜利，必然使胜利化为乌有！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1840" y="3048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对比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70880" y="2362320"/>
            <a:ext cx="1744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昔日繁华——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今日凄凉——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29840" y="5715000"/>
            <a:ext cx="7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表达盛衰无常的感慨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21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对比手法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16002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借古讽今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通过揭示越国由繁华至衰败的原因——从下至上的奢侈，借此讽谏    当朝者不要重蹈古人覆辙。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191120"/>
            <a:ext cx="85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虚实结合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由眼前荒凉之景引发联想        和想象，写出越国的繁华，虚实相生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38592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241200"/>
            <a:ext cx="51134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方正粗圆简体"/>
              </a:rPr>
              <a:t>《越中览古》小结：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8893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内容：前三句写出古越的热闹繁华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尾句通过鹧鸪意象写出现今的荒凉、衰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手法：采用虚实结合、古今对比、借古讽今手法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情感：抒发了昔盛今衰之感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借此讽谏当朝者不要重蹈古人覆辙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8" name="Picture 6" descr="27_4200_18"/>
          <p:cNvPicPr/>
          <p:nvPr/>
        </p:nvPicPr>
        <p:blipFill>
          <a:blip r:embed="rId3"/>
          <a:stretch/>
        </p:blipFill>
        <p:spPr>
          <a:xfrm>
            <a:off x="304920" y="5791320"/>
            <a:ext cx="8424720" cy="66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492360" y="170172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762120"/>
            <a:ext cx="5108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隶书"/>
                <a:ea typeface="隶书"/>
              </a:rPr>
              <a:t>苏台览古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2286000"/>
            <a:ext cx="59464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旧苑荒台杨柳新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菱歌清唱不胜春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只今惟有西江月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曾照吴王宫里人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14400" y="762120"/>
            <a:ext cx="7696080" cy="22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此两诗都是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览古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之作，主题相同，题材近似，都用了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比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手法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越中一首，着重在明写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昔日之繁华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以四分之三的篇幅竭力渲染，而以结句写今日之荒凉抹杀之，转出主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苏台一首则着重写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今日之荒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以暗示昔日之繁华，以今古常新的自然景物来衬托变幻无常的人事，见出今昔盛衰之感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19920" y="4495680"/>
            <a:ext cx="262872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492360" y="170172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533520"/>
            <a:ext cx="51055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隶书"/>
                <a:ea typeface="隶书"/>
              </a:rPr>
              <a:t>乌衣巷</a:t>
            </a:r>
            <a:br>
              <a:rPr sz="7200"/>
            </a:b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刘禹锡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2286000"/>
            <a:ext cx="647712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朱雀桥边野草花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乌衣巷口夕阳斜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旧时王谢堂前燕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80808"/>
                </a:solidFill>
                <a:latin typeface="Arial"/>
                <a:ea typeface="华文新魏"/>
              </a:rPr>
              <a:t>   </a:t>
            </a: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飞入寻常百姓家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546960" y="0"/>
            <a:ext cx="25970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191120" y="380880"/>
            <a:ext cx="49528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朱雀桥旁、乌衣巷里曾一度是高门望族的聚集之处，如今时过境迁，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昔日繁华已如落花流水不复存在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全诗抒发的是一种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物是人非、沧海桑田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感慨，诗人选用了意蕴深刻的意象：野草、斜阳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其中最具匠心的是“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飞燕</a:t>
            </a:r>
            <a:r>
              <a:rPr b="1" lang="en-US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”的形象，燕子彼时飞入侯门，如今那侯门深宅已成了百姓家，飞燕成为</a:t>
            </a:r>
            <a:r>
              <a:rPr b="1" lang="zh-CN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历史的见证人</a:t>
            </a:r>
            <a:r>
              <a:rPr b="1" lang="zh-CN" sz="24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隶书"/>
                <a:ea typeface="隶书"/>
              </a:rPr>
              <a:t>乌衣巷</a:t>
            </a:r>
            <a:r>
              <a:rPr b="1" lang="en-US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刘禹锡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朱雀桥边野草花，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乌衣巷口夕阳斜。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旧时王谢堂前燕，</a:t>
            </a:r>
            <a:br>
              <a:rPr sz="3600"/>
            </a:br>
            <a:r>
              <a:rPr b="1" lang="zh-CN" sz="3600" spc="-1" strike="noStrike">
                <a:solidFill>
                  <a:srgbClr val="080808"/>
                </a:solidFill>
                <a:latin typeface="华文新魏"/>
                <a:ea typeface="华文新魏"/>
              </a:rPr>
              <a:t>飞入寻常百姓家。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181480"/>
            <a:ext cx="426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白居易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  <a:ea typeface="楷体_GB2312"/>
              </a:rPr>
              <a:t>掉头苦吟，叹赏良久。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Arial"/>
                <a:ea typeface="黑体"/>
              </a:rPr>
              <a:t>历史兴亡的咏叹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——</a:t>
            </a:r>
            <a:r>
              <a:rPr b="1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咏史诗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842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就古迹，怀古人，咏古事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抒写对前人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优劣得失的褒贬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　对天下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治乱兴亡的见解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有的还寄托着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自己的身世怀抱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。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400800" y="1905120"/>
            <a:ext cx="2316240" cy="4324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4267080"/>
            <a:ext cx="6251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往往题为“咏史”、“怀古”、“览古”、“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××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古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有的干脆以历史地域或人物为题。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黑体"/>
              </a:rPr>
              <a:t>怀古诗主题：</a:t>
            </a:r>
            <a:endParaRPr b="0" lang="en-US" sz="48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登高游览，发昔盛今衰、时空流转、世事无常之叹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伤世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怀古伤己 ，抒志士壮志难酬之幽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　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伤己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托古讽今、曲意讽谏， 起忧愤讽喻之劝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　　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伤今（伤时）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　　　这是常见的几种主题，当然也有评论古人、描写战场、抒写个人见解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492360" y="1701720"/>
            <a:ext cx="169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76520" y="762120"/>
            <a:ext cx="5108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c0000"/>
                </a:solidFill>
                <a:latin typeface="隶书"/>
                <a:ea typeface="隶书"/>
              </a:rPr>
              <a:t> </a:t>
            </a:r>
            <a:r>
              <a:rPr b="0" lang="zh-CN" sz="7200" spc="-1" strike="noStrike">
                <a:solidFill>
                  <a:srgbClr val="cc0000"/>
                </a:solidFill>
                <a:latin typeface="隶书"/>
                <a:ea typeface="隶书"/>
              </a:rPr>
              <a:t>越中览古</a:t>
            </a:r>
            <a:endParaRPr b="0" lang="en-US" sz="7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286000"/>
            <a:ext cx="594648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越王勾践破吴归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义士还家尽锦衣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宫女如花满春殿，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80808"/>
                </a:solidFill>
                <a:latin typeface="Arial"/>
                <a:ea typeface="华文新魏"/>
              </a:rPr>
              <a:t>只今惟有鹧鸪飞。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越王勾践破吴归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勾践灭吴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春秋时期吴、越两国争霸。公元前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494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越王勾践为吴王夫差所败，此后他卧薪尝胆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，于公元前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437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年灭吴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破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：攻破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8890" t="21023" r="7087" b="3376"/>
          <a:stretch/>
        </p:blipFill>
        <p:spPr>
          <a:xfrm>
            <a:off x="5257800" y="4572000"/>
            <a:ext cx="3429000" cy="19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战士还家尽锦衣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消灭了敌人，雪了耻，战士们都凯旋了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由于战事已经结束，大家都受到赏赐，所以不穿铁甲，而穿锦衣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只“尽锦衣”三字，就将越王及其战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得胜归来的喜悦和骄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的神情烘托出来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 </a:t>
            </a:r>
            <a:r>
              <a:rPr b="0" lang="zh-CN" sz="5400" spc="-1" strike="noStrike">
                <a:solidFill>
                  <a:srgbClr val="cc0000"/>
                </a:solidFill>
                <a:latin typeface="华文行楷"/>
                <a:ea typeface="华文行楷"/>
              </a:rPr>
              <a:t>宫女如花满春殿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越王回宫，不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耀武扬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而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荒淫逸乐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花朵儿一样的美人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　站在宫殿，拥簇着他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　侍候着他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486400" y="3581280"/>
            <a:ext cx="3200400" cy="27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14040" y="1294920"/>
            <a:ext cx="7623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　　越王将过去卧薪尝胆的往事忘得干干净净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　　都城中到处都是锦衣战士，宫殿上站满了如花宫女，多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繁盛、美好、热闹、欢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的气氛！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Arial"/>
                <a:ea typeface="华文行楷"/>
              </a:rPr>
              <a:t>只今惟有鹧鸪飞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0805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结句突然一转，写今日此地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凄凉冷落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鹧鸪飞”三字饱含无限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惋惜和感慨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，与前三句形成鲜明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对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rcRect l="0" t="19607" r="0" b="0"/>
          <a:stretch/>
        </p:blipFill>
        <p:spPr>
          <a:xfrm>
            <a:off x="5257800" y="4114800"/>
            <a:ext cx="3429000" cy="224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主旨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抒发了昔盛今衰之感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1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借此讽谏当朝者不要重蹈古人覆辙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0"/>
            <a:ext cx="46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教师提问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3860640"/>
            <a:ext cx="8893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80808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、说说本诗运用了哪些艺术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黑体"/>
                <a:ea typeface="黑体"/>
                <a:hlinkClick r:id="rId3"/>
              </a:rPr>
              <a:t>手法</a:t>
            </a:r>
            <a:r>
              <a:rPr b="1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？</a:t>
            </a:r>
            <a:r>
              <a:rPr b="0" lang="en-US" sz="44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052640"/>
            <a:ext cx="8064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、作者选取了哪些镜头？分别有什么</a:t>
            </a:r>
            <a:r>
              <a:rPr b="0" lang="zh-CN" sz="4400" spc="-1" strike="noStrike" u="sng">
                <a:solidFill>
                  <a:srgbClr val="0066ff"/>
                </a:solidFill>
                <a:uFillTx/>
                <a:latin typeface="黑体"/>
                <a:ea typeface="黑体"/>
                <a:hlinkClick r:id="rId4"/>
              </a:rPr>
              <a:t>作用</a:t>
            </a:r>
            <a:r>
              <a:rPr b="1" lang="zh-CN" sz="4400" spc="-1" strike="noStrike">
                <a:solidFill>
                  <a:srgbClr val="080808"/>
                </a:solidFill>
                <a:latin typeface="黑体"/>
                <a:ea typeface="黑体"/>
              </a:rPr>
              <a:t>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1:52:12Z</dcterms:created>
  <dc:creator/>
  <dc:description/>
  <dc:language>en-US</dc:language>
  <cp:lastModifiedBy>雨林木风</cp:lastModifiedBy>
  <dcterms:modified xsi:type="dcterms:W3CDTF">2014-02-27T12:08:3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