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5.jpeg" ContentType="image/jpeg"/>
  <Override PartName="/ppt/media/image7.gif" ContentType="image/gif"/>
  <Override PartName="/ppt/media/image28.png" ContentType="image/png"/>
  <Override PartName="/ppt/media/image30.png" ContentType="image/png"/>
  <Override PartName="/ppt/media/image8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2.jpeg" ContentType="image/jpeg"/>
  <Override PartName="/ppt/media/image33.png" ContentType="image/png"/>
  <Override PartName="/ppt/media/image34.jpeg" ContentType="image/jpeg"/>
  <Override PartName="/ppt/media/image29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gif" ContentType="image/gif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50A-2D9A-4E19-BF11-FD8A20BF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C0C-395A-4407-827F-73FCC6F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33D-FE25-4534-92DD-592CB0DF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A5C-AFCD-4232-9BC2-D47E93D5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1DC-6595-4E60-A143-F5E6788B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AE7D-B96C-404C-9464-5BADE6E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D1BB-AB5E-4701-A0D3-C259602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A27F-A5BA-473A-B114-AECCF634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859-61F7-437C-9055-C6DD878E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925-293B-44EF-A0B4-480D7F5D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6BD7-7A49-4F3D-9944-4C27FB5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44B-05CE-4B1F-865F-F9BCBBE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2D1C-C042-4450-BD59-5F13177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29B-FC13-416C-83EA-B63BC5D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538F-14E6-4386-B525-CF864CEE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78D-4E87-4F4D-8168-229DAD4E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1AC0-6DD0-4E5C-8EDF-B3DA9921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5485-1622-43D4-A743-B4E51F8C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5D3D-4158-41A5-856F-EB5DE02B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03CC-CC00-48C5-B827-6FD1978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7C26-FE55-4F34-9EB8-2D3E065A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B7D6-576A-40D2-BE03-59D83F3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767-0B59-4958-A13F-461FDFC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0C52-5163-4337-95A2-0A29F84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3B7E-356D-4B59-9F8A-0F868FF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9A5F-B5C3-42DE-BB22-FE0FF34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61D1-93A8-454B-B4FE-DF11E6C5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FBEA-1D64-49AE-B5DC-E7213EF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FA52-E100-4E74-BB9D-C9C365DC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2DCF-031D-4BF3-9387-503AC35A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A9A1-C4CC-4CF5-AB33-9D5A827A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43BB-BEDF-460F-9C47-1950246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82A1-5802-49D1-92E8-6F98FBF8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10F-2934-4ED2-B799-7735D846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7F6C-81CD-4DFA-9691-79455B9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3691-3D62-4586-8DE5-95BBB60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830E-9A88-4E72-9976-CA71533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E24E-86E7-4F13-AFB7-FD56F4C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2FCC-DF28-44EF-A4A8-C3D0F48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423D-BD02-4468-8EB2-15AC7E1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557A-58CD-4EA2-8FBE-6FDA8994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F324-E6A0-4CA9-A323-AE1D29D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A4F1-FE6B-411E-B30A-191B04E6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CF62-009A-4C76-8842-5CD0189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A2E-69D1-45D6-AF4B-330D0A01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F2E04-6E5B-4107-81EB-030AB5D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CA33-928D-479C-A864-750366C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C0EE-140A-4F4A-AC68-8D1C9FB9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6B9C-4E88-48E5-80A2-612D194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F23B-74C2-4833-8B57-A9EDC11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D896-C65C-43BB-823B-BBD01CA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D3ED-8507-489F-A960-E0E08DD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4B37-3B40-448B-A5AD-5B669E6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8B20-F30E-4663-90B3-9655CECF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ED40-D178-4D24-A3D9-CD595F6B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5C3-2ED6-49F9-AC56-33027FAB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617A-1322-4F7F-8797-694FE9D3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CA5-E36A-42DC-9D3E-AD0DF5E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A3D-0C74-4C8D-9AF7-DD75F46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694-5D1B-47BA-8E77-638A2D7A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04A-09BD-49A1-B5FE-9BF81BF4F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0640" y="-92880"/>
            <a:ext cx="2766240" cy="6949440"/>
            <a:chOff x="-80640" y="-92880"/>
            <a:chExt cx="2766240" cy="6949440"/>
          </a:xfrm>
        </p:grpSpPr>
        <p:sp>
          <p:nvSpPr>
            <p:cNvPr id="42" name="未知"/>
            <p:cNvSpPr/>
            <p:nvPr/>
          </p:nvSpPr>
          <p:spPr>
            <a:xfrm>
              <a:off x="-1440" y="5178600"/>
              <a:ext cx="7473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3440" y="3922200"/>
              <a:ext cx="887760" cy="720000"/>
              <a:chOff x="73440" y="3922200"/>
              <a:chExt cx="887760" cy="72000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22400" y="3943440"/>
                <a:ext cx="228240" cy="263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81880" y="4311360"/>
                <a:ext cx="389160" cy="219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4680" y="415548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9040" y="2755800"/>
              <a:ext cx="112428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040" y="2601720"/>
              <a:ext cx="2680560" cy="3116520"/>
              <a:chOff x="5040" y="2601720"/>
              <a:chExt cx="2680560" cy="311652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91680" y="2699280"/>
                <a:ext cx="97344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10520" y="2842560"/>
                <a:ext cx="81396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63240" y="3052800"/>
                <a:ext cx="28872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7040" y="3792600"/>
                <a:ext cx="26424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12520" y="385488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6080" y="4056120"/>
                <a:ext cx="1829520" cy="1662120"/>
                <a:chOff x="856080" y="4056120"/>
                <a:chExt cx="1829520" cy="166212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4680" y="3946320"/>
                  <a:ext cx="474120" cy="1212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9200" y="4973040"/>
                  <a:ext cx="108720" cy="4975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1640" y="556848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72320" y="6173640"/>
              <a:ext cx="788760" cy="634680"/>
              <a:chOff x="472320" y="6173640"/>
              <a:chExt cx="788760" cy="63468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5920" y="6174000"/>
                <a:ext cx="197640" cy="25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3920" y="6513480"/>
                <a:ext cx="337320" cy="21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909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22560" y="1775880"/>
              <a:ext cx="783000" cy="693360"/>
              <a:chOff x="322560" y="1775880"/>
              <a:chExt cx="78300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42400" y="1747440"/>
                <a:ext cx="207360" cy="297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6600" y="2154600"/>
                <a:ext cx="3546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2140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7080" y="0"/>
              <a:ext cx="545040" cy="581400"/>
              <a:chOff x="1297080" y="0"/>
              <a:chExt cx="54504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708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6200" y="103320"/>
                <a:ext cx="29592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6800" y="489240"/>
                <a:ext cx="30852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44360" y="149400"/>
              <a:ext cx="110664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9160" y="5403600"/>
              <a:ext cx="20880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768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3760" y="6524640"/>
              <a:ext cx="186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120" y="6299280"/>
              <a:ext cx="20556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612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6120" y="5141880"/>
              <a:ext cx="78696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7800" y="650880"/>
              <a:ext cx="54468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9160" y="1199880"/>
              <a:ext cx="26460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5480" y="453600"/>
              <a:ext cx="23256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980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327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6120" y="1406520"/>
              <a:ext cx="57024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95040" y="133200"/>
              <a:ext cx="127296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A133-9175-42AD-B97D-AE6DB9119BB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3880" y="1032840"/>
              <a:ext cx="1017360" cy="1261800"/>
              <a:chOff x="4133880" y="1032840"/>
              <a:chExt cx="1017360" cy="126180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0040" y="107100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3560" y="160344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4280" y="196092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38680" y="292680"/>
              <a:ext cx="889560" cy="832680"/>
              <a:chOff x="5638680" y="29268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49920" y="79488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0240" y="47412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38800" y="3924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4240" y="426960"/>
              <a:ext cx="1692360" cy="1147680"/>
              <a:chOff x="354240" y="426960"/>
              <a:chExt cx="1692360" cy="114768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4840" y="1045440"/>
                <a:ext cx="35712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0800" y="5706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57040" y="108612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E28-A4DC-406D-8A61-0E4B99B1EED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EC1C-ECA7-46E9-9D57-09C4F342F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46FA-7529-47CC-8B19-0894181489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1836720" y="-458640"/>
            <a:ext cx="12161880" cy="83991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鸭子和白兔请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16000" y="3933720"/>
            <a:ext cx="6400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汝阳县第二实验小学       丁晓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380360" y="5445000"/>
            <a:ext cx="1584360" cy="1436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69228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30240" y="5013360"/>
            <a:ext cx="1792440" cy="18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280120" y="1413000"/>
            <a:ext cx="3863880" cy="4390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-390600" y="3716280"/>
            <a:ext cx="683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141300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兔来到鸭子家，看了看，摇摇头说：“我只爱吃青草、菜叶，这些荤菜你留着自己吃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3708360" y="2276640"/>
            <a:ext cx="4754520" cy="2143080"/>
            <a:chOff x="3708360" y="2276640"/>
            <a:chExt cx="4754520" cy="2143080"/>
          </a:xfrm>
        </p:grpSpPr>
        <p:sp>
          <p:nvSpPr>
            <p:cNvPr id="365" name=""/>
            <p:cNvSpPr/>
            <p:nvPr/>
          </p:nvSpPr>
          <p:spPr>
            <a:xfrm>
              <a:off x="3708360" y="2276640"/>
              <a:ext cx="4751280" cy="2143080"/>
            </a:xfrm>
            <a:prstGeom prst="wedgeRoundRectCallout">
              <a:avLst>
                <a:gd name="adj1" fmla="val -53907"/>
                <a:gd name="adj2" fmla="val 78148"/>
                <a:gd name="adj3" fmla="val 16667"/>
              </a:avLst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2720" y="2421000"/>
              <a:ext cx="4610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请客的主人都是这么热情的，可是客人都不开心，真是太奇怪了，为什么会这样啊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 rot="20598000">
            <a:off x="1908000" y="4005360"/>
            <a:ext cx="1609920" cy="1850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 rot="21163800">
            <a:off x="1834920" y="2565360"/>
            <a:ext cx="1242720" cy="1368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2987640" y="98100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小组讨论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0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611280" y="549360"/>
            <a:ext cx="4140000" cy="3213000"/>
            <a:chOff x="611280" y="549360"/>
            <a:chExt cx="4140000" cy="3213000"/>
          </a:xfrm>
        </p:grpSpPr>
        <p:sp>
          <p:nvSpPr>
            <p:cNvPr id="374" name=""/>
            <p:cNvSpPr/>
            <p:nvPr/>
          </p:nvSpPr>
          <p:spPr>
            <a:xfrm>
              <a:off x="611280" y="549360"/>
              <a:ext cx="4140000" cy="3213000"/>
            </a:xfrm>
            <a:prstGeom prst="cloudCallout">
              <a:avLst>
                <a:gd name="adj1" fmla="val 80523"/>
                <a:gd name="adj2" fmla="val 69712"/>
              </a:avLst>
            </a:prstGeom>
            <a:solidFill>
              <a:srgbClr val="ffffff">
                <a:alpha val="7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280" y="1052640"/>
              <a:ext cx="374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自己喜欢的东西，别人不一定喜欢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2751120" cy="364500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58400" cy="68641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4000" y="1917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了这个故事，鸭子明白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92480" y="23511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7636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25960" y="36576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5084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40360" y="4723920"/>
            <a:ext cx="4321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2708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了这个故事，鸭子和白兔都明白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08600" y="19051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己喜欢的东西别人不一定喜欢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39640" y="54936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议中明理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2130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己喜欢的东西别人不一定喜欢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3860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了这个故事，我们一二班的小朋友也明白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95640" y="42926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己喜欢的东西别人不一定喜欢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149200" y="2421000"/>
            <a:ext cx="549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天后，鸭子再次请白兔吃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请白兔吃了什么？白兔也给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来了什么好吃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404640"/>
            <a:ext cx="4752720" cy="1800360"/>
          </a:xfrm>
          <a:prstGeom prst="horizontalScroll">
            <a:avLst>
              <a:gd name="adj" fmla="val 12500"/>
            </a:avLst>
          </a:prstGeom>
          <a:solidFill>
            <a:srgbClr val="faa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一想 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211040" cy="1222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1150920" cy="11494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1198440" cy="1222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7093080" y="1413000"/>
            <a:ext cx="1198440" cy="1224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5651640" y="2852640"/>
            <a:ext cx="1049040" cy="1079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3997440" y="2924280"/>
            <a:ext cx="1150920" cy="1087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8"/>
          <a:stretch/>
        </p:blipFill>
        <p:spPr>
          <a:xfrm>
            <a:off x="2556000" y="2924280"/>
            <a:ext cx="1008000" cy="977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7236000" y="2708280"/>
            <a:ext cx="1152360" cy="1087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900000" y="2852640"/>
            <a:ext cx="1067040" cy="1081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20640" y="6462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同学们帮帮我吧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10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400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熊猫爱吃竹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狗爱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5080" y="4781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479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84360" y="543096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6868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70920" y="47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公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84360" y="535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老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52360" y="535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1556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胡萝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28680" y="471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52320" y="471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小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55640" y="620640"/>
            <a:ext cx="3816360" cy="936720"/>
          </a:xfrm>
          <a:prstGeom prst="horizontalScroll">
            <a:avLst>
              <a:gd name="adj" fmla="val 12500"/>
            </a:avLst>
          </a:prstGeom>
          <a:solidFill>
            <a:srgbClr val="faa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2920" y="2023920"/>
            <a:ext cx="7129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回家把故事讲给家人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读“词语花篮”中的词语，从课文中选择喜欢的词语填写在空花朵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835280" y="2133720"/>
            <a:ext cx="532908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31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正确、流利、有感情地朗读课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角色诵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理解课文内容，教育学生善于理解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明白“自己喜欢的东西别人不一定喜欢”明白这句话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547640" y="4869000"/>
            <a:ext cx="2057400" cy="17427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31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准生字词，看课文插图，标出自然段，看看哪些自然段写白兔请客，哪些自然段写鸭子请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 找一找 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900000" y="9079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2205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兔是怎样请鸭子的，鸭子心里又是怎样想的呢？同桌两个人相互读一读，交流交流，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画出小白兔的话，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﹏﹏﹏﹏﹏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画出鸭子的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0" y="-7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0" y="-7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29560" y="3245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29560" y="3245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0" y="-7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71640" y="1341360"/>
            <a:ext cx="75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白兔说：“鸭子，我找到好吃的东西了，请你到我家来做客吧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70640" y="1862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781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白兔说：“鸭子，我找到吃的东西了，你到我家做客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77280" y="1303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40" y="-523800"/>
            <a:ext cx="10692000" cy="7338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58000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51640" y="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4360" y="-596880"/>
            <a:ext cx="5253120" cy="28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69228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791320" y="3548160"/>
            <a:ext cx="3352680" cy="3309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258920" y="1601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鸭子想 “白兔真小气，光叫我吃青草，菜叶，一点儿荤菜都没有。”他嘟着嘴，很不高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348760" y="6391440"/>
            <a:ext cx="826920" cy="47592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7518" h="21600">
                <a:moveTo>
                  <a:pt x="0" y="0"/>
                </a:moveTo>
                <a:lnTo>
                  <a:pt x="37518" y="0"/>
                </a:lnTo>
                <a:lnTo>
                  <a:pt x="37518" y="21600"/>
                </a:lnTo>
                <a:lnTo>
                  <a:pt x="0" y="21600"/>
                </a:lnTo>
                <a:close/>
              </a:path>
              <a:path fill="lightenLess" w="37518" h="21600">
                <a:moveTo>
                  <a:pt x="0" y="0"/>
                </a:moveTo>
                <a:lnTo>
                  <a:pt x="37518" y="0"/>
                </a:lnTo>
                <a:lnTo>
                  <a:pt x="36118" y="1400"/>
                </a:lnTo>
                <a:lnTo>
                  <a:pt x="1400" y="1400"/>
                </a:lnTo>
                <a:close/>
              </a:path>
              <a:path fill="darken" w="37518" h="21600">
                <a:moveTo>
                  <a:pt x="37518" y="0"/>
                </a:moveTo>
                <a:lnTo>
                  <a:pt x="37518" y="21600"/>
                </a:lnTo>
                <a:lnTo>
                  <a:pt x="36118" y="20200"/>
                </a:lnTo>
                <a:lnTo>
                  <a:pt x="36118" y="1400"/>
                </a:lnTo>
                <a:close/>
              </a:path>
              <a:path fill="darkenLess" w="37518" h="21600">
                <a:moveTo>
                  <a:pt x="37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18" y="20200"/>
                </a:lnTo>
                <a:close/>
              </a:path>
              <a:path fill="lighten" w="37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18" h="21600">
                <a:moveTo>
                  <a:pt x="11753" y="3794"/>
                </a:moveTo>
                <a:lnTo>
                  <a:pt x="25766" y="10800"/>
                </a:lnTo>
                <a:lnTo>
                  <a:pt x="117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859280" y="2349360"/>
            <a:ext cx="381636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3456000" cy="280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720" y="404640"/>
            <a:ext cx="66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我会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84160" y="25671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白菜　萝卜　　青草　冬瓜　　南瓜　黄瓜　　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35680" y="2693880"/>
            <a:ext cx="367164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田螺　泥鳅　虾　鸡肉　鱼　牛肉　　羊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61920" y="156852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素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08520" y="15685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荤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5:13:57Z</dcterms:created>
  <dc:creator>*</dc:creator>
  <dc:description/>
  <cp:keywords/>
  <dc:language>en-US</dc:language>
  <cp:lastModifiedBy>未知用户</cp:lastModifiedBy>
  <dcterms:modified xsi:type="dcterms:W3CDTF">2013-01-25T15:06:43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