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2-03-08T14:40:09.392000000" idx="1">
    <p:pos x="2190" y="1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678-1137-46A6-A15F-16836C8A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F42-27C2-40B4-824E-EDACFB9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F33-5D1C-4299-830C-A3501243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B4D-A3EF-4159-BAE7-1651ABCD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391-DD55-4160-AA3E-F0F97BEE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9CA-31BF-4309-9B4C-5382D9FA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8C9-AF48-465B-9D36-D8F3222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31B-D99A-4227-87C6-AE4FD6C9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CD5-B124-4902-AAD1-6D7EA37B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C94-73D5-4BDD-9DCB-01A7C12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396-4652-4BB6-A82A-C0E4637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8F7-06B4-463E-885B-E2B14935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216B-6293-4CA4-B707-308687AA9B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620640"/>
            <a:ext cx="756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鸭子和白兔请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5877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城关回小　　王亦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2881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206064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99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过些日子，鸭子又请白兔到它家做客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这次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它会请白兔吃些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245400">
            <a:off x="971280" y="404280"/>
            <a:ext cx="252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1989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会编一个小动物之间请客的故事吗？编给同学们听一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1280" y="549360"/>
            <a:ext cx="460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想编故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2708280"/>
            <a:ext cx="280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鸭子，我找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好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吃的东西了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你到我家做客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580000" cy="4221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324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981000"/>
            <a:ext cx="3816360" cy="201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060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052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　白兔端出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大盘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鲜嫩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的青草和菜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8207280" cy="321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7640" y="37180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　白兔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真小气，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光叫我吃青草、菜叶，一点荤菜都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859280" y="2349360"/>
            <a:ext cx="3816360" cy="28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349360"/>
            <a:ext cx="3456000" cy="28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836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我会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492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白菜　萝卜　　青草　冬瓜　　南瓜　黄瓜　　茄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　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2565360"/>
            <a:ext cx="36720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田螺　泥鳅　虾　鸡肉　鱼　牛肉　　羊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557360"/>
            <a:ext cx="2519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素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8920" y="1557360"/>
            <a:ext cx="37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荤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476280"/>
            <a:ext cx="4824360" cy="5761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3316320" cy="439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2953080" cy="223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95640" y="4005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309564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6728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田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551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泥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95640" y="836640"/>
            <a:ext cx="4897440" cy="479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1341360"/>
            <a:ext cx="3456000" cy="2879640"/>
          </a:xfrm>
          <a:prstGeom prst="wedgeEllipseCallout">
            <a:avLst>
              <a:gd name="adj1" fmla="val 55972"/>
              <a:gd name="adj2" fmla="val 4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773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　　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只爱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吃青草、菜叶，这些荤菜你留着自己吃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24360" y="357120"/>
            <a:ext cx="5219640" cy="4800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4211640" cy="3429000"/>
          </a:xfrm>
          <a:prstGeom prst="cloudCallout">
            <a:avLst>
              <a:gd name="adj1" fmla="val 81208"/>
              <a:gd name="adj2" fmla="val 50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54936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　　自己喜欢的东西，别人不一定喜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9640" y="765000"/>
            <a:ext cx="42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1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想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492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喜不喜欢课文中的鸭子和白兔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227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兔子爱吃青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213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716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65300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5084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5516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5084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5589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7248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4149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吃小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3141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吃田螺和泥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3933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501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5013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9636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920" y="476280"/>
            <a:ext cx="316872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知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12:06:48Z</dcterms:created>
  <dc:creator/>
  <dc:description/>
  <cp:keywords/>
  <dc:language>en-US</dc:language>
  <cp:lastModifiedBy>微软用户</cp:lastModifiedBy>
  <dcterms:modified xsi:type="dcterms:W3CDTF">2019-04-27T13:27:13Z</dcterms:modified>
  <cp:revision>2</cp:revision>
  <dc:subject/>
  <dc:title>幻灯片 1</dc:title>
</cp:coreProperties>
</file>