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D2F-83AC-4C61-A4B4-F9D7BDA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713-C2F3-47CF-A72F-A339D326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BD0-6213-4487-ACB2-B581164C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A8F-0799-453C-9144-CD15D70F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FB1-6F3B-42F7-9058-9EFA806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6691-C0FF-4B66-9735-32216FC1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319-1A1F-480F-BABE-37BC225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E52A-4466-46EC-ADB6-E7A4BE0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6FE5-3A85-4BA5-B2F6-37727CF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D428-5F34-48A8-B17C-4F73614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024A-1D36-4E87-8DA2-55BE246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452-29BB-4AF7-BC2C-2E215881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A55A-6123-4DFD-A622-C66A6EF9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D136-3D81-4D25-801C-866DA0A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216B-D6B5-4937-8059-92ECAFC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B85-86B8-491C-AFA8-A2FC616A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7C3C-EB1A-4C1E-8FBF-D33E32BA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B5B8-B386-4C8B-B212-A513B814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C1C5-EFA5-49D1-B93D-A4BAF52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82A4-0643-40D1-A916-3E283313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A8C6-967D-4E3C-9E87-8DF72D86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757A-5ADF-4D16-B38B-60FE6A6B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03C-66C1-48B3-9098-54AF310E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D807-835D-466D-8963-49CFB3F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FF52-9E32-43FE-8291-523C478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6BFE-A512-4098-BDFB-78664606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49AC-5300-4774-B8AE-4860627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04B8-1F04-401B-998D-735E2B5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7B34-3D80-4C2B-9733-B41D754F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5258-DFC0-4463-A051-9DF177D1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280F-A8F7-45B3-86CF-B58F9C5E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5313-90AA-4E1F-95EB-52394D80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69A3-86B1-4E54-8831-FCFB4384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C57-E817-4E2C-A112-24B6927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6E20-CE25-4F2F-BEA8-0D444293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4156E-4E07-4AB6-822D-02BE52A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8861-CA44-493B-A595-AAC0B2FB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535C-DBC1-4DA1-AB78-BA935D7D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5730-0AEB-4A39-9199-46B3BDC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58B0-E524-4946-A878-3F300C8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75C81-48DE-4270-9882-F9F01E86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7728-95A7-4488-8874-58C61DEA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DDD6-8C3F-472E-9CC4-044BEBAD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597-6173-4A5A-B217-6FFF98A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EE2-DC12-4741-B5A0-EB2AA4BA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C49-4201-4F7A-8EAF-0FFCF83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E2C-CD60-4B67-B908-30661AB9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A8F-429A-4ADB-BE51-AFF247B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705-3065-4B3C-9F17-A8B2C1E90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5CB8-5235-4FB3-97F6-8AA8B40070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35CF-89D5-49F4-8663-B738CAAD2C7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833F-A605-482D-88EA-652DB3BF91A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7806.htm" TargetMode="External"/><Relationship Id="rId3" Type="http://schemas.openxmlformats.org/officeDocument/2006/relationships/hyperlink" Target="http://baike.baidu.com/view/2120.htm" TargetMode="External"/><Relationship Id="rId4" Type="http://schemas.openxmlformats.org/officeDocument/2006/relationships/hyperlink" Target="http://baike.baidu.com/view/13998.htm" TargetMode="External"/><Relationship Id="rId5" Type="http://schemas.openxmlformats.org/officeDocument/2006/relationships/hyperlink" Target="http://baike.baidu.com/view/5205.htm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&#25171;&#23383;&#26426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59280" y="-333720"/>
            <a:ext cx="2266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运用排比句与比喻充实内容增加文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“征服”或“坚强”为话题写排比句赞美霍金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金以他的成就征服了科学界；以他的顽强搏斗的精神征服了世界：以他顽强的毅力征服了命运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霍金征服了人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服了科学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服了全世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79A-6AC9-4B0D-AB9B-78E81D46AA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科技论文阅读方法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阅读时，采用两步走：第一步泛读，即知其大意，不求甚解。第二步精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边读边画出结构上起过渡、连接作用的词、句子、段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出段落的中心句，尤其要注意段首、段尾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画出文中的关键词句，如：也许、左右、可能、似乎、大概等模棱两可的词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取作者观点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摘录文中语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用自己的语言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1D9-8545-4CF9-BC0D-107406428D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U734P2T142D129F3379DT20040910155124_small"/>
          <p:cNvPicPr/>
          <p:nvPr/>
        </p:nvPicPr>
        <p:blipFill>
          <a:blip r:embed="rId2"/>
          <a:stretch/>
        </p:blipFill>
        <p:spPr>
          <a:xfrm>
            <a:off x="179280" y="679320"/>
            <a:ext cx="8785440" cy="5857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250920" y="765000"/>
            <a:ext cx="86072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读懂本演讲录的内容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学习本文生动、幽默的演讲风格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感受科学精神，增进科学素养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3500280"/>
            <a:ext cx="8713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重难点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提炼本文的要点，增强概括能力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探究本文的内涵，增强分析能力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目标、重难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1B8-E577-43F4-AFFF-940CA561B1CE}" type="slidenum">
              <a:t>11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37000" y="-3064680"/>
            <a:ext cx="5511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本文是史蒂芬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霍金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91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在剑桥大学的一次演讲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这篇演讲，从古代巫师的预言，谈到近代宗教的预言，然后过渡到自己对宇宙未来的预言，结构严谨，重点突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作者运用天体物理学理论，对宇宙未来作出了两种预测，一是继续膨胀下去；二是收缩以至坍缩成一个点。是膨胀还是收缩，取决于宇宙的平均密度。“如果它比临界值小，宇宙就将永远膨胀。但是如果它比临界值大，宇宙就会坍缩，而时间就会在大挤压处终结。”可“现在密度似乎非常接近于把坍缩和无限膨胀区分开来的临界密度”，所以两种结果都有可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79B-9AA2-4475-A6D7-5BEC3F2A03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00040" y="107172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重点是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作者对宇宙的未来作出的科学预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阅读时要准确地筛选出这些预言的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观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支撑这些观点的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材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同时，还应该体会这篇讲演在语言上的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幽默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406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本文重点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0FD-BDEB-40BA-B443-6F1E6E23E3A5}" type="slidenum">
              <a:t>13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把握主要观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、对宇宙未来的预言，关键是要弄清宇宙的什么问题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、作者认为宇宙的未来会是怎样的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“对宇宙未来的预言，其关键问题在于：平均密度是多少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明确：会有两种可能：“如果它比临界值小，宇宙就将永远膨胀，但是如果它比临界值大，宇宙就会坍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F1E-E830-400E-9D36-68308D6B926A}" type="slidenum">
              <a:t>14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3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3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" y="261720"/>
            <a:ext cx="9145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进文本 把握观点</a:t>
            </a:r>
            <a:br>
              <a:rPr sz="5400"/>
            </a:b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一句话简要地说出本文讲了什么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15840" y="3285720"/>
            <a:ext cx="86407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本文讲的是宇宙的未来问题，预测了两种结局：或膨胀，或收缩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179-0E3D-4422-BF5D-979D5C5F39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提炼出要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楷体_GB2312"/>
              </a:rPr>
              <a:t>方法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或者摘录文中的语句，或者用自己的语言组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隶书"/>
                <a:ea typeface="楷体_GB2312"/>
              </a:rPr>
              <a:t>明确要点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楷体_GB2312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科学家有信心预言未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巫师的预言模棱两可，宗教的预言屡测屡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物理方程、制约大脑的方程具有混沌性，因此我们不能预言人类；而宇宙的行为在非常大尺度下却是简单的，而不是混沌的，因此我们可以预言宇宙遥远的未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宇宙的未来有两种可能，一是继续膨胀下去，二是收缩以至坍缩成一个点。是膨胀还是坍缩，取决于宇宙的平均密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楷体_GB2312"/>
              </a:rPr>
              <a:t>宇宙现在的密度非常接近于把坍缩和膨胀区分开来的临界点上，所以两种可能都会发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E02-D7AE-4F89-A96E-F03398DFF8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48720" y="-6052680"/>
            <a:ext cx="9360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0000"/>
              </a:solidFill>
              <a:latin typeface="Arial"/>
              <a:ea typeface="楷体_GB2312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梳理结构</a:t>
            </a: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演讲，从古代巫师的预言，谈到近代宗教的预言，然后过渡到自己对宇宙未来的预言，运用天体物理学理论，对宇宙的未来作出了两种预测，一是继续膨胀下去；二是收缩以至坍缩成一个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383-B96B-4CFD-8900-720DFA318B90}" type="slidenum">
              <a:t>17</a:t>
            </a:fld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909720"/>
            <a:ext cx="4572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合作探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文段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中为什么说“即使知道了制约宇宙的有关定律，我们仍然不能利用它们去预言遥远的未来”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为什么第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段又说“尽管我们知道制约人类行为的方程，但在实际上我们不能预言它”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、为什么科学“不能预言人类社会的未来”，却“可以预言宇宙遥远的未来”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、作者对宇宙的未来的预言与巫师、宗教预言家对人类社会未来的预言有何不同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、根据作者的论述，我们目前所能看到的宇宙物质最多是“临界值”的百分之一，似乎不足以使宇宙坍缩。然而作者又指出，“也许存在足够的暗物质，使宇宙最终坍缩”呢。宇宙中存在暗物质的证据是什么？作者又举了哪两种假说，说明现在的宇宙密度可能就在临界状态</a:t>
            </a: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A12-DD1E-4968-B2ED-215B90C2A9AB}" type="slidenum">
              <a:t>18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U734P2T142D130F3382DT20040910180440_small"/>
          <p:cNvPicPr/>
          <p:nvPr/>
        </p:nvPicPr>
        <p:blipFill>
          <a:blip r:embed="rId2"/>
          <a:stretch/>
        </p:blipFill>
        <p:spPr>
          <a:xfrm>
            <a:off x="179280" y="673200"/>
            <a:ext cx="8785440" cy="5883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1908000" y="189000"/>
            <a:ext cx="85406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问题探索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文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为什么说“即使知道了制约宇宙的有关定律，我们仍然不能利用它们去预言遥远的未来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什么第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段又说“尽管我们知道制约人类行为的方程，但在实际上我们不能预言它”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明确：“因为物理方程的解会呈现出一种称作混沌的性质”，“方程可能是不稳定的”；同样，“制约大脑的方程几乎肯定具有混沌行为，初始态的非常小的改变会导致非常不同的结果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4CD-A682-4F64-980A-0DF5886FB551}" type="slidenum">
              <a:t>19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8000" y="-407520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强是强壮的枝干它可以让树迎风不倒；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强是屹立的风帆它可以让船破浪前行；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强是坚固的地基它可以让楼房百年不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E8E-B976-41C9-8DE3-2065563B75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850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为什么科学“不能预言人类社会的未来”，却“可以预言宇宙遥远的未来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80476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因为前者是混沌的，不确定的；而“宇宙的行为在非常大尺度下是简单的，而不是混沌的，因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可以预言宇宙遥远的未来”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90E-A114-455C-88B7-A655006EA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562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对宇宙的未来的预言与巫师、宗教预言家对人类社会未来的预言有何不同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0" lang="en-US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2465280"/>
            <a:ext cx="85406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前者是有科学根据的，是运用天体物理学理论进行的科学推测，科学预言；而后者是没有科学根据可言的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实，从上面的题目就可知道，人类社会的未来根本就是无法预言的，因为方程是混沌的，所以巫师、宗教预言家对人类社会的预言注定就是荒唐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863-B288-4728-90D2-972A5A214A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8000" y="-407520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作者的论述，我们目前所能看到的宇宙物质最多是“临界值”的百分之一，似乎不足以使宇宙坍缩。然而作者又指出，“也许存在足够的暗物质，使宇宙最终坍缩”呢。宇宙中存在暗物质的证据是什么？作者又举了哪两种假说，说明现在的宇宙密度可能就在临界状态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8A8-825B-45F3-979B-79F9EBD62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41880" y="-4165200"/>
            <a:ext cx="96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95280" y="259920"/>
            <a:ext cx="6948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宇宙中存在暗物质“一个证据来自螺旋星系”，“必须存在某种看不见的物质形式，其引力吸引足以把这些旋转的星系牢牢捉住”；“另一个证据来自于星系团”，“要不是引力吸引把星系捉到一起，这些星系团就会分散开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，在星系团中我们观测到的星系以外必须存在额外的暗物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为了说明现在的宇宙密度可能就在临界状态，列举了两种假说，“一种是所谓的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人择原理”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种是“极早期的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暴涨理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EA88-E49C-4AF8-9CFD-4038F861E93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精读课文  品析赏鉴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为一篇关于宇宙未来的演讲词，本文的大量篇幅都是较为严肃的科学话题，运用了好多专业术语，容易使人感到沉闷，但是霍金的聪明之处在于它运用了许多风趣幽默的语言，使得这样一篇旨在说明科学道理的学术演讲，让人能够在一种轻松愉快的气氛中认真听下去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4731840"/>
            <a:ext cx="8697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41D-6F32-46EF-A439-01B7938DFF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两个比喻句各自说明了什么道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br>
              <a:rPr sz="3600"/>
            </a:b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</a:t>
            </a:r>
            <a:br>
              <a:rPr sz="24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“</a:t>
            </a: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例如，如果你稍微改变一下你旋转轮赌盘的方式，就会改变出来的数字。你在实际上不可能预言出来的数字，否则的话，物理学家就会在赌场发财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用这个比喻生动地说明了“即使我们知道了制约宇宙的有关定律，我们仍然不能利用它们去预言遥远的未来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“赌轮盘”的不确定性和“制约宇宙的有关定律”的物理方程的解具有混沌性质一语说透，妙趣横生。也生动说明了科学预言不是赌博，对宇宙未来的预测要十分谨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50-00B0-47B7-93DA-376F5298DC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这有一点像是再投胎。如果有人声称一个新生的婴儿是和某一死者等同，如果该婴儿没从他的以前的生命遗传到任何特征或记忆，这种声称有什么意义呢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们可以同样地讲，它是完全不同的个体。”</a:t>
            </a:r>
            <a:r>
              <a:rPr b="0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3303360"/>
            <a:ext cx="854064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用这个比喻形象地说明宇宙在大挤压处终结后，并不是任何发生在之后的事件都是另一个相分离的宇宙的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51A-85A4-4776-AAC0-4D936C6685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20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些日期使股票市场下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虽然它使我百思不解，为何世界的终结会使人愿意用股票来换钱，假定你在世界末日什么也带不走的话。”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00280"/>
            <a:ext cx="8064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确：这句话让人在笑声中悟到人类自身的某些缺陷和某些思维误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3138120"/>
            <a:ext cx="849600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3141720"/>
            <a:ext cx="8123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据说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4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是第二次回归的开始，但是首先要数出获救者名单。只有数完了名单，审判日才降临到那些不列在名单上的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幸运的是，数人名看来要花很长的时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这句话幽默中含着讽刺，揭露了宗教预言师的荒谬，表现了对方屡测屡败却又想方设法自圆其说的尴尬与可笑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4BC-B999-48A6-B7AF-0ECC6B34E984}" type="slidenum">
              <a:t>27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如果暴涨理论是正确的，则宇宙实际上是处在刀锋上。所以我正是继承那些巫师或预言者的良好传统，两方下赌注，以保万无一失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2781360"/>
            <a:ext cx="836316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：听众明知作者做的是科学的预言，和巫师他们完全不同，可作者却有意将自己降为他们的同类，一是说明自己恰好也有两种预测，二是顺势又对他们进行嘲讽。这种智慧的表达既带来了轻松愉悦的气氛，又大大增加了自己与听众的亲和力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226-0CF9-4B53-84E0-1336F54AF3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U734P2T142D130F3382DT20040910180440_small"/>
          <p:cNvPicPr/>
          <p:nvPr/>
        </p:nvPicPr>
        <p:blipFill>
          <a:blip r:embed="rId2"/>
          <a:stretch/>
        </p:blipFill>
        <p:spPr>
          <a:xfrm>
            <a:off x="179280" y="673200"/>
            <a:ext cx="8785440" cy="5883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85480" y="3571560"/>
            <a:ext cx="850716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用比喻的方式将深奥的理论说得通俗易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42960" y="17859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总结比喻的作用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E9B-91BE-4799-9CE9-2235EC970CFA}" type="slidenum">
              <a:t>29</a:t>
            </a:fld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44000" y="-3160800"/>
            <a:ext cx="5983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像勇敢的海燕，无视暴风雨的挑衅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像坚毅的霍金，改写生命的诗歌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像那无边无际的大海，把自己的波澜壮阔献给世间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太旱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风刮起来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云飘过来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雷打起来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雨下起来吧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725-CA09-4FF8-BECF-10B810762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8000" y="4064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霍金的工作是令人惊叹的，可是有着如此伟大发现的人，却是一个身患肌肉萎缩症的病人，除了思想，几乎全身不能动弹，不能说话，头向前垂落。正因为这点，他更加引起全世界人们的关注和尊敬。在开始患病时，他意识到自己的生命行将结束，于是抓紧时间，全心投入，谁也没想到他不仅活了下来，而且成果累累。他的成功，当然离不开他的天才，但那种不向厄运低头的精神，是没有人不敬佩的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由此可见，人的精神力量是难以想象的，一个人要有精神，一个民族也要依靠精神，精神的力量往往可以超越世上难以逾越的障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CDC-B8F4-49E6-9EAE-C8A1C738E03D}" type="slidenum">
              <a:t>30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联系实际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拓展延伸 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果壳中的宇宙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霍金的前一本宇宙学科普著作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2"/>
              </a:rPr>
              <a:t>时间简史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全世界大受欢迎，销量超过千万册。但有不少人评论说，这本书的内容过于艰深，许多读者都没有读完。与之相比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果壳中的宇宙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大量使用图形来解释宇宙学概念，给读者一种直观印象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  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果壳中的宇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霍金因疾病被困于轮椅上，只能靠语音合成器讲话，却思考着宇宙学最前沿的问题。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果壳中的宇宙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书名源自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3"/>
              </a:rPr>
              <a:t>莎士比亚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戏剧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4"/>
              </a:rPr>
              <a:t>哈姆雷特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台词：“我即使被关在果壳之中，仍自以为无限空间之王。”对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5"/>
              </a:rPr>
              <a:t>霍金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来说，这句话再合适不过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588000" y="2205000"/>
            <a:ext cx="1895760" cy="189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C8A-9EB5-45B1-9916-AC339C12E127}" type="slidenum">
              <a:t>31</a:t>
            </a:fld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2360" y="47628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联系实际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拓展延伸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1060000">
            <a:off x="3301920" y="3303720"/>
            <a:ext cx="18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1080" y="1484280"/>
            <a:ext cx="867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台词形象地道出了霍金的崇高精神追求，使人们亲眼看到了“果壳”中的那个挑战命运的不屈的灵魂。他曾说：“只要有智慧和精神在，没有什么能打倒自己。身体的健康固然重要，心灵的健康也会给你无穷的力量。”在少年霍金的心中，崇拜的不是歌星或球星，而是贝特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素，一位不知疲倦的思想家、哲学家和科学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E89-FC96-48DA-9E1E-DE2E554620B2}" type="slidenum">
              <a:t>32</a:t>
            </a:fld>
          </a:p>
        </p:txBody>
      </p:sp>
    </p:spTree>
  </p:cSld>
  <p:transition>
    <p:blinds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怎么看待霍金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期，一家青少年调查机构调查出我国中学生最崇拜的人物是歌星周杰伦、影星章子怡、球星姚明，“三星高照”。你又怎样看待这一现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3284640"/>
            <a:ext cx="830556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作者霍金的身上，能感受到高尚的人格魅力。霍金的朋友曾这样感慨：“可以相信，当他所热爱的东西都失去时，他不仅坚强地活着，而且伟大地活着，那么他所带给我们的不仅仅是科学的智慧，还有人类最可贵的精神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95B-12D5-4E98-9ED0-30A8FC2E27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素材积累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霍金名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一个人没有梦想，无异于死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命运有多坏，人总应有所作为，有生命就有希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和精神是不能同时残障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帝既造就天才，也造就傻瓜，这不取决于天赋，完全是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人努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度不同的结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7" name="QQ截图未命名发生地发生" descr=""/>
          <p:cNvPicPr/>
          <p:nvPr/>
        </p:nvPicPr>
        <p:blipFill>
          <a:blip r:embed="rId2"/>
          <a:stretch/>
        </p:blipFill>
        <p:spPr>
          <a:xfrm>
            <a:off x="5724360" y="4294080"/>
            <a:ext cx="3384720" cy="25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A0F-CBFB-49E5-8C6B-73B47A170C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古今中外，有很多像霍金一样的人勇于克服巨大的困难，为社会的发展作出了重大的贡献。请你试着举出两个这样的例子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示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霍金勇于同病魔抗争，用生命的顽强书写了科学史的奇迹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D00-018C-469C-B5E1-FDF74D8DE1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U734P2T142D130F3382DT20040910180440_small"/>
          <p:cNvPicPr/>
          <p:nvPr/>
        </p:nvPicPr>
        <p:blipFill>
          <a:blip r:embed="rId2"/>
          <a:stretch/>
        </p:blipFill>
        <p:spPr>
          <a:xfrm>
            <a:off x="179280" y="673200"/>
            <a:ext cx="8785440" cy="58831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179280" y="836640"/>
            <a:ext cx="8713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作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仿照本文幽默风趣的语言风格，写一个演讲片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阅读霍金的名著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时间简史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、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66ff33"/>
                </a:solidFill>
                <a:latin typeface="隶书"/>
                <a:ea typeface="隶书"/>
              </a:rPr>
              <a:t>果壳中的宇宙</a:t>
            </a:r>
            <a:r>
              <a:rPr b="1" lang="en-US" sz="2800" spc="-1" strike="noStrike">
                <a:solidFill>
                  <a:srgbClr val="66ff33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52" name="Picture 6" descr="U734P2T142D140F3411DT20040928102121_small"/>
          <p:cNvPicPr/>
          <p:nvPr/>
        </p:nvPicPr>
        <p:blipFill>
          <a:blip r:embed="rId3"/>
          <a:stretch/>
        </p:blipFill>
        <p:spPr>
          <a:xfrm>
            <a:off x="5940360" y="4292640"/>
            <a:ext cx="2881440" cy="21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90E-8966-442C-8D87-DC68C4A276C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   见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17D-60C7-4AD0-B704-478E524688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333360"/>
            <a:ext cx="84582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请选出与霍金对宇宙未来的预言观点不符的一项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  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宇宙的膨胀和坍缩与宇宙的平均密度有关，如果平均密度小于某个临界值，它就会永远膨胀。如果平均密度大于临界值，宇宙就会坍缩，时间本身就会终结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螺旋星系和星系团中应该存在有某种看不见的暗物质，它的引力吸引足以把高速旋转的星系牢牢抓住，不至于使这些星系或星系团飞散开去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如果宇宙继续膨胀下去，五十亿年后，太阳将耗尽它的核燃料，变成一颗白矮星。在大约一百亿年后，具有太阳质量的恒星将变成白矮星或中子星，具有更大质量的恒星会变成黑洞。 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黑洞中粒子的速度有可能超过光速逃出黑洞，只要有足够长的时间，巨大的黑洞也可以“蒸发”掉。 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星系或星系团之外，应该存在有足够的暗物质，这些暗物质能使密度达到临界值，从而一定会使宇宙最终坍缩。但这个时间在一百五十亿年之后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Times New Roman"/>
              </a:rPr>
              <a:t>　   　　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543-76F7-4B1F-984A-463BE92C81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2360" y="54900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二、下列是对课文内容要点的概括，请指出与原文不符的两项：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科学家有信心预言未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②巫师的预言模棱两可，宗教的预言屡测屡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③物理方程、制约大脑的方程具有混沌性，因此我们不能预言人类；而宇宙的行为在非常大尺度下却是简单的，而不是混沌的，因此我们可以预言宇宙遥远的未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宇宙的未来有两种可能，一是继续膨胀下去，二是收缩以至坍缩成一个点。是膨胀还是坍缩，取决于宇宙的最大密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⑤宇宙现在的密度完全接近于把坍缩和膨胀区分开来的临界点上，所以两种可能都会发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DCB-F5FF-4252-8D48-5D730D1240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5da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1240402283q19IlWQE" descr=""/>
          <p:cNvPicPr/>
          <p:nvPr/>
        </p:nvPicPr>
        <p:blipFill>
          <a:blip r:embed="rId1"/>
          <a:stretch/>
        </p:blipFill>
        <p:spPr>
          <a:xfrm>
            <a:off x="1440" y="-6192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2"/>
          </p:cNvPr>
          <p:cNvSpPr/>
          <p:nvPr/>
        </p:nvSpPr>
        <p:spPr>
          <a:xfrm>
            <a:off x="8029440" y="602136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ebf7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E2B-1773-4AF0-A6CE-039959C7A3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be9"/>
            </a:gs>
            <a:gs pos="50000">
              <a:srgbClr val="0099ff"/>
            </a:gs>
            <a:gs pos="100000">
              <a:srgbClr val="008b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 rot="5400000">
            <a:off x="5218200" y="2491560"/>
            <a:ext cx="5761080" cy="129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宇宙的未来</a:t>
            </a:r>
            <a:endParaRPr b="0" lang="en-US" sz="72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176" name="bf1ef73156aeb93aeac4af98" descr=""/>
          <p:cNvPicPr/>
          <p:nvPr/>
        </p:nvPicPr>
        <p:blipFill>
          <a:blip r:embed="rId1"/>
          <a:stretch/>
        </p:blipFill>
        <p:spPr>
          <a:xfrm>
            <a:off x="-257040" y="0"/>
            <a:ext cx="76215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866-F107-4F26-86CB-530B404EB6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81080" y="3790800"/>
            <a:ext cx="4248000" cy="2229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5080" y="622440"/>
            <a:ext cx="41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645080" y="3789360"/>
            <a:ext cx="417816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252360" y="620640"/>
            <a:ext cx="417996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DC5-404F-4C4B-8C77-EB6A5A493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4232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密接触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•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受魅力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484280"/>
            <a:ext cx="830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蒂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霍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tephen Hawking) 19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生于牛津，那一天刚好是伽利略逝世三百年。可能因为他出生在第二次世界大战的时代，所以小时候对模型特别着迷。他十几岁时不但喜欢做模型飞机和轮船，还和学友制作了很多不同种类的战争游戏，反映出他研究和操控事物的渴望。这种渴望驱使他攻读博士学位，并在黑洞和宇宙论的研究上获得重大成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84720" y="4581360"/>
            <a:ext cx="3959280" cy="18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405-E322-4BA1-9938-6DF9272C6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6720" y="476280"/>
            <a:ext cx="828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霍金十三、四岁时已下定决心要从事物理学和天文学的研究。十七岁那年，他考到了自然科学的奖学金，顺利入读牛津大学。学士毕业后他转到剑桥大学攻读博士，研究宇宙学。不久他发现自己患上了会道致肌肉萎缩的卢伽雷氏病。由于医生对此病束手无策，起初他打算放弃从事研究的理想，但后来病情恶化的速度减慢了，他便重拾心情，从挫折中站起来，勇敢地面对这次的不幸，继续醉心研究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219564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FBC-4F15-49D0-8C87-CB31ADE66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素材积累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霍金名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一个人没有梦想，无异于死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命运有多坏，人总应有所作为，有生命就有希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和精神是不能同时残障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帝既造就天才，也造就傻瓜，这不取决于天赋，完全是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个人努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度不同的结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8" name="QQ截图未命名发生地发生" descr=""/>
          <p:cNvPicPr/>
          <p:nvPr/>
        </p:nvPicPr>
        <p:blipFill>
          <a:blip r:embed="rId2"/>
          <a:stretch/>
        </p:blipFill>
        <p:spPr>
          <a:xfrm>
            <a:off x="5724360" y="4294080"/>
            <a:ext cx="3384720" cy="25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D6C-7243-4935-8A96-B41D062B9A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0:24:40Z</dcterms:created>
  <dc:creator>中学教考网</dc:creator>
  <dc:description/>
  <cp:keywords/>
  <dc:language>en-US</dc:language>
  <cp:lastModifiedBy>惠普用户</cp:lastModifiedBy>
  <cp:lastPrinted>1899-12-30T00:00:00Z</cp:lastPrinted>
  <dcterms:modified xsi:type="dcterms:W3CDTF">2010-10-18T06:30:21Z</dcterms:modified>
  <cp:revision>2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