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9C5-6A9C-41F3-8946-AC431BC3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4B1-1B67-4A40-9DCA-DBF44A95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DD2-A5B5-4483-8660-DED1460A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AD3C-C4FB-481E-9670-131160B3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4925-0E22-4937-8A22-7C9F60B3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D071-B26F-4BA0-BEF6-9B48DC8A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C01C-83E8-4605-8D76-57F46BA8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F4EA-0AEE-4726-847D-BB31C51D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8DC2-FFF1-4FFC-90AE-17BA240C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9084-37F2-4593-AB2F-82A98D55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E701-4448-42EC-9ADC-124B5CC4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DB90-E360-46AF-A345-72799368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7A17-0BEF-4B48-AD0F-BD352BDA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A4FE-54D4-48FD-A451-65748288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3296-6943-491D-A55D-8862AEB1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18BF-F7B4-4908-A144-17BA97BD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07E4-A7B7-46B8-AC4C-5DA65836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537-B1D4-4B6F-B886-C696E001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C0F-2097-4782-A39B-CDCDB9AD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9435-0577-45DC-B9D9-07BD9E80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E71-92FD-41E8-A2D5-DBC9DBE7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AA9-1311-4B17-9515-2C833F46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B4E6-60F3-41AA-BA81-FF940693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F66D-C6FC-4044-A4E0-9D33B6CF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81BD-A950-4E57-A8C3-D9D122AD61D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75EF-191E-4F6F-8DB4-9B67153CBF6F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&#25171;&#23383;&#26426;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5dafe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240402283q19IlWQE" descr=""/>
          <p:cNvPicPr/>
          <p:nvPr/>
        </p:nvPicPr>
        <p:blipFill>
          <a:blip r:embed="rId1"/>
          <a:stretch/>
        </p:blipFill>
        <p:spPr>
          <a:xfrm>
            <a:off x="1440" y="-61920"/>
            <a:ext cx="9144000" cy="726768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rId2"/>
          </p:cNvPr>
          <p:cNvSpPr/>
          <p:nvPr/>
        </p:nvSpPr>
        <p:spPr>
          <a:xfrm>
            <a:off x="8029440" y="6021360"/>
            <a:ext cx="358920" cy="35892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ebf7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A72-C5E1-4C49-9B85-DEC84FC25A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00" y="261720"/>
            <a:ext cx="9145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走进文本 把握观点</a:t>
            </a:r>
            <a:br>
              <a:rPr sz="5400"/>
            </a:b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后能用一句话简要地说出本文讲了什么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15840" y="3285720"/>
            <a:ext cx="8640720" cy="28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明确：本文讲的是宇宙的未来问题，预测了两种结局：或膨胀，或收缩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FF1-BEA5-436A-8AC1-E1716024CD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333360"/>
            <a:ext cx="8458200" cy="32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、请选出与霍金对宇宙未来的预言观点不符的一项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  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宇宙的膨胀和坍缩与宇宙的平均密度有关，如果平均密度小于某个临界值，它就会永远膨胀。如果平均密度大于临界值，宇宙就会坍缩，时间本身就会终结。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  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在螺旋星系和星系团中应该存在有某种看不见的暗物质，它的引力吸引足以把高速旋转的星系牢牢抓住，不至于使这些星系或星系团飞散开去。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   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如果宇宙继续膨胀下去，五十亿年后，太阳将耗尽它的核燃料，变成一颗白矮星。在大约一百亿年后，具有太阳质量的恒星将变成白矮星或中子星，具有更大质量的恒星会变成黑洞。 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黑洞中粒子的速度有可能超过光速逃出黑洞，只要有足够长的时间，巨大的黑洞也可以“蒸发”掉。 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在星系或星系团之外，应该存在有足够的暗物质，这些暗物质能使密度达到临界值，从而一定会使宇宙最终坍缩。但这个时间在一百五十亿年之后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Times New Roman"/>
              </a:rPr>
              <a:t>　   　　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F98-FD27-4080-A097-2463C7BA96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2360" y="549000"/>
            <a:ext cx="8569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二、下列是对课文内容要点的概括，请指出与原文不符的两项：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科学家有信心预言未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②巫师的预言模棱两可，宗教的预言屡测屡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③物理方程、制约大脑的方程具有混沌性，因此我们不能预言人类；而宇宙的行为在非常大尺度下却是简单的，而不是混沌的，因此我们可以预言宇宙遥远的未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④宇宙的未来有两种可能，一是继续膨胀下去，二是收缩以至坍缩成一个点。是膨胀还是坍缩，取决于宇宙的最大密度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⑤宇宙现在的密度完全接近于把坍缩和膨胀区分开来的临界点上，所以两种可能都会发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4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EE7-9E35-4667-A62D-8A8BF3F1CF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736560"/>
            <a:ext cx="3671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宇宙之王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泰山北斗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活着的爱因斯坦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人们心中的英雄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你什么都不为过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命运对你实在不公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剥夺你行走的能力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却用思想穿越时空；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不让你站立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却用眼睛仰望天空；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对你冷漠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却用微笑面对死神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不该剥夺的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被厄运拿走了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留下十个手指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87640" y="189000"/>
            <a:ext cx="309564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致霍金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99292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907920"/>
            <a:ext cx="4968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活动的只有两个，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对你来说，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两个指头就足够了！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指头，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是一把锋利无比的剑，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任意洞穿苦难、灾祸、痛苦，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消灭一切黑暗，赢得重生。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另外一个指头，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以创造，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样可以所向披靡。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智者的化身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人类探索宇宙的典范，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站在爱因斯坦的肩上，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得好远，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我多想站在你的肩膀上，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直看到宇宙的边缘，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惊讶于生命的浩瀚 。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你致敬！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ABF-FD77-422A-A4B4-83E4A2642FB9}" type="slidenum">
              <a:t>13</a:t>
            </a:fld>
          </a:p>
        </p:txBody>
      </p:sp>
    </p:spTree>
  </p:cSld>
  <p:transition>
    <p:blinds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307223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7223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00217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第二课时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03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梳理结构</a:t>
            </a:r>
            <a:r>
              <a:rPr b="1" lang="en-US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: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演讲，从古代巫师的预言，谈到近代宗教的预言，然后过渡到自己对宇宙未来的预言，运用天体物理学理论，对宇宙的未来作出了两种预测，一是继续膨胀下去；二是收缩以至坍缩成一个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8B80-344C-45D8-A516-25A15166B43B}" type="slidenum">
              <a:t>14</a:t>
            </a:fld>
          </a:p>
        </p:txBody>
      </p:sp>
    </p:spTree>
  </p:cSld>
  <p:transition>
    <p:blinds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8508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合作讨论：</a:t>
            </a:r>
            <a:br>
              <a:rPr sz="4000"/>
            </a:b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为什么科学“不能预言人类社会的未来”，却“可以预言宇宙遥远的未来”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80476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明确：因为前者是混沌的，不确定的；而“宇宙的行为在非常大尺度下是简单的，而不是混沌的，因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们可以预言宇宙遥远的未来”。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FE7-454C-4BB7-980E-86C5FC17FB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562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对宇宙的未来的预言与巫师、宗教预言家对人类社会未来的预言有何不同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0" lang="en-US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2465280"/>
            <a:ext cx="854064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明确：前者是有科学根据的，是运用天体物理学理论进行的科学推测，科学预言；而后者是没有科学根据可言的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其实，从上面的题目就可知道，人类社会的未来根本就是无法预言的，因为方程是混沌的，所以巫师、宗教预言家对人类社会的预言注定就是荒唐的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251-1B04-4E25-820A-8B678E652B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3)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宇宙未来的预言，关键是要弄清宇宙的什么问题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3065040"/>
            <a:ext cx="8540640" cy="30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明确：“对宇宙未来的预言，其关键问题在于平均密度是多少。”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FE6C-FA2D-4C6D-A121-D4B54261C6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宋体"/>
              </a:rPr>
              <a:t>   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4)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认为宇宙的未来会是怎样的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2865600"/>
            <a:ext cx="8540640" cy="32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明确：会有两种可能：“如果它比临界值小，宇宙就将永远膨胀，但是，如果它比临界值大，宇宙就会坍缩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018B-8745-45D7-979F-D4B336F891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精读课文  品析赏鉴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为一篇关于宇宙未来的演讲词，本文的大量篇幅都是较为严肃的科学话题，运用了好多专业术语，容易使人感到沉闷，但是霍金的聪明之处在于它运用了许多风趣幽默的语言，使得这样一篇旨在说明科学道理的学术演讲，让人能够在一种轻松愉快的气氛中认真听下去。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 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，如果你稍微改变一下你旋转轮赌盘的方式，就会改变出来的数字。你在实际上不可能预言出来的数字，否则的话，物理学家就会在赌场发财。”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436572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确：用这个比喻生动地说明了“即使我们知道了制约宇宙的有关定律，我们仍然不能利用它们去预言遥远的未来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A483-A5FB-4A57-939F-D7802951FD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be9"/>
            </a:gs>
            <a:gs pos="50000">
              <a:srgbClr val="0099ff"/>
            </a:gs>
            <a:gs pos="100000">
              <a:srgbClr val="008b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 rot="5400000">
            <a:off x="5218200" y="2491560"/>
            <a:ext cx="5761080" cy="1298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宇宙的未来</a:t>
            </a:r>
            <a:endParaRPr b="0" lang="en-US" sz="72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pic>
        <p:nvPicPr>
          <p:cNvPr id="85" name="bf1ef73156aeb93aeac4af98" descr=""/>
          <p:cNvPicPr/>
          <p:nvPr/>
        </p:nvPicPr>
        <p:blipFill>
          <a:blip r:embed="rId1"/>
          <a:stretch/>
        </p:blipFill>
        <p:spPr>
          <a:xfrm>
            <a:off x="-257040" y="0"/>
            <a:ext cx="76215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E89F-0BFF-4A8E-A4EE-F2BB6A2B44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“这有一点像是再投胎。如果有人声称一个新生的婴儿是和某一死者等同，如果该婴儿没从他的以前的生命遗传到任何特征或记忆，这种声称有什么意义呢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们可以同样地讲，它是完全不同的个体。”</a:t>
            </a:r>
            <a:r>
              <a:rPr b="0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3303360"/>
            <a:ext cx="8540640" cy="27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明确：用这个比喻形象地说明宇宙在大挤压处终结后，并不是任何发生在之后的事件都是另一个相分离的宇宙的部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F68-9EAA-4A12-B144-948A8BC7B7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090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“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这些日期使股票市场下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虽然它使我百思不解，为何世界的终结会使人愿意用股票来换钱，假定你在世界末日什么也带不走的话。”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284640"/>
            <a:ext cx="806436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明确：这句话让人在笑声中悟到人类自身的某些缺陷和某些思维误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3138120"/>
            <a:ext cx="8496000" cy="28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22C-AA1C-422D-9A51-D9A5738F57E5}" type="slidenum">
              <a:t>21</a:t>
            </a:fld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6360" y="3141720"/>
            <a:ext cx="82296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确：这句话幽默中含着讽刺，揭露了宗教预言师的荒谬，表现了对方屡测屡败却又想方设法自圆其说的尴尬与可笑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76280"/>
            <a:ext cx="85345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“据说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4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是第二次回归的开始，但是首先要数出获救者名单。只有数完了名单，审判日才降临到那些不列在名单上的人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幸运的是，数人名看来要花很长的时间。”</a:t>
            </a:r>
            <a:br>
              <a:rPr sz="4400"/>
            </a:b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611A-163D-4EBA-9252-9DEA3DD9C2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“如果暴涨理论是正确的，则宇宙实际上是处在刀锋上。所以我正是继承那些巫师或预言者的良好传统，两方下赌注，以保万无一失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2781360"/>
            <a:ext cx="8363160" cy="38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确：听众明知作者做的是科学的预言，和巫师他们完全不同，可作者却有意将自己降为他们的同类，一是说明自己恰好也有两种预测，二是顺势又对他们进行嘲讽。这种智慧的表达既带来了轻松愉悦的气氛，又大大增加了自己与听众的亲和力。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3BC-BE72-428D-AB2E-B38273270D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宋体"/>
              </a:rPr>
              <a:t> </a:t>
            </a:r>
            <a:br>
              <a:rPr sz="1800"/>
            </a:br>
            <a:r>
              <a:rPr b="1" lang="zh-CN" sz="18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2360" y="476280"/>
            <a:ext cx="56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联系实际</a:t>
            </a:r>
            <a:r>
              <a:rPr b="1" lang="en-US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拓展延伸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060000">
            <a:off x="3301920" y="3303720"/>
            <a:ext cx="18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1080" y="1484280"/>
            <a:ext cx="8673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dobe 宋体 Std L"/>
                <a:ea typeface="Adobe 宋体 Std 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果壳中的宇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书中，霍金引用了莎士比亚戏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哈姆雷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一句充满诗意的台词：“我即使被关在果壳里，仍自以为是无限空间之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台词形象地道出了霍金的崇高精神追求，使人们亲眼看到了“果壳”中的那个挑战命运的不屈的灵魂。他曾说：“只要有智慧和精神在，没有什么能打倒自己。身体的健康固然重要，心灵的健康也会给你无穷的力量。”在少年霍金的心中，崇拜的不是歌星或球星，而是贝特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素，一位不知疲倦的思想家、哲学家和科学家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DB4-4BAD-4F89-B306-8DCBDB99B821}" type="slidenum">
              <a:t>24</a:t>
            </a:fld>
          </a:p>
        </p:txBody>
      </p:sp>
    </p:spTree>
  </p:cSld>
  <p:transition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7696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怎么看待霍金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近期，一家青少年调查机构调查出我国中学生最崇拜的人物是歌星周杰伦、影星章子怡、球星姚明，“三星高照”。你又怎样看待这一现象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3284640"/>
            <a:ext cx="8305560" cy="33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作者霍金的身上，能感受到高尚的人格魅力。霍金的朋友曾这样感慨：“可以相信，当他所热爱的东西都失去时，他不仅坚强地活着，而且伟大地活着，那么他所带给我们的不仅仅是科学的智慧，还有人类最可贵的精神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993-1738-4537-B8E9-4C6EADAFBB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   见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D79A-1731-4B98-ADC7-FF310A2D838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1080" y="3790800"/>
            <a:ext cx="4248000" cy="2229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645080" y="622440"/>
            <a:ext cx="4174920" cy="2374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645080" y="3789360"/>
            <a:ext cx="4178160" cy="223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52360" y="620640"/>
            <a:ext cx="4179960" cy="24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CA60-9BBA-4895-92A7-6394872023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84232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密接触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•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感受魅力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484280"/>
            <a:ext cx="8305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史蒂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霍金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tephen Hawking) 194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生于牛津，那一天刚好是伽利略逝世三百年。可能因为他出生在第二次世界大战的时代，所以小时候对模型特别着迷。他十几岁时不但喜欢做模型飞机和轮船，还和学友制作了很多不同种类的战争游戏，反映出他研究和操控事物的渴望。这种渴望驱使他攻读博士学位，并在黑洞和宇宙论的研究上获得重大成就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184720" y="4581360"/>
            <a:ext cx="3959280" cy="18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28D6-D002-45D1-829D-EC34200B22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6720" y="476280"/>
            <a:ext cx="828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霍金十三、四岁时已下定决心要从事物理学和天文学的研究。十七岁那年，他考到了自然科学的奖学金，顺利入读牛津大学。学士毕业后他转到剑桥大学攻读博士，研究宇宙学。不久他发现自己患上了会道致肌肉萎缩的卢伽雷氏病。由于医生对此病束手无策，起初他打算放弃从事研究的理想，但后来病情恶化的速度减慢了，他便重拾心情，从挫折中站起来，勇敢地面对这次的不幸，继续醉心研究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04000" y="4149720"/>
            <a:ext cx="2195640" cy="270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6B57-36AA-4F93-BB72-CC24321D6A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4920" y="476280"/>
            <a:ext cx="562284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简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版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后，剑桥的应用学和理数论物理系的气氛有了微妙的变化，不断有世界各地的报刊的记者要求访问霍金，在以后的两年时间里，电视台工作人员不时地占用大楼，他们要为这位世界上最著名的科学家拍一部有关他生活的记录片。在不同的国家用不同的语言反复讲述同一故事：霍金如何凭着自己的勇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服了身体的残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为科学的巨人和新闻媒介的英雄。一批又一批的新闻记者访问了霍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西尔弗大街那凌乱的办公室，并和这位公众新近的英雄度过激动人心的时刻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 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96" name="02006" descr=""/>
          <p:cNvPicPr/>
          <p:nvPr/>
        </p:nvPicPr>
        <p:blipFill>
          <a:blip r:embed="rId2"/>
          <a:stretch/>
        </p:blipFill>
        <p:spPr>
          <a:xfrm>
            <a:off x="5580000" y="476280"/>
            <a:ext cx="3456000" cy="583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A5CB-0586-421F-B878-894E42AEBA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8000" y="40644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霍金的工作是令人惊叹的，可是有着如此伟大发现的人，却是一个身患肌肉萎缩症的病人，除了思想，几乎全身不能动弹，不能说话，头向前垂落。正因为这点，他更加引起全世界人们的关注和尊敬。在开始患病时，他意识到自己的生命行将结束，于是抓紧时间，全心投入，谁也没想到他不仅活了下来，而且成果累累。他的成功，当然离不开他的天才，但那种不向厄运低头的精神，是没有人不敬佩的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由此可见，人的精神力量是难以想象的，一个人要有精神，一个民族也要依靠精神，精神的力量往往可以超越世上难以逾越的障碍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892-01AB-4991-A003-E7D7FD66E0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540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素材积累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霍金名言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7640" y="141300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果一个人没有梦想，无异于死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无论命运有多坏，人总应有所作为，有生命就有希望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身体和精神是不能同时残障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上帝既造就天才，也造就傻瓜，这不取决于天赋，完全是个人努力程度不同的结果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0" name="QQ截图未命名发生地发生" descr=""/>
          <p:cNvPicPr/>
          <p:nvPr/>
        </p:nvPicPr>
        <p:blipFill>
          <a:blip r:embed="rId2"/>
          <a:stretch/>
        </p:blipFill>
        <p:spPr>
          <a:xfrm>
            <a:off x="5724360" y="4294080"/>
            <a:ext cx="338472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797-C61F-4ED4-A9E8-898ABE3C4B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●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科技论文阅读方法：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阅读时，采用两步走：第一步泛读，即知其大意，不求甚解。第二步精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边读边画出结构上起过渡、连接作用的词、句子、段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画出段落的中心句，尤其要注意段首、段尾句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画出文中的关键词句，如：也许、左右、可能、似乎、大概等模棱两可的词语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取作者观点时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摘录文中语句，或用自己的语言组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45D-BC3D-4599-9303-2CB4930820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0:24:40Z</dcterms:created>
  <dc:creator>中学教考网</dc:creator>
  <dc:description/>
  <cp:keywords/>
  <dc:language>en-US</dc:language>
  <cp:lastModifiedBy>zmj</cp:lastModifiedBy>
  <cp:lastPrinted>1899-12-30T00:00:00Z</cp:lastPrinted>
  <dcterms:modified xsi:type="dcterms:W3CDTF">2009-11-20T04:29:58Z</dcterms:modified>
  <cp:revision>27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