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34.jpeg" ContentType="image/jpeg"/>
  <Override PartName="/ppt/media/image40.png" ContentType="image/pn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13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CEB-657A-4DE4-968F-3E319577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0B5-DD3A-44CF-BD4C-3D9CF32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569-E7CF-4EAB-9349-360324AB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2DE-4CDB-45B4-98B2-197DCF20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C43-167A-4AFC-87EE-A8BC0E4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EA1-CE5C-4282-9127-80B9E508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A3E-513C-4687-9A8D-DF87ECF8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731-CC69-4E35-BC82-9BCC58B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1F8-15C8-4F4D-B55C-4FC6050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E9A-9B77-4106-A97B-C092191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CF5-D92B-48E6-8C83-DFE3EDA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182-7552-4BF8-B519-8986499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000" y="6356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BC1E-C63E-41F5-A907-22E8372D5396}" type="datetime">
              <a:rPr b="0" lang="zh-CN" sz="1400" spc="-1" strike="noStrike">
                <a:solidFill>
                  <a:srgbClr val="00ffff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80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D558-D75A-4ACA-8C35-8DD4FD037568}" type="slidenum">
              <a:rPr b="0" lang="zh-CN" sz="14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996779_100712098764_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88880" y="2421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杨珍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80A-722F-4525-9C4F-B7B8E604106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6408D-4B78-48BF-84EC-A2882C7AE221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" descr=""/>
          <p:cNvPicPr/>
          <p:nvPr/>
        </p:nvPicPr>
        <p:blipFill>
          <a:blip r:embed="rId2"/>
          <a:stretch/>
        </p:blipFill>
        <p:spPr>
          <a:xfrm>
            <a:off x="900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5373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俗称“猫眼星云”距地球约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300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光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472-03FC-4B11-8845-F7D517BD7CF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19D26-47EB-43EC-A4EF-61A591D0EEC7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692280"/>
            <a:ext cx="158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沙漏星云” 距地球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8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光年。它是一个年轻的行星状星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E1C-8B11-4610-8CED-9FE21C1F5D9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C1512-A82B-4B4B-A5ED-38519C94AAA3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指环星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599-72DC-457B-AC8B-B3AF808F671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0CC09-181B-4027-8D47-6E322109DB36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蛋形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云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 。其中央的恒星与太阳类似，它成为一颗“红巨星”还不到一百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C56-6BEC-43D1-ABB2-08A04974CA0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CDE5B-8C92-47D8-BA6C-9A66E37EF7B7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7" descr=""/>
          <p:cNvPicPr/>
          <p:nvPr/>
        </p:nvPicPr>
        <p:blipFill>
          <a:blip r:embed="rId2"/>
          <a:stretch/>
        </p:blipFill>
        <p:spPr>
          <a:xfrm>
            <a:off x="0" y="-243000"/>
            <a:ext cx="9302760" cy="7618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476280"/>
            <a:ext cx="849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“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方正粗圆简体"/>
              </a:rPr>
              <a:t>蟹状星云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5D2-9298-4A36-8526-D30A9DFD5FA2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A174B-74EE-490D-9F3B-2FCDBAEB94C0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1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340000" y="260280"/>
            <a:ext cx="540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神秘 魔幻 璀灿的宇宙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7AF-F349-4FE4-AD31-B1FB92BC4F6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60DCD-C6F9-4E67-9BC9-0150E1F3F3A0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1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CAD-A287-44A6-B62C-784C1C6860C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0A92A-0EB6-4BE6-9136-C2844CB39C02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30A-68FF-4E5B-BD2C-8FB6F2F57F5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2573-DA86-4F61-AB2F-260D51FB6BD0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743-AC38-4748-89B9-95EBEC6F560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3FAE3-36B5-4486-BD0F-15D17DAE35FC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2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EB2-B791-4D62-B4AC-37096DEDD9B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148B8-0054-4482-AC9F-3A668A972A66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240402283q19IlWQE" descr=""/>
          <p:cNvPicPr/>
          <p:nvPr/>
        </p:nvPicPr>
        <p:blipFill>
          <a:blip r:embed="rId2"/>
          <a:stretch/>
        </p:blipFill>
        <p:spPr>
          <a:xfrm>
            <a:off x="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096680" y="404640"/>
            <a:ext cx="10947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宇宙的未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05040" y="337500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霍  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053-CB21-48BF-A140-F889CE04A51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A3D9B-3F44-474C-8BA0-FE6AB595A7A0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C80-78CF-4175-B722-F888B120A53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9471A-0900-45B5-BE5D-F621C2C635BB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E2C-8925-444D-9CD5-EEC5365FAD3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32C31-6973-4324-9974-420CC7E03957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-396720" y="0"/>
            <a:ext cx="9540360" cy="6858000"/>
            <a:chOff x="-396720" y="0"/>
            <a:chExt cx="9540360" cy="6858000"/>
          </a:xfrm>
        </p:grpSpPr>
        <p:pic>
          <p:nvPicPr>
            <p:cNvPr id="94" name="2006110911175040671" descr=""/>
            <p:cNvPicPr/>
            <p:nvPr/>
          </p:nvPicPr>
          <p:blipFill>
            <a:blip r:embed="rId2"/>
            <a:stretch/>
          </p:blipFill>
          <p:spPr>
            <a:xfrm>
              <a:off x="-396720" y="0"/>
              <a:ext cx="9540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7160" y="765000"/>
              <a:ext cx="733320" cy="51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468360" y="476280"/>
            <a:ext cx="3527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家园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971-77C4-434E-B86B-2EE0593D65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EE98D-B205-48BB-B944-19D60347FB57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5400000">
            <a:off x="5256000" y="1952280"/>
            <a:ext cx="5761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传奇作者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8" name="QQ截图未命名发生地发生" descr=""/>
          <p:cNvPicPr/>
          <p:nvPr/>
        </p:nvPicPr>
        <p:blipFill>
          <a:blip r:embed="rId2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751-1BAD-4086-9725-662B3F5BFA66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389AE-0A33-402D-85CE-926804EDC6B9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f1ef73156aeb93aeac4af98" descr=""/>
          <p:cNvPicPr/>
          <p:nvPr/>
        </p:nvPicPr>
        <p:blipFill>
          <a:blip r:embed="rId2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720" y="0"/>
            <a:ext cx="387684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f6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称誉：“轮椅上的传奇科学家”和“继爱因斯坦之后最杰出的物理学家”“引力物理科学巨人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生平：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1942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年，牛津，“牛津大学” 和“剑桥大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⊙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症：“肌萎缩性侧索硬化症”和“肺炎（穿气管手术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ff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00ffff"/>
                </a:solidFill>
                <a:latin typeface="Times New Roman"/>
                <a:ea typeface="黑体"/>
              </a:rPr>
              <a:t>理论：“黑洞蒸发理论”和“量子宇宙论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目标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>
                <a:solidFill>
                  <a:srgbClr val="00ffff"/>
                </a:solidFill>
                <a:latin typeface="Times New Roman"/>
                <a:ea typeface="黑体"/>
              </a:rPr>
              <a:t>第一推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著作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时间简史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职位：卢卡逊数学讲座最高教授之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600"/>
                </a:solidFill>
                <a:latin typeface="Times New Roman"/>
                <a:ea typeface="黑体"/>
              </a:rPr>
              <a:t>⊙</a:t>
            </a:r>
            <a:r>
              <a:rPr b="1" lang="zh-CN" sz="2000" spc="-1" strike="noStrike">
                <a:solidFill>
                  <a:srgbClr val="fcf600"/>
                </a:solidFill>
                <a:latin typeface="Times New Roman"/>
                <a:ea typeface="黑体"/>
              </a:rPr>
              <a:t>精神：不向厄运低头的精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3160" y="209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霍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94A-73C8-406B-90FD-7E82D68EAB4F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3E4B4-8496-412A-ABFB-92886B964801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02980545324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32000" y="5950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2002/8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方正粗圆简体"/>
              </a:rPr>
              <a:t>江泽民会见霍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18D-BF50-4761-A7A6-D54EE2514286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5CA9D-82E3-453E-8263-75B71CB14D90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总结霍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0440" y="1628640"/>
            <a:ext cx="290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科学家、物理学家，不仅敬重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理论物理</a:t>
            </a:r>
            <a:r>
              <a:rPr b="0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方面的贡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更在于他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在身患绝症、全身瘫痪</a:t>
            </a:r>
            <a:r>
              <a:rPr b="0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的情况下所作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贡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65640" y="3573360"/>
            <a:ext cx="410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从“身残志不残”的霍金身上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能感受到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高尚的人格魅力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战胜自我、挑战极限、追求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学的顽强品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38D-736B-4C78-A8AA-BEDA959A9B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4166D-4F83-47A0-BF04-8DB11F8AE6F1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32000" y="189000"/>
            <a:ext cx="61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宋体"/>
              </a:rPr>
              <a:t>字词过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174636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模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棱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两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1889280"/>
            <a:ext cx="16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尴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2681280"/>
            <a:ext cx="19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混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7280" y="3618000"/>
            <a:ext cx="164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衍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71628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隘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200" y="4481640"/>
            <a:ext cx="19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坍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4653000"/>
            <a:ext cx="17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暴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51664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迄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5661000"/>
            <a:ext cx="20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宋体"/>
              </a:rPr>
              <a:t>恍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35280" y="2033640"/>
            <a:ext cx="1335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174636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léng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716280"/>
            <a:ext cx="36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ài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4581360"/>
            <a:ext cx="33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tān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5589720"/>
            <a:ext cx="25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qì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889280"/>
            <a:ext cx="43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gān gà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2708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hùn dùn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71628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yǎn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4581360"/>
            <a:ext cx="41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bà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zhǎng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5805360"/>
            <a:ext cx="49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huǎng hū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94280" y="270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告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4320" y="260496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(qì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5DC-1893-46F8-91F0-FFA163E759A5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7CB8E-9BD8-4570-A8B0-5566CA150B21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内容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第一部分（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</a:rPr>
              <a:t>）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明本文主题，强调科学家对预言宇宙未来充满信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708280"/>
            <a:ext cx="35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2708280"/>
            <a:ext cx="712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573360"/>
            <a:ext cx="7058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UN_061" descr=""/>
          <p:cNvPicPr/>
          <p:nvPr/>
        </p:nvPicPr>
        <p:blipFill>
          <a:blip r:embed="rId2"/>
          <a:stretch/>
        </p:blipFill>
        <p:spPr>
          <a:xfrm>
            <a:off x="6840360" y="0"/>
            <a:ext cx="230364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3A8-FF8C-4657-B103-9165DAB98E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8C579-14A2-49B6-8AC3-21C53835D29E}" type="datetime1">
              <a:rPr lang="en-US"/>
              <a:t>07/29/26</a:t>
            </a:fld>
          </a:p>
        </p:txBody>
      </p:sp>
    </p:spTree>
  </p:cSld>
  <p:transition spd="slow"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718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20110608172002-130766659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6120" y="1184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波希战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25E-67E6-4F23-90C2-8BC92C2009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2E305-0424-4FE7-8A09-FEB83062EB3C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844640"/>
            <a:ext cx="7920000" cy="43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走进神秘的宇宙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49" name="SUN_077" descr=""/>
          <p:cNvPicPr/>
          <p:nvPr/>
        </p:nvPicPr>
        <p:blipFill>
          <a:blip r:embed="rId2"/>
          <a:stretch/>
        </p:blipFill>
        <p:spPr>
          <a:xfrm>
            <a:off x="7380360" y="549360"/>
            <a:ext cx="922320" cy="99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938-ED00-400B-93A6-41314A15E1F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AE777-271F-460E-828B-4C50F8EA3B17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二部分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-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：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述说古代巫师的预言模棱两可，技巧在于解释，为后文作铺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486560" cy="30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段：巫师们的模棱两可而真正技巧在于 解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段：预言家对自己预言的失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段：近代末日预言者不设定日期，为失败找借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875-48D5-4A11-BFB7-B9D7001DA5A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6DD21-0997-49B7-96E3-5C71A96191DA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14920" y="549360"/>
            <a:ext cx="528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这篇讲演的主题是预言宇宙的未来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为什么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篇（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1-5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）先罗列了一些巫师们预言屡屡失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的尴尬的事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6080" y="2852640"/>
            <a:ext cx="49917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通过对比说明巫师们的预言缺乏科学根据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只是一些模棱两可的判断，而真正的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在于解释。这与科学家的预言有很大的区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028-5B66-4DD3-AA1A-CC4D84DED8CA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F13FB-E5EF-4E52-947A-3162E21AD4F2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科学并非都可预言，但是在大尺度下，可以预言宇宙的未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SUN_077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2340000" cy="2205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920" y="836640"/>
            <a:ext cx="25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第三部分（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965-52D8-4BDD-89EE-AA73C77EA17F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886AD-3D74-4735-A071-3F0EFF3F3436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四部分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-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：地球上的科学会呈现混沌性质，有很多方面无法预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段：</a:t>
            </a:r>
            <a:r>
              <a:rPr b="1" lang="zh-CN" sz="2800" spc="-1" strike="noStrike">
                <a:solidFill>
                  <a:srgbClr val="66ffff"/>
                </a:solidFill>
                <a:latin typeface="Times New Roman"/>
              </a:rPr>
              <a:t>科学定律不影响宇宙的未来演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段：宇宙会呈现出混沌的性质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段：在不稳定或混沌系统中，一般存在一个时间尺度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：对大脑的预言、对社会生活的预言是很难的，因其具有混沌行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0B3-94BE-49EE-82D2-4CA847C8DCF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D57AF-8B46-435E-940A-511199438A74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第五部分（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11-13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：论证宇宙的行为在大尺度下是简单的，因此我们可以预言宇宙的未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宇宙正在膨胀，星系间的距离随时间在增加，所们预言的误差越来越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宇宙的膨胀是平滑而非混沌的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：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宇宙的行为在非常大尺度下是简单的，表明我们可以预言宇宙遥远的未来。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5F6-7FCE-4FD1-A96D-50912E1CEBC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9BDAF-2C6A-422E-8504-A37F2C7B196A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5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六部分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4-1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：对于宇宙的未来关键在于：平均密度是多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是本文探讨的核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492280"/>
            <a:ext cx="76309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段：宇宙平均密度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〉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临界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段：宇宙平均密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〈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临界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段：宇宙的未来，关键在于：平均密度是多少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5EA-0BB6-4BBD-A997-92E027352A8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DE12E-8E2E-443F-B683-70ECDA9EBCAB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七部分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7-1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：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宇宙中存在许多暗物质，因此不能根据可见天体的质量判断宇宙的平均密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段：什么是暗物质？暗物质的一个证据来自螺旋星系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段：暗物质另一个证据来自星系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0C7-A81E-483F-B203-9AE1AFC6A84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05DC3-8632-42D5-A77C-76C3C5BEC6F2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7957752_120623296129_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3BF-8A06-4203-B3D8-9CA023210C99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7F81A-4376-4580-8FBA-1E8478CF77EC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5366d0160924ab184710db6935fae6cd7b890b6d" descr=""/>
          <p:cNvPicPr/>
          <p:nvPr/>
        </p:nvPicPr>
        <p:blipFill>
          <a:blip r:embed="rId2"/>
          <a:stretch/>
        </p:blipFill>
        <p:spPr>
          <a:xfrm>
            <a:off x="0" y="-171360"/>
            <a:ext cx="9361440" cy="7029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9920" y="-39024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  <a:ea typeface="黑体"/>
              </a:rPr>
              <a:t>红巨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AF7-46E1-4FFA-B5B3-CA457485466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7A3C4-6621-4E98-92D6-A274D093A9FD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216821_200912091850001Z5zm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 rot="5400000">
            <a:off x="6113520" y="1766880"/>
            <a:ext cx="4464000" cy="159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白矮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759-BAA4-4F38-B0DA-646F388AAD7A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0D0C6-8CFB-4842-9BE0-67D54EC70F66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3b6ac288d42d86798250a9f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45720" y="6156360"/>
            <a:ext cx="49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2012/6/16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酒泉“神舟九号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7A4-8E5C-42D0-A613-3055C1261A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B4BB9-BE98-4EA9-9DDD-2BF222E53F44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2329472_175716087_2" descr=""/>
          <p:cNvPicPr/>
          <p:nvPr/>
        </p:nvPicPr>
        <p:blipFill>
          <a:blip r:embed="rId2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92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段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太阳的未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太阳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红巨星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白矮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04F-242B-4BFA-A51E-B7B759A2F197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F138F-E6CA-4241-8752-90358B6C703B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627280" y="0"/>
            <a:ext cx="3168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子星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590-0F55-421F-847E-2D4E212D4A9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AAAE9-ED46-4891-AA30-9F8584CCCFF3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5400000">
            <a:off x="-109080" y="837360"/>
            <a:ext cx="3168720" cy="18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黑洞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158-9D4B-4866-8DBD-ED406BAE383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36232-4099-4131-BBB2-6A1E7E538A35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u=3202502050,2020463119&amp;fm=23&amp;gp=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5400000">
            <a:off x="-2034720" y="2223360"/>
            <a:ext cx="6048360" cy="19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银河系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5C5-E452-4B1A-8037-67D3DAACB6F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E5A85-748C-430E-82D4-2D87FF5A9BAE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黑洞的爆发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31280" y="0"/>
            <a:ext cx="871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段：黑洞的形成（恒星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黑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EA6-5D19-4F90-B1DF-6CF24030FCC0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DD7B6-3540-4A03-87E6-451A53D7D210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2010111809191408143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627280" y="33336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暗物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589-14F8-48EF-9C5B-080BCDD4EAE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01071-55A8-41EB-8749-B3C08FC0246D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恒星被黑洞吞噬的过程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7174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11280" y="566100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恒星被黑洞吞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734-306C-4F84-AAC6-A3766BA1670F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8B1B9-0731-48BE-86A3-A1D20726CFA6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77459_13143611973mko[1]" descr="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 rot="5400000">
            <a:off x="-2458440" y="2458080"/>
            <a:ext cx="6453360" cy="1536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黑洞吞噬恒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C95-8E8C-4CDC-B65B-D9568A62CD2B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80F5E-A7F7-4284-AF49-370AFDA75C2D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8846687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250920" y="4768920"/>
            <a:ext cx="2808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宇宙膨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1166760" y="552276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1800" y="-47520"/>
            <a:ext cx="4928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段：粒子逃离黑洞，宇宙如果膨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黑洞最终会蒸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319-0D64-498E-AA18-551189F204D2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DAC51-A0CC-40DD-BAF2-67A362D46238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7020532_001025880000_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6505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 rot="5400000">
            <a:off x="-564480" y="1940400"/>
            <a:ext cx="3743280" cy="1824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粒子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1B8-9991-440B-8A37-0B74AAA994AB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2A57A-6337-4294-AA4E-0397893EB800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b021801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DCE-FA24-4527-A2AD-25DDB6338C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9FAE8-61FF-478C-8066-430CB31E1C66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4240" y="1197000"/>
            <a:ext cx="50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第八部分（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19-21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依观测可预言宇宙会无限膨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079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5148360" cy="30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904-8BEA-441A-8792-8CBB893437EC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A8E4E-4EC5-44D2-9E29-31450A5D92EB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76280" y="501480"/>
            <a:ext cx="30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九部分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2-2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640" y="4046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论述也许存在足够的暗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质，那么宇宙就会坍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48480" y="242100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2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6280" y="2440080"/>
            <a:ext cx="3198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还有未被我们探测到的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物质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9760" y="383544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6280" y="38606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也许存在足够的暗物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使宇宙坍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D5C-E73E-4C1F-B687-105498EFFCA2}" type="slidenum">
              <a:t>5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7FE25-4D31-4B7F-A32D-5933FEC1C425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d9_spac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2340000" y="18900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宇宙收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D8C-3E77-4E09-AAA5-B8C88F398C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8124-82F6-43AC-A8E7-C31CDEFF579D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3760" y="26028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第十部分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4-2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260280"/>
            <a:ext cx="2619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介绍宇宙必须刚好具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临界密度的两种解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8480" y="225108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29720" y="21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人择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48480" y="340200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37720" y="346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  <a:ea typeface="黑体"/>
              </a:rPr>
              <a:t>暴涨理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u=4253227405,3166916683&amp;fm=23&amp;gp=0" descr=""/>
          <p:cNvPicPr/>
          <p:nvPr/>
        </p:nvPicPr>
        <p:blipFill>
          <a:blip r:embed="rId2"/>
          <a:stretch/>
        </p:blipFill>
        <p:spPr>
          <a:xfrm>
            <a:off x="4535640" y="4191120"/>
            <a:ext cx="460836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9C7-0CC5-4845-804B-E2039FEB9184}" type="slidenum">
              <a:t>5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C44FA-0BDB-4C56-8E0C-0B9486B9823B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u=1326392835,824593647&amp;fm=23&amp;gp=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87880" y="836640"/>
            <a:ext cx="35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第十一部分（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26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段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8280" y="1989000"/>
            <a:ext cx="4853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总结全文，再次阐明对宇宙未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观点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宇宙的未来可能继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膨胀也可能开始收缩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D91-1E15-471E-BBB9-E2CA84A11390}" type="slidenum">
              <a:t>5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0F08F-A2DC-4AD7-9AE7-EC47053B5368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42920" y="189000"/>
            <a:ext cx="77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080" y="1557360"/>
            <a:ext cx="88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然后请用一句话 简要地概括出本文的主要内容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1417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本文要讲的是宇宙的未来问题，作者预测了宇宙的两种结局：或者永远膨胀，或者停止膨胀开始收缩，并最终坍缩成一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EB4-743D-4793-8817-4E6D85B0B70B}" type="slidenum">
              <a:t>5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6EF6B-4DDA-4D2E-8F49-7CB205041A0E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u=1113691447,2377612459&amp;fm=23&amp;gp=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0" y="476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霍金对预言宇宙未来的主要观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72240" y="1628640"/>
            <a:ext cx="48135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宇宙的膨胀和坍缩与宇宙的平均密度有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平均密度小于某个临界值，它就会永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膨胀。如果平均密度大于临界值，宇宙就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坍缩，时间本身就会终结。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4486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76D-AC5F-459D-A7E6-6DF44469EA52}" type="slidenum">
              <a:t>5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0BDEE-277E-4622-96D6-E2B35559F0F2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u=4253227405,3166916683&amp;fm=23&amp;gp=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螺旋星系和星系团中应该存在有某种看不见的暗物质，它的引力吸引足以把高速旋转的星系牢牢抓住，不至于使这些星系或星系团飞散开去。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段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9DB-606C-4E88-ACF8-EA556E45E578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23515-0327-4A97-82FC-64CC96216466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39400" y="1341360"/>
            <a:ext cx="536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宇宙继续膨胀下去，五十亿年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太阳将耗尽它的核燃料，变成一颗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矮星。在大约一百亿年后，具有太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质量的恒星将变成白矮星或中子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具有更大质量的恒星会变成黑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19—2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段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4BC-92FB-4C76-809F-49AEA3A09BE6}" type="slidenum">
              <a:t>5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A5680-1F70-484C-9FB7-03F5B8497693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黑洞中粒子的速度有可能超过光速逃出黑洞，只要有足够长的时间，巨大的黑洞也可以“蒸发”掉。（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段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1DF-3287-40E1-B5AA-7F3E2CBAB68E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A2508-5A07-49A1-81CC-B74014EB2D13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83a883e39e9f6597c1e71a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93A-8289-412C-B7E3-0247379B14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09244-123C-4A6A-AA2E-FBEE45635C46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11240" y="404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黑体"/>
              </a:rPr>
              <a:t>能力提升训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21400" y="1268280"/>
            <a:ext cx="44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、下列词语的注音、解释全正确的一项是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38880" y="2133720"/>
            <a:ext cx="346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混沌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húndù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我国传说中指宇宙形成以前模糊一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景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尴尬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āng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（神色、态度）不自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诘问（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jiéwèn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倚重（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yǐzhòng):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倚靠，器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昧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ānwěi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指心神专注而不散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皮萨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ísh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种意大利式馅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告罄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gàoxìng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指能源枯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黑洞（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hēidòng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: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黑体"/>
              </a:rPr>
              <a:t>一种特殊的天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19640" y="249228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hù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53080" y="11588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59640" y="414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(mè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465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(sà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508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(qì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6F8-E4D5-4802-B33D-30BB2E1E0142}" type="slidenum">
              <a:t>6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21149-A587-45B9-AC96-19978970C817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643400" y="54936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、下列词语中没有错别字的一组是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11920" y="1844640"/>
            <a:ext cx="504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A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别出心裁   映入眼帘    赞叹不已    如烟似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B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明察秋毫   幅圆广阔    轻而易举    瞬息万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C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瞻养父母   归根到底    晶莹透明    模棱两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D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黑体"/>
              </a:rPr>
              <a:t>推陈出新   疏疏朗朗    因地治宜    臭名昭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314172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幅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39337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赡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494172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制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86880" y="47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CA7-08C7-4E69-A267-7E9FB4BA92E4}" type="slidenum">
              <a:t>6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CAB46-E194-4DD5-8A29-F144C3C05270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讨论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20760" y="1197000"/>
            <a:ext cx="542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本文是霍金对宇宙未来的预言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那你们又是怎么看待宇宙的未来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你们相信有世界未日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868017_074235451506_2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6084720" cy="30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B7C-9023-4FC9-A8F8-CFD4A46C29BB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8149A-6C34-42ED-9BE8-ED3BBEF04279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02800" y="260280"/>
            <a:ext cx="815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时间在流逝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而是我们自己在流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霍 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01300000335934124028523566054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5329440" cy="335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6D5-13F1-4C73-B803-018AAB824441}" type="slidenum">
              <a:t>6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9A7E4-C6A9-4FE9-BFE3-06C710E7A533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8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1242397_101635048_2[1]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1908000" y="1125360"/>
            <a:ext cx="50421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B92-6380-4D75-A859-0D4348135034}" type="slidenum">
              <a:t>6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E6525-3B74-4FC3-9FF1-D54C86818A1D}" type="datetime1">
              <a:rPr lang="en-US"/>
              <a:t>07/29/26</a:t>
            </a:fld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43640" y="0"/>
            <a:ext cx="18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600"/>
                </a:solidFill>
                <a:latin typeface="Times New Roman"/>
                <a:ea typeface="方正粗圆简体"/>
              </a:rPr>
              <a:t>“</a:t>
            </a:r>
            <a:r>
              <a:rPr b="1" lang="zh-CN" sz="3600" spc="-1" strike="noStrike">
                <a:solidFill>
                  <a:srgbClr val="fcf600"/>
                </a:solidFill>
                <a:latin typeface="Times New Roman"/>
                <a:ea typeface="方正粗圆简体"/>
              </a:rPr>
              <a:t>火星全球”可以看到“水手谷”约</a:t>
            </a:r>
            <a:r>
              <a:rPr b="1" lang="en-US" sz="3600" spc="-1" strike="noStrike">
                <a:solidFill>
                  <a:srgbClr val="fcf600"/>
                </a:solidFill>
                <a:latin typeface="Times New Roman"/>
                <a:ea typeface="方正粗圆简体"/>
              </a:rPr>
              <a:t>4000</a:t>
            </a:r>
            <a:r>
              <a:rPr b="1" lang="zh-CN" sz="3600" spc="-1" strike="noStrike">
                <a:solidFill>
                  <a:srgbClr val="fcf600"/>
                </a:solidFill>
                <a:latin typeface="Times New Roman"/>
                <a:ea typeface="方正粗圆简体"/>
              </a:rPr>
              <a:t>公里，深度约</a:t>
            </a:r>
            <a:r>
              <a:rPr b="1" lang="en-US" sz="3600" spc="-1" strike="noStrike">
                <a:solidFill>
                  <a:srgbClr val="fcf600"/>
                </a:solidFill>
                <a:latin typeface="Times New Roman"/>
                <a:ea typeface="方正粗圆简体"/>
              </a:rPr>
              <a:t>8 </a:t>
            </a:r>
            <a:r>
              <a:rPr b="1" lang="zh-CN" sz="3600" spc="-1" strike="noStrike">
                <a:solidFill>
                  <a:srgbClr val="fcf600"/>
                </a:solidFill>
                <a:latin typeface="Times New Roman"/>
                <a:ea typeface="方正粗圆简体"/>
              </a:rPr>
              <a:t>公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4AB-8616-4C9B-856A-3F662B64508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6E682-C0AD-44A2-B1D4-AE5BEEFBD197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80000" y="26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粗圆简体"/>
              </a:rPr>
              <a:t>火星表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B60-3C2D-4CFE-A553-81F6EE14B56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DFD25-7C3E-4D25-B7BF-93CC4FA9094E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火星表面的景色，远处可见名为“双子峰”火星的山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03C-F122-4812-9A5D-903A54CCBFC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65F55-1103-4CCD-980A-8E359213579D}" type="datetime1">
              <a:rPr lang="en-US"/>
              <a:t>07/29/26</a:t>
            </a:fld>
          </a:p>
        </p:txBody>
      </p:sp>
    </p:spTree>
  </p:cSld>
  <p:transition spd="slow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1:08:45Z</dcterms:created>
  <dc:creator>山鸟</dc:creator>
  <dc:description/>
  <dc:language>en-US</dc:language>
  <cp:lastModifiedBy>lcx0127</cp:lastModifiedBy>
  <dcterms:modified xsi:type="dcterms:W3CDTF">2012-10-27T10:55:31Z</dcterms:modified>
  <cp:revision>1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