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%E5%B8%83%E8%B0%B7%E9%B8%9F.wav" ContentType="audio/x-wav"/>
  <Override PartName="/ppt/media/image7.jpeg" ContentType="image/jpeg"/>
  <Override PartName="/ppt/media/%E5%A4%9C%E8%8E%BA.wav" ContentType="audio/x-wav"/>
  <Override PartName="/ppt/media/image6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37FA-400A-4E7A-B141-1204B6FA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2738-4412-4877-BE8F-2F3270E0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020F-68A7-4D6E-87BF-01EC6C8F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A5B6-0F2F-424E-BDFA-F35C5588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0F20-D3A3-4C7E-B778-E1E721B0A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DB7-EAE4-4E59-A71F-D0FF6614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D00-772F-4E38-AF93-408E694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1A2-828F-4317-862A-2C0102BC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312-B160-4393-8BE9-9687A7C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642-A237-43C6-9AD1-1804962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C64-4D37-46BC-82AD-DED819F6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000-892F-4A68-BAD0-437830E0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448-D167-4078-9EC6-0C27181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A60-B79B-4C52-94CE-950AD27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6D6-F438-45CF-94D4-32A487D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33A-D786-4F57-952D-B15C65B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15F-669A-4B54-BF06-E1B52B6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817-AEE3-4227-8E06-67770A80F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&#22812;&#33722;.wav"/><Relationship Id="rId5" Type="http://schemas.openxmlformats.org/officeDocument/2006/relationships/audio" Target="../media/&#22812;&#33722;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&#24067;&#35895;&#40479;.wav"/><Relationship Id="rId5" Type="http://schemas.openxmlformats.org/officeDocument/2006/relationships/audio" Target="../media/&#24067;&#35895;&#40479;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"/>
          <p:cNvPicPr/>
          <p:nvPr/>
        </p:nvPicPr>
        <p:blipFill>
          <a:blip r:embed="rId1"/>
          <a:stretch/>
        </p:blipFill>
        <p:spPr>
          <a:xfrm>
            <a:off x="2843280" y="1052640"/>
            <a:ext cx="5016600" cy="397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029200" y="58532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民族乐曲.MID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75960" cy="759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"/>
          <p:cNvGrpSpPr/>
          <p:nvPr/>
        </p:nvGrpSpPr>
        <p:grpSpPr>
          <a:xfrm>
            <a:off x="787680" y="1413000"/>
            <a:ext cx="1642680" cy="3528360"/>
            <a:chOff x="787680" y="1413000"/>
            <a:chExt cx="1642680" cy="3528360"/>
          </a:xfrm>
        </p:grpSpPr>
        <p:sp>
          <p:nvSpPr>
            <p:cNvPr id="52" name="Rectangle 5"/>
            <p:cNvSpPr/>
            <p:nvPr/>
          </p:nvSpPr>
          <p:spPr>
            <a:xfrm>
              <a:off x="1476360" y="1413000"/>
              <a:ext cx="934920" cy="3457080"/>
            </a:xfrm>
            <a:prstGeom prst="rect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787680" y="1628640"/>
              <a:ext cx="1642680" cy="33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夜莺之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50920" y="763200"/>
            <a:ext cx="8675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xiè     nǐng                  shēn y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木屑    拧脑袋    蘑菇   呻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两挺机关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斯切潘      苏蒙塔斯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564000" y="2781360"/>
            <a:ext cx="7207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-99720"/>
            <a:ext cx="86756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沉寂   盘问   口哨    埋伏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神   烧毁   尘埃     轻蔑    耷拉   鬼子   削木头   钉钉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en-US" sz="4400" spc="-1" strike="noStrike">
                <a:solidFill>
                  <a:srgbClr val="ff00ff"/>
                </a:solidFill>
                <a:latin typeface="宋体"/>
              </a:rPr>
              <a:t>mò fá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挺　 塞到   磨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防万一    断断续续  聚精会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067280" y="3213000"/>
            <a:ext cx="23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132000" y="18900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学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09480" y="1523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-243000"/>
            <a:ext cx="82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一想，课文写了一件什么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按什么顺序写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点写了哪部分内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部分写了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的开头和结尾，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莺的歌声在文中出现了几次，画出相关的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2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468360" y="62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课文写了一件什么事，是按什么顺序写的，重点写了哪部分内容？每部分写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9640" y="191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篇课文写在苏联卫国战争时期，一个小男孩帮助游击队消灭一伙德国法西斯强盗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11280" y="32846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是按照事情发展的顺序写的，课文的重点部分是一、二两部分，写小男孩是怎样帮助游击队歼灭德国兵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诱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带路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歼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再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7913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黑体"/>
              </a:rPr>
              <a:t>思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68360" y="148428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找出小男孩回答德国兵的话，想想是什么意思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285264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给敌人带路时，小男孩有哪些言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从中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4076640"/>
            <a:ext cx="4495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击队员是怎么知道敌人情况的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9640" y="765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默读一、二部分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>
            <a:hlinkClick r:id="rId2" action="ppaction://hlinksldjump"/>
          </p:cNvPr>
          <p:cNvSpPr/>
          <p:nvPr/>
        </p:nvSpPr>
        <p:spPr>
          <a:xfrm>
            <a:off x="61128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3" action="ppaction://hlinksldjump"/>
          </p:cNvPr>
          <p:cNvSpPr/>
          <p:nvPr/>
        </p:nvSpPr>
        <p:spPr>
          <a:xfrm>
            <a:off x="101448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rId4" action="ppaction://hlinksldjump"/>
          </p:cNvPr>
          <p:cNvSpPr/>
          <p:nvPr/>
        </p:nvSpPr>
        <p:spPr>
          <a:xfrm>
            <a:off x="140328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  <p:sndAc>
      <p:stSnd>
        <p:snd r:embed="rId5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852480" y="1557360"/>
            <a:ext cx="7632720" cy="532800"/>
          </a:xfrm>
          <a:prstGeom prst="rect">
            <a:avLst/>
          </a:prstGeom>
          <a:gradFill rotWithShape="0">
            <a:gsLst>
              <a:gs pos="0">
                <a:srgbClr val="ffcc99">
                  <a:alpha val="4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怎么会剩下我一个？这里有麻雀、乌鸦、猫头鹰，多着呢。夜莺倒只有我一个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9640" y="476280"/>
            <a:ext cx="7696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找出小男孩回答德国兵的话，想想是什么意思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00000" y="2743200"/>
            <a:ext cx="7632720" cy="971640"/>
          </a:xfrm>
          <a:prstGeom prst="rect">
            <a:avLst/>
          </a:prstGeom>
          <a:gradFill rotWithShape="0">
            <a:gsLst>
              <a:gs pos="0">
                <a:srgbClr val="ffcc99">
                  <a:alpha val="5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呢？战争一开始这里就没有人了。”小孩不慌不忙地回答，“刚刚一开战，村子就着火了，大家都喊：‘野兽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兽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 ’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都跑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 Box 7"/>
          <p:cNvGrpSpPr/>
          <p:nvPr/>
        </p:nvGrpSpPr>
        <p:grpSpPr>
          <a:xfrm>
            <a:off x="895320" y="4406760"/>
            <a:ext cx="7645320" cy="543240"/>
            <a:chOff x="895320" y="4406760"/>
            <a:chExt cx="7645320" cy="543240"/>
          </a:xfrm>
        </p:grpSpPr>
        <p:pic>
          <p:nvPicPr>
            <p:cNvPr id="109" name="Text Box 7" descr=""/>
            <p:cNvPicPr/>
            <p:nvPr/>
          </p:nvPicPr>
          <p:blipFill>
            <a:blip r:embed="rId1"/>
            <a:stretch/>
          </p:blipFill>
          <p:spPr>
            <a:xfrm>
              <a:off x="895320" y="4406760"/>
              <a:ext cx="764532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00000" y="4411800"/>
              <a:ext cx="763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用这些话来戏弄敌人，说明他是个沉着机智的孩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8"/>
          <p:cNvSpPr/>
          <p:nvPr/>
        </p:nvSpPr>
        <p:spPr>
          <a:xfrm>
            <a:off x="395280" y="170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95280" y="2852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395280" y="45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752480" y="1600200"/>
            <a:ext cx="6248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部分写了小夜莺引诱德国兵，并主动和敌人接近，巧妙地回答德国军官的盘问，取得敌人对他的信任，让他带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tn004"/>
          <p:cNvPicPr/>
          <p:nvPr/>
        </p:nvPicPr>
        <p:blipFill>
          <a:blip r:embed="rId1"/>
          <a:stretch/>
        </p:blipFill>
        <p:spPr>
          <a:xfrm>
            <a:off x="990720" y="60948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219320" y="914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06668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55640" y="40464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给敌人带路时，小男孩有哪些言行？你从中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26920" y="1413000"/>
            <a:ext cx="7632720" cy="551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有时候学夜莺唱，有时候学杜鹃叫，胳膊一甩一甩地打着路旁的树枝，有时候弯下腰去拾球果，还用脚把球果踢起来。他好像把身边的军官完全忘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187280" y="3068640"/>
            <a:ext cx="1297080" cy="647640"/>
          </a:xfrm>
          <a:prstGeom prst="cloudCallout">
            <a:avLst>
              <a:gd name="adj1" fmla="val -32865"/>
              <a:gd name="adj2" fmla="val -96569"/>
            </a:avLst>
          </a:prstGeom>
          <a:solidFill>
            <a:srgbClr val="cc99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体 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11280" y="3645000"/>
            <a:ext cx="7848360" cy="1008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在带路时，小夜莺有时学夜莺唱，有时学杜鹃叫，是为了让德国兵知道，这是自己的习惯爱好，用来麻痹敌人，以后他用鸟声和游击队联系时就不会引起怀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>
            <a:hlinkClick r:id="" action="ppaction://hlinkshowjump?jump=nextslide"/>
          </p:cNvPr>
          <p:cNvSpPr/>
          <p:nvPr/>
        </p:nvSpPr>
        <p:spPr>
          <a:xfrm>
            <a:off x="810108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755640" y="3645000"/>
            <a:ext cx="7561440" cy="8312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游击队员听到小夜莺的叫声，知道他已经把敌人带来，通过有节奏的夜莺歌声知道了鬼子人数是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32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个，用两声杜鹃叫是报告有两挺机关枪。一声夜莺叫代表一个敌人，一声杜鹃叫代表一挺机枪。说明了，小夜莺同游击队用这种方式联系，已经不止一次了，他曾多次协助游击队消灭敌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4360" y="549360"/>
            <a:ext cx="76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游击队员是怎么知道敌人情况的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1052640"/>
            <a:ext cx="7561440" cy="21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个最先听到夜莺叫的凝神地站着，好像钉在那里似的。他注意数着一声一声的鸟叫：“一，二，三，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边数一边用手打着拍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夜莺的叫声停止了。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鬼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个人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着传来两声杜鹃叫。“两挺机关枪。”他又补充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 flipV="1">
            <a:off x="1116000" y="2996640"/>
            <a:ext cx="1224000" cy="647640"/>
          </a:xfrm>
          <a:prstGeom prst="cloudCallout">
            <a:avLst>
              <a:gd name="adj1" fmla="val -45462"/>
              <a:gd name="adj2" fmla="val 81861"/>
            </a:avLst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258920" y="1268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默读课文的开头和结尾，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16000" y="2276640"/>
            <a:ext cx="720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的开头和结尾都是说小男孩在发出夜莺的歌声，以便配合游击队歼灭敌人，所以开头和结尾是相互照应，首尾连贯的（即首尾呼应）。这样更加突出了“小夜莺”的机智勇敢和爱国主义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3792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夜莺又名黄鸟，体长二十五厘米左右，它不但模样漂亮，且善鸣啭，歌喉清脆甜美，是鸟类中有名的歌唱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27鸟"/>
          <p:cNvPicPr/>
          <p:nvPr/>
        </p:nvPicPr>
        <p:blipFill>
          <a:blip r:embed="rId1"/>
          <a:stretch/>
        </p:blipFill>
        <p:spPr>
          <a:xfrm>
            <a:off x="4775040" y="1600200"/>
            <a:ext cx="3789360" cy="435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BANR003"/>
          <p:cNvPicPr/>
          <p:nvPr/>
        </p:nvPicPr>
        <p:blipFill>
          <a:blip r:embed="rId2"/>
          <a:stretch/>
        </p:blipFill>
        <p:spPr>
          <a:xfrm>
            <a:off x="1219320" y="609480"/>
            <a:ext cx="7086600" cy="1052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981080" y="76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夜     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A4%9C%E8%8E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4%9C%E8%8E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908000" y="2349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题为什么叫“夜莺之歌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908000" y="3141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了这篇课文后，小夜莺给你留下了怎样的印象？或者你喜欢、佩服小夜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979640" y="620640"/>
            <a:ext cx="2879640" cy="1079640"/>
          </a:xfrm>
          <a:prstGeom prst="cloudCallout">
            <a:avLst>
              <a:gd name="adj1" fmla="val -46583"/>
              <a:gd name="adj2" fmla="val 111472"/>
            </a:avLst>
          </a:prstGeom>
          <a:solidFill>
            <a:srgbClr val="cc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总结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>
            <a:hlinkClick r:id="" action="ppaction://hlinkshowjump?jump=nextslide"/>
          </p:cNvPr>
          <p:cNvSpPr/>
          <p:nvPr/>
        </p:nvSpPr>
        <p:spPr>
          <a:xfrm>
            <a:off x="7812000" y="638172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824400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1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295280" y="1219320"/>
            <a:ext cx="6705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题包含两个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是孩子用夜莺的歌声诱惑敌人，取得敌人的信任，并用歌声向游击队报告情况，帮助游击队歼灭了德国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是孩子被游击队员亲切地称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夜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夜莺的歌声是动听的，美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700360" y="1700280"/>
            <a:ext cx="5105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机智、勇敢、热爱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个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532720" y="6381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250920" y="1052640"/>
            <a:ext cx="7561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在以下词语中任选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个写一段话说一说“为什么小夜莺能如此勇敢、沉着、机智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50920" y="306864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热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憎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危不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祖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敌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卫国战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保卫家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镇定自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毫不畏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258920" y="148428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夜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憎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国法西斯，因为他们对苏联发动了战争。苏联人民为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卫家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赶走他们，只好开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卫国战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聪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小夜莺为了出色地完成任务，发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敌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果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决定将敌人引诱到游击队设置的埋伏圈。一路上，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镇定自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临危不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他是一个多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热爱祖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小英雄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previous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杜鹃又名布谷、郭公，属于夏候鸟，也就是说它们夏季在我国境内繁殖，秋季迁往印度和我国南方温暖地区越冬。杜鹃的体形有点像鸽子，只是更细长些。它们喜欢栖居在开阔的林地，常常隐在茂密的树上鸣叫，声音响亮，但很少会让人看见。可谓“不见其人，只闻其声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28鸟"/>
          <p:cNvPicPr/>
          <p:nvPr/>
        </p:nvPicPr>
        <p:blipFill>
          <a:blip r:embed="rId1"/>
          <a:stretch/>
        </p:blipFill>
        <p:spPr>
          <a:xfrm>
            <a:off x="4648320" y="1828800"/>
            <a:ext cx="363384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ANR011"/>
          <p:cNvPicPr/>
          <p:nvPr/>
        </p:nvPicPr>
        <p:blipFill>
          <a:blip r:embed="rId2"/>
          <a:stretch/>
        </p:blipFill>
        <p:spPr>
          <a:xfrm>
            <a:off x="1143000" y="457200"/>
            <a:ext cx="701028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600200" y="6094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杜       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8%83%E8%B0%B7%E9%B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8%83%E8%B0%B7%E9%B8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ANR012"/>
          <p:cNvPicPr/>
          <p:nvPr/>
        </p:nvPicPr>
        <p:blipFill>
          <a:blip r:embed="rId1"/>
          <a:stretch/>
        </p:blipFill>
        <p:spPr>
          <a:xfrm>
            <a:off x="1908000" y="549360"/>
            <a:ext cx="5257800" cy="609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384280" y="98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   代   背   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403280" y="1700280"/>
            <a:ext cx="61200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，德国法西斯在已经占领了欧洲许多国家之后，突然进攻苏联。苏联人民在以斯大林为首的党和政府的领导下，开始了卫国战争。第二次世界大战进入了新的阶段，后来苏联军队经过在莫斯科和斯大林格勒的大会战，歼灭了德军主力，根本扭转了战局，转入反攻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4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，苏联发起总反攻，全部收复沦陷的土地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4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，苏军攻克柏林，迫使德国无条件投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6" descr="C:\Users\apple\Desktop\新建文件夹\slide0027_image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4527360" y="2306520"/>
            <a:ext cx="546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德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4572000" y="1371600"/>
            <a:ext cx="2209680" cy="3276720"/>
            <a:chOff x="4572000" y="1371600"/>
            <a:chExt cx="2209680" cy="3276720"/>
          </a:xfrm>
        </p:grpSpPr>
        <p:sp>
          <p:nvSpPr>
            <p:cNvPr id="68" name="Line 4"/>
            <p:cNvSpPr/>
            <p:nvPr/>
          </p:nvSpPr>
          <p:spPr>
            <a:xfrm>
              <a:off x="4724280" y="2819520"/>
              <a:ext cx="190512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>
              <a:off x="5181480" y="2743200"/>
              <a:ext cx="10670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 flipV="1">
              <a:off x="5257800" y="182844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>
              <a:off x="4572000" y="2666880"/>
              <a:ext cx="13716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5029200" y="2819520"/>
              <a:ext cx="16002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>
              <a:off x="4572000" y="2819520"/>
              <a:ext cx="9144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V="1">
              <a:off x="5181480" y="1371600"/>
              <a:ext cx="16002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1"/>
          <p:cNvSpPr/>
          <p:nvPr/>
        </p:nvSpPr>
        <p:spPr>
          <a:xfrm>
            <a:off x="7580160" y="1925640"/>
            <a:ext cx="5464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苏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84360" y="1197000"/>
            <a:ext cx="3305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德国法西斯占领欧洲许多国家之后，又突然进攻前苏联，妄想三个月征服前苏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5181480" y="2285640"/>
            <a:ext cx="20574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84360" y="3429000"/>
            <a:ext cx="330516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，对前苏联狂轰滥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萧条的景象充斥着人们的双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weiguo"/>
          <p:cNvPicPr/>
          <p:nvPr/>
        </p:nvPicPr>
        <p:blipFill>
          <a:blip r:embed="rId1"/>
          <a:stretch/>
        </p:blipFill>
        <p:spPr>
          <a:xfrm>
            <a:off x="0" y="-376200"/>
            <a:ext cx="9144000" cy="7188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003840" y="380880"/>
            <a:ext cx="347256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苏联卫国战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apple\Desktop\新建文件夹\slide0028_image024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5364000"/>
            <a:ext cx="91440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大道两旁全是黑色的碎瓦。空旷的花园里，烧焦的树垂头丧气地弯着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4:20:28Z</dcterms:created>
  <dc:creator>Administrators</dc:creator>
  <dc:description/>
  <dc:language>en-US</dc:language>
  <cp:lastModifiedBy>lbx777</cp:lastModifiedBy>
  <dcterms:modified xsi:type="dcterms:W3CDTF">2016-05-12T13:41:46Z</dcterms:modified>
  <cp:revision>25</cp:revision>
  <dc:subject/>
  <dc:title>幻灯片 1</dc:title>
</cp:coreProperties>
</file>