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42.jpeg" ContentType="image/jpeg"/>
  <Override PartName="/ppt/media/image19.jpeg" ContentType="image/jpeg"/>
  <Override PartName="/ppt/media/image5.jpeg" ContentType="image/jpeg"/>
  <Override PartName="/ppt/media/image62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1.png" ContentType="image/png"/>
  <Override PartName="/ppt/media/image14.jpeg" ContentType="image/jpeg"/>
  <Override PartName="/ppt/media/image15.jpeg" ContentType="image/jpeg"/>
  <Override PartName="/ppt/media/image59.png" ContentType="image/png"/>
  <Override PartName="/ppt/media/image24.jpeg" ContentType="image/jpeg"/>
  <Override PartName="/ppt/media/image22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55.jpeg" ContentType="image/jpeg"/>
  <Override PartName="/ppt/media/image53.jpeg" ContentType="image/jpeg"/>
  <Override PartName="/ppt/media/image23.png" ContentType="image/png"/>
  <Override PartName="/ppt/media/image20.jpeg" ContentType="image/jpeg"/>
  <Override PartName="/ppt/media/image18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16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54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40.jpeg" ContentType="image/jpeg"/>
  <Override PartName="/ppt/media/image41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52.png" ContentType="image/pn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4D3C-42DD-4FBB-B919-63C71D5257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B6B6-2818-42B4-B73C-D8C1FBBC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2C15-F608-43B6-A1D2-7CB024C0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1A6-F361-42B8-9E77-D331AE22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186-C895-4495-A335-AA71B5F6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C1B6-93C3-44B7-BCDD-2F1511C0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5E0-4B27-4D31-A95A-AD43B0B8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EB6-F674-48B2-A6C9-FF11A960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A1B-D9C3-446A-88E6-A3B28B95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3A0-D8EE-48A1-BD17-EBF55AD3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C657-1E95-4605-B814-AE6EF8E3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5E3-0407-4C0E-9684-43CDE4C2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01C4-B079-49AF-8E1E-AA2AECC9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4B5B-B34A-4FE3-9081-45347F9C0F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" Target="slide25.xml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37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" Target="slide45.xml"/><Relationship Id="rId1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14400" y="2666880"/>
            <a:ext cx="73915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23880" y="2133720"/>
            <a:ext cx="6336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音乐之都维也纳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533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苏教版五年级语文下册第四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2320" y="228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维也纳风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42320" y="228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维也纳夜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42320" y="228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维也纳建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42320" y="228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维也纳建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44560" y="2286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维也纳美泉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76520" y="28954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28954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8954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28954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4191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卑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4191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欧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4191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天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4191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宾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19810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ē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19810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ō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19810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y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19810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ɡuǎ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27748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20131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99420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8380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76520" y="28954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28954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8954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28954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4191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装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4191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草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4191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典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4191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小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9810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sh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19810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pí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19810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19810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xià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7748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0131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99420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8380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38088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读一读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447920"/>
            <a:ext cx="830556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阿尔卑斯山    多瑙河       华尔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北麓               陈列       波光粼粼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掺和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hu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 镂花       星罗棋布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盛大               装饰       街头巷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飘溢           山清水秀    金碧辉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1905120"/>
            <a:ext cx="661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请思考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课文分为几段，每段的段意怎么概括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1280" y="549360"/>
            <a:ext cx="776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段（１）：介绍“音乐之都”维也纳的位置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段（２－４）：从三个方面具体叙述维也纳被称为“音乐之都”的原因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段（５－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介绍维也纳国家歌剧院的宏伟壮观以及在世界上的影响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7621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同学们默读课文，画出中心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981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黑体"/>
              </a:rPr>
              <a:t>奥地利首都维也纳是世界的音乐之都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9574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谈谈你对“音乐之都”这个词语的理解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130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班有感情地读读这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606760"/>
            <a:ext cx="685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1219320"/>
            <a:ext cx="8686800" cy="26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奥地利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首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也纳是世界著名的音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它坐落在阿尔卑斯山北麓一个山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秀、风景如画的小盆地里，波光粼粼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瑙河穿城而过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267080"/>
            <a:ext cx="80773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首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：又称国都、首要城市或行政首府，是一个国家的政治中心和中央政府所在地的政治称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音乐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：以（某种事物）出名的大城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8380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课文是从哪几方面具体体现维也纳是“音乐之都”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5146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、维也纳是欧洲古典音乐的摇篮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2004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２、维也纳是一座用音乐装饰的城市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8401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３、维也纳几乎一天也离不开音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4496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４、维也纳是世界著名的歌剧中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143000" y="372960"/>
            <a:ext cx="6705720" cy="3970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44946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奥地利首都维也纳是世界著名的音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之都。它坐落在阿尔卑斯山北麓一个山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水秀、风景如画的小盆地里，波光粼粼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多瑙河穿过市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224977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8080" y="16765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说维也纳是欧洲古典音乐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摇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8098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说维也纳一天也离不开音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4648320"/>
            <a:ext cx="790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把维也纳歌剧院称为“世界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剧中心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71560" y="2697120"/>
            <a:ext cx="766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说维也纳是用音乐装饰起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城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3120" y="822240"/>
            <a:ext cx="285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6019920" y="6019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楷体_GB2312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705720" y="6019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楷体_GB2312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6019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楷体_GB2312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77320" y="6019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楷体_GB2312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1549440"/>
            <a:ext cx="82296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维也纳是欧洲</a:t>
            </a:r>
            <a:r>
              <a:rPr b="0" lang="zh-CN" sz="3600" spc="-1" strike="noStrike" u="sng">
                <a:solidFill>
                  <a:srgbClr val="800000"/>
                </a:solidFill>
                <a:uFillTx/>
                <a:latin typeface="Arial"/>
                <a:ea typeface="楷体_GB2312"/>
                <a:hlinkClick r:id="rId2" action="ppaction://hlinksldjump"/>
              </a:rPr>
              <a:t>古典音乐的摇篮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世纪以来，世界上许多著名的音乐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如海顿、莫扎特、贝多芬、舒伯特、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特劳斯等，都在这里度过大部分音乐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涯，谱写了许多优美的乐章。维也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博物馆里，至今还陈列着他们的</a:t>
            </a:r>
            <a:r>
              <a:rPr b="0" lang="zh-CN" sz="3600" spc="-1" strike="noStrike" u="sng">
                <a:solidFill>
                  <a:srgbClr val="800000"/>
                </a:solidFill>
                <a:uFillTx/>
                <a:latin typeface="Arial"/>
                <a:ea typeface="楷体_GB2312"/>
                <a:hlinkClick r:id="rId3" action="ppaction://hlinksldjump"/>
              </a:rPr>
              <a:t>乐谱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800000"/>
                </a:solidFill>
                <a:uFillTx/>
                <a:latin typeface="Arial"/>
                <a:ea typeface="楷体_GB2312"/>
                <a:hlinkClick r:id="rId4" action="ppaction://hlinksldjump"/>
              </a:rPr>
              <a:t>手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61722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  <a:ea typeface="楷体_GB2312"/>
              </a:rPr>
              <a:t>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3352680" cy="2682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191120" y="527040"/>
            <a:ext cx="4952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从地图上看，奥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利的地形就象一把小提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724280" y="274320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883480" y="60951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古典乐派的三位代表人——海顿、莫扎特、贝多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42652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十八世纪，海顿、莫扎特和贝多芬在维也纳生活和创作，那里浓浓的音乐氛围给了他们创作的灵感和激情。这三位“乐圣”开创了欧洲古典音乐的先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4" action="ppaction://hlinksldjump"/>
          </p:cNvPr>
          <p:cNvSpPr/>
          <p:nvPr/>
        </p:nvSpPr>
        <p:spPr>
          <a:xfrm>
            <a:off x="8388360" y="6497640"/>
            <a:ext cx="457200" cy="3459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8538" h="21600">
                <a:moveTo>
                  <a:pt x="0" y="0"/>
                </a:moveTo>
                <a:lnTo>
                  <a:pt x="28538" y="0"/>
                </a:lnTo>
                <a:lnTo>
                  <a:pt x="28538" y="21600"/>
                </a:lnTo>
                <a:lnTo>
                  <a:pt x="0" y="21600"/>
                </a:lnTo>
                <a:close/>
              </a:path>
              <a:path fill="lightenLess" w="28538" h="21600">
                <a:moveTo>
                  <a:pt x="0" y="0"/>
                </a:moveTo>
                <a:lnTo>
                  <a:pt x="28538" y="0"/>
                </a:lnTo>
                <a:lnTo>
                  <a:pt x="27138" y="1400"/>
                </a:lnTo>
                <a:lnTo>
                  <a:pt x="1400" y="1400"/>
                </a:lnTo>
                <a:close/>
              </a:path>
              <a:path fill="darken" w="28538" h="21600">
                <a:moveTo>
                  <a:pt x="28538" y="0"/>
                </a:moveTo>
                <a:lnTo>
                  <a:pt x="28538" y="21600"/>
                </a:lnTo>
                <a:lnTo>
                  <a:pt x="27138" y="20200"/>
                </a:lnTo>
                <a:lnTo>
                  <a:pt x="27138" y="1400"/>
                </a:lnTo>
                <a:close/>
              </a:path>
              <a:path fill="darkenLess" w="28538" h="21600">
                <a:moveTo>
                  <a:pt x="28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38" y="20200"/>
                </a:lnTo>
                <a:close/>
              </a:path>
              <a:path fill="lighten" w="28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38" h="21600">
                <a:moveTo>
                  <a:pt x="7263" y="10800"/>
                </a:moveTo>
                <a:lnTo>
                  <a:pt x="21276" y="3794"/>
                </a:lnTo>
                <a:lnTo>
                  <a:pt x="21276" y="17806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059280" y="0"/>
            <a:ext cx="2850840" cy="3068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10996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588000" y="3429000"/>
            <a:ext cx="2159280" cy="2808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468360" y="3573360"/>
            <a:ext cx="2413080" cy="2762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77200" y="6338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华文宋体"/>
              </a:rPr>
              <a:t>贝多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200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74960" y="292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23440" y="287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莫扎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3492360" y="3429000"/>
            <a:ext cx="2192400" cy="2879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468360" y="189000"/>
            <a:ext cx="2266920" cy="2735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11996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舒伯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9040" y="6338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老施特劳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97760" y="6338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小施特劳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819520" cy="2114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784520" y="26503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贝多芬《月光奏鸣曲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200400" y="304920"/>
            <a:ext cx="2819520" cy="2114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525080" y="258984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施特劳斯《蓝色多瑙河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59400" y="26503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舒伯特《小夜曲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172200" y="266760"/>
            <a:ext cx="2895480" cy="21715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41360" y="6003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贝多芬的钢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04920" y="3581280"/>
            <a:ext cx="2895480" cy="2260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3429000" y="3581280"/>
            <a:ext cx="2666880" cy="2235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188600" y="601992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神 童 莫 扎 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6248520" y="358128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030800" y="6003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舒伯特作曲的地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8" action="ppaction://hlinksldjump"/>
          </p:cNvPr>
          <p:cNvSpPr/>
          <p:nvPr/>
        </p:nvSpPr>
        <p:spPr>
          <a:xfrm>
            <a:off x="8388360" y="6497640"/>
            <a:ext cx="457200" cy="3459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8538" h="21600">
                <a:moveTo>
                  <a:pt x="0" y="0"/>
                </a:moveTo>
                <a:lnTo>
                  <a:pt x="28538" y="0"/>
                </a:lnTo>
                <a:lnTo>
                  <a:pt x="28538" y="21600"/>
                </a:lnTo>
                <a:lnTo>
                  <a:pt x="0" y="21600"/>
                </a:lnTo>
                <a:close/>
              </a:path>
              <a:path fill="lightenLess" w="28538" h="21600">
                <a:moveTo>
                  <a:pt x="0" y="0"/>
                </a:moveTo>
                <a:lnTo>
                  <a:pt x="28538" y="0"/>
                </a:lnTo>
                <a:lnTo>
                  <a:pt x="27138" y="1400"/>
                </a:lnTo>
                <a:lnTo>
                  <a:pt x="1400" y="1400"/>
                </a:lnTo>
                <a:close/>
              </a:path>
              <a:path fill="darken" w="28538" h="21600">
                <a:moveTo>
                  <a:pt x="28538" y="0"/>
                </a:moveTo>
                <a:lnTo>
                  <a:pt x="28538" y="21600"/>
                </a:lnTo>
                <a:lnTo>
                  <a:pt x="27138" y="20200"/>
                </a:lnTo>
                <a:lnTo>
                  <a:pt x="27138" y="1400"/>
                </a:lnTo>
                <a:close/>
              </a:path>
              <a:path fill="darkenLess" w="28538" h="21600">
                <a:moveTo>
                  <a:pt x="28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38" y="20200"/>
                </a:lnTo>
                <a:close/>
              </a:path>
              <a:path fill="lighten" w="28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38" h="21600">
                <a:moveTo>
                  <a:pt x="7263" y="10800"/>
                </a:moveTo>
                <a:lnTo>
                  <a:pt x="21276" y="3794"/>
                </a:lnTo>
                <a:lnTo>
                  <a:pt x="21276" y="17806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1600200"/>
            <a:ext cx="80010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顿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交响乐被称为“交响乐之父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莫扎特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岁作曲，六岁演出，被称为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乐神童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贝多芬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被称为“乐圣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舒伯特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称为“歌曲之父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施特劳斯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称为“圆舞曲之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127080"/>
            <a:ext cx="9144000" cy="6730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960" y="914400"/>
            <a:ext cx="5562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照样子，写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95400" y="22399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维也纳是欧洲古典音乐的摇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87960" y="3108240"/>
            <a:ext cx="652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少年宫是（               ）的摇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7360" y="4175280"/>
            <a:ext cx="921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）是（          ）的摇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61722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  <a:ea typeface="楷体_GB2312"/>
              </a:rPr>
              <a:t>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1219320"/>
            <a:ext cx="838188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维也纳是一座用音乐装饰起来的城市。在这儿，到处可以看到大音乐家们的</a:t>
            </a:r>
            <a:r>
              <a:rPr b="0" lang="zh-CN" sz="3600" spc="-1" strike="noStrike" u="sng">
                <a:solidFill>
                  <a:srgbClr val="800000"/>
                </a:solidFill>
                <a:uFillTx/>
                <a:latin typeface="Arial"/>
                <a:ea typeface="楷体_GB2312"/>
                <a:hlinkClick r:id="rId2" action="ppaction://hlinksldjump"/>
              </a:rPr>
              <a:t>铜像或大理石像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。为了纪念乐坛大师，维也纳的许多街道、公园、礼堂、剧院、会议大厅等，也多</a:t>
            </a:r>
            <a:r>
              <a:rPr b="0" lang="zh-CN" sz="3600" spc="-1" strike="noStrike" u="sng">
                <a:solidFill>
                  <a:srgbClr val="800000"/>
                </a:solidFill>
                <a:uFillTx/>
                <a:latin typeface="Arial"/>
                <a:ea typeface="楷体_GB2312"/>
                <a:hlinkClick r:id="rId3" action="ppaction://hlinksldjump"/>
              </a:rPr>
              <a:t>用音乐家的名字命名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。就连王宫花园的草坪上，也用鲜花组成了一个</a:t>
            </a:r>
            <a:r>
              <a:rPr b="0" lang="zh-CN" sz="3600" spc="-1" strike="noStrike" u="sng">
                <a:solidFill>
                  <a:srgbClr val="800000"/>
                </a:solidFill>
                <a:uFillTx/>
                <a:latin typeface="Arial"/>
                <a:ea typeface="楷体_GB2312"/>
                <a:hlinkClick r:id="rId4" action="ppaction://hlinksldjump"/>
              </a:rPr>
              <a:t>巨大的音乐符号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作为装饰。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61722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  <a:ea typeface="楷体_GB2312"/>
              </a:rPr>
              <a:t>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8796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25000" y="76212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也纳是一座用音乐装饰起来的城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952880" y="3916440"/>
            <a:ext cx="3429000" cy="2560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4038840" cy="2558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2706840" cy="3429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3114720" y="304920"/>
            <a:ext cx="2600280" cy="3429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5932440" y="304920"/>
            <a:ext cx="2637000" cy="3429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388360" y="6497640"/>
            <a:ext cx="457200" cy="3459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8538" h="21600">
                <a:moveTo>
                  <a:pt x="0" y="0"/>
                </a:moveTo>
                <a:lnTo>
                  <a:pt x="28538" y="0"/>
                </a:lnTo>
                <a:lnTo>
                  <a:pt x="28538" y="21600"/>
                </a:lnTo>
                <a:lnTo>
                  <a:pt x="0" y="21600"/>
                </a:lnTo>
                <a:close/>
              </a:path>
              <a:path fill="lightenLess" w="28538" h="21600">
                <a:moveTo>
                  <a:pt x="0" y="0"/>
                </a:moveTo>
                <a:lnTo>
                  <a:pt x="28538" y="0"/>
                </a:lnTo>
                <a:lnTo>
                  <a:pt x="27138" y="1400"/>
                </a:lnTo>
                <a:lnTo>
                  <a:pt x="1400" y="1400"/>
                </a:lnTo>
                <a:close/>
              </a:path>
              <a:path fill="darken" w="28538" h="21600">
                <a:moveTo>
                  <a:pt x="28538" y="0"/>
                </a:moveTo>
                <a:lnTo>
                  <a:pt x="28538" y="21600"/>
                </a:lnTo>
                <a:lnTo>
                  <a:pt x="27138" y="20200"/>
                </a:lnTo>
                <a:lnTo>
                  <a:pt x="27138" y="1400"/>
                </a:lnTo>
                <a:close/>
              </a:path>
              <a:path fill="darkenLess" w="28538" h="21600">
                <a:moveTo>
                  <a:pt x="28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38" y="20200"/>
                </a:lnTo>
                <a:close/>
              </a:path>
              <a:path fill="lighten" w="28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38" h="21600">
                <a:moveTo>
                  <a:pt x="7263" y="10800"/>
                </a:moveTo>
                <a:lnTo>
                  <a:pt x="21276" y="3794"/>
                </a:lnTo>
                <a:lnTo>
                  <a:pt x="21276" y="17806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4572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228840" y="0"/>
            <a:ext cx="2978280" cy="4572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324480" y="0"/>
            <a:ext cx="2819520" cy="4572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90720" y="49528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这儿，到处可以看到大音乐家们的铜像或大理石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4572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莫扎特塑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45147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贝多芬塑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4514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施特劳斯塑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029200" y="3733920"/>
            <a:ext cx="3238560" cy="2158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128280" y="6094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舒伯特花园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029200" y="838080"/>
            <a:ext cx="3238560" cy="2159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139080" y="31230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贝多芬广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380880" y="838080"/>
            <a:ext cx="4032360" cy="5105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600200" y="6111000"/>
            <a:ext cx="21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海顿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88360" y="6497640"/>
            <a:ext cx="457200" cy="3459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8538" h="21600">
                <a:moveTo>
                  <a:pt x="0" y="0"/>
                </a:moveTo>
                <a:lnTo>
                  <a:pt x="28538" y="0"/>
                </a:lnTo>
                <a:lnTo>
                  <a:pt x="28538" y="21600"/>
                </a:lnTo>
                <a:lnTo>
                  <a:pt x="0" y="21600"/>
                </a:lnTo>
                <a:close/>
              </a:path>
              <a:path fill="lightenLess" w="28538" h="21600">
                <a:moveTo>
                  <a:pt x="0" y="0"/>
                </a:moveTo>
                <a:lnTo>
                  <a:pt x="28538" y="0"/>
                </a:lnTo>
                <a:lnTo>
                  <a:pt x="27138" y="1400"/>
                </a:lnTo>
                <a:lnTo>
                  <a:pt x="1400" y="1400"/>
                </a:lnTo>
                <a:close/>
              </a:path>
              <a:path fill="darken" w="28538" h="21600">
                <a:moveTo>
                  <a:pt x="28538" y="0"/>
                </a:moveTo>
                <a:lnTo>
                  <a:pt x="28538" y="21600"/>
                </a:lnTo>
                <a:lnTo>
                  <a:pt x="27138" y="20200"/>
                </a:lnTo>
                <a:lnTo>
                  <a:pt x="27138" y="1400"/>
                </a:lnTo>
                <a:close/>
              </a:path>
              <a:path fill="darkenLess" w="28538" h="21600">
                <a:moveTo>
                  <a:pt x="28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38" y="20200"/>
                </a:lnTo>
                <a:close/>
              </a:path>
              <a:path fill="lighten" w="28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38" h="21600">
                <a:moveTo>
                  <a:pt x="7263" y="10800"/>
                </a:moveTo>
                <a:lnTo>
                  <a:pt x="21276" y="3794"/>
                </a:lnTo>
                <a:lnTo>
                  <a:pt x="21276" y="17806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876920" y="0"/>
            <a:ext cx="4267080" cy="3581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1911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了纪念乐坛大师，维也纳的许多街道、公园、礼堂、剧院、会议大厅等，也多用音乐家的名字命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66688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莫扎特广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1522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贝多芬广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4267080" cy="6400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876920" y="333756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音乐神童”莫扎特的白色大理石雕像耸立在内环城路王宫公园的入口处。雕像前的绿色草坪里，一组玫瑰花组成的巨大的高音谱号格外引人注目。每一朵花瓣都似一个跳动的音符，在向人们诉说一段动听的音乐故事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8388360" y="6497640"/>
            <a:ext cx="457200" cy="3459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8538" h="21600">
                <a:moveTo>
                  <a:pt x="0" y="0"/>
                </a:moveTo>
                <a:lnTo>
                  <a:pt x="28538" y="0"/>
                </a:lnTo>
                <a:lnTo>
                  <a:pt x="28538" y="21600"/>
                </a:lnTo>
                <a:lnTo>
                  <a:pt x="0" y="21600"/>
                </a:lnTo>
                <a:close/>
              </a:path>
              <a:path fill="lightenLess" w="28538" h="21600">
                <a:moveTo>
                  <a:pt x="0" y="0"/>
                </a:moveTo>
                <a:lnTo>
                  <a:pt x="28538" y="0"/>
                </a:lnTo>
                <a:lnTo>
                  <a:pt x="27138" y="1400"/>
                </a:lnTo>
                <a:lnTo>
                  <a:pt x="1400" y="1400"/>
                </a:lnTo>
                <a:close/>
              </a:path>
              <a:path fill="darken" w="28538" h="21600">
                <a:moveTo>
                  <a:pt x="28538" y="0"/>
                </a:moveTo>
                <a:lnTo>
                  <a:pt x="28538" y="21600"/>
                </a:lnTo>
                <a:lnTo>
                  <a:pt x="27138" y="20200"/>
                </a:lnTo>
                <a:lnTo>
                  <a:pt x="27138" y="1400"/>
                </a:lnTo>
                <a:close/>
              </a:path>
              <a:path fill="darkenLess" w="28538" h="21600">
                <a:moveTo>
                  <a:pt x="28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38" y="20200"/>
                </a:lnTo>
                <a:close/>
              </a:path>
              <a:path fill="lighten" w="28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38" h="21600">
                <a:moveTo>
                  <a:pt x="7263" y="10800"/>
                </a:moveTo>
                <a:lnTo>
                  <a:pt x="21276" y="3794"/>
                </a:lnTo>
                <a:lnTo>
                  <a:pt x="21276" y="17806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9018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我们漫步在维也纳，你会发现，这是一座用音乐装饰起来的城市。你看，在这儿，到处可以看到大音乐家们的铜像或大理石像，有                     。为了纪念乐坛大师，维也纳的许多街道、公园、礼堂、剧院、会议大厅等，也多用音乐家的名字命名，例如                     。就连王宫花园的草坪上，也用鲜花组成了一个巨大的音乐符号作为装饰，                 。置身于这座城市中，       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285264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59280" y="429264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5229360"/>
            <a:ext cx="358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2000" y="580536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81680" y="594360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0" y="630864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09480" y="2553120"/>
            <a:ext cx="830592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维也纳几乎一天也离不开音乐。人们在漫步时，随时可以听到那优雅轻快的华尔兹圆舞曲。夏天的夜晚，公园里还举行</a:t>
            </a:r>
            <a:r>
              <a:rPr b="0" lang="zh-CN" sz="3200" spc="-1" strike="noStrike" u="sng">
                <a:solidFill>
                  <a:srgbClr val="800000"/>
                </a:solidFill>
                <a:uFillTx/>
                <a:latin typeface="Arial"/>
                <a:ea typeface="楷体_GB2312"/>
                <a:hlinkClick r:id="rId2" action="ppaction://hlinksldjump"/>
              </a:rPr>
              <a:t>露天音乐演奏会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，悠扬的乐声掺和着花草的芬芳，在晚风中飘溢、回荡。维也纳的许多家庭有着</a:t>
            </a:r>
            <a:r>
              <a:rPr b="0" lang="zh-CN" sz="3200" spc="-1" strike="noStrike" u="sng">
                <a:solidFill>
                  <a:srgbClr val="800000"/>
                </a:solidFill>
                <a:uFillTx/>
                <a:latin typeface="Arial"/>
                <a:ea typeface="楷体_GB2312"/>
                <a:hlinkClick r:id="rId3" action="ppaction://hlinksldjump"/>
              </a:rPr>
              <a:t>室内演奏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的传统，尤其在合家欢乐的时候 ，总要演奏一番，优美的曲调传遍街头巷尾。更有趣的是，在举行集会、庆典甚至政府会议时，会前会后也都要奏一曲古典音乐，这几乎成了习惯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62920" y="61722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  <a:ea typeface="楷体_GB2312"/>
              </a:rPr>
              <a:t>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阿尔卑斯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42320" y="228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维也纳风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610480" cy="5411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385440" y="5867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露天音乐演奏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8388360" y="6497640"/>
            <a:ext cx="457200" cy="3459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8538" h="21600">
                <a:moveTo>
                  <a:pt x="0" y="0"/>
                </a:moveTo>
                <a:lnTo>
                  <a:pt x="28538" y="0"/>
                </a:lnTo>
                <a:lnTo>
                  <a:pt x="28538" y="21600"/>
                </a:lnTo>
                <a:lnTo>
                  <a:pt x="0" y="21600"/>
                </a:lnTo>
                <a:close/>
              </a:path>
              <a:path fill="lightenLess" w="28538" h="21600">
                <a:moveTo>
                  <a:pt x="0" y="0"/>
                </a:moveTo>
                <a:lnTo>
                  <a:pt x="28538" y="0"/>
                </a:lnTo>
                <a:lnTo>
                  <a:pt x="27138" y="1400"/>
                </a:lnTo>
                <a:lnTo>
                  <a:pt x="1400" y="1400"/>
                </a:lnTo>
                <a:close/>
              </a:path>
              <a:path fill="darken" w="28538" h="21600">
                <a:moveTo>
                  <a:pt x="28538" y="0"/>
                </a:moveTo>
                <a:lnTo>
                  <a:pt x="28538" y="21600"/>
                </a:lnTo>
                <a:lnTo>
                  <a:pt x="27138" y="20200"/>
                </a:lnTo>
                <a:lnTo>
                  <a:pt x="27138" y="1400"/>
                </a:lnTo>
                <a:close/>
              </a:path>
              <a:path fill="darkenLess" w="28538" h="21600">
                <a:moveTo>
                  <a:pt x="28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38" y="20200"/>
                </a:lnTo>
                <a:close/>
              </a:path>
              <a:path fill="lighten" w="28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38" h="21600">
                <a:moveTo>
                  <a:pt x="7263" y="10800"/>
                </a:moveTo>
                <a:lnTo>
                  <a:pt x="21276" y="3794"/>
                </a:lnTo>
                <a:lnTo>
                  <a:pt x="21276" y="17806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925040" cy="4800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950560" y="55468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家 庭 室 内 演 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3" action="ppaction://hlinksldjump"/>
          </p:cNvPr>
          <p:cNvSpPr/>
          <p:nvPr/>
        </p:nvSpPr>
        <p:spPr>
          <a:xfrm>
            <a:off x="8388360" y="6497640"/>
            <a:ext cx="457200" cy="3459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8538" h="21600">
                <a:moveTo>
                  <a:pt x="0" y="0"/>
                </a:moveTo>
                <a:lnTo>
                  <a:pt x="28538" y="0"/>
                </a:lnTo>
                <a:lnTo>
                  <a:pt x="28538" y="21600"/>
                </a:lnTo>
                <a:lnTo>
                  <a:pt x="0" y="21600"/>
                </a:lnTo>
                <a:close/>
              </a:path>
              <a:path fill="lightenLess" w="28538" h="21600">
                <a:moveTo>
                  <a:pt x="0" y="0"/>
                </a:moveTo>
                <a:lnTo>
                  <a:pt x="28538" y="0"/>
                </a:lnTo>
                <a:lnTo>
                  <a:pt x="27138" y="1400"/>
                </a:lnTo>
                <a:lnTo>
                  <a:pt x="1400" y="1400"/>
                </a:lnTo>
                <a:close/>
              </a:path>
              <a:path fill="darken" w="28538" h="21600">
                <a:moveTo>
                  <a:pt x="28538" y="0"/>
                </a:moveTo>
                <a:lnTo>
                  <a:pt x="28538" y="21600"/>
                </a:lnTo>
                <a:lnTo>
                  <a:pt x="27138" y="20200"/>
                </a:lnTo>
                <a:lnTo>
                  <a:pt x="27138" y="1400"/>
                </a:lnTo>
                <a:close/>
              </a:path>
              <a:path fill="darkenLess" w="28538" h="21600">
                <a:moveTo>
                  <a:pt x="28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38" y="20200"/>
                </a:lnTo>
                <a:close/>
              </a:path>
              <a:path fill="lighten" w="28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38" h="21600">
                <a:moveTo>
                  <a:pt x="7263" y="10800"/>
                </a:moveTo>
                <a:lnTo>
                  <a:pt x="21276" y="3794"/>
                </a:lnTo>
                <a:lnTo>
                  <a:pt x="21276" y="17806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2531880"/>
            <a:ext cx="777240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    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在维也纳，歌剧院、音乐厅星罗棋布，其中以创建于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869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年的维也纳国家歌剧院最为著名，被称为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"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世界歌剧中心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"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。它的造型美观大方，色彩和谐，本身就是一件完美的艺术品。它的观众席有</a:t>
            </a:r>
            <a:r>
              <a:rPr b="0" lang="zh-CN" sz="3600" spc="-1" strike="noStrike" u="sng">
                <a:solidFill>
                  <a:srgbClr val="800000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1642</a:t>
            </a:r>
            <a:r>
              <a:rPr b="0" lang="zh-CN" sz="3600" spc="-1" strike="noStrike" u="sng">
                <a:solidFill>
                  <a:srgbClr val="800000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个座位、</a:t>
            </a:r>
            <a:r>
              <a:rPr b="0" lang="zh-CN" sz="3600" spc="-1" strike="noStrike" u="sng">
                <a:solidFill>
                  <a:srgbClr val="800000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567</a:t>
            </a:r>
            <a:r>
              <a:rPr b="0" lang="zh-CN" sz="3600" spc="-1" strike="noStrike" u="sng">
                <a:solidFill>
                  <a:srgbClr val="800000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个站位。乐池可以容纳一个</a:t>
            </a:r>
            <a:r>
              <a:rPr b="0" lang="zh-CN" sz="3600" spc="-1" strike="noStrike" u="sng">
                <a:solidFill>
                  <a:srgbClr val="800000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110</a:t>
            </a:r>
            <a:r>
              <a:rPr b="0" lang="zh-CN" sz="3600" spc="-1" strike="noStrike" u="sng">
                <a:solidFill>
                  <a:srgbClr val="800000"/>
                </a:solidFill>
                <a:uFillTx/>
                <a:latin typeface="楷体_GB2312"/>
                <a:ea typeface="楷体_GB2312"/>
                <a:hlinkClick r:id="rId7" action="ppaction://hlinksldjump"/>
              </a:rPr>
              <a:t>人的乐队。舞台的总面积达</a:t>
            </a:r>
            <a:r>
              <a:rPr b="0" lang="zh-CN" sz="3600" spc="-1" strike="noStrike" u="sng">
                <a:solidFill>
                  <a:srgbClr val="800000"/>
                </a:solidFill>
                <a:uFillTx/>
                <a:latin typeface="楷体_GB2312"/>
                <a:ea typeface="楷体_GB2312"/>
                <a:hlinkClick r:id="rId8" action="ppaction://hlinksldjump"/>
              </a:rPr>
              <a:t>1500</a:t>
            </a:r>
            <a:r>
              <a:rPr b="0" lang="zh-CN" sz="3600" spc="-1" strike="noStrike" u="sng">
                <a:solidFill>
                  <a:srgbClr val="800000"/>
                </a:solidFill>
                <a:uFillTx/>
                <a:latin typeface="楷体_GB2312"/>
                <a:ea typeface="楷体_GB2312"/>
                <a:hlinkClick r:id="rId9" action="ppaction://hlinksldjump"/>
              </a:rPr>
              <a:t>平方米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，配备有现代化的照明设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0" action="ppaction://hlinksldjump"/>
          </p:cNvPr>
          <p:cNvSpPr/>
          <p:nvPr/>
        </p:nvSpPr>
        <p:spPr>
          <a:xfrm>
            <a:off x="8271000" y="6224760"/>
            <a:ext cx="492120" cy="328320"/>
          </a:xfrm>
          <a:custGeom>
            <a:avLst/>
            <a:gdLst>
              <a:gd name="textAreaLeft" fmla="*/ 21240 w 492120"/>
              <a:gd name="textAreaRight" fmla="*/ 470880 w 492120"/>
              <a:gd name="textAreaTop" fmla="*/ 21240 h 328320"/>
              <a:gd name="textAreaBottom" fmla="*/ 307080 h 328320"/>
            </a:gdLst>
            <a:ahLst/>
            <a:rect l="textAreaLeft" t="textAreaTop" r="textAreaRight" b="textAreaBottom"/>
            <a:pathLst>
              <a:path w="32365" h="21600">
                <a:moveTo>
                  <a:pt x="0" y="0"/>
                </a:moveTo>
                <a:lnTo>
                  <a:pt x="32365" y="0"/>
                </a:lnTo>
                <a:lnTo>
                  <a:pt x="32365" y="21600"/>
                </a:lnTo>
                <a:lnTo>
                  <a:pt x="0" y="21600"/>
                </a:lnTo>
                <a:close/>
              </a:path>
              <a:path fill="lightenLess" w="32365" h="21600">
                <a:moveTo>
                  <a:pt x="0" y="0"/>
                </a:moveTo>
                <a:lnTo>
                  <a:pt x="32365" y="0"/>
                </a:lnTo>
                <a:lnTo>
                  <a:pt x="30965" y="1400"/>
                </a:lnTo>
                <a:lnTo>
                  <a:pt x="1400" y="1400"/>
                </a:lnTo>
                <a:close/>
              </a:path>
              <a:path fill="darken" w="32365" h="21600">
                <a:moveTo>
                  <a:pt x="32365" y="0"/>
                </a:moveTo>
                <a:lnTo>
                  <a:pt x="32365" y="21600"/>
                </a:lnTo>
                <a:lnTo>
                  <a:pt x="30965" y="20200"/>
                </a:lnTo>
                <a:lnTo>
                  <a:pt x="30965" y="1400"/>
                </a:lnTo>
                <a:close/>
              </a:path>
              <a:path fill="darkenLess" w="32365" h="21600">
                <a:moveTo>
                  <a:pt x="32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5" y="20200"/>
                </a:lnTo>
                <a:close/>
              </a:path>
              <a:path fill="lighten" w="32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5" h="21600">
                <a:moveTo>
                  <a:pt x="9176" y="3794"/>
                </a:moveTo>
                <a:lnTo>
                  <a:pt x="23189" y="10800"/>
                </a:lnTo>
                <a:lnTo>
                  <a:pt x="917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5823720" y="60958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音乐女神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6" descr=""/>
          <p:cNvPicPr/>
          <p:nvPr/>
        </p:nvPicPr>
        <p:blipFill>
          <a:blip r:embed="rId2"/>
          <a:stretch/>
        </p:blipFill>
        <p:spPr>
          <a:xfrm>
            <a:off x="458640" y="523800"/>
            <a:ext cx="4037040" cy="275292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8" descr=""/>
          <p:cNvPicPr/>
          <p:nvPr/>
        </p:nvPicPr>
        <p:blipFill>
          <a:blip r:embed="rId3"/>
          <a:stretch/>
        </p:blipFill>
        <p:spPr>
          <a:xfrm>
            <a:off x="457200" y="3394080"/>
            <a:ext cx="4049640" cy="27018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9" descr=""/>
          <p:cNvPicPr/>
          <p:nvPr/>
        </p:nvPicPr>
        <p:blipFill>
          <a:blip r:embed="rId4"/>
          <a:stretch/>
        </p:blipFill>
        <p:spPr>
          <a:xfrm>
            <a:off x="4724280" y="5238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10" descr=""/>
          <p:cNvPicPr/>
          <p:nvPr/>
        </p:nvPicPr>
        <p:blipFill>
          <a:blip r:embed="rId5"/>
          <a:stretch/>
        </p:blipFill>
        <p:spPr>
          <a:xfrm>
            <a:off x="4724280" y="33940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8458200" cy="56833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90040" y="60134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国 家 歌 剧 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3" action="ppaction://hlinksldjump"/>
          </p:cNvPr>
          <p:cNvSpPr/>
          <p:nvPr/>
        </p:nvSpPr>
        <p:spPr>
          <a:xfrm>
            <a:off x="8388360" y="6497640"/>
            <a:ext cx="457200" cy="3459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8538" h="21600">
                <a:moveTo>
                  <a:pt x="0" y="0"/>
                </a:moveTo>
                <a:lnTo>
                  <a:pt x="28538" y="0"/>
                </a:lnTo>
                <a:lnTo>
                  <a:pt x="28538" y="21600"/>
                </a:lnTo>
                <a:lnTo>
                  <a:pt x="0" y="21600"/>
                </a:lnTo>
                <a:close/>
              </a:path>
              <a:path fill="lightenLess" w="28538" h="21600">
                <a:moveTo>
                  <a:pt x="0" y="0"/>
                </a:moveTo>
                <a:lnTo>
                  <a:pt x="28538" y="0"/>
                </a:lnTo>
                <a:lnTo>
                  <a:pt x="27138" y="1400"/>
                </a:lnTo>
                <a:lnTo>
                  <a:pt x="1400" y="1400"/>
                </a:lnTo>
                <a:close/>
              </a:path>
              <a:path fill="darken" w="28538" h="21600">
                <a:moveTo>
                  <a:pt x="28538" y="0"/>
                </a:moveTo>
                <a:lnTo>
                  <a:pt x="28538" y="21600"/>
                </a:lnTo>
                <a:lnTo>
                  <a:pt x="27138" y="20200"/>
                </a:lnTo>
                <a:lnTo>
                  <a:pt x="27138" y="1400"/>
                </a:lnTo>
                <a:close/>
              </a:path>
              <a:path fill="darkenLess" w="28538" h="21600">
                <a:moveTo>
                  <a:pt x="28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38" y="20200"/>
                </a:lnTo>
                <a:close/>
              </a:path>
              <a:path fill="lighten" w="28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38" h="21600">
                <a:moveTo>
                  <a:pt x="7263" y="10800"/>
                </a:moveTo>
                <a:lnTo>
                  <a:pt x="21276" y="3794"/>
                </a:lnTo>
                <a:lnTo>
                  <a:pt x="21276" y="17806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0880" y="914400"/>
            <a:ext cx="85345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被称为“金色大厅”的音乐之友协会大厦，装饰精美，</a:t>
            </a:r>
            <a:r>
              <a:rPr b="0" lang="zh-CN" sz="4000" spc="-1" strike="noStrike" u="sng">
                <a:solidFill>
                  <a:srgbClr val="800000"/>
                </a:solidFill>
                <a:uFillTx/>
                <a:latin typeface="Arial"/>
                <a:ea typeface="楷体_GB2312"/>
                <a:hlinkClick r:id="rId2" action="ppaction://hlinksldjump"/>
              </a:rPr>
              <a:t>金碧辉煌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。正厅两边的金色墙壁前，树立着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16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尊大理石雕的音乐女神像。楼上两翼包厢的金色大门口，放置着历代音乐大师的金色胸像。大厅顶上金色镂花梁柱间，画着音乐女神的彩像。在巨大的吊灯照射下，到处金光闪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lastslide"/>
          </p:cNvPr>
          <p:cNvSpPr/>
          <p:nvPr/>
        </p:nvSpPr>
        <p:spPr>
          <a:xfrm>
            <a:off x="701028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  <a:ea typeface="楷体_GB2312"/>
              </a:rPr>
              <a:t>继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4"/>
          <p:cNvPicPr/>
          <p:nvPr/>
        </p:nvPicPr>
        <p:blipFill>
          <a:blip r:embed="rId2"/>
          <a:stretch/>
        </p:blipFill>
        <p:spPr>
          <a:xfrm>
            <a:off x="685800" y="609480"/>
            <a:ext cx="7696080" cy="52959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9"/>
          <p:cNvSpPr/>
          <p:nvPr/>
        </p:nvSpPr>
        <p:spPr>
          <a:xfrm>
            <a:off x="3687840" y="5867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金碧辉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914400" y="304920"/>
            <a:ext cx="7238880" cy="5452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539160" y="59738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音 乐 女 神 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29600" y="6512040"/>
            <a:ext cx="457200" cy="3459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8538" h="21600">
                <a:moveTo>
                  <a:pt x="0" y="0"/>
                </a:moveTo>
                <a:lnTo>
                  <a:pt x="28538" y="0"/>
                </a:lnTo>
                <a:lnTo>
                  <a:pt x="28538" y="21600"/>
                </a:lnTo>
                <a:lnTo>
                  <a:pt x="0" y="21600"/>
                </a:lnTo>
                <a:close/>
              </a:path>
              <a:path fill="lightenLess" w="28538" h="21600">
                <a:moveTo>
                  <a:pt x="0" y="0"/>
                </a:moveTo>
                <a:lnTo>
                  <a:pt x="28538" y="0"/>
                </a:lnTo>
                <a:lnTo>
                  <a:pt x="27138" y="1400"/>
                </a:lnTo>
                <a:lnTo>
                  <a:pt x="1400" y="1400"/>
                </a:lnTo>
                <a:close/>
              </a:path>
              <a:path fill="darken" w="28538" h="21600">
                <a:moveTo>
                  <a:pt x="28538" y="0"/>
                </a:moveTo>
                <a:lnTo>
                  <a:pt x="28538" y="21600"/>
                </a:lnTo>
                <a:lnTo>
                  <a:pt x="27138" y="20200"/>
                </a:lnTo>
                <a:lnTo>
                  <a:pt x="27138" y="1400"/>
                </a:lnTo>
                <a:close/>
              </a:path>
              <a:path fill="darkenLess" w="28538" h="21600">
                <a:moveTo>
                  <a:pt x="28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38" y="20200"/>
                </a:lnTo>
                <a:close/>
              </a:path>
              <a:path fill="lighten" w="28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38" h="21600">
                <a:moveTo>
                  <a:pt x="7263" y="10800"/>
                </a:moveTo>
                <a:lnTo>
                  <a:pt x="21276" y="3794"/>
                </a:lnTo>
                <a:lnTo>
                  <a:pt x="21276" y="17806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677376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2" descr=""/>
          <p:cNvPicPr/>
          <p:nvPr/>
        </p:nvPicPr>
        <p:blipFill>
          <a:blip r:embed="rId3"/>
          <a:stretch/>
        </p:blipFill>
        <p:spPr>
          <a:xfrm>
            <a:off x="3708360" y="3192480"/>
            <a:ext cx="5372280" cy="35812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3" descr=""/>
          <p:cNvPicPr/>
          <p:nvPr/>
        </p:nvPicPr>
        <p:blipFill>
          <a:blip r:embed="rId4"/>
          <a:stretch/>
        </p:blipFill>
        <p:spPr>
          <a:xfrm>
            <a:off x="4800600" y="0"/>
            <a:ext cx="4280040" cy="3124080"/>
          </a:xfrm>
          <a:prstGeom prst="rect">
            <a:avLst/>
          </a:prstGeom>
          <a:ln w="0">
            <a:noFill/>
          </a:ln>
        </p:spPr>
      </p:pic>
      <p:sp>
        <p:nvSpPr>
          <p:cNvPr id="252" name="TextBox 4"/>
          <p:cNvSpPr/>
          <p:nvPr/>
        </p:nvSpPr>
        <p:spPr>
          <a:xfrm>
            <a:off x="3708360" y="76320"/>
            <a:ext cx="109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郎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86200" y="685800"/>
            <a:ext cx="4724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也纳是欧洲古典音乐的摇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也纳是一座用音乐装饰起来的城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也纳几乎一天也离不开音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维也纳，歌剧院、音乐厅星罗棋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251460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奥地利首都维也纳是世界著名的音乐之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1066680"/>
            <a:ext cx="457200" cy="4800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50"/>
                </a:lnTo>
                <a:cubicBezTo>
                  <a:pt x="10800" y="9450"/>
                  <a:pt x="5400" y="10350"/>
                  <a:pt x="0" y="10350"/>
                </a:cubicBezTo>
                <a:cubicBezTo>
                  <a:pt x="5400" y="10350"/>
                  <a:pt x="10800" y="11250"/>
                  <a:pt x="10800" y="121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524400" y="2643120"/>
            <a:ext cx="2095200" cy="1571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2320" y="228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维也纳风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仿造本文“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”的写作结构写写我们的校园。围绕一个意思说具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校园生活丰富多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晨读课＿＿＿＿＿＿＿＿＿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堂上＿＿＿＿＿＿＿＿＿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间活动＿＿＿＿＿＿＿＿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创新课＿＿＿＿＿＿＿＿＿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7621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828800"/>
            <a:ext cx="7939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以“我爱音乐之都维也纳”为中心句，结合本课的内容，用“总——分”的结构，来说说自己喜爱维也纳的理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我爱音乐之都维也纳！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90720" y="7621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42320" y="228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维也纳风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42320" y="228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维也纳风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-31680" y="-22320"/>
            <a:ext cx="9139320" cy="6853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42320" y="228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维也纳风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42320" y="228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维也纳风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9-03-03T13:53:34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