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8.gif" ContentType="image/gif"/>
  <Override PartName="/ppt/media/image12.gif" ContentType="image/gif"/>
  <Override PartName="/ppt/media/image16.gif" ContentType="image/gif"/>
  <Override PartName="/ppt/media/image2.png" ContentType="image/png"/>
  <Override PartName="/ppt/media/image15.gif" ContentType="image/gif"/>
  <Override PartName="/ppt/media/image14.gif" ContentType="image/gif"/>
  <Override PartName="/ppt/media/image13.gif" ContentType="image/gif"/>
  <Override PartName="/ppt/media/chimes.wav" ContentType="audio/x-wav"/>
  <Override PartName="/ppt/media/image3.gif" ContentType="image/gif"/>
  <Override PartName="/ppt/media/image1.gif" ContentType="image/gif"/>
  <Override PartName="/ppt/media/image4.png" ContentType="image/png"/>
  <Override PartName="/ppt/media/image5.wmf" ContentType="image/x-wmf"/>
  <Override PartName="/ppt/media/image6.gif" ContentType="image/gif"/>
  <Override PartName="/ppt/media/image11.gif" ContentType="image/gif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11F9-CC7D-4287-BBDF-9F4A4E88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8FE-1BA1-4275-9D3E-BCD2283F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4828-740D-4DE5-8DE6-20FE76005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9C4-605F-4558-835F-0B644521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9481-C570-42F3-A71F-7A4DE8BC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201-A962-42A4-AFA5-8B85366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FED-BDFE-4E59-A7EB-1AFFB232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EA0-C88B-4811-A692-8AD94149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FDB-034A-4005-AA9E-30A6C7A5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E8D-1313-4362-97AE-41C2DDB2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F74-8515-45D8-B543-FC571A45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FAA-EDB3-4956-A88D-04B60B0C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3FD9-AA14-41C4-A383-38DBD4DC58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导入新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1800" y="610920"/>
            <a:ext cx="9132840" cy="55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1"/>
          <p:cNvSpPr/>
          <p:nvPr/>
        </p:nvSpPr>
        <p:spPr>
          <a:xfrm>
            <a:off x="-1440" y="611280"/>
            <a:ext cx="913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诗选自《杜诗详注》。这首诗是唐肃宗乾元二年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5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秋杜甫在秦州（今甘肃天水）所作。唐玄宗天宝十四年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5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安史之乱爆发，乾元二年九月，叛军安禄山、史思明从范阳引兵南下，攻陷汴州，再进洛阳。山东、河南都处于战乱之中。当时，杜甫的四个弟弟正分散在这一带，战事阻隔，音信不通，引起他强烈的忧虑和思念之情。这首诗就是他当时思想感情的真实记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73734" descr="t01bef1a65a11508885"/>
          <p:cNvPicPr/>
          <p:nvPr/>
        </p:nvPicPr>
        <p:blipFill>
          <a:blip r:embed="rId1"/>
          <a:stretch/>
        </p:blipFill>
        <p:spPr>
          <a:xfrm>
            <a:off x="-571680" y="-123840"/>
            <a:ext cx="414036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理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732960"/>
            <a:ext cx="9144000" cy="61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赏析：“露从今夜白，月是故乡明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其实月亮是同样的月亮，只是因为作者思念家乡，包含这种感情，因此作者觉得家乡的月亮似乎都更亮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7654" descr="t016001eae9154c14c9"/>
          <p:cNvPicPr/>
          <p:nvPr/>
        </p:nvPicPr>
        <p:blipFill>
          <a:blip r:embed="rId1"/>
          <a:stretch/>
        </p:blipFill>
        <p:spPr>
          <a:xfrm>
            <a:off x="0" y="3456000"/>
            <a:ext cx="9144000" cy="34020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2240" y="29880"/>
            <a:ext cx="9171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这首诗里，你除了体会到诗人思念弟弟、思念故乡的感情之处，你还体验到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对离乱的感慨之情。作者描写的既是自己，也是饱经战乱的百姓，这也体现了作者忧国忧民的情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7668" descr="t0164a637459aad235a"/>
          <p:cNvPicPr/>
          <p:nvPr/>
        </p:nvPicPr>
        <p:blipFill>
          <a:blip r:embed="rId1"/>
          <a:stretch/>
        </p:blipFill>
        <p:spPr>
          <a:xfrm>
            <a:off x="12600" y="3984480"/>
            <a:ext cx="9171000" cy="288612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古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人咏月的诗数不胜数，你能写几句吗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】海上生明月。天涯共此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】我寄愁心与明月，随君直到夜郎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】但愿人长久，千里共婵娟。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28712" descr="t0123438dbb7cddd585"/>
          <p:cNvPicPr/>
          <p:nvPr/>
        </p:nvPicPr>
        <p:blipFill>
          <a:blip r:embed="rId1"/>
          <a:stretch/>
        </p:blipFill>
        <p:spPr>
          <a:xfrm>
            <a:off x="0" y="4289400"/>
            <a:ext cx="9144000" cy="25686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艺术特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00" y="814320"/>
            <a:ext cx="9093240" cy="60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借景抒情，情景交融，抒思亲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层次井然，首尾照应，承转圆熟，结构严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感情悲怆深沉，风格沉郁顿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34844" descr="t01750bcf59d877307f"/>
          <p:cNvPicPr/>
          <p:nvPr/>
        </p:nvPicPr>
        <p:blipFill>
          <a:blip r:embed="rId1"/>
          <a:stretch/>
        </p:blipFill>
        <p:spPr>
          <a:xfrm>
            <a:off x="-54000" y="4335480"/>
            <a:ext cx="9185400" cy="24843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2412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12960" y="526680"/>
            <a:ext cx="9118440" cy="631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全诗层次井然，首尾照应，承转圆熟，结构严谨。“未休兵”则“断人行”，望月则“忆舍弟”，“无家”则“寄书不达”，人“分散”则“死生”不明，一句一转，一气呵成。在安史之乱中，杜甫颠沛流离，备尝艰辛，既怀家愁，又忧国难，真是感慨万端。稍一触动，千头万绪便一齐从笔底流出，所以把常见的怀乡思亲的题材写得如此凄楚哀感，沉郁顿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64551" descr="t01c32a785b26869ca2"/>
          <p:cNvPicPr/>
          <p:nvPr/>
        </p:nvPicPr>
        <p:blipFill>
          <a:blip r:embed="rId1"/>
          <a:stretch/>
        </p:blipFill>
        <p:spPr>
          <a:xfrm>
            <a:off x="157320" y="-23760"/>
            <a:ext cx="906480" cy="12002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73734" descr="t01bef1a65a11508885"/>
          <p:cNvPicPr/>
          <p:nvPr/>
        </p:nvPicPr>
        <p:blipFill>
          <a:blip r:embed="rId2"/>
          <a:stretch/>
        </p:blipFill>
        <p:spPr>
          <a:xfrm>
            <a:off x="4664160" y="6099120"/>
            <a:ext cx="4911480" cy="8571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1844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681120"/>
            <a:ext cx="9144000" cy="61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本诗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诗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当时思想感情的真实记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诗中写兄弟因战乱而离散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杳无音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在异乡的戍鼓和孤雁声中观赏秋夜月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只能倍增思乡忆弟之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颠沛流离中的诗人杜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看到山河破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思念不知生死的兄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更为国家而悲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7902" descr="t01e990f569039858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7972560" cy="15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月夜忆舍弟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-15840" y="1370160"/>
            <a:ext cx="9124920" cy="54925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"/>
          <p:cNvSpPr/>
          <p:nvPr/>
        </p:nvSpPr>
        <p:spPr>
          <a:xfrm>
            <a:off x="22320" y="5781600"/>
            <a:ext cx="71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禄丰县彩云中学何春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了解与杜甫有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结合历史背景深入领会诗歌的思想内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诗人手足情深、忧国忧民的高尚品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背诵、默写诗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8462" descr="t01f647d906059fcdcf"/>
          <p:cNvPicPr/>
          <p:nvPr/>
        </p:nvPicPr>
        <p:blipFill>
          <a:blip r:embed="rId1"/>
          <a:stretch/>
        </p:blipFill>
        <p:spPr>
          <a:xfrm>
            <a:off x="-608040" y="5114880"/>
            <a:ext cx="1036008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2701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3076"/>
          <p:cNvSpPr/>
          <p:nvPr/>
        </p:nvSpPr>
        <p:spPr>
          <a:xfrm>
            <a:off x="2187720" y="0"/>
            <a:ext cx="6838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杜甫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7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子美，自号少陵野老，世称“杜工部”、“杜少陵”等，唐代伟大的现实主义诗人，杜甫被世人尊为“诗圣”，其诗被称为“诗史”。杜甫与李白合称“李杜”，为了跟另外两位诗人李商隐与杜牧即“小李杜”区别开来，杜甫与李白又合称“大李杜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0" y="938160"/>
            <a:ext cx="2070000" cy="591984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99"/>
          <p:cNvSpPr/>
          <p:nvPr/>
        </p:nvSpPr>
        <p:spPr>
          <a:xfrm>
            <a:off x="30240" y="-17640"/>
            <a:ext cx="9174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月夜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舍弟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杜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戍鼓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断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人行，边秋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雁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露从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今夜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白，月是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故乡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有弟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分散，无家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死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寄书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长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不达，况乃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未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休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古诗精选-杜甫：月夜忆舍弟.mp3" descr=""/>
          <p:cNvPicPr/>
          <p:nvPr/>
        </p:nvPicPr>
        <p:blipFill>
          <a:blip r:embed="rId1"/>
          <a:stretch/>
        </p:blipFill>
        <p:spPr>
          <a:xfrm>
            <a:off x="689040" y="-17640"/>
            <a:ext cx="1063440" cy="16876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0498" descr="t01801ebac8c682e18d"/>
          <p:cNvPicPr/>
          <p:nvPr/>
        </p:nvPicPr>
        <p:blipFill>
          <a:blip r:embed="rId2"/>
          <a:stretch/>
        </p:blipFill>
        <p:spPr>
          <a:xfrm>
            <a:off x="23760" y="4462560"/>
            <a:ext cx="9180720" cy="244152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51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2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字词注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-28800" y="499680"/>
            <a:ext cx="9132840" cy="64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舍弟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谦称自己的弟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戍鼓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戍楼上的更鼓。戍，驻防。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断人行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鼓声响起后，就开始宵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边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作“秋边”，秋天的边地，边塞的秋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露从今夜白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在气节“白露”的一个夜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35876" descr="t01111c265b0c57e2ae"/>
          <p:cNvPicPr/>
          <p:nvPr/>
        </p:nvPicPr>
        <p:blipFill>
          <a:blip r:embed="rId1"/>
          <a:stretch/>
        </p:blipFill>
        <p:spPr>
          <a:xfrm>
            <a:off x="1220760" y="5764320"/>
            <a:ext cx="6703920" cy="107928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2240" y="-34920"/>
            <a:ext cx="9145800" cy="68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有弟皆分散，无家问死生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弟兄分散，家园无存，互相间都无从得知死生的消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长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直，老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达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况乃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何况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未休兵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战争还没有结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21510" descr="t01e5e4bd24de49ad29"/>
          <p:cNvPicPr/>
          <p:nvPr/>
        </p:nvPicPr>
        <p:blipFill>
          <a:blip r:embed="rId1"/>
          <a:stretch/>
        </p:blipFill>
        <p:spPr>
          <a:xfrm>
            <a:off x="12600" y="5091120"/>
            <a:ext cx="9145800" cy="175572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翻译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790560"/>
            <a:ext cx="914400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戌楼响过更鼓，路上断了行人形影；秋天的边境，传来孤雁悲切的鸣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今日正是白露，忽然想起远方兄弟；望月怀思，觉得故乡月儿更圆更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怜有兄弟，却各自东西海角天涯；有家若无，是死是生我何处去打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平时寄去书信，常常总是无法到达；更何况烽火连天，叛乱还没有治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53265" descr="4"/>
          <p:cNvPicPr/>
          <p:nvPr/>
        </p:nvPicPr>
        <p:blipFill>
          <a:blip r:embed="rId1"/>
          <a:stretch/>
        </p:blipFill>
        <p:spPr>
          <a:xfrm>
            <a:off x="0" y="644220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诗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815760"/>
            <a:ext cx="9144000" cy="60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首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更断雁啼，浓重悲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颔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清露盈盈，乡情依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颈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弟兄离散，天各一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尾联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亲忧国，无限深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22548" descr="t01791e969b9c2aa868"/>
          <p:cNvPicPr/>
          <p:nvPr/>
        </p:nvPicPr>
        <p:blipFill>
          <a:blip r:embed="rId1"/>
          <a:stretch/>
        </p:blipFill>
        <p:spPr>
          <a:xfrm>
            <a:off x="0" y="3755880"/>
            <a:ext cx="9144000" cy="3102120"/>
          </a:xfrm>
          <a:prstGeom prst="rect">
            <a:avLst/>
          </a:prstGeom>
          <a:ln w="0">
            <a:noFill/>
          </a:ln>
        </p:spPr>
      </p:pic>
    </p:spTree>
  </p:cSld>
  <p:transition spd="med">
    <p:plus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5:05:00Z</dcterms:created>
  <dc:creator>User</dc:creator>
  <dc:description/>
  <dc:language>en-US</dc:language>
  <cp:lastModifiedBy>Administrator</cp:lastModifiedBy>
  <dcterms:modified xsi:type="dcterms:W3CDTF">2018-10-05T00:43:36Z</dcterms:modified>
  <cp:revision>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