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76F-431B-40A3-A106-027E6FED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1A2-6A3A-4513-8DB0-8F076553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AC9-56A3-4C45-9296-A26EFBBA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75BD-C308-4362-B7E0-659E45FB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9086-2A54-4AB8-959C-DC78BB36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1AD-D18C-42DB-8C10-2D7EFE26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E3DD-134A-44B7-A811-E88C8AF1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11B-BA99-44D8-BCB1-69A0BFB0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593F-DE01-43E6-A093-AABB55C2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E76-4FE7-40C3-806A-5B8DC20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069-A284-40B6-A6C2-9E51D36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FAC4-75EF-4214-A528-6F275C4C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C0BB-A192-419B-A0B0-4F8B4229BC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月夜忆舍弟</a:t>
            </a:r>
            <a:br>
              <a:rPr sz="4400"/>
            </a:b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（唐） 杜甫</a:t>
            </a:r>
            <a:br>
              <a:rPr sz="2800"/>
            </a:br>
            <a:br>
              <a:rPr sz="4000"/>
            </a:b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戍鼓断人行，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边秋一雁声。 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露从今夜白，</a:t>
            </a:r>
            <a:br>
              <a:rPr sz="4400"/>
            </a:b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月是故乡明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1477800" y="795960"/>
            <a:ext cx="54352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雨 滴 项 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王母娘娘有一条雨滴项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有一天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云妹妹偷了项链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还把它挂了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玉帝见了，十分生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立即派来了雷公和电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雷公大声斥责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电母用鞭子抽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云妹妹害怕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无意中，把项链丢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滴嗒，滴嗒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项链断了线，雨珠掉下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云妹妹刚想捡珠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　　　　　　就被太阳公公拉回了天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3600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64000" y="189000"/>
            <a:ext cx="60498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雨中的树林是个童话世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走进去你就会变成一个小精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每棵树都会送给你很多喜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你还会发现很多新奇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晶莹的雨珠滚动在叶面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蜘蛛吐丝给你串一串项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落花铺成的地毯又软又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还有青蛙击鼓跳舞为你表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鸟儿在雨中也愿意一展歌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听歌的松鼠摇着毛茸茸的尾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细雨淋过的浆果酸甜可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刺猬扎满了一身运回了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连那些小雨点都会变魔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方正准圆简体"/>
              </a:rPr>
              <a:t>落在地上立刻就变成了蘑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9240" y="955440"/>
            <a:ext cx="8506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方正准圆简体"/>
              </a:rPr>
              <a:t>雨中的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27760" y="423540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金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40220"/>
          <a:stretch/>
        </p:blipFill>
        <p:spPr>
          <a:xfrm>
            <a:off x="179280" y="260280"/>
            <a:ext cx="5735880" cy="324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59040" y="149040"/>
            <a:ext cx="2527560" cy="67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八只气球都没有卖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在一天下午合伙逃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气球带着线飞向天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开始了它们的自由行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高飞碰到骄阳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玩耍在高速路上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落在仙人掌上睡觉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留下陪伴淘气的宝宝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想把烤肉先尝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与豪猪谈情说爱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到鳄鱼嘴里探头探脑——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一只坐在那里，慢慢地扁了下来——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没人买的八只气球，挣脱束缚一起逃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无论高飞还是四处漂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方正少儿简体"/>
              </a:rPr>
              <a:t>就算粉身碎骨也是它们的自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6960" y="191628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准圆简体"/>
              </a:rPr>
              <a:t>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准圆简体"/>
              </a:rPr>
              <a:t>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准圆简体"/>
              </a:rPr>
              <a:t>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方正准圆简体"/>
              </a:rPr>
              <a:t>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3T17:22:32Z</dcterms:created>
  <dc:creator>微软用户</dc:creator>
  <dc:description/>
  <dc:language>en-US</dc:language>
  <cp:lastModifiedBy>微软用户</cp:lastModifiedBy>
  <dcterms:modified xsi:type="dcterms:W3CDTF">2012-10-30T02:18:59Z</dcterms:modified>
  <cp:revision>6</cp:revision>
  <dc:subject/>
  <dc:title>月夜忆舍弟 （唐） 杜甫     戍鼓断人行，    边秋一雁声。     露从今夜白，    月是故乡明。 </dc:title>
</cp:coreProperties>
</file>