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projctor.wav" ContentType="audio/x-wav"/>
  <Override PartName="/ppt/media/image13.jpeg" ContentType="image/jpeg"/>
  <Override PartName="/ppt/media/image8.jpeg" ContentType="image/jpeg"/>
  <Override PartName="/ppt/media/image12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chimes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D43-8B03-4513-874F-A6D3EA9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9E0-CD05-435A-9587-43F9467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C73-E446-40EA-8058-7D9B3D0C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E17-F56A-439C-868A-EEA27407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0B2-F405-48BE-864C-15A1314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3A8-D02F-4FDF-89E3-3DF0586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AC0-9037-479C-88A3-30D10814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9E9-B607-4D5E-AF26-717EF03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C8B-52DB-4CC6-8317-C302560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9A9-2E6F-405D-968B-9062AC70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9EA-2850-4A6C-B133-8924EE8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2BD-B93B-4AF2-AAB9-932D94F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B7C-1C72-407D-90D9-1BC0865B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ic.yesky.com/sucai/szwfj/index.s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800600" y="228600"/>
            <a:ext cx="4343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[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宋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]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叶绍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屐齿印苍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扣柴扉久不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春色满园关不住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一枝红杏出墙来</a:t>
            </a:r>
            <a:r>
              <a:rPr b="0" lang="zh-CN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564000" y="573408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屐：木头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052000" y="1484280"/>
            <a:ext cx="29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印   苍    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75640" y="76824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44840" y="765000"/>
            <a:ext cx="17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03600" y="836640"/>
            <a:ext cx="8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65400" y="2349360"/>
            <a:ext cx="280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苍苔：苔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11280" y="36450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印苍苔：在苔藓上留下木鞋底的脚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050920" y="90792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应怜屐齿印苍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87280" y="2060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园主人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爱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苔，怕我的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木底鞋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上面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留下脚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37204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</a:rPr>
              <a:t>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3440" y="765000"/>
            <a:ext cx="167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kò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763640" y="3284640"/>
            <a:ext cx="24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扣：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92360" y="4464000"/>
            <a:ext cx="65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扣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轻轻地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565000" y="1544760"/>
            <a:ext cx="21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</a:rPr>
              <a:t>柴   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837080" y="69228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268880" y="836640"/>
            <a:ext cx="98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ē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3573360"/>
            <a:ext cx="89614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柴扉：柴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用树枝编成的简陋的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87280" y="2349360"/>
            <a:ext cx="6782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轻轻地敲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柴门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敲了很久也不见主人来开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050920" y="765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小扣柴扉久不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53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现在同学们明白为什么“小扣柴扉久不开”了吧，你们能用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因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······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所以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·····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或者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之所以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·····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是因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·····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样的句式回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24000" y="260280"/>
            <a:ext cx="836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人兴致勃勃地来，却碰了个钉子，你们想，他此时的心情如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0920" y="3429000"/>
            <a:ext cx="85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扫兴、失望、失落、埋怨、不讲交情、不够义气，小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·········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39640" y="620640"/>
            <a:ext cx="782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诗人游园却没有遇到主人，本来是十分扫兴，无意间抬起头，却发现了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990720"/>
            <a:ext cx="732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叶绍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中期诗人，龙泉（今浙江）人。他作为南宋江湖诗派的一员，写下了许多描写田园风光及生活的诗作，其诗优于绝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79280" y="170028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Arial"/>
              </a:rPr>
              <a:t>春色满园关不住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Arial"/>
              </a:rPr>
              <a:t>一枝红杏出墙来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63640" y="333360"/>
            <a:ext cx="6337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春色满园关不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一枝红杏出墙来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3809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84360" y="2852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园的春色是关不住的，看，一枝粉红的杏花正伸出墙头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95280" y="476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枝红杏出墙来”。这枝红杏给诗人带来的是什么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35920" y="353700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慰、惊喜、感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······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71640" y="260280"/>
            <a:ext cx="70563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游园不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宋）叶绍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应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屐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印苍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扣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柴扉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久不开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春色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满园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关不住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枝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红杏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出墙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932410483050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满苍苔的路上遍印着诗人木头鞋钉齿的痕迹，敲了半天柴门，没有人来开。诗人从露在墙头的一枝杏花想象出满园的春色，园门虽然关得紧，春色却是关不住的啊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古诗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20068822740"/>
          <p:cNvPicPr/>
          <p:nvPr/>
        </p:nvPicPr>
        <p:blipFill>
          <a:blip r:embed="rId2"/>
          <a:stretch/>
        </p:blipFill>
        <p:spPr>
          <a:xfrm>
            <a:off x="6084720" y="4365720"/>
            <a:ext cx="2381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植物与风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249440" y="1890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老师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编儿歌或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763640" y="141192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春色满园绿青苔，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27280" y="256536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鸟语花香蝶蜂舞，</a:t>
            </a:r>
            <a:br>
              <a:rPr sz="6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03640" y="3645000"/>
            <a:ext cx="6784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红柳绿笑开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6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6008400" y="4724280"/>
            <a:ext cx="55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红杏出墙引客来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9144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 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1219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90720" y="1219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4300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7200" y="2057400"/>
            <a:ext cx="868680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怜屐齿印苍苔， 小扣柴扉久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人虽然“游园不值”，但已从“一枝红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到了“关不住”的春天，这充满勃勃生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浓浓春意让诗人赞叹不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684360" y="0"/>
            <a:ext cx="79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反馈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重点字解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值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怜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印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扣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柴扉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09480" y="457200"/>
            <a:ext cx="259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是抓住哪些景物来表现春天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38080" y="2514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碧青的苍苔，盛开的红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37339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值”的意思是（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中“                 ”这个词写出了“不值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267080" y="3733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没有遇到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久不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395280" y="333360"/>
            <a:ext cx="81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游园不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代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所作。题目的意思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人以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渲染满园的春色。诗的最后两句蕴含着深刻的道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902120" y="18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475680" y="3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叶绍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9640" y="184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游园未遇到主人，不能进去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90720" y="2924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枝红杏出墙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79280" y="0"/>
            <a:ext cx="8964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题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园：指花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在宋代，许多官僚地主、名人雅士都有自己的花园，栽种着花草树木，供私人享用，不是亲朋好友一般不能随意入内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值：遇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值：没有遇到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游园不值”课题是什么意思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71640" y="620640"/>
            <a:ext cx="68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任何新生的事物都是无法阻挡的，它总会冲破阻力向前发展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04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外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794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340000" y="404640"/>
            <a:ext cx="5761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夜书所见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叶绍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萧萧梧叶送寒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江上秋风动客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知有儿童挑促织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夜深篱落一灯明。</a:t>
            </a:r>
            <a:br>
              <a:rPr sz="5400"/>
            </a:br>
            <a:br>
              <a:rPr sz="54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81480" y="2286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24000" y="446400"/>
            <a:ext cx="83516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书所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宋）叶绍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萧萧梧叶送寒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江上秋风动客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知有儿童挑促织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深篱落一灯明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50920" y="404640"/>
            <a:ext cx="8561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外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背诵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默写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理解诗句的意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几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叶绍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写的诗诵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971640" y="1197000"/>
            <a:ext cx="740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打开课文，默读古诗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游园不值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932410483050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8344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游园不值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（宋）</a:t>
            </a:r>
            <a:r>
              <a:rPr b="0" lang="zh-CN" sz="5400" spc="-1" strike="noStrike">
                <a:solidFill>
                  <a:srgbClr val="ff0033"/>
                </a:solidFill>
                <a:latin typeface="Arial Unicode MS"/>
              </a:rPr>
              <a:t>叶绍翁</a:t>
            </a:r>
            <a:r>
              <a:rPr b="1" lang="zh-CN" sz="40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楷体_GB2312"/>
              </a:rPr>
              <a:t>应怜屐齿印苍苔</a:t>
            </a: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Arial"/>
              </a:rPr>
              <a:t>，</a:t>
            </a: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楷体_GB2312"/>
              </a:rPr>
              <a:t>小扣柴扉久不开。</a:t>
            </a: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楷体_GB2312"/>
              </a:rPr>
              <a:t>春色满园关不住，</a:t>
            </a: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楷体_GB2312"/>
              </a:rPr>
              <a:t>一枝红杏出墙来</a:t>
            </a:r>
            <a:r>
              <a:rPr b="0" lang="zh-CN" sz="4800" spc="-1" strike="noStrike">
                <a:solidFill>
                  <a:srgbClr val="ff0033"/>
                </a:solidFill>
                <a:latin typeface="Arial Unicode MS"/>
                <a:ea typeface="Arial"/>
              </a:rPr>
              <a:t>。</a:t>
            </a: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3"/>
          <p:cNvPicPr/>
          <p:nvPr/>
        </p:nvPicPr>
        <p:blipFill>
          <a:blip r:embed="rId2"/>
          <a:stretch/>
        </p:blipFill>
        <p:spPr>
          <a:xfrm>
            <a:off x="5292720" y="2205000"/>
            <a:ext cx="3708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100607182328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360" y="-5395320"/>
            <a:ext cx="87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重点词语的理解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屐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柴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617200" y="1366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148120" y="476280"/>
            <a:ext cx="190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9640" y="2852640"/>
            <a:ext cx="8136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概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41000" y="1549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845800" y="69228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30686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怜：本义指可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本诗中指：“爱惜、喜爱、舍不得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1079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9240" y="1476360"/>
            <a:ext cx="25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33"/>
                </a:solidFill>
                <a:latin typeface="Arial"/>
              </a:rPr>
              <a:t>屐   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128320" y="6224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995640" y="54936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616120" y="5018040"/>
            <a:ext cx="421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屐齿：鞋印，脚印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184480" y="3357720"/>
            <a:ext cx="292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屐：木头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8:40:26Z</dcterms:created>
  <dc:creator>微软用户</dc:creator>
  <dc:description/>
  <dc:language>en-US</dc:language>
  <cp:lastModifiedBy>CJ</cp:lastModifiedBy>
  <dcterms:modified xsi:type="dcterms:W3CDTF">2017-02-14T04:59:34Z</dcterms:modified>
  <cp:revision>25</cp:revision>
  <dc:subject/>
  <dc:title>4.古诗两首</dc:title>
</cp:coreProperties>
</file>