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11.jpeg" ContentType="image/jpeg"/>
  <Override PartName="/ppt/media/image5.gif" ContentType="image/gif"/>
  <Override PartName="/ppt/media/image6.png" ContentType="image/png"/>
  <Override PartName="/ppt/media/image7.gif" ContentType="image/gif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197-0DA7-4ADE-B86F-8022E4CE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30A-0953-474A-BA80-89BF8A6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2A8-21AB-4B1A-B792-A80095A2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CF8-72F2-4216-A0DC-6CF1F61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EBA-9507-46C6-BF9E-10A4A2D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CCC-6A40-429A-848B-B705349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17A-086D-4F18-BF28-607E51B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8B6-AECD-4B22-B98E-E7ED18EA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D1D-7781-423D-AA6C-BD6D837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83F-1D41-443A-8FD7-270B89F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BED-E614-4CC5-9D8C-D2B7452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833-01B7-4F50-A691-26E6E8C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4322-E1B0-434D-8747-D9BAC2A50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_tk_chun004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_tk_chun002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48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220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_tk_chun005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48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1440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57520" y="228600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应怜屐齿印苍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小扣柴扉久不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春色满园关不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一支红杏出墙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04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5560" y="137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叶绍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81080" y="2133720"/>
            <a:ext cx="49532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再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0600" y="1495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屐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74360" y="1486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4680" y="1495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柴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2680" y="2486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潋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0600" y="2486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448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468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50080" y="34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毕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86920" y="34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8200" y="346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映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65200" y="3476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穷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31280" y="4467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样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57640" y="4467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淡妆浓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niKem" descr=""/>
          <p:cNvPicPr/>
          <p:nvPr/>
        </p:nvPicPr>
        <p:blipFill>
          <a:blip r:embed="rId2"/>
          <a:stretch/>
        </p:blipFill>
        <p:spPr>
          <a:xfrm flipH="1">
            <a:off x="2743200" y="10666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0574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不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2004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1337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屐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3623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Times New Roman"/>
              </a:rPr>
              <a:t>小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2133720"/>
            <a:ext cx="91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柴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-42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00400" y="11430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潋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048120"/>
            <a:ext cx="91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Times New Roman"/>
              </a:rPr>
              <a:t>空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92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相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096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晓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5-415" descr=""/>
          <p:cNvPicPr/>
          <p:nvPr/>
        </p:nvPicPr>
        <p:blipFill>
          <a:blip r:embed="rId4"/>
          <a:stretch/>
        </p:blipFill>
        <p:spPr>
          <a:xfrm>
            <a:off x="1828800" y="457200"/>
            <a:ext cx="601992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4080" y="5335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毕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2952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四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29718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映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28195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无穷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26708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别样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382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淡妆浓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71800" y="6094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6440" y="167652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叶绍翁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81560" y="2286000"/>
            <a:ext cx="261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应怜屐齿印苍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扣柴扉久不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春色满园关不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支红杏出墙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04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学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71800" y="6094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81560" y="2286000"/>
            <a:ext cx="261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应怜屐齿印苍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扣柴扉久不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春色满园关不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支红杏出墙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297180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19112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19112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895840"/>
            <a:ext cx="3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4115160"/>
            <a:ext cx="39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04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学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44792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6440" y="167652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叶绍翁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学习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查看注释，查工具书，结合诗句，理解重点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词义，看插图，想全文，理解诗歌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yy1" descr=""/>
          <p:cNvPicPr/>
          <p:nvPr/>
        </p:nvPicPr>
        <p:blipFill>
          <a:blip r:embed="rId2"/>
          <a:stretch/>
        </p:blipFill>
        <p:spPr>
          <a:xfrm>
            <a:off x="4421160" y="0"/>
            <a:ext cx="472284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981080"/>
            <a:ext cx="261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应怜屐齿印苍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扣柴扉久不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春色满园关不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一支红杏出墙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572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121932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862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88620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591280"/>
            <a:ext cx="3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2440" y="3810240"/>
            <a:ext cx="3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5360" y="152388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叶绍翁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oorin2" descr=""/>
          <p:cNvPicPr/>
          <p:nvPr/>
        </p:nvPicPr>
        <p:blipFill>
          <a:blip r:embed="rId2"/>
          <a:stretch/>
        </p:blipFill>
        <p:spPr>
          <a:xfrm>
            <a:off x="1752480" y="712800"/>
            <a:ext cx="6400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_tk_chun004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483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144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8:59:18Z</dcterms:created>
  <dc:creator>server</dc:creator>
  <dc:description/>
  <dc:language>en-US</dc:language>
  <cp:lastModifiedBy>朱安</cp:lastModifiedBy>
  <dcterms:modified xsi:type="dcterms:W3CDTF">2003-04-03T12:01:06Z</dcterms:modified>
  <cp:revision>11</cp:revision>
  <dc:subject/>
  <dc:title>PowerPoint 演示文稿</dc:title>
</cp:coreProperties>
</file>