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17A-2F3B-48C6-B90F-EFF59CA8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601-6FC9-414E-B2BB-6EEA2AF6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296-3164-4E97-8782-9CB54662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5C9-3FB2-46BC-8B64-8E517F0E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EBB-6A2C-4BED-96F4-8BA8161E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B0D-FDA9-4841-9611-0F28D349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26F-30B5-486F-8C36-375F042F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9DB-C3DE-4153-8F19-562DA9E6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9C3-6B06-45A0-8950-281A0C9A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F44-7057-41E3-B948-FE2A022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C0D-F0FD-47F8-92E9-EF441EBB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A1B-0388-4A00-88FE-95A56568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1957-8A37-47B7-83FA-D302E4DB03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66690dc7ddfa40cf5468a2914ef6070b"/>
          <p:cNvPicPr/>
          <p:nvPr/>
        </p:nvPicPr>
        <p:blipFill>
          <a:blip r:embed="rId1"/>
          <a:stretch/>
        </p:blipFill>
        <p:spPr>
          <a:xfrm>
            <a:off x="0" y="-801720"/>
            <a:ext cx="9348840" cy="7659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68360" y="33336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根据特定的情境增加词语，使下面的文字表现出特定的意思。（扩写句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11280" y="2060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早晨，太阳发出光芒，树上的鸟儿鸣叫着，树下的流水流向远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要求：扩展后的句子分别抒发主人公欢快和苦闷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548c8ff0a3e9de6e342acc59"/>
          <p:cNvPicPr/>
          <p:nvPr/>
        </p:nvPicPr>
        <p:blipFill>
          <a:blip r:embed="rId1"/>
          <a:stretch/>
        </p:blipFill>
        <p:spPr>
          <a:xfrm>
            <a:off x="-237960" y="-372960"/>
            <a:ext cx="991836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8661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郭沫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若虚改《史记》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韩愈改诗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12000" y="333360"/>
            <a:ext cx="194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道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643280" y="1197000"/>
            <a:ext cx="396108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式不同情感不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不同情境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眼不同意境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548c8ff0a3e9de6e342acc59"/>
          <p:cNvPicPr/>
          <p:nvPr/>
        </p:nvPicPr>
        <p:blipFill>
          <a:blip r:embed="rId1"/>
          <a:stretch/>
        </p:blipFill>
        <p:spPr>
          <a:xfrm>
            <a:off x="-237960" y="-372960"/>
            <a:ext cx="9918360" cy="7599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8661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郭沫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若虚改《史记》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韩愈改诗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东坡写《惠山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龙团》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柳腰桃面等套语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012000" y="333360"/>
            <a:ext cx="194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道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43280" y="1197000"/>
            <a:ext cx="396108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式不同情感不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不同情境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眼不同意境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用联想意蕴丰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滥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套语全无新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欧阳公在翰林时，常与同院出游。有奔马毙犬。公曰：“试书其一事。”一曰：“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有犬卧于通衢，逸马蹄而杀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”一曰：“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有马逸于街衢，卧犬遭之而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”公曰：“使子修史，万卷未已也。”曰：“内翰云何？”公曰：“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逸马杀犬于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”相与一笑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国维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间词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说，宋祁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木兰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东城渐觉风光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的“绿杨烟外晓寒轻，红杏枝头春意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下句著一“闹”字，而境界全出。张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仙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声持酒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的“沙上并禽池上暝，云破月来花弄影”的下句著一“弄”字而境界全出。你能说说这两个字妙在何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09"/>
          <p:cNvPicPr/>
          <p:nvPr/>
        </p:nvPicPr>
        <p:blipFill>
          <a:blip r:embed="rId1"/>
          <a:stretch/>
        </p:blipFill>
        <p:spPr>
          <a:xfrm>
            <a:off x="0" y="0"/>
            <a:ext cx="9586800" cy="7184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050560" y="4149720"/>
            <a:ext cx="396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朱  光  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332000" y="476280"/>
            <a:ext cx="5329080" cy="32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宋体"/>
              </a:rPr>
              <a:t>咬文嚼字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2803747597755"/>
          <p:cNvPicPr/>
          <p:nvPr/>
        </p:nvPicPr>
        <p:blipFill>
          <a:blip r:embed="rId1"/>
          <a:stretch/>
        </p:blipFill>
        <p:spPr>
          <a:xfrm>
            <a:off x="-181080" y="-316080"/>
            <a:ext cx="9639360" cy="7502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3348000" y="692280"/>
            <a:ext cx="57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本指过分推敲字句或在某些字句上纠缠，而不领会其精神实质，含有贬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作者在本文中赋予它新的意义，即提倡遣词造句“必须有一字不肯放松的谨严”，以求做到“思想情感和语言的精练与吻合”，使之“逐渐达到艺术的完美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24640" y="907920"/>
            <a:ext cx="18262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咬文嚼字的含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6c8feb3c95c49b6"/>
          <p:cNvPicPr/>
          <p:nvPr/>
        </p:nvPicPr>
        <p:blipFill>
          <a:blip r:embed="rId1"/>
          <a:stretch/>
        </p:blipFill>
        <p:spPr>
          <a:xfrm>
            <a:off x="-317520" y="1440"/>
            <a:ext cx="10147320" cy="7101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5481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朱光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897——1986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现代美学家、文艺理论家，笔名孟实、孟石，安徽桐城人。代表作有：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艺心理学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谈文学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西方美学史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。对中西文化都有很深的造诣，融贯中西，创立了自己的美学理论，在我国文学史和美学发展史上享有重要的地位，堪称一代宗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080116014040"/>
          <p:cNvPicPr/>
          <p:nvPr/>
        </p:nvPicPr>
        <p:blipFill>
          <a:blip r:embed="rId2"/>
          <a:stretch/>
        </p:blipFill>
        <p:spPr>
          <a:xfrm>
            <a:off x="5724360" y="765000"/>
            <a:ext cx="41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e"/>
          <p:cNvPicPr/>
          <p:nvPr/>
        </p:nvPicPr>
        <p:blipFill>
          <a:blip r:embed="rId1"/>
          <a:stretch/>
        </p:blipFill>
        <p:spPr>
          <a:xfrm>
            <a:off x="-757080" y="-674640"/>
            <a:ext cx="11001240" cy="7835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356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骨气的文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骨气的文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580840" y="3141720"/>
            <a:ext cx="95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革命家的风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革命家的风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48c8ff0a3e9de6e342acc59"/>
          <p:cNvPicPr/>
          <p:nvPr/>
        </p:nvPicPr>
        <p:blipFill>
          <a:blip r:embed="rId1"/>
          <a:stretch/>
        </p:blipFill>
        <p:spPr>
          <a:xfrm>
            <a:off x="-237960" y="-372960"/>
            <a:ext cx="9918360" cy="7599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8661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郭沫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012000" y="333360"/>
            <a:ext cx="194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道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43280" y="1197000"/>
            <a:ext cx="396108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式不同情感不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398174502054983628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656640" cy="717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68360" y="765000"/>
            <a:ext cx="90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广射虎一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广出猎，见草中石，以为虎而射之，中石没镞，视之，石也。因复更射之，终不能复入石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92200" y="3198960"/>
            <a:ext cx="880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代文学家王若虚，将其改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为虎而射之，没镞，既知其为石，因更复射，终不能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改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尝见草中有虎，射之，没镞。视之，石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48c8ff0a3e9de6e342acc59"/>
          <p:cNvPicPr/>
          <p:nvPr/>
        </p:nvPicPr>
        <p:blipFill>
          <a:blip r:embed="rId1"/>
          <a:stretch/>
        </p:blipFill>
        <p:spPr>
          <a:xfrm>
            <a:off x="-237960" y="-372960"/>
            <a:ext cx="9918360" cy="759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8661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郭沫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若虚改《史记》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12000" y="333360"/>
            <a:ext cx="194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道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43280" y="1197000"/>
            <a:ext cx="396108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式不同情感不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不同情境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93b6960f75ac6138032696a22ca60e3"/>
          <p:cNvPicPr/>
          <p:nvPr/>
        </p:nvPicPr>
        <p:blipFill>
          <a:blip r:embed="rId1"/>
          <a:stretch/>
        </p:blipFill>
        <p:spPr>
          <a:xfrm>
            <a:off x="0" y="-1041480"/>
            <a:ext cx="9344160" cy="7899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68360" y="9079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贾岛初赴举，在京师。一日于驴上得句云：“鸟宿池边树，僧敲月下门。”又欲“推”字，炼之未定，于驴上吟哦，引手作推敲之势，观者讶之。时韩退之权京兆尹，车骑方出，岛不觉行至第三节，尚为手势未已。俄为左右拥至尹前。岛具对所得诗句，“推”字与“敲”字未定，神游象外，不知回避。退之立马久之，谓岛曰：“‘敲’字佳。”遂并辔而归，共论诗道，留连累日，因与岛为布衣之交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3:31:40Z</dcterms:created>
  <dc:creator>Administrator</dc:creator>
  <dc:description/>
  <cp:keywords/>
  <dc:language>en-US</dc:language>
  <cp:lastModifiedBy>Administrator</cp:lastModifiedBy>
  <cp:lastPrinted>1899-12-30T00:00:00Z</cp:lastPrinted>
  <dcterms:modified xsi:type="dcterms:W3CDTF">2013-10-06T06:50:15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