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type.wav" ContentType="audio/x-wav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384-2E20-4546-ACD8-FCC94FB3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E86-9CD2-4F4C-B2AE-744696AF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8FB-C9EE-4D08-8D53-689E1B79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7EB-F5DE-4A8F-BB51-2AEE7F66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D652-3B0A-4645-898E-D8EC06C2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B3AB-A31A-4427-9584-7466547A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6C0C-1D24-47E7-A37D-7542C5A0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38EE-9D2C-4B21-8777-E8AB1C0D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46BE-9669-4B5F-80CC-16A09041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DF2D-39E9-4560-A413-891C8042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83D6-4408-4B74-93AD-B84C122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CF2-91D9-473F-BE64-0D6711E5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579F-503B-4028-9682-D912728E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8AE6-0DA3-4A34-BA2A-DEAE531F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62AB-1C6E-4362-9730-05D874BD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3B89-F5B0-4C70-9A76-63EB7C9C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04DE-1AD4-4D8C-851E-8F7D7299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B41-7CB9-425B-8FE0-111DC127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E74-63A8-43E7-B616-C0739F47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255-D420-496F-A983-CA708C59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9C8-92B0-4C36-9A2B-C737650B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B83-0BD0-4E52-853B-F72EC94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93D-15A4-4EEF-8D56-513FA6FF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B6F-00A2-45DE-9D84-2F5B2D0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5D5F-158C-49BE-AFAB-AE1D7A6A9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0806-F421-4068-A5CF-ED14A17BF5E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1828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Picture 5" descr="U10242P434T20D134942F1037DT20140505174904"/>
          <p:cNvPicPr/>
          <p:nvPr/>
        </p:nvPicPr>
        <p:blipFill>
          <a:blip r:embed="rId1"/>
          <a:stretch/>
        </p:blipFill>
        <p:spPr>
          <a:xfrm>
            <a:off x="115920" y="1676520"/>
            <a:ext cx="3084480" cy="3816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905120" y="5486400"/>
            <a:ext cx="7010280" cy="914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湖北省襄阳市襄州区第六中学 陶春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52280" y="4572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人教版语文必修五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en-US" sz="4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第三单元第八课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122080" y="28954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黑体"/>
                <a:ea typeface="黑体"/>
              </a:rPr>
              <a:t>咬文嚼字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8101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套语滥调，全无新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50920" y="266760"/>
            <a:ext cx="88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套板反应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05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260280"/>
            <a:ext cx="8893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个肌肤微丰，合中身材，腮凝新荔，鼻腻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鹅脂，温柔沉默，观之可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个削肩细腰，长挑身材，鸭蛋脸面，俊眼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修眉，顾盼神飞，文彩精华，见之忘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个身量未足，形容尚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楼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4191120"/>
            <a:ext cx="8664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c31d19"/>
                </a:solidFill>
                <a:latin typeface="Arial"/>
              </a:rPr>
              <a:t>浑写一笔更妙，必个个写去则板矣。可笑近之小说中有一百女子，皆是如花似玉，一副脸面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31d19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c31d19"/>
                </a:solidFill>
                <a:latin typeface="Arial"/>
              </a:rPr>
              <a:t>脂砚斋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朱光潜2"/>
          <p:cNvPicPr/>
          <p:nvPr/>
        </p:nvPicPr>
        <p:blipFill>
          <a:blip r:embed="rId1"/>
          <a:stretch/>
        </p:blipFill>
        <p:spPr>
          <a:xfrm>
            <a:off x="4932360" y="620640"/>
            <a:ext cx="4141800" cy="5518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08000" y="117360"/>
            <a:ext cx="482436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朱光潜：</a:t>
            </a: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1897-1986)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代美学家、文艺理论家，笔名孟实、孟石，安徽桐城人。代表作有《文艺心理学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诗论》《</a:t>
            </a:r>
            <a:r>
              <a:rPr b="1" lang="zh-CN" sz="3200" spc="-1" strike="noStrike">
                <a:solidFill>
                  <a:srgbClr val="d41708"/>
                </a:solidFill>
                <a:latin typeface="宋体"/>
              </a:rPr>
              <a:t>谈美书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》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西方美学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第一部系统论述西方美学历史的著作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1066680"/>
            <a:ext cx="21114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郭老改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李广射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贾岛吟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苏轼写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套板反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7093080" y="2779560"/>
            <a:ext cx="457200" cy="1081080"/>
          </a:xfrm>
          <a:prstGeom prst="downArrow">
            <a:avLst>
              <a:gd name="adj1" fmla="val 50000"/>
              <a:gd name="adj2" fmla="val 5911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50920" y="115920"/>
            <a:ext cx="88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、总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64000" y="1125360"/>
            <a:ext cx="358920" cy="2448000"/>
          </a:xfrm>
          <a:custGeom>
            <a:avLst/>
            <a:gdLst>
              <a:gd name="textAreaLeft" fmla="*/ 0 w 358920"/>
              <a:gd name="textAreaRight" fmla="*/ 129600 w 3589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09"/>
                </a:lnTo>
                <a:cubicBezTo>
                  <a:pt x="10800" y="9709"/>
                  <a:pt x="16200" y="10609"/>
                  <a:pt x="21600" y="10609"/>
                </a:cubicBezTo>
                <a:cubicBezTo>
                  <a:pt x="16200" y="10609"/>
                  <a:pt x="10800" y="11509"/>
                  <a:pt x="10800" y="124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715000" y="19810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咬文嚼字的重要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653080" y="4076640"/>
            <a:ext cx="647640" cy="180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谨严精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53080" y="4038480"/>
            <a:ext cx="648000" cy="180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留心玩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7467480" y="4038480"/>
            <a:ext cx="648000" cy="180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刻苦自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305920" y="4038480"/>
            <a:ext cx="647640" cy="180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陈翻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39640" y="4508640"/>
            <a:ext cx="3745080" cy="122400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31d19"/>
                </a:solidFill>
                <a:latin typeface="Times New Roman"/>
              </a:rPr>
              <a:t>艺术的完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356000" y="4941720"/>
            <a:ext cx="1152720" cy="360360"/>
          </a:xfrm>
          <a:prstGeom prst="leftArrow">
            <a:avLst>
              <a:gd name="adj1" fmla="val 50000"/>
              <a:gd name="adj2" fmla="val 7997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057400" y="1066680"/>
            <a:ext cx="39546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1d19"/>
                </a:solidFill>
                <a:latin typeface="Arial"/>
                <a:ea typeface="黑体"/>
              </a:rPr>
              <a:t>：句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同</a:t>
            </a:r>
            <a:r>
              <a:rPr b="1" lang="zh-CN" sz="2800" spc="-1" strike="noStrike">
                <a:solidFill>
                  <a:srgbClr val="c31d19"/>
                </a:solidFill>
                <a:latin typeface="Arial"/>
                <a:ea typeface="黑体"/>
              </a:rPr>
              <a:t>感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1d19"/>
                </a:solidFill>
                <a:latin typeface="Arial"/>
                <a:ea typeface="黑体"/>
              </a:rPr>
              <a:t>：字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同</a:t>
            </a:r>
            <a:r>
              <a:rPr b="1" lang="zh-CN" sz="2800" spc="-1" strike="noStrike">
                <a:solidFill>
                  <a:srgbClr val="c31d19"/>
                </a:solidFill>
                <a:latin typeface="Arial"/>
                <a:ea typeface="黑体"/>
              </a:rPr>
              <a:t>意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1d19"/>
                </a:solidFill>
                <a:latin typeface="Arial"/>
                <a:ea typeface="黑体"/>
              </a:rPr>
              <a:t>：字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同</a:t>
            </a:r>
            <a:r>
              <a:rPr b="1" lang="zh-CN" sz="2800" spc="-1" strike="noStrike">
                <a:solidFill>
                  <a:srgbClr val="c31d19"/>
                </a:solidFill>
                <a:latin typeface="Arial"/>
                <a:ea typeface="黑体"/>
              </a:rPr>
              <a:t>意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1d19"/>
                </a:solidFill>
                <a:latin typeface="Arial"/>
                <a:ea typeface="黑体"/>
              </a:rPr>
              <a:t>：联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同</a:t>
            </a:r>
            <a:r>
              <a:rPr b="1" lang="zh-CN" sz="2800" spc="-1" strike="noStrike">
                <a:solidFill>
                  <a:srgbClr val="c31d19"/>
                </a:solidFill>
                <a:latin typeface="Arial"/>
                <a:ea typeface="黑体"/>
              </a:rPr>
              <a:t>意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1d19"/>
                </a:solidFill>
                <a:latin typeface="Arial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套语滥调毫无新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79280" y="260280"/>
            <a:ext cx="871380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1d19"/>
                </a:solidFill>
                <a:latin typeface="Arial"/>
              </a:rPr>
              <a:t>怎样才能成为一名伟大作家</a:t>
            </a:r>
            <a:r>
              <a:rPr b="1" lang="en-US" sz="3600" spc="-1" strike="noStrike">
                <a:solidFill>
                  <a:srgbClr val="c31d19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要明白，无论你所要讲的是什么，真正能够表现它的句子只有一句，真正适用的动词和形容词也只有一个，就是那最准确的一句，最准确的一个动词和形容词。其他类似的却很多。而你必须把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唯一的句子、唯一的动词、唯一的形容词找出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福楼拜教育其学生莫泊桑如是说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957480" y="3595680"/>
            <a:ext cx="5186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那绝不仅仅是一个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0920" y="4149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词，而是你的思想和感情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七 拓展练习：扩展语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求：扩展后的句子抒发主人公欢快的心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早晨，太阳 发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芒，树上的鸟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叫着，树下的流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流向远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260280"/>
            <a:ext cx="23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板书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050920" y="404640"/>
            <a:ext cx="4969080" cy="68580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2b47"/>
                </a:solidFill>
                <a:latin typeface="Times New Roman"/>
              </a:rPr>
              <a:t>咬文嚼字的重要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771640" y="5516640"/>
            <a:ext cx="3673440" cy="720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2b47"/>
                </a:solidFill>
                <a:latin typeface="Times New Roman"/>
              </a:rPr>
              <a:t>艺术的完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258920" y="17002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11280" y="1628640"/>
            <a:ext cx="648000" cy="180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09f3"/>
                </a:solidFill>
                <a:latin typeface="Times New Roman"/>
              </a:rPr>
              <a:t>谨严精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637080" y="1628640"/>
            <a:ext cx="647640" cy="180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09f3"/>
                </a:solidFill>
                <a:latin typeface="Times New Roman"/>
              </a:rPr>
              <a:t>留心玩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859280" y="1628640"/>
            <a:ext cx="647640" cy="180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09f3"/>
                </a:solidFill>
                <a:latin typeface="Times New Roman"/>
              </a:rPr>
              <a:t>刻苦自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6156360" y="1628640"/>
            <a:ext cx="647640" cy="180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09f3"/>
                </a:solidFill>
                <a:latin typeface="Times New Roman"/>
              </a:rPr>
              <a:t>推陈翻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1042920" y="4076640"/>
            <a:ext cx="7056360" cy="720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2b47"/>
                </a:solidFill>
                <a:latin typeface="Times New Roman"/>
              </a:rPr>
              <a:t>思想情感和语言的精练与互相吻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AutoShape 11"/>
          <p:cNvSpPr/>
          <p:nvPr/>
        </p:nvSpPr>
        <p:spPr>
          <a:xfrm rot="10800000">
            <a:off x="4356000" y="4855680"/>
            <a:ext cx="417600" cy="660600"/>
          </a:xfrm>
          <a:prstGeom prst="upArrow">
            <a:avLst>
              <a:gd name="adj1" fmla="val 50000"/>
              <a:gd name="adj2" fmla="val 39547"/>
            </a:avLst>
          </a:prstGeom>
          <a:solidFill>
            <a:srgbClr val="fc2ae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AutoShape 12"/>
          <p:cNvSpPr/>
          <p:nvPr/>
        </p:nvSpPr>
        <p:spPr>
          <a:xfrm rot="10800000">
            <a:off x="4358880" y="3428640"/>
            <a:ext cx="360360" cy="647640"/>
          </a:xfrm>
          <a:prstGeom prst="upArrow">
            <a:avLst>
              <a:gd name="adj1" fmla="val 50000"/>
              <a:gd name="adj2" fmla="val 44930"/>
            </a:avLst>
          </a:prstGeom>
          <a:solidFill>
            <a:srgbClr val="fc2ae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 rot="10800000">
            <a:off x="4356000" y="1096920"/>
            <a:ext cx="457200" cy="673200"/>
          </a:xfrm>
          <a:prstGeom prst="upArrow">
            <a:avLst>
              <a:gd name="adj1" fmla="val 50000"/>
              <a:gd name="adj2" fmla="val 36811"/>
            </a:avLst>
          </a:prstGeom>
          <a:solidFill>
            <a:srgbClr val="fc2ae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859280" y="11239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方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4788000" y="34862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要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859280" y="47815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目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2340000" y="1844640"/>
            <a:ext cx="49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2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6"/>
                    </a:gs>
                  </a:gsLst>
                  <a:lin ang="5400000"/>
                </a:gradFill>
                <a:latin typeface="宋体"/>
              </a:rPr>
              <a:t>谢谢大家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咬文嚼字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0880" y="914400"/>
            <a:ext cx="84963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Verdana"/>
              </a:rPr>
              <a:t>A.</a:t>
            </a:r>
            <a:r>
              <a:rPr b="1" lang="zh-CN" sz="3600" spc="-1" strike="noStrike">
                <a:solidFill>
                  <a:srgbClr val="007a77"/>
                </a:solidFill>
                <a:latin typeface="Verdana"/>
              </a:rPr>
              <a:t>过分地斟酌字句（多用来指死扣字眼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Verdana"/>
              </a:rPr>
              <a:t>而不注重实质内容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Verdana"/>
              </a:rPr>
              <a:t>B.</a:t>
            </a:r>
            <a:r>
              <a:rPr b="1" lang="zh-CN" sz="3600" spc="-1" strike="noStrike">
                <a:solidFill>
                  <a:srgbClr val="007a77"/>
                </a:solidFill>
                <a:latin typeface="Verdana"/>
              </a:rPr>
              <a:t>形容卖弄才学。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Verdana"/>
              </a:rPr>
              <a:t>C.</a:t>
            </a:r>
            <a:r>
              <a:rPr b="1" lang="zh-CN" sz="3600" spc="-1" strike="noStrike">
                <a:solidFill>
                  <a:srgbClr val="007a77"/>
                </a:solidFill>
                <a:latin typeface="Verdana"/>
              </a:rPr>
              <a:t>形容强词夺理或狡辩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3581280"/>
            <a:ext cx="87487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文学，无论阅读或写作，我们必须有一字不肯放松的谨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咬文嚼字，在表面上像只是斟酌文字的分量，在实际上就是调整思想和情感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482920" y="105732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郭老改字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482920" y="183024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李广射虎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482920" y="26035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贾岛吟诗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482920" y="33764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4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苏轼写诗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413080" y="414972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5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套板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50920" y="115920"/>
            <a:ext cx="88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板书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yiziqianjin_01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1943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547640" y="1628640"/>
            <a:ext cx="654552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是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没有骨气的文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是没有骨气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耻的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文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没有骨气的文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698920" y="234792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5435640" y="321156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5867280" y="3209760"/>
            <a:ext cx="1447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698920" y="414828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6299280" y="3209760"/>
            <a:ext cx="14436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52280" y="152280"/>
            <a:ext cx="65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41708"/>
                </a:solidFill>
                <a:latin typeface="Arial"/>
              </a:rPr>
              <a:t>一、郭老改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378240" y="4648320"/>
            <a:ext cx="445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华文隶书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句式不同，感情不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0920" y="115920"/>
            <a:ext cx="6985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41708"/>
                </a:solidFill>
                <a:latin typeface="Arial"/>
              </a:rPr>
              <a:t>句式不同，感情不同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3520" y="990720"/>
            <a:ext cx="8424720" cy="34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鲁迅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祝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祥林嫂，你放着罢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放着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祥林嫂 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xunjiantu"/>
          <p:cNvPicPr/>
          <p:nvPr/>
        </p:nvPicPr>
        <p:blipFill>
          <a:blip r:embed="rId1">
            <a:grayscl/>
          </a:blip>
          <a:stretch/>
        </p:blipFill>
        <p:spPr>
          <a:xfrm>
            <a:off x="5724360" y="0"/>
            <a:ext cx="3419640" cy="2590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50920" y="1268280"/>
            <a:ext cx="8893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广出猎，见草中石，以为虎而射之，中石没镞，视之，石也。射之，终不能复入石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0920" y="266760"/>
            <a:ext cx="65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31d19"/>
                </a:solidFill>
                <a:latin typeface="Arial"/>
              </a:rPr>
              <a:t>二、李广射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495960" y="4797360"/>
            <a:ext cx="445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隶书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字数不同，意味不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16000" y="3789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尝见草中有虎，射之，没镞。视之，石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2492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以为虎而射之，没镞，既知其为石，因更复射，终不能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24000" y="2492280"/>
            <a:ext cx="8640720" cy="20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2b47"/>
                </a:solidFill>
                <a:latin typeface="Arial"/>
              </a:rPr>
              <a:t>改后失去了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现错误而惊讶的意味；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望而放弃得很斩截的意味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79280" y="1341360"/>
            <a:ext cx="468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雷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中的称呼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A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鲁四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B.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四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C.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50920" y="115920"/>
            <a:ext cx="6985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数不同，意味不同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716360" y="1325520"/>
            <a:ext cx="4680000" cy="43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黑体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月夜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787920" y="1133640"/>
            <a:ext cx="51051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鸟宿池边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僧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推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月下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266760"/>
            <a:ext cx="88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41708"/>
                </a:solidFill>
                <a:latin typeface="Arial"/>
              </a:rPr>
              <a:t>三、贾岛吟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454560" y="5029200"/>
            <a:ext cx="44506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隶书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字眼不同，意境不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" name="Picture 4" descr="news20071810454">
            <a:hlinkClick r:id="rId2" action="ppaction://hlinksldjump"/>
          </p:cNvPr>
          <p:cNvPicPr/>
          <p:nvPr/>
        </p:nvPicPr>
        <p:blipFill>
          <a:blip r:embed="rId3"/>
          <a:srcRect l="1079" t="0" r="21584" b="0"/>
          <a:stretch/>
        </p:blipFill>
        <p:spPr>
          <a:xfrm>
            <a:off x="0" y="1125360"/>
            <a:ext cx="4284720" cy="39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180_G_1399762197185"/>
          <p:cNvPicPr/>
          <p:nvPr/>
        </p:nvPicPr>
        <p:blipFill>
          <a:blip r:embed="rId1"/>
          <a:stretch/>
        </p:blipFill>
        <p:spPr>
          <a:xfrm>
            <a:off x="0" y="3068640"/>
            <a:ext cx="3276720" cy="3467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3924360" y="981000"/>
            <a:ext cx="191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4920" y="1052640"/>
            <a:ext cx="9145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苏轼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独携小龙团，来试惠山泉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独携天上小团月，来试人间第二泉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0920" y="266760"/>
            <a:ext cx="88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41708"/>
                </a:solidFill>
                <a:latin typeface="Arial"/>
              </a:rPr>
              <a:t>四、苏轼写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55640" y="6237360"/>
            <a:ext cx="1943280" cy="5814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小龙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093080" y="6278400"/>
            <a:ext cx="1439640" cy="5814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小团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3203640" y="11253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联想不同，意蕴不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9" name="Picture 9" descr="u=910102696,4204177723&amp;fm=23&amp;gp=0"/>
          <p:cNvPicPr/>
          <p:nvPr/>
        </p:nvPicPr>
        <p:blipFill>
          <a:blip r:embed="rId2"/>
          <a:stretch/>
        </p:blipFill>
        <p:spPr>
          <a:xfrm>
            <a:off x="6048360" y="3044880"/>
            <a:ext cx="3095640" cy="319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u=1176353918,743972813&amp;fm=23&amp;gp=0"/>
          <p:cNvPicPr/>
          <p:nvPr/>
        </p:nvPicPr>
        <p:blipFill>
          <a:blip r:embed="rId3"/>
          <a:stretch/>
        </p:blipFill>
        <p:spPr>
          <a:xfrm>
            <a:off x="0" y="306864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u=2896901181,2515329708&amp;fm=23&amp;gp=0"/>
          <p:cNvPicPr/>
          <p:nvPr/>
        </p:nvPicPr>
        <p:blipFill>
          <a:blip r:embed="rId4"/>
          <a:stretch/>
        </p:blipFill>
        <p:spPr>
          <a:xfrm>
            <a:off x="3276720" y="3068640"/>
            <a:ext cx="2771640" cy="3168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2"/>
          <p:cNvSpPr/>
          <p:nvPr/>
        </p:nvSpPr>
        <p:spPr>
          <a:xfrm>
            <a:off x="3708360" y="6253200"/>
            <a:ext cx="2376360" cy="5814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清沁肺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492360" y="3933720"/>
            <a:ext cx="237672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清沁肺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4" name="Picture 14" descr="u38606217_13402bf0cbdg214"/>
          <p:cNvPicPr/>
          <p:nvPr/>
        </p:nvPicPr>
        <p:blipFill>
          <a:blip r:embed="rId5"/>
          <a:stretch/>
        </p:blipFill>
        <p:spPr>
          <a:xfrm>
            <a:off x="0" y="2997360"/>
            <a:ext cx="914400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24T05:20:51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