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jpeg" ContentType="image/jpeg"/>
  <Override PartName="/ppt/media/explode.wav" ContentType="audio/x-wav"/>
  <Override PartName="/ppt/media/image7.jpeg" ContentType="image/jpeg"/>
  <Override PartName="/ppt/media/image5.jpeg" ContentType="image/jpeg"/>
  <Override PartName="/ppt/media/image4.jpeg" ContentType="image/jpeg"/>
  <Override PartName="/ppt/media/suction.wav" ContentType="audio/x-wav"/>
  <Override PartName="/ppt/media/hammer.wav" ContentType="audio/x-wav"/>
  <Override PartName="/ppt/media/image6.jpeg" ContentType="image/jpeg"/>
  <Override PartName="/ppt/media/image10.png" ContentType="image/png"/>
  <Override PartName="/ppt/media/image3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click.wav" ContentType="audio/x-wav"/>
  <Override PartName="/ppt/media/image17.jpeg" ContentType="image/jpeg"/>
  <Override PartName="/ppt/media/image16.jpeg" ContentType="image/jpeg"/>
  <Override PartName="/ppt/media/image15.jpeg" ContentType="image/jpeg"/>
  <Override PartName="/ppt/media/image12.png" ContentType="image/png"/>
  <Override PartName="/ppt/media/image20.jpeg" ContentType="image/jpeg"/>
  <Override PartName="/ppt/media/image14.jpeg" ContentType="image/jpeg"/>
  <Override PartName="/ppt/media/image13.jpeg" ContentType="image/jpeg"/>
  <Override PartName="/ppt/media/image1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EE9D-4DAC-4129-A2E4-9395A9197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71B8-7510-4488-8B3C-D6872108C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2997-6A6E-4E84-9148-A49B7922E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8365-3B8E-416F-A023-000253884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4EA5-AE9A-4DAA-9DBC-59EA08AFF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B717-25BE-4E2B-A4E6-10AF5F504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7B01-D1F2-4B31-8182-4CB7ACFD5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2377-F6B2-41AD-80AB-AF8F8F2D2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B40D-B0E5-4414-AACA-E71386CFE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AE61-14E0-43FA-91A3-068B40F7D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BD21-98BD-4668-ADB4-32C970DF5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D888-68F4-4934-902B-E5A72B405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D1813-90B3-4384-8BC0-D5B14E7E11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uction.wav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12"/>
          <p:cNvPicPr/>
          <p:nvPr/>
        </p:nvPicPr>
        <p:blipFill>
          <a:blip r:embed="rId2"/>
          <a:stretch/>
        </p:blipFill>
        <p:spPr>
          <a:xfrm>
            <a:off x="0" y="357120"/>
            <a:ext cx="9144000" cy="650088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2209680" y="5257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539640" y="620640"/>
            <a:ext cx="6172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  <a:ea typeface="华文琥珀"/>
              </a:rPr>
              <a:t>12</a:t>
            </a:r>
            <a:r>
              <a:rPr b="0" lang="zh-CN" sz="6600" spc="-1" strike="noStrike">
                <a:solidFill>
                  <a:srgbClr val="ffffff"/>
                </a:solidFill>
                <a:latin typeface="Arial"/>
                <a:ea typeface="华文琥珀"/>
              </a:rPr>
              <a:t>、夜晚的实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785520" y="1071720"/>
            <a:ext cx="764388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带着心中的疑问轻声朗读课文，读准字音，把句 子读通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用简洁的语言概括课文的主要内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D:\myfiles\My Pictures\u=40855965,30803726&amp;fm=52&amp;gp=0.jpg"/>
          <p:cNvPicPr/>
          <p:nvPr/>
        </p:nvPicPr>
        <p:blipFill>
          <a:blip r:embed="rId2"/>
          <a:stretch/>
        </p:blipFill>
        <p:spPr>
          <a:xfrm>
            <a:off x="785880" y="714240"/>
            <a:ext cx="7715160" cy="50007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135080" y="803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认识蝙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785520" y="1752120"/>
            <a:ext cx="74293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带着心中的疑问轻声朗读课文，读准字音，把句 子读通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用简洁的语言概括课文的主要内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D:\myfiles\My Pictures\u=2896006111,2591900019&amp;fm=52&amp;gp=0.jpg"/>
          <p:cNvPicPr/>
          <p:nvPr/>
        </p:nvPicPr>
        <p:blipFill>
          <a:blip r:embed="rId2"/>
          <a:stretch/>
        </p:blipFill>
        <p:spPr>
          <a:xfrm>
            <a:off x="857160" y="928800"/>
            <a:ext cx="757260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http://baike.baidu.com/view/17933.htm"/>
          <p:cNvPicPr/>
          <p:nvPr/>
        </p:nvPicPr>
        <p:blipFill>
          <a:blip r:embed="rId2"/>
          <a:stretch/>
        </p:blipFill>
        <p:spPr>
          <a:xfrm>
            <a:off x="533520" y="685800"/>
            <a:ext cx="4267080" cy="25146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蝙蝠图片"/>
          <p:cNvPicPr/>
          <p:nvPr/>
        </p:nvPicPr>
        <p:blipFill>
          <a:blip r:embed="rId3"/>
          <a:stretch/>
        </p:blipFill>
        <p:spPr>
          <a:xfrm>
            <a:off x="4876920" y="685800"/>
            <a:ext cx="3624120" cy="5410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20080104093826401"/>
          <p:cNvPicPr/>
          <p:nvPr/>
        </p:nvPicPr>
        <p:blipFill>
          <a:blip r:embed="rId4"/>
          <a:stretch/>
        </p:blipFill>
        <p:spPr>
          <a:xfrm>
            <a:off x="533520" y="3352680"/>
            <a:ext cx="41907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968480" y="620640"/>
            <a:ext cx="5054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读第一自然段，思考：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什么现象引起了斯帕拉捷的好奇？他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怎么想的？你从中体会到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26920" y="2708280"/>
            <a:ext cx="757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蝙蝠夜行，从来不会撞到墙上或树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32080" y="479736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细心观察、善于思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00000" y="3500280"/>
            <a:ext cx="73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蝙蝠凭什么特殊的本领在夜空中自由自在地飞行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39720" y="765000"/>
            <a:ext cx="774864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zh-CN" sz="4000" spc="-1" strike="noStrike">
                <a:solidFill>
                  <a:srgbClr val="ff0000"/>
                </a:solidFill>
                <a:latin typeface="Arial"/>
              </a:rPr>
              <a:t>自主探究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r02"/>
          <p:cNvPicPr/>
          <p:nvPr/>
        </p:nvPicPr>
        <p:blipFill>
          <a:blip r:embed="rId2"/>
          <a:stretch/>
        </p:blipFill>
        <p:spPr>
          <a:xfrm>
            <a:off x="7164360" y="3789360"/>
            <a:ext cx="1158840" cy="2166840"/>
          </a:xfrm>
          <a:prstGeom prst="rect">
            <a:avLst/>
          </a:prstGeom>
          <a:ln w="0">
            <a:noFill/>
          </a:ln>
        </p:spPr>
      </p:pic>
      <p:sp>
        <p:nvSpPr>
          <p:cNvPr id="93" name="WordArt 5"/>
          <p:cNvSpPr txBox="1"/>
          <p:nvPr/>
        </p:nvSpPr>
        <p:spPr>
          <a:xfrm rot="234000">
            <a:off x="7093080" y="3068280"/>
            <a:ext cx="1224000" cy="55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78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？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4" name=""/>
          <p:cNvSpPr/>
          <p:nvPr/>
        </p:nvSpPr>
        <p:spPr>
          <a:xfrm>
            <a:off x="2048040" y="1628640"/>
            <a:ext cx="48513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读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—6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节，讨论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为了揭开疑问，斯帕拉捷做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几次实验？分别是怎么做的？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果如何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斯帕拉捷为什么要一次一次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进行实验？谈谈你的体会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480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默读课文，思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84360" y="907560"/>
            <a:ext cx="7651440" cy="9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斯帕拉捷共做了几次实验？分别是怎样做的？结果怎样？小组讨论完成表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4114800" y="4800600"/>
            <a:ext cx="6629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2286000" y="548640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1280" y="1844640"/>
          <a:ext cx="8128080" cy="4127400"/>
        </p:xfrm>
        <a:graphic>
          <a:graphicData uri="http://schemas.openxmlformats.org/drawingml/2006/table">
            <a:tbl>
              <a:tblPr/>
              <a:tblGrid>
                <a:gridCol w="791280"/>
                <a:gridCol w="1509840"/>
                <a:gridCol w="1798560"/>
                <a:gridCol w="1871280"/>
                <a:gridCol w="1941480"/>
                <a:gridCol w="216000"/>
              </a:tblGrid>
              <a:tr h="933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次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做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结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结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9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第一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9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第二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第三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7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第四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0" name="Text Box 93"/>
          <p:cNvSpPr/>
          <p:nvPr/>
        </p:nvSpPr>
        <p:spPr>
          <a:xfrm>
            <a:off x="3059280" y="2997360"/>
            <a:ext cx="16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蒙住眼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94"/>
          <p:cNvSpPr/>
          <p:nvPr/>
        </p:nvSpPr>
        <p:spPr>
          <a:xfrm>
            <a:off x="4932360" y="2924280"/>
            <a:ext cx="148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轻盈敏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5"/>
          <p:cNvSpPr/>
          <p:nvPr/>
        </p:nvSpPr>
        <p:spPr>
          <a:xfrm>
            <a:off x="6732720" y="2997360"/>
            <a:ext cx="18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是靠眼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97"/>
          <p:cNvSpPr/>
          <p:nvPr/>
        </p:nvSpPr>
        <p:spPr>
          <a:xfrm>
            <a:off x="3132000" y="3716280"/>
            <a:ext cx="142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堵住鼻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98"/>
          <p:cNvSpPr/>
          <p:nvPr/>
        </p:nvSpPr>
        <p:spPr>
          <a:xfrm>
            <a:off x="5076720" y="3716280"/>
            <a:ext cx="141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敏捷轻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9"/>
          <p:cNvSpPr/>
          <p:nvPr/>
        </p:nvSpPr>
        <p:spPr>
          <a:xfrm>
            <a:off x="6804000" y="371628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是靠鼻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0"/>
          <p:cNvSpPr/>
          <p:nvPr/>
        </p:nvSpPr>
        <p:spPr>
          <a:xfrm>
            <a:off x="1476360" y="4365720"/>
            <a:ext cx="15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靠翅膀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01"/>
          <p:cNvSpPr/>
          <p:nvPr/>
        </p:nvSpPr>
        <p:spPr>
          <a:xfrm>
            <a:off x="3059280" y="4365720"/>
            <a:ext cx="16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涂满油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02"/>
          <p:cNvSpPr/>
          <p:nvPr/>
        </p:nvSpPr>
        <p:spPr>
          <a:xfrm>
            <a:off x="5003640" y="4365720"/>
            <a:ext cx="15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没有影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03"/>
          <p:cNvSpPr/>
          <p:nvPr/>
        </p:nvSpPr>
        <p:spPr>
          <a:xfrm>
            <a:off x="6804000" y="436572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是靠翅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4"/>
          <p:cNvSpPr/>
          <p:nvPr/>
        </p:nvSpPr>
        <p:spPr>
          <a:xfrm>
            <a:off x="1403280" y="5229360"/>
            <a:ext cx="163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靠耳朵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05"/>
          <p:cNvSpPr/>
          <p:nvPr/>
        </p:nvSpPr>
        <p:spPr>
          <a:xfrm>
            <a:off x="3059280" y="5229360"/>
            <a:ext cx="165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堵住耳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06"/>
          <p:cNvSpPr/>
          <p:nvPr/>
        </p:nvSpPr>
        <p:spPr>
          <a:xfrm>
            <a:off x="4932360" y="5157720"/>
            <a:ext cx="16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东碰西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7"/>
          <p:cNvSpPr/>
          <p:nvPr/>
        </p:nvSpPr>
        <p:spPr>
          <a:xfrm>
            <a:off x="7188120" y="590868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08"/>
          <p:cNvSpPr/>
          <p:nvPr/>
        </p:nvSpPr>
        <p:spPr>
          <a:xfrm>
            <a:off x="6588000" y="5157720"/>
            <a:ext cx="202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原来是靠听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19280" y="21337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目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47640" y="292428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靠眼睛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11480" y="325116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476360" y="371628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靠鼻子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250920" y="3790440"/>
            <a:ext cx="8461440" cy="6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1116000" y="980640"/>
            <a:ext cx="7059600" cy="20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啊！蝙蝠在夜间飞行，捕捉食物，原来是靠听觉来辨别方向、确认目标的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1042920" y="3645000"/>
            <a:ext cx="684216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这句话用了两个感叹号，你从中体会到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小学语文(记叙文）03"/>
          <p:cNvPicPr/>
          <p:nvPr/>
        </p:nvPicPr>
        <p:blipFill>
          <a:blip r:embed="rId2"/>
          <a:stretch/>
        </p:blipFill>
        <p:spPr>
          <a:xfrm>
            <a:off x="297000" y="98280"/>
            <a:ext cx="1739880" cy="473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529440" y="4653000"/>
            <a:ext cx="334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斯帕拉捷为自己的发现</a:t>
            </a:r>
            <a:r>
              <a:rPr b="1" lang="zh-CN" sz="2800" spc="-1" strike="noStrike" u="sng">
                <a:solidFill>
                  <a:srgbClr val="d60093"/>
                </a:solidFill>
                <a:uFillTx/>
                <a:latin typeface="Arial"/>
              </a:rPr>
              <a:t>无比激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心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928440" y="765000"/>
            <a:ext cx="7429320" cy="523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斯帕拉捷是个怎样的科学家？你能用几个词语来概括吗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细心观察   善于思考   坚持不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大胆实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WordArt 5"/>
          <p:cNvSpPr txBox="1"/>
          <p:nvPr/>
        </p:nvSpPr>
        <p:spPr>
          <a:xfrm rot="234000">
            <a:off x="6946920" y="2398320"/>
            <a:ext cx="1224000" cy="55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78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？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26" name="Picture 3" descr="r02"/>
          <p:cNvPicPr/>
          <p:nvPr/>
        </p:nvPicPr>
        <p:blipFill>
          <a:blip r:embed="rId2"/>
          <a:stretch/>
        </p:blipFill>
        <p:spPr>
          <a:xfrm>
            <a:off x="7072200" y="3286080"/>
            <a:ext cx="1158840" cy="21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833120" y="836640"/>
            <a:ext cx="5264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找出文中描写斯帕拉捷的猜想的句子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谈谈你的体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4360" y="2133720"/>
            <a:ext cx="77040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个现象引起了他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好奇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蝙蝠凭什么特殊的本领在夜空中自由自在地飞行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斯帕拉捷很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奇怪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不用眼睛，蝙蝠凭什么来辨别前方的物体，捕捉灵活的飞蛾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难道它薄膜似的翅膀，不仅能够飞翔，而且能在夜间洞察一切吗？”斯帕拉捷这样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猜想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善于思考  大胆猜想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879480" y="73188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120400" y="2319480"/>
            <a:ext cx="5033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蝙蝠的耳朵又怎么能“穿透”黑夜，“听”到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有声音的物体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3348000" y="620640"/>
            <a:ext cx="5400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意大利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著名的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博物学家、生理学家和实验生理学家。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的蝙蝠实验，为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超声波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研究提供了理论基础，此外，还是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火山学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奠基者之一。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99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因无尿症与世长辞，终年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。斯帕拉捷把他的一生连同一部分遗体都献给了科学事业。根据遗嘱，其有病的膀胱献给了帕维亚自然博物馆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684360" y="4221000"/>
            <a:ext cx="2519280" cy="17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斯帕拉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（意大利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bd7faf35f01755c5a71e1219"/>
          <p:cNvPicPr/>
          <p:nvPr/>
        </p:nvPicPr>
        <p:blipFill>
          <a:blip r:embed="rId2"/>
          <a:stretch/>
        </p:blipFill>
        <p:spPr>
          <a:xfrm>
            <a:off x="684360" y="907920"/>
            <a:ext cx="237492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9280" y="620640"/>
            <a:ext cx="8209080" cy="489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默读课文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8~9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自然段：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1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同桌间说说蝙蝠夜行的奥秘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2.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巨大的恩惠”指什么？用直线在文中画出相关语句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读了这篇文章，你受到什么启发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826920" y="2637000"/>
            <a:ext cx="6840720" cy="249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528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8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9"/>
          <p:cNvSpPr/>
          <p:nvPr/>
        </p:nvSpPr>
        <p:spPr>
          <a:xfrm>
            <a:off x="4716360" y="486900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超声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0"/>
          <p:cNvSpPr/>
          <p:nvPr/>
        </p:nvSpPr>
        <p:spPr>
          <a:xfrm flipH="1">
            <a:off x="3276360" y="51577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1"/>
          <p:cNvSpPr/>
          <p:nvPr/>
        </p:nvSpPr>
        <p:spPr>
          <a:xfrm>
            <a:off x="3564000" y="515772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2"/>
          <p:cNvSpPr/>
          <p:nvPr/>
        </p:nvSpPr>
        <p:spPr>
          <a:xfrm>
            <a:off x="3348000" y="5157720"/>
            <a:ext cx="1368360" cy="142920"/>
          </a:xfrm>
          <a:prstGeom prst="leftArrow">
            <a:avLst>
              <a:gd name="adj1" fmla="val 50000"/>
              <a:gd name="adj2" fmla="val 23935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8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280" y="620640"/>
            <a:ext cx="8209080" cy="489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755640" y="620280"/>
            <a:ext cx="7345440" cy="45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蝙蝠夜行“示意图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喉咙                              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蝙蝠                 （超声波）       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耳朵                              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5"/>
          <p:cNvSpPr/>
          <p:nvPr/>
        </p:nvSpPr>
        <p:spPr>
          <a:xfrm>
            <a:off x="3132000" y="2924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6"/>
          <p:cNvSpPr/>
          <p:nvPr/>
        </p:nvSpPr>
        <p:spPr>
          <a:xfrm>
            <a:off x="3276720" y="3284640"/>
            <a:ext cx="309564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7"/>
          <p:cNvSpPr/>
          <p:nvPr/>
        </p:nvSpPr>
        <p:spPr>
          <a:xfrm>
            <a:off x="3348000" y="2060640"/>
            <a:ext cx="302436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632720" cy="576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现在，人们利用超声波来为飞机、轮船导航以及寻找地下的矿藏。超声波就像一位无声的功臣，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广泛地应用于工业、农业、医疗和军事等领域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斯帕拉捷怎么也不会想到，自己的实验，会给人类带来如此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巨大的恩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" descr="5"/>
          <p:cNvPicPr/>
          <p:nvPr/>
        </p:nvPicPr>
        <p:blipFill>
          <a:blip r:embed="rId2"/>
          <a:stretch/>
        </p:blipFill>
        <p:spPr>
          <a:xfrm>
            <a:off x="684360" y="476280"/>
            <a:ext cx="6553080" cy="30844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彩色B超"/>
          <p:cNvPicPr/>
          <p:nvPr/>
        </p:nvPicPr>
        <p:blipFill>
          <a:blip r:embed="rId3"/>
          <a:stretch/>
        </p:blipFill>
        <p:spPr>
          <a:xfrm>
            <a:off x="2411280" y="3429000"/>
            <a:ext cx="2708280" cy="241452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 flipH="1">
            <a:off x="6477120" y="533520"/>
            <a:ext cx="21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汽车倒车雷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6248520" y="47242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彩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超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1912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超声波探测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20060723005202554"/>
          <p:cNvPicPr/>
          <p:nvPr/>
        </p:nvPicPr>
        <p:blipFill>
          <a:blip r:embed="rId2"/>
          <a:srcRect l="0" t="3839" r="0" b="8985"/>
          <a:stretch/>
        </p:blipFill>
        <p:spPr>
          <a:xfrm>
            <a:off x="468360" y="1341360"/>
            <a:ext cx="82803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938960" y="1484280"/>
            <a:ext cx="4843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中心：本文生动记叙了意大利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学家斯帕拉捷通过多次夜晚的实验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终于揭开蝙蝠飞行秘密的经过，展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了科学家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仔细观察、善于思考、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胆实验、造福人类的精神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6"/>
          <p:cNvSpPr/>
          <p:nvPr/>
        </p:nvSpPr>
        <p:spPr>
          <a:xfrm>
            <a:off x="324000" y="3933720"/>
            <a:ext cx="79200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我们要从平常的小事中学会观察、善于思考、勤于钻研，将来投身到科学研究中去，用自己的聪明才智造福于人类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157120" y="1268280"/>
            <a:ext cx="481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斯帕拉捷为什么能够揭开蝙蝠夜行的秘密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对你有什么启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4360" y="2421000"/>
            <a:ext cx="779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因为他对事物有浓厚的兴趣，细心观察，善于思考，不断实验，勇于探索，坚持不懈，所以能揭开蝙蝠夜行的秘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971640" y="76500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课后习题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10920" y="4797000"/>
            <a:ext cx="77785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蝙蝠的耳朵又怎么能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穿透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黑夜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听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到没有声音的物体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574200" y="0"/>
            <a:ext cx="80298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双引号的作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表示直接引用。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表示有特殊含义。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表示讽刺或否定。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表示着重指出的对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9"/>
          <p:cNvSpPr/>
          <p:nvPr/>
        </p:nvSpPr>
        <p:spPr>
          <a:xfrm>
            <a:off x="900000" y="184464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难道它薄膜似的翅膀，不仅能够飞翔，而且能在夜间洞察一切吗？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斯帕拉捷这样猜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0"/>
          <p:cNvSpPr/>
          <p:nvPr/>
        </p:nvSpPr>
        <p:spPr>
          <a:xfrm>
            <a:off x="1042920" y="335772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原来，蝙蝠靠喉咙发出人耳听不到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超声波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2"/>
          <p:cNvSpPr/>
          <p:nvPr/>
        </p:nvSpPr>
        <p:spPr>
          <a:xfrm>
            <a:off x="5219640" y="278136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表示直接引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3"/>
          <p:cNvSpPr/>
          <p:nvPr/>
        </p:nvSpPr>
        <p:spPr>
          <a:xfrm>
            <a:off x="4356000" y="400536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表示着重指出的对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5076720" y="544500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表示有特殊含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8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8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夜空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566200" cy="489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拓展延伸：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仿生学知识：</a:t>
            </a: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从蜻蜓身上发明飞机</a:t>
            </a: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从鱼鳍身上发明木桨</a:t>
            </a: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从鱼的沉浮身上发明潜水艇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922120" y="1773360"/>
            <a:ext cx="68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为什么选择夜晚实验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30240" y="3068640"/>
            <a:ext cx="68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夜晚的实验内容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81120" y="4221000"/>
            <a:ext cx="68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实验的结果如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6602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看题质疑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10" descr="52f7d2167c44d410c83d6d62"/>
          <p:cNvPicPr/>
          <p:nvPr/>
        </p:nvPicPr>
        <p:blipFill>
          <a:blip r:embed="rId2"/>
          <a:srcRect l="0" t="17042" r="0" b="0"/>
          <a:stretch/>
        </p:blipFill>
        <p:spPr>
          <a:xfrm>
            <a:off x="285840" y="357120"/>
            <a:ext cx="864396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D:\myfiles\My Pictures\1rhxgj57w1de.jpg"/>
          <p:cNvPicPr/>
          <p:nvPr/>
        </p:nvPicPr>
        <p:blipFill>
          <a:blip r:embed="rId2"/>
          <a:stretch/>
        </p:blipFill>
        <p:spPr>
          <a:xfrm>
            <a:off x="1214280" y="928800"/>
            <a:ext cx="657252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D:\myfiles\My Pictures\82tggj57zjwk.jpg"/>
          <p:cNvPicPr/>
          <p:nvPr/>
        </p:nvPicPr>
        <p:blipFill>
          <a:blip r:embed="rId2"/>
          <a:stretch/>
        </p:blipFill>
        <p:spPr>
          <a:xfrm>
            <a:off x="857160" y="785880"/>
            <a:ext cx="735804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D:\myfiles\My Pictures\uvkjgj57x28m.jpg"/>
          <p:cNvPicPr/>
          <p:nvPr/>
        </p:nvPicPr>
        <p:blipFill>
          <a:blip r:embed="rId2"/>
          <a:stretch/>
        </p:blipFill>
        <p:spPr>
          <a:xfrm>
            <a:off x="1071720" y="857160"/>
            <a:ext cx="685800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3" descr="D:\myfiles\My Pictures\2sr5gj57wacf.jpg"/>
          <p:cNvPicPr/>
          <p:nvPr/>
        </p:nvPicPr>
        <p:blipFill>
          <a:blip r:embed="rId2"/>
          <a:stretch/>
        </p:blipFill>
        <p:spPr>
          <a:xfrm>
            <a:off x="571680" y="785880"/>
            <a:ext cx="778644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409400" y="765000"/>
            <a:ext cx="167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知道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40040" y="765000"/>
            <a:ext cx="213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医疗上的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超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81880" y="148428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航海中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雷达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08360" y="14842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144320" y="1484280"/>
            <a:ext cx="213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汽车上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导航仪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32720" y="1484280"/>
            <a:ext cx="180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都运用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33040" y="21337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超声波技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3360" y="475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初读指导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6560" y="1752480"/>
            <a:ext cx="738828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带着心中的疑问轻声朗读课文，读准字音，把句 子读通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自学生字词语；按实验的起因、经过、结果给课文分段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用</a:t>
            </a:r>
            <a:r>
              <a:rPr b="1" lang="zh-CN" sz="3600" spc="-1" strike="noStrike">
                <a:solidFill>
                  <a:srgbClr val="d60093"/>
                </a:solidFill>
                <a:latin typeface="Arial"/>
              </a:rPr>
              <a:t>简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语言概括课文的主要内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620280"/>
            <a:ext cx="820872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我来读：</a:t>
            </a:r>
            <a:br>
              <a:rPr sz="4800"/>
            </a:b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bi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ān  f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ú        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à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i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蝙     蝠    障碍物   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自由自在    轻盈敏捷     洞察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轻巧自如    超声波         领域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755640" y="1484280"/>
            <a:ext cx="633564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辨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识）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（墙</a:t>
            </a:r>
            <a:r>
              <a:rPr b="1" lang="zh-CN" sz="4000" spc="-1" strike="noStrike">
                <a:solidFill>
                  <a:srgbClr val="d60093"/>
                </a:solidFill>
                <a:latin typeface="Arial"/>
                <a:ea typeface="楷体_GB2312"/>
              </a:rPr>
              <a:t>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辩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辩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论）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璧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璧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玉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辫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辫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子）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避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（躲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避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瓣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花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瓣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900000" y="836640"/>
            <a:ext cx="1513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形近字组词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5"/>
          <p:cNvSpPr/>
          <p:nvPr/>
        </p:nvSpPr>
        <p:spPr>
          <a:xfrm>
            <a:off x="3635280" y="3933720"/>
            <a:ext cx="50720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矿藏  埋藏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3564000" y="4724280"/>
            <a:ext cx="3600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宝藏  西藏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2268360" y="3933720"/>
            <a:ext cx="1872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cán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2268360" y="4653000"/>
            <a:ext cx="2214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zàn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19280" y="4221000"/>
            <a:ext cx="360360" cy="1008360"/>
          </a:xfrm>
          <a:custGeom>
            <a:avLst/>
            <a:gdLst>
              <a:gd name="textAreaLeft" fmla="*/ 230400 w 360360"/>
              <a:gd name="textAreaRight" fmla="*/ 360720 w 36036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26080" y="43657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2987640" y="1268280"/>
            <a:ext cx="51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单薄  轻薄  薄弱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3132000" y="1916280"/>
            <a:ext cx="36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薄荷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3203640" y="292428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薄饼  薄纸  薄膜 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2195640" y="119700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b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2195640" y="198900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b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2195640" y="2997360"/>
            <a:ext cx="115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4000" spc="-1" strike="noStrike">
                <a:solidFill>
                  <a:srgbClr val="ff0000"/>
                </a:solidFill>
                <a:latin typeface="宋体"/>
              </a:rPr>
              <a:t>á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76360" y="1413000"/>
            <a:ext cx="574560" cy="2160360"/>
          </a:xfrm>
          <a:custGeom>
            <a:avLst/>
            <a:gdLst>
              <a:gd name="textAreaLeft" fmla="*/ 367200 w 574560"/>
              <a:gd name="textAreaRight" fmla="*/ 574920 w 574560"/>
              <a:gd name="textAreaTop" fmla="*/ 56160 h 2160360"/>
              <a:gd name="textAreaBottom" fmla="*/ 2104200 h 21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83160" y="21337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755640" y="549360"/>
            <a:ext cx="16574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多音字组词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224360" y="6602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我会写段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86440" y="1403280"/>
            <a:ext cx="442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一段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：蝙蝠灵活地在夜空中飞行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起了斯帕拉捷的好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012760" y="2556000"/>
            <a:ext cx="513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二段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—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：写斯帕拉捷通过多次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验终于弄清了蝙蝠夜间飞行是靠听觉来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别方向、确认目标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888920" y="4076640"/>
            <a:ext cx="513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三段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—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：写斯帕拉捷的实验引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了人们对超声波的研究，从而给人类带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了巨大的恩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8"/>
          <p:cNvSpPr/>
          <p:nvPr/>
        </p:nvSpPr>
        <p:spPr>
          <a:xfrm>
            <a:off x="684360" y="620640"/>
            <a:ext cx="78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、课文主要讲了一件什么事？   （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提示：人物、干什么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539640" y="1989000"/>
            <a:ext cx="8971200" cy="32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808080"/>
                </a:solidFill>
                <a:latin typeface="黑体"/>
                <a:ea typeface="黑体"/>
              </a:rPr>
              <a:t>记叙了意大利科学家斯帕拉捷通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8080"/>
                </a:solidFill>
                <a:latin typeface="黑体"/>
                <a:ea typeface="黑体"/>
              </a:rPr>
              <a:t>多次夜晚的实验，终于揭开了蝙蝠飞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8080"/>
                </a:solidFill>
                <a:latin typeface="黑体"/>
                <a:ea typeface="黑体"/>
              </a:rPr>
              <a:t>的秘密的经过。这一实验结果后来给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8080"/>
                </a:solidFill>
                <a:latin typeface="黑体"/>
                <a:ea typeface="黑体"/>
              </a:rPr>
              <a:t>类带来了巨大的恩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8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0T06:51:33Z</dcterms:created>
  <dc:creator>Administrators</dc:creator>
  <dc:description/>
  <dc:language>en-US</dc:language>
  <cp:lastModifiedBy>lnkj</cp:lastModifiedBy>
  <dcterms:modified xsi:type="dcterms:W3CDTF">2013-04-08T02:25:18Z</dcterms:modified>
  <cp:revision>94</cp:revision>
  <dc:subject/>
  <dc:title>幻灯片 1</dc:title>
</cp:coreProperties>
</file>