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D55-0AB9-4133-B0FA-C6DE83CB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249-C52F-40B4-9927-C5E70CF7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0B80-B4F4-4963-AB96-5F4232BE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1F5-483F-4C3A-9FB1-93FACC5B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9C4F-F4D0-4EE7-95A5-935722F0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D995-77F9-4B0D-A42D-A94232E9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C2A6-6606-4BCE-A42A-BD43A0B7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451F-2E88-4C88-811B-7DEA9C29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044A-48BD-489F-B8C6-C8025AA3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C78B-9A7B-43FD-828F-A312F052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2004-76B1-45DF-AD5B-AF63B6D5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4C6-5F93-41A2-B0A0-978F168C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A091-68E3-45DC-8D44-B81844E4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AEB7-2686-455A-8257-BC4CD781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57C5-20C4-4F2D-ADA2-C865ACE3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96FE-255D-4D6E-8DD6-51BC46E4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852C-DE82-47C8-B581-F8AA7580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AD34A-5206-45EB-BB91-67321546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0C4AA-20C0-467D-9BEB-0DD34831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F5ADD-F2D4-452F-9943-F561758F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51BDE-7F9E-408A-853B-636BE486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9AF74-E20E-421A-8B81-63EA8A58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A86E-A5B2-4299-A42F-FC0ADA9C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E55D2-2AFF-49B2-BA1D-4C5B22F8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6136E-8181-4110-875A-002A81B5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671C2-4D8F-4322-85BB-AD8A0FE5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FFE47-6B93-43A5-996F-79310B62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776E6-7C94-4E28-9449-1742C897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AEC4F-5F0A-4867-ADBC-FE73C2C1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86F5D-D8D6-439A-88E3-F8FE37E2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6E6-8602-4986-9FD9-9B64713D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A1F-8190-4FE5-9818-2C0FBB00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F7F-E497-47AF-88E5-47E46863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7DD3-D7C6-4830-964F-945AF6BA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E45-0CE6-423C-9766-C756BBDB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370-610B-4533-B259-66929DE4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E30E-B9F1-4462-B520-9D3B3C1AE5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5AD9-150D-415B-A7B5-2EFED8A3BD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0AD7-A839-4C55-BB7C-89643BC99A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../WINDOWS/Desktop/&#34649;&#34656;&#19982;&#38647;&#36798;.swf" TargetMode="External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file:///../Local%20Settings/WINDOWS/Desktop/&#34649;&#34656;&#19982;&#38647;&#36798;.swf" TargetMode="External"/><Relationship Id="rId5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2360" y="2205000"/>
            <a:ext cx="6408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夜晚的实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956720" y="476280"/>
            <a:ext cx="707760" cy="708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85080" y="1052640"/>
            <a:ext cx="708120" cy="707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971640" y="692280"/>
            <a:ext cx="707760" cy="707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8172360" y="69228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148360" y="558972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华文行楷"/>
              </a:rPr>
              <a:t>庙子镇上庄小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华文行楷"/>
              </a:rPr>
              <a:t>执教：牛立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50920" y="3790440"/>
            <a:ext cx="84614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296640" y="728280"/>
            <a:ext cx="8621640" cy="2009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啊！蝙蝠在夜间飞行，捕捉食物，原来是靠听觉来辨别方向、确认目标的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9360" y="3294000"/>
            <a:ext cx="859464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这句话用了两个感叹号，你从中体会到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97000" y="98280"/>
            <a:ext cx="173988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蝙蝠的耳朵又怎么能“穿透”黑夜，“听”到没有声音的物体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97000" y="1538280"/>
            <a:ext cx="70866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蝙蝠在夜间飞行的秘密是从喉咙发出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这种声音沿着直线传播，一碰到物体就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回来，蝙蝠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接受到这种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，就能迅速作出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灵巧地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82000" y="5094360"/>
            <a:ext cx="94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236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填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37360" y="3968640"/>
            <a:ext cx="94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97000" y="1538280"/>
            <a:ext cx="70866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蝙蝠在夜间飞行的秘密是从喉咙发出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这种声音沿着直线传播，一碰到物体就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回来，蝙蝠用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接受到这种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，就能迅速作出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灵巧地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82000" y="5094360"/>
            <a:ext cx="94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2360" y="2124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超声波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02000" y="33847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反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93080" y="33847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耳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76640" y="40147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超声波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1640" y="4643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判  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67000" y="54990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由飞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37000" y="5499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捕捉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236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填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37360" y="3968640"/>
            <a:ext cx="94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287360" y="2708280"/>
            <a:ext cx="68040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听到声音的音调高低，是由声音的频率决定的。频率越高，音调也越高。但当高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万赫兹以上，人就听不到了。通常把人耳听不到的高频声波称为超声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来，蝙蝠靠喉咙发出人耳听不到的“超声波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6629400" cy="5943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467480" y="5867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6576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438280" y="3581280"/>
            <a:ext cx="3581640" cy="3276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28960" y="32767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3505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俄罗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-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预警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6400" y="3733920"/>
            <a:ext cx="911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自动清洗机干燥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438280" y="3505320"/>
            <a:ext cx="3505320" cy="31240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477120" y="533520"/>
            <a:ext cx="21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汽车倒车雷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彩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超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962000" y="2033640"/>
            <a:ext cx="52578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了这个故事，你受到什么启发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692360" y="2925720"/>
            <a:ext cx="5904000" cy="1511280"/>
            <a:chOff x="1692360" y="2925720"/>
            <a:chExt cx="5904000" cy="1511280"/>
          </a:xfrm>
        </p:grpSpPr>
        <p:sp>
          <p:nvSpPr>
            <p:cNvPr id="238" name=""/>
            <p:cNvSpPr/>
            <p:nvPr/>
          </p:nvSpPr>
          <p:spPr>
            <a:xfrm>
              <a:off x="1908360" y="2925720"/>
              <a:ext cx="5688000" cy="15112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92360" y="3070080"/>
              <a:ext cx="58323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2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要注意观察，对一些现象进行思考，要勇于探索。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送你一句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凡是较有成就的科学工作者，毫无例外地都是利用时间的能手，也都是决心在大量时间中投入大量劳动的人。 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——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华罗庚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10920" y="3213000"/>
            <a:ext cx="82803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这个现象引起了他的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好奇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：蝙蝠凭什么特殊的本领在夜空中自由自在的飞行呢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63640" y="907920"/>
            <a:ext cx="78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斯帕拉捷（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729—1799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是意大利著名的博物学家、生理学家和实验生理学家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101080" y="2492280"/>
            <a:ext cx="708120" cy="708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0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68000" y="404280"/>
            <a:ext cx="83516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80"/>
                </a:solidFill>
                <a:latin typeface="Times New Roman"/>
              </a:rPr>
              <a:t>作业：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Times New Roman"/>
              </a:rPr>
              <a:t>1.</a:t>
            </a:r>
            <a:r>
              <a:rPr b="0" lang="zh-CN" sz="4800" spc="-1" strike="noStrike">
                <a:solidFill>
                  <a:srgbClr val="ff0066"/>
                </a:solidFill>
                <a:latin typeface="Times New Roman"/>
              </a:rPr>
              <a:t>搜集超声波在生活中的广泛应用的实例。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0" lang="zh-CN" sz="4800" spc="-1" strike="noStrike">
                <a:solidFill>
                  <a:srgbClr val="ff0066"/>
                </a:solidFill>
                <a:latin typeface="Times New Roman"/>
              </a:rPr>
              <a:t>阅读、交流科学家的 故事。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77360" y="1496880"/>
            <a:ext cx="850428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斯帕拉捷是怎样做这个实验的？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斯帕拉捷是个怎样的科学家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自读课文第一段，填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33520" y="1752480"/>
            <a:ext cx="7924680" cy="4114440"/>
            <a:chOff x="533520" y="1752480"/>
            <a:chExt cx="7924680" cy="4114440"/>
          </a:xfrm>
        </p:grpSpPr>
        <p:sp>
          <p:nvSpPr>
            <p:cNvPr id="137" name=""/>
            <p:cNvSpPr/>
            <p:nvPr/>
          </p:nvSpPr>
          <p:spPr>
            <a:xfrm>
              <a:off x="533520" y="1752480"/>
              <a:ext cx="777240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0" lang="zh-CN" sz="4000" spc="-1" strike="noStrike">
                  <a:solidFill>
                    <a:srgbClr val="000000"/>
                  </a:solidFill>
                  <a:latin typeface="宋体"/>
                </a:rPr>
                <a:t>斯帕拉捷                                时，常常看到                                          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</a:rPr>
                <a:t>现象，产生好奇：</a:t>
              </a:r>
              <a:r>
                <a:rPr b="0" lang="zh-CN" sz="4000" spc="-1" strike="noStrike" u="sng">
                  <a:solidFill>
                    <a:srgbClr val="000000"/>
                  </a:solidFill>
                  <a:uFillTx/>
                  <a:latin typeface="宋体"/>
                </a:rPr>
                <a:t>                                   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10240" y="237312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33920" y="299484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96040" y="485784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840" y="586692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3848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59880" y="51314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235080"/>
            <a:ext cx="207936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自读课文第一段，填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33520" y="1752480"/>
            <a:ext cx="7924680" cy="4114440"/>
            <a:chOff x="533520" y="1752480"/>
            <a:chExt cx="7924680" cy="4114440"/>
          </a:xfrm>
        </p:grpSpPr>
        <p:sp>
          <p:nvSpPr>
            <p:cNvPr id="147" name=""/>
            <p:cNvSpPr/>
            <p:nvPr/>
          </p:nvSpPr>
          <p:spPr>
            <a:xfrm>
              <a:off x="533520" y="1752480"/>
              <a:ext cx="777240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0" lang="zh-CN" sz="4000" spc="-1" strike="noStrike">
                  <a:solidFill>
                    <a:srgbClr val="000000"/>
                  </a:solidFill>
                  <a:latin typeface="宋体"/>
                </a:rPr>
                <a:t>斯帕拉捷                                时，常常看到                                          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宋体"/>
                </a:rPr>
                <a:t>现象，产生好奇：</a:t>
              </a:r>
              <a:r>
                <a:rPr b="0" lang="zh-CN" sz="4000" spc="-1" strike="noStrike" u="sng">
                  <a:solidFill>
                    <a:srgbClr val="000000"/>
                  </a:solidFill>
                  <a:uFillTx/>
                  <a:latin typeface="宋体"/>
                </a:rPr>
                <a:t>                                   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10240" y="237312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299484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6040" y="485784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840" y="586692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2120" y="3848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9880" y="51314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191120" y="1944720"/>
            <a:ext cx="40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附近的街道上散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66680" y="2514600"/>
            <a:ext cx="6763320" cy="1221840"/>
            <a:chOff x="1066680" y="2514600"/>
            <a:chExt cx="6763320" cy="1221840"/>
          </a:xfrm>
        </p:grpSpPr>
        <p:sp>
          <p:nvSpPr>
            <p:cNvPr id="156" name=""/>
            <p:cNvSpPr/>
            <p:nvPr/>
          </p:nvSpPr>
          <p:spPr>
            <a:xfrm>
              <a:off x="4723200" y="2514600"/>
              <a:ext cx="310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很多蝙蝠灵活地在夜空中飞来飞去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66680" y="327672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却从不会撞到树上或者墙壁上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733400" y="4267080"/>
            <a:ext cx="5619960" cy="1450440"/>
            <a:chOff x="1733400" y="4267080"/>
            <a:chExt cx="5619960" cy="1450440"/>
          </a:xfrm>
        </p:grpSpPr>
        <p:sp>
          <p:nvSpPr>
            <p:cNvPr id="159" name=""/>
            <p:cNvSpPr/>
            <p:nvPr/>
          </p:nvSpPr>
          <p:spPr>
            <a:xfrm>
              <a:off x="5343840" y="426708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蝙蝠凭什么特殊的本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33400" y="52578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在夜空中自由自在地飞行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0920" y="235080"/>
            <a:ext cx="207936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斯帕拉捷身上什么地方值得我们学习？从哪里看出来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06280" y="2124000"/>
            <a:ext cx="66150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观察细致，对常见现象敏感，好奇心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1520" y="3070080"/>
            <a:ext cx="789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）他常常看到很多蝙蝠灵活地在夜空中飞来飞去，却从不会撞到树上或者墙壁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）蝙蝠凭什么特殊的本领在夜空中自由自在地飞行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31640" y="190440"/>
            <a:ext cx="1889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07720" y="55440"/>
            <a:ext cx="648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默读课文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~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然段，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63440" y="914040"/>
            <a:ext cx="8460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斯帕拉捷共做了几次实验？分别是怎样做的？结果怎样？小组讨论完成表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8006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54864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3080" y="1847880"/>
          <a:ext cx="8956800" cy="4863960"/>
        </p:xfrm>
        <a:graphic>
          <a:graphicData uri="http://schemas.openxmlformats.org/drawingml/2006/table">
            <a:tbl>
              <a:tblPr/>
              <a:tblGrid>
                <a:gridCol w="984240"/>
                <a:gridCol w="1870200"/>
                <a:gridCol w="1923840"/>
                <a:gridCol w="2087640"/>
                <a:gridCol w="2090880"/>
              </a:tblGrid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序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实验目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实验内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实验结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实验结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7188120" y="59086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235080"/>
            <a:ext cx="207936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07720" y="55440"/>
            <a:ext cx="648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默读课文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~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然段，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63440" y="914040"/>
            <a:ext cx="8460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斯帕拉捷共做了几次实验？分别是怎样做的？结果怎样？小组讨论完成表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48006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54864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3080" y="1847880"/>
          <a:ext cx="8956800" cy="4863960"/>
        </p:xfrm>
        <a:graphic>
          <a:graphicData uri="http://schemas.openxmlformats.org/drawingml/2006/table">
            <a:tbl>
              <a:tblPr/>
              <a:tblGrid>
                <a:gridCol w="984240"/>
                <a:gridCol w="1870200"/>
                <a:gridCol w="1923840"/>
                <a:gridCol w="2087640"/>
                <a:gridCol w="2090880"/>
              </a:tblGrid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序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实验目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实验内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实验结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实验结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1332000" y="302436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靠眼睛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30243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蒙住眼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11640" y="3024360"/>
            <a:ext cx="14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轻盈敏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47080" y="307008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不是靠眼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4014720"/>
            <a:ext cx="15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靠鼻子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49640" y="402588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堵住鼻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02360" y="4059360"/>
            <a:ext cx="14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敏捷轻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20080" y="4025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不是靠鼻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33440" y="491508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imes New Roman"/>
              </a:rPr>
              <a:t>靠翅膀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76640" y="491508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imes New Roman"/>
              </a:rPr>
              <a:t>涂满油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02360" y="491508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imes New Roman"/>
              </a:rPr>
              <a:t>没有影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0120" y="49150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imes New Roman"/>
              </a:rPr>
              <a:t>不是靠翅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32000" y="599436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靠耳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86280" y="599436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堵住耳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11640" y="599436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东碰西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599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56280" y="6035760"/>
            <a:ext cx="202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原来是靠听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50920" y="235080"/>
            <a:ext cx="207936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9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507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这个现象引起了他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好奇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：蝙蝠凭什么特殊的本领在夜空中自由自在地飞行呢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斯帕拉捷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奇怪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：不用眼睛，蝙蝠凭什么来辨别前方的物体，捕捉灵活的飞蛾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难道它薄膜似的翅膀，不仅能够飞翔，而且能在夜间洞察一切吗？”斯帕拉捷这样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猜想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充满好奇  善于思考  大胆猜想  坚持不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00:51:30Z</dcterms:created>
  <dc:creator>gbgs1</dc:creator>
  <dc:description/>
  <cp:keywords/>
  <dc:language>en-US</dc:language>
  <cp:lastModifiedBy>Lenovo User</cp:lastModifiedBy>
  <cp:lastPrinted>1899-12-30T00:00:00Z</cp:lastPrinted>
  <dcterms:modified xsi:type="dcterms:W3CDTF">2013-04-02T07:26:11Z</dcterms:modified>
  <cp:revision>31</cp:revision>
  <dc:subject/>
  <dc:title>7     夜晚的实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