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CA2-1200-4168-9256-237B499E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769-0023-4C9D-A59B-C0A45E44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201-2288-4AAF-BEFA-007739EA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061-9E8E-4774-9D0A-3383BBF4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B51-B215-4E11-8A60-9ECD255A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B8A-BC6C-4646-A369-CA342342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CF7-DB4C-4188-8DC8-A789F272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9B6-1550-4C23-AC57-AD453BAA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A25-FDC1-4A5D-8B4F-18021307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71B-2880-4433-ABFC-6EB1EA8D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233-FCA3-4BAD-A256-75D8D5DA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A4C-CAE7-48FD-B4C7-B6A2BF0E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F48B-BE37-4B8E-8B21-BB3B2E2E19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g160.com/gyinfo/prodcont-9891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51640" y="4221000"/>
            <a:ext cx="2700360" cy="203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Arial"/>
                <a:ea typeface="楷体_GB2312"/>
              </a:rPr>
              <a:t>夜晚的实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1052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苏教版 六年级 语文 下册 第四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雷 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31964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超声波洗衣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781360"/>
            <a:ext cx="32652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驱 蚊 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2331" b="10213"/>
          <a:stretch/>
        </p:blipFill>
        <p:spPr>
          <a:xfrm>
            <a:off x="2195640" y="1773360"/>
            <a:ext cx="446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3849" r="0" b="10257"/>
          <a:stretch/>
        </p:blipFill>
        <p:spPr>
          <a:xfrm>
            <a:off x="2268360" y="2349360"/>
            <a:ext cx="4967640" cy="3025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胎  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对微小事物的仔细观察，就是事业、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术、科学及生命各方面的成功秘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      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史迈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95280" y="260280"/>
            <a:ext cx="1800360" cy="1656000"/>
            <a:chOff x="395280" y="260280"/>
            <a:chExt cx="1800360" cy="16560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57644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95280" y="98100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名人名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8424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观察对于儿童之必不可少，正如阳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空气、水分对于植物之必不可少一样。在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里，观察是智慧的最重要的能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      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苏霍姆林斯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95280" y="260280"/>
            <a:ext cx="1800360" cy="1656000"/>
            <a:chOff x="395280" y="260280"/>
            <a:chExt cx="1800360" cy="1656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57644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5280" y="98100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名人名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观察与经验和谐地应用到生活上就是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      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冈察洛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95280" y="260280"/>
            <a:ext cx="1800360" cy="1656000"/>
            <a:chOff x="395280" y="260280"/>
            <a:chExt cx="1800360" cy="16560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57644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95280" y="98100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名人名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03640" y="2276640"/>
            <a:ext cx="3292560" cy="18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蝙蝠  障碍  辨识  辩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2114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08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现在，人们利用超声波来为飞机、轮船导航以及寻找地下的矿藏。超声波就像一位无声的功臣，广泛地应用于工业、农业、医疗和军事等领域。斯帕拉捷怎么也不会想到，自己的实验，会给人类带来如此巨大的恩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604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啊！蝙蝠在夜间飞行 ，捕捉食物，原来是靠听觉来辨别方向、确认目标的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超声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977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蝙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0418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原来，蝙蝠靠喉咙发出人耳听不到的“超声波”，这种声音沿着直线传播，一碰到物体就像光照到镜子上那样反射回来。蝙蝠用耳朵接收到这种“超声波”，就能迅速作出判断，灵巧地自由飞翔，捕捉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现在，人们利用超声波来为飞机、轮船导航以及寻找地下的矿藏。超声波就像一位无声的功臣，广泛地应用于工业、农业、医疗和军事等领域。斯帕拉捷怎么也不会想到，自己的实验，会给人类带来如此巨大的恩惠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声 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3839" r="0" b="8985"/>
          <a:stretch/>
        </p:blipFill>
        <p:spPr>
          <a:xfrm>
            <a:off x="1332000" y="2060640"/>
            <a:ext cx="69134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6:51:33Z</dcterms:created>
  <dc:creator>Administrators</dc:creator>
  <dc:description/>
  <dc:language>en-US</dc:language>
  <cp:lastModifiedBy>lcx0127</cp:lastModifiedBy>
  <dcterms:modified xsi:type="dcterms:W3CDTF">2001-12-31T17:00:17Z</dcterms:modified>
  <cp:revision>35</cp:revision>
  <dc:subject/>
  <dc:title>幻灯片 1</dc:title>
</cp:coreProperties>
</file>