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B98-D29E-4884-BA43-293A0687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20A-83A7-457B-B9D8-B49CE299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4B0-833B-46CE-8D8E-E649375A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D5F-8018-49AA-A53B-BEBB56C9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3975-0468-4B77-885F-281CB4A4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1B1-FC64-48D7-A0DA-9A0236E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05F-3D17-4CBF-8152-058C327A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5978-5951-4107-A254-1226E6E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32C2-64DD-43D2-853E-339F8674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08B9-75B1-4393-BED6-60352E1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FAD5-396B-4B39-8B74-B77C0F1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E5E-5F2E-4371-AED8-F4C5D27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0A55-0F3D-4AD9-BA56-FEE2AC5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B49-73F7-47B7-8CA8-91C02BA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6B1-D72B-47A7-9114-B7AC3DF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0B35-5D0E-4F7A-A5E3-D78BA454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BA5-17F4-4110-9921-698944ED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7832-AF7A-45A9-A6BB-33EED483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C603-7431-4CF7-BA0E-058489F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3922-C0E8-4609-8D1A-7028C68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47A8-96D8-4A92-9BCA-B6E8EECB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0D1A-AD20-4E94-9DEA-FAD3DC8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9ED-8F32-4BA9-837A-5C2FB79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7FA9-B5E2-401D-AC52-02849CE1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5A43-D279-4CC4-8123-723EA30A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9213-17E8-4DA3-AD62-6BF059F4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C3C3-7114-48D4-9664-868A2D27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CE3A-1D48-469C-908D-02DC34E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EA03-C503-4C10-87CE-5CE5919F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697A-2199-4DEB-9772-FBCF2236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F16-4A70-4752-886F-334E200A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541-309F-45ED-B440-92EBA17E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A28-AA86-4556-A014-C7786785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72C-9C7A-4D30-AA5B-AA691EF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6C3-0DE3-409C-A78E-F4AC531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0DB-F752-41D7-9B94-E25ADF3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CDDD-C678-42CC-8053-C87C4F8B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764F-0C15-48BD-AF42-8FEB207C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6FEB-22BC-4D92-B363-6D74CE1C5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../../../../WINDOWS/Desktop/&#34649;&#34656;&#19982;&#38647;&#36798;.swf" TargetMode="External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6891" t="11503" r="6055" b="0"/>
          <a:stretch/>
        </p:blipFill>
        <p:spPr>
          <a:xfrm>
            <a:off x="27000" y="144360"/>
            <a:ext cx="8999640" cy="6751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55800"/>
            <a:ext cx="792468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12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夜晚的实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1905120"/>
            <a:ext cx="739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当他看到放出去的几只蝙蝠轻盈敏捷地来回飞翔时，不由得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惊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起来。因为那几只蝙蝠，眼睛全被他蒙上了，都是“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瞎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1640" y="20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斯帕拉捷很奇怪：不用眼睛，蝙蝠凭什么来辨别前方的物体，捕捉灵活的飞蛾呢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720" y="3743280"/>
            <a:ext cx="907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这句话在结构上所起的作用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7398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50920" y="3790440"/>
            <a:ext cx="8461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6640" y="728280"/>
            <a:ext cx="8621640" cy="20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！蝙蝠在夜间飞行，捕捉食物，原来是靠听觉来辨别方向、确认目标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9360" y="3294000"/>
            <a:ext cx="85946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这句话用了两个感叹号，你从中体会到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7000" y="98280"/>
            <a:ext cx="173988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蝙蝠的耳朵又怎么能“穿透”黑夜，“听”到没有声音的物体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87360" y="2708280"/>
            <a:ext cx="68040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听到声音的音调高低，是由声音的频率决定的。频率越高，音调也越高。但当高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赫兹以上，人就听不到了。通常把人耳听不到的高频声波称为超声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来，蝙蝠靠喉咙发出人耳听不到的“超声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97000" y="1538280"/>
            <a:ext cx="7086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蝙蝠在夜间飞行的秘密是从喉咙发出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这种声音沿着直线传播，一碰到物体就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回来，蝙蝠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接受到这种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，就能迅速作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灵巧地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82000" y="5094360"/>
            <a:ext cx="94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23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37360" y="3968640"/>
            <a:ext cx="9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97000" y="1538280"/>
            <a:ext cx="7086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蝙蝠在夜间飞行的秘密是从喉咙发出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这种声音沿着直线传播，一碰到物体就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回来，蝙蝠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接受到这种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，就能迅速作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灵巧地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82000" y="5094360"/>
            <a:ext cx="94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2360" y="2124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超声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2000" y="33847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3384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耳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76640" y="4014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超声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4643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67000" y="54990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由飞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37000" y="5499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捕捉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23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7360" y="3968640"/>
            <a:ext cx="9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62940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67480" y="5867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350532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77120" y="53352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汽车倒车雷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彩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超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62000" y="2033640"/>
            <a:ext cx="5257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这个故事，你受到什么启发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92360" y="2925720"/>
            <a:ext cx="5904000" cy="1511280"/>
            <a:chOff x="1692360" y="2925720"/>
            <a:chExt cx="5904000" cy="1511280"/>
          </a:xfrm>
        </p:grpSpPr>
        <p:sp>
          <p:nvSpPr>
            <p:cNvPr id="227" name=""/>
            <p:cNvSpPr/>
            <p:nvPr/>
          </p:nvSpPr>
          <p:spPr>
            <a:xfrm>
              <a:off x="1908360" y="2925720"/>
              <a:ext cx="5688000" cy="15112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92360" y="3070080"/>
              <a:ext cx="5832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要注意观察，对一些现象进行思考，要勇于探索。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16840" y="2320920"/>
            <a:ext cx="55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蝙   蝠                        障    碍   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59960" y="2349360"/>
            <a:ext cx="58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ān  fú                     zhànɡ  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蝙   蝠                        障    碍   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7360" y="1496880"/>
            <a:ext cx="850428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斯帕拉捷是怎样做这个实验的？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斯帕拉捷是个怎样的科学家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读课文第一段，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1752480"/>
            <a:ext cx="7924680" cy="4114440"/>
            <a:chOff x="533520" y="1752480"/>
            <a:chExt cx="7924680" cy="4114440"/>
          </a:xfrm>
        </p:grpSpPr>
        <p:sp>
          <p:nvSpPr>
            <p:cNvPr id="130" name=""/>
            <p:cNvSpPr/>
            <p:nvPr/>
          </p:nvSpPr>
          <p:spPr>
            <a:xfrm>
              <a:off x="533520" y="1752480"/>
              <a:ext cx="777240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斯帕拉捷                                时，常常看到       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现象，产生好奇：</a:t>
              </a:r>
              <a:r>
                <a:rPr b="0" lang="zh-CN" sz="40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0240" y="23731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29948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6040" y="485784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840" y="58669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3848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59880" y="513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读课文第一段，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1752480"/>
            <a:ext cx="7924680" cy="4114440"/>
            <a:chOff x="533520" y="1752480"/>
            <a:chExt cx="7924680" cy="4114440"/>
          </a:xfrm>
        </p:grpSpPr>
        <p:sp>
          <p:nvSpPr>
            <p:cNvPr id="140" name=""/>
            <p:cNvSpPr/>
            <p:nvPr/>
          </p:nvSpPr>
          <p:spPr>
            <a:xfrm>
              <a:off x="533520" y="1752480"/>
              <a:ext cx="777240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斯帕拉捷                                时，常常看到       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现象，产生好奇：</a:t>
              </a:r>
              <a:r>
                <a:rPr b="0" lang="zh-CN" sz="40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0240" y="23731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29948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6040" y="485784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840" y="58669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3848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59880" y="513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191120" y="1944720"/>
            <a:ext cx="40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附近的街道上散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66680" y="2514600"/>
            <a:ext cx="6763320" cy="1221840"/>
            <a:chOff x="1066680" y="2514600"/>
            <a:chExt cx="6763320" cy="1221840"/>
          </a:xfrm>
        </p:grpSpPr>
        <p:sp>
          <p:nvSpPr>
            <p:cNvPr id="149" name=""/>
            <p:cNvSpPr/>
            <p:nvPr/>
          </p:nvSpPr>
          <p:spPr>
            <a:xfrm>
              <a:off x="4723200" y="251460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很多蝙蝠灵活地在夜空中飞来飞去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327672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却从不会撞到树上或者墙壁上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33400" y="4267080"/>
            <a:ext cx="5619960" cy="1450440"/>
            <a:chOff x="1733400" y="4267080"/>
            <a:chExt cx="5619960" cy="1450440"/>
          </a:xfrm>
        </p:grpSpPr>
        <p:sp>
          <p:nvSpPr>
            <p:cNvPr id="152" name=""/>
            <p:cNvSpPr/>
            <p:nvPr/>
          </p:nvSpPr>
          <p:spPr>
            <a:xfrm>
              <a:off x="5343840" y="42670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蝙蝠凭什么特殊的本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33400" y="52578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夜空中自由自在地飞行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斯帕拉捷身上什么地方值得我们学习？从哪里看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06280" y="2124000"/>
            <a:ext cx="66150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观察细致，对常见想象敏感，好奇心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1520" y="3070080"/>
            <a:ext cx="78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他常常看到很多蝙蝠灵活地在夜空中飞来飞去，却从不会撞到树上或者墙壁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蝙蝠凭什么特殊的本领在夜空中自由自在地飞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1640" y="190440"/>
            <a:ext cx="1889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07720" y="5544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课文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~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63440" y="914040"/>
            <a:ext cx="8460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斯帕拉捷共做了几次实验？分别是怎样做的？结果怎样？小组讨论完成表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00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486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3080" y="1847880"/>
          <a:ext cx="8956800" cy="4863960"/>
        </p:xfrm>
        <a:graphic>
          <a:graphicData uri="http://schemas.openxmlformats.org/drawingml/2006/table">
            <a:tbl>
              <a:tblPr/>
              <a:tblGrid>
                <a:gridCol w="984240"/>
                <a:gridCol w="1870200"/>
                <a:gridCol w="1923840"/>
                <a:gridCol w="2087640"/>
                <a:gridCol w="2090880"/>
              </a:tblGrid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7188120" y="5908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07720" y="5544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课文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~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3440" y="914040"/>
            <a:ext cx="8460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斯帕拉捷共做了几次实验？分别是怎样做的？结果怎样？小组讨论完成表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800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5486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3080" y="1847880"/>
          <a:ext cx="8956800" cy="4863960"/>
        </p:xfrm>
        <a:graphic>
          <a:graphicData uri="http://schemas.openxmlformats.org/drawingml/2006/table">
            <a:tbl>
              <a:tblPr/>
              <a:tblGrid>
                <a:gridCol w="984240"/>
                <a:gridCol w="1870200"/>
                <a:gridCol w="1923840"/>
                <a:gridCol w="2087640"/>
                <a:gridCol w="2090880"/>
              </a:tblGrid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32000" y="302436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靠眼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3024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蒙住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11640" y="302436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轻盈敏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47080" y="307008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不是靠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401472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靠鼻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49640" y="40258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堵住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02360" y="4059360"/>
            <a:ext cx="14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敏捷轻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20080" y="4025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不是靠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3440" y="491508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靠翅膀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76640" y="4915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涂满油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02360" y="49150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没有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0120" y="49150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不是靠翅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599436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靠耳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86280" y="5994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堵住耳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1640" y="59943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东碰西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599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56280" y="6035760"/>
            <a:ext cx="20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原来是靠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0:51:30Z</dcterms:created>
  <dc:creator>gbgs1</dc:creator>
  <dc:description>www.05wang.com</dc:description>
  <cp:keywords/>
  <dc:language>en-US</dc:language>
  <cp:lastModifiedBy>mstest</cp:lastModifiedBy>
  <cp:lastPrinted>1899-12-30T00:00:00Z</cp:lastPrinted>
  <dcterms:modified xsi:type="dcterms:W3CDTF">2005-03-08T14:26:04Z</dcterms:modified>
  <cp:revision>24</cp:revision>
  <dc:subject/>
  <dc:title>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