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5.png" ContentType="image/png"/>
  <Override PartName="/ppt/media/image10.jpeg" ContentType="image/jpeg"/>
  <Override PartName="/ppt/media/image8.jpeg" ContentType="image/jpeg"/>
  <Override PartName="/ppt/media/image6.png" ContentType="image/png"/>
  <Override PartName="/ppt/media/image7.jpeg" ContentType="image/jpeg"/>
  <Override PartName="/ppt/media/image12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5D049-1A9A-468C-81C2-AF34AC892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D8A47-F207-44C9-A898-925129FE5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F417D-97ED-40AB-B95E-B168CF6EF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6A110-F88E-4897-8D55-9D406EBC5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05A7A-053A-4C50-83B1-FDBFBD9A2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EFA1A-B87C-474D-86D8-99B1BBC1E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4F6BE-391E-4731-B40D-D870E01DD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CA00F-5693-471E-B717-F78C879C1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53059-2C3D-4DDC-B0FD-39841ED01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28575-247C-4C64-9335-2D913D46B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4EF26-CAAF-4E92-A993-52B333486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C8A30-F234-46BE-9784-5CAD79C30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3185C-84A7-4019-8898-897A26C29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2AD84-2A6E-43BF-910C-A69D76B70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68D4F-D99B-41EA-89F4-486A5E272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2BB44-7B3F-4BC8-BA77-F1BB703E6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F7D7F-ABBF-4163-A168-EF9C10F09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8D5A2F-2DEE-42B4-9801-8815FC56D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F824BA-FF0A-4F59-91B4-4CD7E8248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6B9AA3-759B-45A4-8589-02677E9CD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4D0D86-F20B-40BD-A7D8-5AF51B425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0C3410-88BA-4AC0-B042-A299661DE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CCC54-6F78-4D81-86F8-B262795A2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4485C0-A89A-44B6-A657-36FDE6056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DF2AB1-305D-47FD-BF50-6424C68D2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1B9F56-AF0F-4EA0-B93A-2A4FC76EA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73E03A-7EE9-4A4F-B1DF-B4F25ABDE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CDA99A-7D0B-49CE-824B-09F8C124F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D14FCB-72AC-4FF6-9EE6-4472E9C9E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65520C-7C14-4562-9A77-817330989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202E8-1EF5-4ECA-BDE0-EE069F8AF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FEF45-2B50-4D07-8B4E-EEA01F8F7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0217F-F386-4D34-B2BA-6A845EC4E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21D04-A470-401D-AD0E-76792D0DC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223F6-B294-4D33-9138-C92F960C1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97758-67BD-4713-BCF6-0CFC404D0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947B5-9DD3-4DDA-B505-19F0B123F7D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FCA24-5C5D-44E2-AEEB-4AED55D91B9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65AF1-413B-4A0C-99CD-9D88EC29D32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课题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渔父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》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版本：苏教版 必修五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课时：一课时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制作人：盛刚（灌南高级中学）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古典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想一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4604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联系实际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借鉴屈原、渔父、司马迁的做法，说说当你的理想不能实现时，你会怎么做，为什么会这么做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图片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3748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108000" y="1844280"/>
            <a:ext cx="858816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人生既会有灿烂的阳光，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也可能有凄冷的风雨。面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着生与死的抉择，面对着逆境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运的考验，我们的回答是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                       </a:t>
            </a:r>
            <a:r>
              <a:rPr b="1" lang="zh-CN" sz="7200" spc="-1" strike="noStrike">
                <a:solidFill>
                  <a:srgbClr val="000000"/>
                </a:solidFill>
                <a:latin typeface="Arial"/>
                <a:ea typeface="楷体_GB2312"/>
              </a:rPr>
              <a:t>直面人生！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草" descr=""/>
          <p:cNvPicPr/>
          <p:nvPr/>
        </p:nvPicPr>
        <p:blipFill>
          <a:blip r:embed="rId1">
            <a:lum bright="30000"/>
          </a:blip>
          <a:stretch/>
        </p:blipFill>
        <p:spPr>
          <a:xfrm>
            <a:off x="0" y="260280"/>
            <a:ext cx="9144000" cy="65977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9040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练一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短剧写作：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生与死的对话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即屈原和司马迁的对话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要求：准确把握两人的思想感情，大胆想象，合理设计对话，展示两人的内心世界。对话应尽量化用课文中的原句，以增加真实感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图片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8172360" y="5734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3"/>
          <a:stretch/>
        </p:blipFill>
        <p:spPr>
          <a:xfrm>
            <a:off x="8604360" y="63086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restart="whenNotActive" nodeType="interactiveSeq" fill="hold">
                <p:stCondLst>
                  <p:cond evt="onClick">
                    <p:tgtEl>
                      <p:spTgt spid="164"/>
                    </p:tgtEl>
                  </p:cond>
                </p:stCondLst>
                <p:childTnLst>
                  <p:par>
                    <p:cTn id="48" fill="hold">
                      <p:stCondLst>
                        <p:cond evt="onClick">
                          <p:tgtEl>
                            <p:spTgt spid="164"/>
                          </p:tgtEl>
                        </p:cond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1" dur="232080" fill="hold"/>
                                        <p:tgtEl>
                                          <p:spTgt spid="1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25" name="2006802_1df36572d1984f4f263d66dfa753ac84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60120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" descr=""/>
            <p:cNvPicPr/>
            <p:nvPr/>
          </p:nvPicPr>
          <p:blipFill>
            <a:blip r:embed="rId3"/>
            <a:stretch/>
          </p:blipFill>
          <p:spPr>
            <a:xfrm>
              <a:off x="5940360" y="0"/>
              <a:ext cx="3203640" cy="328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" descr=""/>
            <p:cNvPicPr/>
            <p:nvPr/>
          </p:nvPicPr>
          <p:blipFill>
            <a:blip r:embed="rId4"/>
            <a:stretch/>
          </p:blipFill>
          <p:spPr>
            <a:xfrm>
              <a:off x="5940360" y="3213000"/>
              <a:ext cx="3203640" cy="3645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8" name=""/>
          <p:cNvSpPr/>
          <p:nvPr/>
        </p:nvSpPr>
        <p:spPr>
          <a:xfrm>
            <a:off x="4968720" y="1125360"/>
            <a:ext cx="3746520" cy="4319640"/>
          </a:xfrm>
          <a:prstGeom prst="rect">
            <a:avLst/>
          </a:prstGeom>
          <a:solidFill>
            <a:srgbClr val="cc99ff">
              <a:alpha val="32000"/>
            </a:srgbClr>
          </a:solidFill>
          <a:ln w="158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700" spc="-1" strike="noStrike">
                <a:solidFill>
                  <a:srgbClr val="007a77"/>
                </a:solidFill>
                <a:latin typeface="Arial"/>
                <a:ea typeface="隶书"/>
              </a:rPr>
              <a:t>渔 父</a:t>
            </a:r>
            <a:endParaRPr b="0" lang="en-US" sz="117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109280" y="574200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方正粗宋简体"/>
              </a:rPr>
              <a:t>灌南高级中学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方正粗宋简体"/>
              </a:rPr>
              <a:t>盛刚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山水1" descr=""/>
          <p:cNvPicPr/>
          <p:nvPr/>
        </p:nvPicPr>
        <p:blipFill>
          <a:blip r:embed="rId1">
            <a:lum bright="28000"/>
            <a:alphaModFix amt="30000"/>
          </a:blip>
          <a:stretch/>
        </p:blipFill>
        <p:spPr>
          <a:xfrm>
            <a:off x="-301680" y="-225360"/>
            <a:ext cx="9750600" cy="731196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关于屈原的文化常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-321120" y="1339560"/>
            <a:ext cx="9512280" cy="52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屈原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名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平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，字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原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　战国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时楚国人。我国第一位伟大的爱国诗人和浪漫主义诗人。著有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《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离骚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《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九歌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《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天问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等不巧作品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后世所见屈原作品，皆出自西汉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刘向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辑集的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楚辞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首创“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骚体诗 ”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亦称“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楚辞体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”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政治上，提倡“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美 政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”，主张彰明法度，举贤任能，改革政治，联齐抗秦。初辅佐怀王，做过左徒、三闾大夫。后遭谗去职，屡遭放逐。至首都郢为秦兵攻破，满腔悲愤，怀着珍爱一生的理想自投汨罗江而死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草" descr="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2400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学习目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35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积累重点文言词和句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探讨屈原和渔父不同的人生态度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思考人生重大抉择，养成对人生负责的态度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图片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629040" y="274680"/>
            <a:ext cx="205740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朗读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渔父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》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草" descr=""/>
          <p:cNvPicPr/>
          <p:nvPr/>
        </p:nvPicPr>
        <p:blipFill>
          <a:blip r:embed="rId1">
            <a:lum bright="3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形象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68360" y="2421000"/>
            <a:ext cx="8229600" cy="34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文艺作品中人物的神情面貌和性格特征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092720" y="314280"/>
            <a:ext cx="205740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屈原的形象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yw3c2l6001" descr=""/>
          <p:cNvPicPr/>
          <p:nvPr/>
        </p:nvPicPr>
        <p:blipFill>
          <a:blip r:embed="rId1"/>
          <a:stretch/>
        </p:blipFill>
        <p:spPr>
          <a:xfrm>
            <a:off x="539640" y="44280"/>
            <a:ext cx="3600720" cy="685800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3993120" y="907920"/>
            <a:ext cx="2923560" cy="524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  <a:ea typeface="楷体_GB2312"/>
              </a:rPr>
              <a:t>坚持理想，洁身自好，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  <a:ea typeface="楷体_GB2312"/>
              </a:rPr>
              <a:t>忧国忧民，坚贞不屈，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  <a:ea typeface="楷体_GB2312"/>
              </a:rPr>
              <a:t>宁为玉碎，不为瓦全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渔父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380000" y="274680"/>
            <a:ext cx="130644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渔父的形象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559760" y="476280"/>
            <a:ext cx="2923560" cy="51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  <a:ea typeface="楷体_GB2312"/>
              </a:rPr>
              <a:t>自由豁达，随遇而安，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  <a:ea typeface="楷体_GB2312"/>
              </a:rPr>
              <a:t>与世推移，乐天知命，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  <a:ea typeface="楷体_GB2312"/>
              </a:rPr>
              <a:t>无拘无束，超然物外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司马迁" descr=""/>
          <p:cNvPicPr/>
          <p:nvPr/>
        </p:nvPicPr>
        <p:blipFill>
          <a:blip r:embed="rId1"/>
          <a:stretch/>
        </p:blipFill>
        <p:spPr>
          <a:xfrm>
            <a:off x="5724360" y="144360"/>
            <a:ext cx="3419640" cy="472464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788000" y="331920"/>
            <a:ext cx="107928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忍辱而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59280" y="240840"/>
            <a:ext cx="1079280" cy="585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 fontScale="78000"/>
          </a:bodyPr>
          <a:p>
            <a:pPr marL="2674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毅然赴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yw3c2l6001" descr=""/>
          <p:cNvPicPr/>
          <p:nvPr/>
        </p:nvPicPr>
        <p:blipFill>
          <a:blip r:embed="rId2"/>
          <a:stretch/>
        </p:blipFill>
        <p:spPr>
          <a:xfrm>
            <a:off x="0" y="0"/>
            <a:ext cx="3276720" cy="50133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03120" y="5051520"/>
            <a:ext cx="3837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  <a:ea typeface="楷体_GB2312"/>
              </a:rPr>
              <a:t>亦余心之所善兮，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  <a:ea typeface="楷体_GB2312"/>
              </a:rPr>
              <a:t>虽九死其犹未悔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353200" y="4935600"/>
            <a:ext cx="4187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  <a:ea typeface="楷体_GB2312"/>
              </a:rPr>
              <a:t>草创未就，会遭此祸，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  <a:ea typeface="楷体_GB2312"/>
              </a:rPr>
              <a:t>惜其不成，是以就极刑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  <a:ea typeface="楷体_GB2312"/>
              </a:rPr>
              <a:t>而无愠色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934080" y="3724200"/>
            <a:ext cx="851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7a77"/>
                </a:solidFill>
                <a:latin typeface="Arial"/>
                <a:ea typeface="方正粗宋简体"/>
              </a:rPr>
              <a:t>志</a:t>
            </a:r>
            <a:endParaRPr b="0" lang="en-US" sz="8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4T06:38:18Z</dcterms:created>
  <dc:creator>徐祥军</dc:creator>
  <dc:description/>
  <dc:language>en-US</dc:language>
  <cp:lastModifiedBy>zmj</cp:lastModifiedBy>
  <cp:lastPrinted>2012-06-25T02:42:52Z</cp:lastPrinted>
  <dcterms:modified xsi:type="dcterms:W3CDTF">2012-06-25T02:42:58Z</dcterms:modified>
  <cp:revision>9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699</vt:lpwstr>
  </property>
</Properties>
</file>