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E09-21DD-4E18-9E22-BAFB7085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F2E-E3D1-4FEF-B824-1ABC490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8D2-4733-47D7-B1B7-C3BD983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BAE-EE48-40EE-AFD9-2E75E9B2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443-FC96-4DD0-9BB8-3079848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F11-3736-4F00-95B8-7E5445F9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847-994E-49A3-B13C-52565E0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241-1C11-411A-B03F-A4409C6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A7C-391A-4F29-90E6-AFE63AD9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59E-74BC-4B3F-BCCE-F32F594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ABF-188B-4D6C-B5C2-7B09AA1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3CC-E8DC-471A-B4A4-F56788C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CF9-6DA5-457D-933C-ACFFED83A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方正隶书简体"/>
                <a:ea typeface="方正隶书简体"/>
              </a:rPr>
              <a:t>渔   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4581360"/>
            <a:ext cx="4248360" cy="136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421000"/>
            <a:ext cx="741708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197000"/>
            <a:ext cx="734400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2881440" cy="25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68436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华文新魏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_x000b_"/>
                <a:ea typeface="华文新魏"/>
              </a:rPr>
              <a:t>第二部分：文章主体。渔父出现，开始了与屈原的问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35002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世皆浊我独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人皆醉我独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77336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子非三闾大夫与？何故至于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4392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_x000b_"/>
              </a:rPr>
              <a:t>屈原说明自己被流放的原因：自己与众不同，独来独往，不苟合，不妥协。由此引出渔父进一步的议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349360"/>
            <a:ext cx="7489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_x000b_"/>
              </a:rPr>
              <a:t>一问屈原的身份。显然渔父认出了屈原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问才是重点。由此一问，引出屈原的答话，并进而展开彼此的思想交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4941720"/>
            <a:ext cx="720072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492280"/>
            <a:ext cx="727236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052640"/>
            <a:ext cx="7345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圣人不凝滞于物，而能与世推移。世人皆浊，何不淈其泥而扬其波？众人皆醉，何不餔其糟而歠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酾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何故深思高举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自令放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500280"/>
            <a:ext cx="741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吾闻之：新沐者必弹冠，新浴者必振衣。安能以身之察察，受物之汶汶者乎？宁赴湘流，葬身于江鱼之腹中，安能以皓皓之白，而蒙世俗之尘埃乎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4941720"/>
            <a:ext cx="7488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两个反问句，表明了屈原不惜牺牲性命也要坚持自己的理想，洁身自好，决不同流合污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421000"/>
            <a:ext cx="7200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三个反问句，渔父启发屈原学习圣人，走一条与世浮沉、远害全身的自我保护道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289160"/>
            <a:ext cx="7129440" cy="642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_x000b_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_x000b_"/>
              </a:rPr>
              <a:t>第三部分：笔墨集中在渔父一人身上。听了屈原的回答，渔父“莞尔而笑”，不再答理屈原，兀自唱起“沧浪之水清兮”的歌，“鼓枻而去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997360"/>
            <a:ext cx="712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渔父莞尔而笑，鼓枻而去。歌曰：“沧浪之水清兮，可以濯吾缨；沧浪之水浊兮，可以濯吾足。”遂去，不复与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4221000"/>
            <a:ext cx="7127640" cy="536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部分对渔父的描写十分传神 。屈原不听他的忠告，他不愠不怒，不强人所难，以隐者的超然姿态心平气和地与屈原分道扬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268280"/>
            <a:ext cx="3727440" cy="1298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开头写屈原，结尾写渔父，都着墨不多而十分传神；中间采用对话体，多用比喻、反问，生动、形象而又富于哲理性。从文体的角度看，在楚辞中，唯有此文、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卜居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以及宋玉的部分作品采用问答体，与后来的汉赋的写法已比较接近。前人说汉赋“受命于诗人，拓宇于楚辞”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刘勰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文心雕龙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·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诠赋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，在文体演变史上，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渔父</a:t>
            </a:r>
            <a:r>
              <a:rPr b="1" lang="en-US" sz="1600" spc="-1" strike="noStrike">
                <a:solidFill>
                  <a:srgbClr val="000000"/>
                </a:solidFill>
                <a:latin typeface="_x000b_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_x000b_"/>
              </a:rPr>
              <a:t>无疑是有着不可忽视的重要地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26160" y="1268280"/>
            <a:ext cx="3417840" cy="4319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4005360"/>
            <a:ext cx="7343640" cy="80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通过何种手法把作者自己内心的矛盾和挣扎生动地表现了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3141720"/>
            <a:ext cx="5040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以“渔父”为题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205000"/>
            <a:ext cx="504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和渔父谁是主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907920"/>
            <a:ext cx="72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人物语言分析概括屈原和渔父的形象特征以及他的处世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1557360"/>
            <a:ext cx="8280360" cy="6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昂扬、傲然之气，一种隐隐的豪迈之感，同时还包含着一种执着无怨无悔的决绝。  不随波逐流，不苟合；显示了他的与众不同，特立独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05264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世／皆浊／我独清，众人／皆醉／我独醒，是以／见放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4640"/>
            <a:ext cx="136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7720"/>
            <a:ext cx="864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吾闻之，新沐者／必弹冠，新浴者／必振衣。安能／以身之察察，受／物之汶汶者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宁／赴湘流，葬于／江鱼之腹中。安能／以皓皓之白，而／蒙世俗之尘埃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581360"/>
            <a:ext cx="820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表现出一种激愤之情，为了坚持理想牺牲生命也再所不惜。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5084640"/>
            <a:ext cx="8498160" cy="1511280"/>
          </a:xfrm>
          <a:custGeom>
            <a:avLst/>
            <a:gdLst>
              <a:gd name="textAreaLeft" fmla="*/ 0 w 8498160"/>
              <a:gd name="textAreaRight" fmla="*/ 8498520 w 8498160"/>
              <a:gd name="textAreaTop" fmla="*/ 195840 h 1511280"/>
              <a:gd name="textAreaBottom" fmla="*/ 13154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是一个始终不渝地坚持理想、不惜舍生取义的生活中的强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一个不随波逐流，不苟合，不妥协，与众不同，特立独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形象；显示了屈原宁为玉碎，不为瓦全的伟大人格。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989000"/>
            <a:ext cx="8280360" cy="6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弦外音：世道既如此黑暗，又有什么清浊、曲直可分？还不如与世推移，随遇而安，作个知天达命的明哲。　　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052640"/>
            <a:ext cx="784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圣人不凝滞于物，而能与世推移。世人皆浊，何不淈其泥而扬其波？众人皆醉，何不铺其糟而歠其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404640"/>
            <a:ext cx="1366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父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284640"/>
            <a:ext cx="781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莞尔而笑”，唱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沧浪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“鼓枻而去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860640"/>
            <a:ext cx="820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屈原不听他的劝告，他不愠不怒，不强人所难，以隐者的超然姿态心平气和地与屈原分道扬镳。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797360"/>
            <a:ext cx="4176720" cy="1440000"/>
          </a:xfrm>
          <a:custGeom>
            <a:avLst/>
            <a:gdLst>
              <a:gd name="textAreaLeft" fmla="*/ 0 w 4176720"/>
              <a:gd name="textAreaRight" fmla="*/ 4177080 w 417672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是一位远离尘嚣的隐者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具有与世推移、随遇而安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哲保身、知天达命的处世态度。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4797360"/>
            <a:ext cx="4319280" cy="1584360"/>
          </a:xfrm>
          <a:prstGeom prst="leftArrowCallout">
            <a:avLst>
              <a:gd name="adj1" fmla="val 14427"/>
              <a:gd name="adj2" fmla="val 25000"/>
              <a:gd name="adj3" fmla="val 17531"/>
              <a:gd name="adj4" fmla="val 9262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如果给渔父画一幅肖像，那他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一蓑一笠一扁舟，一丈丝纶一寸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一曲高歌一樽酒，一人独钓一江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他撑着渔船远远地离我们而去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16360" y="2708280"/>
            <a:ext cx="3456000" cy="53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一，文题是“ 渔父”；其二，渔父是一个懂得与世推移，随遇而安的隐士。他看透了尘世的纷纷扰扰，在随性自适中保持自我人格的节操。他的形象令人仰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708280"/>
            <a:ext cx="3529080" cy="53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对社会的黑暗，屈原始终坚守着高洁的人格精神，宁愿舍弃生命，也不与污浊的尘世同流合污。写渔父是为了衬托屈原，两个人物形成了鲜明的对比，以此来凸现屈原崇高的人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916280"/>
            <a:ext cx="3529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观点一：屈原是主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1916280"/>
            <a:ext cx="3457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观点二：渔父是主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112536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屈原和渔父谁是主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3789360"/>
            <a:ext cx="7343640" cy="80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、衬托作用，两者的形象特征与处世态度明显对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92280"/>
            <a:ext cx="504036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981000"/>
            <a:ext cx="5042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以“渔父”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133720"/>
            <a:ext cx="74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线索作用，本文由三次对话构成，都是渔父主动发问，他的问话贯穿了全文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1052640"/>
            <a:ext cx="7343640" cy="80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通过何种手法把作者自己内心的矛盾和挣扎生动地表现了出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708280"/>
            <a:ext cx="7921440" cy="29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取设为问答的方式，表现自己矛盾的心态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渔父洒落超脱，全身远害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原坚守信念，宁为玉碎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鲜明的形象，两种鲜明的人生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3752640" cy="238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408600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92720" y="177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与死并不重要，重要的是生与死的价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436572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来看看屈原是如何选择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0280"/>
            <a:ext cx="7921440" cy="150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怎么看待屈原与渔父这两种人生态度。（欣赏哪种？）仁者见仁，智者见智。请大家拿出纸和笔，组织好自己的语言准备发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80000" y="2276640"/>
            <a:ext cx="4176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268280"/>
            <a:ext cx="6913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197000"/>
            <a:ext cx="691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屈原和司马迁，一个毅然赴死，一个忍辱而活。结合相关资料谈谈他们为什么会有如此不同的生命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697120" cy="3671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780000" y="3573360"/>
            <a:ext cx="4176720" cy="2376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7425000" y="4653000"/>
            <a:ext cx="423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史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书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133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马迁为李陵辩护，得罪皇上，被处以宫刑。司马迁隐忍苟活，最终完成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人曰：“草创未就，会遭此祸，惜其不成，是以就极刑而无愠色。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15240" cy="41083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716360" y="2924280"/>
            <a:ext cx="2519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有的人活着，他已经死了。有的人死了，他还活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臧克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有的人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125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一篇短文，举例说明对下面这句话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1628640"/>
            <a:ext cx="715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屈原是一个始终不渝地坚持理想、不惜舍生取义的生命强者；具有宁为玉碎、不为瓦全的伟大人格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渔父是一个高蹈遁世的隐者形象，是道家思想的信徒。具有明哲保身、随遇而安、知天达命、与世推移的处世态度。作者还刻画出他不愠不怒、不强人所难的心平气和的超然姿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文章采用对比的手法，主要通过屈原和渔父的问与答，表现了两种对立的人生态度和截然不同的思想性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551400" cy="3673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342320" y="1844640"/>
            <a:ext cx="790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屈原故乡湖北秭归的屈原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1628640"/>
            <a:ext cx="360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完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练习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相关语言训练题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197000"/>
            <a:ext cx="39610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屈原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约前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年～约前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7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战国时期楚国诗人、政治家，“楚辞体”创始人。屈原曾任楚国左徒、三闾大夫等职，主张授贤任能，彰明法度，改良内政，联齐抗秦。起初他颇受楚怀王信任，但怀王听信谗言，怒疏屈原，流放汉北。顷襄王即位后，屈原继续受到迫害，被放逐到江南。公元前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7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年，秦灭楚，屈原虽有心报国，却无力回天，只得以死明志，于同年五月五日投汨罗江自杀。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qy3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341520" cy="460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765320" y="1557360"/>
            <a:ext cx="667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代陈洪绶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屈子行吟图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识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1197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屈原：他是中国文学史上第一位伟大的爱国诗人，杰出的政治家。他的作品有强烈的忧国忧民、忠君致治的思想。 他开创了新诗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楚辞”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代表，被后人称为“骚体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屈原在楚国民歌的基础上所创造的一种抒情韵文，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离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代表，一般篇幅较长，句式灵活参差，多六、七言，以“兮”字作语助词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称为“风骚”。“风骚”是中国诗歌史上现实主义和浪漫主义两大优良传统的源头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民间五月五日端午节包粽子、赛龙舟的习俗就源于人们对屈原的纪念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屈原被列为世界“四大文化名人”之一，受到全世界人民的隆重纪念。　因政治理想破灭，自沉汩罗。那声巨响仿佛还响彻在我们的耳边，究竟是怎样的信念使他坚定地一跃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识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3500280"/>
            <a:ext cx="6769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9079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父屈原既放，游于江潭，行吟泽畔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颜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憔悴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形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枯槁。渔父见而问之曰：子非三闾大夫与？何故至于斯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133720"/>
            <a:ext cx="7921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屈原被放逐后，在四海间流浪，在湖边一路吟唱，面色憔悴，神情枯槁。（湖上的）渔父见了，问道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不就是那位三闾大夫么？怎么竟成了这般模样？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58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屈原曰：举世皆浊我独清，众人皆醉我独醒，是以见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013360"/>
            <a:ext cx="756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屈原道：普天下都混浊，只有我还清白；所有人都醉了，只有我还醒着。所以被君王流放啊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3500280"/>
            <a:ext cx="6769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76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渔父曰：圣人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凝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物，而能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与世推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世人皆浊，何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泥而扬其波？众人皆醉，何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糟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何故深思高举，自令放为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565360"/>
            <a:ext cx="7632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渔父道：真正贤明的圣人不会拘泥于一事一物，而能随世情流转而相应地改变。世上的人都混浊，你何不也一起扬泥荡波？所有人都醉了，你何不也跟着吃糟喝酒？为什么要想得那么深远，凌驾于平庸的世人之上，使得自己被放逐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7280" y="3500280"/>
            <a:ext cx="6769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83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屈原曰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吾闻之，新沐者必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冠，新浴者必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衣。安能以身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察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受物之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汶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乎？宁赴湘流，葬于江鱼之腹中，安能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皓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之白，而蒙世俗之尘埃乎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492280"/>
            <a:ext cx="7921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屈原道：我听说：刚洗头的人一定会弹去帽子上的浮尘，刚洗澡的人一定会抖去衣服上的尘土。怎么能让自己的清白之身，受到外界的龌龊感染？我宁愿将此身投入湘水，葬身于江中的鱼腹之内，却怎能让洁净光明的纯白之质，蒙上世俗的尘埃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87280" y="3500280"/>
            <a:ext cx="6769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84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渔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莞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笑，鼓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去。歌曰：沧浪之水清兮，可以濯吾缨；沧浪之水浊兮，可以濯吾足。遂去，不复与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852640"/>
            <a:ext cx="7921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渔父微微一笑，拍打着船桨离去，口中唱道：（湖上的）碧波清清，可以洗我的帽缨；（湖上的）碧波混浊，可以洗我的双足。就这样唱着歌远去，不再与屈原说什么了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87280" y="4508640"/>
            <a:ext cx="6769440" cy="1439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3500280"/>
            <a:ext cx="6769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2421000"/>
            <a:ext cx="6769440" cy="9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90792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魏碑简体"/>
                <a:ea typeface="方正魏碑简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是一篇散文，但充满诗歌意蕴；这是一段对话，却饱   含人间沧桑。全文可以分为头、腹、尾三个部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349360"/>
            <a:ext cx="66978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部分：屈原开始露面。文章交待了故事的背景、环境以及主人公的特定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3500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屈原既放，游于江潭，行吟泽畔；颜色憔悴，形容枯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4437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_x000b_"/>
              </a:rPr>
              <a:t>屈原心事重重，边走边念念有词。文中以“颜色憔悴，形容枯槁”八字活画出屈原英雄末路、心力交瘁、形销骨立的外在形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5092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381880" y="640080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20:54:49Z</dcterms:created>
  <dc:creator>番茄花园</dc:creator>
  <dc:description/>
  <cp:keywords/>
  <dc:language>en-US</dc:language>
  <cp:lastModifiedBy>zmj</cp:lastModifiedBy>
  <cp:lastPrinted>1899-12-30T00:00:00Z</cp:lastPrinted>
  <dcterms:modified xsi:type="dcterms:W3CDTF">2011-06-18T06:38:32Z</dcterms:modified>
  <cp:revision>251</cp:revision>
  <dc:subject/>
  <dc:title>幻灯片 1</dc:title>
</cp:coreProperties>
</file>