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1BD7-8BBC-4D2B-8BDB-CD5E96ED4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6B58-CE95-4721-931E-6F2C682C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9CA4-EB93-4B63-8556-F513DC6FB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30D6-AD0C-42BA-BAC9-395B0616C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655A-2A8F-4143-B385-FAE31C85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D886-D4FE-4C4A-B80E-FAF0E8AB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A73F-CDF7-406E-9F2A-C87D4B2E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BD72-5848-4390-A026-0A3224A8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3B9A-6E7D-4ED9-B52F-35AC48EB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FA6C-DE1D-4918-A3EE-B0ECCAC6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DB16-4194-45D8-BAB9-C64800FD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1F1E-924A-4076-87E6-96D86CBF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B2C1-02B6-4D2A-BE28-3A57C313FE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54104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5400000">
            <a:off x="5723640" y="2348640"/>
            <a:ext cx="4105080" cy="1512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渔父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0920" y="189000"/>
            <a:ext cx="8642160" cy="32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行楷"/>
              </a:rPr>
              <a:t> 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行楷"/>
              </a:rPr>
              <a:t>五、问题探讨：</a:t>
            </a:r>
            <a:br>
              <a:rPr sz="36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本文塑造了屈原怎样一个形象？显示了屈原怎样的人格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屈原是一个始终不渝地坚持理想、不惜舍生取义的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生活中的强者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是一个不随波逐流，不苟合，不妥协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与众不同，特立独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形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显示了屈原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宁为玉碎，不为瓦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伟大人格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95280" y="189000"/>
            <a:ext cx="856944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本文在塑造屈原的同时，还塑造了一位形象，他是谁？是怎样一位形象？为何要塑造这一形象？</a:t>
            </a:r>
            <a:br>
              <a:rPr sz="32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   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章还渲染了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渔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形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是一位高蹈遁世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隐者形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是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道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思想的信徒。具有明哲保身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随遇而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知天达命、与世推移的处世态度。作者还刻画出他不愠不怒、不强人所难心平气和的超然姿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者塑造这一形象，对塑造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屈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来讲，具有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对比、衬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作用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0920" y="0"/>
            <a:ext cx="8893080" cy="22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 文章采用了什么方法表现人物的性格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章采用了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对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手法，主要通过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屈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渔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问与答，表现了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两种对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人生态度和截然不同的思想性格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63272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260280"/>
            <a:ext cx="864216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作者在塑造屈原形象时，除了主要写他的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语言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，还写了他的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行为、外貌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，试从文中找出，并说明其作用。</a:t>
            </a:r>
            <a:br>
              <a:rPr sz="36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     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于江潭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行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泽畔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颜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憔悴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形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枯槁。（见第一段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活画出屈原英雄末路、心力交瘁、心事重重、形销骨立的外在形象。暗写出屈原所处的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黑暗环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所遭受的困境挫折，为下文写屈原的守节不渝、清白终生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张本、铺垫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79280" y="260280"/>
            <a:ext cx="8713800" cy="29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行楷"/>
              </a:rPr>
              <a:t>六</a:t>
            </a:r>
            <a:r>
              <a:rPr b="1" lang="zh-CN" sz="3600" spc="-1" strike="noStrike">
                <a:solidFill>
                  <a:srgbClr val="ff3300"/>
                </a:solidFill>
                <a:latin typeface="华文行楷"/>
                <a:ea typeface="华文行楷"/>
              </a:rPr>
              <a:t>、比较阅读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⑴屈原与司马迁都是中华民族历史上的杰出人物，一个毅然赴死，一个忍辱而生。他们为什么会有如此不同的人生选择？结合文中的相关语句谈谈个人的认识。</a:t>
            </a:r>
            <a:br>
              <a:rPr sz="24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屈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举世皆浊我独清，众人皆醉我独醒”，具有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高洁的人生品格和远大的政治理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不愿随波逐流。在他的政治理想破灭后，在他的祖国沦丧后，他“宁赴湘流，葬于江鱼之腹中”，也不愿“蒙世俗之尘埃”，毅然赴死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把人格、理想看得比生命更重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主动迎接死亡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以死来体现生命的意志和尊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司马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出于公正，为李陵辩护，得罪皇上，当死降临到司马迁的头上时，他选择一种令肉体与精神，令自己与亲友都极度痛苦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“生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——接受宫刑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4000" y="549360"/>
            <a:ext cx="864072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司马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隐忍苟活，是“恨私心有所不尽，鄙陋没世，而文采不表于后”，他为自己规定的人生使命是要完成千古史记，成就人生的大事业，实现人生的价值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《史记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草创未就，会遭此祸，惜其不成，是以就极刑而无愠色。”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司马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屈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树立了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两种人格榜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一个择生，一个择死，一个以生践志，一个以死明志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对后世知识分子产生了巨大影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79280" y="0"/>
            <a:ext cx="8569440" cy="35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      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⑵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《报任安书》和《渔父》真实地展示了司马迁和屈原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内心世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深刻矛盾。请思考两篇作品分别是怎样表现人物复杂心情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 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《报任安书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采用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书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形式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面对朋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直接展示自己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生死抉择时内心的矛盾和痛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信中欲言又止，止而又言。自己并非贪生恶死之辈，只是“恨私心有所不尽，鄙陋没世　，而文采不表于后”。所以隐忍苟活，发愤著书，但生活中“居则忽忽若有所亡，出则不知其所往”，内心充满了矛盾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643280" y="765000"/>
            <a:ext cx="45007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渔父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采用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寓言对话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形式，假托渔父与屈原一次相遇。通过两人的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对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展开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思想交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把屈原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内心的矛盾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斗争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外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出来，真实地反映了屈原的思想，表现了他崇高的人生追求。</a:t>
            </a:r>
            <a:br>
              <a:rPr sz="36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  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2483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24000" y="115920"/>
            <a:ext cx="8496000" cy="47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隶书"/>
              </a:rPr>
              <a:t>七、文言知识整理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通假字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 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渔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“父”通“甫”，古代对老年男子的尊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古今异义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颜色憔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颜色：脸色，今多指色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 (2)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形容枯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形容：形体容貌，今指对事物的形象      和性质加以描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(3)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圣人不凝滞于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凝滞：拘泥，执著。今指①停止流动，不灵活；②凝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(4)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何故深思高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高举：行为高出世俗。今指高高举起）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0"/>
            <a:ext cx="8351640" cy="70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一词多义 </a:t>
            </a:r>
            <a:br>
              <a:rPr sz="40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而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  渔父莞尔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笑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连词，表修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圣人不凝滞于物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能与世推移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连词，表转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何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泥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扬其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连词，表承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涵淡彭湃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此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连词，表因果，因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  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333360"/>
            <a:ext cx="8280360" cy="41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华文行楷"/>
              </a:rPr>
              <a:t>教学目标：</a:t>
            </a:r>
            <a:br>
              <a:rPr sz="4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   </a:t>
            </a: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、 掌握文中重要的文言现象，将此文顺畅地译成现代汉语。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   </a:t>
            </a: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、 通过对屈原和渔父的对话的分析，认识屈原“宁为玉碎，不为瓦全”的伟大人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、探讨渔父这一特定意象的文化内涵。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华文楷体"/>
                <a:ea typeface="华文楷体"/>
              </a:rPr>
              <a:t>教学课时：</a:t>
            </a:r>
            <a:r>
              <a:rPr b="1" lang="zh-CN" sz="4000" spc="-1" strike="noStrike">
                <a:solidFill>
                  <a:srgbClr val="0000ff"/>
                </a:solidFill>
                <a:latin typeface="华文楷体"/>
                <a:ea typeface="华文楷体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课时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68360" y="115920"/>
            <a:ext cx="8136000" cy="61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于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 圣人不凝滞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介词，表被动关系，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 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何故至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介词，引进动作对象，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葬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江鱼之中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介词，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以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: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见放   （介词，因为）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安能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身之察察    （介词，拿、用）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可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濯吾缨     （介词，表目的，用来）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95280" y="0"/>
            <a:ext cx="7993080" cy="59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隶书"/>
              </a:rPr>
              <a:t>文言句式 </a:t>
            </a:r>
            <a:br>
              <a:rPr sz="40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 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(1)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省略句 </a:t>
            </a:r>
            <a:br>
              <a:rPr sz="36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 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①行吟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于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泽畔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省略介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    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    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复与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之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言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省略介词宾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 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(2)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被动句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是以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放 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  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95280" y="549360"/>
            <a:ext cx="8569440" cy="38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仿宋"/>
                <a:ea typeface="华文仿宋"/>
              </a:rPr>
              <a:t> </a:t>
            </a:r>
            <a:r>
              <a:rPr b="0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八、诵读要旨</a:t>
            </a:r>
            <a:r>
              <a:rPr b="0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朗读是声音和情感交融的艺术，叙事文章的诵读需要主义把握人物的性格，读出人物语言的语气、语调、语速。“言为心声”，语言最能表达人物的心灵世界，在诵读时需要把握这一点。 请标出下面需要重读的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 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子／非三闾大夫与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何故／至于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? </a:t>
            </a:r>
            <a:br>
              <a:rPr sz="32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要读出渔父偶遇屈原是看到他形容憔悴而流露出的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惊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关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 </a:t>
            </a:r>
            <a:br>
              <a:rPr sz="36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24000" y="333360"/>
            <a:ext cx="83516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  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举世／皆浊／我独清，众人／皆醉／我独醒，是以／见放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 这句要读出昂扬之气，傲然之气，一种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执无怨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决绝，同时还要流露出一种隐隐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豪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感。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(3)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吾闻之，新沐者／必弹冠，新浴者／必振衣。安能／以身之察察，受／物之汶汶者乎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宁／赴湘流，葬于／江鱼之腹中。安能／以皓皓之白，而／蒙世俗之尘埃乎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? </a:t>
            </a:r>
            <a:br>
              <a:rPr sz="32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句语调抑扬顿挫，几处反问语气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语调宜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表现出一种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激愤之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50920" y="549360"/>
            <a:ext cx="856908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隶书"/>
              </a:rPr>
              <a:t>九、深入探究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隶书"/>
              </a:rPr>
              <a:t> 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“渔父”在文中是一个具体的形象，随着文化的浸染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渔父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已经形成了一种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独特的意象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而具有了某种文化的内涵。纵览古诗文，我们读到了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庄子的《渔父》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，读到了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“白发渔樵江渚上，惯看秋月春风”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杨慎《临江仙》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，读到了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“孤舟蓑笠翁，独钓寒江雪”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柳宗元《江雪》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。请你查阅相关资料，对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“渔父”意象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进行综合探究。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68360" y="54936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第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渔父代表一种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遗世独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清高隐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人格理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王逸《楚辞章句》云：“渔父避世隐身，钓鱼江滨，欣然自乐。”《楚辞》中的渔父，都是避世埋名的隐士，而并非靠捕鱼为生的渔人。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渔父是隐士的象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一方面他保持高洁的品性和情操，厌倦尘世的纷扰，但并不一味陷入矛盾和痛苦之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如屈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；另一方面追求一种无拘无束的、自由的人生境界，把这两个结合到一起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55640" y="47628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方面有一种高洁的人格和人生境界，另一方面我还要自由，要摆脱社会的一些名钩利锁，或者其他方面的束缚。比如柳宗元《渔翁》：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乃一声山水绿”，这位渔父撑着船远远的消逝了。可是消逝，它不是带着一种和光同尘的说法消逝，而是带着屈原这种理想消逝。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渔父的形象已经作为一种文化符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这个符号就是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坚持操守、追求自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样一种人生的代称。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95280" y="33336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第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渔父意象包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了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几个要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首先是“渔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含垂钓之风。号称“惟巢由乃可与并驾”的严子陵，是汉光武帝的同窗，私交颇好，然刘秀多次相请，却一生不仕，隐于浙江桐庐，垂钓终老，所以李白称其“昭昭严子陵，垂钓沧波间”。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其次是“父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“父”又写作“甫”，为老年男子之称。老年人历经沧桑坎坷，明于得失，归心淡泊，自然非少年人锐意进取可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4360" y="476280"/>
            <a:ext cx="79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第三是“水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道家认为水是万物之本，品性谦逊，亲附万物而公正无私，《老子》说：“上善若水，水善利万物而不争，处众人之所恶，故几于道。”暗示道家的理想追求。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第四是“舟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有渔父必有舟，又必是小舟。苏轼《赤壁赋》称“驾一叶之扁舟，举匏樽以相属”，舟如一叶，以况其小，只有小舟才能达到“纵一苇之所如，凌万顷之茫然”的境界。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404640"/>
            <a:ext cx="8964720" cy="31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隶书"/>
              </a:rPr>
              <a:t>一、导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生存还是死亡？”这是世界著名剧作家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莎士比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名作《哈姆雷特》中哈姆雷特被生活的困境逼到了死角时的发问。如何解答好这个问题，真让世人难为。伟大的史学家文学家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司马迁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为了完成传世之作《史记》忍辱负重，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选择了生存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孟子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却说：“生，我所欲也，义，亦我所欲也，二者不可得兼，舍生而取义者也。”其实，生与死并不重要，重要的是死与生的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价值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“生的伟大，死的光荣”才是价值之根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今天，我们通过学习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《渔父》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文，走进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屈原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内心世界，去探求他的人生价值，去瞻仰一位伟人的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“身之察察”、“皓皓之白”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95280" y="692280"/>
            <a:ext cx="82090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第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渔父意象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寄托着中国文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这种与世无争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超然生活的向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渔父是真正的隐者，他们留给世界的是一个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飘逸的背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轻轻地走了，不带走一片云彩。他们乘扁舟漂游水上，自然，惬意，无拘无束。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得意时出仕兼济天下，失意后归隐吟风啸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是中国文人千载不变的人生轨迹。历经宦海沉浮颠沛流离之后，莫如散发弄扁舟，独钓寒江雪。他们将山水田园当成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精神栖居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在这里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心灵的创伤得到愈合，灵魂获得拯救与升华。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050920" y="2708280"/>
            <a:ext cx="554544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ff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华文行楷"/>
                <a:ea typeface="华文行楷"/>
              </a:rPr>
              <a:t>设想某一天屈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</a:t>
            </a:r>
            <a:r>
              <a:rPr b="0" lang="zh-CN" sz="4400" spc="-1" strike="noStrike">
                <a:solidFill>
                  <a:srgbClr val="0000ff"/>
                </a:solidFill>
                <a:latin typeface="华文行楷"/>
                <a:ea typeface="华文行楷"/>
              </a:rPr>
              <a:t>与司马迁相遇</a:t>
            </a:r>
            <a:r>
              <a:rPr b="0" lang="zh-CN" sz="4400" spc="-1" strike="noStrike">
                <a:solidFill>
                  <a:srgbClr val="0000ff"/>
                </a:solidFill>
                <a:latin typeface="华文行楷"/>
                <a:ea typeface="华文行楷"/>
              </a:rPr>
              <a:t>,</a:t>
            </a:r>
            <a:r>
              <a:rPr b="0" lang="zh-CN" sz="4400" spc="-1" strike="noStrike">
                <a:solidFill>
                  <a:srgbClr val="0000ff"/>
                </a:solidFill>
                <a:latin typeface="华文行楷"/>
                <a:ea typeface="华文行楷"/>
              </a:rPr>
              <a:t>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</a:t>
            </a:r>
            <a:r>
              <a:rPr b="0" lang="zh-CN" sz="4400" spc="-1" strike="noStrike">
                <a:solidFill>
                  <a:srgbClr val="0000ff"/>
                </a:solidFill>
                <a:latin typeface="华文行楷"/>
                <a:ea typeface="华文行楷"/>
              </a:rPr>
              <a:t>会发生怎样的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</a:t>
            </a:r>
            <a:r>
              <a:rPr b="0" lang="zh-CN" sz="4400" spc="-1" strike="noStrike">
                <a:solidFill>
                  <a:srgbClr val="0000ff"/>
                </a:solidFill>
                <a:latin typeface="华文行楷"/>
                <a:ea typeface="华文行楷"/>
              </a:rPr>
              <a:t>形，展开</a:t>
            </a:r>
            <a:r>
              <a:rPr b="0" lang="zh-CN" sz="4400" spc="-1" strike="noStrike">
                <a:solidFill>
                  <a:srgbClr val="ff3300"/>
                </a:solidFill>
                <a:latin typeface="华文行楷"/>
                <a:ea typeface="华文行楷"/>
              </a:rPr>
              <a:t>想象</a:t>
            </a:r>
            <a:r>
              <a:rPr b="0" lang="zh-CN" sz="4400" spc="-1" strike="noStrike">
                <a:solidFill>
                  <a:srgbClr val="0000ff"/>
                </a:solidFill>
                <a:latin typeface="华文行楷"/>
                <a:ea typeface="华文行楷"/>
              </a:rPr>
              <a:t>,</a:t>
            </a:r>
            <a:r>
              <a:rPr b="0" lang="zh-CN" sz="4400" spc="-1" strike="noStrike">
                <a:solidFill>
                  <a:srgbClr val="0000ff"/>
                </a:solidFill>
                <a:latin typeface="华文行楷"/>
                <a:ea typeface="华文行楷"/>
              </a:rPr>
              <a:t>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</a:t>
            </a:r>
            <a:r>
              <a:rPr b="0" lang="zh-CN" sz="4400" spc="-1" strike="noStrike">
                <a:solidFill>
                  <a:srgbClr val="0000ff"/>
                </a:solidFill>
                <a:latin typeface="华文行楷"/>
                <a:ea typeface="华文行楷"/>
              </a:rPr>
              <a:t>一个</a:t>
            </a:r>
            <a:r>
              <a:rPr b="0" lang="zh-CN" sz="4400" spc="-1" strike="noStrike">
                <a:solidFill>
                  <a:srgbClr val="ff3300"/>
                </a:solidFill>
                <a:latin typeface="华文行楷"/>
                <a:ea typeface="华文行楷"/>
              </a:rPr>
              <a:t>短剧</a:t>
            </a:r>
            <a:r>
              <a:rPr b="0" lang="zh-CN" sz="4400" spc="-1" strike="noStrike">
                <a:solidFill>
                  <a:srgbClr val="0000ff"/>
                </a:solidFill>
                <a:latin typeface="华文行楷"/>
                <a:ea typeface="华文行楷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50920" y="0"/>
            <a:ext cx="3673440" cy="28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琥珀"/>
              </a:rPr>
              <a:t>作业：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720108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24000" y="836640"/>
            <a:ext cx="813564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制作</a:t>
            </a: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         </a:t>
            </a: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南京市第六十六中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                     </a:t>
            </a: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孙亚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404640"/>
            <a:ext cx="46814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行楷"/>
              </a:rPr>
              <a:t>二、知识介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屈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战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末期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楚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，杰出的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政治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爱国诗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名平，字原，丹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今湖北秭归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。屈原的作品计有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《离骚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《天问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《九歌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1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《九章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《招魂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932360" y="476280"/>
            <a:ext cx="42116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43280" y="476280"/>
            <a:ext cx="4249800" cy="5689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410364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传说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屈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于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农历五月五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投江自尽，中国民间五月五日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端午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包粽子、赛龙舟的习俗就源于人们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对屈原的纪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5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屈原还被列为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世界“四大文化名人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一，受到世界和平理事会和全世界人民的隆重纪念。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9640" y="2276640"/>
            <a:ext cx="802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95280" y="333360"/>
            <a:ext cx="835344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骚体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亦称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“楚辞体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古代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诗歌体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一。起于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战国时楚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因为这种形式的诗歌以屈原所作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《离骚》为代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到了南朝刘勰的《文心雕龙》与萧统的《文选》等作品中，就用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“骚”来指称具有楚辞特点的诗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后人便称之为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骚体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骚体诗在形式上打破了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《诗经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种以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四言为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体制，在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民歌的基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又继承了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散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笔法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句式长短参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形式比较自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多用“兮”字以助语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富有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抒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分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浪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色彩。骚体诗的形成，是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诗歌形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一大革新，对后世文学影响深远。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000" y="260280"/>
            <a:ext cx="882000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行楷"/>
              </a:rPr>
              <a:t>三、关于本文：</a:t>
            </a:r>
            <a:br>
              <a:rPr sz="40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      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见教材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P75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注释①。补充：《渔父》的作者，历来说法不一。现代研究者一般认为，此文并非屈原所作，“可能是深知屈原生活和思想的楚人的作品。”（</a:t>
            </a:r>
            <a:r>
              <a:rPr b="1" lang="zh-CN" sz="4800" spc="-1" strike="noStrike">
                <a:solidFill>
                  <a:srgbClr val="ff3300"/>
                </a:solidFill>
                <a:latin typeface="华文中宋"/>
                <a:ea typeface="华文中宋"/>
              </a:rPr>
              <a:t>郭沫若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语），考之作品的实际，这一推断比较可信。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  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9280" y="189000"/>
            <a:ext cx="8964720" cy="36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行楷"/>
              </a:rPr>
              <a:t>四、梳理课文脉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第一部分（第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段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交代了故事的时间、地点、主人公的情况及渔父的问话，展开一场思想交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第二部分（第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段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文章的主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渔父是一位隐者，是道家的思想的信徒。渔父所取的人生哲学、处世态度，正是从老庄那里继承过来的。这是一场重大的人生哲学论辩，在折节保身和舍生取义的鲜明对立中，屈原以其坚定的抉择，显示了宁为玉碎、不为瓦全的伟大人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第三部分（第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段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笔墨集中在渔父一人身上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渔父无言而别、唱歌远去的结尾，也使全文获得了悠远的情韵和意境。《渔父》的价值在于相当准确地写出了屈原的思想性格，作为对比和衬托，还塑造了一位高蹈遁世的隐者形象。后世众多诗词作品中吟啸烟霞的渔钓隐者形象，从文学上溯源，都不能不使我们联想到《楚辞》中的这篇《渔父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02:06:01Z</dcterms:created>
  <dc:creator>sun_ehua</dc:creator>
  <dc:description/>
  <dc:language>en-US</dc:language>
  <cp:lastModifiedBy>番茄花园</cp:lastModifiedBy>
  <dcterms:modified xsi:type="dcterms:W3CDTF">2008-08-24T02:41:37Z</dcterms:modified>
  <cp:revision>52</cp:revision>
  <dc:subject/>
  <dc:title>渔父</dc:title>
</cp:coreProperties>
</file>