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F02-84B2-43DD-A570-09C4A001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563-3D56-4C0B-94AF-82ADA5F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E4C-262B-4AD1-B598-2BD45F13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262-EA67-4E54-8956-59047A27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64D-FF9E-4905-ABCF-17919D44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545-D55A-45BF-A5B2-E75020D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A20-C995-45DF-95BD-13C4390B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A1B-E545-444A-AAD2-E4B9FC94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4CF-EC15-44BE-9CDC-C527609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501-56A4-47B8-8A3E-08F38D1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FA2-4CBC-470B-B804-C4F3072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0A4-1FBC-48F6-ABD9-10AF4516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FB78-65F5-4C1D-99E5-AE9948A36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&#28180;&#29238;&#35829;&#35835;.r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&#28180;&#29238;&#35829;&#35835;.r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&#28180;&#29238;&#35829;&#35835;.rm" TargetMode="External"/><Relationship Id="rId3" Type="http://schemas.openxmlformats.org/officeDocument/2006/relationships/hyperlink" Target="E:\&#12298;&#28180;&#29238;&#12299;&#35270;&#39057;&#26391;&#35835;&#65288;cctv10&#29256;&#65289;.r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&#28180;&#29238;&#35829;&#35835;.rm" TargetMode="External"/><Relationship Id="rId3" Type="http://schemas.openxmlformats.org/officeDocument/2006/relationships/hyperlink" Target="E:\&#12298;&#28180;&#29238;&#12299;&#35270;&#39057;&#26391;&#35835;&#65288;cctv10&#29256;&#65289;.r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2205000"/>
            <a:ext cx="64008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高二</a:t>
            </a:r>
            <a:r>
              <a:rPr b="0" lang="en-US" sz="7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(4)</a:t>
            </a:r>
            <a:r>
              <a:rPr b="0" lang="zh-CN" sz="7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班欢迎您</a:t>
            </a:r>
            <a:endParaRPr b="0" lang="en-US" sz="72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48690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建湖县第一中学 张健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</a:rPr>
              <a:t>梳理文本字词和句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40669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憔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容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枯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何故深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鼓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枻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屈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既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是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于江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能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之察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之汶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19280" y="1052640"/>
            <a:ext cx="572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脸色，今多指色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形体容貌，今多指对事物的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行为高出世俗，今指高高举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敲打（名词作动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已经（被动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见表被动（被动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（状语后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（定语后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2"/>
          </p:cNvPr>
          <p:cNvSpPr/>
          <p:nvPr/>
        </p:nvSpPr>
        <p:spPr>
          <a:xfrm>
            <a:off x="1187280" y="1700280"/>
            <a:ext cx="64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分角色朗读文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32004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体会文章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分析人物形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936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读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49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作者在塑造屈原形象时，除了主要写他的语言，还写了他的行为、外貌，试从文中找出，并说明其作用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276640"/>
            <a:ext cx="8686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方正粗倩简体"/>
                <a:ea typeface="方正粗倩简体"/>
              </a:rPr>
              <a:t>游于江潭，行吟泽畔，颜色憔悴，形容枯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活画出屈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英雄末路、心力交瘁、心事重重、形销骨立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的外在形象。暗写出屈原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所处的黑暗环境，所遭受的困境挫折，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下文写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屈原的守节不渝、清白终生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张本、铺垫。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160720" cy="642600"/>
          </a:xfrm>
          <a:prstGeom prst="rect">
            <a:avLst/>
          </a:prstGeom>
          <a:solidFill>
            <a:srgbClr val="ff99cc">
              <a:alpha val="30000"/>
            </a:srgbClr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方正琥珀简体"/>
              </a:rPr>
              <a:t>问题探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Arial"/>
              </a:rPr>
              <a:t>分析屈原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举世皆浊我独清，众人皆醉我独醒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屈原说明自己被流放的原因：自己与众不同，独来独往，不苟合，不妥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以身之察察，受物之汶汶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以皓皓之白，蒙世俗之尘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他是一个不随波逐流，不苟合，不妥协的特立独行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宁赴湘流，葬于江鱼之腹中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表明了屈原不惜牺牲性命也决不同流合污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380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9228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、本文塑造了屈原怎样一个形象？显示了屈原怎样的人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20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方正粗倩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粗倩简体"/>
                <a:ea typeface="方正粗倩简体"/>
              </a:rPr>
              <a:t>屈原是一个</a:t>
            </a:r>
            <a:r>
              <a:rPr b="1" lang="zh-CN" sz="3600" spc="-1" strike="noStrike">
                <a:solidFill>
                  <a:srgbClr val="ff3300"/>
                </a:solidFill>
                <a:latin typeface="方正粗倩简体"/>
                <a:ea typeface="方正粗倩简体"/>
              </a:rPr>
              <a:t>洁身自好，不随波逐流，不苟合，不妥协，与众不同， 特立独行</a:t>
            </a:r>
            <a:r>
              <a:rPr b="1" lang="zh-CN" sz="3600" spc="-1" strike="noStrike">
                <a:solidFill>
                  <a:srgbClr val="0000cc"/>
                </a:solidFill>
                <a:latin typeface="方正粗倩简体"/>
                <a:ea typeface="方正粗倩简体"/>
              </a:rPr>
              <a:t>的形象</a:t>
            </a:r>
            <a:r>
              <a:rPr b="1" lang="zh-CN" sz="36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149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方正粗倩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粗倩简体"/>
                <a:ea typeface="方正粗倩简体"/>
              </a:rPr>
              <a:t>他是一个</a:t>
            </a:r>
            <a:r>
              <a:rPr b="1" lang="zh-CN" sz="3600" spc="-1" strike="noStrike">
                <a:solidFill>
                  <a:srgbClr val="ff3300"/>
                </a:solidFill>
                <a:latin typeface="方正粗倩简体"/>
                <a:ea typeface="方正粗倩简体"/>
              </a:rPr>
              <a:t>始终不渝地坚持理想、不惜舍生取义</a:t>
            </a:r>
            <a:r>
              <a:rPr b="1" lang="zh-CN" sz="3600" spc="-1" strike="noStrike">
                <a:solidFill>
                  <a:srgbClr val="0000cc"/>
                </a:solidFill>
                <a:latin typeface="方正粗倩简体"/>
                <a:ea typeface="方正粗倩简体"/>
              </a:rPr>
              <a:t>的生活中的强者； 显示了屈原</a:t>
            </a:r>
            <a:r>
              <a:rPr b="1" lang="zh-CN" sz="3600" spc="-1" strike="noStrike">
                <a:solidFill>
                  <a:srgbClr val="ff3300"/>
                </a:solidFill>
                <a:latin typeface="方正粗倩简体"/>
                <a:ea typeface="方正粗倩简体"/>
              </a:rPr>
              <a:t>宁为玉碎，不为瓦全</a:t>
            </a:r>
            <a:r>
              <a:rPr b="1" lang="zh-CN" sz="3600" spc="-1" strike="noStrike">
                <a:solidFill>
                  <a:srgbClr val="0000cc"/>
                </a:solidFill>
                <a:latin typeface="方正粗倩简体"/>
                <a:ea typeface="方正粗倩简体"/>
              </a:rPr>
              <a:t>的伟大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81280" y="380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609480"/>
            <a:ext cx="44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54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、本文在塑造屈原的同时，还塑造了一位形象，他是谁？他具有怎样的处世态度？为何要塑造这一形象？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0360" y="22766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文章还渲染了</a:t>
            </a:r>
            <a:r>
              <a:rPr b="1" lang="zh-CN" sz="36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渔父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的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华文中宋"/>
              </a:rPr>
              <a:t>他具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华文中宋"/>
              </a:rPr>
              <a:t>明哲保身、随遇而安、知天达命、与世推移的处世态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华文中宋"/>
              </a:rPr>
              <a:t>。作者还刻画出他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华文中宋"/>
              </a:rPr>
              <a:t>不愠不怒、不强人所难心平气和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华文中宋"/>
              </a:rPr>
              <a:t>的超然姿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82090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作者塑造这一形象，对塑造屈原来讲，具有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对比、衬托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文章采用了对比的手法，主要通过屈原和渔父的问与答，表现了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两种对立的人生态度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截然不同的思想性格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2"/>
          </p:cNvPr>
          <p:cNvSpPr/>
          <p:nvPr/>
        </p:nvSpPr>
        <p:spPr>
          <a:xfrm>
            <a:off x="2662200" y="1700280"/>
            <a:ext cx="64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齐读文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3429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再次感受屈原的伟大人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4936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读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调查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屈原、渔父面对人生做出了不同的选择，屈原是选择壮烈的死，以死明志，显示了他不屈的气节；渔父选择超然的活，以隐守志，彰显了他自由的灵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屈原、渔父做出了不同的抉择，你更欣赏谁？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89120" y="765000"/>
            <a:ext cx="1826280" cy="5410440"/>
          </a:xfrm>
          <a:prstGeom prst="rect">
            <a:avLst/>
          </a:prstGeom>
          <a:solidFill>
            <a:srgbClr val="993366">
              <a:alpha val="11000"/>
            </a:srgbClr>
          </a:solidFill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路漫漫其修远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3960" y="692280"/>
            <a:ext cx="1826280" cy="5562360"/>
          </a:xfrm>
          <a:prstGeom prst="rect">
            <a:avLst/>
          </a:prstGeom>
          <a:solidFill>
            <a:srgbClr val="993366">
              <a:alpha val="11000"/>
            </a:srgbClr>
          </a:solidFill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吾将上下而求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3916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3273480" cy="525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39337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赛龙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22400" y="42757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吃粽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27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5120" y="1844640"/>
            <a:ext cx="7238880" cy="41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渔   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楚辞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3213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333360"/>
            <a:ext cx="3168360" cy="1655640"/>
          </a:xfrm>
          <a:prstGeom prst="wedgeRoundRectCallout">
            <a:avLst>
              <a:gd name="adj1" fmla="val -73495"/>
              <a:gd name="adj2" fmla="val 45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渔父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渔翁。父，同“甫”，古代对老年男子的尊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836640"/>
            <a:ext cx="4535280" cy="15562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方正粗倩简体"/>
                <a:ea typeface="方正粗倩简体"/>
              </a:rPr>
              <a:t>屈原 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战国时期伟大的诗人，政治家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名平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字原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；又自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名正则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，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灵均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。出身为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楚国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贵族。初任左徒、三闾大夫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主张推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“美政”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，改革政治。后遭旧贵族谗言攻击，被迫去官。楚顷襄王时，被放逐沅湘流域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终因理想无从实现，遂投汨罗江自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808440" cy="5472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-360"/>
            <a:ext cx="3886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关于楚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4221000"/>
            <a:ext cx="822960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子长短不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式灵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用语气词“兮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5053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楚辞”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838080"/>
            <a:ext cx="8229600" cy="2667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3300"/>
                </a:solidFill>
                <a:uFillTx/>
                <a:latin typeface="Impact"/>
              </a:rPr>
              <a:t>“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Impact"/>
              </a:rPr>
              <a:t>楚辞”：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</a:rPr>
              <a:t>兴起于战国时期，以屈原为代表（宋玉、唐勒等）创作的一种诗歌形式，又称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Impact"/>
              </a:rPr>
              <a:t>“楚辞体”、“骚体”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3300"/>
                </a:solidFill>
                <a:uFillTx/>
                <a:latin typeface="Impact"/>
              </a:rPr>
              <a:t>《楚辞》：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</a:rPr>
              <a:t>西汉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Impact"/>
              </a:rPr>
              <a:t>刘向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</a:rPr>
              <a:t>编辑的收录屈原等人诗歌的一本诗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Impact"/>
              </a:rPr>
              <a:t>总集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4281480"/>
            <a:ext cx="23716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/>
          </p:cNvPr>
          <p:cNvSpPr/>
          <p:nvPr/>
        </p:nvSpPr>
        <p:spPr>
          <a:xfrm>
            <a:off x="1619280" y="170028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听朗诵感知文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2004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标注字词读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划出文中名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824400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读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836640"/>
            <a:ext cx="87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屈原既放，游於江潭，行吟泽畔，颜色憔悴，形容枯槁。渔父见而问之曰：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子非三闾大夫与？何故至於斯！”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屈原曰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举世皆浊我独清，众人皆醉我独醒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是以见放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渔父曰：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圣人不凝滞於物，而能与世推移。世人皆浊，何不淈其泥而扬其波？众人皆醉，何不餔其糟而歠其酾？何故深思高举，自令放为？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屈原曰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吾闻之，新沐者必弹冠，新浴者必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衣；安能以身之察察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受物之汶汶者乎！宁赴湘流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葬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江鱼之腹中。安能以皓皓之白，而蒙世俗之尘埃乎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渔父莞尔而笑，鼓枻而去，乃歌曰：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沧浪之水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兮，可以濯吾缨。沧浪之水浊兮，可以濯吾足。”</a:t>
            </a:r>
            <a:r>
              <a:rPr b="1" lang="zh-CN" sz="2800" spc="-1" strike="noStrike">
                <a:solidFill>
                  <a:srgbClr val="003300"/>
                </a:solidFill>
                <a:latin typeface="华文中宋"/>
                <a:ea typeface="华文中宋"/>
              </a:rPr>
              <a:t>遂去不复与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512640" cy="51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40360" y="0"/>
            <a:ext cx="2737080" cy="863640"/>
          </a:xfrm>
          <a:prstGeom prst="cloudCallout">
            <a:avLst>
              <a:gd name="adj1" fmla="val -33296"/>
              <a:gd name="adj2" fmla="val 100921"/>
            </a:avLst>
          </a:prstGeom>
          <a:solidFill>
            <a:srgbClr val="ffff99">
              <a:alpha val="69000"/>
            </a:srgbClr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方正粗倩简体"/>
              </a:rPr>
              <a:t>惊奇  诧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476280"/>
            <a:ext cx="2520720" cy="1008000"/>
          </a:xfrm>
          <a:prstGeom prst="cloudCallout">
            <a:avLst>
              <a:gd name="adj1" fmla="val 49435"/>
              <a:gd name="adj2" fmla="val 81810"/>
            </a:avLst>
          </a:prstGeom>
          <a:solidFill>
            <a:srgbClr val="ffff99">
              <a:alpha val="69000"/>
            </a:srgbClr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方正粗倩简体"/>
              </a:rPr>
              <a:t>感慨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1557360"/>
            <a:ext cx="2520720" cy="863640"/>
          </a:xfrm>
          <a:prstGeom prst="cloudCallout">
            <a:avLst>
              <a:gd name="adj1" fmla="val -40930"/>
              <a:gd name="adj2" fmla="val 99634"/>
            </a:avLst>
          </a:prstGeom>
          <a:solidFill>
            <a:srgbClr val="ffff99">
              <a:alpha val="69000"/>
            </a:srgbClr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方正粗倩简体"/>
              </a:rPr>
              <a:t>感叹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2708280"/>
            <a:ext cx="2736720" cy="1008000"/>
          </a:xfrm>
          <a:prstGeom prst="cloudCallout">
            <a:avLst>
              <a:gd name="adj1" fmla="val 17805"/>
              <a:gd name="adj2" fmla="val 108583"/>
            </a:avLst>
          </a:prstGeom>
          <a:solidFill>
            <a:srgbClr val="ffff99">
              <a:alpha val="69000"/>
            </a:srgbClr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方正粗倩简体"/>
              </a:rPr>
              <a:t>激愤  坚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4005360"/>
            <a:ext cx="2736720" cy="863640"/>
          </a:xfrm>
          <a:prstGeom prst="cloudCallout">
            <a:avLst>
              <a:gd name="adj1" fmla="val -17981"/>
              <a:gd name="adj2" fmla="val 118384"/>
            </a:avLst>
          </a:prstGeom>
          <a:solidFill>
            <a:srgbClr val="ffff99">
              <a:alpha val="69000"/>
            </a:srgbClr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方正粗倩简体"/>
              </a:rPr>
              <a:t>旷达  洒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8198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8198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Arial"/>
              </a:rPr>
              <a:t>请学生标出正确读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淈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     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      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198900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ǔ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ǔ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ū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huò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65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155736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醨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（         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汶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枻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濯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989000"/>
            <a:ext cx="208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í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ì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zhuó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2"/>
          </p:cNvPr>
          <p:cNvSpPr/>
          <p:nvPr/>
        </p:nvSpPr>
        <p:spPr>
          <a:xfrm>
            <a:off x="1187280" y="1700280"/>
            <a:ext cx="64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齐读文本梳理内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2004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找出重点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划出难解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3"/>
          </p:cNvPr>
          <p:cNvSpPr/>
          <p:nvPr/>
        </p:nvSpPr>
        <p:spPr>
          <a:xfrm>
            <a:off x="824400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4936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读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6:46:56Z</dcterms:created>
  <dc:creator>cbh</dc:creator>
  <dc:description/>
  <dc:language>en-US</dc:language>
  <cp:lastModifiedBy>zmj</cp:lastModifiedBy>
  <dcterms:modified xsi:type="dcterms:W3CDTF">2011-10-19T11:09:12Z</dcterms:modified>
  <cp:revision>17</cp:revision>
  <dc:subject/>
  <dc:title>幻灯片 1</dc:title>
</cp:coreProperties>
</file>