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17A-65F0-489B-B850-7E9D1326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10F-8045-41AA-A3B9-65CE0920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71C-FAD2-4C78-AFD4-02680FCF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4F7-5134-4A56-AAAC-7437111B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0C2-66DB-462E-9251-FC56C41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110-076B-435F-8D02-20996F19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86F-D597-4FBB-8F21-F496635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E02-A068-4C83-9093-12123C79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C28-53DC-4533-B188-0BB1CD5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4CE-3C1A-4D9C-B141-1EA0100F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99E-4DE3-4B86-AB5C-DFD396F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38F-DA7C-414F-A304-CA22163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D082-50A1-46EB-BBFA-3E738F23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18352.htm" TargetMode="External"/><Relationship Id="rId2" Type="http://schemas.openxmlformats.org/officeDocument/2006/relationships/hyperlink" Target="http://baike.baidu.com/view/118343.htm" TargetMode="External"/><Relationship Id="rId3" Type="http://schemas.openxmlformats.org/officeDocument/2006/relationships/hyperlink" Target="http://baike.baidu.com/view/118837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2492280"/>
            <a:ext cx="30592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赵师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-360" y="620640"/>
            <a:ext cx="280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楷体_GB2312"/>
              </a:rPr>
              <a:t>约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45a4a970fa71b6455fb96d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674640"/>
            <a:ext cx="10544040" cy="7532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全诗通过对撩人思绪的环境及“闲敲棋子”这一细节动作的渲染，既写了诗人雨夜候客来访的情景，也写出约客未至的一种怅惘的心情，可谓形神兼备。全诗生活气息较浓，又摆脱了雕琢之习，清丽可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45a4a970fa71b6455fb96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主题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黄梅雨时节的夜晚，乡村池塘中传来阵阵蛙叫。诗人约来一位朋友来做客，可等到夜半也没有来。他只好一个人伴着油灯，无聊的敲着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a7eaf7"/>
                </a:solidFill>
                <a:latin typeface="楷体_GB2312"/>
                <a:ea typeface="楷体_GB2312"/>
              </a:rPr>
              <a:t>语近情遥，含而不露地表现了作者的寂寞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45a4a970fa71b6455fb96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本诗写的是什么季节，描写了哪些事物？诗中景物渲染了什么气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9640" y="2708280"/>
            <a:ext cx="8136000" cy="57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a0d4d8"/>
                </a:solidFill>
                <a:latin typeface="楷体_GB2312"/>
                <a:ea typeface="楷体_GB2312"/>
              </a:rPr>
              <a:t>本诗描写</a:t>
            </a:r>
            <a:r>
              <a:rPr b="0" lang="zh-CN" sz="2800" spc="-1" strike="noStrike">
                <a:solidFill>
                  <a:srgbClr val="a0d4d8"/>
                </a:solidFill>
                <a:latin typeface="Arial"/>
                <a:ea typeface="楷体_GB2312"/>
              </a:rPr>
              <a:t>江南春末夏初的夜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写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雨、池塘、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家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既描绘出夏季梅雨的无所不在与急骤密集，表现乡村之景的清新静谧，又暗示了客人不能如期赴约的客观原因，流露出诗人对绵绵梅雨这种阴雨天气的无奈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处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既是写池塘中蛙声阵阵，又是采用以声衬静的写法，烘托出梅雨时节乡村夜晚的恬静和谐气氛，同时还折射出诗人落寞孤寂与烦躁不安的心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45a4a970fa71b6455fb96de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诗中最精彩的句子是什么 它刻画了诗人怎样的心情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7208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有约不来过夜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闲敲棋子落灯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后二句点出了人物和事情。主人耐心地而又有几分焦急地等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45a4a970fa71b6455fb96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赵师秀其他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 数日秋风欺病夫，尽吹黄叶下庭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 林疏放得遥山出，又被云遮一半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采桑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梅花谢后樱花绽，浅浅匀红。试手天工。百卉千葩一信通。馀寒未许开舒妥，怨雨愁风。结子筠笼。万颗匀圆讶许同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045a4a970fa71b6455fb96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6868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楷体_GB2312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3672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c8e5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约客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黄梅时节家家雨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青草池塘处处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约不来过夜半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闲敲棋子落灯花。</a:t>
            </a:r>
            <a:r>
              <a:rPr b="0" lang="zh-CN" sz="3200" spc="-1" strike="noStrike">
                <a:solidFill>
                  <a:srgbClr val="f03e7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5219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师秀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17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19)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诗人。字紫芝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灵秀。永嘉（今浙江温州）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徐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字灵晖）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徐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字灵渊）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翁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字灵舒）并称“永嘉四灵”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008103003019222"/>
          <p:cNvPicPr/>
          <p:nvPr/>
        </p:nvPicPr>
        <p:blipFill>
          <a:blip r:embed="rId4"/>
          <a:stretch/>
        </p:blipFill>
        <p:spPr>
          <a:xfrm>
            <a:off x="5292720" y="260280"/>
            <a:ext cx="36403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注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45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选自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清苑斋集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南宋群贤小集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本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约客：约请客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黄梅时节：农历四、五月间，江南梅子黄了，熟了，大都是阴雨连连的时候，成为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梅雨季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所以称江南雨季为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黄梅时节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意思就是夏初江南梅子黄熟的时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家家雨：家家户户都赶上下雨。形容处处都在下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处处蛙：到处是青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约：即邀约友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⑥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落灯花：旧时以油灯照明，灯心烧残，落下来时好像一朵闪亮的小花。落：使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掉落。灯花：灯芯燃尽结成的花状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45a4a970fa71b6455fb96d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3328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黄梅时节家家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江南的梅雨时节家家户户笼罩在雨雾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黄梅时节：农历四、五月间，江南梅子黄了，熟了，大都是阴雨连连的时候，成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梅雨季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所以称江南雨季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黄梅时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意思就是夏初江南梅子黄熟的时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家雨：家家户户都赶上下雨。形容处处都在下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045a4a970fa71b6455fb96d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89866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青草池塘处处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长满了青草的池塘中蛙声不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处处蛙：到处是青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45a4a970fa71b6455fb96d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108000" y="0"/>
            <a:ext cx="106520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9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有约不来过夜半（点题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与客人有约在先，但过了夜半还不见人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有约：即邀约友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45a4a970fa71b6455fb96d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106520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957708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闲敲棋子落灯花（佳句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一灯如豆，闲坐敲棋，竟震落了灯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落灯花：旧时以油灯照明，灯心烧残，落下来时好像一朵闪亮的小花。灯花：灯芯燃尽结成的花状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7eaf7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a7eaf7"/>
                </a:solidFill>
                <a:latin typeface="Arial"/>
                <a:ea typeface="楷体_GB2312"/>
              </a:rPr>
              <a:t>落：使</a:t>
            </a:r>
            <a:r>
              <a:rPr b="0" lang="en-US" sz="3200" spc="-1" strike="noStrike">
                <a:solidFill>
                  <a:srgbClr val="a7eaf7"/>
                </a:solidFill>
                <a:latin typeface="Arial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a7eaf7"/>
                </a:solidFill>
                <a:latin typeface="Arial"/>
                <a:ea typeface="楷体_GB2312"/>
              </a:rPr>
              <a:t>掉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45a4a970fa71b6455fb96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诗文赏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43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前二句交待了当时的环境和时令。“黄梅”、“雨”、“池塘”、“蛙声”，写出了江南梅雨季节的夏夜之景：雨声不断，蛙声一片。读来使人如身临其境，仿佛细雨就在身边飘，蛙声就在身边叫。</a:t>
            </a:r>
            <a:r>
              <a:rPr b="0" lang="zh-CN" sz="3200" spc="-1" strike="noStrike">
                <a:solidFill>
                  <a:srgbClr val="a7eaf7"/>
                </a:solidFill>
                <a:latin typeface="Arial"/>
                <a:ea typeface="楷体_GB2312"/>
              </a:rPr>
              <a:t>这看似表现得很“热闹”的环境，实际上诗人要反衬出它的“寂静”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3:53:11Z</dcterms:created>
  <dc:creator>Administrator</dc:creator>
  <dc:description/>
  <dc:language>en-US</dc:language>
  <cp:lastModifiedBy>微软用户</cp:lastModifiedBy>
  <dcterms:modified xsi:type="dcterms:W3CDTF">2012-10-23T00:45:37Z</dcterms:modified>
  <cp:revision>14</cp:revision>
  <dc:subject/>
  <dc:title>约客</dc:title>
</cp:coreProperties>
</file>