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6FD2-2A6C-4379-AD98-6EE3EE91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A1F8-5960-4DE7-B900-C3B90631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3DE4-AF67-46FF-85A1-B4C567A2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3703-EEB7-4460-98A8-FB9D9C81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7B02-73BB-4BA8-A228-F55275A5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C4C-D939-4961-A7F2-0F9D0AB5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8C09-9E06-4EA1-8E52-7BF94FEE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3D3B-0698-4F0F-9A33-94A79119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6FC1-8677-4877-BA82-2D7902CC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09D-E34E-48A4-AADD-B067C847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59E-2B1E-4979-8EB3-0551D161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AD86-0CCF-48F3-B9E3-32AF95B9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D9F4-B0A2-4E8C-9376-900081B6A0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baike.baidu.com/view/206824.htm" TargetMode="External"/><Relationship Id="rId4" Type="http://schemas.openxmlformats.org/officeDocument/2006/relationships/hyperlink" Target="http://baike.baidu.com/view/7599.htm" TargetMode="External"/><Relationship Id="rId5" Type="http://schemas.openxmlformats.org/officeDocument/2006/relationships/hyperlink" Target="http://baike.baidu.com/view/118352.htm" TargetMode="External"/><Relationship Id="rId6" Type="http://schemas.openxmlformats.org/officeDocument/2006/relationships/hyperlink" Target="http://baike.baidu.com/view/118343.htm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朗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05640" y="404640"/>
            <a:ext cx="3106440" cy="26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约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59800" y="2205000"/>
            <a:ext cx="11552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赵师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738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44000" y="6021360"/>
            <a:ext cx="576000" cy="52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7377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426600" cy="7029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76148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这之首诗是赵师秀的特“秀”作。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该诗写的是诗人在一个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风雨交加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的夏夜独自期客的情景。诗歌采用写景寄情写法，表达了诗人内心复杂的思想感情。是一首情景交融、清新隽永、耐人寻味的精妙小诗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2940840"/>
            <a:ext cx="90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2558520"/>
            <a:ext cx="91458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诗歌前两句写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交待了当时的环境和时令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为我们描绘出一幅江南夏雨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梅雨季节，阴雨连绵，池塘水涨，蛙声不断，乡村之景是那么清新恬静、和谐美妙。但是，“一切景语皆情语”，诗人在这里并非为写景而写景，而是于景中寓了他独自期客的复杂思想感情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家家雨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”既描绘出夏季梅雨的无所不在与急骤密集，表现乡村之景的清新静谧，又暗寄示了客人不能如期赴约的客观原因，流露出诗人对绵绵梅雨这种阴雨天气的无奈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“处处蛙”既是写池塘中蛙声阵阵，又是采用以声衬静的写法，烘托出梅雨时节乡村夜晚的恬静和谐气氛，同时还折射出诗人落寞孤寂与烦躁不安的心境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两句诗分别从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视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听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个方面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形象而真切地表现出在夜深人静之时，诗人独自期客而客人却始终没有出现时的独特心理感受。遍布乡村、连绵不断的骤雨，此起彼伏、不绝于耳的蛙鼓，本来十分和谐美妙，但令人懊恼的是：这绵绵阴雨，阻挡了友人如约，如鼓的蛙声，扰乱了诗人的心境。此时此刻，诗人多么希望友人风雨无阻、如期而至，和他一起举棋消愁啊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506160" cy="7126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198880"/>
            <a:ext cx="9144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　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诗歌后两句于叙事中抒情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，表达了诗人孤独寂寞、百无聊奈、烦躁不安、茫然若失的复杂心情。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窗外的雨，密密匝匝，池塘的蛙，聒聒噪噪，桌上的灯，摇摇曳曳。为了先前的约定、为了诺言、为了友谊，尽管夜已深，人已静，灯芯上的灯花拨了一次又一次，但是，诗人始终没有放弃，仍然坚持等待着“客”的到来，而有约在先的客人却一直未能露面。面对此情此景，诗人内心可谓“别是一番滋味”，那种焦虑与无奈之情更是“剪不断，理还乱”。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第三句“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有约不来过夜半”是情和景的契合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作为由景到情的过渡，此句虽是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叙写友人失约，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但是，诗中却寓含了诗人几多的期盼与焦虑、几多的失望与遗憾。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“闲敲棋子落灯花”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“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敲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字用得更为精妙，再用一“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闲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字加以修饰，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这一细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更是让人们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十分真切地读出了诗人内心几多的无聊与无奈、几多的烦躁与不安、几多的茫然与失落、几多的孤寂与闷倦。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透过此句，我们仿佛看到了茫茫雨夜中，寂寞小屋内，摇曳的灯光下，形单影只的诗人枯坐桌前，无聊地把玩棋子而又茫然无奈的情景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个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重情重义而又孤寂惆怅者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形象便凸现在读者眼前。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这两句实中有虚，写友人失约薄情，诗人守信重义，表现了诗人复杂的思想感情和对友人的淡淡的责备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只是由于有前两句清新恬静、和谐美妙的乡村之景的渲染，才使读者感受到诗人内心又是那么的坦然和平静，对友人的责备又是那么的轻描淡写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936360" cy="7245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诗通过对撩人思绪的环境及“闲敲棋子”这一细节动作的渲染，既写了诗人雨夜候客来访的情景，也写出约客未至的一种怅惘的心情，可谓形神兼备。全诗生活气息较浓，又摆脱了雕琢之习，语言清丽可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684360" y="-100080"/>
            <a:ext cx="10080720" cy="7174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3657600" y="304920"/>
            <a:ext cx="1866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经典试题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914400"/>
            <a:ext cx="8686800" cy="295992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对这首宋诗的赏析，不恰当的一项是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前两句写出了时令特色和地方气息，从侧面透露出诗人在静候友人来访时的感受。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三句点题，以“夜半”说明诗人在久久等待，但约客未至，却只听到阵阵的雨声、蛙声。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四句描写了“闲敲棋子”这一细节，生动地表现出诗人此时闲适恬淡的心情。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全诗通过对环境和人物动作的渲染，描写诗人雨夜等候客人的情景，含蓄而有韵味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5334120"/>
            <a:ext cx="7543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提示：前两句是诗人听到的“景”，诗人盼望朋友到来，侧耳细听，没能听到朋友的脚步，只听到雨声和蛙声；这两句也暗中点明朋友“不来”的原因。明乎此，最后一句的“闲敲棋子”的“闲”就不能理解为“悠闲”“闲适”，而是闲得无聊。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468000" cy="7129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0440" y="762120"/>
            <a:ext cx="8572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诗中主人公当时是什么心情 是通过什么表现出来的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819520"/>
            <a:ext cx="784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人当时候客不至，心情烦躁不安。通过一个细节描写“闲敲棋子”表现出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649080" cy="702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68360" cy="3933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700360" y="2487960"/>
            <a:ext cx="5978520" cy="19134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赵师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11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19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南宋诗人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字紫芝、灵芝，号灵秀，又号天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永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今浙江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温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人。光宗绍熙元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1190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进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徐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字灵晖）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徐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字灵渊）、翁卷（字灵舒）并称“永嘉四灵”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开创了“江湖派”一代诗风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宁宗庆元元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119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上元主簿，后为筠州推官。晚年宦游，逝于临安。有《赵师秀集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卷，别本《天乐堂集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卷，已佚。其《清苑斋集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卷，有《南宋群贤小集》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永嘉诗人祠堂丛刻》本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577440" cy="7188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9280" y="-171360"/>
            <a:ext cx="763272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《约客》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南宋●赵师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黄梅时节家家雨， 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 青草池塘处处蛙。 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 有约不来过夜半， 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 闲敲棋子落灯花。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819520" y="228600"/>
            <a:ext cx="3047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诗歌注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55" name=""/>
          <p:cNvSpPr/>
          <p:nvPr/>
        </p:nvSpPr>
        <p:spPr>
          <a:xfrm>
            <a:off x="1772280" y="1227240"/>
            <a:ext cx="5438520" cy="46623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　    ①约客：约请客人来相会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　　②黄梅时节：农历四、五月间，江南梅子黄了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熟了，大都是阴雨连连的时候，所以称“黄梅时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为江南雨季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　　③家家雨：家家户户都赶上下雨。形容雨水多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到处都有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　　④处处蛙：到处是蛙跳蛙鸣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　　⑤有约：即邀约友人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　　⑥落灯花：旧时以油灯照明，灯心烧残，落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来时好像一朵闪亮的小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6440" y="1625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050920" y="2421000"/>
            <a:ext cx="56167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理解诗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663240" y="-42120"/>
            <a:ext cx="667800" cy="40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黄梅时节家家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20560" y="260280"/>
            <a:ext cx="9115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黄梅时节，在一个梅雨绵绵的夜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496320" y="224640"/>
            <a:ext cx="667800" cy="40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青草池塘处处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14840" y="404640"/>
            <a:ext cx="237384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乡村的青草池塘中传来阵阵蛙鸣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94840" y="260280"/>
            <a:ext cx="2008800" cy="61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时已经是半夜了，诗人的朋友却没有如约来下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59000" y="-502560"/>
            <a:ext cx="1003320" cy="66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有约不来过夜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144680" y="-195840"/>
            <a:ext cx="729000" cy="45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闲敲棋子落灯花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3680" y="189000"/>
            <a:ext cx="182628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无聊地敲着棋子，灯灰震落在棋盘上，心中有些失落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3:27:26Z</dcterms:created>
  <dc:creator>微软系统</dc:creator>
  <dc:description/>
  <dc:language>en-US</dc:language>
  <cp:lastModifiedBy>微软用户</cp:lastModifiedBy>
  <dcterms:modified xsi:type="dcterms:W3CDTF">2013-11-19T07:58:29Z</dcterms:modified>
  <cp:revision>12</cp:revision>
  <dc:subject/>
  <dc:title>幻灯片 1</dc:title>
</cp:coreProperties>
</file>