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B265D-C206-49F9-B032-89F922040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DACB7-FC41-49ED-8C12-6CCC464A4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95A50-04A6-48AF-8801-C742ED04E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EE8DA-B7BE-4217-9BB6-99DF69313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D9C05-6665-4D02-815B-B2016CC91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01463-CA81-41E1-8A76-E01699B38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2BC84-4590-4DC1-A11C-AFE397745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1F15D-C3C0-4E00-B00A-ADF77636C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02A4F-D31D-4D9C-870D-E03090937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6C25E-A366-4932-9EBC-E5EC1D7D5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D82C0-A41C-4498-AD50-F672037B5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189E1-477A-4386-AA2E-FEC6F6FC5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4887F-F14F-4243-898D-FA3CEDF82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6E880-FFBC-49CD-808C-C6AB8B9CC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FD08B-2FB9-4EC7-AADC-6FE54942D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095CD-FB98-4943-9124-C164EF50A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C0660-E1F8-4A8C-872C-00EE70913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1A4B0-E912-41D2-AD25-B80071641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A5F8D-C5EB-44E1-A21D-166387B2D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5B68E-3CE8-43E9-9B99-980C2BD80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6E0BE-6C0B-498F-9757-E9C7FC07B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70F2C-FF07-4702-A310-D1A9BB2CD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5ED4E-94A0-490B-B959-E64D37C85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47F85-33E8-4E75-9F0D-9C288CBBE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0627E-106C-4DEA-9E5B-65046CC7C37D}" type="slidenum">
              <a:rPr b="0" lang="zh-CN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4BEA5-7742-4311-9783-565175254912}" type="slidenum">
              <a:rPr b="0" lang="zh-CN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2743200" y="635040"/>
            <a:ext cx="3181320" cy="17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华文新魏"/>
              </a:rPr>
              <a:t>约客</a:t>
            </a:r>
            <a:endParaRPr b="1" lang="en-US" sz="7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华文新魏"/>
              <a:ea typeface="华文新魏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380880" y="4114800"/>
            <a:ext cx="4572000" cy="220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352680" y="380880"/>
            <a:ext cx="22860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诗人心情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06" name=""/>
          <p:cNvSpPr/>
          <p:nvPr/>
        </p:nvSpPr>
        <p:spPr>
          <a:xfrm>
            <a:off x="1828800" y="1600200"/>
            <a:ext cx="490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全诗通过对撩人思绪的环境及“闲敲棋子”这一细节动作的渲染，既写了诗人雨夜候客来访的情景，也写出约客未至的一种怅惘的心情，可谓形神兼备。全诗生活气息较浓，又摆脱了雕琢之习，语言清丽可诵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133720" y="380880"/>
            <a:ext cx="428292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隶书"/>
              </a:rPr>
              <a:t>《约客》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隶书"/>
              </a:rPr>
              <a:t>　　南宋●赵师秀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隶书"/>
              </a:rPr>
              <a:t>　　黄梅时节家家雨，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隶书"/>
              </a:rPr>
              <a:t>　　青草池塘处处蛙。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隶书"/>
              </a:rPr>
              <a:t>　　有约不来过夜半，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隶书"/>
              </a:rPr>
              <a:t>　　闲敲棋子落灯花。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8381880" y="6172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8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8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5661" fill="hold"/>
                                        <p:tgtEl>
                                          <p:spTgt spid="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2819520" y="228600"/>
            <a:ext cx="304776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华文行楷"/>
              </a:rPr>
              <a:t>诗歌注释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华文行楷"/>
              <a:ea typeface="华文行楷"/>
            </a:endParaRPr>
          </a:p>
        </p:txBody>
      </p:sp>
      <p:sp>
        <p:nvSpPr>
          <p:cNvPr id="90" name=""/>
          <p:cNvSpPr/>
          <p:nvPr/>
        </p:nvSpPr>
        <p:spPr>
          <a:xfrm>
            <a:off x="1772280" y="1227240"/>
            <a:ext cx="5438520" cy="46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隶书"/>
              </a:rPr>
              <a:t>　    ①约客：约请客人来相会。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隶书"/>
              </a:rPr>
              <a:t>　　②黄梅时节：农历四、五月间，江南梅子黄了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隶书"/>
              </a:rPr>
              <a:t>熟了，大都是阴雨连连的时候，所以称“黄梅时节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隶书"/>
              </a:rPr>
              <a:t>为江南雨季。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隶书"/>
              </a:rPr>
              <a:t>　　③家家雨：家家户户都赶上下雨。形容雨水多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隶书"/>
              </a:rPr>
              <a:t>到处都有。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隶书"/>
              </a:rPr>
              <a:t>　　④处处蛙：到处是蛙跳蛙鸣。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隶书"/>
              </a:rPr>
              <a:t>　　⑤有约：即邀约友人。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隶书"/>
              </a:rPr>
              <a:t>　　⑥落灯花：旧时以油灯照明，灯心烧残，落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隶书"/>
              </a:rPr>
              <a:t>来时好像一朵闪亮的小花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06440" y="1625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3124080" y="152280"/>
            <a:ext cx="2152800" cy="68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华文新魏"/>
              </a:rPr>
              <a:t>作者简介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华文新魏"/>
              <a:ea typeface="华文新魏"/>
            </a:endParaRPr>
          </a:p>
        </p:txBody>
      </p:sp>
      <p:sp>
        <p:nvSpPr>
          <p:cNvPr id="93" name=""/>
          <p:cNvSpPr/>
          <p:nvPr/>
        </p:nvSpPr>
        <p:spPr>
          <a:xfrm>
            <a:off x="533520" y="838080"/>
            <a:ext cx="81532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赵师秀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(1170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1219)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南宋诗人。字紫芝，号灵秀，又号天乐。永嘉（今浙江温州）人。光宗绍熙元年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(1190)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进士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与徐照（字灵晖）、徐玑（字灵渊）、翁卷（字灵舒）并称称“永嘉四灵”，开创了“江湖派”一代诗风。宁宗庆元元年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(1195)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任上元主簿，后为筠州推官。晚年宦游，逝于临安。有《赵师秀集》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卷，别本《天乐堂集》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卷，已佚。其《清苑斋集》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卷，有《南宋群贤小集》本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《永嘉诗人祠堂丛刻》本。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　　赵师秀是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永嘉四灵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中较出色的作家。诗学姚合、贾岛，尊姚、贾为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二妙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所编《二妙集》选姚诗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12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首、贾诗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8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首。绝大部分是五言诗。又编《众妙集》，从沈□期起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共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76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家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排除杜甫，而选刘长卿诗却多达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23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首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编选宗旨与《二妙集》相似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大约是对《二妙集》的补充。作诗尚白描，反对江西派的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资书以为诗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然而他自己在写诗实践中，对姚、贾诗及与姚、贾风格近似的诗，往往或袭其命意、或套用其句法。如姚合《送宗慎言》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驿路多连水，州城半在云。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赵诗《薛氏瓜庐》则有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野水多于地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春山半是云。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即是一例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《诗人玉屑》卷十九引黄□语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他比较擅长五律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中间两联描写景物，偶有警句，如《桐柏观》中的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瀑近春风湿，松多晓日青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之类。然而通体完整者不多。自称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一篇幸止有四十字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更增一字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吾末如之何矣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!"(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刘克庄《野谷集序》引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可见枯窘之状。七绝《约客》写道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:"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黄梅时节家家雨，青草池塘处处蛙，有约不来过夜半，闲敲棋子落灯花。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明净自然，被不少选本选录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3200400" y="304920"/>
            <a:ext cx="236232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华文新魏"/>
              </a:rPr>
              <a:t>古诗今译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华文新魏"/>
              <a:ea typeface="华文新魏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295280"/>
            <a:ext cx="486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梅子黄时，家家户户都笼罩在烟雨之中； 远远近近那长满青草的河畔，传出蛙声阵阵。 已约请好的客人说来却还没有来，时间一晃就过了午夜；我手拿棋子轻轻地敲击着桌面，等着客人，只看到烛芯隔一会儿就落下一截……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3200400" y="152280"/>
            <a:ext cx="220968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诗文赏析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97" name=""/>
          <p:cNvSpPr/>
          <p:nvPr/>
        </p:nvSpPr>
        <p:spPr>
          <a:xfrm>
            <a:off x="457200" y="838080"/>
            <a:ext cx="80010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前二句交待了当时的环境和时令。“黄梅”、“雨”、“池塘”、“蛙声”，写出了江南梅雨季节的夏夜之景：雨声不断，蛙声一片。读来使人如身临其境，仿佛细雨就在身边飘，蛙声就在身边叫。这看似表现得很“热闹”的环境，实际上诗人要反衬出它的“寂静”。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　　后二句点出了人物和事情。主人耐心地而又有几分焦急地等着，没事可干，“闲敲”棋子，静静地看着闪闪的灯花。第三句“有约不来过夜半”，用“有约”点出了诗人曾“约客”来访，“过夜半”说明了等待时间之久，本来期待的是约客的叩门声，但听到的却只是一阵阵的雨声和蛙声，比照之下更显示出作者焦躁的心情。第四句“闲敲棋子”是一个细节描写，诗人约客久候不到，灯芯很长，诗人百无聊赖之际，下意识地将黑白棋子在棋盘上轻轻敲打，而笃笃的敲棋声又将灯花都震落了。这种姿态貌似闲逸，其实反映出诗人内心的焦躁。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　　全诗通过对撩人思绪的环境及“闲敲棋子”这一细节动作的渲染，既写了诗人雨夜候客来访的情景，也写出约客未至的一种怅惘的心情，可谓形神兼备。全诗生活气息较浓，又摆脱了雕琢之习，清丽可诵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3505320" y="304920"/>
            <a:ext cx="186696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创新研读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99" name=""/>
          <p:cNvSpPr/>
          <p:nvPr/>
        </p:nvSpPr>
        <p:spPr>
          <a:xfrm>
            <a:off x="380880" y="1447920"/>
            <a:ext cx="80773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《约客》这首诗究竟营造了一个什么样的意境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且看——江南的夏夜，梅雨纷飞，蛙声齐鸣，诗人约了友人来下棋，然而，时过夜半，约客未至，诗人闲敲棋子，静静等候……此时，诗人的心情如何呢？我看主要不是或根本就没有什么焦躁和烦闷的情绪，而更可能是一种闲逸、散淡和恬然自适的心境。也许曾有那么一会儿焦躁过（这种焦躁情绪怎么会持续到“过夜半”呢？），但现在，诗人被眼前江南夏夜之情之景感染了：多情的梅雨，欢快的哇鸣，闪烁的灯火，清脆的棋子敲击声……这是一幅既热闹又冷清、既凝重又飘逸的画面。也许诗人已经忘了他是在等友人，而完全沉浸到内心的激荡和静谧中。应该感谢友人的失约，让诗人享受到了这样一个独处的美妙的不眠之夜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3657600" y="304920"/>
            <a:ext cx="186696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经典试题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01" name=""/>
          <p:cNvSpPr/>
          <p:nvPr/>
        </p:nvSpPr>
        <p:spPr>
          <a:xfrm>
            <a:off x="152280" y="914400"/>
            <a:ext cx="8686800" cy="29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、对这首宋诗的赏析，不恰当的一项是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前两句写出了时令特色和地方气息，从侧面透露出诗人在静候友人来访时的感受。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第三句点题，以“夜半”说明诗人在久久等待，但约客未至，却只听到阵阵的雨声、蛙声。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第四句描写了“闲敲棋子”这一细节，生动地表现出诗人此时闲适恬淡的心情。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D.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全诗通过对环境和人物动作的渲染，描写诗人雨夜等候客人的情景，含蓄而有韵味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85800" y="5334120"/>
            <a:ext cx="7543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（提示：前两句是诗人听到的“景”，诗人盼望朋友到来，侧耳细听，没能听到朋友的脚步，只听到雨声和蛙声；这两句也暗中点明朋友“不来”的原因。明乎此，最后一句的“闲敲棋子”的“闲”就不能理解为“悠闲”“闲适”，而是闲得无聊。）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90440" y="762120"/>
            <a:ext cx="857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诗中主人公当时是什么心情 是通过什么表现出来的出来的？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85800" y="281952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诗人当时候客不至，心情烦躁不安。通过一个细节描写“闲敲棋子”表现出来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4-05-14T11:58:53Z</dcterms:modified>
  <cp:revision>1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