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7.png" ContentType="image/png"/>
  <Override PartName="/ppt/media/image4.gif" ContentType="image/gif"/>
  <Override PartName="/ppt/media/image11.gif" ContentType="image/gif"/>
  <Override PartName="/ppt/media/image6.gif" ContentType="image/gif"/>
  <Override PartName="/ppt/media/image5.jpeg" ContentType="image/jpeg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4.gif" ContentType="image/gif"/>
  <Override PartName="/ppt/media/image2.gif" ContentType="image/gif"/>
  <Override PartName="/ppt/media/image2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1CEE-9F96-48C8-A0A9-1EDDB863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033A-709C-4C70-85FD-F617B04D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1160-2BAC-4457-9249-01596F7F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9011-F08E-4B95-8D3E-3B04AEF5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B30B-7E7D-47E6-A2CC-37BE6B7D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93BC-E2E2-455E-B14C-2F53CD98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FBF5-C168-4BF6-BAA7-0EDCED75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D5D4-717D-4688-8317-91B3511C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80F9-62B6-404C-8C72-57C6FA65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96C3-8D93-4DF3-B7B7-B4760D28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BC60-11D5-41BC-AE78-07241AAA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62FC-363E-4C22-B1E2-B08B62E7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B1EC-47DC-46DE-84F1-49FC054087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" Target=""/><Relationship Id="rId3" Type="http://schemas.openxmlformats.org/officeDocument/2006/relationships/image" Target="../media/image24.gif"/><Relationship Id="rId4" Type="http://schemas.openxmlformats.org/officeDocument/2006/relationships/slide" Target="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导入新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黄梅时节的夜晚，细雨蒙蒙的下着，乡村的池塘传来阵阵蛙鸣。诗人约一位朋友来做客，可等到半夜也没有来。他只好一个人伴着油灯，无聊地敲着棋子。语近情遥，含而不露地表现了作者寂寞的心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00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诗歌赏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黄梅时节家家雨，青草池塘处处蛙”，诗歌前两句写景，描绘出一幅江南夏雨图。梅雨季节，阴雨连绵，池塘水涨，蛙声不断，乡村之景是那么清新恬静、和谐美妙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家家雨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既描绘出夏季梅雨的无所不在与急骤密集，表现乡村之景的清新静谧，又暗示了客人不能如期赴约的客观原因，流露出诗人对绵绵梅雨这种阴雨天气的无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560" cy="1125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348000" y="6093000"/>
            <a:ext cx="5796000" cy="765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有约不来过夜半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这一句才点明了诗题，也使得上面两句景物、声响的描绘有了着落。与客原先有约，但是过了夜半还不见人来，无疑是因为这绵绵不断的夜雨阻止了友人前来践约。夜深不寐，足见诗人期待之久，希望之殷，至此，似乎将期客不至的情形已经写尽，然而末句一个小小的衬垫，翻令诗意大为生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6442200"/>
            <a:ext cx="9144000" cy="4158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闲敲棋子落灯花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这句只是写了诗人一个小小的动态，然而在这个动态中，将诗人焦躁而期望的心情刻划得细致入微。因为孤独一人，下不成棋，所以说“闲敲棋子”，棋子本不是敲的，但用来敲打，正体现了孤独中的苦闷；“闲”字说明了无聊，而正在这个“闲”字的背后，隐含着诗人失望焦躁的情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920" y="6453360"/>
            <a:ext cx="9109080" cy="3632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课堂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诗歌的前两句写的是什么季节？烘托出什么样的氛围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江南梅雨季节的夏夜之景 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雨声不断，蛙声一片。读来使人如身临其境，仿佛细雨就在身边飘，蛙声就在身边叫。这看似表现得很“热闹”的环境，实际上诗人要反衬出它的“寂静”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0" y="5445000"/>
            <a:ext cx="2286000" cy="1413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诗中主人公当时是什么心情 是通过什么表现出来的出来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诗人当时候客不至，心情烦躁不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通过一个细节描写“闲敲棋子”表现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诗中的“敲” 字用得好，请简述理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细节描写，写出了诗人约客久候不到，寂寞、无聊的心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6354720"/>
            <a:ext cx="9144000" cy="5032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全诗通过对撩人思绪的环境及“闲敲棋子”这一细节动作的渲染，既写了诗人雨夜候客来访的情景，也写出约客未至的一种怅惘的心情，可谓形神兼备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诗用对偶句写景，富有时令与地方特色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253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全诗生活气息较浓，又摆脱了雕琢之习，清丽可诵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全诗语言朴素，意境在自然亲切中给人一种淡泊悠闲的感觉，特别是最后两句，尤其有余音绕梁之感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这是一首情景交融、清新隽永、耐人寻味的精妙小诗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869000"/>
            <a:ext cx="9144000" cy="1989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主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首诗写的是诗人在一个风雨交加的夏夜独自期客的情景。诗歌采用写景寄情写法，表达了诗人内心复杂的思想感情，含而不露地表现了诗人的寂寞心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11955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创新研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约客》这首诗究竟营造了一个什么样的意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且看——江南的夏夜，梅雨纷飞，蛙声齐鸣，诗人约了友人来下棋，然而，时过夜半，约客未至，诗人闲敲棋子，静静等候……此时，诗人的心情如何呢？我看主要不是或根本就没有什么焦躁和烦闷的情绪，而更可能是一种闲逸、散淡和恬然自适的心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67480" y="6165720"/>
            <a:ext cx="1676520" cy="692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564000" y="6021360"/>
            <a:ext cx="1676160" cy="836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也许曾有那么一会儿焦躁过（这种焦躁情绪怎么会持续到“过夜半”呢？），但现在，诗人被眼前江南夏夜之情之景感染了：多情的梅雨，欢快的哇鸣，闪烁的灯火，清脆的棋子敲击声……这是一幅既热闹又冷清、既凝重又飘逸的画面。也许诗人已经忘了他是在等友人，而完全沉浸到内心的激荡和静谧中。应该感谢友人的失约，让诗人享受到了这样一个独处的美妙的不眠之夜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783560" y="6308640"/>
            <a:ext cx="1360440" cy="549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64000" y="6237360"/>
            <a:ext cx="1360800" cy="620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积累词汇，学习有关赵师秀的文学常识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领会诗歌的内容，能展开想象，体会诗句的意思，感受诗人的情感 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培养学生感受淡泊悠闲的生活的气息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背诵、默写诗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27640" y="4365720"/>
            <a:ext cx="2916360" cy="24922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34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71280" y="-360"/>
            <a:ext cx="637236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赵师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17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219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）字紫芝，号灵秀，亦称灵芝，又号天乐。永嘉（今浙江温州）人。南宋诗人。诗工五律，细微精炼，有《赵诗秀集》二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2556000" cy="5732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724360" y="4941720"/>
            <a:ext cx="341964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9876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朗读诗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约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赵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师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黄梅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时节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家家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雨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青草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池塘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处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约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来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过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夜半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闲敲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棋子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落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灯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647640" cy="1441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451640" y="333360"/>
            <a:ext cx="1692360" cy="60483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66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注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约客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邀请客人来相会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黄梅时节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农历四、五月间，江南梅子黄了，熟了，大都是阴雨连连的时候，所以称“黄梅时节”为江南雨季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家家雨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家家户户都赶上下雨。形容处处都在下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651640" y="4869000"/>
            <a:ext cx="3492360" cy="1989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处处蛙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到处是蛙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有约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即为邀约友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落灯花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旧时以油灯照明，灯心烧残，落下来时好像一朵闪亮的小花。落，使……掉落。灯花，灯芯燃尽结成的花状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翻译诗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梅子黄时，家家都被笼罩在雨中，长满青草的池塘边上，传来阵阵蛙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时间已过午夜，已约请好的客人还没有来，我无聊地轻轻敲着棋子，震落了点油灯时灯芯结出的疙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79640" y="5373720"/>
            <a:ext cx="716436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析诗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景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雨声蛙声 ，以闹衬静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抒情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孤寂焦虑 ，闲敲棋子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23493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8T05:09:12Z</dcterms:created>
  <dc:creator>未知用户</dc:creator>
  <dc:description/>
  <dc:language>en-US</dc:language>
  <cp:lastModifiedBy>未知用户</cp:lastModifiedBy>
  <dcterms:modified xsi:type="dcterms:W3CDTF">2017-03-31T08:30:07Z</dcterms:modified>
  <cp:revision>13</cp:revision>
  <dc:subject/>
  <dc:title>幻灯片 1</dc:title>
</cp:coreProperties>
</file>