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675-A608-467A-BB60-9F4EC9C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334-3ECB-4B87-8278-C4E8E99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707-C0AC-4F54-8707-5E9335A5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4E4-9BA6-4BA5-943E-01E11703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4439-D17F-46CF-9D71-68A523D0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A48-E55A-475A-8CF2-DE0B865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157-337F-4B85-B08A-6789964C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C51-B3E4-49EE-8948-7D44CBD2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13C-28AA-4240-B470-19F9AFD7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85C-491C-4673-BF08-CDF3036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F9F0-6AB9-43DD-B794-D9877C4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B47-CDFD-49E2-A11D-5341031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C86-5966-4C2D-BBE3-A1A2C68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541-F596-4FF9-AEDA-9791C18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5C4-68D0-4095-841D-E6A1FB2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FAE-D8AD-41FA-B525-11C13778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50F-52C2-4C53-BA54-391FC2E8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27B-F840-41BF-A59D-EB6E2C3F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C59-9507-494B-8D32-2B8A552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089-2471-4E31-A8C2-560A0E01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E35-CA9D-4D02-9540-684D3374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8C2-D80A-4F70-82B9-410028A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3EE-BAEE-49C8-9434-3E7B543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DBF-506B-4CAF-8A6A-27A0D1B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883F-DFC5-44BA-BCFA-E43B439D9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3F8-0767-4FA3-9366-D2CD6DDD7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回忆、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上生明月，天涯共此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不识月，呼作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床前明月光，疑是地上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杯邀明月，对影成三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人不见古时月，今月曾照古时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900000" y="19162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文章为什么开篇写孩子们什么都不满足，结尾却说大家都觉得满足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71640" y="3141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寻月的过程让孩子们明白：美好的月亮是属于我们的，每个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e146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27e146"/>
                </a:solidFill>
                <a:latin typeface="Arial"/>
              </a:rPr>
              <a:t>三读感知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1268280"/>
            <a:ext cx="835164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放声朗读课文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寻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月亮在哪些地方留下了踪迹，边读边划出表明地点变化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10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4221000"/>
            <a:ext cx="2448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中堂盼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17560" y="4221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——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各处寻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07040" y="414972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——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沙滩议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82280" y="3500280"/>
            <a:ext cx="3796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镜中－院中－杯中－河中－眼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寻月的过程中又有着孩童怎样的心理情绪发展变化过程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镜中看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院中望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杯中饮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中寻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瞳中见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滩议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高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奇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甜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6676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亮是个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6669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038320"/>
            <a:ext cx="6705720" cy="1917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9f9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27e146"/>
                </a:solidFill>
                <a:latin typeface="黑体"/>
                <a:ea typeface="黑体"/>
              </a:rPr>
              <a:t>弟弟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我所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9f9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27e146"/>
                </a:solidFill>
                <a:latin typeface="黑体"/>
                <a:ea typeface="黑体"/>
              </a:rPr>
              <a:t>妹妹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9f9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27e146"/>
                </a:solidFill>
                <a:latin typeface="黑体"/>
                <a:ea typeface="黑体"/>
              </a:rPr>
              <a:t>我－</a:t>
            </a:r>
            <a:r>
              <a:rPr b="1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我们按在天空的印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9280" y="4869000"/>
            <a:ext cx="184320" cy="585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4076640"/>
            <a:ext cx="7093080" cy="587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9f9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更喜欢哪一种说法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若问你月亮是个什么，你怎么回答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盏黑暗中的明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让夜行的人们明确前进的方向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束冬日里的暖阳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让寒风中的人们倍感温暖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月亮是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黑体"/>
                <a:ea typeface="黑体"/>
              </a:rPr>
              <a:t>一曲思念的歌谣，使远在他乡的游子获得心灵的慰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067280" y="3429000"/>
            <a:ext cx="507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692280"/>
            <a:ext cx="8569080" cy="70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40000" y="1125360"/>
            <a:ext cx="1224000" cy="4208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42920" y="549360"/>
            <a:ext cx="1344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华文新魏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8360" y="1168920"/>
            <a:ext cx="8353440" cy="4238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寻找身边的美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生活处处存在“美”，时时都有“好”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让我们用这双擦亮的眼睛来找一找我们身边的“美好”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292929"/>
                </a:solidFill>
                <a:latin typeface="黑体"/>
                <a:ea typeface="黑体"/>
              </a:rPr>
              <a:t>并用我们勤劳的双手写下来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e146"/>
                </a:solidFill>
                <a:latin typeface="Tahoma"/>
                <a:ea typeface="黑体"/>
              </a:rPr>
              <a:t>提示：教室里、校园里、家庭里、小区里、村庄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97280" y="4365720"/>
            <a:ext cx="183960" cy="1189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0" y="18900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品一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141300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你从文中找出一处你认为最富有儿童特色的语言进行赏析。在文中空白处做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节： “满满”写月亮的圆；“玉玉、银银”写月光的白；“粗粗”写桂树的壮；“疏疏”写枝叶的稀；“累累”写花朵的多。叠词的运用充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童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富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韵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50920" y="14130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0"/>
            <a:ext cx="267984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课内拓展：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与传统的吟咏月亮的诗文在思想感情上有什么不同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1989000"/>
            <a:ext cx="9144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大多是游子思乡、家人思亲、分离思合的主题，多是伤感之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文在思想感情上有不同之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首先在于不是离人赏月，而是中秋之夜弟兄姐妹团聚，实在祖辈的引导下共同赏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作品的基调是温馨、融洽、热泪、积极向上的，而不是伤感、悲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作品有意识的把赏月和孩童们的成长结合起来，让其在寻月的过程中有一种心灵的升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-3708360" y="1557360"/>
            <a:ext cx="6408720" cy="1311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292480" y="2284560"/>
            <a:ext cx="455904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457200"/>
            <a:ext cx="8382240" cy="70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00000" y="981000"/>
            <a:ext cx="4076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谢谢大家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0" y="692280"/>
            <a:ext cx="43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月迹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573360"/>
            <a:ext cx="42847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作者：贾 平  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初识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贾平凹 （</a:t>
            </a: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1952</a:t>
            </a: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～）当代作家，原名贾平娃。陕西丹凤人。</a:t>
            </a: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1975</a:t>
            </a: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年西北大学中文系毕业 。著有小说集 《商州散记》、《天狗》 ；长篇小说 《浮躁》、《废都》；散文集《</a:t>
            </a:r>
            <a:r>
              <a:rPr b="1" lang="zh-CN" sz="2800" spc="-1" strike="noStrike">
                <a:solidFill>
                  <a:srgbClr val="b71a09"/>
                </a:solidFill>
                <a:latin typeface="Arial"/>
              </a:rPr>
              <a:t>月迹</a:t>
            </a:r>
            <a:r>
              <a:rPr b="1" lang="zh-CN" sz="2800" spc="-1" strike="noStrike">
                <a:solidFill>
                  <a:srgbClr val="0080c0"/>
                </a:solidFill>
                <a:latin typeface="Arial"/>
              </a:rPr>
              <a:t>》、《心迹》、《爱的踪迹》等。  </a:t>
            </a:r>
            <a:r>
              <a:rPr b="0" lang="zh-CN" sz="2800" spc="-1" strike="noStrike">
                <a:solidFill>
                  <a:srgbClr val="0080c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819680" y="685800"/>
            <a:ext cx="3619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初读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请给下列红色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8920" y="2492280"/>
            <a:ext cx="42498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Tahoma"/>
                <a:hlinkClick r:id="rId2" action="ppaction://hlinksldjump"/>
              </a:rPr>
              <a:t>积累叠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3213000"/>
            <a:ext cx="3889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积累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00000" y="90792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袅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面相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3808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2120" y="5105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粗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嫉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5105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酥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838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146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32000" y="299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q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4320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h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838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124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í  d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34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48360" y="5084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40720" y="602136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7164360" y="602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初读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横线处填上恰当的叠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19280" y="249228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院子中央处，是那棵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桂树，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枝，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叶，桂花还没有开，却有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骨朵儿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哪儿好像有了一种气息，就在我们身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到了头发梢儿上，添了一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感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" action="ppaction://hlinksldjump"/>
          </p:cNvPr>
          <p:cNvSpPr/>
          <p:nvPr/>
        </p:nvSpPr>
        <p:spPr>
          <a:xfrm>
            <a:off x="7164360" y="587700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初读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横线处填上恰当的动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月亮里，地该是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墙该是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们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那杯酒，果真里边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一个小小的月亮的满圆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，一动不动的，手刚一动，它便酥酥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使人可怜儿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1" action="ppaction://hlinksldjump"/>
          </p:cNvPr>
          <p:cNvSpPr/>
          <p:nvPr/>
        </p:nvSpPr>
        <p:spPr>
          <a:xfrm>
            <a:off x="6732720" y="5589720"/>
            <a:ext cx="1224000" cy="718920"/>
          </a:xfrm>
          <a:prstGeom prst="rightArrow">
            <a:avLst>
              <a:gd name="adj1" fmla="val 50000"/>
              <a:gd name="adj2" fmla="val 4256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9236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64000" y="2133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95280" y="260280"/>
            <a:ext cx="8305920" cy="22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e146"/>
                </a:solidFill>
                <a:latin typeface="黑体"/>
                <a:ea typeface="黑体"/>
              </a:rPr>
              <a:t>再读品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292929"/>
                </a:solidFill>
                <a:latin typeface="黑体"/>
                <a:ea typeface="黑体"/>
              </a:rPr>
              <a:t>果然有了月亮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款款的</a:t>
            </a:r>
            <a:r>
              <a:rPr b="1" lang="zh-CN" sz="3200" spc="-1" strike="noStrike">
                <a:solidFill>
                  <a:srgbClr val="dddddd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悄没声儿地</a:t>
            </a:r>
            <a:r>
              <a:rPr b="1" lang="zh-CN" sz="3200" spc="-1" strike="noStrike" u="sng">
                <a:solidFill>
                  <a:srgbClr val="0066cc"/>
                </a:solidFill>
                <a:uFillTx/>
                <a:latin typeface="黑体"/>
                <a:ea typeface="黑体"/>
              </a:rPr>
              <a:t>溜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进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2280" y="3429000"/>
            <a:ext cx="6202440" cy="579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4000" y="1844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款款的”读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慢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些，读出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满满的月儿缓缓移动   的优美形象来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“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溜”读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轻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些，读出</a:t>
            </a:r>
            <a:r>
              <a:rPr b="1" lang="zh-CN" sz="3200" spc="-1" strike="noStrike" u="sng">
                <a:solidFill>
                  <a:srgbClr val="cc0099"/>
                </a:solidFill>
                <a:uFillTx/>
                <a:latin typeface="Tahoma"/>
                <a:ea typeface="黑体"/>
              </a:rPr>
              <a:t>月儿身姿轻盈的感觉来</a:t>
            </a: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24000" y="476280"/>
            <a:ext cx="8208720" cy="2714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27e146"/>
                </a:solidFill>
                <a:latin typeface="Arial"/>
                <a:ea typeface="黑体"/>
              </a:rPr>
              <a:t>孩子们在追寻美好月儿的过程中，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童趣的对话</a:t>
            </a: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27e146"/>
                </a:solidFill>
                <a:latin typeface="Arial"/>
                <a:ea typeface="黑体"/>
              </a:rPr>
              <a:t>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神妙的幻想</a:t>
            </a: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27e146"/>
                </a:solidFill>
                <a:latin typeface="Arial"/>
                <a:ea typeface="黑体"/>
              </a:rPr>
              <a:t>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起伏的情绪</a:t>
            </a: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27e146"/>
                </a:solidFill>
                <a:latin typeface="Arial"/>
                <a:ea typeface="黑体"/>
              </a:rPr>
              <a:t>有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欢腾的场面</a:t>
            </a: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27e146"/>
                </a:solidFill>
                <a:latin typeface="Arial"/>
                <a:ea typeface="黑体"/>
              </a:rPr>
              <a:t>你能找出一处来读一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友情提示：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可以是一个人声情并茂的美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也可以是几个人分角色的演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6:38:10Z</dcterms:created>
  <dc:creator>微软用户</dc:creator>
  <dc:description/>
  <dc:language>en-US</dc:language>
  <cp:lastModifiedBy>zmj</cp:lastModifiedBy>
  <dcterms:modified xsi:type="dcterms:W3CDTF">2013-05-13T05:47:33Z</dcterms:modified>
  <cp:revision>81</cp:revision>
  <dc:subject/>
  <dc:title>幻灯片 1</dc:title>
</cp:coreProperties>
</file>