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78C4-2E0E-48B2-85FA-03A29DEB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B9B3-F8F5-442E-AEAC-B4AA7180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D25-C8B4-4DE5-85AB-97523C29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5B1-2023-4930-83DC-6B9833FB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79A5-7A9A-4F4D-91CA-BEB3EEB7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DD38-DD0D-4433-ADEB-3F5C5A58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A6AF-94F1-46CD-97E5-A31FCA76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21E9-2D50-4C4E-A91B-D9BDFE78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843D-395C-4D70-83F0-6BCCB24F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C5A0-2A9B-4D49-B45C-C43715D3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3D3F-A1A4-4F48-9305-15EDC3C6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002-1B24-4050-BC3E-EA9EF11C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D060-AED5-4B92-96C8-D9DB9867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90CE-D0E7-4E6A-ACAF-BEDD63F8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4ACC-07FB-47D8-9D85-04B1D797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A8CA-E4BD-4560-85D7-DC0DA8B6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B3C4-3FD6-4B94-840A-DABA41A5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92C-002B-4785-BD02-4B69D620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09E-A6D0-41DB-BD6E-CC288361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36D-6066-44F3-8EA0-56D36187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3487-4D23-43BB-9C31-B7D336DA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8F1-78A6-4EEF-A8F4-EB1F1F77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005D-036F-456C-B9F5-89293D0E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FB0-7BB1-42B3-A09C-193C3EAC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9DA8-772B-4707-8081-27F9AC1CF1D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B3DF-125E-404E-8BFD-DD7BEED173D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608040" y="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0" y="692280"/>
            <a:ext cx="439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月迹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573360"/>
            <a:ext cx="4284720" cy="155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作者：贾 平  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执教：钱 文 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4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3708360" y="1557360"/>
            <a:ext cx="6408720" cy="1311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92480" y="2284560"/>
            <a:ext cx="4559040" cy="36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c1c1c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457200"/>
            <a:ext cx="8382240" cy="70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c1c1c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00000" y="981000"/>
            <a:ext cx="4076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谢谢大家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268280"/>
            <a:ext cx="8351640" cy="2531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放声朗读课文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寻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月亮在哪些地方留下了踪迹，边读边划出表明地点变化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10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221000"/>
            <a:ext cx="2448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中堂盼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7960" y="4221000"/>
            <a:ext cx="2658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——   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各处寻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7440" y="4149720"/>
            <a:ext cx="2658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——   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沙滩议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82280" y="3500280"/>
            <a:ext cx="37969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c1c1c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镜中－院中－杯中－河中－眼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880" y="152280"/>
            <a:ext cx="8305920" cy="2074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292929"/>
                </a:solidFill>
                <a:latin typeface="黑体"/>
                <a:ea typeface="黑体"/>
              </a:rPr>
              <a:t>果然有了月亮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款款的</a:t>
            </a: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悄没声儿地</a:t>
            </a:r>
            <a:r>
              <a:rPr b="1" lang="zh-CN" sz="3200" spc="-1" strike="noStrike" u="sng">
                <a:solidFill>
                  <a:srgbClr val="1c1c1c"/>
                </a:solidFill>
                <a:uFillTx/>
                <a:latin typeface="黑体"/>
                <a:ea typeface="黑体"/>
              </a:rPr>
              <a:t>溜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进来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3429000"/>
            <a:ext cx="6202440" cy="579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133720"/>
            <a:ext cx="184320" cy="579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c1c1c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84464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“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款款的”读</a:t>
            </a:r>
            <a:r>
              <a:rPr b="1" lang="zh-CN" sz="3200" spc="-1" strike="noStrike" u="sng">
                <a:solidFill>
                  <a:srgbClr val="cc0099"/>
                </a:solidFill>
                <a:uFillTx/>
                <a:latin typeface="Tahoma"/>
                <a:ea typeface="黑体"/>
              </a:rPr>
              <a:t>慢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些，读出</a:t>
            </a:r>
            <a:r>
              <a:rPr b="1" lang="zh-CN" sz="3200" spc="-1" strike="noStrike" u="sng">
                <a:solidFill>
                  <a:srgbClr val="cc0099"/>
                </a:solidFill>
                <a:uFillTx/>
                <a:latin typeface="Tahoma"/>
                <a:ea typeface="黑体"/>
              </a:rPr>
              <a:t>满满的月儿缓缓移动   的优美形象来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“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溜”读</a:t>
            </a:r>
            <a:r>
              <a:rPr b="1" lang="zh-CN" sz="3200" spc="-1" strike="noStrike" u="sng">
                <a:solidFill>
                  <a:srgbClr val="cc0099"/>
                </a:solidFill>
                <a:uFillTx/>
                <a:latin typeface="Tahoma"/>
                <a:ea typeface="黑体"/>
              </a:rPr>
              <a:t>轻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些，读出</a:t>
            </a:r>
            <a:r>
              <a:rPr b="1" lang="zh-CN" sz="3200" spc="-1" strike="noStrike" u="sng">
                <a:solidFill>
                  <a:srgbClr val="cc0099"/>
                </a:solidFill>
                <a:uFillTx/>
                <a:latin typeface="Tahoma"/>
                <a:ea typeface="黑体"/>
              </a:rPr>
              <a:t>月儿身姿轻盈的感觉来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4000" y="476280"/>
            <a:ext cx="8208720" cy="2714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  <a:ea typeface="黑体"/>
              </a:rPr>
              <a:t>孩子们在追寻美好月儿的过程中，有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童趣的对话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  <a:ea typeface="黑体"/>
              </a:rPr>
              <a:t>、有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神妙的幻想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  <a:ea typeface="黑体"/>
              </a:rPr>
              <a:t>、有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起伏的情绪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  <a:ea typeface="黑体"/>
              </a:rPr>
              <a:t>、有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欢腾的场面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  <a:ea typeface="黑体"/>
              </a:rPr>
              <a:t>，你能找出一处来读一读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Arial"/>
                <a:ea typeface="黑体"/>
              </a:rPr>
              <a:t>友情提示：</a:t>
            </a: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可以是一个人声情并茂的美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也可以是几个人分角色的演读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76676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月亮是个什么呢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6669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8600" y="2038320"/>
            <a:ext cx="6705720" cy="1917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c1c1c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弟弟－</a:t>
            </a: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我所要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妹妹－</a:t>
            </a: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我－</a:t>
            </a: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我们按在天空的印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4869000"/>
            <a:ext cx="184320" cy="585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c1c1c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4076640"/>
            <a:ext cx="7093080" cy="587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c1c1c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  <a:ea typeface="黑体"/>
              </a:rPr>
              <a:t>你更喜欢哪一种说法，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757080" y="-579600"/>
            <a:ext cx="9144000" cy="579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04640"/>
            <a:ext cx="8642160" cy="2470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结合课文，阅读下面的故事，完成填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有一位少年，童年时期就失去双亲，家境十分贫寒，只能靠自己辛勤的演奏来赚取生活费。然而这一切都阻挡不了他对音乐的热爱和渴望。他经历了千辛万苦终于美梦成真。有人曾经问他，是什么支持着他走过那么多艰苦的岁月？他笑着说：“是屋顶上的月光。”</a:t>
            </a:r>
            <a:br>
              <a:rPr sz="2800"/>
            </a:br>
            <a:r>
              <a:rPr b="1" lang="zh-CN" sz="2800" spc="-1" strike="noStrike">
                <a:solidFill>
                  <a:srgbClr val="7373a1"/>
                </a:solidFill>
                <a:latin typeface="黑体"/>
                <a:ea typeface="黑体"/>
              </a:rPr>
              <a:t> 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  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人人皆有不幸，世事总有坎坷。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只要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天地便呈现一片光辉。</a:t>
            </a:r>
            <a:br>
              <a:rPr sz="2800"/>
            </a:b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月亮在哪里？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月亮哪里不在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                                                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摘自奚佳琪的《月迹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黑体"/>
                <a:ea typeface="黑体"/>
              </a:rPr>
              <a:t>若问你月亮是个什么，你怎么回答</a:t>
            </a:r>
            <a:r>
              <a:rPr b="1" lang="zh-CN" sz="3600" spc="-1" strike="noStrike">
                <a:solidFill>
                  <a:srgbClr val="1c1c1c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月亮是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黑体"/>
                <a:ea typeface="黑体"/>
              </a:rPr>
              <a:t>一盏黑暗中的明灯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黑体"/>
                <a:ea typeface="黑体"/>
              </a:rPr>
              <a:t>,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黑体"/>
                <a:ea typeface="黑体"/>
              </a:rPr>
              <a:t>让夜行的人们明确前进的方向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月亮是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黑体"/>
                <a:ea typeface="黑体"/>
              </a:rPr>
              <a:t>一束冬日里的暖阳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黑体"/>
                <a:ea typeface="黑体"/>
              </a:rPr>
              <a:t>,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黑体"/>
                <a:ea typeface="黑体"/>
              </a:rPr>
              <a:t>让寒风中的人们倍感温暖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月亮是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黑体"/>
                <a:ea typeface="黑体"/>
              </a:rPr>
              <a:t>一曲思念的歌谣，使远在他乡的游子获得心灵的慰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   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02800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067280" y="3429000"/>
            <a:ext cx="5076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c1c1c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692280"/>
            <a:ext cx="8569080" cy="70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c1c1c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40000" y="1125360"/>
            <a:ext cx="1224000" cy="4208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c1c1c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549360"/>
            <a:ext cx="1344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443240"/>
            <a:ext cx="8353440" cy="369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寻找身边的美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1c1c1c"/>
                </a:solidFill>
                <a:latin typeface="黑体"/>
                <a:ea typeface="黑体"/>
              </a:rPr>
              <a:t>生活处处存在“美”，时时都有“好”</a:t>
            </a:r>
            <a:r>
              <a:rPr b="1" lang="zh-CN" sz="3600" spc="-1" strike="noStrike">
                <a:solidFill>
                  <a:srgbClr val="1c1c1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1c1c1c"/>
                </a:solidFill>
                <a:latin typeface="黑体"/>
                <a:ea typeface="黑体"/>
              </a:rPr>
              <a:t>让我们用这双擦亮的眼睛来找一找我们身边的“美好”</a:t>
            </a:r>
            <a:r>
              <a:rPr b="1" lang="zh-CN" sz="3600" spc="-1" strike="noStrike">
                <a:solidFill>
                  <a:srgbClr val="1c1c1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1c1c1c"/>
                </a:solidFill>
                <a:latin typeface="黑体"/>
                <a:ea typeface="黑体"/>
              </a:rPr>
              <a:t>并用我们勤劳的双手写下来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Tahoma"/>
                <a:ea typeface="黑体"/>
              </a:rPr>
              <a:t>提示：教室里、校园里、家庭里、小区里、村庄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7280" y="4365720"/>
            <a:ext cx="183960" cy="1189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06:38:10Z</dcterms:created>
  <dc:creator>微软用户</dc:creator>
  <dc:description/>
  <dc:language>en-US</dc:language>
  <cp:lastModifiedBy>asus</cp:lastModifiedBy>
  <dcterms:modified xsi:type="dcterms:W3CDTF">2006-10-25T22:01:04Z</dcterms:modified>
  <cp:revision>13</cp:revision>
  <dc:subject/>
  <dc:title>幻灯片 1</dc:title>
</cp:coreProperties>
</file>