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0.gif" ContentType="image/gif"/>
  <Override PartName="/ppt/media/image13.jpeg" ContentType="image/jpeg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11.png" ContentType="image/pn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A32-4686-4316-96F3-AF136BA9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FAE-89E9-483E-9F8F-DF111ED7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AE7-D3DB-4692-9BD1-0ACC9AA3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F48-EE89-4A70-9AE7-899D7E74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89E-CD48-4E60-8358-D037AA8C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375-5CCF-44C3-A9C3-CE3638E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EFD-7540-4B6F-BCB2-9A60B9E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297-E8C2-44EC-B81A-95798FB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D3D-1B48-42E7-9FE4-0E0A619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FB3-D64F-479A-9E24-9464724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9AD-078B-44D0-806E-2593C573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E0B-4284-4591-A3CE-ADCD7532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EE48-8F5A-402B-A41B-A2847CCB8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1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" Target="slide17.xml"/><Relationship Id="rId11" Type="http://schemas.openxmlformats.org/officeDocument/2006/relationships/image" Target="../media/image20.gif"/><Relationship Id="rId12" Type="http://schemas.openxmlformats.org/officeDocument/2006/relationships/slide" Target="slide18.xml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slide" Target="slide19.xml"/><Relationship Id="rId16" Type="http://schemas.openxmlformats.org/officeDocument/2006/relationships/image" Target="../media/image20.gif"/><Relationship Id="rId17" Type="http://schemas.openxmlformats.org/officeDocument/2006/relationships/image" Target="../media/image12.gi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赏月话名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99736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请你根据下列图片中月亮的形状，说说古人曾经给与它们怎样的名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1532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成人眼里月亮代表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个问题也可这样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即在成人眼里月亮有怎样的内涵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1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代表团圆、思念。用月亮的圆缺来代表人的离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6320" y="62784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孩子眼里月亮代表的是什么？请看《月迹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平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0064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字词认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300640"/>
            <a:ext cx="182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300640"/>
            <a:ext cx="180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欣赏评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30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亮点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5300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课外延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2438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月迹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530064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3810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Times New Roman"/>
              </a:rPr>
              <a:t>贾平凹 （</a:t>
            </a:r>
            <a:r>
              <a:rPr b="1" lang="zh-CN" sz="2800" spc="-1" strike="noStrike">
                <a:solidFill>
                  <a:srgbClr val="0080c0"/>
                </a:solidFill>
                <a:latin typeface="Times New Roman"/>
              </a:rPr>
              <a:t>1952</a:t>
            </a:r>
            <a:r>
              <a:rPr b="1" lang="zh-CN" sz="2800" spc="-1" strike="noStrike">
                <a:solidFill>
                  <a:srgbClr val="0080c0"/>
                </a:solidFill>
                <a:latin typeface="Times New Roman"/>
              </a:rPr>
              <a:t>～）当代作家，原名贾平娃。陕西丹凤人。</a:t>
            </a:r>
            <a:r>
              <a:rPr b="1" lang="zh-CN" sz="2800" spc="-1" strike="noStrike">
                <a:solidFill>
                  <a:srgbClr val="0080c0"/>
                </a:solidFill>
                <a:latin typeface="Times New Roman"/>
              </a:rPr>
              <a:t>1975</a:t>
            </a:r>
            <a:r>
              <a:rPr b="1" lang="zh-CN" sz="2800" spc="-1" strike="noStrike">
                <a:solidFill>
                  <a:srgbClr val="0080c0"/>
                </a:solidFill>
                <a:latin typeface="Times New Roman"/>
              </a:rPr>
              <a:t>年西北大学中文系毕业 。著有小说集 《商州散记》、《天狗》 ；长篇小说 《浮躁》、《废都》；散文集《</a:t>
            </a:r>
            <a:r>
              <a:rPr b="1" lang="zh-CN" sz="2800" spc="-1" strike="noStrike">
                <a:solidFill>
                  <a:srgbClr val="b71a09"/>
                </a:solidFill>
                <a:latin typeface="Times New Roman"/>
              </a:rPr>
              <a:t>月迹</a:t>
            </a:r>
            <a:r>
              <a:rPr b="1" lang="zh-CN" sz="2800" spc="-1" strike="noStrike">
                <a:solidFill>
                  <a:srgbClr val="0080c0"/>
                </a:solidFill>
                <a:latin typeface="Times New Roman"/>
              </a:rPr>
              <a:t>》、《心迹》、《爱的踪迹》等。  </a:t>
            </a:r>
            <a:r>
              <a:rPr b="0" lang="zh-CN" sz="2800" spc="-1" strike="noStrike">
                <a:solidFill>
                  <a:srgbClr val="0080c0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19680" y="685800"/>
            <a:ext cx="361944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579132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914400"/>
            <a:ext cx="13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袅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面相</a:t>
            </a: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105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争</a:t>
            </a: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粗</a:t>
            </a: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3048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嫉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114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5105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71a09"/>
                </a:solidFill>
                <a:latin typeface="Times New Roman"/>
              </a:rPr>
              <a:t>酥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8380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h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q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j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105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h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838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1905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3124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jí  d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zō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5029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586728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907920"/>
            <a:ext cx="814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文章写了什么时间、什么地点、什么人的一件什么事情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082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时间：中秋的夜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地点：中堂里、院子里、院子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人物：奶奶、我和弟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事情：盼月亮——寻月亮——议月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93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0" y="6156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文章重点：寻月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89000"/>
            <a:ext cx="29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品一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你从文中找出一处你认为最富有儿童特色的语言进行赏析。在文中空白处做批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节： “满满”写月亮的圆；“玉玉、银银”写月光的白；“粗粗”写桂树的壮；“疏疏”写枝叶的稀；“累累”写花朵的多。叠词的运用充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童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富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韵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03280" y="10526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选取你最喜欢、最欣赏的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95280" y="167652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生动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95280" y="28954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深刻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1676520"/>
            <a:ext cx="1752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精彩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0" y="2895480"/>
            <a:ext cx="1828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哲理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352680" y="1828800"/>
            <a:ext cx="990720" cy="476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352680" y="3048120"/>
            <a:ext cx="106704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6705720" y="3048120"/>
            <a:ext cx="99036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629400" y="1828800"/>
            <a:ext cx="106668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7"/>
          <a:stretch/>
        </p:blipFill>
        <p:spPr>
          <a:xfrm>
            <a:off x="6934320" y="56386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390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选一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1143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我们都看着那杯酒，果真里边就浮起一个小小的月亮的满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276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中的动词“浮”用的非常生动，真切的写出了这时月亮轻盈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781680" y="55627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10666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大家都喝下肚去，月亮就在每一个人的心里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819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虚写，月亮当然不可能真的在每个人的心里，可见作者的表现手法十分含蓄别致，它寄托了一个更为深层的含义：表达人们追求美好理想的愿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380880"/>
            <a:ext cx="6629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有三妹漂亮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和三妹一样漂亮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三妹就乐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啊，啊！月亮是属于我的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7339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对话描写十分精彩，既写出了儿童特有的天真烂漫、活泼可爱的天性，又反映了人们对美好事物的热爱和向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8000" y="579132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1080" y="184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Arial"/>
              </a:rPr>
              <a:t>因初月如钩，故称银钩、玉钩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13716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b71a09"/>
                </a:solidFill>
                <a:latin typeface="Times New Roman"/>
              </a:rPr>
              <a:t>我同意他们的话。正像奶奶说的那样：它是属于我们的，每一个人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28954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句话富有哲理，说明人人都有追求美好事物的权力，人人也都能够实现自己的美好理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10280" y="548640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1371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文章开篇写孩子们什么都不满足，结尾写大家都觉得满足了，你能说出其中的原因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3124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寻月的过程让孩子们明白：美好的月亮是属于我们的，每个人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7162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34920" y="2205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奶奶”这一形象在文中有何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5002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奶奶”是文章中的关键人物，中秋之夜，她给孩子们讲述美好的传说故事，她引导孩子们赏月、寻月，最终让他们得到了心理上的最大满足，从而揭示了文章的主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3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.“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月亮是个好”，妹妹说的这句话如    何理解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50028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好”就是指美好的东西——月亮那么美丽和纯洁，给每个人都带来美的享受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2602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理解“我突然觉得，我们有了月亮，那无边无际的天空也是我们的了，那月亮不是我们按在天空上的印章吗？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一轮圆月衬着无边无际的天空，像一枚小小的印章盖在书本上，既然月亮属于我们每一个人的，那无垠的天空也是属于我们的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月亮是美的，天空也是美的。无边无际的天空象征着世间所有美好的事物。我们每个人都可以寻找到生活中的美，对美的追求，应该是人生的座右铭，对于你们是如此，对于我们每个人都是如此。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61722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82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在寻月的过程中，我有怎样的心理变化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628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盼望”——“失望”—— “羡慕、嫉妒、争执”—— “越发觉得奇了”——“都觉得满足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3500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是作者组织材料的情感线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读完这篇文章，你觉得在孩童的眼里月亮代表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558972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美好、圆满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60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71a0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b71a09"/>
                </a:solidFill>
                <a:latin typeface="Times New Roman"/>
              </a:rPr>
              <a:t>根据下面提供的特定环境，填写相关的古代诗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628640"/>
            <a:ext cx="8964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几年中秋，我驻美使馆召开了部分留学生座谈会。主持人的发言引用了王维《九月九日忆山东兄弟》一诗中的名句：</a:t>
            </a:r>
            <a:r>
              <a:rPr b="1" lang="zh-CN" sz="2800" spc="-1" strike="noStrike" u="sng">
                <a:solidFill>
                  <a:srgbClr val="b71a09"/>
                </a:solidFill>
                <a:uFillTx/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同学们的发言先后引用了张九龄的诗句： “海上生明月，</a:t>
            </a:r>
            <a:r>
              <a:rPr b="1" lang="zh-CN" sz="2800" spc="-1" strike="noStrike" u="sng">
                <a:solidFill>
                  <a:srgbClr val="b71a09"/>
                </a:solidFill>
                <a:uFillTx/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白的诗句：“举头望明月，</a:t>
            </a:r>
            <a:r>
              <a:rPr b="1" lang="zh-CN" sz="2800" spc="-1" strike="noStrike" u="sng">
                <a:solidFill>
                  <a:srgbClr val="b71a09"/>
                </a:solidFill>
                <a:uFillTx/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杜甫的诗句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zh-CN" sz="2400" spc="-1" strike="noStrike" u="sng">
                <a:solidFill>
                  <a:srgbClr val="b71a09"/>
                </a:solidFill>
                <a:uFillTx/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是故乡明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苏轼的诗句： “但愿人长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 u="sng">
                <a:solidFill>
                  <a:srgbClr val="b71a09"/>
                </a:solidFill>
                <a:uFillTx/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王安石的诗句： “ </a:t>
            </a:r>
            <a:r>
              <a:rPr b="1" lang="zh-CN" sz="2800" spc="-1" strike="noStrike" u="sng">
                <a:solidFill>
                  <a:srgbClr val="b71a09"/>
                </a:solidFill>
                <a:uFillTx/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，明月何时照我还？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27280" y="2565360"/>
            <a:ext cx="2305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每逢佳节倍思亲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92720" y="2924280"/>
            <a:ext cx="19447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天涯共此时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3280" y="3645000"/>
            <a:ext cx="1944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低头思故乡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627280" y="4221000"/>
            <a:ext cx="180036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露从今夜白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0" y="4797360"/>
            <a:ext cx="1871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千里共婵娟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916360" y="5445000"/>
            <a:ext cx="237636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春风又绿江南岸</a:t>
            </a:r>
            <a:endParaRPr b="0" i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81532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92280"/>
            <a:ext cx="88930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你从下面提供的自然景物中任选一种，发挥想象，用儿童化的语言写出其特征及你的感受。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字左右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太阳、星空、风、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6520" y="22860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b71a09"/>
                </a:solidFill>
                <a:latin typeface="方正舒体"/>
                <a:ea typeface="方正舒体"/>
              </a:rPr>
              <a:t>再      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5589720"/>
            <a:ext cx="66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3360" y="57340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设计制作：李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4508640"/>
            <a:ext cx="78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</a:rPr>
              <a:t>因弦月如弓，故称玉弓、弓月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82880"/>
            <a:ext cx="597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cc99"/>
                </a:solidFill>
                <a:latin typeface="Arial"/>
              </a:rPr>
              <a:t>因满月如轮如盘如镜，故称金轮、玉轮、银盘、玉盘、金镜、玉镜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2852280"/>
            <a:ext cx="8532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因传说月中有兔和蟾蜍，故称银兔、玉兔、金蟾、银蟾、蟾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因传说月中有桂树，故称桂月、桂轮、桂宫、桂魄。</a:t>
            </a:r>
            <a:br>
              <a:rPr sz="36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6080" y="692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其它资料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153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00cc99"/>
                </a:solidFill>
                <a:latin typeface="Times New Roman"/>
              </a:rPr>
              <a:t>因传说月中有广寒、清虚两座宫殿，故称广寒、清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因传说为月亮驾车之神名望舒，故称月亮为望舒。</a:t>
            </a:r>
            <a:r>
              <a:rPr b="0" lang="zh-CN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153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传说嫦娥住在月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称月亮为嫦娥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人们常把美女比作月亮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称月亮为婵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月到中秋分外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153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月亮是古诗文提到的自然物中最突出的被描写的对象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在不同作者不同的笔下被赋予不同的内涵 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200" y="2884320"/>
            <a:ext cx="59054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66"/>
                </a:solidFill>
                <a:latin typeface="华文行楷"/>
                <a:ea typeface="华文行楷"/>
              </a:rPr>
              <a:t>   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1:14:25Z</dcterms:created>
  <dc:creator>李赟</dc:creator>
  <dc:description/>
  <dc:language>en-US</dc:language>
  <cp:lastModifiedBy>番茄花园</cp:lastModifiedBy>
  <dcterms:modified xsi:type="dcterms:W3CDTF">2007-05-14T05:30:30Z</dcterms:modified>
  <cp:revision>22</cp:revision>
  <dc:subject/>
  <dc:title>月迹</dc:title>
</cp:coreProperties>
</file>