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A79-CB9C-466D-8D5E-CBCAB2D3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019-8387-45C3-A16E-C75B57F9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EDC-1C42-43FE-8340-64F4F0BC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DED-0818-4072-9E41-11305333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5800-4720-4064-BFAB-D9469F93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2070-8586-4FC2-843E-986A7266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D19C-D93F-4CCC-9990-48E26E72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74A0-06FE-4296-8555-F6CC224C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A52F-7DAC-440F-BA97-C9731732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3F7A-E4CB-4ADE-B864-8BDE8896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840E-93B3-46C6-802F-35A223AB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137-6A22-477D-9BA1-CFB09A00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D987-0552-4971-BFB8-97A4E158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F15E-E76E-4521-A823-462AF2F0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0370-F953-4EAF-BC42-951A04A5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B428-814D-4153-B687-E590387E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4F8D-8C5E-4979-A786-4629B076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480A6-AC4E-40C1-966E-D9304A82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3214B-B3AF-414F-B848-3F487CAC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67AF6-CFE6-4BC0-845E-BD8AAE9C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678A5-5573-4AED-9A87-CCFCE651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6A5C6-C0F1-40D7-AC00-D0CAD626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117-34BB-40E4-B2D2-D9D2E1A5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A1BDF-0A1D-4013-AD93-13D785A9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44FC2-CC92-4E04-A89A-3C0C72BA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B6FE-8133-4C44-92F9-78170132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2ECFC-2E2F-40C5-8FB0-FA9AF492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ED2B6-09C8-4914-89CA-9C29D235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BC8B5-7183-4A00-91EE-4F4BCC60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7785-6ADC-4EE9-B7A0-AA7E470E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3D7-4A46-47C7-9800-094438F6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E1F-5C08-4520-A93F-734D4494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FA7-FF89-4499-8332-8EEA7934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1ED-3BA9-4DC6-8DD3-B716ACEA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BE3-4B89-4D35-9271-DECC6681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828-AD84-48A7-B539-0B45047A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7429-8797-41A9-B4A0-23CE64D59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A6C7-3128-47E8-BBEE-E340F82D066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ECD0-EE4D-4ECC-B832-7DEAD8FACD3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gif"/><Relationship Id="rId3" Type="http://schemas.openxmlformats.org/officeDocument/2006/relationships/slide" Target="slide8.xml"/><Relationship Id="rId4" Type="http://schemas.openxmlformats.org/officeDocument/2006/relationships/image" Target="../media/image5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81709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悠悠千古明月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曾牵动过无数文人墨客的种种情思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同学们能说出多少有关明月的诗句呢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古人的这么多优美的诗句让后人只能望月而兴叹，不敢随便吟咏这涵蕴无穷的月。然而贾平凹却敢凑这个热闹，他另辟蹊径写月迹，今天我们就一起来欣赏这篇优美的散文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《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月迹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》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-360" y="2133360"/>
            <a:ext cx="85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61b04"/>
                </a:solidFill>
                <a:latin typeface="Tahoma"/>
              </a:rPr>
              <a:t>“</a:t>
            </a: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爬”字把月亮拟人化， 把静止的月亮写活了，同时把月亮的情态写得很有韵味。 这一段中“只留下一个空镜，一个失望”一句还照应前面“盼着月亮”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拟人手法很传神，这就把月亮比作一个美女，她偷偷溜到“我”院里。    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4" descr="返回主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6000" y="587700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0" y="0"/>
            <a:ext cx="536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集体展示 各抒己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867280" y="189000"/>
            <a:ext cx="1590840" cy="136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  <a:ea typeface="华文行楷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尽院子的白光，是</a:t>
            </a:r>
            <a:r>
              <a:rPr b="1" lang="zh-CN" sz="3200" spc="-1" strike="noStrike">
                <a:solidFill>
                  <a:srgbClr val="f61b04"/>
                </a:solidFill>
                <a:latin typeface="Tahoma"/>
                <a:ea typeface="华文行楷"/>
              </a:rPr>
              <a:t>玉玉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的，</a:t>
            </a:r>
            <a:r>
              <a:rPr b="1" lang="zh-CN" sz="3200" spc="-1" strike="noStrike">
                <a:solidFill>
                  <a:srgbClr val="f61b04"/>
                </a:solidFill>
                <a:latin typeface="Tahoma"/>
                <a:ea typeface="华文行楷"/>
              </a:rPr>
              <a:t>银银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的，灯光也没有这般儿亮的。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果然有了月亮，</a:t>
            </a:r>
            <a:r>
              <a:rPr b="1" lang="zh-CN" sz="3200" spc="-1" strike="noStrike">
                <a:solidFill>
                  <a:srgbClr val="f61b04"/>
                </a:solidFill>
                <a:latin typeface="Tahoma"/>
                <a:ea typeface="华文行楷"/>
              </a:rPr>
              <a:t>款款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地，悄没声地溜进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那棵</a:t>
            </a:r>
            <a:r>
              <a:rPr b="1" lang="zh-CN" sz="3200" spc="-1" strike="noStrike">
                <a:solidFill>
                  <a:srgbClr val="f61b04"/>
                </a:solidFill>
                <a:latin typeface="Tahoma"/>
                <a:ea typeface="华文行楷"/>
              </a:rPr>
              <a:t>粗粗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的桂树，</a:t>
            </a:r>
            <a:r>
              <a:rPr b="1" lang="zh-CN" sz="3200" spc="-1" strike="noStrike">
                <a:solidFill>
                  <a:srgbClr val="f61b04"/>
                </a:solidFill>
                <a:latin typeface="Tahoma"/>
                <a:ea typeface="华文行楷"/>
              </a:rPr>
              <a:t>疏疏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的枝，</a:t>
            </a:r>
            <a:r>
              <a:rPr b="1" lang="zh-CN" sz="3200" spc="-1" strike="noStrike">
                <a:solidFill>
                  <a:srgbClr val="f61b04"/>
                </a:solidFill>
                <a:latin typeface="Tahoma"/>
                <a:ea typeface="华文行楷"/>
              </a:rPr>
              <a:t>疏疏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的叶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“……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它便</a:t>
            </a:r>
            <a:r>
              <a:rPr b="1" lang="zh-CN" sz="3200" spc="-1" strike="noStrike">
                <a:solidFill>
                  <a:srgbClr val="f61b04"/>
                </a:solidFill>
                <a:latin typeface="Tahoma"/>
                <a:ea typeface="华文行楷"/>
              </a:rPr>
              <a:t>酥稣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地颤，使人可怜儿的样子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536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集体展示 各抒己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1590840" cy="136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000" y="2133360"/>
            <a:ext cx="8064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“</a:t>
            </a: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玉玉的、银银的”：写月亮光亮洁白，如玉般温润，如银般灿烂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“</a:t>
            </a: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疏疏的”：枝叶不是很繁茂，银银的月光从枝叶缝隙里穿出，影影绰绰，幽静柔美 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“</a:t>
            </a: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款款地”：仿佛让人觉得月亮像一位美丽绝伦的少女迈着轻盈的步子缓缓走来，十分优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0"/>
            <a:ext cx="536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集体展示 各抒己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1" name="Picture 4" descr="返回主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20000" y="573408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867280" y="189000"/>
            <a:ext cx="1590840" cy="136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5280" y="1890720"/>
            <a:ext cx="854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奶奶是个线索人物，引导我们寻找美，中秋之夜，她给孩子们讲述美好的传说故事，她引导孩子们赏月、寻月，最终让他们得到了心理上的最大满足，从而揭示了文章的主旨。奶奶了解童心、富有童心，充满热情，调解“纠纷”，引导我们关注外界，探索自然，把我们的心灵不断带进新的境地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536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集体展示 各抒己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5" name="Picture 5" descr="返回主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3080" y="58770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867280" y="189000"/>
            <a:ext cx="1590840" cy="136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1915920"/>
            <a:ext cx="849636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．文中纯真的孩子们，月圆之夜盼望月亮，镜中月到高兴，月去失望；院中月现兴奋争执；杯中、河中、眼中，人人有月，甚感满足。一句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只要你愿意，它就有了哩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华文行楷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让我们仿佛感受到了</a:t>
            </a:r>
            <a:r>
              <a:rPr b="1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蔚蓝的王国</a:t>
            </a:r>
            <a:r>
              <a:rPr b="1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中船随心动的惬意，既然月亮这样牵动人心，那么究竟是个什么呢？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536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能力拓展 自我提高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1590840" cy="136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1989000"/>
            <a:ext cx="779292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）用文中的话回答是什么？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）你更喜欢哪一种说法，若问你月亮是个什么，你怎么回答？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6920" y="437040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弟弟：我所要的      妹妹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好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我：我们按在天空的印章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0"/>
            <a:ext cx="536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能力拓展 自我提高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15908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唯美四季年历壁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生活中处处有美，只要同学们更好地去发现美、感受美、创造美，相信我们的生活会变得更加美好，我们生活的世界也会变得更加美丽！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468360" y="333360"/>
            <a:ext cx="230328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教师寄语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-608040" y="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4"/>
          <p:cNvSpPr txBox="1"/>
          <p:nvPr/>
        </p:nvSpPr>
        <p:spPr>
          <a:xfrm>
            <a:off x="468360" y="836640"/>
            <a:ext cx="439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月迹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95280" y="3645000"/>
            <a:ext cx="4284720" cy="1130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贾 平  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707220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请同学们用自己最喜欢的方式自由朗读课文，然后用精练的语言概括课文的内容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4360" y="393372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课文主要写了孩子们在中秋之夜盼月亮、找月亮和议月亮的事情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536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  <a:ea typeface="华文行楷"/>
              </a:rPr>
              <a:t>初读课文　整体感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1590840" cy="136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2636640"/>
            <a:ext cx="788508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．孩子们寻月的过程是怎样的？月亮在这个过程中有怎样的变化呢？孩子们心理有了怎样的发展变化？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0"/>
            <a:ext cx="54356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初读课文　整体感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1590840" cy="136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603360" y="2205000"/>
            <a:ext cx="85406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镜中看月              高兴</a:t>
            </a:r>
            <a:r>
              <a:rPr b="1" lang="en-US" sz="3600" spc="-1" strike="noStrike">
                <a:solidFill>
                  <a:srgbClr val="f61b04"/>
                </a:solidFill>
                <a:latin typeface="Tahoma"/>
              </a:rPr>
              <a:t>——</a:t>
            </a: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失望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院中望月              惊讶</a:t>
            </a:r>
            <a:r>
              <a:rPr b="1" lang="en-US" sz="3600" spc="-1" strike="noStrike">
                <a:solidFill>
                  <a:srgbClr val="f61b04"/>
                </a:solidFill>
                <a:latin typeface="Tahoma"/>
              </a:rPr>
              <a:t>——</a:t>
            </a: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争执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杯中“饮月”   人人拥有 、越发觉得奇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河中寻月                 处处都有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1b04"/>
                </a:solidFill>
                <a:latin typeface="Tahoma"/>
              </a:rPr>
              <a:t>眼瞳见月           竟是这么多 、满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0"/>
            <a:ext cx="54356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初读课文　整体感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15908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4000" y="213372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  <a:ea typeface="华文行楷"/>
              </a:rPr>
              <a:t>  </a:t>
            </a:r>
            <a:r>
              <a:rPr b="0" lang="en-US" sz="3600" spc="-1" strike="noStrike">
                <a:solidFill>
                  <a:srgbClr val="0000ff"/>
                </a:solidFill>
                <a:latin typeface="Tahoma"/>
                <a:ea typeface="华文行楷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华文行楷"/>
              </a:rPr>
              <a:t>月迹的含义是什么呢？为什么文章要以月迹为标题？学习本这篇散文，你们从中感悟到了什么呢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课文用充满童趣的语言，从孩子的角度写了不同地点的月的变化，富于美感，请在文中找出拟人句、叠词句和儿化句，并简要分析它的妙处！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536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  <a:ea typeface="华文行楷"/>
              </a:rPr>
              <a:t>精读课文　小组合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Picture 9" descr="5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3080" y="5686560"/>
            <a:ext cx="1023840" cy="853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5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659640" y="3187800"/>
            <a:ext cx="954000" cy="795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867280" y="189000"/>
            <a:ext cx="1590840" cy="136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640" y="1988640"/>
            <a:ext cx="71294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  <a:ea typeface="华文行楷"/>
              </a:rPr>
              <a:t> </a:t>
            </a:r>
            <a:r>
              <a:rPr b="1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3.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我们这一群孩子能够找到月亮，奶奶起着重要作用。从文中找出奶奶的活动，并简单分析奶奶是怎样一个人。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0"/>
            <a:ext cx="536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精读课文　小组合作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2" name="Picture 6" descr="5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414972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67280" y="189000"/>
            <a:ext cx="1590840" cy="136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36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集体展示 各抒己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469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1b04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61b04"/>
                </a:solidFill>
                <a:latin typeface="Tahoma"/>
              </a:rPr>
              <a:t>月迹可以理解为月亮在孩子心中留下的美好印迹；也可以理解为月的变化轨迹，寻月的过程就是寻找美的过程，它有轨迹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61b04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61b04"/>
                </a:solidFill>
                <a:latin typeface="Tahoma"/>
              </a:rPr>
              <a:t>通过记叙寻月的过程，描绘了美丽的月色，赞美了孩子们美丽纯洁的心灵，表达了孩子们追求美好事物的纯真愿望，同时告诉我们一个道理：美好的东西是属于每个人的，只要我们努力去寻找，就能找到我们所需要的美好事物。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4" descr="返回主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61722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867280" y="189000"/>
            <a:ext cx="1590840" cy="136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0" y="0"/>
            <a:ext cx="536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集体展示 各抒己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2133360"/>
            <a:ext cx="817236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  <a:ea typeface="华文行楷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华文行楷"/>
              </a:rPr>
              <a:t>原来月亮是</a:t>
            </a:r>
            <a:r>
              <a:rPr b="0" lang="zh-CN" sz="3600" spc="-1" strike="noStrike">
                <a:solidFill>
                  <a:srgbClr val="f61b04"/>
                </a:solidFill>
                <a:latin typeface="Tahoma"/>
                <a:ea typeface="华文行楷"/>
              </a:rPr>
              <a:t>长了腿的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华文行楷"/>
              </a:rPr>
              <a:t>，爬着那竹帘格儿，</a:t>
            </a:r>
            <a:r>
              <a:rPr b="0" lang="en-US" sz="3600" spc="-1" strike="noStrike">
                <a:solidFill>
                  <a:srgbClr val="0000ff"/>
                </a:solidFill>
                <a:latin typeface="Tahoma"/>
                <a:ea typeface="华文行楷"/>
              </a:rPr>
              <a:t>……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华文行楷"/>
              </a:rPr>
              <a:t>穿衣镜上的圆便满盈了。</a:t>
            </a:r>
            <a:r>
              <a:rPr b="0" lang="en-US" sz="3600" spc="-1" strike="noStrike">
                <a:solidFill>
                  <a:srgbClr val="0000ff"/>
                </a:solidFill>
                <a:latin typeface="Tahoma"/>
                <a:ea typeface="华文行楷"/>
              </a:rPr>
              <a:t>……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华文行楷"/>
              </a:rPr>
              <a:t>只留下一个空镜，一个失望。”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华文行楷"/>
              </a:rPr>
              <a:t>“</a:t>
            </a:r>
            <a:r>
              <a:rPr b="0" lang="zh-CN" sz="3600" spc="-1" strike="noStrike">
                <a:solidFill>
                  <a:srgbClr val="f61b04"/>
                </a:solidFill>
                <a:latin typeface="Tahoma"/>
                <a:ea typeface="华文行楷"/>
              </a:rPr>
              <a:t>款款地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华文行楷"/>
              </a:rPr>
              <a:t>，悄没声地</a:t>
            </a:r>
            <a:r>
              <a:rPr b="0" lang="zh-CN" sz="3600" spc="-1" strike="noStrike">
                <a:solidFill>
                  <a:srgbClr val="f61b04"/>
                </a:solidFill>
                <a:latin typeface="Tahoma"/>
                <a:ea typeface="华文行楷"/>
              </a:rPr>
              <a:t>溜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华文行楷"/>
              </a:rPr>
              <a:t>进来，</a:t>
            </a:r>
            <a:r>
              <a:rPr b="0" lang="zh-CN" sz="3600" spc="-1" strike="noStrike">
                <a:solidFill>
                  <a:srgbClr val="f61b04"/>
                </a:solidFill>
                <a:latin typeface="Tahoma"/>
                <a:ea typeface="华文行楷"/>
              </a:rPr>
              <a:t>出现</a:t>
            </a:r>
            <a:r>
              <a:rPr b="0" lang="zh-CN" sz="3600" spc="-1" strike="noStrike">
                <a:solidFill>
                  <a:srgbClr val="0000ff"/>
                </a:solidFill>
                <a:latin typeface="Tahoma"/>
                <a:ea typeface="华文行楷"/>
              </a:rPr>
              <a:t>在窗前的穿衣镜上了”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Picture 6" descr="返回主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08720" y="522936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867280" y="189000"/>
            <a:ext cx="1590840" cy="136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7:40:46Z</dcterms:created>
  <dc:creator>微软用户</dc:creator>
  <dc:description/>
  <dc:language>en-US</dc:language>
  <cp:lastModifiedBy>zmj</cp:lastModifiedBy>
  <dcterms:modified xsi:type="dcterms:W3CDTF">2013-04-20T04:47:34Z</dcterms:modified>
  <cp:revision>60</cp:revision>
  <dc:subject/>
  <dc:title>幻灯片 1</dc:title>
</cp:coreProperties>
</file>