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183-14E6-4FC3-99FA-A3FBA234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293-1ED8-4268-8E6D-28B99878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812-3714-46AE-9837-BDF5A43C2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E7D-229A-4C9B-A231-CFED098E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3B1-50C7-4998-8582-FF6F049A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A86-57E5-4A8A-B941-FD96C0D8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0FD-25B4-4B5E-A1B2-CBC801FD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9C8-5B68-43C8-8F3D-77753358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CB4-DE8B-412D-94E5-E0E78111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CDB-C591-4DC8-8825-75F3B61A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6000-1E02-4E96-9FF3-FDA43E43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097-F0E9-4FBB-9FB1-9B4DA534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671C-9A46-45F9-8094-17E8198B9C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42670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弗罗斯特【美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花8" descr=""/>
          <p:cNvPicPr/>
          <p:nvPr/>
        </p:nvPicPr>
        <p:blipFill>
          <a:blip r:embed="rId1"/>
          <a:stretch/>
        </p:blipFill>
        <p:spPr>
          <a:xfrm>
            <a:off x="685800" y="5908680"/>
            <a:ext cx="7543800" cy="949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917720" y="1403280"/>
            <a:ext cx="50292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条未走的路</a:t>
            </a:r>
            <a:endParaRPr b="0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8000" y="188640"/>
            <a:ext cx="899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诗人这种言在此而意在彼的手法是什么？谁能告诉大家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280" y="1989000"/>
            <a:ext cx="895680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是象征；把看不见摸不着的含义（抽象的东西）寄托在一个实实在在（看得见摸得着）的物体上表达。 把“人生的道路”依托在“自然之路”上， 借“自然之路”来写“人生之路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m_0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71800" y="3048120"/>
            <a:ext cx="1692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685800"/>
            <a:ext cx="67820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象征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就是在文学作品中，明写甲事物，借写甲事物暗示乙事物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但甲事物本身作为一种表现手段，一种具体形象，也要求给予充分注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2666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32004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30481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27672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象征与比喻的区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象征是一种谋篇立意的手法，比喻则是一种修辞手法。象征一般要统摄全篇，而比喻只在个别语句、语段中起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诗人告诉了我们一个什么道理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：人生的道路千万条，但一个人一生中往往只能选择其中的一条，一旦选定了绝无重走之机，所以，必须慎重；人生的道路上不要随波逐流，而要经过自己慎重的思考，做出独立自主的选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光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09480" y="609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3716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      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人生就是一次又一次的选择，在人生的岔路口，你做出什么选择将决定你的一生如何度过。人只能选择一种人生道路，所以要慎重。但也要有魄力，勇于创新和进取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12" descr="12.gif (22138 字节)"/>
          <p:cNvPicPr/>
          <p:nvPr/>
        </p:nvPicPr>
        <p:blipFill>
          <a:blip r:embed="rId2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14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114300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688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以“路”为话题，写一段文字，表达自己对人生的思考，不少于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200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字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npic002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4952880" cy="4116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6280" y="98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上一节课，我们欣赏了俄罗斯伟大诗人普希金的名著《假如生活欺骗了你》，领悟了如何面对误解和挫折的哲理。那么，这节课我们来一起品读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的路》说到路， 大家都不陌生。我们每天走来走去脚下踏的不就是路吗？是的。然而我们可曾思索过：这路和我们的生活有什么内在的联系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npic002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4952880" cy="4116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6280" y="98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古今中外，许多诗人作家对“路”都有过精彩的描写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，大家能否说出一些实例呢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4560" y="2222640"/>
            <a:ext cx="728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7360" y="20350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屈原有“路漫漫其修远兮，吾将上下而求索”的志向；李白有“行路难，行路难，多歧路，今安在”的感慨；辛弃疾有“独上高楼，望尽天涯路”的感叹；鲁迅也有“其实地上本没有路，走的人多了，也便成了路”的想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47640"/>
            <a:ext cx="784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罗伯特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·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弗罗斯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1874—1963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美国诗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其代表作有诗集《少年的意志》《白桦树》等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他在晚年成为美国的非官方的桂冠诗人，他处在传统诗歌和现代派诗歌交替的一个时期，因此被称为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“交替性的诗人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858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者简介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花8" descr=""/>
          <p:cNvPicPr/>
          <p:nvPr/>
        </p:nvPicPr>
        <p:blipFill>
          <a:blip r:embed="rId1"/>
          <a:stretch/>
        </p:blipFill>
        <p:spPr>
          <a:xfrm>
            <a:off x="685800" y="5908680"/>
            <a:ext cx="7543800" cy="949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2000" y="54000"/>
            <a:ext cx="661680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条未走的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弗罗斯特【美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深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林子里有两条岔开的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很遗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过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没法同时踏上两条征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伫立好久，我向一条路远远望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到它转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视线被灌木丛挡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于是我选择了另一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必那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许我还能说出更好的理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绿茸茸，等待人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践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实讲到留下了来往的足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两条路，说不上差别有多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花8" descr=""/>
          <p:cNvPicPr/>
          <p:nvPr/>
        </p:nvPicPr>
        <p:blipFill>
          <a:blip r:embed="rId1"/>
          <a:stretch/>
        </p:blipFill>
        <p:spPr>
          <a:xfrm>
            <a:off x="685800" y="5908680"/>
            <a:ext cx="7543800" cy="949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2720" y="190440"/>
            <a:ext cx="70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那天早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有两条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相差无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都埋在还没被才过的落叶地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啊，我把那第一条路留给另一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可是我知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条路又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将来能否重回旧地，这就难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隔了多少岁月，流逝了多事时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将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口气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提起当年的旧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子里有两条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朝着两个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而我——走上了一条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少人迹的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于是带来了完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不同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番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景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3080" y="-3384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、概括每节所讲述的主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44720"/>
            <a:ext cx="90900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小节：诗人站在林间交叉路口，久久踌躇，他对两条路都很向往，但却不能同时都走，必须选择其中一条；而一旦选定了一条，就再也没有回头的机会了。这是多么无奈又无助啊！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思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4560" y="46656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39920" y="504720"/>
            <a:ext cx="29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3560" y="3176640"/>
            <a:ext cx="875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000" y="28447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小节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诗人选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了一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更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更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更有挑战性的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选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280" y="4105440"/>
            <a:ext cx="85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小节：诗人踏上了自己选择的小路，开始了艰难的跋涉。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选择之后的怅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61920" y="5454720"/>
            <a:ext cx="886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四小节：诗人遥想将来对往事的回顾：在一个小树林里，有两条路，诗人选择了其中一条，从此决定了自己一生的路。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多年后的回顾、叹息</a:t>
            </a: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npic002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4952880" cy="4116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6280" y="1765440"/>
            <a:ext cx="807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诗中的“路”仅指自然界的路吗？有什么含义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58080" y="3429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人生道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360" y="3429000"/>
            <a:ext cx="29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自然界的道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43440" y="2889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象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360" y="365436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39920" y="372960"/>
            <a:ext cx="129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9520" y="98280"/>
            <a:ext cx="28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npic002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4952880" cy="4116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" y="100080"/>
            <a:ext cx="884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 诗人为何把诗题取为“一条未走的路”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7360" y="2349360"/>
            <a:ext cx="90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明确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首诗表面是写自然之路，实际是写人生道路。诗人所写的重点不是那条已选择的路，而却是那条未选择的路。诗共四节，第一节写两条路，第二节写选择的路，第三•四节写未选择的路。诗人这么写主要是为了深化主题。诗人感叹人生有许多道路可供选择， 但一个人往往只能走一条路，而还有其他许多条路，因为人生短暂，更因为人生没有返程而只能放弃。许多人的人生之路的选择都带有偶然性，随意性。那未走的路，才更让人想念，更让人留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z</cp:lastModifiedBy>
  <cp:lastPrinted>1899-12-30T00:00:00Z</cp:lastPrinted>
  <dcterms:modified xsi:type="dcterms:W3CDTF">2004-02-25T01:15:2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56</vt:lpwstr>
  </property>
</Properties>
</file>