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DED-371C-499B-AC85-92CEBBA5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A6C-4276-4BFA-A2E9-56030253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3D5-AE60-4F2B-8936-115C4541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599-2E5A-4CD7-A0BB-38A93EE8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6BB-5086-436B-BE0C-393CE618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524-8C00-4061-B5F8-E960B5D7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B17-846A-41DA-B207-F9CE6FCE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F8C-C3EE-443E-9066-91D4AFBD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608-9FE3-4196-90D6-E846A4E2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3FD-875C-4B75-8875-847AEC09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E75-8A71-46B3-B841-C712814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B24-4FAE-47FF-B17C-10B4B83F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D4BE-E902-4BA6-BD44-F9FB0CCBF3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276280"/>
            <a:ext cx="8604360" cy="23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阳台上的小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333360"/>
            <a:ext cx="640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版一年级下册第三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084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执教：云海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184464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连忙拉住妈妈，用手指了指阳台上的小鸟，轻轻地说：“妈妈，小鸟在躲雨，别吓着它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1844640"/>
            <a:ext cx="727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连忙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拉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妈妈，用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指了指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阳台上的小鸟，轻轻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“妈妈，小鸟在躲雨，别吓着它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7280" y="184464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雨停了，我看见小鸟拍了拍翅膀，朝我欢快地叫了几声，“噌”的一下飞走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1291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1430000" cy="7238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87280" y="184464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只要人人献出一点儿爱心，世界就会变得更加美好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249228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它用尖尖的嘴，梳理着身上湿漉漉的羽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03280" y="249228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它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尖尖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嘴，梳理着身上湿漉漉的羽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03280" y="249228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它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尖尖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嘴，梳理着身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湿漉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羽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03280" y="1916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啊，可怜的小鸟！它肯定是迷了路，找不到自己的家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3280" y="1916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啊，可怜的小鸟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它肯定是迷了路，找不到自己的家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54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一读，练一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989000"/>
            <a:ext cx="4032360" cy="3547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见妈妈走了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朵花真漂亮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您是在画鸟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341360"/>
            <a:ext cx="4392720" cy="3547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昨天上午    我和爸爸在院子里种了一棵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南瓜真大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上的星星为什么掉不下来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341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67640" y="184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3357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530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5:47:09Z</dcterms:created>
  <dc:creator>雨林木风</dc:creator>
  <dc:description/>
  <dc:language>en-US</dc:language>
  <cp:lastModifiedBy>微软用户</cp:lastModifiedBy>
  <dcterms:modified xsi:type="dcterms:W3CDTF">2012-02-04T14:51:57Z</dcterms:modified>
  <cp:revision>3</cp:revision>
  <dc:subject/>
  <dc:title>阳台上的小鸟</dc:title>
</cp:coreProperties>
</file>