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applause.wav" ContentType="audio/x-wav"/>
  <Override PartName="/ppt/media/S000000167.WAV" ContentType="audio/x-wav"/>
  <Override PartName="/ppt/media/image7.gif" ContentType="image/gif"/>
  <Override PartName="/ppt/media/image16.gif" ContentType="image/gif"/>
  <Override PartName="/ppt/media/image4.jpeg" ContentType="image/jpeg"/>
  <Override PartName="/ppt/media/image8.gif" ContentType="image/gif"/>
  <Override PartName="/ppt/media/image17.png" ContentType="image/png"/>
  <Override PartName="/ppt/media/image14.gif" ContentType="image/gif"/>
  <Override PartName="/ppt/media/image1.png" ContentType="image/png"/>
  <Override PartName="/ppt/media/image2.jpeg" ContentType="image/jpeg"/>
  <Override PartName="/ppt/media/image3.gif" ContentType="image/gif"/>
  <Override PartName="/ppt/media/image12.gif" ContentType="image/gif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F59D-07D7-49AD-A25E-31A1F663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59F-4EF9-4DE7-B1FB-8257F250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9EE-5BA7-4363-AABA-249A0163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BDB-6AC7-4293-B6D4-13035813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CE8-C28D-40E9-ABA5-03C9260C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98F-3AAE-4076-8EB8-A5CF65DC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0D4A-B480-4DFA-A749-6620F1FA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08F-2CF5-4287-BD10-DAA9638E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08D6-1C78-4131-912C-B6C9C4AC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3DE-47EC-4FCB-8DC0-A0939956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141-B3A1-441F-8CD3-18357951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B9D2-01B8-4DA7-8C98-27210865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CDE7-4C2D-4751-AB0D-D7CFDD2746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audio" Target="../media/S000000167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5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16.xml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6.gif"/><Relationship Id="rId4" Type="http://schemas.openxmlformats.org/officeDocument/2006/relationships/slide" Target="slide7.xml"/><Relationship Id="rId5" Type="http://schemas.openxmlformats.org/officeDocument/2006/relationships/image" Target="../media/image7.gif"/><Relationship Id="rId6" Type="http://schemas.openxmlformats.org/officeDocument/2006/relationships/slide" Target="slide9.xml"/><Relationship Id="rId7" Type="http://schemas.openxmlformats.org/officeDocument/2006/relationships/image" Target="../media/image8.gif"/><Relationship Id="rId8" Type="http://schemas.openxmlformats.org/officeDocument/2006/relationships/slide" Target="slide12.xml"/><Relationship Id="rId9" Type="http://schemas.openxmlformats.org/officeDocument/2006/relationships/image" Target="../media/image9.gif"/><Relationship Id="rId10" Type="http://schemas.openxmlformats.org/officeDocument/2006/relationships/slide" Target="slide8.xml"/><Relationship Id="rId11" Type="http://schemas.openxmlformats.org/officeDocument/2006/relationships/image" Target="../media/image10.gif"/><Relationship Id="rId12" Type="http://schemas.openxmlformats.org/officeDocument/2006/relationships/slide" Target="slide13.xml"/><Relationship Id="rId13" Type="http://schemas.openxmlformats.org/officeDocument/2006/relationships/image" Target="../media/image11.gif"/><Relationship Id="rId14" Type="http://schemas.openxmlformats.org/officeDocument/2006/relationships/slide" Target="slide11.xml"/><Relationship Id="rId15" Type="http://schemas.openxmlformats.org/officeDocument/2006/relationships/image" Target="../media/image12.gif"/><Relationship Id="rId16" Type="http://schemas.openxmlformats.org/officeDocument/2006/relationships/slide" Target="slide15.xml"/><Relationship Id="rId17" Type="http://schemas.openxmlformats.org/officeDocument/2006/relationships/image" Target="../media/image5.gif"/><Relationship Id="rId18" Type="http://schemas.openxmlformats.org/officeDocument/2006/relationships/slide" Target="slide12.xml"/><Relationship Id="rId19" Type="http://schemas.openxmlformats.org/officeDocument/2006/relationships/image" Target="../media/image13.png"/><Relationship Id="rId20" Type="http://schemas.openxmlformats.org/officeDocument/2006/relationships/slide" Target="slide2.xml"/><Relationship Id="rId21" Type="http://schemas.openxmlformats.org/officeDocument/2006/relationships/image" Target="../media/image14.gif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496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867280" y="1447920"/>
            <a:ext cx="3456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000000167.WAV"/>
                                        </p:tgtEl>
                                      </p:cMediaNode>
                                    </p:audio>
                                    <p:animMotion origin="layout" path="M 0 0 L -0.25 0 E">
                                      <p:cBhvr>
                                        <p:cTn id="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57400" y="838080"/>
            <a:ext cx="37339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身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0"/>
            <a:ext cx="32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28800" y="838080"/>
            <a:ext cx="3429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过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228600"/>
            <a:ext cx="306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gu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14600" y="457200"/>
            <a:ext cx="34290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mā</a:t>
            </a: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妈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27360" y="63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81080" y="914400"/>
            <a:ext cx="3429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要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52280"/>
            <a:ext cx="312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yà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124080" y="4343400"/>
            <a:ext cx="1225800" cy="2060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10666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阳          台         身          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676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太阳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1981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676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阳台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1752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身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干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048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过          妈        要        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733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走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3733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妈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6576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不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3733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毛衣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391520" y="3657600"/>
            <a:ext cx="1904760" cy="2590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429000" y="5029200"/>
            <a:ext cx="95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362320" y="2209680"/>
            <a:ext cx="472428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7724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抽奖活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315200" y="3276720"/>
            <a:ext cx="198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106380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179280" y="1844640"/>
            <a:ext cx="1752840" cy="1736280"/>
            <a:chOff x="179280" y="1844640"/>
            <a:chExt cx="1752840" cy="1736280"/>
          </a:xfrm>
        </p:grpSpPr>
        <p:sp>
          <p:nvSpPr>
            <p:cNvPr id="110" name=""/>
            <p:cNvSpPr/>
            <p:nvPr/>
          </p:nvSpPr>
          <p:spPr>
            <a:xfrm>
              <a:off x="1055880" y="2705760"/>
              <a:ext cx="876240" cy="8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9280" y="2705760"/>
              <a:ext cx="876600" cy="8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55880" y="1844640"/>
              <a:ext cx="876240" cy="86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9280" y="1844640"/>
              <a:ext cx="876600" cy="86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9280" y="1844640"/>
              <a:ext cx="175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9280" y="2705760"/>
              <a:ext cx="175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9280" y="3580920"/>
              <a:ext cx="175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9280" y="184464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55880" y="1844640"/>
              <a:ext cx="0" cy="173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32120" y="184464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3657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00720" y="1844640"/>
            <a:ext cx="1752480" cy="1687320"/>
            <a:chOff x="4500720" y="1844640"/>
            <a:chExt cx="1752480" cy="1687320"/>
          </a:xfrm>
        </p:grpSpPr>
        <p:sp>
          <p:nvSpPr>
            <p:cNvPr id="122" name=""/>
            <p:cNvSpPr/>
            <p:nvPr/>
          </p:nvSpPr>
          <p:spPr>
            <a:xfrm>
              <a:off x="5376960" y="2681640"/>
              <a:ext cx="875880" cy="85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00720" y="2681640"/>
              <a:ext cx="876240" cy="85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76960" y="1844640"/>
              <a:ext cx="875880" cy="8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00720" y="1844640"/>
              <a:ext cx="876240" cy="8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00720" y="184464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00720" y="268164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00720" y="353196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00720" y="1844640"/>
              <a:ext cx="0" cy="1687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76960" y="1844640"/>
              <a:ext cx="0" cy="16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3200" y="1844640"/>
              <a:ext cx="0" cy="1687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195640" y="1844640"/>
            <a:ext cx="1752480" cy="1638000"/>
            <a:chOff x="2195640" y="1844640"/>
            <a:chExt cx="1752480" cy="1638000"/>
          </a:xfrm>
        </p:grpSpPr>
        <p:sp>
          <p:nvSpPr>
            <p:cNvPr id="133" name=""/>
            <p:cNvSpPr/>
            <p:nvPr/>
          </p:nvSpPr>
          <p:spPr>
            <a:xfrm>
              <a:off x="3071880" y="2657160"/>
              <a:ext cx="87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95640" y="265716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71880" y="1844640"/>
              <a:ext cx="8758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95640" y="1844640"/>
              <a:ext cx="8762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95640" y="184464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95640" y="265716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95640" y="348264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5640" y="1844640"/>
              <a:ext cx="0" cy="1638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71880" y="1844640"/>
              <a:ext cx="0" cy="163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48120" y="1844640"/>
              <a:ext cx="0" cy="1638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732720" y="1844640"/>
            <a:ext cx="1752480" cy="1709280"/>
            <a:chOff x="6732720" y="1844640"/>
            <a:chExt cx="1752480" cy="1709280"/>
          </a:xfrm>
        </p:grpSpPr>
        <p:sp>
          <p:nvSpPr>
            <p:cNvPr id="144" name=""/>
            <p:cNvSpPr/>
            <p:nvPr/>
          </p:nvSpPr>
          <p:spPr>
            <a:xfrm>
              <a:off x="7608960" y="2692440"/>
              <a:ext cx="87588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32720" y="269244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08960" y="1844640"/>
              <a:ext cx="87588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32720" y="1844640"/>
              <a:ext cx="8762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32720" y="184464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32720" y="269244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32720" y="355392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32720" y="1844640"/>
              <a:ext cx="0" cy="1709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08960" y="1844640"/>
              <a:ext cx="0" cy="170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85200" y="1844640"/>
              <a:ext cx="0" cy="1709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50920" y="4869000"/>
            <a:ext cx="1752480" cy="1709280"/>
            <a:chOff x="250920" y="4869000"/>
            <a:chExt cx="1752480" cy="1709280"/>
          </a:xfrm>
        </p:grpSpPr>
        <p:sp>
          <p:nvSpPr>
            <p:cNvPr id="155" name=""/>
            <p:cNvSpPr/>
            <p:nvPr/>
          </p:nvSpPr>
          <p:spPr>
            <a:xfrm>
              <a:off x="1127160" y="5716800"/>
              <a:ext cx="87588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0920" y="571680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27160" y="4869000"/>
              <a:ext cx="87588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0920" y="4869000"/>
              <a:ext cx="8762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0920" y="486900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0920" y="571680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0920" y="657828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0920" y="4869000"/>
              <a:ext cx="0" cy="1709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27160" y="4869000"/>
              <a:ext cx="0" cy="170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03400" y="4869000"/>
              <a:ext cx="0" cy="1709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484360" y="4797360"/>
            <a:ext cx="1752840" cy="1709280"/>
            <a:chOff x="2484360" y="4797360"/>
            <a:chExt cx="1752840" cy="1709280"/>
          </a:xfrm>
        </p:grpSpPr>
        <p:sp>
          <p:nvSpPr>
            <p:cNvPr id="166" name=""/>
            <p:cNvSpPr/>
            <p:nvPr/>
          </p:nvSpPr>
          <p:spPr>
            <a:xfrm>
              <a:off x="3360960" y="564516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84360" y="5645160"/>
              <a:ext cx="8766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60960" y="4797360"/>
              <a:ext cx="8762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84360" y="4797360"/>
              <a:ext cx="8766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84360" y="4797360"/>
              <a:ext cx="175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84360" y="5645160"/>
              <a:ext cx="175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84360" y="6506640"/>
              <a:ext cx="175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84360" y="4797360"/>
              <a:ext cx="0" cy="1709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60960" y="4797360"/>
              <a:ext cx="0" cy="170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37200" y="4797360"/>
              <a:ext cx="0" cy="1709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808200" y="234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9800" y="2205000"/>
            <a:ext cx="109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25200" y="2060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86440" y="2205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8440" y="2133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5360" y="5157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70440" y="5084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765000"/>
            <a:ext cx="18716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n        y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ī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sh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ē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n     y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386064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mā        tái       yào       gu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643280" y="4797360"/>
            <a:ext cx="1752840" cy="1709280"/>
            <a:chOff x="4643280" y="4797360"/>
            <a:chExt cx="1752840" cy="1709280"/>
          </a:xfrm>
        </p:grpSpPr>
        <p:sp>
          <p:nvSpPr>
            <p:cNvPr id="187" name=""/>
            <p:cNvSpPr/>
            <p:nvPr/>
          </p:nvSpPr>
          <p:spPr>
            <a:xfrm>
              <a:off x="5519880" y="564516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3280" y="5645160"/>
              <a:ext cx="8766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19880" y="4797360"/>
              <a:ext cx="8762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43280" y="4797360"/>
              <a:ext cx="8766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3280" y="4797360"/>
              <a:ext cx="175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43280" y="5645160"/>
              <a:ext cx="175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43280" y="6506640"/>
              <a:ext cx="175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43280" y="4797360"/>
              <a:ext cx="0" cy="1709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9880" y="4797360"/>
              <a:ext cx="0" cy="170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96120" y="4797360"/>
              <a:ext cx="0" cy="1709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230800" y="5084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32720" y="4797360"/>
            <a:ext cx="1752480" cy="1709280"/>
            <a:chOff x="6732720" y="4797360"/>
            <a:chExt cx="1752480" cy="1709280"/>
          </a:xfrm>
        </p:grpSpPr>
        <p:sp>
          <p:nvSpPr>
            <p:cNvPr id="199" name=""/>
            <p:cNvSpPr/>
            <p:nvPr/>
          </p:nvSpPr>
          <p:spPr>
            <a:xfrm>
              <a:off x="7608960" y="5645160"/>
              <a:ext cx="87588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32720" y="564516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08960" y="4797360"/>
              <a:ext cx="87588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32720" y="4797360"/>
              <a:ext cx="8762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32720" y="479736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32720" y="564516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32720" y="650664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32720" y="4797360"/>
              <a:ext cx="0" cy="1709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08960" y="4797360"/>
              <a:ext cx="0" cy="170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85200" y="4797360"/>
              <a:ext cx="0" cy="1709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7247160" y="5157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38088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80880"/>
            <a:ext cx="815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宋体"/>
              </a:rPr>
              <a:t>   </a:t>
            </a:r>
            <a:r>
              <a:rPr b="1" lang="zh-CN" sz="6600" spc="-1" strike="noStrike">
                <a:solidFill>
                  <a:srgbClr val="ff0066"/>
                </a:solidFill>
                <a:latin typeface="宋体"/>
              </a:rPr>
              <a:t>6</a:t>
            </a:r>
            <a:r>
              <a:rPr b="1" lang="zh-CN" sz="6600" spc="-1" strike="noStrike">
                <a:solidFill>
                  <a:srgbClr val="ff0066"/>
                </a:solidFill>
                <a:latin typeface="宋体"/>
              </a:rPr>
              <a:t>、阳台上的小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 flipV="1">
            <a:off x="5600880" y="5700600"/>
            <a:ext cx="1333440" cy="749520"/>
          </a:xfrm>
          <a:custGeom>
            <a:avLst/>
            <a:gdLst>
              <a:gd name="textAreaLeft" fmla="*/ 48600 w 1333440"/>
              <a:gd name="textAreaRight" fmla="*/ 1284840 w 1333440"/>
              <a:gd name="textAreaTop" fmla="*/ 48600 h 749520"/>
              <a:gd name="textAreaBottom" fmla="*/ 700920 h 749520"/>
            </a:gdLst>
            <a:ahLst/>
            <a:rect l="textAreaLeft" t="textAreaTop" r="textAreaRight" b="textAreaBottom"/>
            <a:pathLst>
              <a:path w="38420" h="21600">
                <a:moveTo>
                  <a:pt x="0" y="0"/>
                </a:moveTo>
                <a:lnTo>
                  <a:pt x="38420" y="0"/>
                </a:lnTo>
                <a:lnTo>
                  <a:pt x="38420" y="21600"/>
                </a:lnTo>
                <a:lnTo>
                  <a:pt x="0" y="21600"/>
                </a:lnTo>
                <a:close/>
              </a:path>
              <a:path fill="lightenLess" w="38420" h="21600">
                <a:moveTo>
                  <a:pt x="0" y="0"/>
                </a:moveTo>
                <a:lnTo>
                  <a:pt x="38420" y="0"/>
                </a:lnTo>
                <a:lnTo>
                  <a:pt x="37020" y="1400"/>
                </a:lnTo>
                <a:lnTo>
                  <a:pt x="1400" y="1400"/>
                </a:lnTo>
                <a:close/>
              </a:path>
              <a:path fill="darken" w="38420" h="21600">
                <a:moveTo>
                  <a:pt x="38420" y="0"/>
                </a:moveTo>
                <a:lnTo>
                  <a:pt x="38420" y="21600"/>
                </a:lnTo>
                <a:lnTo>
                  <a:pt x="37020" y="20200"/>
                </a:lnTo>
                <a:lnTo>
                  <a:pt x="37020" y="1400"/>
                </a:lnTo>
                <a:close/>
              </a:path>
              <a:path fill="darkenLess" w="38420" h="21600">
                <a:moveTo>
                  <a:pt x="38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0" y="20200"/>
                </a:lnTo>
                <a:close/>
              </a:path>
              <a:path fill="lighten" w="38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3914640" y="5707080"/>
            <a:ext cx="1419480" cy="772920"/>
          </a:xfrm>
          <a:custGeom>
            <a:avLst/>
            <a:gdLst>
              <a:gd name="textAreaLeft" fmla="*/ 50040 w 1419480"/>
              <a:gd name="textAreaRight" fmla="*/ 1369440 w 1419480"/>
              <a:gd name="textAreaTop" fmla="*/ 50040 h 772920"/>
              <a:gd name="textAreaBottom" fmla="*/ 722880 h 772920"/>
            </a:gdLst>
            <a:ahLst/>
            <a:rect l="textAreaLeft" t="textAreaTop" r="textAreaRight" b="textAreaBottom"/>
            <a:pathLst>
              <a:path w="39660" h="21600">
                <a:moveTo>
                  <a:pt x="0" y="0"/>
                </a:moveTo>
                <a:lnTo>
                  <a:pt x="39660" y="0"/>
                </a:lnTo>
                <a:lnTo>
                  <a:pt x="39660" y="21600"/>
                </a:lnTo>
                <a:lnTo>
                  <a:pt x="0" y="21600"/>
                </a:lnTo>
                <a:close/>
              </a:path>
              <a:path fill="lightenLess" w="39660" h="21600">
                <a:moveTo>
                  <a:pt x="0" y="0"/>
                </a:moveTo>
                <a:lnTo>
                  <a:pt x="39660" y="0"/>
                </a:lnTo>
                <a:lnTo>
                  <a:pt x="38260" y="1400"/>
                </a:lnTo>
                <a:lnTo>
                  <a:pt x="1400" y="1400"/>
                </a:lnTo>
                <a:close/>
              </a:path>
              <a:path fill="darken" w="39660" h="21600">
                <a:moveTo>
                  <a:pt x="39660" y="0"/>
                </a:moveTo>
                <a:lnTo>
                  <a:pt x="39660" y="21600"/>
                </a:lnTo>
                <a:lnTo>
                  <a:pt x="38260" y="20200"/>
                </a:lnTo>
                <a:lnTo>
                  <a:pt x="38260" y="1400"/>
                </a:lnTo>
                <a:close/>
              </a:path>
              <a:path fill="darkenLess" w="39660" h="21600">
                <a:moveTo>
                  <a:pt x="39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60" y="20200"/>
                </a:lnTo>
                <a:close/>
              </a:path>
              <a:path fill="lighten" w="39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会认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9677520" y="5791320"/>
            <a:ext cx="1352520" cy="757080"/>
          </a:xfrm>
          <a:custGeom>
            <a:avLst/>
            <a:gdLst>
              <a:gd name="textAreaLeft" fmla="*/ 48960 w 1352520"/>
              <a:gd name="textAreaRight" fmla="*/ 1303560 w 1352520"/>
              <a:gd name="textAreaTop" fmla="*/ 48960 h 757080"/>
              <a:gd name="textAreaBottom" fmla="*/ 708120 h 757080"/>
            </a:gdLst>
            <a:ahLst/>
            <a:rect l="textAreaLeft" t="textAreaTop" r="textAreaRight" b="textAreaBottom"/>
            <a:pathLst>
              <a:path w="38580" h="21600">
                <a:moveTo>
                  <a:pt x="0" y="0"/>
                </a:moveTo>
                <a:lnTo>
                  <a:pt x="38580" y="0"/>
                </a:lnTo>
                <a:lnTo>
                  <a:pt x="38580" y="21600"/>
                </a:lnTo>
                <a:lnTo>
                  <a:pt x="0" y="21600"/>
                </a:lnTo>
                <a:close/>
              </a:path>
              <a:path fill="lightenLess" w="38580" h="21600">
                <a:moveTo>
                  <a:pt x="0" y="0"/>
                </a:moveTo>
                <a:lnTo>
                  <a:pt x="38580" y="0"/>
                </a:lnTo>
                <a:lnTo>
                  <a:pt x="37180" y="1400"/>
                </a:lnTo>
                <a:lnTo>
                  <a:pt x="1400" y="1400"/>
                </a:lnTo>
                <a:close/>
              </a:path>
              <a:path fill="darken" w="38580" h="21600">
                <a:moveTo>
                  <a:pt x="38580" y="0"/>
                </a:moveTo>
                <a:lnTo>
                  <a:pt x="38580" y="21600"/>
                </a:lnTo>
                <a:lnTo>
                  <a:pt x="37180" y="20200"/>
                </a:lnTo>
                <a:lnTo>
                  <a:pt x="37180" y="1400"/>
                </a:lnTo>
                <a:close/>
              </a:path>
              <a:path fill="darkenLess" w="38580" h="21600">
                <a:moveTo>
                  <a:pt x="38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80" y="20200"/>
                </a:lnTo>
                <a:close/>
              </a:path>
              <a:path fill="lighten" w="38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词语花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5" action="ppaction://hlinksldjump"/>
          </p:cNvPr>
          <p:cNvSpPr/>
          <p:nvPr/>
        </p:nvSpPr>
        <p:spPr>
          <a:xfrm flipH="1" flipV="1">
            <a:off x="2284560" y="5684040"/>
            <a:ext cx="1296720" cy="792360"/>
          </a:xfrm>
          <a:custGeom>
            <a:avLst/>
            <a:gdLst>
              <a:gd name="textAreaLeft" fmla="*/ 51120 w 1296720"/>
              <a:gd name="textAreaRight" fmla="*/ 1245600 w 129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5343" h="21600">
                <a:moveTo>
                  <a:pt x="0" y="0"/>
                </a:moveTo>
                <a:lnTo>
                  <a:pt x="35343" y="0"/>
                </a:lnTo>
                <a:lnTo>
                  <a:pt x="35343" y="21600"/>
                </a:lnTo>
                <a:lnTo>
                  <a:pt x="0" y="21600"/>
                </a:lnTo>
                <a:close/>
              </a:path>
              <a:path fill="lightenLess" w="35343" h="21600">
                <a:moveTo>
                  <a:pt x="0" y="0"/>
                </a:moveTo>
                <a:lnTo>
                  <a:pt x="35343" y="0"/>
                </a:lnTo>
                <a:lnTo>
                  <a:pt x="33943" y="1400"/>
                </a:lnTo>
                <a:lnTo>
                  <a:pt x="1400" y="1400"/>
                </a:lnTo>
                <a:close/>
              </a:path>
              <a:path fill="darken" w="35343" h="21600">
                <a:moveTo>
                  <a:pt x="35343" y="0"/>
                </a:moveTo>
                <a:lnTo>
                  <a:pt x="35343" y="21600"/>
                </a:lnTo>
                <a:lnTo>
                  <a:pt x="33943" y="20200"/>
                </a:lnTo>
                <a:lnTo>
                  <a:pt x="33943" y="1400"/>
                </a:lnTo>
                <a:close/>
              </a:path>
              <a:path fill="darkenLess" w="35343" h="21600">
                <a:moveTo>
                  <a:pt x="35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3" y="20200"/>
                </a:lnTo>
                <a:close/>
              </a:path>
              <a:path fill="lighten" w="35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生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2362320" y="6858000"/>
            <a:ext cx="1273320" cy="811080"/>
          </a:xfrm>
          <a:custGeom>
            <a:avLst/>
            <a:gdLst>
              <a:gd name="textAreaLeft" fmla="*/ 52560 w 1273320"/>
              <a:gd name="textAreaRight" fmla="*/ 1220760 w 1273320"/>
              <a:gd name="textAreaTop" fmla="*/ 52560 h 811080"/>
              <a:gd name="textAreaBottom" fmla="*/ 758520 h 811080"/>
            </a:gdLst>
            <a:ahLst/>
            <a:rect l="textAreaLeft" t="textAreaTop" r="textAreaRight" b="textAreaBottom"/>
            <a:pathLst>
              <a:path w="33905" h="21600">
                <a:moveTo>
                  <a:pt x="0" y="0"/>
                </a:moveTo>
                <a:lnTo>
                  <a:pt x="33905" y="0"/>
                </a:lnTo>
                <a:lnTo>
                  <a:pt x="33905" y="21600"/>
                </a:lnTo>
                <a:lnTo>
                  <a:pt x="0" y="21600"/>
                </a:lnTo>
                <a:close/>
              </a:path>
              <a:path fill="lightenLess" w="33905" h="21600">
                <a:moveTo>
                  <a:pt x="0" y="0"/>
                </a:moveTo>
                <a:lnTo>
                  <a:pt x="33905" y="0"/>
                </a:lnTo>
                <a:lnTo>
                  <a:pt x="32505" y="1400"/>
                </a:lnTo>
                <a:lnTo>
                  <a:pt x="1400" y="1400"/>
                </a:lnTo>
                <a:close/>
              </a:path>
              <a:path fill="darken" w="33905" h="21600">
                <a:moveTo>
                  <a:pt x="33905" y="0"/>
                </a:moveTo>
                <a:lnTo>
                  <a:pt x="33905" y="21600"/>
                </a:lnTo>
                <a:lnTo>
                  <a:pt x="32505" y="20200"/>
                </a:lnTo>
                <a:lnTo>
                  <a:pt x="32505" y="1400"/>
                </a:lnTo>
                <a:close/>
              </a:path>
              <a:path fill="darkenLess" w="33905" h="21600">
                <a:moveTo>
                  <a:pt x="33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5" y="20200"/>
                </a:lnTo>
                <a:close/>
              </a:path>
              <a:path fill="lighten" w="33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说一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0" y="1447920"/>
            <a:ext cx="91440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8224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自由读课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用自己喜欢的方式读，遇到不认识的     字，借助拼音宝宝拼一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边读边画出新生字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43800" y="3809880"/>
            <a:ext cx="1600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字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加一加；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减一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换一换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比一比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数笔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猜字谜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编儿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43800" y="3809880"/>
            <a:ext cx="1600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4920" y="685800"/>
            <a:ext cx="1809720" cy="1407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438280" y="685800"/>
            <a:ext cx="1554120" cy="1447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086600" y="762120"/>
            <a:ext cx="1463760" cy="131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495680" y="30481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495680" y="6858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010280" y="3124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90920" y="3048120"/>
            <a:ext cx="1371600" cy="1508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7543800" y="3809880"/>
            <a:ext cx="1600200" cy="2438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609480" y="6858000"/>
            <a:ext cx="1143000" cy="1522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20" action="ppaction://hlinksldjump"/>
          </p:cNvPr>
          <p:cNvSpPr/>
          <p:nvPr/>
        </p:nvSpPr>
        <p:spPr>
          <a:xfrm>
            <a:off x="79246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ff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1"/>
          <a:stretch/>
        </p:blipFill>
        <p:spPr>
          <a:xfrm>
            <a:off x="380880" y="2895480"/>
            <a:ext cx="14637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03633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38280" y="1295280"/>
            <a:ext cx="41148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阳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55960" y="1622520"/>
            <a:ext cx="1616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304920"/>
            <a:ext cx="291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38280" y="1371600"/>
            <a:ext cx="3429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台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57200"/>
            <a:ext cx="336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tá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990720"/>
            <a:ext cx="41148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0"/>
            <a:ext cx="283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81080" y="990720"/>
            <a:ext cx="38862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衣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0"/>
            <a:ext cx="382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3-03-12T12:06:40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