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E40-6FFC-42E1-88AC-F8748164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329-A8A8-40D0-A27D-D7354A9C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ADB-FC26-426C-BC9B-FBE1CD35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83C-7B92-4CCA-AD5E-775A3460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FFA8-5235-47C6-B277-A16A1D26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E6BA-6866-409C-B879-DC11D510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0460-328F-4A33-BA70-5AE8B4A4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6B70-ED47-4ECA-9A8C-D87F9578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FAC5-6030-4780-BF56-F0B86BD1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9045-FF83-48B2-A987-7CA72D20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AC65-A8AE-4E1F-A6A7-D6AC8C0C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CD4-04C7-4ACB-BDD7-45E0997B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2773-33E9-44E0-BAD3-F7699818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A0B0-171B-43EC-8900-926C22D9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5F9C-CCD6-4F62-875F-9656FF51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21C9-BEAB-4847-9C85-0889651F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5D06-0EA6-4180-B351-9E74A680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BE1-DEAA-4401-A89D-5F9BAB69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16F-5A99-4466-844C-E5638182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226-7D7E-4640-A54A-BC120CA1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C9B-84B3-472F-AAC9-48B9C567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25E-1E8B-4DAB-86D6-9CF9443F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F0A-C035-4436-A74A-9D20061F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468-A01F-421F-A33B-B72F5140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9E6F-CA1C-4B80-B910-B75C1AA24384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59BC-A8D1-4B8B-954D-E21E5C461F78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&#26195;&#26195;&#20054;&#20054;&#22899;/album/item/3cea5b08590012a3d0581bd0.html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 rot="5400000">
            <a:off x="4139640" y="2204640"/>
            <a:ext cx="6337440" cy="24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阳台上的小鸟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1596600" y="5084640"/>
            <a:ext cx="31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执教    英发学校贺爱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创设情境，体会情感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课文。画出书中描写鸟的样子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尖尖的小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湿漉漉的羽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见这只鸟时，是怎么想的？又是怎么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它迷路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1122"/>
                </a:solidFill>
                <a:latin typeface="Arial"/>
              </a:rPr>
              <a:t>悄悄地看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啊，可怜的小鸟！”这句应该怎样读？谁来试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读出感叹和怜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77080" y="4869000"/>
            <a:ext cx="1871640" cy="180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书上找出我关心爱护小鸟的动词，用“—— ”画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9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“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悄悄地看着”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122"/>
                </a:solidFill>
                <a:latin typeface="Arial"/>
              </a:rPr>
              <a:t> “</a:t>
            </a:r>
            <a:r>
              <a:rPr b="1" lang="zh-CN" sz="4400" spc="-1" strike="noStrike">
                <a:solidFill>
                  <a:srgbClr val="ff1122"/>
                </a:solidFill>
                <a:latin typeface="Arial"/>
              </a:rPr>
              <a:t>连忙”   “拉住”、“轻轻地说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122"/>
                </a:solidFill>
                <a:latin typeface="Arial"/>
              </a:rPr>
              <a:t> “</a:t>
            </a:r>
            <a:r>
              <a:rPr b="1" lang="zh-CN" sz="4400" spc="-1" strike="noStrike">
                <a:solidFill>
                  <a:srgbClr val="ff1122"/>
                </a:solidFill>
                <a:latin typeface="Arial"/>
              </a:rPr>
              <a:t>别吓着它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35640" y="3573360"/>
            <a:ext cx="2841480" cy="28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我是小演员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学们，大家边读课文边做出同情、关爱的动作和表情。看谁表演的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艰难地飞行、悄悄地看、心想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妈发现下雨了，要去收衣裳时，我是怎样做的？大家演一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连忙拉住、轻轻地说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516720" y="5084640"/>
            <a:ext cx="2232000" cy="17733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3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拓展练习，活学活用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我看见妈妈走了。　　　　　　　　　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）昨天上午，我和爸爸在院子里种了一棵树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今天下雨了吗？　　　　　　　　　　　　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）天上的星星为什么不掉下来呢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啊，可怜的小鸟！　　　　　　　　　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）这个南瓜真大</a:t>
            </a:r>
            <a:br>
              <a:rPr sz="3500"/>
            </a:br>
            <a:br>
              <a:rPr sz="13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1337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6000" y="3789360"/>
            <a:ext cx="64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573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6000" y="5445000"/>
            <a:ext cx="59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3160" y="272268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（完整的句子后面用“。”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62240" y="4257720"/>
            <a:ext cx="30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（问句后面用“？”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4600" y="6156360"/>
            <a:ext cx="39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（表示感情的句子用“！”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课后延伸，拓展生活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93040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628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假如在生活中，你也遇到小动物需要帮助时，你会怎样做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梦幻QQ表情"/>
          <p:cNvPicPr/>
          <p:nvPr/>
        </p:nvPicPr>
        <p:blipFill>
          <a:blip r:embed="rId2"/>
          <a:stretch/>
        </p:blipFill>
        <p:spPr>
          <a:xfrm>
            <a:off x="6300720" y="3789360"/>
            <a:ext cx="2592360" cy="2708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720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0240" y="16160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阳台上的小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2565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鸟（湿漉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2924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17240" y="26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躲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2564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0080" y="5445000"/>
            <a:ext cx="9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35280" y="3573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1240" y="356040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看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45600" y="5288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妈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6021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5080" y="537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拉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867280" y="3573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0920" y="3716280"/>
            <a:ext cx="9118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收衣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87640" y="3573360"/>
            <a:ext cx="1800360" cy="1656000"/>
          </a:xfrm>
          <a:custGeom>
            <a:avLst/>
            <a:gdLst>
              <a:gd name="textAreaLeft" fmla="*/ 423000 w 1800360"/>
              <a:gd name="textAreaRight" fmla="*/ 1375920 w 1800360"/>
              <a:gd name="textAreaTop" fmla="*/ 194400 h 1656000"/>
              <a:gd name="textAreaBottom" fmla="*/ 1038960 h 165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75160" y="3716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5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5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40520" y="3573360"/>
            <a:ext cx="3003480" cy="328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116000" y="620640"/>
            <a:ext cx="53276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87480" y="55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912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41960" y="16200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台上的小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341360"/>
            <a:ext cx="2952720" cy="57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205000"/>
            <a:ext cx="2952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70440" y="1268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2276640"/>
            <a:ext cx="26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扫除生字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3213000"/>
            <a:ext cx="2952720" cy="57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4005360"/>
            <a:ext cx="2952720" cy="57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4869000"/>
            <a:ext cx="2952720" cy="57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02120" y="486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09760" y="39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8640" y="3141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学习理解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588000" y="1268280"/>
            <a:ext cx="1935360" cy="180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508720" y="981000"/>
            <a:ext cx="431640" cy="2667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981000"/>
            <a:ext cx="432000" cy="2667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03360" y="237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33"/>
                </a:solidFill>
                <a:latin typeface="Garamond"/>
              </a:rPr>
              <a:t>学习目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认识本课生字，学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新偏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确、流利有感情地朗读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体会“我”为雨中的小鸟担心的真挚情感，学会关心弱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会爱护小动物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34560" y="585720"/>
            <a:ext cx="2847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学习新偏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女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女字旁——她、姓、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阝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双耳刀——阳、陈、阿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辶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走之儿——过、还、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0160" y="189000"/>
            <a:ext cx="6284520" cy="63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学习生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gān                 jìng                 yī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f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干：干杯   干净   饼干     衣：衣服  雨衣  上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shēng 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y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身：身体   身边   身上     阳：太阳  阳台  阳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tái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j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iǎng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y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台：台灯  讲台  阳台       要：不要  只要  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guò                                       m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：过去  过年  过来       妈：妈妈   大妈   干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阳台   雨丝   梳理    可怜    自己   看见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过来   晾干   衣裳   连忙     翅膀    欢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湿漉漉的羽毛    尖尖的小嘴   轻轻地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11280" y="981000"/>
            <a:ext cx="6624720" cy="504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46520" y="5526000"/>
            <a:ext cx="1244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一只美丽的小鸟，在雨丝里飞来飞去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19160" y="5589720"/>
            <a:ext cx="4204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想象雨中的小鸟怎样飞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83680" y="1261800"/>
            <a:ext cx="850680" cy="39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艰难飞行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3573360"/>
            <a:ext cx="853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一只美丽的小鸟，在雨丝里飞来飞去，最后停在了我家的阳台上。它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尖尖的小嘴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，梳理着身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湿漉漉的羽毛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51664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同学们，看到这只小鸟从雨中飞到你家阳台上，你们会怎样想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19640" cy="352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156360" y="0"/>
            <a:ext cx="298764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63000" y="5157720"/>
            <a:ext cx="5514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啊，好可怜的小鸟！它肯定是迷了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找不到自己的家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43:56Z</dcterms:created>
  <dc:creator/>
  <dc:description/>
  <dc:language>en-US</dc:language>
  <cp:lastModifiedBy>微软中国</cp:lastModifiedBy>
  <dcterms:modified xsi:type="dcterms:W3CDTF">2011-05-10T11:56:13Z</dcterms:modified>
  <cp:revision>146</cp:revision>
  <dc:subject/>
  <dc:title>阳台上的小鸟</dc:title>
</cp:coreProperties>
</file>