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44D5-CF63-41C4-9B44-F2C5AF4B30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0AAE-7CC3-4594-B680-D2730862AA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184-1F2B-440D-8A0B-E6F7859C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9BE-7042-403B-92CA-E7A142F8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823E5-AD34-481A-9982-28F1E705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5AD4E-FA5D-4C76-8854-40ECABDC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AAE57-F6FE-4F50-A9F3-FF87ACDD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14ADC-6D89-4C19-88E7-80D5155A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9DF14-CC1D-491C-83FF-4632AF44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9C095-8124-45D8-9362-097181FB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B6DC4-05B9-417B-AFF7-B4FA7582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47BD5-8A86-4082-B79F-2516018A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52B09-0E93-48D6-A8AF-CCF26C5B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EBF3D-DDC9-4737-8DD6-EA458574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1B1-AAFE-4397-9F9E-69224D23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C4D3F-98E0-4B1F-B873-8B391B2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8A4A5-F635-429B-8FDA-AF1AE08B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E6A45-B085-4AA1-9D9C-6FEEB8FA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1ECF8-9167-4B0D-BC12-64D064EE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52739-024E-4A51-8069-80F96618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06D5C-D95C-470E-AA00-88421097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A3B3E-BB9D-439C-A74F-5E0955C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D612D-0711-4EF6-98B4-E7E3A2B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A10D1-A26D-47ED-AFB6-DA76FFF5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310CA-9BB2-42D2-A8DD-C6352782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8DA-1578-46C1-A074-45B79AE0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20141-8CD6-4AD1-ADCB-9C6535D7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94A80-59AA-40C4-922C-403B4252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0169F-7A23-41BC-84EF-2C9FC33B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E01DF-434A-4A09-A5A0-A2D34C60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F3271-F51B-4572-9D0A-D035682C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BB05E-B048-452D-A7B8-4FE5C19B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1B3BC-7F96-469B-91E6-33BB93C7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7F669-BD15-4CA2-A9D6-6E0E7252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85A28-CE7C-4CE8-9D99-A3258DA3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4B634-3455-4AE3-A838-6CB4202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5C82-C59B-45A9-8857-5BAAEC99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ADEED-1CD8-42E3-9454-E11796FA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811D7-4DB7-49CF-A3F9-8D624EFF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D90E6-B926-4D39-ABC8-75BB325C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CE65-3F2A-4F13-885A-1B196972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4753-E87B-4BD7-96B1-B3C66366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57B6-2493-4865-A3AF-A8AA9048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DC99-4B82-4481-B0BB-5D152E45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3EA8-AF52-4202-92D3-1A818F33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E904-E582-4526-97FB-63CDFF12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D9E-5B5E-4F27-A92C-DB38EB20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EEB6-00F7-40AA-ABC4-3F0A3E53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7838-86BF-44AF-A45E-3064317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43D6-F08A-43B2-9D96-7ADBA80A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27BC-A806-46FF-9D7B-0DC60F87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5974-80DF-495C-BD99-CDFD1C40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944C-0482-4254-847F-A4F88D80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7E19-1098-4185-94E4-B321D2BE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844B-329C-4FA4-A973-6C532DB7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BFF7-67C2-4A58-8445-40709837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E70C-9450-49A1-A2EC-0C9B43E7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D5C-C216-453D-921D-F9C850B8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58ED-FE90-468D-9444-07E94B3F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8094-3528-4E4C-BC5D-04342B3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1126-0C69-4F9E-94BE-FD4B4DC8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8700-EDAD-4E9C-A356-C1C2CAF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7E6A-BD88-46C8-88DB-22BA43D1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C9A1A-517F-4B48-925F-131224DE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6B44-BA6E-4DFE-B02A-B0704FE3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510DF-C4A9-448A-97FD-48B3BB1F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CF4EE-D0CE-4385-BF11-74976498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D4465-6678-49D5-BEAC-3995A886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822-E27E-472D-BB1C-6B38F517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5298-8807-4727-A1C6-3B4190DD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AE9CB-13FB-477A-9874-60FCFB1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E6FD0-653D-4D82-84DA-5B53DDAE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71EF-5D26-4BDF-A463-781CCC56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8520-FEE2-46B8-B4FD-3828A407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54887-C8CE-4A46-AF34-FD4BEA6B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581F-7C58-4806-B4A0-76684E59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4E6E-54C6-45C6-88CA-62939268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7DB3-967C-499F-AD21-F8FFEAEA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08A2-E7EC-4FE1-9E4B-3C598691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649-51DF-4FE5-9F3A-0E7BA0FA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2C8C3-1B82-4E1F-A609-BDAE5829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81DF-909D-4537-BFE4-E62EE622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28E07-F21F-439E-B480-02D3F831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0481-F0C9-42D8-96D0-57345136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2320B-7C15-420E-9696-CAF58EFA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DF3B0-364F-4E94-AAAA-5FA058C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3F95-094F-43CF-A67D-114608D7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D8FE-484B-41C8-889A-66A1D9DD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5D56C-82D9-489E-9203-7D898A86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A7002-0B68-4BC0-AC47-B0051F5C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AA5-9CBC-488A-B672-2876F5D8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675E-CC6A-41F1-B6E7-BA5CB435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25AEC-47DF-4812-96DA-88A4065A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1ABC8-69B8-4A12-B362-D4F968A6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29F2F-F63B-4B8C-84D8-7BE4FA92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01AF6-7718-42AE-BD95-1F168F04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46D7E-EFAA-4EB1-B89B-E2FC7D57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20FE-2CCF-4115-B53D-36801346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22049-54F7-47E6-AD9C-E350549E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98E8F-70F9-45F4-A44D-176F2C14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C954A-3CDA-42EF-ABE7-14B61C7E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3F4-C987-46A9-849B-253F8AFA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33D62-43CE-4B3E-987E-CC777443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24298-7A14-4A98-9FA4-CEA2799A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74F51-4E1F-4AF6-95D0-CD078CE0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7439A-3318-4562-8D33-73F68288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F3F44-DF54-4FE2-A1F6-83D6179B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9F49F-2432-4FB3-BBB3-BC10DD0F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E57A4-D90D-4A7F-A5FE-DF175936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E7E47-E5D7-4AD5-B379-7CAC54D3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DFE99-F40E-49BD-8825-260519BC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C1F66-9617-4A09-9090-70E22887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447-7939-48F7-8843-E03D5177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38105-CF37-4352-911C-32D3A357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76471-9E42-432D-8737-7171734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7CD5F-00A8-434D-A4E4-95E1D6A3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73FBB-2A84-44F6-BCD4-E3BB7178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C6DB6-F880-4BE7-B21D-4F28277C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B0AF8-9A24-453A-9F7C-54C7FE9E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41D7F-F2F6-4ED8-9F6D-1914C34F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A9C48-BB44-42EB-BF06-5FCECDA9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2D34A-C62F-4FC3-9C1C-B5989981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FD3C0-C7FD-4445-90BA-7F85C212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346-2E2C-44F5-A03D-E852A6CB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44D2C-8DC1-4841-8CDC-084F9699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FF4F8-157A-4E04-8783-9F6ADDA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E3ED6-6A02-430D-9AFD-DD5371C8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E1388-8E1C-486D-A01D-46A71F1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141D8-9052-41BD-AB5E-BC19F2E8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B910B-5C04-465F-830F-BB0FEBF7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3CE53-E82C-4AC7-A213-285B8B6C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0424C-41F9-4CAF-978A-8135ED70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21047-AF9F-4A83-A026-308B1CA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337D2-0298-4F3A-9A63-7486C15B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FE79-33CB-4D78-B9C2-E4D0E5EB9831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EADA-8FDD-4AA3-8190-05ECD5D2C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B01-25D2-43FE-B8B3-BFFCA6B908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C7A0-3166-4F29-8A6E-3DB3C6B7BE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A649-DFDD-47AA-8295-A1EB24D19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ECA4-9303-410E-9989-D632C60E3B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B30A-3AB7-4EFF-99FB-7915DAA8C0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1452-7C48-41A7-B354-1BC9F55303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1D6A-7DB9-43A4-A7E8-6672B1FBD0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CBFE-A935-4CDE-80FA-C60D781DD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D5B1-EE9D-410F-90C5-34CEA055E2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76D2-5456-473D-94D0-A674644656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文本框 2058"/>
          <p:cNvSpPr/>
          <p:nvPr/>
        </p:nvSpPr>
        <p:spPr>
          <a:xfrm>
            <a:off x="6880320" y="-737280"/>
            <a:ext cx="1612800" cy="75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叶圣陶先生二三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张中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图片 1" descr="1378468056967_320"/>
          <p:cNvPicPr/>
          <p:nvPr/>
        </p:nvPicPr>
        <p:blipFill>
          <a:blip r:embed="rId1"/>
          <a:stretch/>
        </p:blipFill>
        <p:spPr>
          <a:xfrm>
            <a:off x="0" y="-6480"/>
            <a:ext cx="681192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文本框 5"/>
          <p:cNvSpPr/>
          <p:nvPr/>
        </p:nvSpPr>
        <p:spPr>
          <a:xfrm>
            <a:off x="-96840" y="39600"/>
            <a:ext cx="9337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听课文朗读，划分文章层次，概括每部分大意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Users\Administrator\Desktop\t015b911cec4cc7b037.jpg"/>
          <p:cNvPicPr/>
          <p:nvPr/>
        </p:nvPicPr>
        <p:blipFill>
          <a:blip r:embed="rId1"/>
          <a:srcRect l="0" t="0" r="0" b="10394"/>
          <a:stretch/>
        </p:blipFill>
        <p:spPr>
          <a:xfrm>
            <a:off x="60480" y="1047600"/>
            <a:ext cx="9023040" cy="57913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3" descr="图片3"/>
          <p:cNvPicPr/>
          <p:nvPr/>
        </p:nvPicPr>
        <p:blipFill>
          <a:blip r:embed="rId2"/>
          <a:stretch/>
        </p:blipFill>
        <p:spPr>
          <a:xfrm>
            <a:off x="6211800" y="5146560"/>
            <a:ext cx="27068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1"/>
          <p:cNvSpPr/>
          <p:nvPr/>
        </p:nvSpPr>
        <p:spPr>
          <a:xfrm>
            <a:off x="50760" y="1479600"/>
            <a:ext cx="2754360" cy="581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部分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3087720" y="1382760"/>
            <a:ext cx="5554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谈写作本文的缘由和选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"/>
          <p:cNvSpPr/>
          <p:nvPr/>
        </p:nvSpPr>
        <p:spPr>
          <a:xfrm>
            <a:off x="14400" y="2387520"/>
            <a:ext cx="2790720" cy="581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部分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2825640" y="2290680"/>
            <a:ext cx="6416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总写叶圣陶先生的品德有过人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"/>
          <p:cNvSpPr/>
          <p:nvPr/>
        </p:nvSpPr>
        <p:spPr>
          <a:xfrm>
            <a:off x="9360" y="3259080"/>
            <a:ext cx="3210120" cy="581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部分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-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3257640" y="3235320"/>
            <a:ext cx="5984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详尽地叙述了叶先生的两种过人品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7"/>
          <p:cNvSpPr/>
          <p:nvPr/>
        </p:nvSpPr>
        <p:spPr>
          <a:xfrm>
            <a:off x="73080" y="4075200"/>
            <a:ext cx="3083040" cy="581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部分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8"/>
          <p:cNvSpPr/>
          <p:nvPr/>
        </p:nvSpPr>
        <p:spPr>
          <a:xfrm>
            <a:off x="3156120" y="4025880"/>
            <a:ext cx="590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谈学习和仿效叶先生品德的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矩形 9" descr=""/>
          <p:cNvPicPr/>
          <p:nvPr/>
        </p:nvPicPr>
        <p:blipFill>
          <a:blip r:embed="rId1"/>
          <a:stretch/>
        </p:blipFill>
        <p:spPr>
          <a:xfrm>
            <a:off x="596880" y="-384120"/>
            <a:ext cx="7291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矩形 3" descr=""/>
          <p:cNvPicPr/>
          <p:nvPr/>
        </p:nvPicPr>
        <p:blipFill>
          <a:blip r:embed="rId1"/>
          <a:stretch/>
        </p:blipFill>
        <p:spPr>
          <a:xfrm>
            <a:off x="420840" y="73080"/>
            <a:ext cx="7291080" cy="1914480"/>
          </a:xfrm>
          <a:prstGeom prst="rect">
            <a:avLst/>
          </a:prstGeom>
          <a:ln w="0">
            <a:noFill/>
          </a:ln>
        </p:spPr>
      </p:pic>
      <p:pic>
        <p:nvPicPr>
          <p:cNvPr id="521" name="内容占位符 1" descr="002564a5cf7418e9465b20"/>
          <p:cNvPicPr/>
          <p:nvPr/>
        </p:nvPicPr>
        <p:blipFill>
          <a:blip r:embed="rId2"/>
          <a:stretch/>
        </p:blipFill>
        <p:spPr>
          <a:xfrm>
            <a:off x="54000" y="2263680"/>
            <a:ext cx="89503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79280" y="117468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sz="4000" spc="-1" strike="noStrike">
                <a:solidFill>
                  <a:srgbClr val="000000"/>
                </a:solidFill>
                <a:latin typeface="Arial"/>
              </a:rPr>
              <a:t>、作者写这篇文章的缘由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叶圣陶先生去世了，作者写文章来</a:t>
            </a:r>
            <a:r>
              <a:rPr b="1" sz="3200" spc="-1" strike="noStrike" u="sng">
                <a:solidFill>
                  <a:srgbClr val="ff0000"/>
                </a:solidFill>
                <a:uFillTx/>
                <a:latin typeface="Arial"/>
              </a:rPr>
              <a:t>纪念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他，</a:t>
            </a:r>
            <a:r>
              <a:rPr b="1" sz="3200" spc="-1" strike="noStrike" u="sng">
                <a:solidFill>
                  <a:srgbClr val="ff0000"/>
                </a:solidFill>
                <a:uFillTx/>
                <a:latin typeface="Arial"/>
              </a:rPr>
              <a:t>希望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自己和 其他拿笔写作的人，能够像叶圣陶先生一样</a:t>
            </a:r>
            <a:r>
              <a:rPr b="1" sz="3200" spc="-1" strike="noStrike" u="sng">
                <a:solidFill>
                  <a:srgbClr val="ff0000"/>
                </a:solidFill>
                <a:uFillTx/>
                <a:latin typeface="Arial"/>
              </a:rPr>
              <a:t>以身立德并践行他的文学主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矩形 2" descr=""/>
          <p:cNvPicPr/>
          <p:nvPr/>
        </p:nvPicPr>
        <p:blipFill>
          <a:blip r:embed="rId1"/>
          <a:stretch/>
        </p:blipFill>
        <p:spPr>
          <a:xfrm>
            <a:off x="-469800" y="-347760"/>
            <a:ext cx="94806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2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95400" y="77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初读 课文，叶 圣陶先生 给 你 留 下 了 怎样的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他具有高尚的品德。他</a:t>
            </a:r>
            <a:r>
              <a:rPr b="1" sz="3200" spc="-1" strike="noStrike" u="sng">
                <a:solidFill>
                  <a:srgbClr val="ff0000"/>
                </a:solidFill>
                <a:uFillTx/>
                <a:latin typeface="Arial"/>
              </a:rPr>
              <a:t>待人厚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，无论是在工作上还是生活中，对待他人都</a:t>
            </a:r>
            <a:r>
              <a:rPr b="1" sz="3200" spc="-1" strike="noStrike" u="sng">
                <a:solidFill>
                  <a:srgbClr val="ff0000"/>
                </a:solidFill>
                <a:uFillTx/>
                <a:latin typeface="Arial"/>
              </a:rPr>
              <a:t>谦虚恳切、彬彬有礼、尊重有加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；他</a:t>
            </a:r>
            <a:r>
              <a:rPr b="1" sz="3200" spc="-1" strike="noStrike" u="sng">
                <a:solidFill>
                  <a:srgbClr val="ff0000"/>
                </a:solidFill>
                <a:uFillTx/>
                <a:latin typeface="Arial"/>
              </a:rPr>
              <a:t>律己严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，在文字 方面对自己</a:t>
            </a:r>
            <a:r>
              <a:rPr b="1" sz="3200" spc="-1" strike="noStrike" u="sng">
                <a:solidFill>
                  <a:srgbClr val="ff0000"/>
                </a:solidFill>
                <a:uFillTx/>
                <a:latin typeface="Arial"/>
              </a:rPr>
              <a:t>要求严格、追求完美、以身作 则、鞠躬尽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图片 9220" descr="t01e171d77ddd0fbb1a"/>
          <p:cNvPicPr/>
          <p:nvPr/>
        </p:nvPicPr>
        <p:blipFill>
          <a:blip r:embed="rId1"/>
          <a:stretch/>
        </p:blipFill>
        <p:spPr>
          <a:xfrm>
            <a:off x="5580000" y="4365720"/>
            <a:ext cx="2990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1272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sz="2800" spc="-1" strike="noStrike">
                <a:solidFill>
                  <a:srgbClr val="ff0000"/>
                </a:solidFill>
                <a:latin typeface="Arial"/>
              </a:rPr>
              <a:t>概括文中写了哪些事来突出人物的性格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）叶先生不耻下问，请“我”帮他修润课本的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）在客人的拦阻之下，依然把客人送到大门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）写信给“我”，表达后悔和悲伤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）主张文风要平易自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）特别强调重视语言的“简洁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）以身作则，零碎方面同样认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矩形 2" descr=""/>
          <p:cNvPicPr/>
          <p:nvPr/>
        </p:nvPicPr>
        <p:blipFill>
          <a:blip r:embed="rId1"/>
          <a:stretch/>
        </p:blipFill>
        <p:spPr>
          <a:xfrm>
            <a:off x="-506520" y="-324000"/>
            <a:ext cx="9547200" cy="141444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1"/>
          <p:cNvSpPr/>
          <p:nvPr/>
        </p:nvSpPr>
        <p:spPr>
          <a:xfrm>
            <a:off x="152280" y="1438200"/>
            <a:ext cx="6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待人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3"/>
          <p:cNvSpPr/>
          <p:nvPr/>
        </p:nvSpPr>
        <p:spPr>
          <a:xfrm>
            <a:off x="563400" y="2987640"/>
            <a:ext cx="6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律己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左大括号 5"/>
          <p:cNvSpPr/>
          <p:nvPr/>
        </p:nvSpPr>
        <p:spPr>
          <a:xfrm>
            <a:off x="755640" y="1701720"/>
            <a:ext cx="287280" cy="1150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150920"/>
              <a:gd name="textAreaBottom" fmla="*/ 114372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左大括号 6"/>
          <p:cNvSpPr/>
          <p:nvPr/>
        </p:nvSpPr>
        <p:spPr>
          <a:xfrm>
            <a:off x="1187280" y="3094200"/>
            <a:ext cx="320760" cy="1209600"/>
          </a:xfrm>
          <a:custGeom>
            <a:avLst/>
            <a:gdLst>
              <a:gd name="textAreaLeft" fmla="*/ 204840 w 320760"/>
              <a:gd name="textAreaRight" fmla="*/ 321120 w 320760"/>
              <a:gd name="textAreaTop" fmla="*/ 8280 h 1209600"/>
              <a:gd name="textAreaBottom" fmla="*/ 1201320 h 12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9"/>
                  <a:pt x="10800" y="477"/>
                </a:cubicBezTo>
                <a:lnTo>
                  <a:pt x="10800" y="10323"/>
                </a:lnTo>
                <a:cubicBezTo>
                  <a:pt x="10800" y="10562"/>
                  <a:pt x="5400" y="10800"/>
                  <a:pt x="0" y="10800"/>
                </a:cubicBezTo>
                <a:cubicBezTo>
                  <a:pt x="5400" y="10800"/>
                  <a:pt x="10800" y="11039"/>
                  <a:pt x="10800" y="11277"/>
                </a:cubicBezTo>
                <a:lnTo>
                  <a:pt x="10800" y="21123"/>
                </a:lnTo>
                <a:cubicBezTo>
                  <a:pt x="10800" y="2136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2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2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103320" y="28080"/>
            <a:ext cx="908496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描写的事件都是叶先生工作或生活中的 一些小事，为什么作者要选择这些事来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运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小见大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写作手法，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事可以看出大节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者从自己所熟知关于的叶圣陶先生的事情中进行选择，最终 选择了这些生活或工作琐事来表现人物的优秀品质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样写使人物形象更加真实动人，更能引起普通读者强烈的情感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图片 11268" descr="t013d9e178943f15313"/>
          <p:cNvPicPr/>
          <p:nvPr/>
        </p:nvPicPr>
        <p:blipFill>
          <a:blip r:embed="rId1"/>
          <a:stretch/>
        </p:blipFill>
        <p:spPr>
          <a:xfrm>
            <a:off x="5740560" y="4006800"/>
            <a:ext cx="2947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8080" y="43920"/>
            <a:ext cx="865836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写了什么内容？  有什么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36080" y="1469880"/>
            <a:ext cx="855036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内容：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运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名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概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叶圣陶先生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师表的高尚品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用：有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领全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17520" y="108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文入选七年级课本时，因篇幅过长，被编者删 去了一些段落，请你阅读下面的段落，看看它们分别 适合放在文中的什么位置，并写出自己的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矩形 3" descr=""/>
          <p:cNvPicPr/>
          <p:nvPr/>
        </p:nvPicPr>
        <p:blipFill>
          <a:blip r:embed="rId1"/>
          <a:stretch/>
        </p:blipFill>
        <p:spPr>
          <a:xfrm>
            <a:off x="334800" y="-324000"/>
            <a:ext cx="78645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7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86040" y="873000"/>
            <a:ext cx="896148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叶圣陶先生待人厚，还有一次表现得更为突出，是在某一小型会上发言。大概是“讨论”批评和自我批评之类的大题目吧，他说，这，他只能做到一半，是自我批评；至于批评别人的是非长短，他不是看不出 来，可是当面指摘人的短处，他总是说不出来。这只能做到一半的作风，是对是错，自然是仁者见仁、智者见智的事。这里我只能说说自己的感觉，那是：至少是某些时候，或从某个角度看，“德”的 力量会比   “力”大，因为它可以使人自重，努力争取不愧于屋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10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4"/>
          <p:cNvSpPr/>
          <p:nvPr/>
        </p:nvSpPr>
        <p:spPr>
          <a:xfrm>
            <a:off x="138240" y="669960"/>
            <a:ext cx="820080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有这样一个人，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94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年生于江苏苏州，现代作家、教育家、文学出版家和社会活动家，有</a:t>
            </a:r>
            <a:r>
              <a:rPr b="1" lang="zh-CN" sz="2800" spc="-1" strike="noStrike">
                <a:solidFill>
                  <a:srgbClr val="ff0000"/>
                </a:solidFill>
                <a:latin typeface="Arial Unicode MS"/>
              </a:rPr>
              <a:t>“优 秀的语言艺术家”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之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1949 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年后，先后出任</a:t>
            </a:r>
            <a:r>
              <a:rPr b="1" lang="zh-CN" sz="2800" spc="-1" strike="noStrike">
                <a:solidFill>
                  <a:srgbClr val="ff0000"/>
                </a:solidFill>
                <a:latin typeface="Arial Unicode MS"/>
              </a:rPr>
              <a:t>教育部副部长、人民教育出版社社长和总编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、中华全国文学艺术界联合委员会</a:t>
            </a:r>
            <a:r>
              <a:rPr b="1" lang="zh-CN" sz="2800" spc="-1" strike="noStrike">
                <a:solidFill>
                  <a:srgbClr val="ff0000"/>
                </a:solidFill>
                <a:latin typeface="Arial Unicode MS"/>
              </a:rPr>
              <a:t>委员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、中国作家协会</a:t>
            </a:r>
            <a:r>
              <a:rPr b="1" lang="zh-CN" sz="2800" spc="-1" strike="noStrike">
                <a:solidFill>
                  <a:srgbClr val="ff0000"/>
                </a:solidFill>
                <a:latin typeface="Arial Unicode MS"/>
              </a:rPr>
              <a:t>顾问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、中央文史研究馆</a:t>
            </a:r>
            <a:r>
              <a:rPr b="1" lang="zh-CN" sz="2800" spc="-1" strike="noStrike">
                <a:solidFill>
                  <a:srgbClr val="ff0000"/>
                </a:solidFill>
                <a:latin typeface="Arial Unicode MS"/>
              </a:rPr>
              <a:t>馆长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、中华人民共和国全国</a:t>
            </a:r>
            <a:r>
              <a:rPr b="1" lang="zh-CN" sz="2800" spc="-1" strike="noStrike">
                <a:solidFill>
                  <a:srgbClr val="ff0000"/>
                </a:solidFill>
                <a:latin typeface="Arial Unicode MS"/>
              </a:rPr>
              <a:t>政协副主席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， 第一、二、三、四、五届全国人民代表大会常务委员会</a:t>
            </a:r>
            <a:r>
              <a:rPr b="1" lang="zh-CN" sz="2800" spc="-1" strike="noStrike">
                <a:solidFill>
                  <a:srgbClr val="ff0000"/>
                </a:solidFill>
                <a:latin typeface="Arial Unicode MS"/>
              </a:rPr>
              <a:t>委员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，民进中央</a:t>
            </a:r>
            <a:r>
              <a:rPr b="1" lang="zh-CN" sz="2800" spc="-1" strike="noStrike">
                <a:solidFill>
                  <a:srgbClr val="ff0000"/>
                </a:solidFill>
                <a:latin typeface="Arial Unicode MS"/>
              </a:rPr>
              <a:t>主席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1983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年当选为第六届全国政协副主席。这样一个了不起的人物，当他去世之后，人们想起他，会忆起哪些往事呢？  让我们在张中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先生的文字中去了解叶圣陶先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0600" y="95040"/>
            <a:ext cx="90676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此段应放在哪个位置，并写出自己的理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0160" y="1484280"/>
            <a:ext cx="894564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放在文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之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看，这一段讲的是叶圣陶先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待人厚”的事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第一句中写到“叶圣陶先生待人厚，还有一次表现得更为突出”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还有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见这一段是承接上文写的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此之前已经列举了事例，“更为突出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见这一 事件比前面的事件表现其“待人厚”的程度都要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35080" y="9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朗读并品析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，作者说“心里立即罩上双层的悲哀”，这“双层的悲哀”的含义是什么？ 你还可以读出哪些深层意味？ 文中还有类似的含义丰 富的语句，也找出来做品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矩形 3" descr=""/>
          <p:cNvPicPr/>
          <p:nvPr/>
        </p:nvPicPr>
        <p:blipFill>
          <a:blip r:embed="rId1"/>
          <a:stretch/>
        </p:blipFill>
        <p:spPr>
          <a:xfrm>
            <a:off x="-360360" y="-182520"/>
            <a:ext cx="92059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7840" y="-17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段品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240" y="677880"/>
            <a:ext cx="8902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得那是旧历丁卯年除夕，晚上得知这消 息，外面正响着鞭炮，万想不到这繁碎而响亮的声音也把他 送走了，心里立即罩上双层的悲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层的悲哀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层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先生的去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另一层是先生在这样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合家团聚、喜庆欢乐的气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永远地离开了人世，因此更加悲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标题 1" descr=""/>
          <p:cNvPicPr/>
          <p:nvPr/>
        </p:nvPicPr>
        <p:blipFill>
          <a:blip r:embed="rId1"/>
          <a:stretch/>
        </p:blipFill>
        <p:spPr>
          <a:xfrm>
            <a:off x="42840" y="-103320"/>
            <a:ext cx="8497800" cy="11574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38160" y="826560"/>
            <a:ext cx="906768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得那是旧历丁卯年除夕，晚上得知这消 息，外面正响着鞭炮，万想不到这繁碎而响亮的声音也把他 送走了，心里立即罩上双层的悲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写出了作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想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叶圣陶先生会在这时离世，写出了作者听闻此消息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震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罩”是笼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意，“罩”字写出了叶圣陶先生在除夕之时离 世带给作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巨大的悲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种悲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整个心都占满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痛苦悲伤之情难以形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2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920" y="233280"/>
            <a:ext cx="862488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叶圣陶先生，人，往矣，我常常想到他的业绩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1920" y="941040"/>
            <a:ext cx="88804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面几个短语隔开，读时语速便不由自主地放慢，再加上“往矣”两个字，表现出作者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奈、沉痛和悲哀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突出先生过世之后我对他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怀念之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先生的 “往”与 “我”的“常常想到”并列在一起，更显现出先生给些什么，留下些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7800" y="119160"/>
            <a:ext cx="90183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中一些语句中副词的运用增强了句子的感染力，试着找出这样的句子来进行品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16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副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指在句子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行为或 状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征的词，用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饰动词、形容词、其他副词或 全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表示时间、地点、程度、方式等概念。你在学习 的过程中，可以先找出句子中主要的动词或形容词，然后看它前面的修饰语，把这个修饰语去掉再读一 读，你就会发现副词的表达效果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32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示例：两处都是孔老夫子认为虽心向往而力有未能的，可是叶圣陶先生却偏偏做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3640" y="955440"/>
            <a:ext cx="886284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品析：“偏偏”一词，放在“却”这个表示转折的关 联词后，用在动词“做到”前面，表示动作、行为或事情的发生，跟愿望、预料或常理相反，按常理讲孔老 夫子都认为“虽心向往之而力有未能的”，别人一定更难以做到。</a:t>
            </a:r>
            <a:r>
              <a:rPr b="1" sz="3200" spc="-1" strike="noStrike">
                <a:solidFill>
                  <a:srgbClr val="ff0000"/>
                </a:solidFill>
                <a:latin typeface="Arial"/>
              </a:rPr>
              <a:t>而事实与常理相反，突出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了先生“躬行君子”“学而不厌”“诲人不倦”的高尚品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2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160200" y="110880"/>
            <a:ext cx="9464400" cy="12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在文风方面，叶圣陶先生还特别重视“简洁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1924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品析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特别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词修饰“重视”，突出 叶先生对文风 “简洁”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重视程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可见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认真严谨的学术态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8280" y="366480"/>
            <a:ext cx="894744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零碎的，写作的各个方面，小至一个标点，以至抄稿的格式，他都同样认真，不做到完全妥帖决不放松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92160" y="1509480"/>
            <a:ext cx="921384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品析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同样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词说明先生不仅重视以上所讲的文风问 题，写作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小的方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毫不放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不……决不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更补写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认真的程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完全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妥帖一词起限制作用，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严谨的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 自然地呈现在读者面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2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用什么词来表述叶圣陶先生的语文主张？这种风格具体讲的是什么？（用课文中的原话回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“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写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平易自然，鲜明简洁，细致恳切，念，顺口，听，悦耳，说像话还不够，就是话。还特别重视“简洁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标题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987280" y="268200"/>
            <a:ext cx="6108840" cy="63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中行，原名张璇，学名张璿，河北省香河县河北屯乡石庄（今属天津市武清区河北屯镇）人，著名学者、哲学家、散文家。主要从事语文、古典文学及思想史的研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参加编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《汉语课本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古代散文选》等。合作编著有《文言文选读》《文言读本续编》；编著有《文言常识》、《文言津逮》、《佛教与中国文学》、《负暄琐话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二十世纪末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未名湖畔三雅士之一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季羡林、金克木合称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“燕园三老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季羡林先生称赞他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高人、逸人、至人、超人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07"/>
          <p:cNvPicPr/>
          <p:nvPr/>
        </p:nvPicPr>
        <p:blipFill>
          <a:blip r:embed="rId1"/>
          <a:srcRect l="0" t="12179" r="0" b="0"/>
          <a:stretch/>
        </p:blipFill>
        <p:spPr>
          <a:xfrm>
            <a:off x="171360" y="1700280"/>
            <a:ext cx="2873520" cy="497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4" name="矩形 4100"/>
          <p:cNvSpPr txBox="1"/>
          <p:nvPr/>
        </p:nvSpPr>
        <p:spPr>
          <a:xfrm>
            <a:off x="324000" y="189000"/>
            <a:ext cx="2303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者介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标题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4400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110880" y="984240"/>
            <a:ext cx="901044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叶圣陶先生说：“写成文章，在这间房里念，要让 那间房里的人听着，是说话，不是念稿，才算及了格。”本文具有这样的“写话”风格吗？ 举例说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8840" y="185400"/>
            <a:ext cx="9052200" cy="28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人到东四八条他家去看他，告辞时，客人拦阻他远送，无论怎样说，他一定还是走过三 道门，四道台阶，送到大门外。告别，他鞠躬，口说谢谢，看着来人上路才转身回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8840" y="2580840"/>
            <a:ext cx="89535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段话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先生送客人出门的场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全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白如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甚至没有一个形容词，只是把先生送行时的一系列行动直白地描 画出来，“走过三道门，四道台阶”“送到大门外”“鞠躬”“口说 谢谢”“看着”能让读者看到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谦恭有礼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先生。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华文细黑"/>
                <a:ea typeface="华文细黑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华文细黑"/>
                <a:ea typeface="华文细黑"/>
              </a:rPr>
              <a:t>写话”与本文的文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细黑"/>
                <a:ea typeface="华文细黑"/>
              </a:rPr>
              <a:t>叶圣陶先生的语文主张，简而言之就是</a:t>
            </a:r>
            <a:r>
              <a:rPr b="0" lang="en-US" sz="3200" spc="-1" strike="noStrike">
                <a:solidFill>
                  <a:srgbClr val="333399"/>
                </a:solidFill>
                <a:latin typeface="华文细黑"/>
                <a:ea typeface="华文细黑"/>
              </a:rPr>
              <a:t>——“</a:t>
            </a:r>
            <a:r>
              <a:rPr b="0" lang="zh-CN" sz="3200" spc="-1" strike="noStrike">
                <a:solidFill>
                  <a:srgbClr val="333399"/>
                </a:solidFill>
                <a:latin typeface="华文细黑"/>
                <a:ea typeface="华文细黑"/>
              </a:rPr>
              <a:t>写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细黑"/>
                <a:ea typeface="华文细黑"/>
              </a:rPr>
              <a:t>叶圣陶先生就是这样严格要求自己的：一旦所写的不像“话”，就坚决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细黑"/>
                <a:ea typeface="华文细黑"/>
              </a:rPr>
              <a:t>写话的风格：平易自然，鲜明简洁，细致恳切，念着顺口，听着悦耳，说像话还不够，其实就是“话”。此外，还特别重视“简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文章表达了怎样的中心思想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本文表现了叶老严以律己、宽以待人的品格及对叶老的去世的悲伤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24580" descr="t01244fcebfd3d21c76"/>
          <p:cNvPicPr/>
          <p:nvPr/>
        </p:nvPicPr>
        <p:blipFill>
          <a:blip r:embed="rId1"/>
          <a:stretch/>
        </p:blipFill>
        <p:spPr>
          <a:xfrm>
            <a:off x="2556000" y="3860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60840" y="1755720"/>
            <a:ext cx="90932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作者通过一些典型事例展示了叶先生的宽以待人、严以律己的品格，表现了叶先生为人谦和诚恳、平易近人，做事认真严谨、一丝不苟的态度，阐述</a:t>
            </a:r>
            <a:r>
              <a:rPr b="1" lang="zh-CN" sz="4000" spc="-1" strike="noStrike">
                <a:solidFill>
                  <a:srgbClr val="333399"/>
                </a:solidFill>
                <a:latin typeface="华文细黑"/>
                <a:ea typeface="楷体_GB2312"/>
              </a:rPr>
              <a:t>叶先生“写话”主张，表达了对先生的悼念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流程图: 可选过程 2"/>
          <p:cNvSpPr/>
          <p:nvPr/>
        </p:nvSpPr>
        <p:spPr>
          <a:xfrm>
            <a:off x="1257480" y="923760"/>
            <a:ext cx="6416640" cy="14684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叶圣陶名言名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3"/>
          <p:cNvSpPr/>
          <p:nvPr/>
        </p:nvSpPr>
        <p:spPr>
          <a:xfrm>
            <a:off x="252360" y="2004840"/>
            <a:ext cx="929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有做学生的学生，才能做学生的先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师并非教书，而是教育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辈子坚持自学的人就是一辈子自强不息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于一个有思想的人来说，没有一个地方是荒凉地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2"/>
          <p:cNvSpPr/>
          <p:nvPr/>
        </p:nvSpPr>
        <p:spPr>
          <a:xfrm>
            <a:off x="2035080" y="233280"/>
            <a:ext cx="521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检测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文作者（    ），原名张璇，著名学者、哲学家、散文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中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叶圣陶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4-198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名（），字（），江苏苏州人，著名（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绍钧  圣陶   作家、教育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文记述了叶圣陶先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品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待人厚，律己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用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词来表述叶圣陶先生的语文主张，这种风格特别重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话” ，“简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995280" y="333000"/>
            <a:ext cx="4969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叶圣陶（</a:t>
            </a: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1894-1988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），名绍钧，字圣陶，江苏苏州人，著名作家、著名教育家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早期代表作长篇小说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倪焕之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“九一八”事变后，积极参加爱国抗日活动，发表了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多收了三五斗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等著名的短片小说，技巧日臻圆熟。叶圣陶还是中国现代童话创作的拓荒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01"/>
          <p:cNvPicPr/>
          <p:nvPr/>
        </p:nvPicPr>
        <p:blipFill>
          <a:blip r:embed="rId1"/>
          <a:stretch/>
        </p:blipFill>
        <p:spPr>
          <a:xfrm>
            <a:off x="179280" y="620640"/>
            <a:ext cx="3732480" cy="511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和记述的叶圣陶先生，都是著名的语文学家。二人有多年的交往，感情深厚，亦师亦友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叶圣陶先生辞世，三个月后，作者就写下了这篇文章。作者通过对叶圣陶先生言行的记录，赞美了叶圣陶先生的高尚品行：同时也颂扬了叶圣陶先生的语文主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6147"/>
          <p:cNvSpPr txBox="1"/>
          <p:nvPr/>
        </p:nvSpPr>
        <p:spPr>
          <a:xfrm>
            <a:off x="2268360" y="0"/>
            <a:ext cx="360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作背景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标题 21505" descr=""/>
          <p:cNvPicPr/>
          <p:nvPr/>
        </p:nvPicPr>
        <p:blipFill>
          <a:blip r:embed="rId1"/>
          <a:stretch/>
        </p:blipFill>
        <p:spPr>
          <a:xfrm>
            <a:off x="0" y="-190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61560" y="1518840"/>
            <a:ext cx="8435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修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切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朦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累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别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215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"/>
          <p:cNvSpPr/>
          <p:nvPr/>
        </p:nvSpPr>
        <p:spPr>
          <a:xfrm>
            <a:off x="914400" y="113652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r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2"/>
          <p:cNvSpPr/>
          <p:nvPr/>
        </p:nvSpPr>
        <p:spPr>
          <a:xfrm>
            <a:off x="2610000" y="113652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3"/>
          <p:cNvSpPr/>
          <p:nvPr/>
        </p:nvSpPr>
        <p:spPr>
          <a:xfrm>
            <a:off x="4322880" y="113652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"/>
          <p:cNvSpPr/>
          <p:nvPr/>
        </p:nvSpPr>
        <p:spPr>
          <a:xfrm>
            <a:off x="5483160" y="113652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k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5"/>
          <p:cNvSpPr/>
          <p:nvPr/>
        </p:nvSpPr>
        <p:spPr>
          <a:xfrm>
            <a:off x="7278840" y="1046160"/>
            <a:ext cx="17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6"/>
          <p:cNvSpPr/>
          <p:nvPr/>
        </p:nvSpPr>
        <p:spPr>
          <a:xfrm>
            <a:off x="-57240" y="253836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éng 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7"/>
          <p:cNvSpPr/>
          <p:nvPr/>
        </p:nvSpPr>
        <p:spPr>
          <a:xfrm>
            <a:off x="2184480" y="260028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éi zh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8"/>
          <p:cNvSpPr/>
          <p:nvPr/>
        </p:nvSpPr>
        <p:spPr>
          <a:xfrm>
            <a:off x="3821040" y="251784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iè 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9"/>
          <p:cNvSpPr/>
          <p:nvPr/>
        </p:nvSpPr>
        <p:spPr>
          <a:xfrm>
            <a:off x="6100920" y="253836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0"/>
          <p:cNvSpPr/>
          <p:nvPr/>
        </p:nvSpPr>
        <p:spPr>
          <a:xfrm>
            <a:off x="7688160" y="253836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i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标题 21505" descr=""/>
          <p:cNvPicPr/>
          <p:nvPr/>
        </p:nvPicPr>
        <p:blipFill>
          <a:blip r:embed="rId1"/>
          <a:stretch/>
        </p:blipFill>
        <p:spPr>
          <a:xfrm>
            <a:off x="0" y="-190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61560" y="1368360"/>
            <a:ext cx="670716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不倦    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问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颠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流离       以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15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图片 21519" descr="t01cb9564cca21f3135"/>
          <p:cNvPicPr/>
          <p:nvPr/>
        </p:nvPicPr>
        <p:blipFill>
          <a:blip r:embed="rId2"/>
          <a:stretch/>
        </p:blipFill>
        <p:spPr>
          <a:xfrm>
            <a:off x="7308720" y="189000"/>
            <a:ext cx="1495440" cy="228600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1"/>
          <p:cNvSpPr/>
          <p:nvPr/>
        </p:nvSpPr>
        <p:spPr>
          <a:xfrm>
            <a:off x="666720" y="96840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2"/>
          <p:cNvSpPr/>
          <p:nvPr/>
        </p:nvSpPr>
        <p:spPr>
          <a:xfrm>
            <a:off x="3665520" y="86184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3"/>
          <p:cNvSpPr/>
          <p:nvPr/>
        </p:nvSpPr>
        <p:spPr>
          <a:xfrm>
            <a:off x="338040" y="234936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iān p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4"/>
          <p:cNvSpPr/>
          <p:nvPr/>
        </p:nvSpPr>
        <p:spPr>
          <a:xfrm>
            <a:off x="4419720" y="240984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字词补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52280" y="1334880"/>
            <a:ext cx="776952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沾溉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顾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21507"/>
          <p:cNvSpPr/>
          <p:nvPr/>
        </p:nvSpPr>
        <p:spPr>
          <a:xfrm>
            <a:off x="1614240" y="69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21508"/>
          <p:cNvSpPr/>
          <p:nvPr/>
        </p:nvSpPr>
        <p:spPr>
          <a:xfrm>
            <a:off x="3221280" y="8254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ān g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21511"/>
          <p:cNvSpPr/>
          <p:nvPr/>
        </p:nvSpPr>
        <p:spPr>
          <a:xfrm>
            <a:off x="2108160" y="22226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21512"/>
          <p:cNvSpPr/>
          <p:nvPr/>
        </p:nvSpPr>
        <p:spPr>
          <a:xfrm>
            <a:off x="3521160" y="222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ǒ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15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21519" descr="t01cb9564cca21f3135"/>
          <p:cNvPicPr/>
          <p:nvPr/>
        </p:nvPicPr>
        <p:blipFill>
          <a:blip r:embed="rId1"/>
          <a:stretch/>
        </p:blipFill>
        <p:spPr>
          <a:xfrm>
            <a:off x="7308720" y="189000"/>
            <a:ext cx="1495440" cy="2286000"/>
          </a:xfrm>
          <a:prstGeom prst="rect">
            <a:avLst/>
          </a:prstGeom>
          <a:ln w="0">
            <a:noFill/>
          </a:ln>
        </p:spPr>
      </p:pic>
      <p:sp>
        <p:nvSpPr>
          <p:cNvPr id="498" name="文本框 2"/>
          <p:cNvSpPr/>
          <p:nvPr/>
        </p:nvSpPr>
        <p:spPr>
          <a:xfrm>
            <a:off x="6134040" y="82548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标题 21505" descr=""/>
          <p:cNvPicPr/>
          <p:nvPr/>
        </p:nvPicPr>
        <p:blipFill>
          <a:blip r:embed="rId1"/>
          <a:stretch/>
        </p:blipFill>
        <p:spPr>
          <a:xfrm>
            <a:off x="-36360" y="-133200"/>
            <a:ext cx="8242200" cy="11635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61560" y="1368360"/>
            <a:ext cx="670716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诲人不倦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不耻下问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颠沛流离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以身作则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自顾不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词义辨析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215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21519" descr="t01cb9564cca21f3135"/>
          <p:cNvPicPr/>
          <p:nvPr/>
        </p:nvPicPr>
        <p:blipFill>
          <a:blip r:embed="rId2"/>
          <a:stretch/>
        </p:blipFill>
        <p:spPr>
          <a:xfrm>
            <a:off x="7308720" y="189000"/>
            <a:ext cx="1495440" cy="2286000"/>
          </a:xfrm>
          <a:prstGeom prst="rect">
            <a:avLst/>
          </a:prstGeom>
          <a:ln w="0">
            <a:noFill/>
          </a:ln>
        </p:spPr>
      </p:pic>
      <p:sp>
        <p:nvSpPr>
          <p:cNvPr id="503" name="左大括号 1"/>
          <p:cNvSpPr/>
          <p:nvPr/>
        </p:nvSpPr>
        <p:spPr>
          <a:xfrm>
            <a:off x="3056040" y="3046320"/>
            <a:ext cx="718920" cy="1656000"/>
          </a:xfrm>
          <a:custGeom>
            <a:avLst/>
            <a:gdLst>
              <a:gd name="textAreaLeft" fmla="*/ 459360 w 718920"/>
              <a:gd name="textAreaRight" fmla="*/ 719280 w 718920"/>
              <a:gd name="textAreaTop" fmla="*/ 18720 h 1656000"/>
              <a:gd name="textAreaBottom" fmla="*/ 163728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1"/>
                  <a:pt x="10800" y="782"/>
                </a:cubicBezTo>
                <a:lnTo>
                  <a:pt x="10800" y="10018"/>
                </a:lnTo>
                <a:cubicBezTo>
                  <a:pt x="10800" y="10409"/>
                  <a:pt x="5400" y="10800"/>
                  <a:pt x="0" y="10800"/>
                </a:cubicBezTo>
                <a:cubicBezTo>
                  <a:pt x="5400" y="10800"/>
                  <a:pt x="10800" y="11191"/>
                  <a:pt x="10800" y="11582"/>
                </a:cubicBezTo>
                <a:lnTo>
                  <a:pt x="10800" y="20818"/>
                </a:lnTo>
                <a:cubicBezTo>
                  <a:pt x="10800" y="2120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"/>
          <p:cNvSpPr/>
          <p:nvPr/>
        </p:nvSpPr>
        <p:spPr>
          <a:xfrm>
            <a:off x="4033440" y="2997360"/>
            <a:ext cx="8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朦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4"/>
          <p:cNvSpPr/>
          <p:nvPr/>
        </p:nvSpPr>
        <p:spPr>
          <a:xfrm>
            <a:off x="4072320" y="4245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蒙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5"/>
          <p:cNvSpPr/>
          <p:nvPr/>
        </p:nvSpPr>
        <p:spPr>
          <a:xfrm>
            <a:off x="4072320" y="3646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曚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1:06:42Z</dcterms:created>
  <dc:creator>User</dc:creator>
  <dc:description/>
  <dc:language>en-US</dc:language>
  <cp:lastModifiedBy>Administrator</cp:lastModifiedBy>
  <dcterms:modified xsi:type="dcterms:W3CDTF">2017-04-26T00:56:33Z</dcterms:modified>
  <cp:revision>13</cp:revision>
  <dc:subject/>
  <dc:title>叶圣陶先生二三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74</vt:lpwstr>
  </property>
</Properties>
</file>