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3E4-571C-4B00-B8CA-FB4D3F21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456-87F8-4F22-AE29-51F0D5A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9E6CB-3E1A-4948-894D-8C99A8AE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71EF0-C833-4EC6-9C35-578B34A4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F1C59-45D3-40EC-B97D-75932E7C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6140B-6DF5-4E18-964C-F54AEEF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92441-88B9-4E1F-99A4-0049BF45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48C61-A81E-4805-AC98-E1372EB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B7308-7F39-466C-88F1-135B801E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D4E2-EC21-46C0-9850-B5EC287A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4A7C6-F1D0-407E-B9ED-D4957355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7EFBA-677C-4F47-9A55-C8481C0A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94D-46E1-4DE0-ADD8-7F8C1FE9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81237-DB79-4B25-B3DF-527700B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15D77-F07E-4E4A-A098-9372FFDB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6FE3B-1BCD-4B17-BF2F-646A36F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237D0-4FC1-410A-8E26-AEF4855B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02C65-6263-4F6B-9CFD-1D27E5C6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49509-C3C9-49E0-9A59-60959D73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9B3FE-725E-4673-A648-BF79EC0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A92A7-1AFD-47D2-9771-FBC3744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4FC3F-ACED-4C4F-944A-BB8C8E5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4CD22-76E6-431D-A805-65186AAB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E7B-02C5-4F4C-B358-EDE75C87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3A89D-0DC5-44C4-838B-8880FC07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CF707-879A-4D5E-8C10-B781AF9E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0B96-B895-4CD8-95A8-E6333F30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B8941-C4BC-4098-8867-BAE04412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4F4B5-E65E-457C-AC74-F2883937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9A7FB-B012-4E04-B1AA-362CCCD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8AA78-0D12-4D02-BFDC-8089789D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96634-44E5-44C1-9737-173C168F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99503-0213-42C9-84DF-6A06688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BF672-5501-41E8-89D2-4C1A776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0E4A-2ABF-4BE7-BEF9-F5D5F6B4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C9FD2-E660-45F6-8EA3-CB3734FA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CE5C3-EF3B-49AB-890A-67269836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D6EC-FAF7-4C13-8283-5D0C7DDB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C043-5612-46EA-A857-04C9E1AA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36CA-28DA-4D16-96B3-2720F5A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7805-0F43-4634-9855-E7263D1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1F56-2BA7-4809-A5D2-F583E4BD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4EBC-7E2B-4666-ACB4-D1BAB945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A606-49BB-45C3-8429-0A695F1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A34-4742-48F3-A2E7-C4660FB3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31F5-F0F5-46D0-A4CE-A09015A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4038-4891-4F0C-A636-1520BFA5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4DF3-050B-4167-98B8-C26027CE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C453-DF7C-4673-A62D-CD91A64C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1748-2CE2-4B33-BF7E-9203E908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25C9-0ACA-426E-AEB2-2D8DECA3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528A-4A30-4C39-9962-615620B4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A6A8-C59C-435B-AD99-A299663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89AE-4DE3-4D59-8BCE-513FD54B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20BA-A012-4F17-BB5B-F6B46B2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664-D753-4439-90C7-C36BDA77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6E84-5A10-4F35-B0F9-CC90979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4F62-194B-45A9-8BDC-51524E1E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9B96-175C-4B4F-AD10-693BF83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80C2-F064-4D19-B9CB-8705DC6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D45D-60DA-4E2D-9F8A-DB98588C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76CF-B3A2-4626-94EA-9ECFC7E8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DDE4-CEFF-43A1-B7A1-48CC1A57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D7A5-DF54-4A9D-8F51-38FFC482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FEF1-7B8D-463B-9498-0E241695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E025-64CF-4CBA-BC8B-55432A2B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7A9-98E2-4CB7-B44A-893E1D4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B433-186A-4812-A7C4-42546FB3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1C62-D4E4-4872-A635-B94ECEB8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257F-2173-4DF7-94DD-DFF67A48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9D97A-3300-4ADB-84AF-B39D565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D61C-5930-4C6B-A64D-B57D6A1F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D5A7-A8FF-48A1-867E-E251B25A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AAD8-7C63-4DFD-BD3A-87D9DAE4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86621-665F-46D9-9CFE-E8CF082E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F08F-8164-4EAD-9FF2-343CD8FF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DBC2F-D50E-4DF6-9FD5-A0883414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3D5-FD85-43F8-949F-2274E67E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CFD95-3594-4355-A351-269F9E1D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C052F-9BC1-4BB1-95C1-D12D35C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9A82-498C-43F8-B52F-068F512C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D6D6-02FC-4DD7-AFE8-AE507381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0DDE8-5AE7-4BC1-9352-31B55F8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7A3A3-B217-46DB-B711-A847F51D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01B9-DE40-4A5B-9351-560BA3F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9BDD-2498-4B22-872E-07E1BF7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87AE3-34FE-4F94-9DB0-3D17C067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9056-D74B-4A08-99D4-036DFB1C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3EA-64A2-45AF-A34C-6AD3AFD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1B789-ACE8-4649-945C-F4874FE9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687ED-EC0F-49CA-BF88-4F233581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F0C39-E93A-4388-9341-520F34A4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3271D-FF0B-4F61-94C9-744B8D9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BCBB-D5BE-43F3-8AD9-75CB668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81F72-C7F2-42D8-B075-F1ABD889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03137-0FD4-47B2-8C1B-19859E7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0F73-4CFA-4909-AA92-CF1DC60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FA496-9164-4D46-83ED-A499AC1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EB1D-5AA7-468B-BE78-11B38EA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2F2-3665-4A4D-B6EF-BE798F5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2BBF-764E-4B0B-ACD8-7C22DF73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5901-7D2E-467E-81FD-8BEA4264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80EAA-0EBA-43F6-B3DD-11DAA10E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B91E7-2B1B-43C6-93FC-CEFEB8A3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7060-E7B0-489F-B910-ADDFF4F8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5A8D-B9F5-4D1F-A553-824F30AC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945A-C6CC-441B-956B-EEAD03E8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5A7C1-9209-4CC7-8A82-15A54E24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CA17-848B-4B20-BBBF-C352B99B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ABDC-5C01-435F-A847-DC162F3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ACB-6FD3-4507-ADDD-54D60AA2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7CE2-072D-4F6C-855B-8172A7E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85472-8DCB-4BCD-A4B3-352A9BF7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B883-7D87-424A-959A-1891505C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F114-E989-46A6-AA8A-5B9DB111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17EF-60BD-4B35-AD21-CF77DCAC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8443F-668F-4CAD-A6EA-2468B7C1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CC46-3065-4F54-8B15-164BBE40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AB403-6E69-41E3-A5B0-4824D48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384FD-65A6-4925-BE0D-80B221D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78DA7-A60D-4360-8E65-C55039A5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927-D7FA-4E87-B697-FD19D28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D103C-D782-4382-BCB3-AC5D63DE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5A171-E0EB-4FA2-B725-C47A41F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E798-F2F0-4F52-816D-6026A134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BBFF-4B2A-44A5-B681-FFA52F2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F9D57-D7B8-4AAC-8EF8-EAD0F781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3BE8E-1958-4220-8892-99621CE3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2B79-D5ED-4FDD-AABE-BFA4DE88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B8CF8-B893-428F-B249-4314F105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307AC-72A7-4137-B2A8-2B410B6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13EBC-1612-4151-B335-D1F1807B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01BB-327E-448F-816F-0DF281EF925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4979-F2D9-4EE0-8DF6-CFFAD18F1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EFAE-75DF-4005-99A7-14E14EEBDA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8690-D13F-4951-B692-EFBC9CBAF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3357-507D-4482-8A21-64D9C046D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E3DB-D81B-4512-A854-7EE344B8C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E5C-E1DB-474F-B12E-2C4E13B2CB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166D-A05C-4AF0-93D4-233EF3C3D5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4930-A7C1-424F-BB26-6E34A88C76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B99-C515-427A-B6B9-73C5F1F1D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F818-8D37-40D4-BC87-05BE1F85E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70D0-11DE-4EB0-87F3-767987A33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文本框 2058"/>
          <p:cNvSpPr/>
          <p:nvPr/>
        </p:nvSpPr>
        <p:spPr>
          <a:xfrm>
            <a:off x="6591960" y="-655560"/>
            <a:ext cx="1734480" cy="75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叶圣陶先生二三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张中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1" descr="1378468056967_320"/>
          <p:cNvPicPr/>
          <p:nvPr/>
        </p:nvPicPr>
        <p:blipFill>
          <a:blip r:embed="rId1"/>
          <a:stretch/>
        </p:blipFill>
        <p:spPr>
          <a:xfrm>
            <a:off x="0" y="-6480"/>
            <a:ext cx="592920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章描写的事件都是叶先生工作或生活中的 一些小事，为什么作者要选择这些事来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运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小见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写作手法，通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事可以看出大节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者从自己所熟知关于的叶圣陶先生的事情中进行选择，最终 选择了这些生活或工作琐事来表现人物的优秀品质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样写使人物形象更加真实动人，更能引起普通读者强烈的情感共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580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文章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写了什么内容？  有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13840" y="2201760"/>
            <a:ext cx="855036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：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运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名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概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叶圣陶先生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人师表的高尚品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用：有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总领全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235080" y="9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作者说“心里立即罩上双层的悲哀”，这“双层的悲哀”的含义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矩形 3" descr=""/>
          <p:cNvPicPr/>
          <p:nvPr/>
        </p:nvPicPr>
        <p:blipFill>
          <a:blip r:embed="rId1"/>
          <a:stretch/>
        </p:blipFill>
        <p:spPr>
          <a:xfrm>
            <a:off x="-298440" y="-152280"/>
            <a:ext cx="45226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表达了怎样的中心思想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本文表现了叶老严以律己、宽以待人的品格及对叶老的去世的悲伤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24580" descr="t01244fcebfd3d21c76"/>
          <p:cNvPicPr/>
          <p:nvPr/>
        </p:nvPicPr>
        <p:blipFill>
          <a:blip r:embed="rId1"/>
          <a:stretch/>
        </p:blipFill>
        <p:spPr>
          <a:xfrm>
            <a:off x="2556000" y="3860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85480" y="1143000"/>
            <a:ext cx="8429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作者通过一些典型事例展示了叶先生的宽以待人、严以律己的品格，表现了叶先生为人谦和诚恳、平易近人，做事认真严谨、一丝不苟的态度，阐述</a:t>
            </a:r>
            <a:r>
              <a:rPr b="1" lang="zh-CN" sz="4000" spc="-1" strike="noStrike">
                <a:solidFill>
                  <a:srgbClr val="333399"/>
                </a:solidFill>
                <a:latin typeface="华文细黑"/>
                <a:ea typeface="楷体_GB2312"/>
              </a:rPr>
              <a:t>叶先生“写话”主张，表达了对先生的悼念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流程图: 可选过程 2"/>
          <p:cNvSpPr/>
          <p:nvPr/>
        </p:nvSpPr>
        <p:spPr>
          <a:xfrm>
            <a:off x="1285920" y="142920"/>
            <a:ext cx="6416640" cy="100008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叶圣陶名言名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"/>
          <p:cNvSpPr/>
          <p:nvPr/>
        </p:nvSpPr>
        <p:spPr>
          <a:xfrm>
            <a:off x="252360" y="1214280"/>
            <a:ext cx="86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只有做学生的学生，才能做学生的先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教师并非教书，而是教育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辈子坚持自学的人就是一辈子自强不息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于一个有思想的人来说，没有一个地方是荒凉地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929040" y="499680"/>
            <a:ext cx="4968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叶圣陶（</a:t>
            </a:r>
            <a:r>
              <a:rPr b="1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1894-1988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），名绍钧，字圣陶，江苏苏州人，著名作家、著名教育家</a:t>
            </a:r>
            <a:r>
              <a:rPr b="1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01"/>
          <p:cNvPicPr/>
          <p:nvPr/>
        </p:nvPicPr>
        <p:blipFill>
          <a:blip r:embed="rId1"/>
          <a:stretch/>
        </p:blipFill>
        <p:spPr>
          <a:xfrm>
            <a:off x="179280" y="620640"/>
            <a:ext cx="3732480" cy="511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034800" y="357120"/>
            <a:ext cx="582300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中行，原名张璇，学名张璿，著名学者、哲学家、散文家。主要从事语文、古典文学及思想史的研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二十世纪末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未名湖畔三雅士之一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季羡林、金克木合称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“燕园三老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季羡林先生称赞他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高人、逸人、至人、超人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07"/>
          <p:cNvPicPr/>
          <p:nvPr/>
        </p:nvPicPr>
        <p:blipFill>
          <a:blip r:embed="rId1"/>
          <a:srcRect l="0" t="12179" r="0" b="0"/>
          <a:stretch/>
        </p:blipFill>
        <p:spPr>
          <a:xfrm>
            <a:off x="171360" y="1700280"/>
            <a:ext cx="2873520" cy="497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7" name="矩形 4100"/>
          <p:cNvSpPr txBox="1"/>
          <p:nvPr/>
        </p:nvSpPr>
        <p:spPr>
          <a:xfrm>
            <a:off x="324000" y="189000"/>
            <a:ext cx="230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者介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和叶圣陶先生，都是著名的语文学家。二人有多年的交往，感情深厚，亦师亦友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叶圣陶先生辞世，三个月后，作者就写下了这篇文章。作者通过对叶圣陶先生言行的记录，赞美了叶圣陶先生的高尚品行：同时也颂扬了叶圣陶先生的语文主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6147"/>
          <p:cNvSpPr txBox="1"/>
          <p:nvPr/>
        </p:nvSpPr>
        <p:spPr>
          <a:xfrm>
            <a:off x="142920" y="214200"/>
            <a:ext cx="36003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作背景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标题 21505" descr=""/>
          <p:cNvPicPr/>
          <p:nvPr/>
        </p:nvPicPr>
        <p:blipFill>
          <a:blip r:embed="rId1"/>
          <a:stretch/>
        </p:blipFill>
        <p:spPr>
          <a:xfrm>
            <a:off x="0" y="-190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142560" y="1571400"/>
            <a:ext cx="8435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切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朦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累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别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5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"/>
          <p:cNvSpPr/>
          <p:nvPr/>
        </p:nvSpPr>
        <p:spPr>
          <a:xfrm>
            <a:off x="914400" y="113652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2"/>
          <p:cNvSpPr/>
          <p:nvPr/>
        </p:nvSpPr>
        <p:spPr>
          <a:xfrm>
            <a:off x="2610000" y="113652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3"/>
          <p:cNvSpPr/>
          <p:nvPr/>
        </p:nvSpPr>
        <p:spPr>
          <a:xfrm>
            <a:off x="4214880" y="107172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"/>
          <p:cNvSpPr/>
          <p:nvPr/>
        </p:nvSpPr>
        <p:spPr>
          <a:xfrm>
            <a:off x="5429160" y="107172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k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5"/>
          <p:cNvSpPr/>
          <p:nvPr/>
        </p:nvSpPr>
        <p:spPr>
          <a:xfrm>
            <a:off x="7278840" y="1046160"/>
            <a:ext cx="17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6"/>
          <p:cNvSpPr/>
          <p:nvPr/>
        </p:nvSpPr>
        <p:spPr>
          <a:xfrm>
            <a:off x="-57240" y="253836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7"/>
          <p:cNvSpPr/>
          <p:nvPr/>
        </p:nvSpPr>
        <p:spPr>
          <a:xfrm>
            <a:off x="2184480" y="260028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éi zh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8"/>
          <p:cNvSpPr/>
          <p:nvPr/>
        </p:nvSpPr>
        <p:spPr>
          <a:xfrm>
            <a:off x="3821040" y="251784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iè 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9"/>
          <p:cNvSpPr/>
          <p:nvPr/>
        </p:nvSpPr>
        <p:spPr>
          <a:xfrm>
            <a:off x="6100920" y="253836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0"/>
          <p:cNvSpPr/>
          <p:nvPr/>
        </p:nvSpPr>
        <p:spPr>
          <a:xfrm>
            <a:off x="7688160" y="253836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i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标题 21505" descr=""/>
          <p:cNvPicPr/>
          <p:nvPr/>
        </p:nvPicPr>
        <p:blipFill>
          <a:blip r:embed="rId1"/>
          <a:stretch/>
        </p:blipFill>
        <p:spPr>
          <a:xfrm>
            <a:off x="0" y="-190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61560" y="1368360"/>
            <a:ext cx="670716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不倦    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问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颠   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流离       以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15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1"/>
          <p:cNvSpPr/>
          <p:nvPr/>
        </p:nvSpPr>
        <p:spPr>
          <a:xfrm>
            <a:off x="666720" y="96840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2"/>
          <p:cNvSpPr/>
          <p:nvPr/>
        </p:nvSpPr>
        <p:spPr>
          <a:xfrm>
            <a:off x="3665520" y="86184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3"/>
          <p:cNvSpPr/>
          <p:nvPr/>
        </p:nvSpPr>
        <p:spPr>
          <a:xfrm>
            <a:off x="338040" y="234936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iān p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4"/>
          <p:cNvSpPr/>
          <p:nvPr/>
        </p:nvSpPr>
        <p:spPr>
          <a:xfrm>
            <a:off x="4714920" y="22860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79280" y="117468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、作者写这篇文章的缘由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、作者从哪两个方面写了叶 圣陶先生 的好品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、文中写了哪些事来突出人物的好品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矩形 2" descr=""/>
          <p:cNvPicPr/>
          <p:nvPr/>
        </p:nvPicPr>
        <p:blipFill>
          <a:blip r:embed="rId1"/>
          <a:stretch/>
        </p:blipFill>
        <p:spPr>
          <a:xfrm>
            <a:off x="-30240" y="0"/>
            <a:ext cx="2676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428480" y="642960"/>
            <a:ext cx="7515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）叶先生不耻下问，请“我”帮他修润课本的文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）在客人的拦阻之下，依然把客人送到大门外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）写信给“我”，表达后 悔和悲伤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"/>
          <p:cNvSpPr/>
          <p:nvPr/>
        </p:nvSpPr>
        <p:spPr>
          <a:xfrm>
            <a:off x="357120" y="1714680"/>
            <a:ext cx="62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待人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左大括号 5"/>
          <p:cNvSpPr/>
          <p:nvPr/>
        </p:nvSpPr>
        <p:spPr>
          <a:xfrm>
            <a:off x="1214280" y="1071720"/>
            <a:ext cx="357480" cy="35715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571560"/>
              <a:gd name="textAreaBottom" fmla="*/ 3562560 h 35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866"/>
                </a:lnTo>
                <a:cubicBezTo>
                  <a:pt x="10800" y="10956"/>
                  <a:pt x="5400" y="11046"/>
                  <a:pt x="0" y="11046"/>
                </a:cubicBezTo>
                <a:cubicBezTo>
                  <a:pt x="5400" y="11046"/>
                  <a:pt x="10800" y="11136"/>
                  <a:pt x="10800" y="11226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499760" y="928800"/>
            <a:ext cx="7358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）主张文风要平易自然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）特别强调重视语言的“简洁”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sz="4400" spc="-1" strike="noStrike">
                <a:solidFill>
                  <a:srgbClr val="0000ff"/>
                </a:solidFill>
                <a:latin typeface="Arial"/>
              </a:rPr>
              <a:t>）以身作则，零碎方面同  样认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3"/>
          <p:cNvSpPr/>
          <p:nvPr/>
        </p:nvSpPr>
        <p:spPr>
          <a:xfrm>
            <a:off x="428760" y="1785960"/>
            <a:ext cx="62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律己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左大括号 5"/>
          <p:cNvSpPr/>
          <p:nvPr/>
        </p:nvSpPr>
        <p:spPr>
          <a:xfrm>
            <a:off x="1214280" y="1285920"/>
            <a:ext cx="428760" cy="278604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786040"/>
              <a:gd name="textAreaBottom" fmla="*/ 27748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2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1:06:42Z</dcterms:created>
  <dc:creator>User</dc:creator>
  <dc:description/>
  <dc:language>en-US</dc:language>
  <cp:lastModifiedBy>微软用户</cp:lastModifiedBy>
  <dcterms:modified xsi:type="dcterms:W3CDTF">2017-05-04T01:59:59Z</dcterms:modified>
  <cp:revision>22</cp:revision>
  <dc:subject/>
  <dc:title>叶圣陶先生二三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74</vt:lpwstr>
  </property>
</Properties>
</file>