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7010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76160" y="3565080"/>
            <a:ext cx="7010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6824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6760" y="3808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17000" y="3808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76160" y="35650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6760" y="35650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17000" y="35650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EEF-803C-4259-B466-5C79EA3D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160" y="380880"/>
            <a:ext cx="70102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F44-42A6-4640-82D2-EADFC130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7010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157-CA24-4E82-BABC-B1568A8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6F6-AD4B-4B6D-8F0C-C234DF95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BAC-AEA4-4CD5-82A6-F2C17AED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828560"/>
            <a:ext cx="68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964-B7B9-478E-B2CD-45F3AA1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16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FF7-948B-4641-A2DE-731FAA2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76160" y="380880"/>
            <a:ext cx="70102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6824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17A-03C5-45DB-8BB4-37C8DC2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160" y="3565080"/>
            <a:ext cx="7010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585-194D-4180-AA08-0F36F2F9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7010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76160" y="3565080"/>
            <a:ext cx="7010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998-8222-4B58-9A71-C8E026C7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16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6824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B31-07B4-4915-B1E5-A0CB7BA3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46760" y="3808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17000" y="3808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76160" y="35650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46760" y="35650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17000" y="3565080"/>
            <a:ext cx="2257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211-310F-431D-87ED-8AB0F035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7010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7828560"/>
            <a:ext cx="68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7616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68240" y="35650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380880"/>
            <a:ext cx="3420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3565080"/>
            <a:ext cx="7010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33794" descr="R04"/>
          <p:cNvPicPr/>
          <p:nvPr/>
        </p:nvPicPr>
        <p:blipFill>
          <a:blip r:embed="rId3"/>
          <a:stretch/>
        </p:blipFill>
        <p:spPr>
          <a:xfrm>
            <a:off x="30492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76160" y="380880"/>
            <a:ext cx="7010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组合 348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图片 34818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图片 34819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34820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76160" y="380880"/>
            <a:ext cx="7010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CAC-C049-47ED-BA62-BA79891DC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1042920" y="2781360"/>
            <a:ext cx="633564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忆秦娥 娄山关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160240" y="4508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1692360" y="836640"/>
            <a:ext cx="496872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5  </a:t>
            </a: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词两首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4020120" y="60102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凤凰三中    龙红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389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38915"/>
          <p:cNvSpPr/>
          <p:nvPr/>
        </p:nvSpPr>
        <p:spPr>
          <a:xfrm>
            <a:off x="1332000" y="54936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从头越，苍山如海，残阳如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38916"/>
          <p:cNvSpPr/>
          <p:nvPr/>
        </p:nvSpPr>
        <p:spPr>
          <a:xfrm>
            <a:off x="1476360" y="184464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苍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残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（比喻）显示出磅礴的气势，悲壮奇丽的意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抒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表达了亦喜（胜利）亦悲（道路还漫长），亦忧亦欢的复杂感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富有象征意味：表现了革命前途虽然波澜，但还有许多艰难险阻，还要付出许多流血牺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上阕的“霜晨月”照应，说明一天的战斗历程已经完成，使词的战斗气氛更浓烈，主题更突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38919"/>
          <p:cNvSpPr/>
          <p:nvPr/>
        </p:nvSpPr>
        <p:spPr>
          <a:xfrm>
            <a:off x="367560" y="18900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9157"/>
          <p:cNvSpPr/>
          <p:nvPr/>
        </p:nvSpPr>
        <p:spPr>
          <a:xfrm>
            <a:off x="1979640" y="1341360"/>
            <a:ext cx="6804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度着重写霜晨行军的情景，写红军进逼娄山关的军事行动。它描写了行军途中的艰苦环境，渲染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凉沉郁气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视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度写过娄山时的所见所闻所感，写攻克娄山关之后的军事行动。略去了中间的战斗过程，写出了胜利越关的情景，表现了诗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战胜困难的决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抒发诗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胜利的豪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49160"/>
          <p:cNvSpPr/>
          <p:nvPr/>
        </p:nvSpPr>
        <p:spPr>
          <a:xfrm>
            <a:off x="-75960" y="47628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结构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主题理解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76360" y="1341360"/>
            <a:ext cx="723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通过对娄山关军事行动的描 写，歌颂红军排除万难、不怕牺牲的革命英雄主义精神，预示着道路的曲折和前途的光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直接连接符 48131"/>
          <p:cNvSpPr/>
          <p:nvPr/>
        </p:nvSpPr>
        <p:spPr>
          <a:xfrm>
            <a:off x="4643280" y="2565360"/>
            <a:ext cx="3600720" cy="0"/>
          </a:xfrm>
          <a:prstGeom prst="line">
            <a:avLst/>
          </a:prstGeom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76160" y="6094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格上，上阕的悲凉沉郁与下阕的雄劲豪放融成一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法上，明暗虚实巧妙结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：自然景物。       暗：革命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：行军的所见所闻所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虚：娄山关的激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景传情，景情并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1985" descr="图片2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90" name="矩形 41986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4198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41988"/>
          <p:cNvSpPr/>
          <p:nvPr/>
        </p:nvSpPr>
        <p:spPr>
          <a:xfrm>
            <a:off x="0" y="260280"/>
            <a:ext cx="324000" cy="6408720"/>
          </a:xfrm>
          <a:prstGeom prst="rect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41989"/>
          <p:cNvSpPr/>
          <p:nvPr/>
        </p:nvSpPr>
        <p:spPr>
          <a:xfrm>
            <a:off x="8820000" y="260280"/>
            <a:ext cx="324000" cy="6408720"/>
          </a:xfrm>
          <a:prstGeom prst="rect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41993"/>
          <p:cNvSpPr/>
          <p:nvPr/>
        </p:nvSpPr>
        <p:spPr>
          <a:xfrm>
            <a:off x="1116000" y="260280"/>
            <a:ext cx="2376360" cy="6408720"/>
          </a:xfrm>
          <a:prstGeom prst="rect">
            <a:avLst/>
          </a:prstGeom>
          <a:solidFill>
            <a:srgbClr val="cc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41992"/>
          <p:cNvSpPr/>
          <p:nvPr/>
        </p:nvSpPr>
        <p:spPr>
          <a:xfrm>
            <a:off x="2482920" y="333360"/>
            <a:ext cx="1033560" cy="6308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毛泽东（一九九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九七六）中国人民的领袖，马克思主义者，伟大的无产阶级革家、战略家和理论家、中国人民解放军和中华人民共和国的主要缔造者和领导人，诗人、书法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5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76160" y="380880"/>
            <a:ext cx="7010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了解诗歌的一般常识，了解诗歌形象之美、音乐之美及语言凝炼而富有表现力的特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理解文章的主题，并深入地感受词中的意境，深切地体会诗人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体会作者作为一代风流人物要为中华民族建功立业的伟大抱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学会借景抒情的表达手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-276120" y="-20520"/>
            <a:ext cx="9543960" cy="7037280"/>
          </a:xfrm>
          <a:prstGeom prst="rect">
            <a:avLst/>
          </a:prstGeom>
          <a:ln w="0">
            <a:noFill/>
          </a:ln>
        </p:spPr>
      </p:pic>
      <p:pic>
        <p:nvPicPr>
          <p:cNvPr id="99" name="文本框 3" descr=""/>
          <p:cNvPicPr/>
          <p:nvPr/>
        </p:nvPicPr>
        <p:blipFill>
          <a:blip r:embed="rId2"/>
          <a:stretch/>
        </p:blipFill>
        <p:spPr>
          <a:xfrm>
            <a:off x="949320" y="438120"/>
            <a:ext cx="3392640" cy="701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" descr=""/>
          <p:cNvPicPr/>
          <p:nvPr/>
        </p:nvPicPr>
        <p:blipFill>
          <a:blip r:embed="rId1"/>
          <a:stretch/>
        </p:blipFill>
        <p:spPr>
          <a:xfrm>
            <a:off x="34920" y="9360"/>
            <a:ext cx="9099720" cy="68230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4"/>
          <p:cNvSpPr/>
          <p:nvPr/>
        </p:nvSpPr>
        <p:spPr>
          <a:xfrm>
            <a:off x="4512240" y="473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娄山关，是由四川进入贵州的要道，历来兵家必争之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47105" descr="21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矩形 47106"/>
          <p:cNvSpPr/>
          <p:nvPr/>
        </p:nvSpPr>
        <p:spPr>
          <a:xfrm>
            <a:off x="971640" y="0"/>
            <a:ext cx="68580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二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、写作背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47107"/>
          <p:cNvSpPr/>
          <p:nvPr/>
        </p:nvSpPr>
        <p:spPr>
          <a:xfrm>
            <a:off x="2131920" y="479520"/>
            <a:ext cx="6553440" cy="22885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934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年红军开始长征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935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月红军攻占遵义，二渡赤水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日攻占桐梓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25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日凌晨借着月色向娄山关挺进，与黔军相遇，敌军败退，红军继续进军，与敌激烈拼搏，反复争夺，红军终于占领高地。此时已近黄昏，中央红军在夕阳映照下迅速通过娄山关。这次战役是遵义会议以来的第一个大胜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4300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43014"/>
          <p:cNvSpPr/>
          <p:nvPr/>
        </p:nvSpPr>
        <p:spPr>
          <a:xfrm>
            <a:off x="6155640" y="345960"/>
            <a:ext cx="606960" cy="65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西风烈，长空雁叫霜晨月。霜晨月，马蹄声碎，喇叭声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43015"/>
          <p:cNvSpPr/>
          <p:nvPr/>
        </p:nvSpPr>
        <p:spPr>
          <a:xfrm>
            <a:off x="4716000" y="476280"/>
            <a:ext cx="606960" cy="66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雄关漫道真如铁，而今迈步从头越。从头越，苍山如海，残阳如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43016"/>
          <p:cNvSpPr/>
          <p:nvPr/>
        </p:nvSpPr>
        <p:spPr>
          <a:xfrm>
            <a:off x="7269120" y="1118160"/>
            <a:ext cx="115560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忆秦娥    娄山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九三五年二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娄山关朗读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娄山关朗读" descr=""/>
          <p:cNvPicPr/>
          <p:nvPr/>
        </p:nvPicPr>
        <p:blipFill>
          <a:blip r:embed="rId3"/>
          <a:stretch/>
        </p:blipFill>
        <p:spPr>
          <a:xfrm>
            <a:off x="1689120" y="274968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1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13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3001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1"/>
                            </p:stCondLst>
                            <p:childTnLst>
                              <p:par>
                                <p:cTn id="9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8400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278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32772"/>
          <p:cNvSpPr/>
          <p:nvPr/>
        </p:nvSpPr>
        <p:spPr>
          <a:xfrm>
            <a:off x="900000" y="765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西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烈，长空雁叫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晨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直接连接符 32773"/>
          <p:cNvSpPr/>
          <p:nvPr/>
        </p:nvSpPr>
        <p:spPr>
          <a:xfrm>
            <a:off x="5651640" y="1484280"/>
            <a:ext cx="838080" cy="0"/>
          </a:xfrm>
          <a:prstGeom prst="line">
            <a:avLst/>
          </a:prstGeom>
          <a:ln cap="sq"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32774"/>
          <p:cNvSpPr/>
          <p:nvPr/>
        </p:nvSpPr>
        <p:spPr>
          <a:xfrm>
            <a:off x="6732720" y="62064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环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32775"/>
          <p:cNvSpPr/>
          <p:nvPr/>
        </p:nvSpPr>
        <p:spPr>
          <a:xfrm>
            <a:off x="1835280" y="4941720"/>
            <a:ext cx="7056360" cy="825480"/>
          </a:xfrm>
          <a:prstGeom prst="rect">
            <a:avLst/>
          </a:prstGeom>
          <a:noFill/>
          <a:ln cap="sq"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诗人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角度对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风声、雁声、马蹄声、军号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写，表现了红军行军的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急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战斗的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激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含蓄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刻画了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红军在艰苦的环境中不畏严寒、不怕困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英雄气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32780"/>
          <p:cNvSpPr/>
          <p:nvPr/>
        </p:nvSpPr>
        <p:spPr>
          <a:xfrm>
            <a:off x="826920" y="1844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霜晨月，马蹄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喇叭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咽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32781"/>
          <p:cNvSpPr/>
          <p:nvPr/>
        </p:nvSpPr>
        <p:spPr>
          <a:xfrm>
            <a:off x="367560" y="18900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32782"/>
          <p:cNvSpPr/>
          <p:nvPr/>
        </p:nvSpPr>
        <p:spPr>
          <a:xfrm>
            <a:off x="1835280" y="2406600"/>
            <a:ext cx="712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细碎，写出了马蹄声杂沓轻疾，表现行军之急、行         军之速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形容晨风中军号时断时续，既表现了红军战斗激烈和艰苦卓绝，又渲染了行军途中庄严肃穆的气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矩形 32783"/>
          <p:cNvSpPr/>
          <p:nvPr/>
        </p:nvSpPr>
        <p:spPr>
          <a:xfrm>
            <a:off x="1763640" y="2363760"/>
            <a:ext cx="11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碎”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32784"/>
          <p:cNvSpPr/>
          <p:nvPr/>
        </p:nvSpPr>
        <p:spPr>
          <a:xfrm>
            <a:off x="1662120" y="306072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咽”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32785"/>
          <p:cNvSpPr/>
          <p:nvPr/>
        </p:nvSpPr>
        <p:spPr>
          <a:xfrm>
            <a:off x="6877080" y="98100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西风凛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天空辽阔，雁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嘹唳，寒霜铺地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残月如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矩形 32788"/>
          <p:cNvSpPr/>
          <p:nvPr/>
        </p:nvSpPr>
        <p:spPr>
          <a:xfrm>
            <a:off x="7659720" y="60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拂晓时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4564440" y="43290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出征情形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刚劲悲壮，不见其人，只闻其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789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37891"/>
          <p:cNvSpPr/>
          <p:nvPr/>
        </p:nvSpPr>
        <p:spPr>
          <a:xfrm>
            <a:off x="971640" y="476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雄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漫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真如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而今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华文新魏"/>
              </a:rPr>
              <a:t>迈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从头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37892"/>
          <p:cNvSpPr/>
          <p:nvPr/>
        </p:nvSpPr>
        <p:spPr>
          <a:xfrm>
            <a:off x="1763640" y="1773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用杜甫的《潼关吏》“大城铁不如，小城万丈余”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比喻娄山关的险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37893"/>
          <p:cNvSpPr/>
          <p:nvPr/>
        </p:nvSpPr>
        <p:spPr>
          <a:xfrm>
            <a:off x="1871640" y="2637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莫道，不要说。表现红军对自然险阻的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藐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对顽抗之敌的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鄙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37894"/>
          <p:cNvSpPr/>
          <p:nvPr/>
        </p:nvSpPr>
        <p:spPr>
          <a:xfrm>
            <a:off x="3132000" y="3716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隐喻遵义会议后，中国革命开始了新的征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37895"/>
          <p:cNvSpPr/>
          <p:nvPr/>
        </p:nvSpPr>
        <p:spPr>
          <a:xfrm>
            <a:off x="1692360" y="5157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表现了诗人无坚不摧、履险如夷的豪迈气概和跨越一切艰险的雄放胸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37896"/>
          <p:cNvSpPr/>
          <p:nvPr/>
        </p:nvSpPr>
        <p:spPr>
          <a:xfrm>
            <a:off x="1776600" y="184464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真如铁”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37897"/>
          <p:cNvSpPr/>
          <p:nvPr/>
        </p:nvSpPr>
        <p:spPr>
          <a:xfrm>
            <a:off x="1859400" y="263700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漫道”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37900"/>
          <p:cNvSpPr/>
          <p:nvPr/>
        </p:nvSpPr>
        <p:spPr>
          <a:xfrm>
            <a:off x="367560" y="18900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37901"/>
          <p:cNvSpPr/>
          <p:nvPr/>
        </p:nvSpPr>
        <p:spPr>
          <a:xfrm>
            <a:off x="2075040" y="371628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头”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1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7:35:10Z</dcterms:created>
  <dc:creator>User</dc:creator>
  <dc:description/>
  <dc:language>en-US</dc:language>
  <cp:lastModifiedBy>yl</cp:lastModifiedBy>
  <dcterms:modified xsi:type="dcterms:W3CDTF">2017-04-12T14:54:26Z</dcterms:modified>
  <cp:revision>111</cp:revision>
  <dc:subject/>
  <dc:title>忆秦娥·娄山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74</vt:lpwstr>
  </property>
</Properties>
</file>