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05A67-62F7-4FA9-8EC9-3FB62DB0B4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B933F-3611-41A4-ACAC-89854B2F36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B91F8-70A0-4F93-B799-79B9E4B428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7E40E-8B3A-4437-B697-A2EFD20050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77C0C-8599-430B-A53E-30FB76592B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F4EC6-D2D3-42DD-BC3A-0B62045CEC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237-A4C7-4596-93AD-88B55815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A3B-269C-43AE-B6F4-9B1C267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541-3ABD-4E86-AD69-A7434A7D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F5F-477B-4A24-895D-25D57DE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6B8-106E-4950-BBEB-1D33CA43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064-25CE-4CFD-AA37-8CB4D69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DC8-F6D4-442B-AE13-BCA37CC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353-9AD7-4496-91DC-C25611A7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32C-522E-4A6B-AF3B-8B497B8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03E-E8E0-4B06-8F0D-5679155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067-BDD3-4A02-875B-D9A7368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30D-00BB-44C1-90E2-7B56899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D07C3-F95F-4F67-B062-0D4B4BF079A6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9" descr="구름"/>
          <p:cNvPicPr/>
          <p:nvPr/>
        </p:nvPicPr>
        <p:blipFill>
          <a:blip r:embed="rId1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" descr="趣味导入.png"/>
          <p:cNvPicPr/>
          <p:nvPr/>
        </p:nvPicPr>
        <p:blipFill>
          <a:blip r:embed="rId3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08"/>
          <p:cNvSpPr/>
          <p:nvPr/>
        </p:nvSpPr>
        <p:spPr>
          <a:xfrm>
            <a:off x="3471840" y="2625840"/>
            <a:ext cx="5110200" cy="351288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9" descr="구름"/>
          <p:cNvPicPr/>
          <p:nvPr/>
        </p:nvPicPr>
        <p:blipFill>
          <a:blip r:embed="rId4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8" descr="蝴蝶.png"/>
          <p:cNvPicPr/>
          <p:nvPr/>
        </p:nvPicPr>
        <p:blipFill>
          <a:blip r:embed="rId5"/>
          <a:stretch/>
        </p:blipFill>
        <p:spPr>
          <a:xfrm flipH="1" rot="18291600">
            <a:off x="6592680" y="112860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6"/>
          <a:stretch/>
        </p:blipFill>
        <p:spPr>
          <a:xfrm>
            <a:off x="3971880" y="220356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3551400" y="4101480"/>
            <a:ext cx="49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Calibri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Calibri"/>
              </a:rPr>
              <a:t>马是人类忠诚而高贵的朋友，是富有情感和人性的生灵，马也曾是古代重要的交通工具。我们课文中的小主人有一匹神奇出色的马，想了解认识吗？让我们赶紧走进课文去看看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8" descr="小花.png"/>
          <p:cNvPicPr/>
          <p:nvPr/>
        </p:nvPicPr>
        <p:blipFill>
          <a:blip r:embed="rId7"/>
          <a:stretch/>
        </p:blipFill>
        <p:spPr>
          <a:xfrm rot="1153200">
            <a:off x="7589520" y="5330520"/>
            <a:ext cx="11397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2"/>
          <p:cNvSpPr/>
          <p:nvPr/>
        </p:nvSpPr>
        <p:spPr>
          <a:xfrm>
            <a:off x="1100160" y="2795760"/>
            <a:ext cx="707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本文写了一家四口到郊外散步，大家走不动时，妹妹求爸爸妈妈抱，妈妈拒绝，爸爸让她骑着出色地马回家的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Administrator\Desktop\图\图2\图3\写字\老师图\timg  8 - 副本.jpg"/>
          <p:cNvPicPr/>
          <p:nvPr/>
        </p:nvPicPr>
        <p:blipFill>
          <a:blip r:embed="rId1"/>
          <a:stretch/>
        </p:blipFill>
        <p:spPr>
          <a:xfrm>
            <a:off x="1062000" y="1393920"/>
            <a:ext cx="878040" cy="1190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130480" y="1663560"/>
            <a:ext cx="57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课文主要写了什么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147312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p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14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57"/>
          <p:cNvSpPr/>
          <p:nvPr/>
        </p:nvSpPr>
        <p:spPr>
          <a:xfrm>
            <a:off x="4619520" y="48578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体略扁，横画舒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752400" y="47480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匹马  一匹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4"/>
          <p:cNvSpPr/>
          <p:nvPr/>
        </p:nvSpPr>
        <p:spPr>
          <a:xfrm>
            <a:off x="752400" y="52182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是一匹出色的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236376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半包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5651280" y="20653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8"/>
          <p:cNvSpPr/>
          <p:nvPr/>
        </p:nvSpPr>
        <p:spPr>
          <a:xfrm>
            <a:off x="5780160" y="2290680"/>
            <a:ext cx="1249200" cy="21600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966" h="340">
                <a:moveTo>
                  <a:pt x="1881" y="187"/>
                </a:moveTo>
                <a:lnTo>
                  <a:pt x="1830" y="187"/>
                </a:lnTo>
                <a:lnTo>
                  <a:pt x="1762" y="187"/>
                </a:lnTo>
                <a:lnTo>
                  <a:pt x="1695" y="187"/>
                </a:lnTo>
                <a:lnTo>
                  <a:pt x="1610" y="204"/>
                </a:lnTo>
                <a:lnTo>
                  <a:pt x="1559" y="204"/>
                </a:lnTo>
                <a:lnTo>
                  <a:pt x="1491" y="221"/>
                </a:lnTo>
                <a:lnTo>
                  <a:pt x="1423" y="221"/>
                </a:lnTo>
                <a:lnTo>
                  <a:pt x="1339" y="238"/>
                </a:lnTo>
                <a:lnTo>
                  <a:pt x="1237" y="238"/>
                </a:lnTo>
                <a:lnTo>
                  <a:pt x="1135" y="255"/>
                </a:lnTo>
                <a:lnTo>
                  <a:pt x="1034" y="272"/>
                </a:lnTo>
                <a:lnTo>
                  <a:pt x="898" y="289"/>
                </a:lnTo>
                <a:lnTo>
                  <a:pt x="661" y="306"/>
                </a:lnTo>
                <a:lnTo>
                  <a:pt x="424" y="323"/>
                </a:lnTo>
                <a:lnTo>
                  <a:pt x="204" y="340"/>
                </a:lnTo>
                <a:lnTo>
                  <a:pt x="0" y="340"/>
                </a:lnTo>
                <a:lnTo>
                  <a:pt x="0" y="221"/>
                </a:lnTo>
                <a:lnTo>
                  <a:pt x="136" y="221"/>
                </a:lnTo>
                <a:lnTo>
                  <a:pt x="237" y="221"/>
                </a:lnTo>
                <a:lnTo>
                  <a:pt x="339" y="204"/>
                </a:lnTo>
                <a:lnTo>
                  <a:pt x="424" y="204"/>
                </a:lnTo>
                <a:lnTo>
                  <a:pt x="492" y="187"/>
                </a:lnTo>
                <a:lnTo>
                  <a:pt x="593" y="170"/>
                </a:lnTo>
                <a:lnTo>
                  <a:pt x="678" y="170"/>
                </a:lnTo>
                <a:lnTo>
                  <a:pt x="780" y="136"/>
                </a:lnTo>
                <a:lnTo>
                  <a:pt x="898" y="136"/>
                </a:lnTo>
                <a:lnTo>
                  <a:pt x="1017" y="119"/>
                </a:lnTo>
                <a:lnTo>
                  <a:pt x="1152" y="85"/>
                </a:lnTo>
                <a:lnTo>
                  <a:pt x="1305" y="51"/>
                </a:lnTo>
                <a:lnTo>
                  <a:pt x="1440" y="34"/>
                </a:lnTo>
                <a:lnTo>
                  <a:pt x="1542" y="17"/>
                </a:lnTo>
                <a:lnTo>
                  <a:pt x="1644" y="0"/>
                </a:lnTo>
                <a:lnTo>
                  <a:pt x="1711" y="0"/>
                </a:lnTo>
                <a:lnTo>
                  <a:pt x="1779" y="0"/>
                </a:lnTo>
                <a:lnTo>
                  <a:pt x="1830" y="17"/>
                </a:lnTo>
                <a:lnTo>
                  <a:pt x="1864" y="34"/>
                </a:lnTo>
                <a:lnTo>
                  <a:pt x="1898" y="51"/>
                </a:lnTo>
                <a:lnTo>
                  <a:pt x="1932" y="85"/>
                </a:lnTo>
                <a:lnTo>
                  <a:pt x="1949" y="119"/>
                </a:lnTo>
                <a:lnTo>
                  <a:pt x="1966" y="136"/>
                </a:lnTo>
                <a:lnTo>
                  <a:pt x="1966" y="153"/>
                </a:lnTo>
                <a:lnTo>
                  <a:pt x="1949" y="170"/>
                </a:lnTo>
                <a:lnTo>
                  <a:pt x="1932" y="170"/>
                </a:lnTo>
                <a:lnTo>
                  <a:pt x="1915" y="187"/>
                </a:lnTo>
                <a:lnTo>
                  <a:pt x="1881" y="18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6489720" y="2430360"/>
            <a:ext cx="549360" cy="917640"/>
          </a:xfrm>
          <a:custGeom>
            <a:avLst/>
            <a:gdLst>
              <a:gd name="textAreaLeft" fmla="*/ 0 w 549360"/>
              <a:gd name="textAreaRight" fmla="*/ 549720 w 54936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865" h="1443">
                <a:moveTo>
                  <a:pt x="729" y="730"/>
                </a:moveTo>
                <a:lnTo>
                  <a:pt x="746" y="747"/>
                </a:lnTo>
                <a:lnTo>
                  <a:pt x="763" y="781"/>
                </a:lnTo>
                <a:lnTo>
                  <a:pt x="780" y="849"/>
                </a:lnTo>
                <a:lnTo>
                  <a:pt x="797" y="934"/>
                </a:lnTo>
                <a:lnTo>
                  <a:pt x="814" y="1019"/>
                </a:lnTo>
                <a:lnTo>
                  <a:pt x="831" y="1104"/>
                </a:lnTo>
                <a:lnTo>
                  <a:pt x="848" y="1172"/>
                </a:lnTo>
                <a:lnTo>
                  <a:pt x="865" y="1223"/>
                </a:lnTo>
                <a:lnTo>
                  <a:pt x="865" y="1274"/>
                </a:lnTo>
                <a:lnTo>
                  <a:pt x="865" y="1308"/>
                </a:lnTo>
                <a:lnTo>
                  <a:pt x="831" y="1341"/>
                </a:lnTo>
                <a:lnTo>
                  <a:pt x="763" y="1375"/>
                </a:lnTo>
                <a:lnTo>
                  <a:pt x="695" y="1392"/>
                </a:lnTo>
                <a:lnTo>
                  <a:pt x="627" y="1426"/>
                </a:lnTo>
                <a:lnTo>
                  <a:pt x="560" y="1426"/>
                </a:lnTo>
                <a:lnTo>
                  <a:pt x="475" y="1443"/>
                </a:lnTo>
                <a:lnTo>
                  <a:pt x="407" y="1443"/>
                </a:lnTo>
                <a:lnTo>
                  <a:pt x="339" y="1443"/>
                </a:lnTo>
                <a:lnTo>
                  <a:pt x="272" y="1426"/>
                </a:lnTo>
                <a:lnTo>
                  <a:pt x="221" y="1409"/>
                </a:lnTo>
                <a:lnTo>
                  <a:pt x="136" y="1358"/>
                </a:lnTo>
                <a:lnTo>
                  <a:pt x="68" y="1291"/>
                </a:lnTo>
                <a:lnTo>
                  <a:pt x="34" y="1240"/>
                </a:lnTo>
                <a:lnTo>
                  <a:pt x="17" y="1189"/>
                </a:lnTo>
                <a:lnTo>
                  <a:pt x="17" y="1138"/>
                </a:lnTo>
                <a:lnTo>
                  <a:pt x="0" y="1070"/>
                </a:lnTo>
                <a:lnTo>
                  <a:pt x="0" y="1036"/>
                </a:lnTo>
                <a:lnTo>
                  <a:pt x="17" y="1002"/>
                </a:lnTo>
                <a:lnTo>
                  <a:pt x="17" y="951"/>
                </a:lnTo>
                <a:lnTo>
                  <a:pt x="17" y="900"/>
                </a:lnTo>
                <a:lnTo>
                  <a:pt x="17" y="849"/>
                </a:lnTo>
                <a:lnTo>
                  <a:pt x="17" y="781"/>
                </a:lnTo>
                <a:lnTo>
                  <a:pt x="34" y="611"/>
                </a:lnTo>
                <a:lnTo>
                  <a:pt x="34" y="459"/>
                </a:lnTo>
                <a:lnTo>
                  <a:pt x="34" y="289"/>
                </a:lnTo>
                <a:lnTo>
                  <a:pt x="17" y="153"/>
                </a:lnTo>
                <a:lnTo>
                  <a:pt x="0" y="0"/>
                </a:lnTo>
                <a:lnTo>
                  <a:pt x="102" y="85"/>
                </a:lnTo>
                <a:lnTo>
                  <a:pt x="170" y="136"/>
                </a:lnTo>
                <a:lnTo>
                  <a:pt x="221" y="187"/>
                </a:lnTo>
                <a:lnTo>
                  <a:pt x="238" y="221"/>
                </a:lnTo>
                <a:lnTo>
                  <a:pt x="238" y="255"/>
                </a:lnTo>
                <a:lnTo>
                  <a:pt x="238" y="323"/>
                </a:lnTo>
                <a:lnTo>
                  <a:pt x="221" y="391"/>
                </a:lnTo>
                <a:lnTo>
                  <a:pt x="204" y="476"/>
                </a:lnTo>
                <a:lnTo>
                  <a:pt x="187" y="577"/>
                </a:lnTo>
                <a:lnTo>
                  <a:pt x="170" y="679"/>
                </a:lnTo>
                <a:lnTo>
                  <a:pt x="153" y="781"/>
                </a:lnTo>
                <a:lnTo>
                  <a:pt x="153" y="866"/>
                </a:lnTo>
                <a:lnTo>
                  <a:pt x="153" y="968"/>
                </a:lnTo>
                <a:lnTo>
                  <a:pt x="153" y="1053"/>
                </a:lnTo>
                <a:lnTo>
                  <a:pt x="170" y="1121"/>
                </a:lnTo>
                <a:lnTo>
                  <a:pt x="187" y="1155"/>
                </a:lnTo>
                <a:lnTo>
                  <a:pt x="255" y="1206"/>
                </a:lnTo>
                <a:lnTo>
                  <a:pt x="356" y="1240"/>
                </a:lnTo>
                <a:lnTo>
                  <a:pt x="407" y="1240"/>
                </a:lnTo>
                <a:lnTo>
                  <a:pt x="441" y="1240"/>
                </a:lnTo>
                <a:lnTo>
                  <a:pt x="492" y="1223"/>
                </a:lnTo>
                <a:lnTo>
                  <a:pt x="543" y="1206"/>
                </a:lnTo>
                <a:lnTo>
                  <a:pt x="593" y="1189"/>
                </a:lnTo>
                <a:lnTo>
                  <a:pt x="627" y="1138"/>
                </a:lnTo>
                <a:lnTo>
                  <a:pt x="661" y="1053"/>
                </a:lnTo>
                <a:lnTo>
                  <a:pt x="678" y="951"/>
                </a:lnTo>
                <a:lnTo>
                  <a:pt x="678" y="900"/>
                </a:lnTo>
                <a:lnTo>
                  <a:pt x="695" y="849"/>
                </a:lnTo>
                <a:lnTo>
                  <a:pt x="695" y="815"/>
                </a:lnTo>
                <a:lnTo>
                  <a:pt x="712" y="781"/>
                </a:lnTo>
                <a:lnTo>
                  <a:pt x="712" y="764"/>
                </a:lnTo>
                <a:lnTo>
                  <a:pt x="712" y="747"/>
                </a:lnTo>
                <a:lnTo>
                  <a:pt x="729" y="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40"/>
          <p:cNvSpPr/>
          <p:nvPr/>
        </p:nvSpPr>
        <p:spPr>
          <a:xfrm>
            <a:off x="5899320" y="2430360"/>
            <a:ext cx="419040" cy="1068480"/>
          </a:xfrm>
          <a:custGeom>
            <a:avLst/>
            <a:gdLst>
              <a:gd name="textAreaLeft" fmla="*/ 0 w 419040"/>
              <a:gd name="textAreaRight" fmla="*/ 419400 w 4190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660" h="1681">
                <a:moveTo>
                  <a:pt x="423" y="1206"/>
                </a:moveTo>
                <a:lnTo>
                  <a:pt x="372" y="1324"/>
                </a:lnTo>
                <a:lnTo>
                  <a:pt x="305" y="1409"/>
                </a:lnTo>
                <a:lnTo>
                  <a:pt x="237" y="1494"/>
                </a:lnTo>
                <a:lnTo>
                  <a:pt x="169" y="1562"/>
                </a:lnTo>
                <a:lnTo>
                  <a:pt x="101" y="1630"/>
                </a:lnTo>
                <a:lnTo>
                  <a:pt x="50" y="1664"/>
                </a:lnTo>
                <a:lnTo>
                  <a:pt x="17" y="1681"/>
                </a:lnTo>
                <a:lnTo>
                  <a:pt x="0" y="1681"/>
                </a:lnTo>
                <a:lnTo>
                  <a:pt x="0" y="1664"/>
                </a:lnTo>
                <a:lnTo>
                  <a:pt x="17" y="1613"/>
                </a:lnTo>
                <a:lnTo>
                  <a:pt x="50" y="1545"/>
                </a:lnTo>
                <a:lnTo>
                  <a:pt x="118" y="1460"/>
                </a:lnTo>
                <a:lnTo>
                  <a:pt x="169" y="1375"/>
                </a:lnTo>
                <a:lnTo>
                  <a:pt x="237" y="1274"/>
                </a:lnTo>
                <a:lnTo>
                  <a:pt x="288" y="1172"/>
                </a:lnTo>
                <a:lnTo>
                  <a:pt x="322" y="1070"/>
                </a:lnTo>
                <a:lnTo>
                  <a:pt x="372" y="849"/>
                </a:lnTo>
                <a:lnTo>
                  <a:pt x="406" y="747"/>
                </a:lnTo>
                <a:lnTo>
                  <a:pt x="406" y="628"/>
                </a:lnTo>
                <a:lnTo>
                  <a:pt x="423" y="510"/>
                </a:lnTo>
                <a:lnTo>
                  <a:pt x="423" y="374"/>
                </a:lnTo>
                <a:lnTo>
                  <a:pt x="423" y="204"/>
                </a:lnTo>
                <a:lnTo>
                  <a:pt x="406" y="0"/>
                </a:lnTo>
                <a:lnTo>
                  <a:pt x="491" y="51"/>
                </a:lnTo>
                <a:lnTo>
                  <a:pt x="559" y="102"/>
                </a:lnTo>
                <a:lnTo>
                  <a:pt x="610" y="136"/>
                </a:lnTo>
                <a:lnTo>
                  <a:pt x="643" y="170"/>
                </a:lnTo>
                <a:lnTo>
                  <a:pt x="660" y="238"/>
                </a:lnTo>
                <a:lnTo>
                  <a:pt x="660" y="272"/>
                </a:lnTo>
                <a:lnTo>
                  <a:pt x="643" y="306"/>
                </a:lnTo>
                <a:lnTo>
                  <a:pt x="643" y="323"/>
                </a:lnTo>
                <a:lnTo>
                  <a:pt x="643" y="357"/>
                </a:lnTo>
                <a:lnTo>
                  <a:pt x="627" y="391"/>
                </a:lnTo>
                <a:lnTo>
                  <a:pt x="627" y="425"/>
                </a:lnTo>
                <a:lnTo>
                  <a:pt x="610" y="476"/>
                </a:lnTo>
                <a:lnTo>
                  <a:pt x="610" y="544"/>
                </a:lnTo>
                <a:lnTo>
                  <a:pt x="593" y="679"/>
                </a:lnTo>
                <a:lnTo>
                  <a:pt x="559" y="815"/>
                </a:lnTo>
                <a:lnTo>
                  <a:pt x="525" y="951"/>
                </a:lnTo>
                <a:lnTo>
                  <a:pt x="474" y="1087"/>
                </a:lnTo>
                <a:lnTo>
                  <a:pt x="423" y="120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7"/>
          <p:cNvSpPr/>
          <p:nvPr/>
        </p:nvSpPr>
        <p:spPr>
          <a:xfrm>
            <a:off x="5651640" y="2387520"/>
            <a:ext cx="1517400" cy="1521000"/>
          </a:xfrm>
          <a:custGeom>
            <a:avLst/>
            <a:gdLst>
              <a:gd name="textAreaLeft" fmla="*/ 0 w 1517400"/>
              <a:gd name="textAreaRight" fmla="*/ 1517760 w 1517400"/>
              <a:gd name="textAreaTop" fmla="*/ 0 h 1521000"/>
              <a:gd name="textAreaBottom" fmla="*/ 1521360 h 1521000"/>
            </a:gdLst>
            <a:ahLst/>
            <a:rect l="textAreaLeft" t="textAreaTop" r="textAreaRight" b="textAreaBottom"/>
            <a:pathLst>
              <a:path w="2389" h="2394">
                <a:moveTo>
                  <a:pt x="119" y="255"/>
                </a:moveTo>
                <a:lnTo>
                  <a:pt x="102" y="187"/>
                </a:lnTo>
                <a:lnTo>
                  <a:pt x="85" y="136"/>
                </a:lnTo>
                <a:lnTo>
                  <a:pt x="85" y="85"/>
                </a:lnTo>
                <a:lnTo>
                  <a:pt x="85" y="51"/>
                </a:lnTo>
                <a:lnTo>
                  <a:pt x="68" y="34"/>
                </a:lnTo>
                <a:lnTo>
                  <a:pt x="85" y="17"/>
                </a:lnTo>
                <a:lnTo>
                  <a:pt x="102" y="0"/>
                </a:lnTo>
                <a:lnTo>
                  <a:pt x="119" y="0"/>
                </a:lnTo>
                <a:lnTo>
                  <a:pt x="152" y="17"/>
                </a:lnTo>
                <a:lnTo>
                  <a:pt x="186" y="17"/>
                </a:lnTo>
                <a:lnTo>
                  <a:pt x="237" y="51"/>
                </a:lnTo>
                <a:lnTo>
                  <a:pt x="322" y="68"/>
                </a:lnTo>
                <a:lnTo>
                  <a:pt x="322" y="340"/>
                </a:lnTo>
                <a:lnTo>
                  <a:pt x="322" y="595"/>
                </a:lnTo>
                <a:lnTo>
                  <a:pt x="322" y="832"/>
                </a:lnTo>
                <a:lnTo>
                  <a:pt x="322" y="1036"/>
                </a:lnTo>
                <a:lnTo>
                  <a:pt x="322" y="1223"/>
                </a:lnTo>
                <a:lnTo>
                  <a:pt x="305" y="1376"/>
                </a:lnTo>
                <a:lnTo>
                  <a:pt x="305" y="1528"/>
                </a:lnTo>
                <a:lnTo>
                  <a:pt x="305" y="1647"/>
                </a:lnTo>
                <a:lnTo>
                  <a:pt x="305" y="1749"/>
                </a:lnTo>
                <a:lnTo>
                  <a:pt x="305" y="1851"/>
                </a:lnTo>
                <a:lnTo>
                  <a:pt x="288" y="1919"/>
                </a:lnTo>
                <a:lnTo>
                  <a:pt x="288" y="1987"/>
                </a:lnTo>
                <a:lnTo>
                  <a:pt x="288" y="2038"/>
                </a:lnTo>
                <a:lnTo>
                  <a:pt x="305" y="2072"/>
                </a:lnTo>
                <a:lnTo>
                  <a:pt x="305" y="2089"/>
                </a:lnTo>
                <a:lnTo>
                  <a:pt x="305" y="2106"/>
                </a:lnTo>
                <a:lnTo>
                  <a:pt x="322" y="2106"/>
                </a:lnTo>
                <a:lnTo>
                  <a:pt x="339" y="2106"/>
                </a:lnTo>
                <a:lnTo>
                  <a:pt x="390" y="2106"/>
                </a:lnTo>
                <a:lnTo>
                  <a:pt x="440" y="2106"/>
                </a:lnTo>
                <a:lnTo>
                  <a:pt x="474" y="2089"/>
                </a:lnTo>
                <a:lnTo>
                  <a:pt x="525" y="2089"/>
                </a:lnTo>
                <a:lnTo>
                  <a:pt x="576" y="2089"/>
                </a:lnTo>
                <a:lnTo>
                  <a:pt x="627" y="2072"/>
                </a:lnTo>
                <a:lnTo>
                  <a:pt x="695" y="2072"/>
                </a:lnTo>
                <a:lnTo>
                  <a:pt x="779" y="2072"/>
                </a:lnTo>
                <a:lnTo>
                  <a:pt x="864" y="2055"/>
                </a:lnTo>
                <a:lnTo>
                  <a:pt x="949" y="2038"/>
                </a:lnTo>
                <a:lnTo>
                  <a:pt x="1321" y="2004"/>
                </a:lnTo>
                <a:lnTo>
                  <a:pt x="1491" y="1987"/>
                </a:lnTo>
                <a:lnTo>
                  <a:pt x="1677" y="1953"/>
                </a:lnTo>
                <a:lnTo>
                  <a:pt x="1745" y="1953"/>
                </a:lnTo>
                <a:lnTo>
                  <a:pt x="1813" y="1953"/>
                </a:lnTo>
                <a:lnTo>
                  <a:pt x="1881" y="1953"/>
                </a:lnTo>
                <a:lnTo>
                  <a:pt x="1931" y="1936"/>
                </a:lnTo>
                <a:lnTo>
                  <a:pt x="1965" y="1936"/>
                </a:lnTo>
                <a:lnTo>
                  <a:pt x="1999" y="1936"/>
                </a:lnTo>
                <a:lnTo>
                  <a:pt x="2033" y="1936"/>
                </a:lnTo>
                <a:lnTo>
                  <a:pt x="2067" y="1936"/>
                </a:lnTo>
                <a:lnTo>
                  <a:pt x="2101" y="1953"/>
                </a:lnTo>
                <a:lnTo>
                  <a:pt x="2152" y="1987"/>
                </a:lnTo>
                <a:lnTo>
                  <a:pt x="2219" y="2021"/>
                </a:lnTo>
                <a:lnTo>
                  <a:pt x="2287" y="2072"/>
                </a:lnTo>
                <a:lnTo>
                  <a:pt x="2338" y="2106"/>
                </a:lnTo>
                <a:lnTo>
                  <a:pt x="2372" y="2140"/>
                </a:lnTo>
                <a:lnTo>
                  <a:pt x="2389" y="2157"/>
                </a:lnTo>
                <a:lnTo>
                  <a:pt x="2372" y="2173"/>
                </a:lnTo>
                <a:lnTo>
                  <a:pt x="2355" y="2190"/>
                </a:lnTo>
                <a:lnTo>
                  <a:pt x="2338" y="2207"/>
                </a:lnTo>
                <a:lnTo>
                  <a:pt x="2321" y="2207"/>
                </a:lnTo>
                <a:lnTo>
                  <a:pt x="2304" y="2224"/>
                </a:lnTo>
                <a:lnTo>
                  <a:pt x="2270" y="2224"/>
                </a:lnTo>
                <a:lnTo>
                  <a:pt x="2202" y="2224"/>
                </a:lnTo>
                <a:lnTo>
                  <a:pt x="2101" y="2207"/>
                </a:lnTo>
                <a:lnTo>
                  <a:pt x="1965" y="2190"/>
                </a:lnTo>
                <a:lnTo>
                  <a:pt x="1830" y="2173"/>
                </a:lnTo>
                <a:lnTo>
                  <a:pt x="1694" y="2173"/>
                </a:lnTo>
                <a:lnTo>
                  <a:pt x="1576" y="2173"/>
                </a:lnTo>
                <a:lnTo>
                  <a:pt x="1440" y="2173"/>
                </a:lnTo>
                <a:lnTo>
                  <a:pt x="1321" y="2190"/>
                </a:lnTo>
                <a:lnTo>
                  <a:pt x="1220" y="2190"/>
                </a:lnTo>
                <a:lnTo>
                  <a:pt x="1135" y="2190"/>
                </a:lnTo>
                <a:lnTo>
                  <a:pt x="1050" y="2207"/>
                </a:lnTo>
                <a:lnTo>
                  <a:pt x="966" y="2207"/>
                </a:lnTo>
                <a:lnTo>
                  <a:pt x="881" y="2207"/>
                </a:lnTo>
                <a:lnTo>
                  <a:pt x="762" y="2224"/>
                </a:lnTo>
                <a:lnTo>
                  <a:pt x="627" y="2241"/>
                </a:lnTo>
                <a:lnTo>
                  <a:pt x="491" y="2258"/>
                </a:lnTo>
                <a:lnTo>
                  <a:pt x="373" y="2292"/>
                </a:lnTo>
                <a:lnTo>
                  <a:pt x="288" y="2309"/>
                </a:lnTo>
                <a:lnTo>
                  <a:pt x="220" y="2343"/>
                </a:lnTo>
                <a:lnTo>
                  <a:pt x="186" y="2377"/>
                </a:lnTo>
                <a:lnTo>
                  <a:pt x="152" y="2377"/>
                </a:lnTo>
                <a:lnTo>
                  <a:pt x="119" y="2394"/>
                </a:lnTo>
                <a:lnTo>
                  <a:pt x="102" y="2377"/>
                </a:lnTo>
                <a:lnTo>
                  <a:pt x="85" y="2377"/>
                </a:lnTo>
                <a:lnTo>
                  <a:pt x="68" y="2360"/>
                </a:lnTo>
                <a:lnTo>
                  <a:pt x="51" y="2343"/>
                </a:lnTo>
                <a:lnTo>
                  <a:pt x="34" y="2309"/>
                </a:lnTo>
                <a:lnTo>
                  <a:pt x="17" y="2258"/>
                </a:lnTo>
                <a:lnTo>
                  <a:pt x="0" y="2207"/>
                </a:lnTo>
                <a:lnTo>
                  <a:pt x="0" y="2173"/>
                </a:lnTo>
                <a:lnTo>
                  <a:pt x="17" y="2157"/>
                </a:lnTo>
                <a:lnTo>
                  <a:pt x="34" y="2140"/>
                </a:lnTo>
                <a:lnTo>
                  <a:pt x="51" y="2106"/>
                </a:lnTo>
                <a:lnTo>
                  <a:pt x="68" y="2089"/>
                </a:lnTo>
                <a:lnTo>
                  <a:pt x="85" y="2055"/>
                </a:lnTo>
                <a:lnTo>
                  <a:pt x="102" y="2004"/>
                </a:lnTo>
                <a:lnTo>
                  <a:pt x="102" y="1970"/>
                </a:lnTo>
                <a:lnTo>
                  <a:pt x="119" y="1902"/>
                </a:lnTo>
                <a:lnTo>
                  <a:pt x="119" y="1834"/>
                </a:lnTo>
                <a:lnTo>
                  <a:pt x="136" y="1766"/>
                </a:lnTo>
                <a:lnTo>
                  <a:pt x="152" y="1681"/>
                </a:lnTo>
                <a:lnTo>
                  <a:pt x="152" y="1494"/>
                </a:lnTo>
                <a:lnTo>
                  <a:pt x="169" y="1291"/>
                </a:lnTo>
                <a:lnTo>
                  <a:pt x="169" y="1087"/>
                </a:lnTo>
                <a:lnTo>
                  <a:pt x="169" y="849"/>
                </a:lnTo>
                <a:lnTo>
                  <a:pt x="169" y="747"/>
                </a:lnTo>
                <a:lnTo>
                  <a:pt x="169" y="645"/>
                </a:lnTo>
                <a:lnTo>
                  <a:pt x="152" y="561"/>
                </a:lnTo>
                <a:lnTo>
                  <a:pt x="152" y="476"/>
                </a:lnTo>
                <a:lnTo>
                  <a:pt x="152" y="408"/>
                </a:lnTo>
                <a:lnTo>
                  <a:pt x="136" y="357"/>
                </a:lnTo>
                <a:lnTo>
                  <a:pt x="136" y="306"/>
                </a:lnTo>
                <a:lnTo>
                  <a:pt x="119" y="25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7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1309680" y="210672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è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17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TextBox 57"/>
          <p:cNvSpPr/>
          <p:nvPr/>
        </p:nvSpPr>
        <p:spPr>
          <a:xfrm>
            <a:off x="4619520" y="485784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边“女”字横的右边不出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3"/>
          <p:cNvSpPr/>
          <p:nvPr/>
        </p:nvSpPr>
        <p:spPr>
          <a:xfrm>
            <a:off x="833400" y="459108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妹妹 姐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4"/>
          <p:cNvSpPr/>
          <p:nvPr/>
        </p:nvSpPr>
        <p:spPr>
          <a:xfrm>
            <a:off x="844560" y="507348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妹妹特别喜欢小熊布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31"/>
          <p:cNvSpPr/>
          <p:nvPr/>
        </p:nvSpPr>
        <p:spPr>
          <a:xfrm>
            <a:off x="22273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3492000" y="2155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5200560" y="2957400"/>
            <a:ext cx="903240" cy="287280"/>
          </a:xfrm>
          <a:custGeom>
            <a:avLst/>
            <a:gdLst>
              <a:gd name="textAreaLeft" fmla="*/ 0 w 903240"/>
              <a:gd name="textAreaRight" fmla="*/ 903600 w 90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138" h="362">
                <a:moveTo>
                  <a:pt x="0" y="187"/>
                </a:moveTo>
                <a:lnTo>
                  <a:pt x="31" y="187"/>
                </a:lnTo>
                <a:lnTo>
                  <a:pt x="61" y="186"/>
                </a:lnTo>
                <a:lnTo>
                  <a:pt x="94" y="186"/>
                </a:lnTo>
                <a:lnTo>
                  <a:pt x="127" y="182"/>
                </a:lnTo>
                <a:lnTo>
                  <a:pt x="159" y="180"/>
                </a:lnTo>
                <a:lnTo>
                  <a:pt x="194" y="176"/>
                </a:lnTo>
                <a:lnTo>
                  <a:pt x="230" y="172"/>
                </a:lnTo>
                <a:lnTo>
                  <a:pt x="267" y="168"/>
                </a:lnTo>
                <a:lnTo>
                  <a:pt x="303" y="163"/>
                </a:lnTo>
                <a:lnTo>
                  <a:pt x="342" y="157"/>
                </a:lnTo>
                <a:lnTo>
                  <a:pt x="380" y="149"/>
                </a:lnTo>
                <a:lnTo>
                  <a:pt x="420" y="142"/>
                </a:lnTo>
                <a:lnTo>
                  <a:pt x="461" y="134"/>
                </a:lnTo>
                <a:lnTo>
                  <a:pt x="503" y="126"/>
                </a:lnTo>
                <a:lnTo>
                  <a:pt x="545" y="117"/>
                </a:lnTo>
                <a:lnTo>
                  <a:pt x="587" y="107"/>
                </a:lnTo>
                <a:lnTo>
                  <a:pt x="632" y="97"/>
                </a:lnTo>
                <a:lnTo>
                  <a:pt x="674" y="88"/>
                </a:lnTo>
                <a:lnTo>
                  <a:pt x="714" y="78"/>
                </a:lnTo>
                <a:lnTo>
                  <a:pt x="753" y="69"/>
                </a:lnTo>
                <a:lnTo>
                  <a:pt x="793" y="61"/>
                </a:lnTo>
                <a:lnTo>
                  <a:pt x="829" y="53"/>
                </a:lnTo>
                <a:lnTo>
                  <a:pt x="866" y="46"/>
                </a:lnTo>
                <a:lnTo>
                  <a:pt x="900" y="40"/>
                </a:lnTo>
                <a:lnTo>
                  <a:pt x="935" y="32"/>
                </a:lnTo>
                <a:lnTo>
                  <a:pt x="968" y="27"/>
                </a:lnTo>
                <a:lnTo>
                  <a:pt x="998" y="21"/>
                </a:lnTo>
                <a:lnTo>
                  <a:pt x="1029" y="15"/>
                </a:lnTo>
                <a:lnTo>
                  <a:pt x="1058" y="11"/>
                </a:lnTo>
                <a:lnTo>
                  <a:pt x="1087" y="7"/>
                </a:lnTo>
                <a:lnTo>
                  <a:pt x="1113" y="4"/>
                </a:lnTo>
                <a:lnTo>
                  <a:pt x="1138" y="0"/>
                </a:lnTo>
                <a:lnTo>
                  <a:pt x="1138" y="88"/>
                </a:lnTo>
                <a:lnTo>
                  <a:pt x="1104" y="94"/>
                </a:lnTo>
                <a:lnTo>
                  <a:pt x="1069" y="101"/>
                </a:lnTo>
                <a:lnTo>
                  <a:pt x="1033" y="109"/>
                </a:lnTo>
                <a:lnTo>
                  <a:pt x="998" y="117"/>
                </a:lnTo>
                <a:lnTo>
                  <a:pt x="962" y="124"/>
                </a:lnTo>
                <a:lnTo>
                  <a:pt x="925" y="134"/>
                </a:lnTo>
                <a:lnTo>
                  <a:pt x="889" y="143"/>
                </a:lnTo>
                <a:lnTo>
                  <a:pt x="852" y="153"/>
                </a:lnTo>
                <a:lnTo>
                  <a:pt x="814" y="163"/>
                </a:lnTo>
                <a:lnTo>
                  <a:pt x="777" y="174"/>
                </a:lnTo>
                <a:lnTo>
                  <a:pt x="739" y="186"/>
                </a:lnTo>
                <a:lnTo>
                  <a:pt x="701" y="197"/>
                </a:lnTo>
                <a:lnTo>
                  <a:pt x="662" y="210"/>
                </a:lnTo>
                <a:lnTo>
                  <a:pt x="622" y="224"/>
                </a:lnTo>
                <a:lnTo>
                  <a:pt x="584" y="237"/>
                </a:lnTo>
                <a:lnTo>
                  <a:pt x="543" y="251"/>
                </a:lnTo>
                <a:lnTo>
                  <a:pt x="524" y="258"/>
                </a:lnTo>
                <a:lnTo>
                  <a:pt x="505" y="264"/>
                </a:lnTo>
                <a:lnTo>
                  <a:pt x="486" y="270"/>
                </a:lnTo>
                <a:lnTo>
                  <a:pt x="468" y="278"/>
                </a:lnTo>
                <a:lnTo>
                  <a:pt x="451" y="283"/>
                </a:lnTo>
                <a:lnTo>
                  <a:pt x="434" y="289"/>
                </a:lnTo>
                <a:lnTo>
                  <a:pt x="418" y="295"/>
                </a:lnTo>
                <a:lnTo>
                  <a:pt x="401" y="301"/>
                </a:lnTo>
                <a:lnTo>
                  <a:pt x="386" y="304"/>
                </a:lnTo>
                <a:lnTo>
                  <a:pt x="372" y="310"/>
                </a:lnTo>
                <a:lnTo>
                  <a:pt x="357" y="314"/>
                </a:lnTo>
                <a:lnTo>
                  <a:pt x="344" y="320"/>
                </a:lnTo>
                <a:lnTo>
                  <a:pt x="330" y="324"/>
                </a:lnTo>
                <a:lnTo>
                  <a:pt x="319" y="327"/>
                </a:lnTo>
                <a:lnTo>
                  <a:pt x="305" y="331"/>
                </a:lnTo>
                <a:lnTo>
                  <a:pt x="294" y="335"/>
                </a:lnTo>
                <a:lnTo>
                  <a:pt x="284" y="337"/>
                </a:lnTo>
                <a:lnTo>
                  <a:pt x="273" y="341"/>
                </a:lnTo>
                <a:lnTo>
                  <a:pt x="263" y="345"/>
                </a:lnTo>
                <a:lnTo>
                  <a:pt x="253" y="347"/>
                </a:lnTo>
                <a:lnTo>
                  <a:pt x="244" y="348"/>
                </a:lnTo>
                <a:lnTo>
                  <a:pt x="236" y="350"/>
                </a:lnTo>
                <a:lnTo>
                  <a:pt x="228" y="352"/>
                </a:lnTo>
                <a:lnTo>
                  <a:pt x="221" y="354"/>
                </a:lnTo>
                <a:lnTo>
                  <a:pt x="213" y="356"/>
                </a:lnTo>
                <a:lnTo>
                  <a:pt x="207" y="358"/>
                </a:lnTo>
                <a:lnTo>
                  <a:pt x="202" y="360"/>
                </a:lnTo>
                <a:lnTo>
                  <a:pt x="196" y="360"/>
                </a:lnTo>
                <a:lnTo>
                  <a:pt x="192" y="362"/>
                </a:lnTo>
                <a:lnTo>
                  <a:pt x="188" y="362"/>
                </a:lnTo>
                <a:lnTo>
                  <a:pt x="184" y="362"/>
                </a:lnTo>
                <a:lnTo>
                  <a:pt x="180" y="362"/>
                </a:lnTo>
                <a:lnTo>
                  <a:pt x="169" y="362"/>
                </a:lnTo>
                <a:lnTo>
                  <a:pt x="157" y="360"/>
                </a:lnTo>
                <a:lnTo>
                  <a:pt x="146" y="356"/>
                </a:lnTo>
                <a:lnTo>
                  <a:pt x="134" y="352"/>
                </a:lnTo>
                <a:lnTo>
                  <a:pt x="121" y="345"/>
                </a:lnTo>
                <a:lnTo>
                  <a:pt x="108" y="337"/>
                </a:lnTo>
                <a:lnTo>
                  <a:pt x="94" y="329"/>
                </a:lnTo>
                <a:lnTo>
                  <a:pt x="81" y="318"/>
                </a:lnTo>
                <a:lnTo>
                  <a:pt x="67" y="306"/>
                </a:lnTo>
                <a:lnTo>
                  <a:pt x="56" y="293"/>
                </a:lnTo>
                <a:lnTo>
                  <a:pt x="44" y="279"/>
                </a:lnTo>
                <a:lnTo>
                  <a:pt x="33" y="264"/>
                </a:lnTo>
                <a:lnTo>
                  <a:pt x="23" y="247"/>
                </a:lnTo>
                <a:lnTo>
                  <a:pt x="15" y="228"/>
                </a:lnTo>
                <a:lnTo>
                  <a:pt x="8" y="209"/>
                </a:lnTo>
                <a:lnTo>
                  <a:pt x="0" y="187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5611680" y="2192400"/>
            <a:ext cx="555840" cy="1746360"/>
          </a:xfrm>
          <a:custGeom>
            <a:avLst/>
            <a:gdLst>
              <a:gd name="textAreaLeft" fmla="*/ 0 w 555840"/>
              <a:gd name="textAreaRight" fmla="*/ 556200 w 55584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699" h="2202">
                <a:moveTo>
                  <a:pt x="50" y="1148"/>
                </a:moveTo>
                <a:lnTo>
                  <a:pt x="64" y="1062"/>
                </a:lnTo>
                <a:lnTo>
                  <a:pt x="77" y="975"/>
                </a:lnTo>
                <a:lnTo>
                  <a:pt x="89" y="891"/>
                </a:lnTo>
                <a:lnTo>
                  <a:pt x="98" y="805"/>
                </a:lnTo>
                <a:lnTo>
                  <a:pt x="106" y="720"/>
                </a:lnTo>
                <a:lnTo>
                  <a:pt x="114" y="636"/>
                </a:lnTo>
                <a:lnTo>
                  <a:pt x="119" y="552"/>
                </a:lnTo>
                <a:lnTo>
                  <a:pt x="125" y="468"/>
                </a:lnTo>
                <a:lnTo>
                  <a:pt x="127" y="446"/>
                </a:lnTo>
                <a:lnTo>
                  <a:pt x="127" y="427"/>
                </a:lnTo>
                <a:lnTo>
                  <a:pt x="129" y="406"/>
                </a:lnTo>
                <a:lnTo>
                  <a:pt x="129" y="389"/>
                </a:lnTo>
                <a:lnTo>
                  <a:pt x="129" y="370"/>
                </a:lnTo>
                <a:lnTo>
                  <a:pt x="131" y="353"/>
                </a:lnTo>
                <a:lnTo>
                  <a:pt x="131" y="335"/>
                </a:lnTo>
                <a:lnTo>
                  <a:pt x="131" y="318"/>
                </a:lnTo>
                <a:lnTo>
                  <a:pt x="131" y="303"/>
                </a:lnTo>
                <a:lnTo>
                  <a:pt x="131" y="287"/>
                </a:lnTo>
                <a:lnTo>
                  <a:pt x="131" y="272"/>
                </a:lnTo>
                <a:lnTo>
                  <a:pt x="131" y="257"/>
                </a:lnTo>
                <a:lnTo>
                  <a:pt x="129" y="243"/>
                </a:lnTo>
                <a:lnTo>
                  <a:pt x="129" y="230"/>
                </a:lnTo>
                <a:lnTo>
                  <a:pt x="129" y="218"/>
                </a:lnTo>
                <a:lnTo>
                  <a:pt x="127" y="205"/>
                </a:lnTo>
                <a:lnTo>
                  <a:pt x="125" y="194"/>
                </a:lnTo>
                <a:lnTo>
                  <a:pt x="125" y="184"/>
                </a:lnTo>
                <a:lnTo>
                  <a:pt x="123" y="172"/>
                </a:lnTo>
                <a:lnTo>
                  <a:pt x="121" y="163"/>
                </a:lnTo>
                <a:lnTo>
                  <a:pt x="121" y="155"/>
                </a:lnTo>
                <a:lnTo>
                  <a:pt x="119" y="146"/>
                </a:lnTo>
                <a:lnTo>
                  <a:pt x="117" y="138"/>
                </a:lnTo>
                <a:lnTo>
                  <a:pt x="115" y="130"/>
                </a:lnTo>
                <a:lnTo>
                  <a:pt x="114" y="125"/>
                </a:lnTo>
                <a:lnTo>
                  <a:pt x="110" y="117"/>
                </a:lnTo>
                <a:lnTo>
                  <a:pt x="108" y="111"/>
                </a:lnTo>
                <a:lnTo>
                  <a:pt x="106" y="107"/>
                </a:lnTo>
                <a:lnTo>
                  <a:pt x="104" y="102"/>
                </a:lnTo>
                <a:lnTo>
                  <a:pt x="100" y="98"/>
                </a:lnTo>
                <a:lnTo>
                  <a:pt x="98" y="94"/>
                </a:lnTo>
                <a:lnTo>
                  <a:pt x="94" y="92"/>
                </a:lnTo>
                <a:lnTo>
                  <a:pt x="83" y="82"/>
                </a:lnTo>
                <a:lnTo>
                  <a:pt x="73" y="73"/>
                </a:lnTo>
                <a:lnTo>
                  <a:pt x="69" y="69"/>
                </a:lnTo>
                <a:lnTo>
                  <a:pt x="66" y="63"/>
                </a:lnTo>
                <a:lnTo>
                  <a:pt x="64" y="59"/>
                </a:lnTo>
                <a:lnTo>
                  <a:pt x="60" y="56"/>
                </a:lnTo>
                <a:lnTo>
                  <a:pt x="58" y="50"/>
                </a:lnTo>
                <a:lnTo>
                  <a:pt x="56" y="46"/>
                </a:lnTo>
                <a:lnTo>
                  <a:pt x="56" y="40"/>
                </a:lnTo>
                <a:lnTo>
                  <a:pt x="54" y="36"/>
                </a:lnTo>
                <a:lnTo>
                  <a:pt x="54" y="31"/>
                </a:lnTo>
                <a:lnTo>
                  <a:pt x="56" y="27"/>
                </a:lnTo>
                <a:lnTo>
                  <a:pt x="56" y="21"/>
                </a:lnTo>
                <a:lnTo>
                  <a:pt x="58" y="17"/>
                </a:lnTo>
                <a:lnTo>
                  <a:pt x="60" y="13"/>
                </a:lnTo>
                <a:lnTo>
                  <a:pt x="64" y="10"/>
                </a:lnTo>
                <a:lnTo>
                  <a:pt x="66" y="6"/>
                </a:lnTo>
                <a:lnTo>
                  <a:pt x="71" y="4"/>
                </a:lnTo>
                <a:lnTo>
                  <a:pt x="77" y="2"/>
                </a:lnTo>
                <a:lnTo>
                  <a:pt x="83" y="0"/>
                </a:lnTo>
                <a:lnTo>
                  <a:pt x="91" y="0"/>
                </a:lnTo>
                <a:lnTo>
                  <a:pt x="100" y="0"/>
                </a:lnTo>
                <a:lnTo>
                  <a:pt x="110" y="2"/>
                </a:lnTo>
                <a:lnTo>
                  <a:pt x="119" y="2"/>
                </a:lnTo>
                <a:lnTo>
                  <a:pt x="131" y="4"/>
                </a:lnTo>
                <a:lnTo>
                  <a:pt x="142" y="8"/>
                </a:lnTo>
                <a:lnTo>
                  <a:pt x="156" y="12"/>
                </a:lnTo>
                <a:lnTo>
                  <a:pt x="169" y="15"/>
                </a:lnTo>
                <a:lnTo>
                  <a:pt x="185" y="19"/>
                </a:lnTo>
                <a:lnTo>
                  <a:pt x="200" y="25"/>
                </a:lnTo>
                <a:lnTo>
                  <a:pt x="215" y="31"/>
                </a:lnTo>
                <a:lnTo>
                  <a:pt x="231" y="36"/>
                </a:lnTo>
                <a:lnTo>
                  <a:pt x="246" y="40"/>
                </a:lnTo>
                <a:lnTo>
                  <a:pt x="259" y="46"/>
                </a:lnTo>
                <a:lnTo>
                  <a:pt x="271" y="50"/>
                </a:lnTo>
                <a:lnTo>
                  <a:pt x="283" y="56"/>
                </a:lnTo>
                <a:lnTo>
                  <a:pt x="294" y="61"/>
                </a:lnTo>
                <a:lnTo>
                  <a:pt x="304" y="65"/>
                </a:lnTo>
                <a:lnTo>
                  <a:pt x="313" y="69"/>
                </a:lnTo>
                <a:lnTo>
                  <a:pt x="321" y="75"/>
                </a:lnTo>
                <a:lnTo>
                  <a:pt x="329" y="79"/>
                </a:lnTo>
                <a:lnTo>
                  <a:pt x="334" y="82"/>
                </a:lnTo>
                <a:lnTo>
                  <a:pt x="340" y="88"/>
                </a:lnTo>
                <a:lnTo>
                  <a:pt x="346" y="92"/>
                </a:lnTo>
                <a:lnTo>
                  <a:pt x="348" y="96"/>
                </a:lnTo>
                <a:lnTo>
                  <a:pt x="352" y="100"/>
                </a:lnTo>
                <a:lnTo>
                  <a:pt x="355" y="107"/>
                </a:lnTo>
                <a:lnTo>
                  <a:pt x="357" y="117"/>
                </a:lnTo>
                <a:lnTo>
                  <a:pt x="359" y="128"/>
                </a:lnTo>
                <a:lnTo>
                  <a:pt x="359" y="140"/>
                </a:lnTo>
                <a:lnTo>
                  <a:pt x="357" y="153"/>
                </a:lnTo>
                <a:lnTo>
                  <a:pt x="354" y="167"/>
                </a:lnTo>
                <a:lnTo>
                  <a:pt x="350" y="182"/>
                </a:lnTo>
                <a:lnTo>
                  <a:pt x="344" y="199"/>
                </a:lnTo>
                <a:lnTo>
                  <a:pt x="340" y="209"/>
                </a:lnTo>
                <a:lnTo>
                  <a:pt x="338" y="218"/>
                </a:lnTo>
                <a:lnTo>
                  <a:pt x="334" y="230"/>
                </a:lnTo>
                <a:lnTo>
                  <a:pt x="332" y="243"/>
                </a:lnTo>
                <a:lnTo>
                  <a:pt x="329" y="257"/>
                </a:lnTo>
                <a:lnTo>
                  <a:pt x="325" y="272"/>
                </a:lnTo>
                <a:lnTo>
                  <a:pt x="321" y="289"/>
                </a:lnTo>
                <a:lnTo>
                  <a:pt x="319" y="307"/>
                </a:lnTo>
                <a:lnTo>
                  <a:pt x="315" y="326"/>
                </a:lnTo>
                <a:lnTo>
                  <a:pt x="311" y="347"/>
                </a:lnTo>
                <a:lnTo>
                  <a:pt x="307" y="368"/>
                </a:lnTo>
                <a:lnTo>
                  <a:pt x="304" y="391"/>
                </a:lnTo>
                <a:lnTo>
                  <a:pt x="300" y="414"/>
                </a:lnTo>
                <a:lnTo>
                  <a:pt x="296" y="439"/>
                </a:lnTo>
                <a:lnTo>
                  <a:pt x="292" y="466"/>
                </a:lnTo>
                <a:lnTo>
                  <a:pt x="288" y="492"/>
                </a:lnTo>
                <a:lnTo>
                  <a:pt x="281" y="548"/>
                </a:lnTo>
                <a:lnTo>
                  <a:pt x="273" y="604"/>
                </a:lnTo>
                <a:lnTo>
                  <a:pt x="265" y="657"/>
                </a:lnTo>
                <a:lnTo>
                  <a:pt x="258" y="709"/>
                </a:lnTo>
                <a:lnTo>
                  <a:pt x="248" y="761"/>
                </a:lnTo>
                <a:lnTo>
                  <a:pt x="240" y="812"/>
                </a:lnTo>
                <a:lnTo>
                  <a:pt x="233" y="862"/>
                </a:lnTo>
                <a:lnTo>
                  <a:pt x="225" y="910"/>
                </a:lnTo>
                <a:lnTo>
                  <a:pt x="217" y="958"/>
                </a:lnTo>
                <a:lnTo>
                  <a:pt x="210" y="1006"/>
                </a:lnTo>
                <a:lnTo>
                  <a:pt x="202" y="1052"/>
                </a:lnTo>
                <a:lnTo>
                  <a:pt x="194" y="1098"/>
                </a:lnTo>
                <a:lnTo>
                  <a:pt x="187" y="1142"/>
                </a:lnTo>
                <a:lnTo>
                  <a:pt x="179" y="1186"/>
                </a:lnTo>
                <a:lnTo>
                  <a:pt x="171" y="1230"/>
                </a:lnTo>
                <a:lnTo>
                  <a:pt x="163" y="1272"/>
                </a:lnTo>
                <a:lnTo>
                  <a:pt x="160" y="1293"/>
                </a:lnTo>
                <a:lnTo>
                  <a:pt x="156" y="1313"/>
                </a:lnTo>
                <a:lnTo>
                  <a:pt x="152" y="1330"/>
                </a:lnTo>
                <a:lnTo>
                  <a:pt x="150" y="1347"/>
                </a:lnTo>
                <a:lnTo>
                  <a:pt x="146" y="1362"/>
                </a:lnTo>
                <a:lnTo>
                  <a:pt x="144" y="1378"/>
                </a:lnTo>
                <a:lnTo>
                  <a:pt x="142" y="1391"/>
                </a:lnTo>
                <a:lnTo>
                  <a:pt x="140" y="1403"/>
                </a:lnTo>
                <a:lnTo>
                  <a:pt x="139" y="1414"/>
                </a:lnTo>
                <a:lnTo>
                  <a:pt x="137" y="1424"/>
                </a:lnTo>
                <a:lnTo>
                  <a:pt x="137" y="1433"/>
                </a:lnTo>
                <a:lnTo>
                  <a:pt x="135" y="1439"/>
                </a:lnTo>
                <a:lnTo>
                  <a:pt x="135" y="1447"/>
                </a:lnTo>
                <a:lnTo>
                  <a:pt x="133" y="1452"/>
                </a:lnTo>
                <a:lnTo>
                  <a:pt x="133" y="1456"/>
                </a:lnTo>
                <a:lnTo>
                  <a:pt x="133" y="1458"/>
                </a:lnTo>
                <a:lnTo>
                  <a:pt x="133" y="1464"/>
                </a:lnTo>
                <a:lnTo>
                  <a:pt x="135" y="1470"/>
                </a:lnTo>
                <a:lnTo>
                  <a:pt x="137" y="1475"/>
                </a:lnTo>
                <a:lnTo>
                  <a:pt x="140" y="1481"/>
                </a:lnTo>
                <a:lnTo>
                  <a:pt x="144" y="1487"/>
                </a:lnTo>
                <a:lnTo>
                  <a:pt x="150" y="1495"/>
                </a:lnTo>
                <a:lnTo>
                  <a:pt x="156" y="1502"/>
                </a:lnTo>
                <a:lnTo>
                  <a:pt x="163" y="1510"/>
                </a:lnTo>
                <a:lnTo>
                  <a:pt x="167" y="1514"/>
                </a:lnTo>
                <a:lnTo>
                  <a:pt x="175" y="1519"/>
                </a:lnTo>
                <a:lnTo>
                  <a:pt x="183" y="1527"/>
                </a:lnTo>
                <a:lnTo>
                  <a:pt x="192" y="1535"/>
                </a:lnTo>
                <a:lnTo>
                  <a:pt x="202" y="1544"/>
                </a:lnTo>
                <a:lnTo>
                  <a:pt x="215" y="1556"/>
                </a:lnTo>
                <a:lnTo>
                  <a:pt x="229" y="1567"/>
                </a:lnTo>
                <a:lnTo>
                  <a:pt x="244" y="1581"/>
                </a:lnTo>
                <a:lnTo>
                  <a:pt x="261" y="1596"/>
                </a:lnTo>
                <a:lnTo>
                  <a:pt x="281" y="1611"/>
                </a:lnTo>
                <a:lnTo>
                  <a:pt x="302" y="1629"/>
                </a:lnTo>
                <a:lnTo>
                  <a:pt x="323" y="1648"/>
                </a:lnTo>
                <a:lnTo>
                  <a:pt x="346" y="1667"/>
                </a:lnTo>
                <a:lnTo>
                  <a:pt x="371" y="1688"/>
                </a:lnTo>
                <a:lnTo>
                  <a:pt x="398" y="1711"/>
                </a:lnTo>
                <a:lnTo>
                  <a:pt x="426" y="1734"/>
                </a:lnTo>
                <a:lnTo>
                  <a:pt x="455" y="1757"/>
                </a:lnTo>
                <a:lnTo>
                  <a:pt x="480" y="1780"/>
                </a:lnTo>
                <a:lnTo>
                  <a:pt x="505" y="1801"/>
                </a:lnTo>
                <a:lnTo>
                  <a:pt x="528" y="1822"/>
                </a:lnTo>
                <a:lnTo>
                  <a:pt x="551" y="1843"/>
                </a:lnTo>
                <a:lnTo>
                  <a:pt x="570" y="1860"/>
                </a:lnTo>
                <a:lnTo>
                  <a:pt x="588" y="1880"/>
                </a:lnTo>
                <a:lnTo>
                  <a:pt x="605" y="1897"/>
                </a:lnTo>
                <a:lnTo>
                  <a:pt x="620" y="1912"/>
                </a:lnTo>
                <a:lnTo>
                  <a:pt x="634" y="1928"/>
                </a:lnTo>
                <a:lnTo>
                  <a:pt x="645" y="1941"/>
                </a:lnTo>
                <a:lnTo>
                  <a:pt x="657" y="1954"/>
                </a:lnTo>
                <a:lnTo>
                  <a:pt x="665" y="1966"/>
                </a:lnTo>
                <a:lnTo>
                  <a:pt x="672" y="1977"/>
                </a:lnTo>
                <a:lnTo>
                  <a:pt x="678" y="1987"/>
                </a:lnTo>
                <a:lnTo>
                  <a:pt x="682" y="1997"/>
                </a:lnTo>
                <a:lnTo>
                  <a:pt x="688" y="2014"/>
                </a:lnTo>
                <a:lnTo>
                  <a:pt x="691" y="2029"/>
                </a:lnTo>
                <a:lnTo>
                  <a:pt x="695" y="2046"/>
                </a:lnTo>
                <a:lnTo>
                  <a:pt x="697" y="2064"/>
                </a:lnTo>
                <a:lnTo>
                  <a:pt x="699" y="2081"/>
                </a:lnTo>
                <a:lnTo>
                  <a:pt x="699" y="2098"/>
                </a:lnTo>
                <a:lnTo>
                  <a:pt x="697" y="2115"/>
                </a:lnTo>
                <a:lnTo>
                  <a:pt x="695" y="2133"/>
                </a:lnTo>
                <a:lnTo>
                  <a:pt x="693" y="2140"/>
                </a:lnTo>
                <a:lnTo>
                  <a:pt x="691" y="2148"/>
                </a:lnTo>
                <a:lnTo>
                  <a:pt x="689" y="2156"/>
                </a:lnTo>
                <a:lnTo>
                  <a:pt x="688" y="2163"/>
                </a:lnTo>
                <a:lnTo>
                  <a:pt x="686" y="2169"/>
                </a:lnTo>
                <a:lnTo>
                  <a:pt x="682" y="2175"/>
                </a:lnTo>
                <a:lnTo>
                  <a:pt x="680" y="2180"/>
                </a:lnTo>
                <a:lnTo>
                  <a:pt x="678" y="2184"/>
                </a:lnTo>
                <a:lnTo>
                  <a:pt x="674" y="2188"/>
                </a:lnTo>
                <a:lnTo>
                  <a:pt x="672" y="2192"/>
                </a:lnTo>
                <a:lnTo>
                  <a:pt x="668" y="2196"/>
                </a:lnTo>
                <a:lnTo>
                  <a:pt x="666" y="2198"/>
                </a:lnTo>
                <a:lnTo>
                  <a:pt x="663" y="2200"/>
                </a:lnTo>
                <a:lnTo>
                  <a:pt x="659" y="2200"/>
                </a:lnTo>
                <a:lnTo>
                  <a:pt x="655" y="2202"/>
                </a:lnTo>
                <a:lnTo>
                  <a:pt x="651" y="2202"/>
                </a:lnTo>
                <a:lnTo>
                  <a:pt x="649" y="2202"/>
                </a:lnTo>
                <a:lnTo>
                  <a:pt x="647" y="2202"/>
                </a:lnTo>
                <a:lnTo>
                  <a:pt x="643" y="2200"/>
                </a:lnTo>
                <a:lnTo>
                  <a:pt x="641" y="2198"/>
                </a:lnTo>
                <a:lnTo>
                  <a:pt x="638" y="2196"/>
                </a:lnTo>
                <a:lnTo>
                  <a:pt x="634" y="2192"/>
                </a:lnTo>
                <a:lnTo>
                  <a:pt x="630" y="2190"/>
                </a:lnTo>
                <a:lnTo>
                  <a:pt x="624" y="2186"/>
                </a:lnTo>
                <a:lnTo>
                  <a:pt x="620" y="2182"/>
                </a:lnTo>
                <a:lnTo>
                  <a:pt x="615" y="2177"/>
                </a:lnTo>
                <a:lnTo>
                  <a:pt x="609" y="2173"/>
                </a:lnTo>
                <a:lnTo>
                  <a:pt x="603" y="2167"/>
                </a:lnTo>
                <a:lnTo>
                  <a:pt x="597" y="2161"/>
                </a:lnTo>
                <a:lnTo>
                  <a:pt x="592" y="2154"/>
                </a:lnTo>
                <a:lnTo>
                  <a:pt x="584" y="2148"/>
                </a:lnTo>
                <a:lnTo>
                  <a:pt x="578" y="2140"/>
                </a:lnTo>
                <a:lnTo>
                  <a:pt x="570" y="2131"/>
                </a:lnTo>
                <a:lnTo>
                  <a:pt x="563" y="2123"/>
                </a:lnTo>
                <a:lnTo>
                  <a:pt x="555" y="2113"/>
                </a:lnTo>
                <a:lnTo>
                  <a:pt x="546" y="2104"/>
                </a:lnTo>
                <a:lnTo>
                  <a:pt x="538" y="2094"/>
                </a:lnTo>
                <a:lnTo>
                  <a:pt x="528" y="2085"/>
                </a:lnTo>
                <a:lnTo>
                  <a:pt x="519" y="2073"/>
                </a:lnTo>
                <a:lnTo>
                  <a:pt x="509" y="2062"/>
                </a:lnTo>
                <a:lnTo>
                  <a:pt x="499" y="2050"/>
                </a:lnTo>
                <a:lnTo>
                  <a:pt x="488" y="2037"/>
                </a:lnTo>
                <a:lnTo>
                  <a:pt x="478" y="2025"/>
                </a:lnTo>
                <a:lnTo>
                  <a:pt x="467" y="2012"/>
                </a:lnTo>
                <a:lnTo>
                  <a:pt x="455" y="1997"/>
                </a:lnTo>
                <a:lnTo>
                  <a:pt x="444" y="1983"/>
                </a:lnTo>
                <a:lnTo>
                  <a:pt x="430" y="1968"/>
                </a:lnTo>
                <a:lnTo>
                  <a:pt x="419" y="1952"/>
                </a:lnTo>
                <a:lnTo>
                  <a:pt x="394" y="1922"/>
                </a:lnTo>
                <a:lnTo>
                  <a:pt x="371" y="1893"/>
                </a:lnTo>
                <a:lnTo>
                  <a:pt x="348" y="1864"/>
                </a:lnTo>
                <a:lnTo>
                  <a:pt x="325" y="1838"/>
                </a:lnTo>
                <a:lnTo>
                  <a:pt x="304" y="1813"/>
                </a:lnTo>
                <a:lnTo>
                  <a:pt x="283" y="1790"/>
                </a:lnTo>
                <a:lnTo>
                  <a:pt x="263" y="1767"/>
                </a:lnTo>
                <a:lnTo>
                  <a:pt x="244" y="1746"/>
                </a:lnTo>
                <a:lnTo>
                  <a:pt x="225" y="1726"/>
                </a:lnTo>
                <a:lnTo>
                  <a:pt x="206" y="1707"/>
                </a:lnTo>
                <a:lnTo>
                  <a:pt x="188" y="1690"/>
                </a:lnTo>
                <a:lnTo>
                  <a:pt x="173" y="1675"/>
                </a:lnTo>
                <a:lnTo>
                  <a:pt x="158" y="1661"/>
                </a:lnTo>
                <a:lnTo>
                  <a:pt x="142" y="1648"/>
                </a:lnTo>
                <a:lnTo>
                  <a:pt x="127" y="1636"/>
                </a:lnTo>
                <a:lnTo>
                  <a:pt x="114" y="1627"/>
                </a:lnTo>
                <a:lnTo>
                  <a:pt x="100" y="1617"/>
                </a:lnTo>
                <a:lnTo>
                  <a:pt x="89" y="1609"/>
                </a:lnTo>
                <a:lnTo>
                  <a:pt x="77" y="1600"/>
                </a:lnTo>
                <a:lnTo>
                  <a:pt x="66" y="1592"/>
                </a:lnTo>
                <a:lnTo>
                  <a:pt x="56" y="1585"/>
                </a:lnTo>
                <a:lnTo>
                  <a:pt x="48" y="1577"/>
                </a:lnTo>
                <a:lnTo>
                  <a:pt x="39" y="1569"/>
                </a:lnTo>
                <a:lnTo>
                  <a:pt x="31" y="1564"/>
                </a:lnTo>
                <a:lnTo>
                  <a:pt x="25" y="1558"/>
                </a:lnTo>
                <a:lnTo>
                  <a:pt x="20" y="1550"/>
                </a:lnTo>
                <a:lnTo>
                  <a:pt x="14" y="1544"/>
                </a:lnTo>
                <a:lnTo>
                  <a:pt x="10" y="1541"/>
                </a:lnTo>
                <a:lnTo>
                  <a:pt x="6" y="1535"/>
                </a:lnTo>
                <a:lnTo>
                  <a:pt x="4" y="1529"/>
                </a:lnTo>
                <a:lnTo>
                  <a:pt x="2" y="1525"/>
                </a:lnTo>
                <a:lnTo>
                  <a:pt x="0" y="1521"/>
                </a:lnTo>
                <a:lnTo>
                  <a:pt x="0" y="1519"/>
                </a:lnTo>
                <a:lnTo>
                  <a:pt x="0" y="1516"/>
                </a:lnTo>
                <a:lnTo>
                  <a:pt x="0" y="1514"/>
                </a:lnTo>
                <a:lnTo>
                  <a:pt x="0" y="1508"/>
                </a:lnTo>
                <a:lnTo>
                  <a:pt x="0" y="1504"/>
                </a:lnTo>
                <a:lnTo>
                  <a:pt x="0" y="1498"/>
                </a:lnTo>
                <a:lnTo>
                  <a:pt x="0" y="1493"/>
                </a:lnTo>
                <a:lnTo>
                  <a:pt x="2" y="1487"/>
                </a:lnTo>
                <a:lnTo>
                  <a:pt x="2" y="1479"/>
                </a:lnTo>
                <a:lnTo>
                  <a:pt x="2" y="1472"/>
                </a:lnTo>
                <a:lnTo>
                  <a:pt x="4" y="1464"/>
                </a:lnTo>
                <a:lnTo>
                  <a:pt x="4" y="1454"/>
                </a:lnTo>
                <a:lnTo>
                  <a:pt x="6" y="1445"/>
                </a:lnTo>
                <a:lnTo>
                  <a:pt x="8" y="1435"/>
                </a:lnTo>
                <a:lnTo>
                  <a:pt x="8" y="1424"/>
                </a:lnTo>
                <a:lnTo>
                  <a:pt x="10" y="1412"/>
                </a:lnTo>
                <a:lnTo>
                  <a:pt x="12" y="1401"/>
                </a:lnTo>
                <a:lnTo>
                  <a:pt x="14" y="1387"/>
                </a:lnTo>
                <a:lnTo>
                  <a:pt x="16" y="1374"/>
                </a:lnTo>
                <a:lnTo>
                  <a:pt x="18" y="1360"/>
                </a:lnTo>
                <a:lnTo>
                  <a:pt x="20" y="1347"/>
                </a:lnTo>
                <a:lnTo>
                  <a:pt x="21" y="1332"/>
                </a:lnTo>
                <a:lnTo>
                  <a:pt x="23" y="1316"/>
                </a:lnTo>
                <a:lnTo>
                  <a:pt x="27" y="1299"/>
                </a:lnTo>
                <a:lnTo>
                  <a:pt x="29" y="1282"/>
                </a:lnTo>
                <a:lnTo>
                  <a:pt x="31" y="1265"/>
                </a:lnTo>
                <a:lnTo>
                  <a:pt x="35" y="1247"/>
                </a:lnTo>
                <a:lnTo>
                  <a:pt x="37" y="1228"/>
                </a:lnTo>
                <a:lnTo>
                  <a:pt x="41" y="1209"/>
                </a:lnTo>
                <a:lnTo>
                  <a:pt x="44" y="1190"/>
                </a:lnTo>
                <a:lnTo>
                  <a:pt x="46" y="1169"/>
                </a:lnTo>
                <a:lnTo>
                  <a:pt x="50" y="114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5392800" y="2733840"/>
            <a:ext cx="790560" cy="1292040"/>
          </a:xfrm>
          <a:custGeom>
            <a:avLst/>
            <a:gdLst>
              <a:gd name="textAreaLeft" fmla="*/ 0 w 790560"/>
              <a:gd name="textAreaRight" fmla="*/ 790920 w 79056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996" h="1629">
                <a:moveTo>
                  <a:pt x="171" y="1456"/>
                </a:moveTo>
                <a:lnTo>
                  <a:pt x="194" y="1437"/>
                </a:lnTo>
                <a:lnTo>
                  <a:pt x="217" y="1418"/>
                </a:lnTo>
                <a:lnTo>
                  <a:pt x="240" y="1397"/>
                </a:lnTo>
                <a:lnTo>
                  <a:pt x="263" y="1376"/>
                </a:lnTo>
                <a:lnTo>
                  <a:pt x="286" y="1355"/>
                </a:lnTo>
                <a:lnTo>
                  <a:pt x="307" y="1332"/>
                </a:lnTo>
                <a:lnTo>
                  <a:pt x="330" y="1307"/>
                </a:lnTo>
                <a:lnTo>
                  <a:pt x="351" y="1284"/>
                </a:lnTo>
                <a:lnTo>
                  <a:pt x="374" y="1259"/>
                </a:lnTo>
                <a:lnTo>
                  <a:pt x="395" y="1234"/>
                </a:lnTo>
                <a:lnTo>
                  <a:pt x="416" y="1207"/>
                </a:lnTo>
                <a:lnTo>
                  <a:pt x="438" y="1180"/>
                </a:lnTo>
                <a:lnTo>
                  <a:pt x="459" y="1152"/>
                </a:lnTo>
                <a:lnTo>
                  <a:pt x="480" y="1123"/>
                </a:lnTo>
                <a:lnTo>
                  <a:pt x="499" y="1094"/>
                </a:lnTo>
                <a:lnTo>
                  <a:pt x="520" y="1064"/>
                </a:lnTo>
                <a:lnTo>
                  <a:pt x="539" y="1033"/>
                </a:lnTo>
                <a:lnTo>
                  <a:pt x="560" y="1002"/>
                </a:lnTo>
                <a:lnTo>
                  <a:pt x="578" y="972"/>
                </a:lnTo>
                <a:lnTo>
                  <a:pt x="595" y="941"/>
                </a:lnTo>
                <a:lnTo>
                  <a:pt x="612" y="910"/>
                </a:lnTo>
                <a:lnTo>
                  <a:pt x="630" y="880"/>
                </a:lnTo>
                <a:lnTo>
                  <a:pt x="643" y="849"/>
                </a:lnTo>
                <a:lnTo>
                  <a:pt x="658" y="818"/>
                </a:lnTo>
                <a:lnTo>
                  <a:pt x="672" y="788"/>
                </a:lnTo>
                <a:lnTo>
                  <a:pt x="685" y="755"/>
                </a:lnTo>
                <a:lnTo>
                  <a:pt x="697" y="724"/>
                </a:lnTo>
                <a:lnTo>
                  <a:pt x="708" y="692"/>
                </a:lnTo>
                <a:lnTo>
                  <a:pt x="718" y="661"/>
                </a:lnTo>
                <a:lnTo>
                  <a:pt x="727" y="629"/>
                </a:lnTo>
                <a:lnTo>
                  <a:pt x="737" y="598"/>
                </a:lnTo>
                <a:lnTo>
                  <a:pt x="745" y="565"/>
                </a:lnTo>
                <a:lnTo>
                  <a:pt x="752" y="535"/>
                </a:lnTo>
                <a:lnTo>
                  <a:pt x="760" y="504"/>
                </a:lnTo>
                <a:lnTo>
                  <a:pt x="766" y="475"/>
                </a:lnTo>
                <a:lnTo>
                  <a:pt x="772" y="447"/>
                </a:lnTo>
                <a:lnTo>
                  <a:pt x="777" y="420"/>
                </a:lnTo>
                <a:lnTo>
                  <a:pt x="783" y="395"/>
                </a:lnTo>
                <a:lnTo>
                  <a:pt x="789" y="370"/>
                </a:lnTo>
                <a:lnTo>
                  <a:pt x="793" y="347"/>
                </a:lnTo>
                <a:lnTo>
                  <a:pt x="797" y="326"/>
                </a:lnTo>
                <a:lnTo>
                  <a:pt x="798" y="305"/>
                </a:lnTo>
                <a:lnTo>
                  <a:pt x="802" y="284"/>
                </a:lnTo>
                <a:lnTo>
                  <a:pt x="804" y="266"/>
                </a:lnTo>
                <a:lnTo>
                  <a:pt x="806" y="249"/>
                </a:lnTo>
                <a:lnTo>
                  <a:pt x="808" y="232"/>
                </a:lnTo>
                <a:lnTo>
                  <a:pt x="808" y="217"/>
                </a:lnTo>
                <a:lnTo>
                  <a:pt x="808" y="203"/>
                </a:lnTo>
                <a:lnTo>
                  <a:pt x="808" y="190"/>
                </a:lnTo>
                <a:lnTo>
                  <a:pt x="808" y="178"/>
                </a:lnTo>
                <a:lnTo>
                  <a:pt x="808" y="165"/>
                </a:lnTo>
                <a:lnTo>
                  <a:pt x="806" y="155"/>
                </a:lnTo>
                <a:lnTo>
                  <a:pt x="806" y="144"/>
                </a:lnTo>
                <a:lnTo>
                  <a:pt x="804" y="132"/>
                </a:lnTo>
                <a:lnTo>
                  <a:pt x="804" y="123"/>
                </a:lnTo>
                <a:lnTo>
                  <a:pt x="802" y="115"/>
                </a:lnTo>
                <a:lnTo>
                  <a:pt x="800" y="106"/>
                </a:lnTo>
                <a:lnTo>
                  <a:pt x="798" y="98"/>
                </a:lnTo>
                <a:lnTo>
                  <a:pt x="797" y="90"/>
                </a:lnTo>
                <a:lnTo>
                  <a:pt x="795" y="83"/>
                </a:lnTo>
                <a:lnTo>
                  <a:pt x="793" y="77"/>
                </a:lnTo>
                <a:lnTo>
                  <a:pt x="789" y="69"/>
                </a:lnTo>
                <a:lnTo>
                  <a:pt x="787" y="65"/>
                </a:lnTo>
                <a:lnTo>
                  <a:pt x="783" y="60"/>
                </a:lnTo>
                <a:lnTo>
                  <a:pt x="779" y="56"/>
                </a:lnTo>
                <a:lnTo>
                  <a:pt x="777" y="50"/>
                </a:lnTo>
                <a:lnTo>
                  <a:pt x="775" y="46"/>
                </a:lnTo>
                <a:lnTo>
                  <a:pt x="774" y="42"/>
                </a:lnTo>
                <a:lnTo>
                  <a:pt x="774" y="38"/>
                </a:lnTo>
                <a:lnTo>
                  <a:pt x="774" y="35"/>
                </a:lnTo>
                <a:lnTo>
                  <a:pt x="774" y="31"/>
                </a:lnTo>
                <a:lnTo>
                  <a:pt x="774" y="27"/>
                </a:lnTo>
                <a:lnTo>
                  <a:pt x="775" y="23"/>
                </a:lnTo>
                <a:lnTo>
                  <a:pt x="777" y="19"/>
                </a:lnTo>
                <a:lnTo>
                  <a:pt x="779" y="17"/>
                </a:lnTo>
                <a:lnTo>
                  <a:pt x="781" y="14"/>
                </a:lnTo>
                <a:lnTo>
                  <a:pt x="789" y="8"/>
                </a:lnTo>
                <a:lnTo>
                  <a:pt x="797" y="4"/>
                </a:lnTo>
                <a:lnTo>
                  <a:pt x="802" y="2"/>
                </a:lnTo>
                <a:lnTo>
                  <a:pt x="806" y="0"/>
                </a:lnTo>
                <a:lnTo>
                  <a:pt x="812" y="0"/>
                </a:lnTo>
                <a:lnTo>
                  <a:pt x="818" y="0"/>
                </a:lnTo>
                <a:lnTo>
                  <a:pt x="823" y="0"/>
                </a:lnTo>
                <a:lnTo>
                  <a:pt x="831" y="0"/>
                </a:lnTo>
                <a:lnTo>
                  <a:pt x="837" y="2"/>
                </a:lnTo>
                <a:lnTo>
                  <a:pt x="845" y="6"/>
                </a:lnTo>
                <a:lnTo>
                  <a:pt x="852" y="8"/>
                </a:lnTo>
                <a:lnTo>
                  <a:pt x="860" y="12"/>
                </a:lnTo>
                <a:lnTo>
                  <a:pt x="868" y="17"/>
                </a:lnTo>
                <a:lnTo>
                  <a:pt x="877" y="21"/>
                </a:lnTo>
                <a:lnTo>
                  <a:pt x="885" y="27"/>
                </a:lnTo>
                <a:lnTo>
                  <a:pt x="894" y="33"/>
                </a:lnTo>
                <a:lnTo>
                  <a:pt x="904" y="40"/>
                </a:lnTo>
                <a:lnTo>
                  <a:pt x="914" y="48"/>
                </a:lnTo>
                <a:lnTo>
                  <a:pt x="923" y="56"/>
                </a:lnTo>
                <a:lnTo>
                  <a:pt x="933" y="63"/>
                </a:lnTo>
                <a:lnTo>
                  <a:pt x="942" y="71"/>
                </a:lnTo>
                <a:lnTo>
                  <a:pt x="950" y="77"/>
                </a:lnTo>
                <a:lnTo>
                  <a:pt x="958" y="84"/>
                </a:lnTo>
                <a:lnTo>
                  <a:pt x="964" y="90"/>
                </a:lnTo>
                <a:lnTo>
                  <a:pt x="971" y="98"/>
                </a:lnTo>
                <a:lnTo>
                  <a:pt x="975" y="104"/>
                </a:lnTo>
                <a:lnTo>
                  <a:pt x="981" y="109"/>
                </a:lnTo>
                <a:lnTo>
                  <a:pt x="985" y="115"/>
                </a:lnTo>
                <a:lnTo>
                  <a:pt x="989" y="121"/>
                </a:lnTo>
                <a:lnTo>
                  <a:pt x="990" y="127"/>
                </a:lnTo>
                <a:lnTo>
                  <a:pt x="994" y="132"/>
                </a:lnTo>
                <a:lnTo>
                  <a:pt x="994" y="138"/>
                </a:lnTo>
                <a:lnTo>
                  <a:pt x="996" y="144"/>
                </a:lnTo>
                <a:lnTo>
                  <a:pt x="996" y="148"/>
                </a:lnTo>
                <a:lnTo>
                  <a:pt x="996" y="153"/>
                </a:lnTo>
                <a:lnTo>
                  <a:pt x="996" y="159"/>
                </a:lnTo>
                <a:lnTo>
                  <a:pt x="994" y="167"/>
                </a:lnTo>
                <a:lnTo>
                  <a:pt x="994" y="175"/>
                </a:lnTo>
                <a:lnTo>
                  <a:pt x="992" y="184"/>
                </a:lnTo>
                <a:lnTo>
                  <a:pt x="990" y="194"/>
                </a:lnTo>
                <a:lnTo>
                  <a:pt x="989" y="205"/>
                </a:lnTo>
                <a:lnTo>
                  <a:pt x="987" y="219"/>
                </a:lnTo>
                <a:lnTo>
                  <a:pt x="985" y="232"/>
                </a:lnTo>
                <a:lnTo>
                  <a:pt x="981" y="245"/>
                </a:lnTo>
                <a:lnTo>
                  <a:pt x="977" y="261"/>
                </a:lnTo>
                <a:lnTo>
                  <a:pt x="975" y="278"/>
                </a:lnTo>
                <a:lnTo>
                  <a:pt x="971" y="295"/>
                </a:lnTo>
                <a:lnTo>
                  <a:pt x="967" y="312"/>
                </a:lnTo>
                <a:lnTo>
                  <a:pt x="962" y="332"/>
                </a:lnTo>
                <a:lnTo>
                  <a:pt x="958" y="353"/>
                </a:lnTo>
                <a:lnTo>
                  <a:pt x="952" y="374"/>
                </a:lnTo>
                <a:lnTo>
                  <a:pt x="948" y="397"/>
                </a:lnTo>
                <a:lnTo>
                  <a:pt x="942" y="420"/>
                </a:lnTo>
                <a:lnTo>
                  <a:pt x="935" y="445"/>
                </a:lnTo>
                <a:lnTo>
                  <a:pt x="929" y="470"/>
                </a:lnTo>
                <a:lnTo>
                  <a:pt x="921" y="494"/>
                </a:lnTo>
                <a:lnTo>
                  <a:pt x="914" y="521"/>
                </a:lnTo>
                <a:lnTo>
                  <a:pt x="906" y="548"/>
                </a:lnTo>
                <a:lnTo>
                  <a:pt x="898" y="577"/>
                </a:lnTo>
                <a:lnTo>
                  <a:pt x="889" y="606"/>
                </a:lnTo>
                <a:lnTo>
                  <a:pt x="879" y="634"/>
                </a:lnTo>
                <a:lnTo>
                  <a:pt x="869" y="665"/>
                </a:lnTo>
                <a:lnTo>
                  <a:pt x="860" y="696"/>
                </a:lnTo>
                <a:lnTo>
                  <a:pt x="850" y="728"/>
                </a:lnTo>
                <a:lnTo>
                  <a:pt x="839" y="761"/>
                </a:lnTo>
                <a:lnTo>
                  <a:pt x="827" y="795"/>
                </a:lnTo>
                <a:lnTo>
                  <a:pt x="816" y="830"/>
                </a:lnTo>
                <a:lnTo>
                  <a:pt x="802" y="862"/>
                </a:lnTo>
                <a:lnTo>
                  <a:pt x="789" y="895"/>
                </a:lnTo>
                <a:lnTo>
                  <a:pt x="774" y="927"/>
                </a:lnTo>
                <a:lnTo>
                  <a:pt x="758" y="960"/>
                </a:lnTo>
                <a:lnTo>
                  <a:pt x="743" y="991"/>
                </a:lnTo>
                <a:lnTo>
                  <a:pt x="726" y="1019"/>
                </a:lnTo>
                <a:lnTo>
                  <a:pt x="708" y="1050"/>
                </a:lnTo>
                <a:lnTo>
                  <a:pt x="689" y="1079"/>
                </a:lnTo>
                <a:lnTo>
                  <a:pt x="670" y="1108"/>
                </a:lnTo>
                <a:lnTo>
                  <a:pt x="651" y="1134"/>
                </a:lnTo>
                <a:lnTo>
                  <a:pt x="630" y="1161"/>
                </a:lnTo>
                <a:lnTo>
                  <a:pt x="608" y="1188"/>
                </a:lnTo>
                <a:lnTo>
                  <a:pt x="585" y="1213"/>
                </a:lnTo>
                <a:lnTo>
                  <a:pt x="562" y="1238"/>
                </a:lnTo>
                <a:lnTo>
                  <a:pt x="539" y="1263"/>
                </a:lnTo>
                <a:lnTo>
                  <a:pt x="516" y="1288"/>
                </a:lnTo>
                <a:lnTo>
                  <a:pt x="491" y="1311"/>
                </a:lnTo>
                <a:lnTo>
                  <a:pt x="468" y="1332"/>
                </a:lnTo>
                <a:lnTo>
                  <a:pt x="445" y="1355"/>
                </a:lnTo>
                <a:lnTo>
                  <a:pt x="422" y="1374"/>
                </a:lnTo>
                <a:lnTo>
                  <a:pt x="399" y="1395"/>
                </a:lnTo>
                <a:lnTo>
                  <a:pt x="376" y="1414"/>
                </a:lnTo>
                <a:lnTo>
                  <a:pt x="353" y="1433"/>
                </a:lnTo>
                <a:lnTo>
                  <a:pt x="332" y="1451"/>
                </a:lnTo>
                <a:lnTo>
                  <a:pt x="309" y="1466"/>
                </a:lnTo>
                <a:lnTo>
                  <a:pt x="288" y="1483"/>
                </a:lnTo>
                <a:lnTo>
                  <a:pt x="267" y="1498"/>
                </a:lnTo>
                <a:lnTo>
                  <a:pt x="246" y="1512"/>
                </a:lnTo>
                <a:lnTo>
                  <a:pt x="224" y="1525"/>
                </a:lnTo>
                <a:lnTo>
                  <a:pt x="203" y="1539"/>
                </a:lnTo>
                <a:lnTo>
                  <a:pt x="182" y="1550"/>
                </a:lnTo>
                <a:lnTo>
                  <a:pt x="163" y="1562"/>
                </a:lnTo>
                <a:lnTo>
                  <a:pt x="144" y="1571"/>
                </a:lnTo>
                <a:lnTo>
                  <a:pt x="127" y="1581"/>
                </a:lnTo>
                <a:lnTo>
                  <a:pt x="111" y="1590"/>
                </a:lnTo>
                <a:lnTo>
                  <a:pt x="96" y="1598"/>
                </a:lnTo>
                <a:lnTo>
                  <a:pt x="82" y="1606"/>
                </a:lnTo>
                <a:lnTo>
                  <a:pt x="69" y="1612"/>
                </a:lnTo>
                <a:lnTo>
                  <a:pt x="57" y="1617"/>
                </a:lnTo>
                <a:lnTo>
                  <a:pt x="46" y="1621"/>
                </a:lnTo>
                <a:lnTo>
                  <a:pt x="36" y="1623"/>
                </a:lnTo>
                <a:lnTo>
                  <a:pt x="29" y="1627"/>
                </a:lnTo>
                <a:lnTo>
                  <a:pt x="21" y="1629"/>
                </a:lnTo>
                <a:lnTo>
                  <a:pt x="13" y="1629"/>
                </a:lnTo>
                <a:lnTo>
                  <a:pt x="9" y="1629"/>
                </a:lnTo>
                <a:lnTo>
                  <a:pt x="6" y="1627"/>
                </a:lnTo>
                <a:lnTo>
                  <a:pt x="2" y="1625"/>
                </a:lnTo>
                <a:lnTo>
                  <a:pt x="0" y="1623"/>
                </a:lnTo>
                <a:lnTo>
                  <a:pt x="0" y="1619"/>
                </a:lnTo>
                <a:lnTo>
                  <a:pt x="2" y="1613"/>
                </a:lnTo>
                <a:lnTo>
                  <a:pt x="6" y="1608"/>
                </a:lnTo>
                <a:lnTo>
                  <a:pt x="11" y="1600"/>
                </a:lnTo>
                <a:lnTo>
                  <a:pt x="17" y="1592"/>
                </a:lnTo>
                <a:lnTo>
                  <a:pt x="25" y="1585"/>
                </a:lnTo>
                <a:lnTo>
                  <a:pt x="34" y="1573"/>
                </a:lnTo>
                <a:lnTo>
                  <a:pt x="46" y="1562"/>
                </a:lnTo>
                <a:lnTo>
                  <a:pt x="59" y="1550"/>
                </a:lnTo>
                <a:lnTo>
                  <a:pt x="75" y="1537"/>
                </a:lnTo>
                <a:lnTo>
                  <a:pt x="90" y="1523"/>
                </a:lnTo>
                <a:lnTo>
                  <a:pt x="107" y="1508"/>
                </a:lnTo>
                <a:lnTo>
                  <a:pt x="127" y="1491"/>
                </a:lnTo>
                <a:lnTo>
                  <a:pt x="148" y="1475"/>
                </a:lnTo>
                <a:lnTo>
                  <a:pt x="171" y="145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6311880" y="2532240"/>
            <a:ext cx="860400" cy="239400"/>
          </a:xfrm>
          <a:custGeom>
            <a:avLst/>
            <a:gdLst>
              <a:gd name="textAreaLeft" fmla="*/ 0 w 860400"/>
              <a:gd name="textAreaRight" fmla="*/ 860760 w 86040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085" h="301">
                <a:moveTo>
                  <a:pt x="626" y="69"/>
                </a:moveTo>
                <a:lnTo>
                  <a:pt x="655" y="62"/>
                </a:lnTo>
                <a:lnTo>
                  <a:pt x="684" y="54"/>
                </a:lnTo>
                <a:lnTo>
                  <a:pt x="709" y="46"/>
                </a:lnTo>
                <a:lnTo>
                  <a:pt x="736" y="39"/>
                </a:lnTo>
                <a:lnTo>
                  <a:pt x="761" y="33"/>
                </a:lnTo>
                <a:lnTo>
                  <a:pt x="784" y="27"/>
                </a:lnTo>
                <a:lnTo>
                  <a:pt x="805" y="21"/>
                </a:lnTo>
                <a:lnTo>
                  <a:pt x="826" y="17"/>
                </a:lnTo>
                <a:lnTo>
                  <a:pt x="845" y="14"/>
                </a:lnTo>
                <a:lnTo>
                  <a:pt x="864" y="10"/>
                </a:lnTo>
                <a:lnTo>
                  <a:pt x="882" y="8"/>
                </a:lnTo>
                <a:lnTo>
                  <a:pt x="897" y="4"/>
                </a:lnTo>
                <a:lnTo>
                  <a:pt x="912" y="2"/>
                </a:lnTo>
                <a:lnTo>
                  <a:pt x="928" y="2"/>
                </a:lnTo>
                <a:lnTo>
                  <a:pt x="939" y="0"/>
                </a:lnTo>
                <a:lnTo>
                  <a:pt x="951" y="0"/>
                </a:lnTo>
                <a:lnTo>
                  <a:pt x="962" y="0"/>
                </a:lnTo>
                <a:lnTo>
                  <a:pt x="972" y="0"/>
                </a:lnTo>
                <a:lnTo>
                  <a:pt x="981" y="2"/>
                </a:lnTo>
                <a:lnTo>
                  <a:pt x="991" y="4"/>
                </a:lnTo>
                <a:lnTo>
                  <a:pt x="1008" y="8"/>
                </a:lnTo>
                <a:lnTo>
                  <a:pt x="1026" y="14"/>
                </a:lnTo>
                <a:lnTo>
                  <a:pt x="1039" y="19"/>
                </a:lnTo>
                <a:lnTo>
                  <a:pt x="1051" y="29"/>
                </a:lnTo>
                <a:lnTo>
                  <a:pt x="1060" y="39"/>
                </a:lnTo>
                <a:lnTo>
                  <a:pt x="1070" y="50"/>
                </a:lnTo>
                <a:lnTo>
                  <a:pt x="1074" y="56"/>
                </a:lnTo>
                <a:lnTo>
                  <a:pt x="1077" y="62"/>
                </a:lnTo>
                <a:lnTo>
                  <a:pt x="1079" y="67"/>
                </a:lnTo>
                <a:lnTo>
                  <a:pt x="1081" y="73"/>
                </a:lnTo>
                <a:lnTo>
                  <a:pt x="1083" y="79"/>
                </a:lnTo>
                <a:lnTo>
                  <a:pt x="1085" y="83"/>
                </a:lnTo>
                <a:lnTo>
                  <a:pt x="1085" y="88"/>
                </a:lnTo>
                <a:lnTo>
                  <a:pt x="1085" y="92"/>
                </a:lnTo>
                <a:lnTo>
                  <a:pt x="1085" y="96"/>
                </a:lnTo>
                <a:lnTo>
                  <a:pt x="1085" y="100"/>
                </a:lnTo>
                <a:lnTo>
                  <a:pt x="1083" y="102"/>
                </a:lnTo>
                <a:lnTo>
                  <a:pt x="1081" y="106"/>
                </a:lnTo>
                <a:lnTo>
                  <a:pt x="1079" y="108"/>
                </a:lnTo>
                <a:lnTo>
                  <a:pt x="1077" y="109"/>
                </a:lnTo>
                <a:lnTo>
                  <a:pt x="1074" y="111"/>
                </a:lnTo>
                <a:lnTo>
                  <a:pt x="1070" y="113"/>
                </a:lnTo>
                <a:lnTo>
                  <a:pt x="1068" y="113"/>
                </a:lnTo>
                <a:lnTo>
                  <a:pt x="1064" y="115"/>
                </a:lnTo>
                <a:lnTo>
                  <a:pt x="1060" y="117"/>
                </a:lnTo>
                <a:lnTo>
                  <a:pt x="1056" y="117"/>
                </a:lnTo>
                <a:lnTo>
                  <a:pt x="1051" y="119"/>
                </a:lnTo>
                <a:lnTo>
                  <a:pt x="1045" y="121"/>
                </a:lnTo>
                <a:lnTo>
                  <a:pt x="1039" y="123"/>
                </a:lnTo>
                <a:lnTo>
                  <a:pt x="1031" y="125"/>
                </a:lnTo>
                <a:lnTo>
                  <a:pt x="1024" y="127"/>
                </a:lnTo>
                <a:lnTo>
                  <a:pt x="1014" y="129"/>
                </a:lnTo>
                <a:lnTo>
                  <a:pt x="1004" y="131"/>
                </a:lnTo>
                <a:lnTo>
                  <a:pt x="995" y="132"/>
                </a:lnTo>
                <a:lnTo>
                  <a:pt x="983" y="136"/>
                </a:lnTo>
                <a:lnTo>
                  <a:pt x="972" y="138"/>
                </a:lnTo>
                <a:lnTo>
                  <a:pt x="958" y="142"/>
                </a:lnTo>
                <a:lnTo>
                  <a:pt x="947" y="144"/>
                </a:lnTo>
                <a:lnTo>
                  <a:pt x="931" y="148"/>
                </a:lnTo>
                <a:lnTo>
                  <a:pt x="918" y="152"/>
                </a:lnTo>
                <a:lnTo>
                  <a:pt x="903" y="155"/>
                </a:lnTo>
                <a:lnTo>
                  <a:pt x="885" y="157"/>
                </a:lnTo>
                <a:lnTo>
                  <a:pt x="870" y="161"/>
                </a:lnTo>
                <a:lnTo>
                  <a:pt x="853" y="165"/>
                </a:lnTo>
                <a:lnTo>
                  <a:pt x="834" y="171"/>
                </a:lnTo>
                <a:lnTo>
                  <a:pt x="814" y="175"/>
                </a:lnTo>
                <a:lnTo>
                  <a:pt x="795" y="178"/>
                </a:lnTo>
                <a:lnTo>
                  <a:pt x="774" y="182"/>
                </a:lnTo>
                <a:lnTo>
                  <a:pt x="753" y="188"/>
                </a:lnTo>
                <a:lnTo>
                  <a:pt x="732" y="192"/>
                </a:lnTo>
                <a:lnTo>
                  <a:pt x="709" y="198"/>
                </a:lnTo>
                <a:lnTo>
                  <a:pt x="686" y="203"/>
                </a:lnTo>
                <a:lnTo>
                  <a:pt x="663" y="207"/>
                </a:lnTo>
                <a:lnTo>
                  <a:pt x="638" y="213"/>
                </a:lnTo>
                <a:lnTo>
                  <a:pt x="613" y="219"/>
                </a:lnTo>
                <a:lnTo>
                  <a:pt x="590" y="222"/>
                </a:lnTo>
                <a:lnTo>
                  <a:pt x="567" y="228"/>
                </a:lnTo>
                <a:lnTo>
                  <a:pt x="544" y="234"/>
                </a:lnTo>
                <a:lnTo>
                  <a:pt x="523" y="238"/>
                </a:lnTo>
                <a:lnTo>
                  <a:pt x="501" y="242"/>
                </a:lnTo>
                <a:lnTo>
                  <a:pt x="480" y="247"/>
                </a:lnTo>
                <a:lnTo>
                  <a:pt x="461" y="251"/>
                </a:lnTo>
                <a:lnTo>
                  <a:pt x="442" y="255"/>
                </a:lnTo>
                <a:lnTo>
                  <a:pt x="423" y="259"/>
                </a:lnTo>
                <a:lnTo>
                  <a:pt x="405" y="263"/>
                </a:lnTo>
                <a:lnTo>
                  <a:pt x="388" y="267"/>
                </a:lnTo>
                <a:lnTo>
                  <a:pt x="371" y="270"/>
                </a:lnTo>
                <a:lnTo>
                  <a:pt x="356" y="272"/>
                </a:lnTo>
                <a:lnTo>
                  <a:pt x="340" y="276"/>
                </a:lnTo>
                <a:lnTo>
                  <a:pt x="327" y="278"/>
                </a:lnTo>
                <a:lnTo>
                  <a:pt x="311" y="282"/>
                </a:lnTo>
                <a:lnTo>
                  <a:pt x="300" y="284"/>
                </a:lnTo>
                <a:lnTo>
                  <a:pt x="286" y="286"/>
                </a:lnTo>
                <a:lnTo>
                  <a:pt x="275" y="288"/>
                </a:lnTo>
                <a:lnTo>
                  <a:pt x="263" y="290"/>
                </a:lnTo>
                <a:lnTo>
                  <a:pt x="254" y="291"/>
                </a:lnTo>
                <a:lnTo>
                  <a:pt x="244" y="293"/>
                </a:lnTo>
                <a:lnTo>
                  <a:pt x="235" y="295"/>
                </a:lnTo>
                <a:lnTo>
                  <a:pt x="227" y="297"/>
                </a:lnTo>
                <a:lnTo>
                  <a:pt x="219" y="297"/>
                </a:lnTo>
                <a:lnTo>
                  <a:pt x="214" y="299"/>
                </a:lnTo>
                <a:lnTo>
                  <a:pt x="206" y="299"/>
                </a:lnTo>
                <a:lnTo>
                  <a:pt x="200" y="301"/>
                </a:lnTo>
                <a:lnTo>
                  <a:pt x="196" y="301"/>
                </a:lnTo>
                <a:lnTo>
                  <a:pt x="192" y="301"/>
                </a:lnTo>
                <a:lnTo>
                  <a:pt x="189" y="301"/>
                </a:lnTo>
                <a:lnTo>
                  <a:pt x="175" y="301"/>
                </a:lnTo>
                <a:lnTo>
                  <a:pt x="164" y="299"/>
                </a:lnTo>
                <a:lnTo>
                  <a:pt x="148" y="297"/>
                </a:lnTo>
                <a:lnTo>
                  <a:pt x="135" y="293"/>
                </a:lnTo>
                <a:lnTo>
                  <a:pt x="119" y="288"/>
                </a:lnTo>
                <a:lnTo>
                  <a:pt x="102" y="282"/>
                </a:lnTo>
                <a:lnTo>
                  <a:pt x="87" y="276"/>
                </a:lnTo>
                <a:lnTo>
                  <a:pt x="70" y="268"/>
                </a:lnTo>
                <a:lnTo>
                  <a:pt x="62" y="265"/>
                </a:lnTo>
                <a:lnTo>
                  <a:pt x="54" y="261"/>
                </a:lnTo>
                <a:lnTo>
                  <a:pt x="47" y="257"/>
                </a:lnTo>
                <a:lnTo>
                  <a:pt x="39" y="253"/>
                </a:lnTo>
                <a:lnTo>
                  <a:pt x="33" y="251"/>
                </a:lnTo>
                <a:lnTo>
                  <a:pt x="27" y="247"/>
                </a:lnTo>
                <a:lnTo>
                  <a:pt x="22" y="244"/>
                </a:lnTo>
                <a:lnTo>
                  <a:pt x="18" y="242"/>
                </a:lnTo>
                <a:lnTo>
                  <a:pt x="14" y="238"/>
                </a:lnTo>
                <a:lnTo>
                  <a:pt x="10" y="234"/>
                </a:lnTo>
                <a:lnTo>
                  <a:pt x="8" y="232"/>
                </a:lnTo>
                <a:lnTo>
                  <a:pt x="4" y="228"/>
                </a:lnTo>
                <a:lnTo>
                  <a:pt x="2" y="226"/>
                </a:lnTo>
                <a:lnTo>
                  <a:pt x="2" y="224"/>
                </a:lnTo>
                <a:lnTo>
                  <a:pt x="0" y="221"/>
                </a:lnTo>
                <a:lnTo>
                  <a:pt x="0" y="219"/>
                </a:lnTo>
                <a:lnTo>
                  <a:pt x="0" y="217"/>
                </a:lnTo>
                <a:lnTo>
                  <a:pt x="2" y="215"/>
                </a:lnTo>
                <a:lnTo>
                  <a:pt x="4" y="213"/>
                </a:lnTo>
                <a:lnTo>
                  <a:pt x="6" y="211"/>
                </a:lnTo>
                <a:lnTo>
                  <a:pt x="10" y="207"/>
                </a:lnTo>
                <a:lnTo>
                  <a:pt x="14" y="205"/>
                </a:lnTo>
                <a:lnTo>
                  <a:pt x="18" y="203"/>
                </a:lnTo>
                <a:lnTo>
                  <a:pt x="23" y="201"/>
                </a:lnTo>
                <a:lnTo>
                  <a:pt x="29" y="199"/>
                </a:lnTo>
                <a:lnTo>
                  <a:pt x="35" y="198"/>
                </a:lnTo>
                <a:lnTo>
                  <a:pt x="43" y="196"/>
                </a:lnTo>
                <a:lnTo>
                  <a:pt x="50" y="194"/>
                </a:lnTo>
                <a:lnTo>
                  <a:pt x="60" y="192"/>
                </a:lnTo>
                <a:lnTo>
                  <a:pt x="68" y="192"/>
                </a:lnTo>
                <a:lnTo>
                  <a:pt x="79" y="190"/>
                </a:lnTo>
                <a:lnTo>
                  <a:pt x="89" y="188"/>
                </a:lnTo>
                <a:lnTo>
                  <a:pt x="110" y="184"/>
                </a:lnTo>
                <a:lnTo>
                  <a:pt x="133" y="182"/>
                </a:lnTo>
                <a:lnTo>
                  <a:pt x="156" y="178"/>
                </a:lnTo>
                <a:lnTo>
                  <a:pt x="181" y="175"/>
                </a:lnTo>
                <a:lnTo>
                  <a:pt x="206" y="171"/>
                </a:lnTo>
                <a:lnTo>
                  <a:pt x="231" y="165"/>
                </a:lnTo>
                <a:lnTo>
                  <a:pt x="256" y="161"/>
                </a:lnTo>
                <a:lnTo>
                  <a:pt x="283" y="157"/>
                </a:lnTo>
                <a:lnTo>
                  <a:pt x="296" y="155"/>
                </a:lnTo>
                <a:lnTo>
                  <a:pt x="311" y="152"/>
                </a:lnTo>
                <a:lnTo>
                  <a:pt x="327" y="148"/>
                </a:lnTo>
                <a:lnTo>
                  <a:pt x="344" y="144"/>
                </a:lnTo>
                <a:lnTo>
                  <a:pt x="361" y="140"/>
                </a:lnTo>
                <a:lnTo>
                  <a:pt x="381" y="136"/>
                </a:lnTo>
                <a:lnTo>
                  <a:pt x="400" y="131"/>
                </a:lnTo>
                <a:lnTo>
                  <a:pt x="421" y="125"/>
                </a:lnTo>
                <a:lnTo>
                  <a:pt x="444" y="119"/>
                </a:lnTo>
                <a:lnTo>
                  <a:pt x="467" y="113"/>
                </a:lnTo>
                <a:lnTo>
                  <a:pt x="490" y="108"/>
                </a:lnTo>
                <a:lnTo>
                  <a:pt x="515" y="100"/>
                </a:lnTo>
                <a:lnTo>
                  <a:pt x="542" y="94"/>
                </a:lnTo>
                <a:lnTo>
                  <a:pt x="569" y="86"/>
                </a:lnTo>
                <a:lnTo>
                  <a:pt x="597" y="77"/>
                </a:lnTo>
                <a:lnTo>
                  <a:pt x="626" y="6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6183360" y="2898720"/>
            <a:ext cx="1152360" cy="268200"/>
          </a:xfrm>
          <a:custGeom>
            <a:avLst/>
            <a:gdLst/>
            <a:ahLst/>
            <a:rect l="l" t="t" r="r" b="b"/>
            <a:pathLst>
              <a:path w="1451" h="337">
                <a:moveTo>
                  <a:pt x="1450" y="107"/>
                </a:moveTo>
                <a:lnTo>
                  <a:pt x="1448" y="111"/>
                </a:lnTo>
                <a:lnTo>
                  <a:pt x="1444" y="115"/>
                </a:lnTo>
                <a:lnTo>
                  <a:pt x="1438" y="119"/>
                </a:lnTo>
                <a:lnTo>
                  <a:pt x="1430" y="123"/>
                </a:lnTo>
                <a:lnTo>
                  <a:pt x="1423" y="126"/>
                </a:lnTo>
                <a:lnTo>
                  <a:pt x="1411" y="130"/>
                </a:lnTo>
                <a:lnTo>
                  <a:pt x="1400" y="134"/>
                </a:lnTo>
                <a:lnTo>
                  <a:pt x="1386" y="138"/>
                </a:lnTo>
                <a:lnTo>
                  <a:pt x="1371" y="142"/>
                </a:lnTo>
                <a:lnTo>
                  <a:pt x="1354" y="146"/>
                </a:lnTo>
                <a:lnTo>
                  <a:pt x="1336" y="149"/>
                </a:lnTo>
                <a:lnTo>
                  <a:pt x="1315" y="153"/>
                </a:lnTo>
                <a:lnTo>
                  <a:pt x="1294" y="157"/>
                </a:lnTo>
                <a:lnTo>
                  <a:pt x="1271" y="161"/>
                </a:lnTo>
                <a:lnTo>
                  <a:pt x="1246" y="165"/>
                </a:lnTo>
                <a:lnTo>
                  <a:pt x="1219" y="169"/>
                </a:lnTo>
                <a:lnTo>
                  <a:pt x="1164" y="176"/>
                </a:lnTo>
                <a:lnTo>
                  <a:pt x="1108" y="184"/>
                </a:lnTo>
                <a:lnTo>
                  <a:pt x="997" y="201"/>
                </a:lnTo>
                <a:lnTo>
                  <a:pt x="883" y="217"/>
                </a:lnTo>
                <a:lnTo>
                  <a:pt x="768" y="232"/>
                </a:lnTo>
                <a:lnTo>
                  <a:pt x="710" y="239"/>
                </a:lnTo>
                <a:lnTo>
                  <a:pt x="657" y="247"/>
                </a:lnTo>
                <a:lnTo>
                  <a:pt x="603" y="257"/>
                </a:lnTo>
                <a:lnTo>
                  <a:pt x="551" y="264"/>
                </a:lnTo>
                <a:lnTo>
                  <a:pt x="501" y="272"/>
                </a:lnTo>
                <a:lnTo>
                  <a:pt x="453" y="282"/>
                </a:lnTo>
                <a:lnTo>
                  <a:pt x="430" y="285"/>
                </a:lnTo>
                <a:lnTo>
                  <a:pt x="407" y="289"/>
                </a:lnTo>
                <a:lnTo>
                  <a:pt x="384" y="295"/>
                </a:lnTo>
                <a:lnTo>
                  <a:pt x="363" y="299"/>
                </a:lnTo>
                <a:lnTo>
                  <a:pt x="342" y="305"/>
                </a:lnTo>
                <a:lnTo>
                  <a:pt x="321" y="308"/>
                </a:lnTo>
                <a:lnTo>
                  <a:pt x="302" y="312"/>
                </a:lnTo>
                <a:lnTo>
                  <a:pt x="284" y="316"/>
                </a:lnTo>
                <a:lnTo>
                  <a:pt x="267" y="320"/>
                </a:lnTo>
                <a:lnTo>
                  <a:pt x="250" y="324"/>
                </a:lnTo>
                <a:lnTo>
                  <a:pt x="234" y="326"/>
                </a:lnTo>
                <a:lnTo>
                  <a:pt x="221" y="328"/>
                </a:lnTo>
                <a:lnTo>
                  <a:pt x="208" y="330"/>
                </a:lnTo>
                <a:lnTo>
                  <a:pt x="196" y="331"/>
                </a:lnTo>
                <a:lnTo>
                  <a:pt x="184" y="333"/>
                </a:lnTo>
                <a:lnTo>
                  <a:pt x="175" y="335"/>
                </a:lnTo>
                <a:lnTo>
                  <a:pt x="165" y="335"/>
                </a:lnTo>
                <a:lnTo>
                  <a:pt x="158" y="337"/>
                </a:lnTo>
                <a:lnTo>
                  <a:pt x="150" y="337"/>
                </a:lnTo>
                <a:lnTo>
                  <a:pt x="144" y="337"/>
                </a:lnTo>
                <a:lnTo>
                  <a:pt x="133" y="337"/>
                </a:lnTo>
                <a:lnTo>
                  <a:pt x="121" y="335"/>
                </a:lnTo>
                <a:lnTo>
                  <a:pt x="110" y="331"/>
                </a:lnTo>
                <a:lnTo>
                  <a:pt x="98" y="328"/>
                </a:lnTo>
                <a:lnTo>
                  <a:pt x="87" y="324"/>
                </a:lnTo>
                <a:lnTo>
                  <a:pt x="75" y="316"/>
                </a:lnTo>
                <a:lnTo>
                  <a:pt x="62" y="308"/>
                </a:lnTo>
                <a:lnTo>
                  <a:pt x="50" y="299"/>
                </a:lnTo>
                <a:lnTo>
                  <a:pt x="39" y="289"/>
                </a:lnTo>
                <a:lnTo>
                  <a:pt x="27" y="282"/>
                </a:lnTo>
                <a:lnTo>
                  <a:pt x="19" y="274"/>
                </a:lnTo>
                <a:lnTo>
                  <a:pt x="12" y="268"/>
                </a:lnTo>
                <a:lnTo>
                  <a:pt x="8" y="262"/>
                </a:lnTo>
                <a:lnTo>
                  <a:pt x="4" y="257"/>
                </a:lnTo>
                <a:lnTo>
                  <a:pt x="0" y="253"/>
                </a:lnTo>
                <a:lnTo>
                  <a:pt x="0" y="249"/>
                </a:lnTo>
                <a:lnTo>
                  <a:pt x="0" y="247"/>
                </a:lnTo>
                <a:lnTo>
                  <a:pt x="4" y="243"/>
                </a:lnTo>
                <a:lnTo>
                  <a:pt x="8" y="241"/>
                </a:lnTo>
                <a:lnTo>
                  <a:pt x="12" y="241"/>
                </a:lnTo>
                <a:lnTo>
                  <a:pt x="19" y="239"/>
                </a:lnTo>
                <a:lnTo>
                  <a:pt x="27" y="238"/>
                </a:lnTo>
                <a:lnTo>
                  <a:pt x="39" y="238"/>
                </a:lnTo>
                <a:lnTo>
                  <a:pt x="50" y="238"/>
                </a:lnTo>
                <a:lnTo>
                  <a:pt x="58" y="238"/>
                </a:lnTo>
                <a:lnTo>
                  <a:pt x="65" y="238"/>
                </a:lnTo>
                <a:lnTo>
                  <a:pt x="73" y="236"/>
                </a:lnTo>
                <a:lnTo>
                  <a:pt x="85" y="236"/>
                </a:lnTo>
                <a:lnTo>
                  <a:pt x="96" y="234"/>
                </a:lnTo>
                <a:lnTo>
                  <a:pt x="108" y="232"/>
                </a:lnTo>
                <a:lnTo>
                  <a:pt x="123" y="230"/>
                </a:lnTo>
                <a:lnTo>
                  <a:pt x="138" y="228"/>
                </a:lnTo>
                <a:lnTo>
                  <a:pt x="154" y="226"/>
                </a:lnTo>
                <a:lnTo>
                  <a:pt x="171" y="222"/>
                </a:lnTo>
                <a:lnTo>
                  <a:pt x="190" y="218"/>
                </a:lnTo>
                <a:lnTo>
                  <a:pt x="209" y="217"/>
                </a:lnTo>
                <a:lnTo>
                  <a:pt x="231" y="213"/>
                </a:lnTo>
                <a:lnTo>
                  <a:pt x="252" y="209"/>
                </a:lnTo>
                <a:lnTo>
                  <a:pt x="275" y="203"/>
                </a:lnTo>
                <a:lnTo>
                  <a:pt x="300" y="199"/>
                </a:lnTo>
                <a:lnTo>
                  <a:pt x="325" y="195"/>
                </a:lnTo>
                <a:lnTo>
                  <a:pt x="351" y="190"/>
                </a:lnTo>
                <a:lnTo>
                  <a:pt x="378" y="184"/>
                </a:lnTo>
                <a:lnTo>
                  <a:pt x="407" y="178"/>
                </a:lnTo>
                <a:lnTo>
                  <a:pt x="438" y="172"/>
                </a:lnTo>
                <a:lnTo>
                  <a:pt x="469" y="165"/>
                </a:lnTo>
                <a:lnTo>
                  <a:pt x="499" y="159"/>
                </a:lnTo>
                <a:lnTo>
                  <a:pt x="532" y="151"/>
                </a:lnTo>
                <a:lnTo>
                  <a:pt x="566" y="144"/>
                </a:lnTo>
                <a:lnTo>
                  <a:pt x="601" y="136"/>
                </a:lnTo>
                <a:lnTo>
                  <a:pt x="638" y="128"/>
                </a:lnTo>
                <a:lnTo>
                  <a:pt x="674" y="121"/>
                </a:lnTo>
                <a:lnTo>
                  <a:pt x="712" y="111"/>
                </a:lnTo>
                <a:lnTo>
                  <a:pt x="751" y="102"/>
                </a:lnTo>
                <a:lnTo>
                  <a:pt x="791" y="92"/>
                </a:lnTo>
                <a:lnTo>
                  <a:pt x="831" y="82"/>
                </a:lnTo>
                <a:lnTo>
                  <a:pt x="872" y="73"/>
                </a:lnTo>
                <a:lnTo>
                  <a:pt x="910" y="63"/>
                </a:lnTo>
                <a:lnTo>
                  <a:pt x="947" y="54"/>
                </a:lnTo>
                <a:lnTo>
                  <a:pt x="983" y="46"/>
                </a:lnTo>
                <a:lnTo>
                  <a:pt x="1016" y="38"/>
                </a:lnTo>
                <a:lnTo>
                  <a:pt x="1046" y="33"/>
                </a:lnTo>
                <a:lnTo>
                  <a:pt x="1077" y="25"/>
                </a:lnTo>
                <a:lnTo>
                  <a:pt x="1104" y="21"/>
                </a:lnTo>
                <a:lnTo>
                  <a:pt x="1131" y="15"/>
                </a:lnTo>
                <a:lnTo>
                  <a:pt x="1156" y="11"/>
                </a:lnTo>
                <a:lnTo>
                  <a:pt x="1177" y="8"/>
                </a:lnTo>
                <a:lnTo>
                  <a:pt x="1198" y="6"/>
                </a:lnTo>
                <a:lnTo>
                  <a:pt x="1217" y="4"/>
                </a:lnTo>
                <a:lnTo>
                  <a:pt x="1233" y="2"/>
                </a:lnTo>
                <a:lnTo>
                  <a:pt x="1248" y="0"/>
                </a:lnTo>
                <a:lnTo>
                  <a:pt x="1261" y="0"/>
                </a:lnTo>
                <a:lnTo>
                  <a:pt x="1286" y="0"/>
                </a:lnTo>
                <a:lnTo>
                  <a:pt x="1309" y="2"/>
                </a:lnTo>
                <a:lnTo>
                  <a:pt x="1331" y="6"/>
                </a:lnTo>
                <a:lnTo>
                  <a:pt x="1350" y="10"/>
                </a:lnTo>
                <a:lnTo>
                  <a:pt x="1367" y="15"/>
                </a:lnTo>
                <a:lnTo>
                  <a:pt x="1384" y="21"/>
                </a:lnTo>
                <a:lnTo>
                  <a:pt x="1400" y="29"/>
                </a:lnTo>
                <a:lnTo>
                  <a:pt x="1413" y="38"/>
                </a:lnTo>
                <a:lnTo>
                  <a:pt x="1419" y="42"/>
                </a:lnTo>
                <a:lnTo>
                  <a:pt x="1425" y="48"/>
                </a:lnTo>
                <a:lnTo>
                  <a:pt x="1428" y="52"/>
                </a:lnTo>
                <a:lnTo>
                  <a:pt x="1434" y="57"/>
                </a:lnTo>
                <a:lnTo>
                  <a:pt x="1438" y="61"/>
                </a:lnTo>
                <a:lnTo>
                  <a:pt x="1442" y="65"/>
                </a:lnTo>
                <a:lnTo>
                  <a:pt x="1446" y="75"/>
                </a:lnTo>
                <a:lnTo>
                  <a:pt x="1450" y="82"/>
                </a:lnTo>
                <a:lnTo>
                  <a:pt x="1451" y="92"/>
                </a:lnTo>
                <a:lnTo>
                  <a:pt x="1451" y="100"/>
                </a:lnTo>
                <a:lnTo>
                  <a:pt x="1450" y="107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6103800" y="3057480"/>
            <a:ext cx="614520" cy="771480"/>
          </a:xfrm>
          <a:custGeom>
            <a:avLst/>
            <a:gdLst>
              <a:gd name="textAreaLeft" fmla="*/ 0 w 614520"/>
              <a:gd name="textAreaRight" fmla="*/ 614880 w 61452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774" h="974">
                <a:moveTo>
                  <a:pt x="394" y="713"/>
                </a:moveTo>
                <a:lnTo>
                  <a:pt x="361" y="744"/>
                </a:lnTo>
                <a:lnTo>
                  <a:pt x="329" y="772"/>
                </a:lnTo>
                <a:lnTo>
                  <a:pt x="296" y="799"/>
                </a:lnTo>
                <a:lnTo>
                  <a:pt x="265" y="826"/>
                </a:lnTo>
                <a:lnTo>
                  <a:pt x="235" y="851"/>
                </a:lnTo>
                <a:lnTo>
                  <a:pt x="204" y="876"/>
                </a:lnTo>
                <a:lnTo>
                  <a:pt x="173" y="897"/>
                </a:lnTo>
                <a:lnTo>
                  <a:pt x="142" y="918"/>
                </a:lnTo>
                <a:lnTo>
                  <a:pt x="129" y="928"/>
                </a:lnTo>
                <a:lnTo>
                  <a:pt x="114" y="937"/>
                </a:lnTo>
                <a:lnTo>
                  <a:pt x="102" y="945"/>
                </a:lnTo>
                <a:lnTo>
                  <a:pt x="89" y="951"/>
                </a:lnTo>
                <a:lnTo>
                  <a:pt x="77" y="956"/>
                </a:lnTo>
                <a:lnTo>
                  <a:pt x="68" y="962"/>
                </a:lnTo>
                <a:lnTo>
                  <a:pt x="56" y="966"/>
                </a:lnTo>
                <a:lnTo>
                  <a:pt x="48" y="970"/>
                </a:lnTo>
                <a:lnTo>
                  <a:pt x="39" y="972"/>
                </a:lnTo>
                <a:lnTo>
                  <a:pt x="31" y="974"/>
                </a:lnTo>
                <a:lnTo>
                  <a:pt x="23" y="974"/>
                </a:lnTo>
                <a:lnTo>
                  <a:pt x="18" y="974"/>
                </a:lnTo>
                <a:lnTo>
                  <a:pt x="12" y="972"/>
                </a:lnTo>
                <a:lnTo>
                  <a:pt x="8" y="970"/>
                </a:lnTo>
                <a:lnTo>
                  <a:pt x="4" y="966"/>
                </a:lnTo>
                <a:lnTo>
                  <a:pt x="0" y="962"/>
                </a:lnTo>
                <a:lnTo>
                  <a:pt x="23" y="941"/>
                </a:lnTo>
                <a:lnTo>
                  <a:pt x="46" y="918"/>
                </a:lnTo>
                <a:lnTo>
                  <a:pt x="69" y="897"/>
                </a:lnTo>
                <a:lnTo>
                  <a:pt x="93" y="874"/>
                </a:lnTo>
                <a:lnTo>
                  <a:pt x="116" y="849"/>
                </a:lnTo>
                <a:lnTo>
                  <a:pt x="139" y="826"/>
                </a:lnTo>
                <a:lnTo>
                  <a:pt x="160" y="801"/>
                </a:lnTo>
                <a:lnTo>
                  <a:pt x="183" y="776"/>
                </a:lnTo>
                <a:lnTo>
                  <a:pt x="204" y="749"/>
                </a:lnTo>
                <a:lnTo>
                  <a:pt x="227" y="723"/>
                </a:lnTo>
                <a:lnTo>
                  <a:pt x="248" y="696"/>
                </a:lnTo>
                <a:lnTo>
                  <a:pt x="269" y="669"/>
                </a:lnTo>
                <a:lnTo>
                  <a:pt x="290" y="640"/>
                </a:lnTo>
                <a:lnTo>
                  <a:pt x="311" y="611"/>
                </a:lnTo>
                <a:lnTo>
                  <a:pt x="332" y="583"/>
                </a:lnTo>
                <a:lnTo>
                  <a:pt x="354" y="554"/>
                </a:lnTo>
                <a:lnTo>
                  <a:pt x="375" y="523"/>
                </a:lnTo>
                <a:lnTo>
                  <a:pt x="394" y="493"/>
                </a:lnTo>
                <a:lnTo>
                  <a:pt x="415" y="460"/>
                </a:lnTo>
                <a:lnTo>
                  <a:pt x="434" y="428"/>
                </a:lnTo>
                <a:lnTo>
                  <a:pt x="455" y="395"/>
                </a:lnTo>
                <a:lnTo>
                  <a:pt x="475" y="362"/>
                </a:lnTo>
                <a:lnTo>
                  <a:pt x="494" y="328"/>
                </a:lnTo>
                <a:lnTo>
                  <a:pt x="513" y="295"/>
                </a:lnTo>
                <a:lnTo>
                  <a:pt x="532" y="259"/>
                </a:lnTo>
                <a:lnTo>
                  <a:pt x="551" y="224"/>
                </a:lnTo>
                <a:lnTo>
                  <a:pt x="571" y="188"/>
                </a:lnTo>
                <a:lnTo>
                  <a:pt x="590" y="152"/>
                </a:lnTo>
                <a:lnTo>
                  <a:pt x="609" y="115"/>
                </a:lnTo>
                <a:lnTo>
                  <a:pt x="626" y="77"/>
                </a:lnTo>
                <a:lnTo>
                  <a:pt x="645" y="39"/>
                </a:lnTo>
                <a:lnTo>
                  <a:pt x="663" y="0"/>
                </a:lnTo>
                <a:lnTo>
                  <a:pt x="774" y="113"/>
                </a:lnTo>
                <a:lnTo>
                  <a:pt x="759" y="142"/>
                </a:lnTo>
                <a:lnTo>
                  <a:pt x="743" y="171"/>
                </a:lnTo>
                <a:lnTo>
                  <a:pt x="728" y="200"/>
                </a:lnTo>
                <a:lnTo>
                  <a:pt x="714" y="226"/>
                </a:lnTo>
                <a:lnTo>
                  <a:pt x="699" y="253"/>
                </a:lnTo>
                <a:lnTo>
                  <a:pt x="686" y="278"/>
                </a:lnTo>
                <a:lnTo>
                  <a:pt x="670" y="305"/>
                </a:lnTo>
                <a:lnTo>
                  <a:pt x="657" y="328"/>
                </a:lnTo>
                <a:lnTo>
                  <a:pt x="643" y="353"/>
                </a:lnTo>
                <a:lnTo>
                  <a:pt x="630" y="376"/>
                </a:lnTo>
                <a:lnTo>
                  <a:pt x="617" y="399"/>
                </a:lnTo>
                <a:lnTo>
                  <a:pt x="603" y="420"/>
                </a:lnTo>
                <a:lnTo>
                  <a:pt x="592" y="441"/>
                </a:lnTo>
                <a:lnTo>
                  <a:pt x="578" y="462"/>
                </a:lnTo>
                <a:lnTo>
                  <a:pt x="567" y="481"/>
                </a:lnTo>
                <a:lnTo>
                  <a:pt x="555" y="500"/>
                </a:lnTo>
                <a:lnTo>
                  <a:pt x="542" y="518"/>
                </a:lnTo>
                <a:lnTo>
                  <a:pt x="530" y="537"/>
                </a:lnTo>
                <a:lnTo>
                  <a:pt x="521" y="554"/>
                </a:lnTo>
                <a:lnTo>
                  <a:pt x="509" y="569"/>
                </a:lnTo>
                <a:lnTo>
                  <a:pt x="498" y="585"/>
                </a:lnTo>
                <a:lnTo>
                  <a:pt x="488" y="600"/>
                </a:lnTo>
                <a:lnTo>
                  <a:pt x="476" y="615"/>
                </a:lnTo>
                <a:lnTo>
                  <a:pt x="467" y="629"/>
                </a:lnTo>
                <a:lnTo>
                  <a:pt x="457" y="642"/>
                </a:lnTo>
                <a:lnTo>
                  <a:pt x="448" y="654"/>
                </a:lnTo>
                <a:lnTo>
                  <a:pt x="438" y="665"/>
                </a:lnTo>
                <a:lnTo>
                  <a:pt x="428" y="677"/>
                </a:lnTo>
                <a:lnTo>
                  <a:pt x="419" y="686"/>
                </a:lnTo>
                <a:lnTo>
                  <a:pt x="411" y="696"/>
                </a:lnTo>
                <a:lnTo>
                  <a:pt x="402" y="705"/>
                </a:lnTo>
                <a:lnTo>
                  <a:pt x="394" y="7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6708600" y="3076560"/>
            <a:ext cx="1001880" cy="7444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1262" h="937">
                <a:moveTo>
                  <a:pt x="0" y="88"/>
                </a:moveTo>
                <a:lnTo>
                  <a:pt x="50" y="0"/>
                </a:lnTo>
                <a:lnTo>
                  <a:pt x="81" y="37"/>
                </a:lnTo>
                <a:lnTo>
                  <a:pt x="112" y="69"/>
                </a:lnTo>
                <a:lnTo>
                  <a:pt x="143" y="104"/>
                </a:lnTo>
                <a:lnTo>
                  <a:pt x="173" y="136"/>
                </a:lnTo>
                <a:lnTo>
                  <a:pt x="204" y="167"/>
                </a:lnTo>
                <a:lnTo>
                  <a:pt x="233" y="198"/>
                </a:lnTo>
                <a:lnTo>
                  <a:pt x="263" y="228"/>
                </a:lnTo>
                <a:lnTo>
                  <a:pt x="292" y="257"/>
                </a:lnTo>
                <a:lnTo>
                  <a:pt x="321" y="284"/>
                </a:lnTo>
                <a:lnTo>
                  <a:pt x="350" y="311"/>
                </a:lnTo>
                <a:lnTo>
                  <a:pt x="379" y="335"/>
                </a:lnTo>
                <a:lnTo>
                  <a:pt x="407" y="360"/>
                </a:lnTo>
                <a:lnTo>
                  <a:pt x="436" y="385"/>
                </a:lnTo>
                <a:lnTo>
                  <a:pt x="463" y="408"/>
                </a:lnTo>
                <a:lnTo>
                  <a:pt x="492" y="429"/>
                </a:lnTo>
                <a:lnTo>
                  <a:pt x="519" y="450"/>
                </a:lnTo>
                <a:lnTo>
                  <a:pt x="574" y="491"/>
                </a:lnTo>
                <a:lnTo>
                  <a:pt x="632" y="529"/>
                </a:lnTo>
                <a:lnTo>
                  <a:pt x="690" y="565"/>
                </a:lnTo>
                <a:lnTo>
                  <a:pt x="751" y="600"/>
                </a:lnTo>
                <a:lnTo>
                  <a:pt x="813" y="632"/>
                </a:lnTo>
                <a:lnTo>
                  <a:pt x="876" y="665"/>
                </a:lnTo>
                <a:lnTo>
                  <a:pt x="941" y="696"/>
                </a:lnTo>
                <a:lnTo>
                  <a:pt x="1006" y="724"/>
                </a:lnTo>
                <a:lnTo>
                  <a:pt x="1024" y="732"/>
                </a:lnTo>
                <a:lnTo>
                  <a:pt x="1039" y="738"/>
                </a:lnTo>
                <a:lnTo>
                  <a:pt x="1054" y="745"/>
                </a:lnTo>
                <a:lnTo>
                  <a:pt x="1070" y="751"/>
                </a:lnTo>
                <a:lnTo>
                  <a:pt x="1083" y="757"/>
                </a:lnTo>
                <a:lnTo>
                  <a:pt x="1097" y="763"/>
                </a:lnTo>
                <a:lnTo>
                  <a:pt x="1110" y="770"/>
                </a:lnTo>
                <a:lnTo>
                  <a:pt x="1123" y="776"/>
                </a:lnTo>
                <a:lnTo>
                  <a:pt x="1135" y="782"/>
                </a:lnTo>
                <a:lnTo>
                  <a:pt x="1147" y="786"/>
                </a:lnTo>
                <a:lnTo>
                  <a:pt x="1158" y="791"/>
                </a:lnTo>
                <a:lnTo>
                  <a:pt x="1168" y="797"/>
                </a:lnTo>
                <a:lnTo>
                  <a:pt x="1177" y="803"/>
                </a:lnTo>
                <a:lnTo>
                  <a:pt x="1187" y="807"/>
                </a:lnTo>
                <a:lnTo>
                  <a:pt x="1196" y="813"/>
                </a:lnTo>
                <a:lnTo>
                  <a:pt x="1204" y="816"/>
                </a:lnTo>
                <a:lnTo>
                  <a:pt x="1212" y="820"/>
                </a:lnTo>
                <a:lnTo>
                  <a:pt x="1219" y="826"/>
                </a:lnTo>
                <a:lnTo>
                  <a:pt x="1225" y="830"/>
                </a:lnTo>
                <a:lnTo>
                  <a:pt x="1233" y="834"/>
                </a:lnTo>
                <a:lnTo>
                  <a:pt x="1239" y="837"/>
                </a:lnTo>
                <a:lnTo>
                  <a:pt x="1243" y="841"/>
                </a:lnTo>
                <a:lnTo>
                  <a:pt x="1246" y="843"/>
                </a:lnTo>
                <a:lnTo>
                  <a:pt x="1250" y="847"/>
                </a:lnTo>
                <a:lnTo>
                  <a:pt x="1254" y="851"/>
                </a:lnTo>
                <a:lnTo>
                  <a:pt x="1258" y="853"/>
                </a:lnTo>
                <a:lnTo>
                  <a:pt x="1260" y="857"/>
                </a:lnTo>
                <a:lnTo>
                  <a:pt x="1262" y="859"/>
                </a:lnTo>
                <a:lnTo>
                  <a:pt x="1262" y="862"/>
                </a:lnTo>
                <a:lnTo>
                  <a:pt x="1262" y="864"/>
                </a:lnTo>
                <a:lnTo>
                  <a:pt x="1262" y="866"/>
                </a:lnTo>
                <a:lnTo>
                  <a:pt x="1262" y="868"/>
                </a:lnTo>
                <a:lnTo>
                  <a:pt x="1260" y="872"/>
                </a:lnTo>
                <a:lnTo>
                  <a:pt x="1256" y="876"/>
                </a:lnTo>
                <a:lnTo>
                  <a:pt x="1250" y="880"/>
                </a:lnTo>
                <a:lnTo>
                  <a:pt x="1243" y="883"/>
                </a:lnTo>
                <a:lnTo>
                  <a:pt x="1235" y="887"/>
                </a:lnTo>
                <a:lnTo>
                  <a:pt x="1223" y="891"/>
                </a:lnTo>
                <a:lnTo>
                  <a:pt x="1212" y="895"/>
                </a:lnTo>
                <a:lnTo>
                  <a:pt x="1198" y="899"/>
                </a:lnTo>
                <a:lnTo>
                  <a:pt x="1183" y="901"/>
                </a:lnTo>
                <a:lnTo>
                  <a:pt x="1166" y="905"/>
                </a:lnTo>
                <a:lnTo>
                  <a:pt x="1148" y="908"/>
                </a:lnTo>
                <a:lnTo>
                  <a:pt x="1127" y="912"/>
                </a:lnTo>
                <a:lnTo>
                  <a:pt x="1106" y="914"/>
                </a:lnTo>
                <a:lnTo>
                  <a:pt x="1083" y="918"/>
                </a:lnTo>
                <a:lnTo>
                  <a:pt x="1058" y="920"/>
                </a:lnTo>
                <a:lnTo>
                  <a:pt x="1031" y="924"/>
                </a:lnTo>
                <a:lnTo>
                  <a:pt x="1004" y="928"/>
                </a:lnTo>
                <a:lnTo>
                  <a:pt x="980" y="929"/>
                </a:lnTo>
                <a:lnTo>
                  <a:pt x="955" y="931"/>
                </a:lnTo>
                <a:lnTo>
                  <a:pt x="930" y="933"/>
                </a:lnTo>
                <a:lnTo>
                  <a:pt x="907" y="935"/>
                </a:lnTo>
                <a:lnTo>
                  <a:pt x="885" y="935"/>
                </a:lnTo>
                <a:lnTo>
                  <a:pt x="864" y="937"/>
                </a:lnTo>
                <a:lnTo>
                  <a:pt x="843" y="937"/>
                </a:lnTo>
                <a:lnTo>
                  <a:pt x="824" y="937"/>
                </a:lnTo>
                <a:lnTo>
                  <a:pt x="807" y="935"/>
                </a:lnTo>
                <a:lnTo>
                  <a:pt x="789" y="935"/>
                </a:lnTo>
                <a:lnTo>
                  <a:pt x="774" y="933"/>
                </a:lnTo>
                <a:lnTo>
                  <a:pt x="759" y="931"/>
                </a:lnTo>
                <a:lnTo>
                  <a:pt x="743" y="929"/>
                </a:lnTo>
                <a:lnTo>
                  <a:pt x="730" y="928"/>
                </a:lnTo>
                <a:lnTo>
                  <a:pt x="718" y="924"/>
                </a:lnTo>
                <a:lnTo>
                  <a:pt x="713" y="922"/>
                </a:lnTo>
                <a:lnTo>
                  <a:pt x="705" y="918"/>
                </a:lnTo>
                <a:lnTo>
                  <a:pt x="697" y="912"/>
                </a:lnTo>
                <a:lnTo>
                  <a:pt x="688" y="906"/>
                </a:lnTo>
                <a:lnTo>
                  <a:pt x="676" y="897"/>
                </a:lnTo>
                <a:lnTo>
                  <a:pt x="665" y="887"/>
                </a:lnTo>
                <a:lnTo>
                  <a:pt x="653" y="876"/>
                </a:lnTo>
                <a:lnTo>
                  <a:pt x="640" y="862"/>
                </a:lnTo>
                <a:lnTo>
                  <a:pt x="624" y="849"/>
                </a:lnTo>
                <a:lnTo>
                  <a:pt x="609" y="832"/>
                </a:lnTo>
                <a:lnTo>
                  <a:pt x="592" y="814"/>
                </a:lnTo>
                <a:lnTo>
                  <a:pt x="574" y="795"/>
                </a:lnTo>
                <a:lnTo>
                  <a:pt x="555" y="774"/>
                </a:lnTo>
                <a:lnTo>
                  <a:pt x="536" y="751"/>
                </a:lnTo>
                <a:lnTo>
                  <a:pt x="515" y="728"/>
                </a:lnTo>
                <a:lnTo>
                  <a:pt x="492" y="703"/>
                </a:lnTo>
                <a:lnTo>
                  <a:pt x="469" y="677"/>
                </a:lnTo>
                <a:lnTo>
                  <a:pt x="446" y="648"/>
                </a:lnTo>
                <a:lnTo>
                  <a:pt x="421" y="617"/>
                </a:lnTo>
                <a:lnTo>
                  <a:pt x="394" y="586"/>
                </a:lnTo>
                <a:lnTo>
                  <a:pt x="367" y="554"/>
                </a:lnTo>
                <a:lnTo>
                  <a:pt x="338" y="517"/>
                </a:lnTo>
                <a:lnTo>
                  <a:pt x="310" y="483"/>
                </a:lnTo>
                <a:lnTo>
                  <a:pt x="281" y="445"/>
                </a:lnTo>
                <a:lnTo>
                  <a:pt x="248" y="406"/>
                </a:lnTo>
                <a:lnTo>
                  <a:pt x="215" y="364"/>
                </a:lnTo>
                <a:lnTo>
                  <a:pt x="183" y="322"/>
                </a:lnTo>
                <a:lnTo>
                  <a:pt x="148" y="278"/>
                </a:lnTo>
                <a:lnTo>
                  <a:pt x="114" y="234"/>
                </a:lnTo>
                <a:lnTo>
                  <a:pt x="77" y="186"/>
                </a:lnTo>
                <a:lnTo>
                  <a:pt x="39" y="138"/>
                </a:lnTo>
                <a:lnTo>
                  <a:pt x="0" y="8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6618240" y="1995480"/>
            <a:ext cx="219240" cy="2330280"/>
          </a:xfrm>
          <a:custGeom>
            <a:avLst/>
            <a:gdLst>
              <a:gd name="textAreaLeft" fmla="*/ 0 w 219240"/>
              <a:gd name="textAreaRight" fmla="*/ 219600 w 219240"/>
              <a:gd name="textAreaTop" fmla="*/ 0 h 2330280"/>
              <a:gd name="textAreaBottom" fmla="*/ 2330640 h 2330280"/>
            </a:gdLst>
            <a:ahLst/>
            <a:rect l="textAreaLeft" t="textAreaTop" r="textAreaRight" b="textAreaBottom"/>
            <a:pathLst>
              <a:path w="277" h="2935">
                <a:moveTo>
                  <a:pt x="41" y="2816"/>
                </a:moveTo>
                <a:lnTo>
                  <a:pt x="37" y="2801"/>
                </a:lnTo>
                <a:lnTo>
                  <a:pt x="35" y="2788"/>
                </a:lnTo>
                <a:lnTo>
                  <a:pt x="31" y="2774"/>
                </a:lnTo>
                <a:lnTo>
                  <a:pt x="29" y="2763"/>
                </a:lnTo>
                <a:lnTo>
                  <a:pt x="27" y="2749"/>
                </a:lnTo>
                <a:lnTo>
                  <a:pt x="23" y="2738"/>
                </a:lnTo>
                <a:lnTo>
                  <a:pt x="21" y="2728"/>
                </a:lnTo>
                <a:lnTo>
                  <a:pt x="19" y="2717"/>
                </a:lnTo>
                <a:lnTo>
                  <a:pt x="18" y="2707"/>
                </a:lnTo>
                <a:lnTo>
                  <a:pt x="16" y="2698"/>
                </a:lnTo>
                <a:lnTo>
                  <a:pt x="14" y="2690"/>
                </a:lnTo>
                <a:lnTo>
                  <a:pt x="14" y="2680"/>
                </a:lnTo>
                <a:lnTo>
                  <a:pt x="12" y="2673"/>
                </a:lnTo>
                <a:lnTo>
                  <a:pt x="10" y="2667"/>
                </a:lnTo>
                <a:lnTo>
                  <a:pt x="10" y="2659"/>
                </a:lnTo>
                <a:lnTo>
                  <a:pt x="8" y="2654"/>
                </a:lnTo>
                <a:lnTo>
                  <a:pt x="8" y="2650"/>
                </a:lnTo>
                <a:lnTo>
                  <a:pt x="8" y="2646"/>
                </a:lnTo>
                <a:lnTo>
                  <a:pt x="8" y="2642"/>
                </a:lnTo>
                <a:lnTo>
                  <a:pt x="8" y="2636"/>
                </a:lnTo>
                <a:lnTo>
                  <a:pt x="8" y="2631"/>
                </a:lnTo>
                <a:lnTo>
                  <a:pt x="8" y="2625"/>
                </a:lnTo>
                <a:lnTo>
                  <a:pt x="8" y="2617"/>
                </a:lnTo>
                <a:lnTo>
                  <a:pt x="8" y="2609"/>
                </a:lnTo>
                <a:lnTo>
                  <a:pt x="8" y="2602"/>
                </a:lnTo>
                <a:lnTo>
                  <a:pt x="8" y="2592"/>
                </a:lnTo>
                <a:lnTo>
                  <a:pt x="8" y="2583"/>
                </a:lnTo>
                <a:lnTo>
                  <a:pt x="10" y="2571"/>
                </a:lnTo>
                <a:lnTo>
                  <a:pt x="10" y="2560"/>
                </a:lnTo>
                <a:lnTo>
                  <a:pt x="10" y="2548"/>
                </a:lnTo>
                <a:lnTo>
                  <a:pt x="12" y="2535"/>
                </a:lnTo>
                <a:lnTo>
                  <a:pt x="12" y="2521"/>
                </a:lnTo>
                <a:lnTo>
                  <a:pt x="12" y="2508"/>
                </a:lnTo>
                <a:lnTo>
                  <a:pt x="14" y="2493"/>
                </a:lnTo>
                <a:lnTo>
                  <a:pt x="14" y="2477"/>
                </a:lnTo>
                <a:lnTo>
                  <a:pt x="16" y="2460"/>
                </a:lnTo>
                <a:lnTo>
                  <a:pt x="18" y="2443"/>
                </a:lnTo>
                <a:lnTo>
                  <a:pt x="18" y="2426"/>
                </a:lnTo>
                <a:lnTo>
                  <a:pt x="19" y="2408"/>
                </a:lnTo>
                <a:lnTo>
                  <a:pt x="19" y="2389"/>
                </a:lnTo>
                <a:lnTo>
                  <a:pt x="21" y="2368"/>
                </a:lnTo>
                <a:lnTo>
                  <a:pt x="23" y="2349"/>
                </a:lnTo>
                <a:lnTo>
                  <a:pt x="25" y="2328"/>
                </a:lnTo>
                <a:lnTo>
                  <a:pt x="27" y="2305"/>
                </a:lnTo>
                <a:lnTo>
                  <a:pt x="27" y="2282"/>
                </a:lnTo>
                <a:lnTo>
                  <a:pt x="29" y="2259"/>
                </a:lnTo>
                <a:lnTo>
                  <a:pt x="31" y="2236"/>
                </a:lnTo>
                <a:lnTo>
                  <a:pt x="33" y="2211"/>
                </a:lnTo>
                <a:lnTo>
                  <a:pt x="35" y="2186"/>
                </a:lnTo>
                <a:lnTo>
                  <a:pt x="37" y="2159"/>
                </a:lnTo>
                <a:lnTo>
                  <a:pt x="39" y="2132"/>
                </a:lnTo>
                <a:lnTo>
                  <a:pt x="41" y="2104"/>
                </a:lnTo>
                <a:lnTo>
                  <a:pt x="43" y="2075"/>
                </a:lnTo>
                <a:lnTo>
                  <a:pt x="44" y="2046"/>
                </a:lnTo>
                <a:lnTo>
                  <a:pt x="46" y="2016"/>
                </a:lnTo>
                <a:lnTo>
                  <a:pt x="46" y="1983"/>
                </a:lnTo>
                <a:lnTo>
                  <a:pt x="48" y="1950"/>
                </a:lnTo>
                <a:lnTo>
                  <a:pt x="50" y="1918"/>
                </a:lnTo>
                <a:lnTo>
                  <a:pt x="52" y="1883"/>
                </a:lnTo>
                <a:lnTo>
                  <a:pt x="52" y="1849"/>
                </a:lnTo>
                <a:lnTo>
                  <a:pt x="54" y="1812"/>
                </a:lnTo>
                <a:lnTo>
                  <a:pt x="56" y="1776"/>
                </a:lnTo>
                <a:lnTo>
                  <a:pt x="56" y="1740"/>
                </a:lnTo>
                <a:lnTo>
                  <a:pt x="58" y="1701"/>
                </a:lnTo>
                <a:lnTo>
                  <a:pt x="58" y="1661"/>
                </a:lnTo>
                <a:lnTo>
                  <a:pt x="60" y="1621"/>
                </a:lnTo>
                <a:lnTo>
                  <a:pt x="60" y="1581"/>
                </a:lnTo>
                <a:lnTo>
                  <a:pt x="62" y="1538"/>
                </a:lnTo>
                <a:lnTo>
                  <a:pt x="62" y="1496"/>
                </a:lnTo>
                <a:lnTo>
                  <a:pt x="62" y="1452"/>
                </a:lnTo>
                <a:lnTo>
                  <a:pt x="64" y="1408"/>
                </a:lnTo>
                <a:lnTo>
                  <a:pt x="64" y="1362"/>
                </a:lnTo>
                <a:lnTo>
                  <a:pt x="64" y="1316"/>
                </a:lnTo>
                <a:lnTo>
                  <a:pt x="64" y="1270"/>
                </a:lnTo>
                <a:lnTo>
                  <a:pt x="66" y="1222"/>
                </a:lnTo>
                <a:lnTo>
                  <a:pt x="66" y="1172"/>
                </a:lnTo>
                <a:lnTo>
                  <a:pt x="66" y="1123"/>
                </a:lnTo>
                <a:lnTo>
                  <a:pt x="66" y="1073"/>
                </a:lnTo>
                <a:lnTo>
                  <a:pt x="66" y="1021"/>
                </a:lnTo>
                <a:lnTo>
                  <a:pt x="66" y="969"/>
                </a:lnTo>
                <a:lnTo>
                  <a:pt x="66" y="918"/>
                </a:lnTo>
                <a:lnTo>
                  <a:pt x="66" y="868"/>
                </a:lnTo>
                <a:lnTo>
                  <a:pt x="66" y="818"/>
                </a:lnTo>
                <a:lnTo>
                  <a:pt x="66" y="772"/>
                </a:lnTo>
                <a:lnTo>
                  <a:pt x="66" y="726"/>
                </a:lnTo>
                <a:lnTo>
                  <a:pt x="64" y="682"/>
                </a:lnTo>
                <a:lnTo>
                  <a:pt x="64" y="640"/>
                </a:lnTo>
                <a:lnTo>
                  <a:pt x="64" y="600"/>
                </a:lnTo>
                <a:lnTo>
                  <a:pt x="62" y="559"/>
                </a:lnTo>
                <a:lnTo>
                  <a:pt x="62" y="521"/>
                </a:lnTo>
                <a:lnTo>
                  <a:pt x="62" y="485"/>
                </a:lnTo>
                <a:lnTo>
                  <a:pt x="60" y="450"/>
                </a:lnTo>
                <a:lnTo>
                  <a:pt x="60" y="418"/>
                </a:lnTo>
                <a:lnTo>
                  <a:pt x="58" y="387"/>
                </a:lnTo>
                <a:lnTo>
                  <a:pt x="58" y="356"/>
                </a:lnTo>
                <a:lnTo>
                  <a:pt x="56" y="329"/>
                </a:lnTo>
                <a:lnTo>
                  <a:pt x="54" y="303"/>
                </a:lnTo>
                <a:lnTo>
                  <a:pt x="54" y="276"/>
                </a:lnTo>
                <a:lnTo>
                  <a:pt x="52" y="253"/>
                </a:lnTo>
                <a:lnTo>
                  <a:pt x="50" y="232"/>
                </a:lnTo>
                <a:lnTo>
                  <a:pt x="48" y="211"/>
                </a:lnTo>
                <a:lnTo>
                  <a:pt x="46" y="191"/>
                </a:lnTo>
                <a:lnTo>
                  <a:pt x="46" y="174"/>
                </a:lnTo>
                <a:lnTo>
                  <a:pt x="44" y="159"/>
                </a:lnTo>
                <a:lnTo>
                  <a:pt x="43" y="145"/>
                </a:lnTo>
                <a:lnTo>
                  <a:pt x="41" y="132"/>
                </a:lnTo>
                <a:lnTo>
                  <a:pt x="39" y="121"/>
                </a:lnTo>
                <a:lnTo>
                  <a:pt x="37" y="111"/>
                </a:lnTo>
                <a:lnTo>
                  <a:pt x="35" y="103"/>
                </a:lnTo>
                <a:lnTo>
                  <a:pt x="31" y="98"/>
                </a:lnTo>
                <a:lnTo>
                  <a:pt x="29" y="94"/>
                </a:lnTo>
                <a:lnTo>
                  <a:pt x="27" y="90"/>
                </a:lnTo>
                <a:lnTo>
                  <a:pt x="19" y="80"/>
                </a:lnTo>
                <a:lnTo>
                  <a:pt x="12" y="71"/>
                </a:lnTo>
                <a:lnTo>
                  <a:pt x="6" y="63"/>
                </a:lnTo>
                <a:lnTo>
                  <a:pt x="2" y="54"/>
                </a:lnTo>
                <a:lnTo>
                  <a:pt x="0" y="46"/>
                </a:lnTo>
                <a:lnTo>
                  <a:pt x="0" y="36"/>
                </a:lnTo>
                <a:lnTo>
                  <a:pt x="0" y="29"/>
                </a:lnTo>
                <a:lnTo>
                  <a:pt x="2" y="21"/>
                </a:lnTo>
                <a:lnTo>
                  <a:pt x="6" y="15"/>
                </a:lnTo>
                <a:lnTo>
                  <a:pt x="12" y="9"/>
                </a:lnTo>
                <a:lnTo>
                  <a:pt x="19" y="4"/>
                </a:lnTo>
                <a:lnTo>
                  <a:pt x="29" y="2"/>
                </a:lnTo>
                <a:lnTo>
                  <a:pt x="39" y="0"/>
                </a:lnTo>
                <a:lnTo>
                  <a:pt x="50" y="0"/>
                </a:lnTo>
                <a:lnTo>
                  <a:pt x="64" y="2"/>
                </a:lnTo>
                <a:lnTo>
                  <a:pt x="77" y="4"/>
                </a:lnTo>
                <a:lnTo>
                  <a:pt x="92" y="8"/>
                </a:lnTo>
                <a:lnTo>
                  <a:pt x="110" y="11"/>
                </a:lnTo>
                <a:lnTo>
                  <a:pt x="125" y="17"/>
                </a:lnTo>
                <a:lnTo>
                  <a:pt x="142" y="25"/>
                </a:lnTo>
                <a:lnTo>
                  <a:pt x="158" y="32"/>
                </a:lnTo>
                <a:lnTo>
                  <a:pt x="175" y="42"/>
                </a:lnTo>
                <a:lnTo>
                  <a:pt x="192" y="54"/>
                </a:lnTo>
                <a:lnTo>
                  <a:pt x="210" y="65"/>
                </a:lnTo>
                <a:lnTo>
                  <a:pt x="217" y="71"/>
                </a:lnTo>
                <a:lnTo>
                  <a:pt x="225" y="78"/>
                </a:lnTo>
                <a:lnTo>
                  <a:pt x="233" y="84"/>
                </a:lnTo>
                <a:lnTo>
                  <a:pt x="240" y="90"/>
                </a:lnTo>
                <a:lnTo>
                  <a:pt x="246" y="96"/>
                </a:lnTo>
                <a:lnTo>
                  <a:pt x="252" y="101"/>
                </a:lnTo>
                <a:lnTo>
                  <a:pt x="256" y="105"/>
                </a:lnTo>
                <a:lnTo>
                  <a:pt x="261" y="111"/>
                </a:lnTo>
                <a:lnTo>
                  <a:pt x="265" y="117"/>
                </a:lnTo>
                <a:lnTo>
                  <a:pt x="267" y="121"/>
                </a:lnTo>
                <a:lnTo>
                  <a:pt x="271" y="126"/>
                </a:lnTo>
                <a:lnTo>
                  <a:pt x="273" y="130"/>
                </a:lnTo>
                <a:lnTo>
                  <a:pt x="275" y="136"/>
                </a:lnTo>
                <a:lnTo>
                  <a:pt x="277" y="140"/>
                </a:lnTo>
                <a:lnTo>
                  <a:pt x="277" y="144"/>
                </a:lnTo>
                <a:lnTo>
                  <a:pt x="277" y="147"/>
                </a:lnTo>
                <a:lnTo>
                  <a:pt x="277" y="155"/>
                </a:lnTo>
                <a:lnTo>
                  <a:pt x="275" y="163"/>
                </a:lnTo>
                <a:lnTo>
                  <a:pt x="273" y="172"/>
                </a:lnTo>
                <a:lnTo>
                  <a:pt x="271" y="180"/>
                </a:lnTo>
                <a:lnTo>
                  <a:pt x="267" y="190"/>
                </a:lnTo>
                <a:lnTo>
                  <a:pt x="263" y="201"/>
                </a:lnTo>
                <a:lnTo>
                  <a:pt x="258" y="211"/>
                </a:lnTo>
                <a:lnTo>
                  <a:pt x="252" y="222"/>
                </a:lnTo>
                <a:lnTo>
                  <a:pt x="250" y="226"/>
                </a:lnTo>
                <a:lnTo>
                  <a:pt x="250" y="228"/>
                </a:lnTo>
                <a:lnTo>
                  <a:pt x="248" y="234"/>
                </a:lnTo>
                <a:lnTo>
                  <a:pt x="246" y="237"/>
                </a:lnTo>
                <a:lnTo>
                  <a:pt x="244" y="243"/>
                </a:lnTo>
                <a:lnTo>
                  <a:pt x="242" y="249"/>
                </a:lnTo>
                <a:lnTo>
                  <a:pt x="242" y="255"/>
                </a:lnTo>
                <a:lnTo>
                  <a:pt x="240" y="260"/>
                </a:lnTo>
                <a:lnTo>
                  <a:pt x="238" y="268"/>
                </a:lnTo>
                <a:lnTo>
                  <a:pt x="236" y="276"/>
                </a:lnTo>
                <a:lnTo>
                  <a:pt x="234" y="285"/>
                </a:lnTo>
                <a:lnTo>
                  <a:pt x="234" y="295"/>
                </a:lnTo>
                <a:lnTo>
                  <a:pt x="233" y="305"/>
                </a:lnTo>
                <a:lnTo>
                  <a:pt x="231" y="314"/>
                </a:lnTo>
                <a:lnTo>
                  <a:pt x="229" y="324"/>
                </a:lnTo>
                <a:lnTo>
                  <a:pt x="227" y="335"/>
                </a:lnTo>
                <a:lnTo>
                  <a:pt x="227" y="347"/>
                </a:lnTo>
                <a:lnTo>
                  <a:pt x="225" y="360"/>
                </a:lnTo>
                <a:lnTo>
                  <a:pt x="223" y="373"/>
                </a:lnTo>
                <a:lnTo>
                  <a:pt x="221" y="387"/>
                </a:lnTo>
                <a:lnTo>
                  <a:pt x="219" y="400"/>
                </a:lnTo>
                <a:lnTo>
                  <a:pt x="217" y="414"/>
                </a:lnTo>
                <a:lnTo>
                  <a:pt x="217" y="429"/>
                </a:lnTo>
                <a:lnTo>
                  <a:pt x="215" y="444"/>
                </a:lnTo>
                <a:lnTo>
                  <a:pt x="213" y="462"/>
                </a:lnTo>
                <a:lnTo>
                  <a:pt x="211" y="479"/>
                </a:lnTo>
                <a:lnTo>
                  <a:pt x="210" y="496"/>
                </a:lnTo>
                <a:lnTo>
                  <a:pt x="208" y="513"/>
                </a:lnTo>
                <a:lnTo>
                  <a:pt x="208" y="533"/>
                </a:lnTo>
                <a:lnTo>
                  <a:pt x="206" y="550"/>
                </a:lnTo>
                <a:lnTo>
                  <a:pt x="204" y="571"/>
                </a:lnTo>
                <a:lnTo>
                  <a:pt x="202" y="590"/>
                </a:lnTo>
                <a:lnTo>
                  <a:pt x="200" y="611"/>
                </a:lnTo>
                <a:lnTo>
                  <a:pt x="200" y="632"/>
                </a:lnTo>
                <a:lnTo>
                  <a:pt x="198" y="655"/>
                </a:lnTo>
                <a:lnTo>
                  <a:pt x="196" y="680"/>
                </a:lnTo>
                <a:lnTo>
                  <a:pt x="196" y="705"/>
                </a:lnTo>
                <a:lnTo>
                  <a:pt x="194" y="732"/>
                </a:lnTo>
                <a:lnTo>
                  <a:pt x="192" y="761"/>
                </a:lnTo>
                <a:lnTo>
                  <a:pt x="192" y="789"/>
                </a:lnTo>
                <a:lnTo>
                  <a:pt x="190" y="818"/>
                </a:lnTo>
                <a:lnTo>
                  <a:pt x="190" y="851"/>
                </a:lnTo>
                <a:lnTo>
                  <a:pt x="188" y="881"/>
                </a:lnTo>
                <a:lnTo>
                  <a:pt x="188" y="916"/>
                </a:lnTo>
                <a:lnTo>
                  <a:pt x="187" y="950"/>
                </a:lnTo>
                <a:lnTo>
                  <a:pt x="187" y="985"/>
                </a:lnTo>
                <a:lnTo>
                  <a:pt x="187" y="1023"/>
                </a:lnTo>
                <a:lnTo>
                  <a:pt x="185" y="1061"/>
                </a:lnTo>
                <a:lnTo>
                  <a:pt x="185" y="1100"/>
                </a:lnTo>
                <a:lnTo>
                  <a:pt x="185" y="1140"/>
                </a:lnTo>
                <a:lnTo>
                  <a:pt x="185" y="1182"/>
                </a:lnTo>
                <a:lnTo>
                  <a:pt x="183" y="1224"/>
                </a:lnTo>
                <a:lnTo>
                  <a:pt x="183" y="1268"/>
                </a:lnTo>
                <a:lnTo>
                  <a:pt x="183" y="1312"/>
                </a:lnTo>
                <a:lnTo>
                  <a:pt x="183" y="1358"/>
                </a:lnTo>
                <a:lnTo>
                  <a:pt x="183" y="1406"/>
                </a:lnTo>
                <a:lnTo>
                  <a:pt x="183" y="1454"/>
                </a:lnTo>
                <a:lnTo>
                  <a:pt x="183" y="1504"/>
                </a:lnTo>
                <a:lnTo>
                  <a:pt x="183" y="1554"/>
                </a:lnTo>
                <a:lnTo>
                  <a:pt x="183" y="1605"/>
                </a:lnTo>
                <a:lnTo>
                  <a:pt x="183" y="1659"/>
                </a:lnTo>
                <a:lnTo>
                  <a:pt x="185" y="1713"/>
                </a:lnTo>
                <a:lnTo>
                  <a:pt x="185" y="1768"/>
                </a:lnTo>
                <a:lnTo>
                  <a:pt x="185" y="1824"/>
                </a:lnTo>
                <a:lnTo>
                  <a:pt x="185" y="1879"/>
                </a:lnTo>
                <a:lnTo>
                  <a:pt x="185" y="1935"/>
                </a:lnTo>
                <a:lnTo>
                  <a:pt x="185" y="1987"/>
                </a:lnTo>
                <a:lnTo>
                  <a:pt x="185" y="2039"/>
                </a:lnTo>
                <a:lnTo>
                  <a:pt x="185" y="2088"/>
                </a:lnTo>
                <a:lnTo>
                  <a:pt x="185" y="2136"/>
                </a:lnTo>
                <a:lnTo>
                  <a:pt x="185" y="2184"/>
                </a:lnTo>
                <a:lnTo>
                  <a:pt x="185" y="2228"/>
                </a:lnTo>
                <a:lnTo>
                  <a:pt x="185" y="2272"/>
                </a:lnTo>
                <a:lnTo>
                  <a:pt x="185" y="2314"/>
                </a:lnTo>
                <a:lnTo>
                  <a:pt x="185" y="2355"/>
                </a:lnTo>
                <a:lnTo>
                  <a:pt x="183" y="2393"/>
                </a:lnTo>
                <a:lnTo>
                  <a:pt x="183" y="2431"/>
                </a:lnTo>
                <a:lnTo>
                  <a:pt x="183" y="2466"/>
                </a:lnTo>
                <a:lnTo>
                  <a:pt x="181" y="2500"/>
                </a:lnTo>
                <a:lnTo>
                  <a:pt x="181" y="2533"/>
                </a:lnTo>
                <a:lnTo>
                  <a:pt x="181" y="2564"/>
                </a:lnTo>
                <a:lnTo>
                  <a:pt x="179" y="2592"/>
                </a:lnTo>
                <a:lnTo>
                  <a:pt x="179" y="2621"/>
                </a:lnTo>
                <a:lnTo>
                  <a:pt x="177" y="2646"/>
                </a:lnTo>
                <a:lnTo>
                  <a:pt x="175" y="2671"/>
                </a:lnTo>
                <a:lnTo>
                  <a:pt x="175" y="2694"/>
                </a:lnTo>
                <a:lnTo>
                  <a:pt x="173" y="2715"/>
                </a:lnTo>
                <a:lnTo>
                  <a:pt x="173" y="2734"/>
                </a:lnTo>
                <a:lnTo>
                  <a:pt x="171" y="2753"/>
                </a:lnTo>
                <a:lnTo>
                  <a:pt x="169" y="2769"/>
                </a:lnTo>
                <a:lnTo>
                  <a:pt x="167" y="2784"/>
                </a:lnTo>
                <a:lnTo>
                  <a:pt x="167" y="2797"/>
                </a:lnTo>
                <a:lnTo>
                  <a:pt x="165" y="2809"/>
                </a:lnTo>
                <a:lnTo>
                  <a:pt x="163" y="2820"/>
                </a:lnTo>
                <a:lnTo>
                  <a:pt x="162" y="2828"/>
                </a:lnTo>
                <a:lnTo>
                  <a:pt x="160" y="2836"/>
                </a:lnTo>
                <a:lnTo>
                  <a:pt x="156" y="2847"/>
                </a:lnTo>
                <a:lnTo>
                  <a:pt x="152" y="2859"/>
                </a:lnTo>
                <a:lnTo>
                  <a:pt x="148" y="2870"/>
                </a:lnTo>
                <a:lnTo>
                  <a:pt x="144" y="2880"/>
                </a:lnTo>
                <a:lnTo>
                  <a:pt x="140" y="2889"/>
                </a:lnTo>
                <a:lnTo>
                  <a:pt x="137" y="2897"/>
                </a:lnTo>
                <a:lnTo>
                  <a:pt x="133" y="2905"/>
                </a:lnTo>
                <a:lnTo>
                  <a:pt x="129" y="2910"/>
                </a:lnTo>
                <a:lnTo>
                  <a:pt x="123" y="2916"/>
                </a:lnTo>
                <a:lnTo>
                  <a:pt x="119" y="2922"/>
                </a:lnTo>
                <a:lnTo>
                  <a:pt x="115" y="2926"/>
                </a:lnTo>
                <a:lnTo>
                  <a:pt x="112" y="2929"/>
                </a:lnTo>
                <a:lnTo>
                  <a:pt x="108" y="2931"/>
                </a:lnTo>
                <a:lnTo>
                  <a:pt x="104" y="2933"/>
                </a:lnTo>
                <a:lnTo>
                  <a:pt x="100" y="2935"/>
                </a:lnTo>
                <a:lnTo>
                  <a:pt x="96" y="2935"/>
                </a:lnTo>
                <a:lnTo>
                  <a:pt x="92" y="2935"/>
                </a:lnTo>
                <a:lnTo>
                  <a:pt x="89" y="2933"/>
                </a:lnTo>
                <a:lnTo>
                  <a:pt x="85" y="2931"/>
                </a:lnTo>
                <a:lnTo>
                  <a:pt x="81" y="2928"/>
                </a:lnTo>
                <a:lnTo>
                  <a:pt x="77" y="2924"/>
                </a:lnTo>
                <a:lnTo>
                  <a:pt x="73" y="2918"/>
                </a:lnTo>
                <a:lnTo>
                  <a:pt x="69" y="2912"/>
                </a:lnTo>
                <a:lnTo>
                  <a:pt x="66" y="2905"/>
                </a:lnTo>
                <a:lnTo>
                  <a:pt x="64" y="2897"/>
                </a:lnTo>
                <a:lnTo>
                  <a:pt x="60" y="2889"/>
                </a:lnTo>
                <a:lnTo>
                  <a:pt x="56" y="2880"/>
                </a:lnTo>
                <a:lnTo>
                  <a:pt x="52" y="2868"/>
                </a:lnTo>
                <a:lnTo>
                  <a:pt x="50" y="2857"/>
                </a:lnTo>
                <a:lnTo>
                  <a:pt x="46" y="2843"/>
                </a:lnTo>
                <a:lnTo>
                  <a:pt x="44" y="2830"/>
                </a:lnTo>
                <a:lnTo>
                  <a:pt x="41" y="281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ō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06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TextBox 57"/>
          <p:cNvSpPr/>
          <p:nvPr/>
        </p:nvSpPr>
        <p:spPr>
          <a:xfrm>
            <a:off x="4619520" y="485784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“皮”的撇捺舒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3"/>
          <p:cNvSpPr/>
          <p:nvPr/>
        </p:nvSpPr>
        <p:spPr>
          <a:xfrm>
            <a:off x="833400" y="459108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波纹  波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4"/>
          <p:cNvSpPr/>
          <p:nvPr/>
        </p:nvSpPr>
        <p:spPr>
          <a:xfrm>
            <a:off x="844560" y="507348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湖面上被风吹起一圈圈波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31"/>
          <p:cNvSpPr/>
          <p:nvPr/>
        </p:nvSpPr>
        <p:spPr>
          <a:xfrm>
            <a:off x="22273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3492000" y="2155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4"/>
          <p:cNvSpPr/>
          <p:nvPr/>
        </p:nvSpPr>
        <p:spPr>
          <a:xfrm>
            <a:off x="5686560" y="2413080"/>
            <a:ext cx="258480" cy="303120"/>
          </a:xfrm>
          <a:custGeom>
            <a:avLst/>
            <a:gdLst>
              <a:gd name="textAreaLeft" fmla="*/ 0 w 258480"/>
              <a:gd name="textAreaRight" fmla="*/ 258840 w 2584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07" h="476">
                <a:moveTo>
                  <a:pt x="271" y="85"/>
                </a:moveTo>
                <a:lnTo>
                  <a:pt x="339" y="136"/>
                </a:lnTo>
                <a:lnTo>
                  <a:pt x="373" y="187"/>
                </a:lnTo>
                <a:lnTo>
                  <a:pt x="407" y="238"/>
                </a:lnTo>
                <a:lnTo>
                  <a:pt x="407" y="289"/>
                </a:lnTo>
                <a:lnTo>
                  <a:pt x="407" y="340"/>
                </a:lnTo>
                <a:lnTo>
                  <a:pt x="407" y="391"/>
                </a:lnTo>
                <a:lnTo>
                  <a:pt x="390" y="425"/>
                </a:lnTo>
                <a:lnTo>
                  <a:pt x="390" y="442"/>
                </a:lnTo>
                <a:lnTo>
                  <a:pt x="356" y="459"/>
                </a:lnTo>
                <a:lnTo>
                  <a:pt x="339" y="476"/>
                </a:lnTo>
                <a:lnTo>
                  <a:pt x="322" y="459"/>
                </a:lnTo>
                <a:lnTo>
                  <a:pt x="288" y="442"/>
                </a:lnTo>
                <a:lnTo>
                  <a:pt x="254" y="425"/>
                </a:lnTo>
                <a:lnTo>
                  <a:pt x="220" y="374"/>
                </a:lnTo>
                <a:lnTo>
                  <a:pt x="187" y="323"/>
                </a:lnTo>
                <a:lnTo>
                  <a:pt x="136" y="255"/>
                </a:lnTo>
                <a:lnTo>
                  <a:pt x="85" y="187"/>
                </a:lnTo>
                <a:lnTo>
                  <a:pt x="51" y="136"/>
                </a:lnTo>
                <a:lnTo>
                  <a:pt x="17" y="102"/>
                </a:lnTo>
                <a:lnTo>
                  <a:pt x="17" y="85"/>
                </a:lnTo>
                <a:lnTo>
                  <a:pt x="0" y="51"/>
                </a:lnTo>
                <a:lnTo>
                  <a:pt x="17" y="17"/>
                </a:lnTo>
                <a:lnTo>
                  <a:pt x="51" y="0"/>
                </a:lnTo>
                <a:lnTo>
                  <a:pt x="102" y="0"/>
                </a:lnTo>
                <a:lnTo>
                  <a:pt x="136" y="0"/>
                </a:lnTo>
                <a:lnTo>
                  <a:pt x="170" y="34"/>
                </a:lnTo>
                <a:lnTo>
                  <a:pt x="220" y="51"/>
                </a:lnTo>
                <a:lnTo>
                  <a:pt x="271" y="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5"/>
          <p:cNvSpPr/>
          <p:nvPr/>
        </p:nvSpPr>
        <p:spPr>
          <a:xfrm>
            <a:off x="5492880" y="2887560"/>
            <a:ext cx="237960" cy="292320"/>
          </a:xfrm>
          <a:custGeom>
            <a:avLst/>
            <a:gdLst>
              <a:gd name="textAreaLeft" fmla="*/ 0 w 237960"/>
              <a:gd name="textAreaRight" fmla="*/ 238320 w 237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373" h="459">
                <a:moveTo>
                  <a:pt x="0" y="68"/>
                </a:move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85" y="0"/>
                </a:lnTo>
                <a:lnTo>
                  <a:pt x="119" y="17"/>
                </a:lnTo>
                <a:lnTo>
                  <a:pt x="204" y="51"/>
                </a:lnTo>
                <a:lnTo>
                  <a:pt x="288" y="102"/>
                </a:lnTo>
                <a:lnTo>
                  <a:pt x="339" y="153"/>
                </a:lnTo>
                <a:lnTo>
                  <a:pt x="356" y="204"/>
                </a:lnTo>
                <a:lnTo>
                  <a:pt x="373" y="272"/>
                </a:lnTo>
                <a:lnTo>
                  <a:pt x="373" y="357"/>
                </a:lnTo>
                <a:lnTo>
                  <a:pt x="373" y="391"/>
                </a:lnTo>
                <a:lnTo>
                  <a:pt x="356" y="425"/>
                </a:lnTo>
                <a:lnTo>
                  <a:pt x="339" y="442"/>
                </a:lnTo>
                <a:lnTo>
                  <a:pt x="322" y="459"/>
                </a:lnTo>
                <a:lnTo>
                  <a:pt x="288" y="442"/>
                </a:lnTo>
                <a:lnTo>
                  <a:pt x="254" y="408"/>
                </a:lnTo>
                <a:lnTo>
                  <a:pt x="204" y="357"/>
                </a:lnTo>
                <a:lnTo>
                  <a:pt x="136" y="289"/>
                </a:lnTo>
                <a:lnTo>
                  <a:pt x="85" y="204"/>
                </a:lnTo>
                <a:lnTo>
                  <a:pt x="34" y="153"/>
                </a:lnTo>
                <a:lnTo>
                  <a:pt x="0" y="102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6"/>
          <p:cNvSpPr/>
          <p:nvPr/>
        </p:nvSpPr>
        <p:spPr>
          <a:xfrm>
            <a:off x="5472000" y="3146400"/>
            <a:ext cx="452520" cy="787320"/>
          </a:xfrm>
          <a:custGeom>
            <a:avLst/>
            <a:gdLst>
              <a:gd name="textAreaLeft" fmla="*/ 0 w 452520"/>
              <a:gd name="textAreaRight" fmla="*/ 452880 w 45252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712" h="1239">
                <a:moveTo>
                  <a:pt x="68" y="1104"/>
                </a:moveTo>
                <a:lnTo>
                  <a:pt x="34" y="1036"/>
                </a:lnTo>
                <a:lnTo>
                  <a:pt x="0" y="985"/>
                </a:lnTo>
                <a:lnTo>
                  <a:pt x="0" y="934"/>
                </a:lnTo>
                <a:lnTo>
                  <a:pt x="0" y="900"/>
                </a:lnTo>
                <a:lnTo>
                  <a:pt x="0" y="883"/>
                </a:lnTo>
                <a:lnTo>
                  <a:pt x="17" y="866"/>
                </a:lnTo>
                <a:lnTo>
                  <a:pt x="34" y="849"/>
                </a:lnTo>
                <a:lnTo>
                  <a:pt x="68" y="849"/>
                </a:lnTo>
                <a:lnTo>
                  <a:pt x="102" y="849"/>
                </a:lnTo>
                <a:lnTo>
                  <a:pt x="119" y="832"/>
                </a:lnTo>
                <a:lnTo>
                  <a:pt x="153" y="815"/>
                </a:lnTo>
                <a:lnTo>
                  <a:pt x="187" y="781"/>
                </a:lnTo>
                <a:lnTo>
                  <a:pt x="204" y="764"/>
                </a:lnTo>
                <a:lnTo>
                  <a:pt x="221" y="730"/>
                </a:lnTo>
                <a:lnTo>
                  <a:pt x="254" y="696"/>
                </a:lnTo>
                <a:lnTo>
                  <a:pt x="288" y="645"/>
                </a:lnTo>
                <a:lnTo>
                  <a:pt x="322" y="577"/>
                </a:lnTo>
                <a:lnTo>
                  <a:pt x="356" y="509"/>
                </a:lnTo>
                <a:lnTo>
                  <a:pt x="407" y="424"/>
                </a:lnTo>
                <a:lnTo>
                  <a:pt x="458" y="339"/>
                </a:lnTo>
                <a:lnTo>
                  <a:pt x="509" y="255"/>
                </a:lnTo>
                <a:lnTo>
                  <a:pt x="559" y="187"/>
                </a:lnTo>
                <a:lnTo>
                  <a:pt x="593" y="119"/>
                </a:lnTo>
                <a:lnTo>
                  <a:pt x="627" y="68"/>
                </a:lnTo>
                <a:lnTo>
                  <a:pt x="661" y="34"/>
                </a:lnTo>
                <a:lnTo>
                  <a:pt x="678" y="17"/>
                </a:lnTo>
                <a:lnTo>
                  <a:pt x="695" y="0"/>
                </a:lnTo>
                <a:lnTo>
                  <a:pt x="712" y="0"/>
                </a:lnTo>
                <a:lnTo>
                  <a:pt x="712" y="17"/>
                </a:lnTo>
                <a:lnTo>
                  <a:pt x="712" y="51"/>
                </a:lnTo>
                <a:lnTo>
                  <a:pt x="695" y="102"/>
                </a:lnTo>
                <a:lnTo>
                  <a:pt x="661" y="170"/>
                </a:lnTo>
                <a:lnTo>
                  <a:pt x="627" y="255"/>
                </a:lnTo>
                <a:lnTo>
                  <a:pt x="593" y="373"/>
                </a:lnTo>
                <a:lnTo>
                  <a:pt x="543" y="492"/>
                </a:lnTo>
                <a:lnTo>
                  <a:pt x="492" y="645"/>
                </a:lnTo>
                <a:lnTo>
                  <a:pt x="424" y="781"/>
                </a:lnTo>
                <a:lnTo>
                  <a:pt x="373" y="900"/>
                </a:lnTo>
                <a:lnTo>
                  <a:pt x="322" y="1019"/>
                </a:lnTo>
                <a:lnTo>
                  <a:pt x="288" y="1104"/>
                </a:lnTo>
                <a:lnTo>
                  <a:pt x="254" y="1154"/>
                </a:lnTo>
                <a:lnTo>
                  <a:pt x="238" y="1205"/>
                </a:lnTo>
                <a:lnTo>
                  <a:pt x="204" y="1239"/>
                </a:lnTo>
                <a:lnTo>
                  <a:pt x="170" y="1239"/>
                </a:lnTo>
                <a:lnTo>
                  <a:pt x="153" y="1205"/>
                </a:lnTo>
                <a:lnTo>
                  <a:pt x="102" y="1171"/>
                </a:lnTo>
                <a:lnTo>
                  <a:pt x="68" y="11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8"/>
          <p:cNvSpPr/>
          <p:nvPr/>
        </p:nvSpPr>
        <p:spPr>
          <a:xfrm>
            <a:off x="6172200" y="2565360"/>
            <a:ext cx="934920" cy="333360"/>
          </a:xfrm>
          <a:custGeom>
            <a:avLst/>
            <a:gdLst>
              <a:gd name="textAreaLeft" fmla="*/ 0 w 934920"/>
              <a:gd name="textAreaRight" fmla="*/ 935280 w 9349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474" h="526">
                <a:moveTo>
                  <a:pt x="1152" y="0"/>
                </a:moveTo>
                <a:lnTo>
                  <a:pt x="1169" y="0"/>
                </a:lnTo>
                <a:lnTo>
                  <a:pt x="1219" y="0"/>
                </a:lnTo>
                <a:lnTo>
                  <a:pt x="1270" y="34"/>
                </a:lnTo>
                <a:lnTo>
                  <a:pt x="1338" y="68"/>
                </a:lnTo>
                <a:lnTo>
                  <a:pt x="1389" y="119"/>
                </a:lnTo>
                <a:lnTo>
                  <a:pt x="1440" y="153"/>
                </a:lnTo>
                <a:lnTo>
                  <a:pt x="1474" y="187"/>
                </a:lnTo>
                <a:lnTo>
                  <a:pt x="1474" y="204"/>
                </a:lnTo>
                <a:lnTo>
                  <a:pt x="1474" y="221"/>
                </a:lnTo>
                <a:lnTo>
                  <a:pt x="1457" y="238"/>
                </a:lnTo>
                <a:lnTo>
                  <a:pt x="1423" y="255"/>
                </a:lnTo>
                <a:lnTo>
                  <a:pt x="1389" y="272"/>
                </a:lnTo>
                <a:lnTo>
                  <a:pt x="1338" y="289"/>
                </a:lnTo>
                <a:lnTo>
                  <a:pt x="1287" y="306"/>
                </a:lnTo>
                <a:lnTo>
                  <a:pt x="1219" y="357"/>
                </a:lnTo>
                <a:lnTo>
                  <a:pt x="1152" y="408"/>
                </a:lnTo>
                <a:lnTo>
                  <a:pt x="1101" y="459"/>
                </a:lnTo>
                <a:lnTo>
                  <a:pt x="1050" y="509"/>
                </a:lnTo>
                <a:lnTo>
                  <a:pt x="1016" y="526"/>
                </a:lnTo>
                <a:lnTo>
                  <a:pt x="999" y="526"/>
                </a:lnTo>
                <a:lnTo>
                  <a:pt x="999" y="509"/>
                </a:lnTo>
                <a:lnTo>
                  <a:pt x="999" y="476"/>
                </a:lnTo>
                <a:lnTo>
                  <a:pt x="1016" y="425"/>
                </a:lnTo>
                <a:lnTo>
                  <a:pt x="1033" y="357"/>
                </a:lnTo>
                <a:lnTo>
                  <a:pt x="1067" y="289"/>
                </a:lnTo>
                <a:lnTo>
                  <a:pt x="1084" y="238"/>
                </a:lnTo>
                <a:lnTo>
                  <a:pt x="1084" y="204"/>
                </a:lnTo>
                <a:lnTo>
                  <a:pt x="1084" y="187"/>
                </a:lnTo>
                <a:lnTo>
                  <a:pt x="1067" y="187"/>
                </a:lnTo>
                <a:lnTo>
                  <a:pt x="1033" y="187"/>
                </a:lnTo>
                <a:lnTo>
                  <a:pt x="999" y="187"/>
                </a:lnTo>
                <a:lnTo>
                  <a:pt x="965" y="187"/>
                </a:lnTo>
                <a:lnTo>
                  <a:pt x="914" y="204"/>
                </a:lnTo>
                <a:lnTo>
                  <a:pt x="864" y="204"/>
                </a:lnTo>
                <a:lnTo>
                  <a:pt x="796" y="221"/>
                </a:lnTo>
                <a:lnTo>
                  <a:pt x="728" y="238"/>
                </a:lnTo>
                <a:lnTo>
                  <a:pt x="643" y="255"/>
                </a:lnTo>
                <a:lnTo>
                  <a:pt x="559" y="272"/>
                </a:lnTo>
                <a:lnTo>
                  <a:pt x="457" y="289"/>
                </a:lnTo>
                <a:lnTo>
                  <a:pt x="355" y="306"/>
                </a:lnTo>
                <a:lnTo>
                  <a:pt x="254" y="340"/>
                </a:lnTo>
                <a:lnTo>
                  <a:pt x="135" y="357"/>
                </a:lnTo>
                <a:lnTo>
                  <a:pt x="0" y="391"/>
                </a:lnTo>
                <a:lnTo>
                  <a:pt x="0" y="272"/>
                </a:lnTo>
                <a:lnTo>
                  <a:pt x="169" y="238"/>
                </a:lnTo>
                <a:lnTo>
                  <a:pt x="338" y="204"/>
                </a:lnTo>
                <a:lnTo>
                  <a:pt x="474" y="187"/>
                </a:lnTo>
                <a:lnTo>
                  <a:pt x="576" y="153"/>
                </a:lnTo>
                <a:lnTo>
                  <a:pt x="677" y="136"/>
                </a:lnTo>
                <a:lnTo>
                  <a:pt x="762" y="119"/>
                </a:lnTo>
                <a:lnTo>
                  <a:pt x="813" y="102"/>
                </a:lnTo>
                <a:lnTo>
                  <a:pt x="864" y="102"/>
                </a:lnTo>
                <a:lnTo>
                  <a:pt x="914" y="85"/>
                </a:lnTo>
                <a:lnTo>
                  <a:pt x="965" y="68"/>
                </a:lnTo>
                <a:lnTo>
                  <a:pt x="999" y="51"/>
                </a:lnTo>
                <a:lnTo>
                  <a:pt x="1033" y="17"/>
                </a:lnTo>
                <a:lnTo>
                  <a:pt x="1101" y="0"/>
                </a:lnTo>
                <a:lnTo>
                  <a:pt x="1152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9"/>
          <p:cNvSpPr/>
          <p:nvPr/>
        </p:nvSpPr>
        <p:spPr>
          <a:xfrm>
            <a:off x="6407280" y="2144880"/>
            <a:ext cx="204480" cy="1055520"/>
          </a:xfrm>
          <a:custGeom>
            <a:avLst/>
            <a:gdLst>
              <a:gd name="textAreaLeft" fmla="*/ 0 w 204480"/>
              <a:gd name="textAreaRight" fmla="*/ 204840 w 204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322" h="1664">
                <a:moveTo>
                  <a:pt x="85" y="221"/>
                </a:moveTo>
                <a:lnTo>
                  <a:pt x="85" y="170"/>
                </a:lnTo>
                <a:lnTo>
                  <a:pt x="68" y="136"/>
                </a:lnTo>
                <a:lnTo>
                  <a:pt x="51" y="102"/>
                </a:lnTo>
                <a:lnTo>
                  <a:pt x="34" y="85"/>
                </a:lnTo>
                <a:lnTo>
                  <a:pt x="17" y="51"/>
                </a:lnTo>
                <a:lnTo>
                  <a:pt x="0" y="34"/>
                </a:lnTo>
                <a:lnTo>
                  <a:pt x="17" y="17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19" y="0"/>
                </a:lnTo>
                <a:lnTo>
                  <a:pt x="170" y="17"/>
                </a:lnTo>
                <a:lnTo>
                  <a:pt x="221" y="34"/>
                </a:lnTo>
                <a:lnTo>
                  <a:pt x="254" y="68"/>
                </a:lnTo>
                <a:lnTo>
                  <a:pt x="288" y="85"/>
                </a:lnTo>
                <a:lnTo>
                  <a:pt x="322" y="102"/>
                </a:lnTo>
                <a:lnTo>
                  <a:pt x="322" y="136"/>
                </a:lnTo>
                <a:lnTo>
                  <a:pt x="322" y="170"/>
                </a:lnTo>
                <a:lnTo>
                  <a:pt x="322" y="221"/>
                </a:lnTo>
                <a:lnTo>
                  <a:pt x="322" y="272"/>
                </a:lnTo>
                <a:lnTo>
                  <a:pt x="305" y="289"/>
                </a:lnTo>
                <a:lnTo>
                  <a:pt x="305" y="323"/>
                </a:lnTo>
                <a:lnTo>
                  <a:pt x="305" y="357"/>
                </a:lnTo>
                <a:lnTo>
                  <a:pt x="288" y="407"/>
                </a:lnTo>
                <a:lnTo>
                  <a:pt x="288" y="458"/>
                </a:lnTo>
                <a:lnTo>
                  <a:pt x="288" y="526"/>
                </a:lnTo>
                <a:lnTo>
                  <a:pt x="271" y="594"/>
                </a:lnTo>
                <a:lnTo>
                  <a:pt x="271" y="679"/>
                </a:lnTo>
                <a:lnTo>
                  <a:pt x="271" y="764"/>
                </a:lnTo>
                <a:lnTo>
                  <a:pt x="254" y="866"/>
                </a:lnTo>
                <a:lnTo>
                  <a:pt x="254" y="985"/>
                </a:lnTo>
                <a:lnTo>
                  <a:pt x="254" y="1087"/>
                </a:lnTo>
                <a:lnTo>
                  <a:pt x="238" y="1222"/>
                </a:lnTo>
                <a:lnTo>
                  <a:pt x="238" y="1358"/>
                </a:lnTo>
                <a:lnTo>
                  <a:pt x="238" y="1494"/>
                </a:lnTo>
                <a:lnTo>
                  <a:pt x="221" y="1647"/>
                </a:lnTo>
                <a:lnTo>
                  <a:pt x="68" y="1664"/>
                </a:lnTo>
                <a:lnTo>
                  <a:pt x="68" y="1494"/>
                </a:lnTo>
                <a:lnTo>
                  <a:pt x="68" y="1341"/>
                </a:lnTo>
                <a:lnTo>
                  <a:pt x="85" y="1205"/>
                </a:lnTo>
                <a:lnTo>
                  <a:pt x="85" y="1070"/>
                </a:lnTo>
                <a:lnTo>
                  <a:pt x="85" y="934"/>
                </a:lnTo>
                <a:lnTo>
                  <a:pt x="85" y="832"/>
                </a:lnTo>
                <a:lnTo>
                  <a:pt x="85" y="713"/>
                </a:lnTo>
                <a:lnTo>
                  <a:pt x="85" y="628"/>
                </a:lnTo>
                <a:lnTo>
                  <a:pt x="102" y="543"/>
                </a:lnTo>
                <a:lnTo>
                  <a:pt x="102" y="458"/>
                </a:lnTo>
                <a:lnTo>
                  <a:pt x="102" y="390"/>
                </a:lnTo>
                <a:lnTo>
                  <a:pt x="102" y="340"/>
                </a:lnTo>
                <a:lnTo>
                  <a:pt x="102" y="289"/>
                </a:lnTo>
                <a:lnTo>
                  <a:pt x="102" y="255"/>
                </a:lnTo>
                <a:lnTo>
                  <a:pt x="85" y="238"/>
                </a:lnTo>
                <a:lnTo>
                  <a:pt x="85" y="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40"/>
          <p:cNvSpPr/>
          <p:nvPr/>
        </p:nvSpPr>
        <p:spPr>
          <a:xfrm>
            <a:off x="6019920" y="3083040"/>
            <a:ext cx="882360" cy="893520"/>
          </a:xfrm>
          <a:custGeom>
            <a:avLst/>
            <a:gdLst>
              <a:gd name="textAreaLeft" fmla="*/ 0 w 882360"/>
              <a:gd name="textAreaRight" fmla="*/ 882720 w 88236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390" h="1409">
                <a:moveTo>
                  <a:pt x="475" y="1256"/>
                </a:moveTo>
                <a:lnTo>
                  <a:pt x="373" y="1307"/>
                </a:lnTo>
                <a:lnTo>
                  <a:pt x="288" y="1341"/>
                </a:lnTo>
                <a:lnTo>
                  <a:pt x="204" y="1375"/>
                </a:lnTo>
                <a:lnTo>
                  <a:pt x="136" y="1392"/>
                </a:lnTo>
                <a:lnTo>
                  <a:pt x="68" y="1392"/>
                </a:lnTo>
                <a:lnTo>
                  <a:pt x="34" y="1409"/>
                </a:lnTo>
                <a:lnTo>
                  <a:pt x="17" y="1392"/>
                </a:lnTo>
                <a:lnTo>
                  <a:pt x="0" y="1392"/>
                </a:lnTo>
                <a:lnTo>
                  <a:pt x="17" y="1375"/>
                </a:lnTo>
                <a:lnTo>
                  <a:pt x="34" y="1358"/>
                </a:lnTo>
                <a:lnTo>
                  <a:pt x="68" y="1341"/>
                </a:lnTo>
                <a:lnTo>
                  <a:pt x="102" y="1324"/>
                </a:lnTo>
                <a:lnTo>
                  <a:pt x="136" y="1290"/>
                </a:lnTo>
                <a:lnTo>
                  <a:pt x="187" y="1273"/>
                </a:lnTo>
                <a:lnTo>
                  <a:pt x="255" y="1239"/>
                </a:lnTo>
                <a:lnTo>
                  <a:pt x="373" y="1172"/>
                </a:lnTo>
                <a:lnTo>
                  <a:pt x="492" y="1104"/>
                </a:lnTo>
                <a:lnTo>
                  <a:pt x="610" y="1019"/>
                </a:lnTo>
                <a:lnTo>
                  <a:pt x="712" y="917"/>
                </a:lnTo>
                <a:lnTo>
                  <a:pt x="814" y="815"/>
                </a:lnTo>
                <a:lnTo>
                  <a:pt x="898" y="696"/>
                </a:lnTo>
                <a:lnTo>
                  <a:pt x="949" y="594"/>
                </a:lnTo>
                <a:lnTo>
                  <a:pt x="1000" y="475"/>
                </a:lnTo>
                <a:lnTo>
                  <a:pt x="1034" y="374"/>
                </a:lnTo>
                <a:lnTo>
                  <a:pt x="1068" y="289"/>
                </a:lnTo>
                <a:lnTo>
                  <a:pt x="1068" y="238"/>
                </a:lnTo>
                <a:lnTo>
                  <a:pt x="1068" y="204"/>
                </a:lnTo>
                <a:lnTo>
                  <a:pt x="1051" y="187"/>
                </a:lnTo>
                <a:lnTo>
                  <a:pt x="1034" y="170"/>
                </a:lnTo>
                <a:lnTo>
                  <a:pt x="1000" y="170"/>
                </a:lnTo>
                <a:lnTo>
                  <a:pt x="932" y="187"/>
                </a:lnTo>
                <a:lnTo>
                  <a:pt x="864" y="204"/>
                </a:lnTo>
                <a:lnTo>
                  <a:pt x="746" y="238"/>
                </a:lnTo>
                <a:lnTo>
                  <a:pt x="644" y="255"/>
                </a:lnTo>
                <a:lnTo>
                  <a:pt x="559" y="289"/>
                </a:lnTo>
                <a:lnTo>
                  <a:pt x="509" y="289"/>
                </a:lnTo>
                <a:lnTo>
                  <a:pt x="475" y="306"/>
                </a:lnTo>
                <a:lnTo>
                  <a:pt x="458" y="289"/>
                </a:lnTo>
                <a:lnTo>
                  <a:pt x="441" y="289"/>
                </a:lnTo>
                <a:lnTo>
                  <a:pt x="407" y="255"/>
                </a:lnTo>
                <a:lnTo>
                  <a:pt x="390" y="238"/>
                </a:lnTo>
                <a:lnTo>
                  <a:pt x="356" y="204"/>
                </a:lnTo>
                <a:lnTo>
                  <a:pt x="339" y="187"/>
                </a:lnTo>
                <a:lnTo>
                  <a:pt x="339" y="170"/>
                </a:lnTo>
                <a:lnTo>
                  <a:pt x="356" y="170"/>
                </a:lnTo>
                <a:lnTo>
                  <a:pt x="390" y="170"/>
                </a:lnTo>
                <a:lnTo>
                  <a:pt x="424" y="170"/>
                </a:lnTo>
                <a:lnTo>
                  <a:pt x="458" y="170"/>
                </a:lnTo>
                <a:lnTo>
                  <a:pt x="509" y="153"/>
                </a:lnTo>
                <a:lnTo>
                  <a:pt x="644" y="136"/>
                </a:lnTo>
                <a:lnTo>
                  <a:pt x="780" y="102"/>
                </a:lnTo>
                <a:lnTo>
                  <a:pt x="848" y="85"/>
                </a:lnTo>
                <a:lnTo>
                  <a:pt x="898" y="68"/>
                </a:lnTo>
                <a:lnTo>
                  <a:pt x="949" y="51"/>
                </a:lnTo>
                <a:lnTo>
                  <a:pt x="983" y="34"/>
                </a:lnTo>
                <a:lnTo>
                  <a:pt x="1034" y="17"/>
                </a:lnTo>
                <a:lnTo>
                  <a:pt x="1068" y="0"/>
                </a:lnTo>
                <a:lnTo>
                  <a:pt x="1102" y="0"/>
                </a:lnTo>
                <a:lnTo>
                  <a:pt x="1136" y="17"/>
                </a:lnTo>
                <a:lnTo>
                  <a:pt x="1186" y="51"/>
                </a:lnTo>
                <a:lnTo>
                  <a:pt x="1254" y="68"/>
                </a:lnTo>
                <a:lnTo>
                  <a:pt x="1322" y="119"/>
                </a:lnTo>
                <a:lnTo>
                  <a:pt x="1356" y="153"/>
                </a:lnTo>
                <a:lnTo>
                  <a:pt x="1390" y="170"/>
                </a:lnTo>
                <a:lnTo>
                  <a:pt x="1390" y="187"/>
                </a:lnTo>
                <a:lnTo>
                  <a:pt x="1390" y="204"/>
                </a:lnTo>
                <a:lnTo>
                  <a:pt x="1390" y="221"/>
                </a:lnTo>
                <a:lnTo>
                  <a:pt x="1373" y="238"/>
                </a:lnTo>
                <a:lnTo>
                  <a:pt x="1339" y="255"/>
                </a:lnTo>
                <a:lnTo>
                  <a:pt x="1305" y="289"/>
                </a:lnTo>
                <a:lnTo>
                  <a:pt x="1271" y="357"/>
                </a:lnTo>
                <a:lnTo>
                  <a:pt x="1237" y="441"/>
                </a:lnTo>
                <a:lnTo>
                  <a:pt x="1186" y="543"/>
                </a:lnTo>
                <a:lnTo>
                  <a:pt x="1119" y="662"/>
                </a:lnTo>
                <a:lnTo>
                  <a:pt x="1051" y="781"/>
                </a:lnTo>
                <a:lnTo>
                  <a:pt x="966" y="883"/>
                </a:lnTo>
                <a:lnTo>
                  <a:pt x="881" y="985"/>
                </a:lnTo>
                <a:lnTo>
                  <a:pt x="780" y="1070"/>
                </a:lnTo>
                <a:lnTo>
                  <a:pt x="678" y="1138"/>
                </a:lnTo>
                <a:lnTo>
                  <a:pt x="576" y="1206"/>
                </a:lnTo>
                <a:lnTo>
                  <a:pt x="475" y="1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6224760" y="3341520"/>
            <a:ext cx="1161720" cy="743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830" h="1171">
                <a:moveTo>
                  <a:pt x="305" y="288"/>
                </a:moveTo>
                <a:lnTo>
                  <a:pt x="254" y="220"/>
                </a:lnTo>
                <a:lnTo>
                  <a:pt x="187" y="169"/>
                </a:lnTo>
                <a:lnTo>
                  <a:pt x="136" y="135"/>
                </a:lnTo>
                <a:lnTo>
                  <a:pt x="68" y="101"/>
                </a:lnTo>
                <a:lnTo>
                  <a:pt x="34" y="84"/>
                </a:lnTo>
                <a:lnTo>
                  <a:pt x="0" y="67"/>
                </a:lnTo>
                <a:lnTo>
                  <a:pt x="0" y="50"/>
                </a:lnTo>
                <a:lnTo>
                  <a:pt x="0" y="33"/>
                </a:lnTo>
                <a:lnTo>
                  <a:pt x="0" y="17"/>
                </a:lnTo>
                <a:lnTo>
                  <a:pt x="17" y="17"/>
                </a:lnTo>
                <a:lnTo>
                  <a:pt x="34" y="17"/>
                </a:lnTo>
                <a:lnTo>
                  <a:pt x="68" y="0"/>
                </a:lnTo>
                <a:lnTo>
                  <a:pt x="136" y="17"/>
                </a:lnTo>
                <a:lnTo>
                  <a:pt x="204" y="33"/>
                </a:lnTo>
                <a:lnTo>
                  <a:pt x="254" y="67"/>
                </a:lnTo>
                <a:lnTo>
                  <a:pt x="305" y="118"/>
                </a:lnTo>
                <a:lnTo>
                  <a:pt x="390" y="186"/>
                </a:lnTo>
                <a:lnTo>
                  <a:pt x="492" y="288"/>
                </a:lnTo>
                <a:lnTo>
                  <a:pt x="610" y="390"/>
                </a:lnTo>
                <a:lnTo>
                  <a:pt x="729" y="475"/>
                </a:lnTo>
                <a:lnTo>
                  <a:pt x="830" y="560"/>
                </a:lnTo>
                <a:lnTo>
                  <a:pt x="949" y="645"/>
                </a:lnTo>
                <a:lnTo>
                  <a:pt x="1068" y="713"/>
                </a:lnTo>
                <a:lnTo>
                  <a:pt x="1186" y="798"/>
                </a:lnTo>
                <a:lnTo>
                  <a:pt x="1339" y="865"/>
                </a:lnTo>
                <a:lnTo>
                  <a:pt x="1491" y="933"/>
                </a:lnTo>
                <a:lnTo>
                  <a:pt x="1576" y="950"/>
                </a:lnTo>
                <a:lnTo>
                  <a:pt x="1644" y="984"/>
                </a:lnTo>
                <a:lnTo>
                  <a:pt x="1695" y="1018"/>
                </a:lnTo>
                <a:lnTo>
                  <a:pt x="1745" y="1035"/>
                </a:lnTo>
                <a:lnTo>
                  <a:pt x="1779" y="1052"/>
                </a:lnTo>
                <a:lnTo>
                  <a:pt x="1813" y="1069"/>
                </a:lnTo>
                <a:lnTo>
                  <a:pt x="1830" y="1086"/>
                </a:lnTo>
                <a:lnTo>
                  <a:pt x="1813" y="1086"/>
                </a:lnTo>
                <a:lnTo>
                  <a:pt x="1779" y="1103"/>
                </a:lnTo>
                <a:lnTo>
                  <a:pt x="1745" y="1120"/>
                </a:lnTo>
                <a:lnTo>
                  <a:pt x="1678" y="1120"/>
                </a:lnTo>
                <a:lnTo>
                  <a:pt x="1610" y="1137"/>
                </a:lnTo>
                <a:lnTo>
                  <a:pt x="1525" y="1154"/>
                </a:lnTo>
                <a:lnTo>
                  <a:pt x="1423" y="1154"/>
                </a:lnTo>
                <a:lnTo>
                  <a:pt x="1322" y="1171"/>
                </a:lnTo>
                <a:lnTo>
                  <a:pt x="1220" y="1171"/>
                </a:lnTo>
                <a:lnTo>
                  <a:pt x="1135" y="1154"/>
                </a:lnTo>
                <a:lnTo>
                  <a:pt x="1068" y="1137"/>
                </a:lnTo>
                <a:lnTo>
                  <a:pt x="1017" y="1103"/>
                </a:lnTo>
                <a:lnTo>
                  <a:pt x="1000" y="1086"/>
                </a:lnTo>
                <a:lnTo>
                  <a:pt x="966" y="1069"/>
                </a:lnTo>
                <a:lnTo>
                  <a:pt x="932" y="1035"/>
                </a:lnTo>
                <a:lnTo>
                  <a:pt x="898" y="984"/>
                </a:lnTo>
                <a:lnTo>
                  <a:pt x="847" y="933"/>
                </a:lnTo>
                <a:lnTo>
                  <a:pt x="797" y="865"/>
                </a:lnTo>
                <a:lnTo>
                  <a:pt x="746" y="798"/>
                </a:lnTo>
                <a:lnTo>
                  <a:pt x="695" y="730"/>
                </a:lnTo>
                <a:lnTo>
                  <a:pt x="576" y="594"/>
                </a:lnTo>
                <a:lnTo>
                  <a:pt x="475" y="475"/>
                </a:lnTo>
                <a:lnTo>
                  <a:pt x="390" y="373"/>
                </a:lnTo>
                <a:lnTo>
                  <a:pt x="305" y="28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37"/>
          <p:cNvSpPr/>
          <p:nvPr/>
        </p:nvSpPr>
        <p:spPr>
          <a:xfrm>
            <a:off x="5751360" y="2716200"/>
            <a:ext cx="484200" cy="1368360"/>
          </a:xfrm>
          <a:custGeom>
            <a:avLst/>
            <a:gdLst>
              <a:gd name="textAreaLeft" fmla="*/ 0 w 484200"/>
              <a:gd name="textAreaRight" fmla="*/ 484560 w 48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762" h="2156">
                <a:moveTo>
                  <a:pt x="406" y="1358"/>
                </a:moveTo>
                <a:lnTo>
                  <a:pt x="457" y="1205"/>
                </a:lnTo>
                <a:lnTo>
                  <a:pt x="508" y="1035"/>
                </a:lnTo>
                <a:lnTo>
                  <a:pt x="542" y="883"/>
                </a:lnTo>
                <a:lnTo>
                  <a:pt x="576" y="730"/>
                </a:lnTo>
                <a:lnTo>
                  <a:pt x="576" y="577"/>
                </a:lnTo>
                <a:lnTo>
                  <a:pt x="593" y="475"/>
                </a:lnTo>
                <a:lnTo>
                  <a:pt x="593" y="373"/>
                </a:lnTo>
                <a:lnTo>
                  <a:pt x="593" y="288"/>
                </a:lnTo>
                <a:lnTo>
                  <a:pt x="593" y="238"/>
                </a:lnTo>
                <a:lnTo>
                  <a:pt x="576" y="187"/>
                </a:lnTo>
                <a:lnTo>
                  <a:pt x="559" y="136"/>
                </a:lnTo>
                <a:lnTo>
                  <a:pt x="525" y="102"/>
                </a:lnTo>
                <a:lnTo>
                  <a:pt x="508" y="68"/>
                </a:lnTo>
                <a:lnTo>
                  <a:pt x="508" y="51"/>
                </a:lnTo>
                <a:lnTo>
                  <a:pt x="508" y="34"/>
                </a:lnTo>
                <a:lnTo>
                  <a:pt x="525" y="17"/>
                </a:lnTo>
                <a:lnTo>
                  <a:pt x="542" y="0"/>
                </a:lnTo>
                <a:lnTo>
                  <a:pt x="593" y="0"/>
                </a:lnTo>
                <a:lnTo>
                  <a:pt x="661" y="17"/>
                </a:lnTo>
                <a:lnTo>
                  <a:pt x="745" y="34"/>
                </a:lnTo>
                <a:lnTo>
                  <a:pt x="745" y="153"/>
                </a:lnTo>
                <a:lnTo>
                  <a:pt x="762" y="271"/>
                </a:lnTo>
                <a:lnTo>
                  <a:pt x="762" y="407"/>
                </a:lnTo>
                <a:lnTo>
                  <a:pt x="762" y="560"/>
                </a:lnTo>
                <a:lnTo>
                  <a:pt x="745" y="730"/>
                </a:lnTo>
                <a:lnTo>
                  <a:pt x="711" y="900"/>
                </a:lnTo>
                <a:lnTo>
                  <a:pt x="678" y="1069"/>
                </a:lnTo>
                <a:lnTo>
                  <a:pt x="627" y="1239"/>
                </a:lnTo>
                <a:lnTo>
                  <a:pt x="559" y="1392"/>
                </a:lnTo>
                <a:lnTo>
                  <a:pt x="508" y="1528"/>
                </a:lnTo>
                <a:lnTo>
                  <a:pt x="440" y="1647"/>
                </a:lnTo>
                <a:lnTo>
                  <a:pt x="390" y="1749"/>
                </a:lnTo>
                <a:lnTo>
                  <a:pt x="322" y="1850"/>
                </a:lnTo>
                <a:lnTo>
                  <a:pt x="254" y="1918"/>
                </a:lnTo>
                <a:lnTo>
                  <a:pt x="203" y="1986"/>
                </a:lnTo>
                <a:lnTo>
                  <a:pt x="135" y="2054"/>
                </a:lnTo>
                <a:lnTo>
                  <a:pt x="85" y="2105"/>
                </a:lnTo>
                <a:lnTo>
                  <a:pt x="34" y="2122"/>
                </a:lnTo>
                <a:lnTo>
                  <a:pt x="17" y="2139"/>
                </a:lnTo>
                <a:lnTo>
                  <a:pt x="0" y="2156"/>
                </a:lnTo>
                <a:lnTo>
                  <a:pt x="0" y="2139"/>
                </a:lnTo>
                <a:lnTo>
                  <a:pt x="0" y="2105"/>
                </a:lnTo>
                <a:lnTo>
                  <a:pt x="17" y="2088"/>
                </a:lnTo>
                <a:lnTo>
                  <a:pt x="34" y="2054"/>
                </a:lnTo>
                <a:lnTo>
                  <a:pt x="51" y="2003"/>
                </a:lnTo>
                <a:lnTo>
                  <a:pt x="85" y="1952"/>
                </a:lnTo>
                <a:lnTo>
                  <a:pt x="118" y="1901"/>
                </a:lnTo>
                <a:lnTo>
                  <a:pt x="203" y="1783"/>
                </a:lnTo>
                <a:lnTo>
                  <a:pt x="271" y="1647"/>
                </a:lnTo>
                <a:lnTo>
                  <a:pt x="339" y="1511"/>
                </a:lnTo>
                <a:lnTo>
                  <a:pt x="406" y="135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30"/>
          <p:cNvSpPr/>
          <p:nvPr/>
        </p:nvSpPr>
        <p:spPr>
          <a:xfrm>
            <a:off x="6448320" y="2284560"/>
            <a:ext cx="301680" cy="299880"/>
          </a:xfrm>
          <a:custGeom>
            <a:avLst/>
            <a:gdLst>
              <a:gd name="textAreaLeft" fmla="*/ 0 w 301680"/>
              <a:gd name="textAreaRight" fmla="*/ 302040 w 301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4" h="473">
                <a:moveTo>
                  <a:pt x="169" y="270"/>
                </a:moveTo>
                <a:lnTo>
                  <a:pt x="102" y="185"/>
                </a:lnTo>
                <a:lnTo>
                  <a:pt x="51" y="118"/>
                </a:lnTo>
                <a:lnTo>
                  <a:pt x="17" y="67"/>
                </a:lnTo>
                <a:lnTo>
                  <a:pt x="0" y="33"/>
                </a:lnTo>
                <a:lnTo>
                  <a:pt x="17" y="16"/>
                </a:lnTo>
                <a:lnTo>
                  <a:pt x="51" y="0"/>
                </a:lnTo>
                <a:lnTo>
                  <a:pt x="68" y="0"/>
                </a:lnTo>
                <a:lnTo>
                  <a:pt x="102" y="0"/>
                </a:lnTo>
                <a:lnTo>
                  <a:pt x="186" y="16"/>
                </a:lnTo>
                <a:lnTo>
                  <a:pt x="220" y="33"/>
                </a:lnTo>
                <a:lnTo>
                  <a:pt x="271" y="67"/>
                </a:lnTo>
                <a:lnTo>
                  <a:pt x="322" y="101"/>
                </a:lnTo>
                <a:lnTo>
                  <a:pt x="373" y="135"/>
                </a:lnTo>
                <a:lnTo>
                  <a:pt x="406" y="185"/>
                </a:lnTo>
                <a:lnTo>
                  <a:pt x="440" y="236"/>
                </a:lnTo>
                <a:lnTo>
                  <a:pt x="457" y="270"/>
                </a:lnTo>
                <a:lnTo>
                  <a:pt x="474" y="304"/>
                </a:lnTo>
                <a:lnTo>
                  <a:pt x="457" y="371"/>
                </a:lnTo>
                <a:lnTo>
                  <a:pt x="440" y="422"/>
                </a:lnTo>
                <a:lnTo>
                  <a:pt x="406" y="456"/>
                </a:lnTo>
                <a:lnTo>
                  <a:pt x="373" y="473"/>
                </a:lnTo>
                <a:lnTo>
                  <a:pt x="339" y="456"/>
                </a:lnTo>
                <a:lnTo>
                  <a:pt x="305" y="422"/>
                </a:lnTo>
                <a:lnTo>
                  <a:pt x="237" y="354"/>
                </a:lnTo>
                <a:lnTo>
                  <a:pt x="169" y="2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28592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TextBox 57"/>
          <p:cNvSpPr/>
          <p:nvPr/>
        </p:nvSpPr>
        <p:spPr>
          <a:xfrm>
            <a:off x="4619520" y="485784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“文”撇捺舒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波纹  螺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4"/>
          <p:cNvSpPr/>
          <p:nvPr/>
        </p:nvSpPr>
        <p:spPr>
          <a:xfrm>
            <a:off x="857160" y="503568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湖面上被风吹起一圈圈波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1"/>
          <p:cNvSpPr/>
          <p:nvPr/>
        </p:nvSpPr>
        <p:spPr>
          <a:xfrm>
            <a:off x="22273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5490720" y="21448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1"/>
          <p:cNvSpPr/>
          <p:nvPr/>
        </p:nvSpPr>
        <p:spPr>
          <a:xfrm>
            <a:off x="5502240" y="3475080"/>
            <a:ext cx="623880" cy="342720"/>
          </a:xfrm>
          <a:custGeom>
            <a:avLst/>
            <a:gdLst>
              <a:gd name="textAreaLeft" fmla="*/ 0 w 623880"/>
              <a:gd name="textAreaRight" fmla="*/ 624240 w 6238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983" h="541">
                <a:moveTo>
                  <a:pt x="525" y="152"/>
                </a:moveTo>
                <a:lnTo>
                  <a:pt x="610" y="118"/>
                </a:lnTo>
                <a:lnTo>
                  <a:pt x="678" y="84"/>
                </a:lnTo>
                <a:lnTo>
                  <a:pt x="745" y="68"/>
                </a:lnTo>
                <a:lnTo>
                  <a:pt x="796" y="34"/>
                </a:lnTo>
                <a:lnTo>
                  <a:pt x="847" y="17"/>
                </a:lnTo>
                <a:lnTo>
                  <a:pt x="898" y="17"/>
                </a:lnTo>
                <a:lnTo>
                  <a:pt x="932" y="0"/>
                </a:lnTo>
                <a:lnTo>
                  <a:pt x="949" y="0"/>
                </a:lnTo>
                <a:lnTo>
                  <a:pt x="966" y="0"/>
                </a:lnTo>
                <a:lnTo>
                  <a:pt x="983" y="17"/>
                </a:lnTo>
                <a:lnTo>
                  <a:pt x="966" y="34"/>
                </a:lnTo>
                <a:lnTo>
                  <a:pt x="932" y="68"/>
                </a:lnTo>
                <a:lnTo>
                  <a:pt x="898" y="84"/>
                </a:lnTo>
                <a:lnTo>
                  <a:pt x="864" y="118"/>
                </a:lnTo>
                <a:lnTo>
                  <a:pt x="796" y="152"/>
                </a:lnTo>
                <a:lnTo>
                  <a:pt x="745" y="203"/>
                </a:lnTo>
                <a:lnTo>
                  <a:pt x="661" y="253"/>
                </a:lnTo>
                <a:lnTo>
                  <a:pt x="593" y="304"/>
                </a:lnTo>
                <a:lnTo>
                  <a:pt x="508" y="355"/>
                </a:lnTo>
                <a:lnTo>
                  <a:pt x="423" y="405"/>
                </a:lnTo>
                <a:lnTo>
                  <a:pt x="356" y="439"/>
                </a:lnTo>
                <a:lnTo>
                  <a:pt x="305" y="473"/>
                </a:lnTo>
                <a:lnTo>
                  <a:pt x="254" y="507"/>
                </a:lnTo>
                <a:lnTo>
                  <a:pt x="220" y="524"/>
                </a:lnTo>
                <a:lnTo>
                  <a:pt x="203" y="524"/>
                </a:lnTo>
                <a:lnTo>
                  <a:pt x="186" y="541"/>
                </a:lnTo>
                <a:lnTo>
                  <a:pt x="152" y="524"/>
                </a:lnTo>
                <a:lnTo>
                  <a:pt x="119" y="507"/>
                </a:lnTo>
                <a:lnTo>
                  <a:pt x="102" y="490"/>
                </a:lnTo>
                <a:lnTo>
                  <a:pt x="68" y="439"/>
                </a:lnTo>
                <a:lnTo>
                  <a:pt x="17" y="405"/>
                </a:lnTo>
                <a:lnTo>
                  <a:pt x="0" y="372"/>
                </a:lnTo>
                <a:lnTo>
                  <a:pt x="0" y="338"/>
                </a:lnTo>
                <a:lnTo>
                  <a:pt x="0" y="321"/>
                </a:lnTo>
                <a:lnTo>
                  <a:pt x="17" y="304"/>
                </a:lnTo>
                <a:lnTo>
                  <a:pt x="51" y="304"/>
                </a:lnTo>
                <a:lnTo>
                  <a:pt x="68" y="321"/>
                </a:lnTo>
                <a:lnTo>
                  <a:pt x="119" y="321"/>
                </a:lnTo>
                <a:lnTo>
                  <a:pt x="152" y="321"/>
                </a:lnTo>
                <a:lnTo>
                  <a:pt x="169" y="304"/>
                </a:lnTo>
                <a:lnTo>
                  <a:pt x="186" y="304"/>
                </a:lnTo>
                <a:lnTo>
                  <a:pt x="220" y="287"/>
                </a:lnTo>
                <a:lnTo>
                  <a:pt x="254" y="270"/>
                </a:lnTo>
                <a:lnTo>
                  <a:pt x="305" y="253"/>
                </a:lnTo>
                <a:lnTo>
                  <a:pt x="373" y="220"/>
                </a:lnTo>
                <a:lnTo>
                  <a:pt x="440" y="203"/>
                </a:lnTo>
                <a:lnTo>
                  <a:pt x="525" y="1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32"/>
          <p:cNvSpPr/>
          <p:nvPr/>
        </p:nvSpPr>
        <p:spPr>
          <a:xfrm>
            <a:off x="6157800" y="2712960"/>
            <a:ext cx="914400" cy="246240"/>
          </a:xfrm>
          <a:custGeom>
            <a:avLst/>
            <a:gdLst>
              <a:gd name="textAreaLeft" fmla="*/ 0 w 914400"/>
              <a:gd name="textAreaRight" fmla="*/ 914760 w 9144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440" h="389">
                <a:moveTo>
                  <a:pt x="1186" y="186"/>
                </a:moveTo>
                <a:lnTo>
                  <a:pt x="1068" y="203"/>
                </a:lnTo>
                <a:lnTo>
                  <a:pt x="915" y="220"/>
                </a:lnTo>
                <a:lnTo>
                  <a:pt x="763" y="254"/>
                </a:lnTo>
                <a:lnTo>
                  <a:pt x="593" y="288"/>
                </a:lnTo>
                <a:lnTo>
                  <a:pt x="509" y="321"/>
                </a:lnTo>
                <a:lnTo>
                  <a:pt x="424" y="338"/>
                </a:lnTo>
                <a:lnTo>
                  <a:pt x="373" y="355"/>
                </a:lnTo>
                <a:lnTo>
                  <a:pt x="305" y="372"/>
                </a:lnTo>
                <a:lnTo>
                  <a:pt x="271" y="372"/>
                </a:lnTo>
                <a:lnTo>
                  <a:pt x="238" y="389"/>
                </a:lnTo>
                <a:lnTo>
                  <a:pt x="204" y="389"/>
                </a:lnTo>
                <a:lnTo>
                  <a:pt x="170" y="389"/>
                </a:lnTo>
                <a:lnTo>
                  <a:pt x="119" y="372"/>
                </a:lnTo>
                <a:lnTo>
                  <a:pt x="51" y="355"/>
                </a:lnTo>
                <a:lnTo>
                  <a:pt x="34" y="338"/>
                </a:lnTo>
                <a:lnTo>
                  <a:pt x="0" y="304"/>
                </a:lnTo>
                <a:lnTo>
                  <a:pt x="136" y="271"/>
                </a:lnTo>
                <a:lnTo>
                  <a:pt x="255" y="237"/>
                </a:lnTo>
                <a:lnTo>
                  <a:pt x="373" y="203"/>
                </a:lnTo>
                <a:lnTo>
                  <a:pt x="492" y="169"/>
                </a:lnTo>
                <a:lnTo>
                  <a:pt x="593" y="136"/>
                </a:lnTo>
                <a:lnTo>
                  <a:pt x="695" y="119"/>
                </a:lnTo>
                <a:lnTo>
                  <a:pt x="780" y="102"/>
                </a:lnTo>
                <a:lnTo>
                  <a:pt x="864" y="68"/>
                </a:lnTo>
                <a:lnTo>
                  <a:pt x="932" y="51"/>
                </a:lnTo>
                <a:lnTo>
                  <a:pt x="1000" y="34"/>
                </a:lnTo>
                <a:lnTo>
                  <a:pt x="1051" y="34"/>
                </a:lnTo>
                <a:lnTo>
                  <a:pt x="1102" y="17"/>
                </a:lnTo>
                <a:lnTo>
                  <a:pt x="1152" y="0"/>
                </a:lnTo>
                <a:lnTo>
                  <a:pt x="1186" y="0"/>
                </a:lnTo>
                <a:lnTo>
                  <a:pt x="1203" y="0"/>
                </a:lnTo>
                <a:lnTo>
                  <a:pt x="1220" y="0"/>
                </a:lnTo>
                <a:lnTo>
                  <a:pt x="1271" y="0"/>
                </a:lnTo>
                <a:lnTo>
                  <a:pt x="1322" y="0"/>
                </a:lnTo>
                <a:lnTo>
                  <a:pt x="1390" y="34"/>
                </a:lnTo>
                <a:lnTo>
                  <a:pt x="1407" y="51"/>
                </a:lnTo>
                <a:lnTo>
                  <a:pt x="1424" y="68"/>
                </a:lnTo>
                <a:lnTo>
                  <a:pt x="1440" y="102"/>
                </a:lnTo>
                <a:lnTo>
                  <a:pt x="1424" y="119"/>
                </a:lnTo>
                <a:lnTo>
                  <a:pt x="1407" y="119"/>
                </a:lnTo>
                <a:lnTo>
                  <a:pt x="1373" y="136"/>
                </a:lnTo>
                <a:lnTo>
                  <a:pt x="1339" y="136"/>
                </a:lnTo>
                <a:lnTo>
                  <a:pt x="1305" y="152"/>
                </a:lnTo>
                <a:lnTo>
                  <a:pt x="1254" y="169"/>
                </a:lnTo>
                <a:lnTo>
                  <a:pt x="1186" y="18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3"/>
          <p:cNvSpPr/>
          <p:nvPr/>
        </p:nvSpPr>
        <p:spPr>
          <a:xfrm>
            <a:off x="5964120" y="2819520"/>
            <a:ext cx="797040" cy="1019160"/>
          </a:xfrm>
          <a:custGeom>
            <a:avLst/>
            <a:gdLst>
              <a:gd name="textAreaLeft" fmla="*/ 0 w 797040"/>
              <a:gd name="textAreaRight" fmla="*/ 797400 w 79704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1254" h="1605">
                <a:moveTo>
                  <a:pt x="1254" y="203"/>
                </a:moveTo>
                <a:lnTo>
                  <a:pt x="1254" y="254"/>
                </a:lnTo>
                <a:lnTo>
                  <a:pt x="1254" y="321"/>
                </a:lnTo>
                <a:lnTo>
                  <a:pt x="1220" y="406"/>
                </a:lnTo>
                <a:lnTo>
                  <a:pt x="1203" y="457"/>
                </a:lnTo>
                <a:lnTo>
                  <a:pt x="1186" y="524"/>
                </a:lnTo>
                <a:lnTo>
                  <a:pt x="1136" y="676"/>
                </a:lnTo>
                <a:lnTo>
                  <a:pt x="1068" y="811"/>
                </a:lnTo>
                <a:lnTo>
                  <a:pt x="983" y="946"/>
                </a:lnTo>
                <a:lnTo>
                  <a:pt x="898" y="1082"/>
                </a:lnTo>
                <a:lnTo>
                  <a:pt x="780" y="1200"/>
                </a:lnTo>
                <a:lnTo>
                  <a:pt x="661" y="1318"/>
                </a:lnTo>
                <a:lnTo>
                  <a:pt x="509" y="1403"/>
                </a:lnTo>
                <a:lnTo>
                  <a:pt x="356" y="1487"/>
                </a:lnTo>
                <a:lnTo>
                  <a:pt x="272" y="1521"/>
                </a:lnTo>
                <a:lnTo>
                  <a:pt x="204" y="1555"/>
                </a:lnTo>
                <a:lnTo>
                  <a:pt x="136" y="1572"/>
                </a:lnTo>
                <a:lnTo>
                  <a:pt x="85" y="1589"/>
                </a:lnTo>
                <a:lnTo>
                  <a:pt x="51" y="1589"/>
                </a:lnTo>
                <a:lnTo>
                  <a:pt x="34" y="1605"/>
                </a:lnTo>
                <a:lnTo>
                  <a:pt x="17" y="1605"/>
                </a:lnTo>
                <a:lnTo>
                  <a:pt x="0" y="1589"/>
                </a:lnTo>
                <a:lnTo>
                  <a:pt x="17" y="1572"/>
                </a:lnTo>
                <a:lnTo>
                  <a:pt x="34" y="1555"/>
                </a:lnTo>
                <a:lnTo>
                  <a:pt x="68" y="1521"/>
                </a:lnTo>
                <a:lnTo>
                  <a:pt x="102" y="1504"/>
                </a:lnTo>
                <a:lnTo>
                  <a:pt x="136" y="1470"/>
                </a:lnTo>
                <a:lnTo>
                  <a:pt x="204" y="1436"/>
                </a:lnTo>
                <a:lnTo>
                  <a:pt x="255" y="1403"/>
                </a:lnTo>
                <a:lnTo>
                  <a:pt x="390" y="1335"/>
                </a:lnTo>
                <a:lnTo>
                  <a:pt x="509" y="1251"/>
                </a:lnTo>
                <a:lnTo>
                  <a:pt x="610" y="1166"/>
                </a:lnTo>
                <a:lnTo>
                  <a:pt x="712" y="1065"/>
                </a:lnTo>
                <a:lnTo>
                  <a:pt x="780" y="946"/>
                </a:lnTo>
                <a:lnTo>
                  <a:pt x="865" y="828"/>
                </a:lnTo>
                <a:lnTo>
                  <a:pt x="932" y="693"/>
                </a:lnTo>
                <a:lnTo>
                  <a:pt x="983" y="541"/>
                </a:lnTo>
                <a:lnTo>
                  <a:pt x="1017" y="406"/>
                </a:lnTo>
                <a:lnTo>
                  <a:pt x="1051" y="254"/>
                </a:lnTo>
                <a:lnTo>
                  <a:pt x="1068" y="119"/>
                </a:lnTo>
                <a:lnTo>
                  <a:pt x="1068" y="0"/>
                </a:lnTo>
                <a:lnTo>
                  <a:pt x="1136" y="68"/>
                </a:lnTo>
                <a:lnTo>
                  <a:pt x="1203" y="119"/>
                </a:lnTo>
                <a:lnTo>
                  <a:pt x="1237" y="169"/>
                </a:lnTo>
                <a:lnTo>
                  <a:pt x="1254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34"/>
          <p:cNvSpPr/>
          <p:nvPr/>
        </p:nvSpPr>
        <p:spPr>
          <a:xfrm>
            <a:off x="6189840" y="3078000"/>
            <a:ext cx="1152360" cy="7938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1813" h="1250">
                <a:moveTo>
                  <a:pt x="68" y="101"/>
                </a:moveTo>
                <a:lnTo>
                  <a:pt x="34" y="84"/>
                </a:lnTo>
                <a:lnTo>
                  <a:pt x="0" y="67"/>
                </a:lnTo>
                <a:lnTo>
                  <a:pt x="0" y="51"/>
                </a:lnTo>
                <a:lnTo>
                  <a:pt x="0" y="34"/>
                </a:lnTo>
                <a:lnTo>
                  <a:pt x="0" y="17"/>
                </a:lnTo>
                <a:lnTo>
                  <a:pt x="17" y="17"/>
                </a:lnTo>
                <a:lnTo>
                  <a:pt x="51" y="17"/>
                </a:lnTo>
                <a:lnTo>
                  <a:pt x="68" y="0"/>
                </a:lnTo>
                <a:lnTo>
                  <a:pt x="119" y="17"/>
                </a:lnTo>
                <a:lnTo>
                  <a:pt x="153" y="17"/>
                </a:lnTo>
                <a:lnTo>
                  <a:pt x="187" y="51"/>
                </a:lnTo>
                <a:lnTo>
                  <a:pt x="237" y="67"/>
                </a:lnTo>
                <a:lnTo>
                  <a:pt x="288" y="118"/>
                </a:lnTo>
                <a:lnTo>
                  <a:pt x="356" y="186"/>
                </a:lnTo>
                <a:lnTo>
                  <a:pt x="441" y="270"/>
                </a:lnTo>
                <a:lnTo>
                  <a:pt x="542" y="388"/>
                </a:lnTo>
                <a:lnTo>
                  <a:pt x="644" y="507"/>
                </a:lnTo>
                <a:lnTo>
                  <a:pt x="746" y="608"/>
                </a:lnTo>
                <a:lnTo>
                  <a:pt x="847" y="693"/>
                </a:lnTo>
                <a:lnTo>
                  <a:pt x="949" y="777"/>
                </a:lnTo>
                <a:lnTo>
                  <a:pt x="1068" y="861"/>
                </a:lnTo>
                <a:lnTo>
                  <a:pt x="1186" y="929"/>
                </a:lnTo>
                <a:lnTo>
                  <a:pt x="1322" y="997"/>
                </a:lnTo>
                <a:lnTo>
                  <a:pt x="1491" y="1047"/>
                </a:lnTo>
                <a:lnTo>
                  <a:pt x="1559" y="1064"/>
                </a:lnTo>
                <a:lnTo>
                  <a:pt x="1627" y="1098"/>
                </a:lnTo>
                <a:lnTo>
                  <a:pt x="1678" y="1115"/>
                </a:lnTo>
                <a:lnTo>
                  <a:pt x="1728" y="1132"/>
                </a:lnTo>
                <a:lnTo>
                  <a:pt x="1762" y="1149"/>
                </a:lnTo>
                <a:lnTo>
                  <a:pt x="1796" y="1149"/>
                </a:lnTo>
                <a:lnTo>
                  <a:pt x="1813" y="1166"/>
                </a:lnTo>
                <a:lnTo>
                  <a:pt x="1796" y="1183"/>
                </a:lnTo>
                <a:lnTo>
                  <a:pt x="1762" y="1199"/>
                </a:lnTo>
                <a:lnTo>
                  <a:pt x="1711" y="1216"/>
                </a:lnTo>
                <a:lnTo>
                  <a:pt x="1644" y="1233"/>
                </a:lnTo>
                <a:lnTo>
                  <a:pt x="1457" y="1233"/>
                </a:lnTo>
                <a:lnTo>
                  <a:pt x="1288" y="1250"/>
                </a:lnTo>
                <a:lnTo>
                  <a:pt x="1203" y="1250"/>
                </a:lnTo>
                <a:lnTo>
                  <a:pt x="1135" y="1233"/>
                </a:lnTo>
                <a:lnTo>
                  <a:pt x="1085" y="1216"/>
                </a:lnTo>
                <a:lnTo>
                  <a:pt x="1051" y="1199"/>
                </a:lnTo>
                <a:lnTo>
                  <a:pt x="1000" y="1166"/>
                </a:lnTo>
                <a:lnTo>
                  <a:pt x="949" y="1098"/>
                </a:lnTo>
                <a:lnTo>
                  <a:pt x="881" y="1014"/>
                </a:lnTo>
                <a:lnTo>
                  <a:pt x="797" y="912"/>
                </a:lnTo>
                <a:lnTo>
                  <a:pt x="712" y="794"/>
                </a:lnTo>
                <a:lnTo>
                  <a:pt x="610" y="676"/>
                </a:lnTo>
                <a:lnTo>
                  <a:pt x="492" y="557"/>
                </a:lnTo>
                <a:lnTo>
                  <a:pt x="373" y="405"/>
                </a:lnTo>
                <a:lnTo>
                  <a:pt x="322" y="338"/>
                </a:lnTo>
                <a:lnTo>
                  <a:pt x="271" y="287"/>
                </a:lnTo>
                <a:lnTo>
                  <a:pt x="220" y="219"/>
                </a:lnTo>
                <a:lnTo>
                  <a:pt x="170" y="186"/>
                </a:lnTo>
                <a:lnTo>
                  <a:pt x="136" y="152"/>
                </a:lnTo>
                <a:lnTo>
                  <a:pt x="119" y="118"/>
                </a:lnTo>
                <a:lnTo>
                  <a:pt x="85" y="101"/>
                </a:lnTo>
                <a:lnTo>
                  <a:pt x="68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35"/>
          <p:cNvSpPr/>
          <p:nvPr/>
        </p:nvSpPr>
        <p:spPr>
          <a:xfrm>
            <a:off x="5502240" y="2305080"/>
            <a:ext cx="461880" cy="739800"/>
          </a:xfrm>
          <a:custGeom>
            <a:avLst/>
            <a:gdLst>
              <a:gd name="textAreaLeft" fmla="*/ 0 w 461880"/>
              <a:gd name="textAreaRight" fmla="*/ 462240 w 4618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728" h="1166">
                <a:moveTo>
                  <a:pt x="576" y="423"/>
                </a:moveTo>
                <a:lnTo>
                  <a:pt x="508" y="524"/>
                </a:lnTo>
                <a:lnTo>
                  <a:pt x="457" y="609"/>
                </a:lnTo>
                <a:lnTo>
                  <a:pt x="390" y="693"/>
                </a:lnTo>
                <a:lnTo>
                  <a:pt x="339" y="778"/>
                </a:lnTo>
                <a:lnTo>
                  <a:pt x="305" y="828"/>
                </a:lnTo>
                <a:lnTo>
                  <a:pt x="271" y="879"/>
                </a:lnTo>
                <a:lnTo>
                  <a:pt x="271" y="913"/>
                </a:lnTo>
                <a:lnTo>
                  <a:pt x="271" y="930"/>
                </a:lnTo>
                <a:lnTo>
                  <a:pt x="288" y="930"/>
                </a:lnTo>
                <a:lnTo>
                  <a:pt x="305" y="930"/>
                </a:lnTo>
                <a:lnTo>
                  <a:pt x="356" y="946"/>
                </a:lnTo>
                <a:lnTo>
                  <a:pt x="407" y="946"/>
                </a:lnTo>
                <a:lnTo>
                  <a:pt x="457" y="946"/>
                </a:lnTo>
                <a:lnTo>
                  <a:pt x="542" y="946"/>
                </a:lnTo>
                <a:lnTo>
                  <a:pt x="627" y="946"/>
                </a:lnTo>
                <a:lnTo>
                  <a:pt x="728" y="946"/>
                </a:lnTo>
                <a:lnTo>
                  <a:pt x="728" y="1014"/>
                </a:lnTo>
                <a:lnTo>
                  <a:pt x="627" y="1031"/>
                </a:lnTo>
                <a:lnTo>
                  <a:pt x="525" y="1048"/>
                </a:lnTo>
                <a:lnTo>
                  <a:pt x="440" y="1065"/>
                </a:lnTo>
                <a:lnTo>
                  <a:pt x="356" y="1065"/>
                </a:lnTo>
                <a:lnTo>
                  <a:pt x="305" y="1082"/>
                </a:lnTo>
                <a:lnTo>
                  <a:pt x="254" y="1099"/>
                </a:lnTo>
                <a:lnTo>
                  <a:pt x="220" y="1115"/>
                </a:lnTo>
                <a:lnTo>
                  <a:pt x="203" y="1115"/>
                </a:lnTo>
                <a:lnTo>
                  <a:pt x="169" y="1149"/>
                </a:lnTo>
                <a:lnTo>
                  <a:pt x="135" y="1166"/>
                </a:lnTo>
                <a:lnTo>
                  <a:pt x="119" y="1166"/>
                </a:lnTo>
                <a:lnTo>
                  <a:pt x="102" y="1166"/>
                </a:lnTo>
                <a:lnTo>
                  <a:pt x="85" y="1166"/>
                </a:lnTo>
                <a:lnTo>
                  <a:pt x="68" y="1166"/>
                </a:lnTo>
                <a:lnTo>
                  <a:pt x="34" y="1132"/>
                </a:lnTo>
                <a:lnTo>
                  <a:pt x="17" y="1099"/>
                </a:lnTo>
                <a:lnTo>
                  <a:pt x="0" y="1065"/>
                </a:lnTo>
                <a:lnTo>
                  <a:pt x="0" y="1048"/>
                </a:lnTo>
                <a:lnTo>
                  <a:pt x="0" y="1014"/>
                </a:lnTo>
                <a:lnTo>
                  <a:pt x="0" y="997"/>
                </a:lnTo>
                <a:lnTo>
                  <a:pt x="17" y="980"/>
                </a:lnTo>
                <a:lnTo>
                  <a:pt x="68" y="930"/>
                </a:lnTo>
                <a:lnTo>
                  <a:pt x="85" y="913"/>
                </a:lnTo>
                <a:lnTo>
                  <a:pt x="135" y="862"/>
                </a:lnTo>
                <a:lnTo>
                  <a:pt x="186" y="794"/>
                </a:lnTo>
                <a:lnTo>
                  <a:pt x="237" y="710"/>
                </a:lnTo>
                <a:lnTo>
                  <a:pt x="339" y="524"/>
                </a:lnTo>
                <a:lnTo>
                  <a:pt x="440" y="321"/>
                </a:lnTo>
                <a:lnTo>
                  <a:pt x="457" y="220"/>
                </a:lnTo>
                <a:lnTo>
                  <a:pt x="474" y="152"/>
                </a:lnTo>
                <a:lnTo>
                  <a:pt x="491" y="102"/>
                </a:lnTo>
                <a:lnTo>
                  <a:pt x="491" y="68"/>
                </a:lnTo>
                <a:lnTo>
                  <a:pt x="474" y="34"/>
                </a:lnTo>
                <a:lnTo>
                  <a:pt x="491" y="17"/>
                </a:lnTo>
                <a:lnTo>
                  <a:pt x="491" y="0"/>
                </a:lnTo>
                <a:lnTo>
                  <a:pt x="525" y="0"/>
                </a:lnTo>
                <a:lnTo>
                  <a:pt x="559" y="0"/>
                </a:lnTo>
                <a:lnTo>
                  <a:pt x="593" y="17"/>
                </a:lnTo>
                <a:lnTo>
                  <a:pt x="627" y="51"/>
                </a:lnTo>
                <a:lnTo>
                  <a:pt x="678" y="85"/>
                </a:lnTo>
                <a:lnTo>
                  <a:pt x="695" y="119"/>
                </a:lnTo>
                <a:lnTo>
                  <a:pt x="712" y="135"/>
                </a:lnTo>
                <a:lnTo>
                  <a:pt x="728" y="152"/>
                </a:lnTo>
                <a:lnTo>
                  <a:pt x="712" y="203"/>
                </a:lnTo>
                <a:lnTo>
                  <a:pt x="678" y="254"/>
                </a:lnTo>
                <a:lnTo>
                  <a:pt x="627" y="321"/>
                </a:lnTo>
                <a:lnTo>
                  <a:pt x="576" y="4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36"/>
          <p:cNvSpPr/>
          <p:nvPr/>
        </p:nvSpPr>
        <p:spPr>
          <a:xfrm>
            <a:off x="5556240" y="2604960"/>
            <a:ext cx="601560" cy="804960"/>
          </a:xfrm>
          <a:custGeom>
            <a:avLst/>
            <a:gdLst>
              <a:gd name="textAreaLeft" fmla="*/ 0 w 601560"/>
              <a:gd name="textAreaRight" fmla="*/ 601920 w 601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48" h="1268">
                <a:moveTo>
                  <a:pt x="203" y="1234"/>
                </a:moveTo>
                <a:lnTo>
                  <a:pt x="152" y="1268"/>
                </a:lnTo>
                <a:lnTo>
                  <a:pt x="118" y="1268"/>
                </a:lnTo>
                <a:lnTo>
                  <a:pt x="101" y="1268"/>
                </a:lnTo>
                <a:lnTo>
                  <a:pt x="67" y="1251"/>
                </a:lnTo>
                <a:lnTo>
                  <a:pt x="50" y="1234"/>
                </a:lnTo>
                <a:lnTo>
                  <a:pt x="34" y="1200"/>
                </a:lnTo>
                <a:lnTo>
                  <a:pt x="17" y="1149"/>
                </a:lnTo>
                <a:lnTo>
                  <a:pt x="0" y="1116"/>
                </a:lnTo>
                <a:lnTo>
                  <a:pt x="17" y="1099"/>
                </a:lnTo>
                <a:lnTo>
                  <a:pt x="17" y="1082"/>
                </a:lnTo>
                <a:lnTo>
                  <a:pt x="34" y="1048"/>
                </a:lnTo>
                <a:lnTo>
                  <a:pt x="67" y="1014"/>
                </a:lnTo>
                <a:lnTo>
                  <a:pt x="118" y="980"/>
                </a:lnTo>
                <a:lnTo>
                  <a:pt x="152" y="963"/>
                </a:lnTo>
                <a:lnTo>
                  <a:pt x="186" y="930"/>
                </a:lnTo>
                <a:lnTo>
                  <a:pt x="237" y="879"/>
                </a:lnTo>
                <a:lnTo>
                  <a:pt x="271" y="828"/>
                </a:lnTo>
                <a:lnTo>
                  <a:pt x="322" y="761"/>
                </a:lnTo>
                <a:lnTo>
                  <a:pt x="372" y="693"/>
                </a:lnTo>
                <a:lnTo>
                  <a:pt x="440" y="609"/>
                </a:lnTo>
                <a:lnTo>
                  <a:pt x="508" y="524"/>
                </a:lnTo>
                <a:lnTo>
                  <a:pt x="559" y="423"/>
                </a:lnTo>
                <a:lnTo>
                  <a:pt x="610" y="355"/>
                </a:lnTo>
                <a:lnTo>
                  <a:pt x="660" y="271"/>
                </a:lnTo>
                <a:lnTo>
                  <a:pt x="694" y="220"/>
                </a:lnTo>
                <a:lnTo>
                  <a:pt x="728" y="169"/>
                </a:lnTo>
                <a:lnTo>
                  <a:pt x="745" y="119"/>
                </a:lnTo>
                <a:lnTo>
                  <a:pt x="762" y="85"/>
                </a:lnTo>
                <a:lnTo>
                  <a:pt x="762" y="68"/>
                </a:lnTo>
                <a:lnTo>
                  <a:pt x="762" y="34"/>
                </a:lnTo>
                <a:lnTo>
                  <a:pt x="779" y="17"/>
                </a:lnTo>
                <a:lnTo>
                  <a:pt x="779" y="0"/>
                </a:lnTo>
                <a:lnTo>
                  <a:pt x="796" y="0"/>
                </a:lnTo>
                <a:lnTo>
                  <a:pt x="813" y="0"/>
                </a:lnTo>
                <a:lnTo>
                  <a:pt x="830" y="17"/>
                </a:lnTo>
                <a:lnTo>
                  <a:pt x="864" y="34"/>
                </a:lnTo>
                <a:lnTo>
                  <a:pt x="881" y="68"/>
                </a:lnTo>
                <a:lnTo>
                  <a:pt x="931" y="152"/>
                </a:lnTo>
                <a:lnTo>
                  <a:pt x="948" y="169"/>
                </a:lnTo>
                <a:lnTo>
                  <a:pt x="948" y="186"/>
                </a:lnTo>
                <a:lnTo>
                  <a:pt x="948" y="203"/>
                </a:lnTo>
                <a:lnTo>
                  <a:pt x="931" y="237"/>
                </a:lnTo>
                <a:lnTo>
                  <a:pt x="898" y="271"/>
                </a:lnTo>
                <a:lnTo>
                  <a:pt x="864" y="321"/>
                </a:lnTo>
                <a:lnTo>
                  <a:pt x="813" y="372"/>
                </a:lnTo>
                <a:lnTo>
                  <a:pt x="762" y="440"/>
                </a:lnTo>
                <a:lnTo>
                  <a:pt x="694" y="507"/>
                </a:lnTo>
                <a:lnTo>
                  <a:pt x="627" y="592"/>
                </a:lnTo>
                <a:lnTo>
                  <a:pt x="559" y="676"/>
                </a:lnTo>
                <a:lnTo>
                  <a:pt x="491" y="761"/>
                </a:lnTo>
                <a:lnTo>
                  <a:pt x="440" y="811"/>
                </a:lnTo>
                <a:lnTo>
                  <a:pt x="389" y="879"/>
                </a:lnTo>
                <a:lnTo>
                  <a:pt x="372" y="913"/>
                </a:lnTo>
                <a:lnTo>
                  <a:pt x="355" y="947"/>
                </a:lnTo>
                <a:lnTo>
                  <a:pt x="338" y="963"/>
                </a:lnTo>
                <a:lnTo>
                  <a:pt x="355" y="980"/>
                </a:lnTo>
                <a:lnTo>
                  <a:pt x="389" y="997"/>
                </a:lnTo>
                <a:lnTo>
                  <a:pt x="406" y="997"/>
                </a:lnTo>
                <a:lnTo>
                  <a:pt x="457" y="980"/>
                </a:lnTo>
                <a:lnTo>
                  <a:pt x="525" y="963"/>
                </a:lnTo>
                <a:lnTo>
                  <a:pt x="610" y="947"/>
                </a:lnTo>
                <a:lnTo>
                  <a:pt x="711" y="913"/>
                </a:lnTo>
                <a:lnTo>
                  <a:pt x="779" y="896"/>
                </a:lnTo>
                <a:lnTo>
                  <a:pt x="830" y="896"/>
                </a:lnTo>
                <a:lnTo>
                  <a:pt x="864" y="896"/>
                </a:lnTo>
                <a:lnTo>
                  <a:pt x="881" y="896"/>
                </a:lnTo>
                <a:lnTo>
                  <a:pt x="898" y="896"/>
                </a:lnTo>
                <a:lnTo>
                  <a:pt x="915" y="913"/>
                </a:lnTo>
                <a:lnTo>
                  <a:pt x="915" y="930"/>
                </a:lnTo>
                <a:lnTo>
                  <a:pt x="898" y="947"/>
                </a:lnTo>
                <a:lnTo>
                  <a:pt x="864" y="963"/>
                </a:lnTo>
                <a:lnTo>
                  <a:pt x="830" y="980"/>
                </a:lnTo>
                <a:lnTo>
                  <a:pt x="779" y="997"/>
                </a:lnTo>
                <a:lnTo>
                  <a:pt x="728" y="1014"/>
                </a:lnTo>
                <a:lnTo>
                  <a:pt x="660" y="1031"/>
                </a:lnTo>
                <a:lnTo>
                  <a:pt x="593" y="1065"/>
                </a:lnTo>
                <a:lnTo>
                  <a:pt x="508" y="1082"/>
                </a:lnTo>
                <a:lnTo>
                  <a:pt x="440" y="1116"/>
                </a:lnTo>
                <a:lnTo>
                  <a:pt x="389" y="1132"/>
                </a:lnTo>
                <a:lnTo>
                  <a:pt x="322" y="1166"/>
                </a:lnTo>
                <a:lnTo>
                  <a:pt x="288" y="1183"/>
                </a:lnTo>
                <a:lnTo>
                  <a:pt x="254" y="1200"/>
                </a:lnTo>
                <a:lnTo>
                  <a:pt x="220" y="1217"/>
                </a:lnTo>
                <a:lnTo>
                  <a:pt x="203" y="12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1214280" y="2027160"/>
            <a:ext cx="140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à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6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TextBox 57"/>
          <p:cNvSpPr/>
          <p:nvPr/>
        </p:nvSpPr>
        <p:spPr>
          <a:xfrm>
            <a:off x="4619520" y="4857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右部笔画紧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好像  就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4"/>
          <p:cNvSpPr/>
          <p:nvPr/>
        </p:nvSpPr>
        <p:spPr>
          <a:xfrm>
            <a:off x="857160" y="502128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碧绿的湖水好像美玉一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31"/>
          <p:cNvSpPr/>
          <p:nvPr/>
        </p:nvSpPr>
        <p:spPr>
          <a:xfrm>
            <a:off x="22273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3492000" y="22129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5407200" y="2255760"/>
            <a:ext cx="634680" cy="997200"/>
          </a:xfrm>
          <a:custGeom>
            <a:avLst/>
            <a:gdLst>
              <a:gd name="textAreaLeft" fmla="*/ 0 w 634680"/>
              <a:gd name="textAreaRight" fmla="*/ 635040 w 63468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999" h="1572">
                <a:moveTo>
                  <a:pt x="169" y="1301"/>
                </a:moveTo>
                <a:lnTo>
                  <a:pt x="271" y="1166"/>
                </a:lnTo>
                <a:lnTo>
                  <a:pt x="372" y="1031"/>
                </a:lnTo>
                <a:lnTo>
                  <a:pt x="457" y="879"/>
                </a:lnTo>
                <a:lnTo>
                  <a:pt x="542" y="727"/>
                </a:lnTo>
                <a:lnTo>
                  <a:pt x="610" y="575"/>
                </a:lnTo>
                <a:lnTo>
                  <a:pt x="677" y="440"/>
                </a:lnTo>
                <a:lnTo>
                  <a:pt x="711" y="338"/>
                </a:lnTo>
                <a:lnTo>
                  <a:pt x="745" y="254"/>
                </a:lnTo>
                <a:lnTo>
                  <a:pt x="762" y="186"/>
                </a:lnTo>
                <a:lnTo>
                  <a:pt x="762" y="153"/>
                </a:lnTo>
                <a:lnTo>
                  <a:pt x="762" y="102"/>
                </a:lnTo>
                <a:lnTo>
                  <a:pt x="762" y="68"/>
                </a:lnTo>
                <a:lnTo>
                  <a:pt x="745" y="51"/>
                </a:lnTo>
                <a:lnTo>
                  <a:pt x="745" y="34"/>
                </a:lnTo>
                <a:lnTo>
                  <a:pt x="745" y="17"/>
                </a:lnTo>
                <a:lnTo>
                  <a:pt x="762" y="17"/>
                </a:lnTo>
                <a:lnTo>
                  <a:pt x="779" y="0"/>
                </a:lnTo>
                <a:lnTo>
                  <a:pt x="813" y="17"/>
                </a:lnTo>
                <a:lnTo>
                  <a:pt x="847" y="34"/>
                </a:lnTo>
                <a:lnTo>
                  <a:pt x="898" y="68"/>
                </a:lnTo>
                <a:lnTo>
                  <a:pt x="948" y="85"/>
                </a:lnTo>
                <a:lnTo>
                  <a:pt x="965" y="119"/>
                </a:lnTo>
                <a:lnTo>
                  <a:pt x="999" y="136"/>
                </a:lnTo>
                <a:lnTo>
                  <a:pt x="999" y="169"/>
                </a:lnTo>
                <a:lnTo>
                  <a:pt x="999" y="186"/>
                </a:lnTo>
                <a:lnTo>
                  <a:pt x="982" y="237"/>
                </a:lnTo>
                <a:lnTo>
                  <a:pt x="948" y="288"/>
                </a:lnTo>
                <a:lnTo>
                  <a:pt x="932" y="372"/>
                </a:lnTo>
                <a:lnTo>
                  <a:pt x="881" y="474"/>
                </a:lnTo>
                <a:lnTo>
                  <a:pt x="813" y="575"/>
                </a:lnTo>
                <a:lnTo>
                  <a:pt x="745" y="710"/>
                </a:lnTo>
                <a:lnTo>
                  <a:pt x="644" y="862"/>
                </a:lnTo>
                <a:lnTo>
                  <a:pt x="542" y="1031"/>
                </a:lnTo>
                <a:lnTo>
                  <a:pt x="440" y="1166"/>
                </a:lnTo>
                <a:lnTo>
                  <a:pt x="339" y="1285"/>
                </a:lnTo>
                <a:lnTo>
                  <a:pt x="237" y="1403"/>
                </a:lnTo>
                <a:lnTo>
                  <a:pt x="186" y="1454"/>
                </a:lnTo>
                <a:lnTo>
                  <a:pt x="135" y="1487"/>
                </a:lnTo>
                <a:lnTo>
                  <a:pt x="101" y="1521"/>
                </a:lnTo>
                <a:lnTo>
                  <a:pt x="67" y="1538"/>
                </a:lnTo>
                <a:lnTo>
                  <a:pt x="34" y="1572"/>
                </a:lnTo>
                <a:lnTo>
                  <a:pt x="17" y="1572"/>
                </a:lnTo>
                <a:lnTo>
                  <a:pt x="0" y="1572"/>
                </a:lnTo>
                <a:lnTo>
                  <a:pt x="0" y="1555"/>
                </a:lnTo>
                <a:lnTo>
                  <a:pt x="17" y="1538"/>
                </a:lnTo>
                <a:lnTo>
                  <a:pt x="34" y="1504"/>
                </a:lnTo>
                <a:lnTo>
                  <a:pt x="51" y="1470"/>
                </a:lnTo>
                <a:lnTo>
                  <a:pt x="84" y="1420"/>
                </a:lnTo>
                <a:lnTo>
                  <a:pt x="135" y="1369"/>
                </a:lnTo>
                <a:lnTo>
                  <a:pt x="169" y="13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38"/>
          <p:cNvSpPr/>
          <p:nvPr/>
        </p:nvSpPr>
        <p:spPr>
          <a:xfrm>
            <a:off x="5719680" y="2801880"/>
            <a:ext cx="139680" cy="1158840"/>
          </a:xfrm>
          <a:custGeom>
            <a:avLst/>
            <a:gdLst>
              <a:gd name="textAreaLeft" fmla="*/ 0 w 139680"/>
              <a:gd name="textAreaRight" fmla="*/ 140040 w 1396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220" h="1825">
                <a:moveTo>
                  <a:pt x="203" y="997"/>
                </a:moveTo>
                <a:lnTo>
                  <a:pt x="203" y="1200"/>
                </a:lnTo>
                <a:lnTo>
                  <a:pt x="203" y="1369"/>
                </a:lnTo>
                <a:lnTo>
                  <a:pt x="186" y="1504"/>
                </a:lnTo>
                <a:lnTo>
                  <a:pt x="186" y="1622"/>
                </a:lnTo>
                <a:lnTo>
                  <a:pt x="169" y="1724"/>
                </a:lnTo>
                <a:lnTo>
                  <a:pt x="169" y="1774"/>
                </a:lnTo>
                <a:lnTo>
                  <a:pt x="153" y="1825"/>
                </a:lnTo>
                <a:lnTo>
                  <a:pt x="119" y="1825"/>
                </a:lnTo>
                <a:lnTo>
                  <a:pt x="102" y="1808"/>
                </a:lnTo>
                <a:lnTo>
                  <a:pt x="85" y="1757"/>
                </a:lnTo>
                <a:lnTo>
                  <a:pt x="51" y="1707"/>
                </a:lnTo>
                <a:lnTo>
                  <a:pt x="34" y="1673"/>
                </a:lnTo>
                <a:lnTo>
                  <a:pt x="17" y="1622"/>
                </a:lnTo>
                <a:lnTo>
                  <a:pt x="0" y="1555"/>
                </a:lnTo>
                <a:lnTo>
                  <a:pt x="17" y="1521"/>
                </a:lnTo>
                <a:lnTo>
                  <a:pt x="17" y="1487"/>
                </a:lnTo>
                <a:lnTo>
                  <a:pt x="34" y="1402"/>
                </a:lnTo>
                <a:lnTo>
                  <a:pt x="51" y="1318"/>
                </a:lnTo>
                <a:lnTo>
                  <a:pt x="51" y="1200"/>
                </a:lnTo>
                <a:lnTo>
                  <a:pt x="68" y="1065"/>
                </a:lnTo>
                <a:lnTo>
                  <a:pt x="68" y="896"/>
                </a:lnTo>
                <a:lnTo>
                  <a:pt x="85" y="727"/>
                </a:lnTo>
                <a:lnTo>
                  <a:pt x="85" y="541"/>
                </a:lnTo>
                <a:lnTo>
                  <a:pt x="85" y="355"/>
                </a:lnTo>
                <a:lnTo>
                  <a:pt x="51" y="0"/>
                </a:lnTo>
                <a:lnTo>
                  <a:pt x="119" y="34"/>
                </a:lnTo>
                <a:lnTo>
                  <a:pt x="169" y="68"/>
                </a:lnTo>
                <a:lnTo>
                  <a:pt x="203" y="102"/>
                </a:lnTo>
                <a:lnTo>
                  <a:pt x="220" y="118"/>
                </a:lnTo>
                <a:lnTo>
                  <a:pt x="220" y="135"/>
                </a:lnTo>
                <a:lnTo>
                  <a:pt x="220" y="186"/>
                </a:lnTo>
                <a:lnTo>
                  <a:pt x="220" y="270"/>
                </a:lnTo>
                <a:lnTo>
                  <a:pt x="220" y="355"/>
                </a:lnTo>
                <a:lnTo>
                  <a:pt x="220" y="490"/>
                </a:lnTo>
                <a:lnTo>
                  <a:pt x="220" y="625"/>
                </a:lnTo>
                <a:lnTo>
                  <a:pt x="220" y="811"/>
                </a:lnTo>
                <a:lnTo>
                  <a:pt x="203" y="9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6138720" y="2201760"/>
            <a:ext cx="398520" cy="428760"/>
          </a:xfrm>
          <a:custGeom>
            <a:avLst/>
            <a:gdLst>
              <a:gd name="textAreaLeft" fmla="*/ 0 w 398520"/>
              <a:gd name="textAreaRight" fmla="*/ 398880 w 3985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627" h="676">
                <a:moveTo>
                  <a:pt x="356" y="203"/>
                </a:moveTo>
                <a:lnTo>
                  <a:pt x="372" y="169"/>
                </a:lnTo>
                <a:lnTo>
                  <a:pt x="372" y="135"/>
                </a:lnTo>
                <a:lnTo>
                  <a:pt x="372" y="101"/>
                </a:lnTo>
                <a:lnTo>
                  <a:pt x="372" y="84"/>
                </a:lnTo>
                <a:lnTo>
                  <a:pt x="356" y="51"/>
                </a:lnTo>
                <a:lnTo>
                  <a:pt x="372" y="17"/>
                </a:lnTo>
                <a:lnTo>
                  <a:pt x="389" y="0"/>
                </a:lnTo>
                <a:lnTo>
                  <a:pt x="406" y="0"/>
                </a:lnTo>
                <a:lnTo>
                  <a:pt x="474" y="17"/>
                </a:lnTo>
                <a:lnTo>
                  <a:pt x="525" y="34"/>
                </a:lnTo>
                <a:lnTo>
                  <a:pt x="576" y="68"/>
                </a:lnTo>
                <a:lnTo>
                  <a:pt x="610" y="101"/>
                </a:lnTo>
                <a:lnTo>
                  <a:pt x="627" y="152"/>
                </a:lnTo>
                <a:lnTo>
                  <a:pt x="610" y="169"/>
                </a:lnTo>
                <a:lnTo>
                  <a:pt x="576" y="220"/>
                </a:lnTo>
                <a:lnTo>
                  <a:pt x="525" y="270"/>
                </a:lnTo>
                <a:lnTo>
                  <a:pt x="457" y="355"/>
                </a:lnTo>
                <a:lnTo>
                  <a:pt x="372" y="439"/>
                </a:lnTo>
                <a:lnTo>
                  <a:pt x="305" y="507"/>
                </a:lnTo>
                <a:lnTo>
                  <a:pt x="237" y="558"/>
                </a:lnTo>
                <a:lnTo>
                  <a:pt x="169" y="591"/>
                </a:lnTo>
                <a:lnTo>
                  <a:pt x="118" y="642"/>
                </a:lnTo>
                <a:lnTo>
                  <a:pt x="68" y="659"/>
                </a:lnTo>
                <a:lnTo>
                  <a:pt x="34" y="676"/>
                </a:lnTo>
                <a:lnTo>
                  <a:pt x="17" y="659"/>
                </a:lnTo>
                <a:lnTo>
                  <a:pt x="0" y="659"/>
                </a:lnTo>
                <a:lnTo>
                  <a:pt x="17" y="625"/>
                </a:lnTo>
                <a:lnTo>
                  <a:pt x="34" y="608"/>
                </a:lnTo>
                <a:lnTo>
                  <a:pt x="68" y="574"/>
                </a:lnTo>
                <a:lnTo>
                  <a:pt x="152" y="490"/>
                </a:lnTo>
                <a:lnTo>
                  <a:pt x="254" y="389"/>
                </a:lnTo>
                <a:lnTo>
                  <a:pt x="288" y="338"/>
                </a:lnTo>
                <a:lnTo>
                  <a:pt x="322" y="287"/>
                </a:lnTo>
                <a:lnTo>
                  <a:pt x="339" y="253"/>
                </a:lnTo>
                <a:lnTo>
                  <a:pt x="356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6375240" y="2298600"/>
            <a:ext cx="463680" cy="365400"/>
          </a:xfrm>
          <a:custGeom>
            <a:avLst/>
            <a:gdLst>
              <a:gd name="textAreaLeft" fmla="*/ 0 w 463680"/>
              <a:gd name="textAreaRight" fmla="*/ 464040 w 46368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729" h="575">
                <a:moveTo>
                  <a:pt x="644" y="237"/>
                </a:moveTo>
                <a:lnTo>
                  <a:pt x="593" y="270"/>
                </a:lnTo>
                <a:lnTo>
                  <a:pt x="543" y="304"/>
                </a:lnTo>
                <a:lnTo>
                  <a:pt x="492" y="355"/>
                </a:lnTo>
                <a:lnTo>
                  <a:pt x="424" y="439"/>
                </a:lnTo>
                <a:lnTo>
                  <a:pt x="373" y="507"/>
                </a:lnTo>
                <a:lnTo>
                  <a:pt x="305" y="541"/>
                </a:lnTo>
                <a:lnTo>
                  <a:pt x="255" y="575"/>
                </a:lnTo>
                <a:lnTo>
                  <a:pt x="221" y="575"/>
                </a:lnTo>
                <a:lnTo>
                  <a:pt x="255" y="490"/>
                </a:lnTo>
                <a:lnTo>
                  <a:pt x="305" y="422"/>
                </a:lnTo>
                <a:lnTo>
                  <a:pt x="339" y="372"/>
                </a:lnTo>
                <a:lnTo>
                  <a:pt x="356" y="321"/>
                </a:lnTo>
                <a:lnTo>
                  <a:pt x="373" y="270"/>
                </a:lnTo>
                <a:lnTo>
                  <a:pt x="390" y="237"/>
                </a:lnTo>
                <a:lnTo>
                  <a:pt x="390" y="220"/>
                </a:lnTo>
                <a:lnTo>
                  <a:pt x="373" y="203"/>
                </a:lnTo>
                <a:lnTo>
                  <a:pt x="356" y="203"/>
                </a:lnTo>
                <a:lnTo>
                  <a:pt x="322" y="203"/>
                </a:lnTo>
                <a:lnTo>
                  <a:pt x="272" y="203"/>
                </a:lnTo>
                <a:lnTo>
                  <a:pt x="221" y="220"/>
                </a:lnTo>
                <a:lnTo>
                  <a:pt x="153" y="220"/>
                </a:lnTo>
                <a:lnTo>
                  <a:pt x="85" y="220"/>
                </a:lnTo>
                <a:lnTo>
                  <a:pt x="0" y="220"/>
                </a:lnTo>
                <a:lnTo>
                  <a:pt x="0" y="135"/>
                </a:lnTo>
                <a:lnTo>
                  <a:pt x="102" y="118"/>
                </a:lnTo>
                <a:lnTo>
                  <a:pt x="187" y="118"/>
                </a:lnTo>
                <a:lnTo>
                  <a:pt x="255" y="101"/>
                </a:lnTo>
                <a:lnTo>
                  <a:pt x="322" y="101"/>
                </a:lnTo>
                <a:lnTo>
                  <a:pt x="373" y="85"/>
                </a:lnTo>
                <a:lnTo>
                  <a:pt x="407" y="68"/>
                </a:lnTo>
                <a:lnTo>
                  <a:pt x="441" y="51"/>
                </a:lnTo>
                <a:lnTo>
                  <a:pt x="458" y="51"/>
                </a:lnTo>
                <a:lnTo>
                  <a:pt x="492" y="17"/>
                </a:lnTo>
                <a:lnTo>
                  <a:pt x="526" y="0"/>
                </a:lnTo>
                <a:lnTo>
                  <a:pt x="543" y="17"/>
                </a:lnTo>
                <a:lnTo>
                  <a:pt x="560" y="17"/>
                </a:lnTo>
                <a:lnTo>
                  <a:pt x="593" y="34"/>
                </a:lnTo>
                <a:lnTo>
                  <a:pt x="644" y="51"/>
                </a:lnTo>
                <a:lnTo>
                  <a:pt x="678" y="85"/>
                </a:lnTo>
                <a:lnTo>
                  <a:pt x="712" y="118"/>
                </a:lnTo>
                <a:lnTo>
                  <a:pt x="729" y="135"/>
                </a:lnTo>
                <a:lnTo>
                  <a:pt x="729" y="152"/>
                </a:lnTo>
                <a:lnTo>
                  <a:pt x="729" y="169"/>
                </a:lnTo>
                <a:lnTo>
                  <a:pt x="712" y="186"/>
                </a:lnTo>
                <a:lnTo>
                  <a:pt x="678" y="220"/>
                </a:lnTo>
                <a:lnTo>
                  <a:pt x="644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41"/>
          <p:cNvSpPr/>
          <p:nvPr/>
        </p:nvSpPr>
        <p:spPr>
          <a:xfrm>
            <a:off x="6084720" y="2664000"/>
            <a:ext cx="173160" cy="363240"/>
          </a:xfrm>
          <a:custGeom>
            <a:avLst/>
            <a:gdLst>
              <a:gd name="textAreaLeft" fmla="*/ 0 w 173160"/>
              <a:gd name="textAreaRight" fmla="*/ 173160 w 1731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1" h="574">
                <a:moveTo>
                  <a:pt x="17" y="101"/>
                </a:moveTo>
                <a:lnTo>
                  <a:pt x="0" y="101"/>
                </a:lnTo>
                <a:lnTo>
                  <a:pt x="0" y="84"/>
                </a:lnTo>
                <a:lnTo>
                  <a:pt x="0" y="33"/>
                </a:lnTo>
                <a:lnTo>
                  <a:pt x="17" y="16"/>
                </a:lnTo>
                <a:lnTo>
                  <a:pt x="51" y="0"/>
                </a:lnTo>
                <a:lnTo>
                  <a:pt x="102" y="16"/>
                </a:lnTo>
                <a:lnTo>
                  <a:pt x="169" y="33"/>
                </a:lnTo>
                <a:lnTo>
                  <a:pt x="203" y="152"/>
                </a:lnTo>
                <a:lnTo>
                  <a:pt x="220" y="253"/>
                </a:lnTo>
                <a:lnTo>
                  <a:pt x="237" y="354"/>
                </a:lnTo>
                <a:lnTo>
                  <a:pt x="254" y="422"/>
                </a:lnTo>
                <a:lnTo>
                  <a:pt x="271" y="489"/>
                </a:lnTo>
                <a:lnTo>
                  <a:pt x="271" y="523"/>
                </a:lnTo>
                <a:lnTo>
                  <a:pt x="271" y="557"/>
                </a:lnTo>
                <a:lnTo>
                  <a:pt x="254" y="574"/>
                </a:lnTo>
                <a:lnTo>
                  <a:pt x="237" y="574"/>
                </a:lnTo>
                <a:lnTo>
                  <a:pt x="220" y="574"/>
                </a:lnTo>
                <a:lnTo>
                  <a:pt x="203" y="557"/>
                </a:lnTo>
                <a:lnTo>
                  <a:pt x="186" y="523"/>
                </a:lnTo>
                <a:lnTo>
                  <a:pt x="186" y="506"/>
                </a:lnTo>
                <a:lnTo>
                  <a:pt x="169" y="456"/>
                </a:lnTo>
                <a:lnTo>
                  <a:pt x="153" y="405"/>
                </a:lnTo>
                <a:lnTo>
                  <a:pt x="136" y="354"/>
                </a:lnTo>
                <a:lnTo>
                  <a:pt x="119" y="304"/>
                </a:lnTo>
                <a:lnTo>
                  <a:pt x="102" y="253"/>
                </a:lnTo>
                <a:lnTo>
                  <a:pt x="68" y="168"/>
                </a:lnTo>
                <a:lnTo>
                  <a:pt x="34" y="135"/>
                </a:lnTo>
                <a:lnTo>
                  <a:pt x="17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42"/>
          <p:cNvSpPr/>
          <p:nvPr/>
        </p:nvSpPr>
        <p:spPr>
          <a:xfrm>
            <a:off x="6149880" y="2576520"/>
            <a:ext cx="849240" cy="419040"/>
          </a:xfrm>
          <a:custGeom>
            <a:avLst/>
            <a:gdLst>
              <a:gd name="textAreaLeft" fmla="*/ 0 w 849240"/>
              <a:gd name="textAreaRight" fmla="*/ 849600 w 8492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338" h="659">
                <a:moveTo>
                  <a:pt x="1338" y="169"/>
                </a:moveTo>
                <a:lnTo>
                  <a:pt x="1338" y="203"/>
                </a:lnTo>
                <a:lnTo>
                  <a:pt x="1321" y="220"/>
                </a:lnTo>
                <a:lnTo>
                  <a:pt x="1287" y="220"/>
                </a:lnTo>
                <a:lnTo>
                  <a:pt x="1253" y="254"/>
                </a:lnTo>
                <a:lnTo>
                  <a:pt x="1220" y="288"/>
                </a:lnTo>
                <a:lnTo>
                  <a:pt x="1169" y="372"/>
                </a:lnTo>
                <a:lnTo>
                  <a:pt x="1135" y="457"/>
                </a:lnTo>
                <a:lnTo>
                  <a:pt x="1101" y="507"/>
                </a:lnTo>
                <a:lnTo>
                  <a:pt x="1084" y="558"/>
                </a:lnTo>
                <a:lnTo>
                  <a:pt x="1050" y="592"/>
                </a:lnTo>
                <a:lnTo>
                  <a:pt x="1033" y="625"/>
                </a:lnTo>
                <a:lnTo>
                  <a:pt x="1016" y="642"/>
                </a:lnTo>
                <a:lnTo>
                  <a:pt x="999" y="659"/>
                </a:lnTo>
                <a:lnTo>
                  <a:pt x="982" y="659"/>
                </a:lnTo>
                <a:lnTo>
                  <a:pt x="965" y="659"/>
                </a:lnTo>
                <a:lnTo>
                  <a:pt x="965" y="642"/>
                </a:lnTo>
                <a:lnTo>
                  <a:pt x="965" y="625"/>
                </a:lnTo>
                <a:lnTo>
                  <a:pt x="965" y="592"/>
                </a:lnTo>
                <a:lnTo>
                  <a:pt x="982" y="558"/>
                </a:lnTo>
                <a:lnTo>
                  <a:pt x="982" y="524"/>
                </a:lnTo>
                <a:lnTo>
                  <a:pt x="999" y="473"/>
                </a:lnTo>
                <a:lnTo>
                  <a:pt x="999" y="423"/>
                </a:lnTo>
                <a:lnTo>
                  <a:pt x="1033" y="321"/>
                </a:lnTo>
                <a:lnTo>
                  <a:pt x="1050" y="237"/>
                </a:lnTo>
                <a:lnTo>
                  <a:pt x="1050" y="186"/>
                </a:lnTo>
                <a:lnTo>
                  <a:pt x="1050" y="169"/>
                </a:lnTo>
                <a:lnTo>
                  <a:pt x="1033" y="152"/>
                </a:lnTo>
                <a:lnTo>
                  <a:pt x="999" y="152"/>
                </a:lnTo>
                <a:lnTo>
                  <a:pt x="982" y="152"/>
                </a:lnTo>
                <a:lnTo>
                  <a:pt x="965" y="152"/>
                </a:lnTo>
                <a:lnTo>
                  <a:pt x="932" y="152"/>
                </a:lnTo>
                <a:lnTo>
                  <a:pt x="898" y="169"/>
                </a:lnTo>
                <a:lnTo>
                  <a:pt x="847" y="169"/>
                </a:lnTo>
                <a:lnTo>
                  <a:pt x="796" y="169"/>
                </a:lnTo>
                <a:lnTo>
                  <a:pt x="728" y="186"/>
                </a:lnTo>
                <a:lnTo>
                  <a:pt x="677" y="186"/>
                </a:lnTo>
                <a:lnTo>
                  <a:pt x="593" y="203"/>
                </a:lnTo>
                <a:lnTo>
                  <a:pt x="423" y="220"/>
                </a:lnTo>
                <a:lnTo>
                  <a:pt x="237" y="237"/>
                </a:lnTo>
                <a:lnTo>
                  <a:pt x="0" y="271"/>
                </a:lnTo>
                <a:lnTo>
                  <a:pt x="0" y="169"/>
                </a:lnTo>
                <a:lnTo>
                  <a:pt x="220" y="136"/>
                </a:lnTo>
                <a:lnTo>
                  <a:pt x="322" y="136"/>
                </a:lnTo>
                <a:lnTo>
                  <a:pt x="440" y="119"/>
                </a:lnTo>
                <a:lnTo>
                  <a:pt x="660" y="102"/>
                </a:lnTo>
                <a:lnTo>
                  <a:pt x="864" y="68"/>
                </a:lnTo>
                <a:lnTo>
                  <a:pt x="932" y="68"/>
                </a:lnTo>
                <a:lnTo>
                  <a:pt x="999" y="51"/>
                </a:lnTo>
                <a:lnTo>
                  <a:pt x="1033" y="34"/>
                </a:lnTo>
                <a:lnTo>
                  <a:pt x="1067" y="17"/>
                </a:lnTo>
                <a:lnTo>
                  <a:pt x="1101" y="0"/>
                </a:lnTo>
                <a:lnTo>
                  <a:pt x="1152" y="0"/>
                </a:lnTo>
                <a:lnTo>
                  <a:pt x="1203" y="17"/>
                </a:lnTo>
                <a:lnTo>
                  <a:pt x="1236" y="51"/>
                </a:lnTo>
                <a:lnTo>
                  <a:pt x="1287" y="68"/>
                </a:lnTo>
                <a:lnTo>
                  <a:pt x="1321" y="102"/>
                </a:lnTo>
                <a:lnTo>
                  <a:pt x="1338" y="136"/>
                </a:lnTo>
                <a:lnTo>
                  <a:pt x="1338" y="152"/>
                </a:lnTo>
                <a:lnTo>
                  <a:pt x="1338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43"/>
          <p:cNvSpPr/>
          <p:nvPr/>
        </p:nvSpPr>
        <p:spPr>
          <a:xfrm>
            <a:off x="6235560" y="2878200"/>
            <a:ext cx="569880" cy="12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98" h="203">
                <a:moveTo>
                  <a:pt x="864" y="136"/>
                </a:moveTo>
                <a:lnTo>
                  <a:pt x="830" y="136"/>
                </a:lnTo>
                <a:lnTo>
                  <a:pt x="763" y="136"/>
                </a:lnTo>
                <a:lnTo>
                  <a:pt x="695" y="136"/>
                </a:lnTo>
                <a:lnTo>
                  <a:pt x="593" y="152"/>
                </a:lnTo>
                <a:lnTo>
                  <a:pt x="475" y="152"/>
                </a:lnTo>
                <a:lnTo>
                  <a:pt x="339" y="169"/>
                </a:lnTo>
                <a:lnTo>
                  <a:pt x="170" y="186"/>
                </a:lnTo>
                <a:lnTo>
                  <a:pt x="0" y="203"/>
                </a:lnTo>
                <a:lnTo>
                  <a:pt x="0" y="85"/>
                </a:lnTo>
                <a:lnTo>
                  <a:pt x="51" y="85"/>
                </a:lnTo>
                <a:lnTo>
                  <a:pt x="136" y="68"/>
                </a:lnTo>
                <a:lnTo>
                  <a:pt x="220" y="68"/>
                </a:lnTo>
                <a:lnTo>
                  <a:pt x="322" y="68"/>
                </a:lnTo>
                <a:lnTo>
                  <a:pt x="441" y="51"/>
                </a:lnTo>
                <a:lnTo>
                  <a:pt x="576" y="34"/>
                </a:lnTo>
                <a:lnTo>
                  <a:pt x="729" y="17"/>
                </a:lnTo>
                <a:lnTo>
                  <a:pt x="898" y="0"/>
                </a:lnTo>
                <a:lnTo>
                  <a:pt x="864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44"/>
          <p:cNvSpPr/>
          <p:nvPr/>
        </p:nvSpPr>
        <p:spPr>
          <a:xfrm>
            <a:off x="6064200" y="2684520"/>
            <a:ext cx="515880" cy="579240"/>
          </a:xfrm>
          <a:custGeom>
            <a:avLst/>
            <a:gdLst>
              <a:gd name="textAreaLeft" fmla="*/ 0 w 515880"/>
              <a:gd name="textAreaRight" fmla="*/ 516240 w 51588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813" h="913">
                <a:moveTo>
                  <a:pt x="271" y="794"/>
                </a:moveTo>
                <a:lnTo>
                  <a:pt x="153" y="862"/>
                </a:lnTo>
                <a:lnTo>
                  <a:pt x="85" y="896"/>
                </a:lnTo>
                <a:lnTo>
                  <a:pt x="34" y="913"/>
                </a:lnTo>
                <a:lnTo>
                  <a:pt x="0" y="896"/>
                </a:lnTo>
                <a:lnTo>
                  <a:pt x="0" y="879"/>
                </a:lnTo>
                <a:lnTo>
                  <a:pt x="34" y="845"/>
                </a:lnTo>
                <a:lnTo>
                  <a:pt x="85" y="794"/>
                </a:lnTo>
                <a:lnTo>
                  <a:pt x="170" y="727"/>
                </a:lnTo>
                <a:lnTo>
                  <a:pt x="254" y="676"/>
                </a:lnTo>
                <a:lnTo>
                  <a:pt x="322" y="592"/>
                </a:lnTo>
                <a:lnTo>
                  <a:pt x="407" y="524"/>
                </a:lnTo>
                <a:lnTo>
                  <a:pt x="475" y="440"/>
                </a:lnTo>
                <a:lnTo>
                  <a:pt x="525" y="338"/>
                </a:lnTo>
                <a:lnTo>
                  <a:pt x="576" y="237"/>
                </a:lnTo>
                <a:lnTo>
                  <a:pt x="610" y="135"/>
                </a:lnTo>
                <a:lnTo>
                  <a:pt x="644" y="0"/>
                </a:lnTo>
                <a:lnTo>
                  <a:pt x="712" y="51"/>
                </a:lnTo>
                <a:lnTo>
                  <a:pt x="763" y="85"/>
                </a:lnTo>
                <a:lnTo>
                  <a:pt x="813" y="119"/>
                </a:lnTo>
                <a:lnTo>
                  <a:pt x="813" y="152"/>
                </a:lnTo>
                <a:lnTo>
                  <a:pt x="796" y="186"/>
                </a:lnTo>
                <a:lnTo>
                  <a:pt x="763" y="254"/>
                </a:lnTo>
                <a:lnTo>
                  <a:pt x="729" y="321"/>
                </a:lnTo>
                <a:lnTo>
                  <a:pt x="661" y="423"/>
                </a:lnTo>
                <a:lnTo>
                  <a:pt x="593" y="524"/>
                </a:lnTo>
                <a:lnTo>
                  <a:pt x="491" y="625"/>
                </a:lnTo>
                <a:lnTo>
                  <a:pt x="390" y="710"/>
                </a:lnTo>
                <a:lnTo>
                  <a:pt x="271" y="7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45"/>
          <p:cNvSpPr/>
          <p:nvPr/>
        </p:nvSpPr>
        <p:spPr>
          <a:xfrm>
            <a:off x="6278400" y="3081240"/>
            <a:ext cx="366840" cy="1051200"/>
          </a:xfrm>
          <a:custGeom>
            <a:avLst/>
            <a:gdLst>
              <a:gd name="textAreaLeft" fmla="*/ 0 w 366840"/>
              <a:gd name="textAreaRight" fmla="*/ 367200 w 36684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76" h="1656">
                <a:moveTo>
                  <a:pt x="322" y="626"/>
                </a:moveTo>
                <a:lnTo>
                  <a:pt x="305" y="575"/>
                </a:lnTo>
                <a:lnTo>
                  <a:pt x="288" y="507"/>
                </a:lnTo>
                <a:lnTo>
                  <a:pt x="220" y="389"/>
                </a:lnTo>
                <a:lnTo>
                  <a:pt x="119" y="237"/>
                </a:lnTo>
                <a:lnTo>
                  <a:pt x="0" y="68"/>
                </a:lnTo>
                <a:lnTo>
                  <a:pt x="68" y="0"/>
                </a:lnTo>
                <a:lnTo>
                  <a:pt x="152" y="102"/>
                </a:lnTo>
                <a:lnTo>
                  <a:pt x="220" y="186"/>
                </a:lnTo>
                <a:lnTo>
                  <a:pt x="288" y="254"/>
                </a:lnTo>
                <a:lnTo>
                  <a:pt x="339" y="305"/>
                </a:lnTo>
                <a:lnTo>
                  <a:pt x="373" y="355"/>
                </a:lnTo>
                <a:lnTo>
                  <a:pt x="424" y="423"/>
                </a:lnTo>
                <a:lnTo>
                  <a:pt x="457" y="490"/>
                </a:lnTo>
                <a:lnTo>
                  <a:pt x="491" y="575"/>
                </a:lnTo>
                <a:lnTo>
                  <a:pt x="542" y="761"/>
                </a:lnTo>
                <a:lnTo>
                  <a:pt x="559" y="947"/>
                </a:lnTo>
                <a:lnTo>
                  <a:pt x="576" y="1048"/>
                </a:lnTo>
                <a:lnTo>
                  <a:pt x="576" y="1132"/>
                </a:lnTo>
                <a:lnTo>
                  <a:pt x="559" y="1318"/>
                </a:lnTo>
                <a:lnTo>
                  <a:pt x="525" y="1403"/>
                </a:lnTo>
                <a:lnTo>
                  <a:pt x="508" y="1470"/>
                </a:lnTo>
                <a:lnTo>
                  <a:pt x="474" y="1521"/>
                </a:lnTo>
                <a:lnTo>
                  <a:pt x="441" y="1572"/>
                </a:lnTo>
                <a:lnTo>
                  <a:pt x="407" y="1622"/>
                </a:lnTo>
                <a:lnTo>
                  <a:pt x="373" y="1639"/>
                </a:lnTo>
                <a:lnTo>
                  <a:pt x="339" y="1656"/>
                </a:lnTo>
                <a:lnTo>
                  <a:pt x="322" y="1656"/>
                </a:lnTo>
                <a:lnTo>
                  <a:pt x="288" y="1656"/>
                </a:lnTo>
                <a:lnTo>
                  <a:pt x="271" y="1639"/>
                </a:lnTo>
                <a:lnTo>
                  <a:pt x="254" y="1622"/>
                </a:lnTo>
                <a:lnTo>
                  <a:pt x="271" y="1572"/>
                </a:lnTo>
                <a:lnTo>
                  <a:pt x="254" y="1521"/>
                </a:lnTo>
                <a:lnTo>
                  <a:pt x="237" y="1487"/>
                </a:lnTo>
                <a:lnTo>
                  <a:pt x="203" y="1437"/>
                </a:lnTo>
                <a:lnTo>
                  <a:pt x="136" y="1386"/>
                </a:lnTo>
                <a:lnTo>
                  <a:pt x="85" y="1335"/>
                </a:lnTo>
                <a:lnTo>
                  <a:pt x="51" y="1301"/>
                </a:lnTo>
                <a:lnTo>
                  <a:pt x="34" y="1285"/>
                </a:lnTo>
                <a:lnTo>
                  <a:pt x="34" y="1268"/>
                </a:lnTo>
                <a:lnTo>
                  <a:pt x="51" y="1251"/>
                </a:lnTo>
                <a:lnTo>
                  <a:pt x="68" y="1268"/>
                </a:lnTo>
                <a:lnTo>
                  <a:pt x="119" y="1268"/>
                </a:lnTo>
                <a:lnTo>
                  <a:pt x="169" y="1285"/>
                </a:lnTo>
                <a:lnTo>
                  <a:pt x="237" y="1318"/>
                </a:lnTo>
                <a:lnTo>
                  <a:pt x="288" y="1318"/>
                </a:lnTo>
                <a:lnTo>
                  <a:pt x="322" y="1318"/>
                </a:lnTo>
                <a:lnTo>
                  <a:pt x="339" y="1301"/>
                </a:lnTo>
                <a:lnTo>
                  <a:pt x="339" y="1285"/>
                </a:lnTo>
                <a:lnTo>
                  <a:pt x="356" y="1285"/>
                </a:lnTo>
                <a:lnTo>
                  <a:pt x="356" y="1217"/>
                </a:lnTo>
                <a:lnTo>
                  <a:pt x="373" y="1149"/>
                </a:lnTo>
                <a:lnTo>
                  <a:pt x="373" y="1048"/>
                </a:lnTo>
                <a:lnTo>
                  <a:pt x="373" y="930"/>
                </a:lnTo>
                <a:lnTo>
                  <a:pt x="373" y="828"/>
                </a:lnTo>
                <a:lnTo>
                  <a:pt x="356" y="727"/>
                </a:lnTo>
                <a:lnTo>
                  <a:pt x="322" y="6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46"/>
          <p:cNvSpPr/>
          <p:nvPr/>
        </p:nvSpPr>
        <p:spPr>
          <a:xfrm>
            <a:off x="6515280" y="3038400"/>
            <a:ext cx="441000" cy="385920"/>
          </a:xfrm>
          <a:custGeom>
            <a:avLst/>
            <a:gdLst>
              <a:gd name="textAreaLeft" fmla="*/ 0 w 441000"/>
              <a:gd name="textAreaRight" fmla="*/ 441360 w 4410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4" h="608">
                <a:moveTo>
                  <a:pt x="34" y="608"/>
                </a:moveTo>
                <a:lnTo>
                  <a:pt x="0" y="557"/>
                </a:lnTo>
                <a:lnTo>
                  <a:pt x="135" y="439"/>
                </a:lnTo>
                <a:lnTo>
                  <a:pt x="237" y="355"/>
                </a:lnTo>
                <a:lnTo>
                  <a:pt x="322" y="270"/>
                </a:lnTo>
                <a:lnTo>
                  <a:pt x="372" y="203"/>
                </a:lnTo>
                <a:lnTo>
                  <a:pt x="423" y="152"/>
                </a:lnTo>
                <a:lnTo>
                  <a:pt x="440" y="118"/>
                </a:lnTo>
                <a:lnTo>
                  <a:pt x="440" y="84"/>
                </a:lnTo>
                <a:lnTo>
                  <a:pt x="440" y="51"/>
                </a:lnTo>
                <a:lnTo>
                  <a:pt x="440" y="34"/>
                </a:lnTo>
                <a:lnTo>
                  <a:pt x="440" y="17"/>
                </a:lnTo>
                <a:lnTo>
                  <a:pt x="457" y="0"/>
                </a:lnTo>
                <a:lnTo>
                  <a:pt x="474" y="0"/>
                </a:lnTo>
                <a:lnTo>
                  <a:pt x="491" y="0"/>
                </a:lnTo>
                <a:lnTo>
                  <a:pt x="542" y="17"/>
                </a:lnTo>
                <a:lnTo>
                  <a:pt x="576" y="51"/>
                </a:lnTo>
                <a:lnTo>
                  <a:pt x="627" y="67"/>
                </a:lnTo>
                <a:lnTo>
                  <a:pt x="660" y="101"/>
                </a:lnTo>
                <a:lnTo>
                  <a:pt x="677" y="135"/>
                </a:lnTo>
                <a:lnTo>
                  <a:pt x="694" y="152"/>
                </a:lnTo>
                <a:lnTo>
                  <a:pt x="677" y="169"/>
                </a:lnTo>
                <a:lnTo>
                  <a:pt x="644" y="203"/>
                </a:lnTo>
                <a:lnTo>
                  <a:pt x="593" y="253"/>
                </a:lnTo>
                <a:lnTo>
                  <a:pt x="525" y="321"/>
                </a:lnTo>
                <a:lnTo>
                  <a:pt x="423" y="388"/>
                </a:lnTo>
                <a:lnTo>
                  <a:pt x="305" y="456"/>
                </a:lnTo>
                <a:lnTo>
                  <a:pt x="186" y="524"/>
                </a:lnTo>
                <a:lnTo>
                  <a:pt x="34" y="60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48"/>
          <p:cNvSpPr/>
          <p:nvPr/>
        </p:nvSpPr>
        <p:spPr>
          <a:xfrm>
            <a:off x="5967360" y="3189240"/>
            <a:ext cx="451080" cy="385920"/>
          </a:xfrm>
          <a:custGeom>
            <a:avLst/>
            <a:gdLst>
              <a:gd name="textAreaLeft" fmla="*/ 0 w 451080"/>
              <a:gd name="textAreaRight" fmla="*/ 451440 w 4510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711" h="609">
                <a:moveTo>
                  <a:pt x="220" y="524"/>
                </a:moveTo>
                <a:lnTo>
                  <a:pt x="135" y="558"/>
                </a:lnTo>
                <a:lnTo>
                  <a:pt x="67" y="592"/>
                </a:lnTo>
                <a:lnTo>
                  <a:pt x="17" y="609"/>
                </a:lnTo>
                <a:lnTo>
                  <a:pt x="0" y="609"/>
                </a:lnTo>
                <a:lnTo>
                  <a:pt x="17" y="575"/>
                </a:lnTo>
                <a:lnTo>
                  <a:pt x="34" y="541"/>
                </a:lnTo>
                <a:lnTo>
                  <a:pt x="101" y="490"/>
                </a:lnTo>
                <a:lnTo>
                  <a:pt x="186" y="440"/>
                </a:lnTo>
                <a:lnTo>
                  <a:pt x="271" y="355"/>
                </a:lnTo>
                <a:lnTo>
                  <a:pt x="372" y="254"/>
                </a:lnTo>
                <a:lnTo>
                  <a:pt x="491" y="136"/>
                </a:lnTo>
                <a:lnTo>
                  <a:pt x="610" y="0"/>
                </a:lnTo>
                <a:lnTo>
                  <a:pt x="711" y="119"/>
                </a:lnTo>
                <a:lnTo>
                  <a:pt x="576" y="254"/>
                </a:lnTo>
                <a:lnTo>
                  <a:pt x="440" y="372"/>
                </a:lnTo>
                <a:lnTo>
                  <a:pt x="322" y="457"/>
                </a:lnTo>
                <a:lnTo>
                  <a:pt x="220" y="52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49"/>
          <p:cNvSpPr/>
          <p:nvPr/>
        </p:nvSpPr>
        <p:spPr>
          <a:xfrm>
            <a:off x="5967360" y="3349800"/>
            <a:ext cx="569880" cy="493560"/>
          </a:xfrm>
          <a:custGeom>
            <a:avLst/>
            <a:gdLst>
              <a:gd name="textAreaLeft" fmla="*/ 0 w 569880"/>
              <a:gd name="textAreaRight" fmla="*/ 570240 w 56988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898" h="777">
                <a:moveTo>
                  <a:pt x="237" y="574"/>
                </a:moveTo>
                <a:lnTo>
                  <a:pt x="355" y="473"/>
                </a:lnTo>
                <a:lnTo>
                  <a:pt x="508" y="338"/>
                </a:lnTo>
                <a:lnTo>
                  <a:pt x="660" y="186"/>
                </a:lnTo>
                <a:lnTo>
                  <a:pt x="830" y="0"/>
                </a:lnTo>
                <a:lnTo>
                  <a:pt x="898" y="135"/>
                </a:lnTo>
                <a:lnTo>
                  <a:pt x="796" y="236"/>
                </a:lnTo>
                <a:lnTo>
                  <a:pt x="711" y="321"/>
                </a:lnTo>
                <a:lnTo>
                  <a:pt x="627" y="405"/>
                </a:lnTo>
                <a:lnTo>
                  <a:pt x="542" y="473"/>
                </a:lnTo>
                <a:lnTo>
                  <a:pt x="457" y="540"/>
                </a:lnTo>
                <a:lnTo>
                  <a:pt x="389" y="591"/>
                </a:lnTo>
                <a:lnTo>
                  <a:pt x="322" y="642"/>
                </a:lnTo>
                <a:lnTo>
                  <a:pt x="254" y="676"/>
                </a:lnTo>
                <a:lnTo>
                  <a:pt x="203" y="709"/>
                </a:lnTo>
                <a:lnTo>
                  <a:pt x="152" y="726"/>
                </a:lnTo>
                <a:lnTo>
                  <a:pt x="101" y="743"/>
                </a:lnTo>
                <a:lnTo>
                  <a:pt x="67" y="760"/>
                </a:lnTo>
                <a:lnTo>
                  <a:pt x="34" y="777"/>
                </a:lnTo>
                <a:lnTo>
                  <a:pt x="0" y="777"/>
                </a:lnTo>
                <a:lnTo>
                  <a:pt x="0" y="760"/>
                </a:lnTo>
                <a:lnTo>
                  <a:pt x="17" y="760"/>
                </a:lnTo>
                <a:lnTo>
                  <a:pt x="34" y="726"/>
                </a:lnTo>
                <a:lnTo>
                  <a:pt x="51" y="709"/>
                </a:lnTo>
                <a:lnTo>
                  <a:pt x="84" y="676"/>
                </a:lnTo>
                <a:lnTo>
                  <a:pt x="118" y="642"/>
                </a:lnTo>
                <a:lnTo>
                  <a:pt x="169" y="608"/>
                </a:lnTo>
                <a:lnTo>
                  <a:pt x="237" y="5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47"/>
          <p:cNvSpPr/>
          <p:nvPr/>
        </p:nvSpPr>
        <p:spPr>
          <a:xfrm>
            <a:off x="6600960" y="3338640"/>
            <a:ext cx="785520" cy="407880"/>
          </a:xfrm>
          <a:custGeom>
            <a:avLst/>
            <a:gdLst>
              <a:gd name="textAreaLeft" fmla="*/ 0 w 785520"/>
              <a:gd name="textAreaRight" fmla="*/ 785880 w 7855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1237" h="642">
                <a:moveTo>
                  <a:pt x="339" y="203"/>
                </a:moveTo>
                <a:lnTo>
                  <a:pt x="458" y="253"/>
                </a:lnTo>
                <a:lnTo>
                  <a:pt x="593" y="321"/>
                </a:lnTo>
                <a:lnTo>
                  <a:pt x="729" y="372"/>
                </a:lnTo>
                <a:lnTo>
                  <a:pt x="898" y="422"/>
                </a:lnTo>
                <a:lnTo>
                  <a:pt x="966" y="456"/>
                </a:lnTo>
                <a:lnTo>
                  <a:pt x="1051" y="473"/>
                </a:lnTo>
                <a:lnTo>
                  <a:pt x="1102" y="490"/>
                </a:lnTo>
                <a:lnTo>
                  <a:pt x="1152" y="507"/>
                </a:lnTo>
                <a:lnTo>
                  <a:pt x="1186" y="524"/>
                </a:lnTo>
                <a:lnTo>
                  <a:pt x="1203" y="524"/>
                </a:lnTo>
                <a:lnTo>
                  <a:pt x="1220" y="541"/>
                </a:lnTo>
                <a:lnTo>
                  <a:pt x="1237" y="541"/>
                </a:lnTo>
                <a:lnTo>
                  <a:pt x="1220" y="557"/>
                </a:lnTo>
                <a:lnTo>
                  <a:pt x="1169" y="574"/>
                </a:lnTo>
                <a:lnTo>
                  <a:pt x="1118" y="591"/>
                </a:lnTo>
                <a:lnTo>
                  <a:pt x="1017" y="608"/>
                </a:lnTo>
                <a:lnTo>
                  <a:pt x="915" y="625"/>
                </a:lnTo>
                <a:lnTo>
                  <a:pt x="830" y="642"/>
                </a:lnTo>
                <a:lnTo>
                  <a:pt x="763" y="642"/>
                </a:lnTo>
                <a:lnTo>
                  <a:pt x="712" y="642"/>
                </a:lnTo>
                <a:lnTo>
                  <a:pt x="678" y="642"/>
                </a:lnTo>
                <a:lnTo>
                  <a:pt x="627" y="625"/>
                </a:lnTo>
                <a:lnTo>
                  <a:pt x="593" y="608"/>
                </a:lnTo>
                <a:lnTo>
                  <a:pt x="542" y="574"/>
                </a:lnTo>
                <a:lnTo>
                  <a:pt x="509" y="557"/>
                </a:lnTo>
                <a:lnTo>
                  <a:pt x="475" y="507"/>
                </a:lnTo>
                <a:lnTo>
                  <a:pt x="424" y="473"/>
                </a:lnTo>
                <a:lnTo>
                  <a:pt x="356" y="405"/>
                </a:lnTo>
                <a:lnTo>
                  <a:pt x="288" y="338"/>
                </a:lnTo>
                <a:lnTo>
                  <a:pt x="204" y="253"/>
                </a:lnTo>
                <a:lnTo>
                  <a:pt x="102" y="152"/>
                </a:lnTo>
                <a:lnTo>
                  <a:pt x="0" y="34"/>
                </a:lnTo>
                <a:lnTo>
                  <a:pt x="51" y="0"/>
                </a:lnTo>
                <a:lnTo>
                  <a:pt x="102" y="34"/>
                </a:lnTo>
                <a:lnTo>
                  <a:pt x="170" y="84"/>
                </a:lnTo>
                <a:lnTo>
                  <a:pt x="254" y="135"/>
                </a:lnTo>
                <a:lnTo>
                  <a:pt x="339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38"/>
          <p:cNvSpPr/>
          <p:nvPr/>
        </p:nvSpPr>
        <p:spPr>
          <a:xfrm>
            <a:off x="6642000" y="3632040"/>
            <a:ext cx="376200" cy="331920"/>
          </a:xfrm>
          <a:custGeom>
            <a:avLst/>
            <a:gdLst>
              <a:gd name="textAreaLeft" fmla="*/ 0 w 376200"/>
              <a:gd name="textAreaRight" fmla="*/ 376560 w 3762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593" h="524">
                <a:moveTo>
                  <a:pt x="305" y="101"/>
                </a:moveTo>
                <a:lnTo>
                  <a:pt x="406" y="152"/>
                </a:lnTo>
                <a:lnTo>
                  <a:pt x="491" y="203"/>
                </a:lnTo>
                <a:lnTo>
                  <a:pt x="542" y="254"/>
                </a:lnTo>
                <a:lnTo>
                  <a:pt x="576" y="304"/>
                </a:lnTo>
                <a:lnTo>
                  <a:pt x="593" y="406"/>
                </a:lnTo>
                <a:lnTo>
                  <a:pt x="593" y="439"/>
                </a:lnTo>
                <a:lnTo>
                  <a:pt x="593" y="473"/>
                </a:lnTo>
                <a:lnTo>
                  <a:pt x="576" y="507"/>
                </a:lnTo>
                <a:lnTo>
                  <a:pt x="542" y="524"/>
                </a:lnTo>
                <a:lnTo>
                  <a:pt x="508" y="507"/>
                </a:lnTo>
                <a:lnTo>
                  <a:pt x="457" y="473"/>
                </a:lnTo>
                <a:lnTo>
                  <a:pt x="389" y="439"/>
                </a:lnTo>
                <a:lnTo>
                  <a:pt x="322" y="389"/>
                </a:lnTo>
                <a:lnTo>
                  <a:pt x="254" y="321"/>
                </a:lnTo>
                <a:lnTo>
                  <a:pt x="169" y="237"/>
                </a:lnTo>
                <a:lnTo>
                  <a:pt x="101" y="152"/>
                </a:lnTo>
                <a:lnTo>
                  <a:pt x="51" y="85"/>
                </a:lnTo>
                <a:lnTo>
                  <a:pt x="17" y="51"/>
                </a:ln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35" y="34"/>
                </a:lnTo>
                <a:lnTo>
                  <a:pt x="220" y="68"/>
                </a:lnTo>
                <a:lnTo>
                  <a:pt x="305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1357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TextBox 57"/>
          <p:cNvSpPr/>
          <p:nvPr/>
        </p:nvSpPr>
        <p:spPr>
          <a:xfrm>
            <a:off x="4619520" y="485784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部分的“曰”要写的扁一点，第六笔横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33"/>
          <p:cNvSpPr/>
          <p:nvPr/>
        </p:nvSpPr>
        <p:spPr>
          <a:xfrm>
            <a:off x="817560" y="466884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景色  美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817560" y="520524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张家界的景色很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5490720" y="2216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3"/>
          <p:cNvSpPr/>
          <p:nvPr/>
        </p:nvSpPr>
        <p:spPr>
          <a:xfrm>
            <a:off x="5964120" y="3201840"/>
            <a:ext cx="193680" cy="365400"/>
          </a:xfrm>
          <a:custGeom>
            <a:avLst/>
            <a:gdLst>
              <a:gd name="textAreaLeft" fmla="*/ 0 w 193680"/>
              <a:gd name="textAreaRight" fmla="*/ 194040 w 19368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305" h="575">
                <a:moveTo>
                  <a:pt x="51" y="102"/>
                </a:moveTo>
                <a:lnTo>
                  <a:pt x="17" y="85"/>
                </a:lnTo>
                <a:lnTo>
                  <a:pt x="17" y="68"/>
                </a:ln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53" y="0"/>
                </a:lnTo>
                <a:lnTo>
                  <a:pt x="221" y="0"/>
                </a:lnTo>
                <a:lnTo>
                  <a:pt x="238" y="34"/>
                </a:lnTo>
                <a:lnTo>
                  <a:pt x="272" y="68"/>
                </a:lnTo>
                <a:lnTo>
                  <a:pt x="288" y="135"/>
                </a:lnTo>
                <a:lnTo>
                  <a:pt x="288" y="220"/>
                </a:lnTo>
                <a:lnTo>
                  <a:pt x="305" y="304"/>
                </a:lnTo>
                <a:lnTo>
                  <a:pt x="305" y="372"/>
                </a:lnTo>
                <a:lnTo>
                  <a:pt x="305" y="440"/>
                </a:lnTo>
                <a:lnTo>
                  <a:pt x="305" y="490"/>
                </a:lnTo>
                <a:lnTo>
                  <a:pt x="305" y="524"/>
                </a:lnTo>
                <a:lnTo>
                  <a:pt x="288" y="558"/>
                </a:lnTo>
                <a:lnTo>
                  <a:pt x="288" y="575"/>
                </a:lnTo>
                <a:lnTo>
                  <a:pt x="272" y="575"/>
                </a:lnTo>
                <a:lnTo>
                  <a:pt x="238" y="575"/>
                </a:lnTo>
                <a:lnTo>
                  <a:pt x="221" y="541"/>
                </a:lnTo>
                <a:lnTo>
                  <a:pt x="221" y="507"/>
                </a:lnTo>
                <a:lnTo>
                  <a:pt x="204" y="473"/>
                </a:lnTo>
                <a:lnTo>
                  <a:pt x="170" y="372"/>
                </a:lnTo>
                <a:lnTo>
                  <a:pt x="136" y="237"/>
                </a:lnTo>
                <a:lnTo>
                  <a:pt x="119" y="186"/>
                </a:lnTo>
                <a:lnTo>
                  <a:pt x="102" y="135"/>
                </a:lnTo>
                <a:lnTo>
                  <a:pt x="68" y="119"/>
                </a:lnTo>
                <a:lnTo>
                  <a:pt x="51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4"/>
          <p:cNvSpPr/>
          <p:nvPr/>
        </p:nvSpPr>
        <p:spPr>
          <a:xfrm>
            <a:off x="6049800" y="3127320"/>
            <a:ext cx="808200" cy="311040"/>
          </a:xfrm>
          <a:custGeom>
            <a:avLst/>
            <a:gdLst>
              <a:gd name="textAreaLeft" fmla="*/ 0 w 808200"/>
              <a:gd name="textAreaRight" fmla="*/ 808560 w 80820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271" h="490">
                <a:moveTo>
                  <a:pt x="881" y="34"/>
                </a:moveTo>
                <a:lnTo>
                  <a:pt x="915" y="0"/>
                </a:lnTo>
                <a:lnTo>
                  <a:pt x="966" y="0"/>
                </a:lnTo>
                <a:lnTo>
                  <a:pt x="983" y="0"/>
                </a:lnTo>
                <a:lnTo>
                  <a:pt x="1033" y="17"/>
                </a:lnTo>
                <a:lnTo>
                  <a:pt x="1084" y="51"/>
                </a:lnTo>
                <a:lnTo>
                  <a:pt x="1135" y="68"/>
                </a:lnTo>
                <a:lnTo>
                  <a:pt x="1203" y="101"/>
                </a:lnTo>
                <a:lnTo>
                  <a:pt x="1237" y="135"/>
                </a:lnTo>
                <a:lnTo>
                  <a:pt x="1254" y="169"/>
                </a:lnTo>
                <a:lnTo>
                  <a:pt x="1271" y="169"/>
                </a:lnTo>
                <a:lnTo>
                  <a:pt x="1271" y="203"/>
                </a:lnTo>
                <a:lnTo>
                  <a:pt x="1254" y="220"/>
                </a:lnTo>
                <a:lnTo>
                  <a:pt x="1220" y="237"/>
                </a:lnTo>
                <a:lnTo>
                  <a:pt x="1186" y="237"/>
                </a:lnTo>
                <a:lnTo>
                  <a:pt x="1152" y="270"/>
                </a:lnTo>
                <a:lnTo>
                  <a:pt x="1101" y="321"/>
                </a:lnTo>
                <a:lnTo>
                  <a:pt x="1050" y="389"/>
                </a:lnTo>
                <a:lnTo>
                  <a:pt x="983" y="490"/>
                </a:lnTo>
                <a:lnTo>
                  <a:pt x="813" y="490"/>
                </a:lnTo>
                <a:lnTo>
                  <a:pt x="847" y="406"/>
                </a:lnTo>
                <a:lnTo>
                  <a:pt x="864" y="355"/>
                </a:lnTo>
                <a:lnTo>
                  <a:pt x="881" y="304"/>
                </a:lnTo>
                <a:lnTo>
                  <a:pt x="898" y="253"/>
                </a:lnTo>
                <a:lnTo>
                  <a:pt x="898" y="220"/>
                </a:lnTo>
                <a:lnTo>
                  <a:pt x="915" y="186"/>
                </a:lnTo>
                <a:lnTo>
                  <a:pt x="915" y="169"/>
                </a:lnTo>
                <a:lnTo>
                  <a:pt x="898" y="152"/>
                </a:lnTo>
                <a:lnTo>
                  <a:pt x="881" y="152"/>
                </a:lnTo>
                <a:lnTo>
                  <a:pt x="847" y="152"/>
                </a:lnTo>
                <a:lnTo>
                  <a:pt x="796" y="169"/>
                </a:lnTo>
                <a:lnTo>
                  <a:pt x="745" y="169"/>
                </a:lnTo>
                <a:lnTo>
                  <a:pt x="678" y="169"/>
                </a:lnTo>
                <a:lnTo>
                  <a:pt x="593" y="186"/>
                </a:lnTo>
                <a:lnTo>
                  <a:pt x="508" y="186"/>
                </a:lnTo>
                <a:lnTo>
                  <a:pt x="339" y="203"/>
                </a:lnTo>
                <a:lnTo>
                  <a:pt x="271" y="220"/>
                </a:lnTo>
                <a:lnTo>
                  <a:pt x="203" y="220"/>
                </a:lnTo>
                <a:lnTo>
                  <a:pt x="136" y="220"/>
                </a:lnTo>
                <a:lnTo>
                  <a:pt x="85" y="220"/>
                </a:lnTo>
                <a:lnTo>
                  <a:pt x="34" y="220"/>
                </a:lnTo>
                <a:lnTo>
                  <a:pt x="0" y="220"/>
                </a:lnTo>
                <a:lnTo>
                  <a:pt x="0" y="152"/>
                </a:lnTo>
                <a:lnTo>
                  <a:pt x="203" y="135"/>
                </a:lnTo>
                <a:lnTo>
                  <a:pt x="390" y="101"/>
                </a:lnTo>
                <a:lnTo>
                  <a:pt x="525" y="85"/>
                </a:lnTo>
                <a:lnTo>
                  <a:pt x="661" y="68"/>
                </a:lnTo>
                <a:lnTo>
                  <a:pt x="745" y="51"/>
                </a:lnTo>
                <a:lnTo>
                  <a:pt x="830" y="51"/>
                </a:lnTo>
                <a:lnTo>
                  <a:pt x="864" y="34"/>
                </a:lnTo>
                <a:lnTo>
                  <a:pt x="881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5"/>
          <p:cNvSpPr/>
          <p:nvPr/>
        </p:nvSpPr>
        <p:spPr>
          <a:xfrm>
            <a:off x="6137280" y="3406680"/>
            <a:ext cx="590400" cy="117720"/>
          </a:xfrm>
          <a:custGeom>
            <a:avLst/>
            <a:gdLst>
              <a:gd name="textAreaLeft" fmla="*/ 0 w 590400"/>
              <a:gd name="textAreaRight" fmla="*/ 590760 w 590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31" h="186">
                <a:moveTo>
                  <a:pt x="864" y="0"/>
                </a:moveTo>
                <a:lnTo>
                  <a:pt x="897" y="17"/>
                </a:lnTo>
                <a:lnTo>
                  <a:pt x="914" y="17"/>
                </a:lnTo>
                <a:lnTo>
                  <a:pt x="931" y="34"/>
                </a:lnTo>
                <a:lnTo>
                  <a:pt x="931" y="68"/>
                </a:lnTo>
                <a:lnTo>
                  <a:pt x="914" y="68"/>
                </a:lnTo>
                <a:lnTo>
                  <a:pt x="897" y="85"/>
                </a:lnTo>
                <a:lnTo>
                  <a:pt x="864" y="102"/>
                </a:lnTo>
                <a:lnTo>
                  <a:pt x="830" y="119"/>
                </a:lnTo>
                <a:lnTo>
                  <a:pt x="762" y="119"/>
                </a:lnTo>
                <a:lnTo>
                  <a:pt x="694" y="135"/>
                </a:lnTo>
                <a:lnTo>
                  <a:pt x="609" y="135"/>
                </a:lnTo>
                <a:lnTo>
                  <a:pt x="525" y="152"/>
                </a:lnTo>
                <a:lnTo>
                  <a:pt x="423" y="152"/>
                </a:lnTo>
                <a:lnTo>
                  <a:pt x="338" y="169"/>
                </a:lnTo>
                <a:lnTo>
                  <a:pt x="254" y="169"/>
                </a:lnTo>
                <a:lnTo>
                  <a:pt x="186" y="186"/>
                </a:lnTo>
                <a:lnTo>
                  <a:pt x="135" y="186"/>
                </a:lnTo>
                <a:lnTo>
                  <a:pt x="84" y="186"/>
                </a:lnTo>
                <a:lnTo>
                  <a:pt x="33" y="186"/>
                </a:lnTo>
                <a:lnTo>
                  <a:pt x="0" y="186"/>
                </a:lnTo>
                <a:lnTo>
                  <a:pt x="0" y="85"/>
                </a:lnTo>
                <a:lnTo>
                  <a:pt x="33" y="85"/>
                </a:lnTo>
                <a:lnTo>
                  <a:pt x="67" y="85"/>
                </a:lnTo>
                <a:lnTo>
                  <a:pt x="118" y="85"/>
                </a:lnTo>
                <a:lnTo>
                  <a:pt x="169" y="68"/>
                </a:lnTo>
                <a:lnTo>
                  <a:pt x="237" y="68"/>
                </a:lnTo>
                <a:lnTo>
                  <a:pt x="304" y="51"/>
                </a:lnTo>
                <a:lnTo>
                  <a:pt x="372" y="51"/>
                </a:lnTo>
                <a:lnTo>
                  <a:pt x="457" y="34"/>
                </a:lnTo>
                <a:lnTo>
                  <a:pt x="542" y="17"/>
                </a:lnTo>
                <a:lnTo>
                  <a:pt x="609" y="17"/>
                </a:lnTo>
                <a:lnTo>
                  <a:pt x="677" y="17"/>
                </a:lnTo>
                <a:lnTo>
                  <a:pt x="728" y="0"/>
                </a:lnTo>
                <a:lnTo>
                  <a:pt x="779" y="0"/>
                </a:lnTo>
                <a:lnTo>
                  <a:pt x="813" y="0"/>
                </a:lnTo>
                <a:lnTo>
                  <a:pt x="847" y="0"/>
                </a:lnTo>
                <a:lnTo>
                  <a:pt x="864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6"/>
          <p:cNvSpPr/>
          <p:nvPr/>
        </p:nvSpPr>
        <p:spPr>
          <a:xfrm>
            <a:off x="6094440" y="3481560"/>
            <a:ext cx="376200" cy="653760"/>
          </a:xfrm>
          <a:custGeom>
            <a:avLst/>
            <a:gdLst>
              <a:gd name="textAreaLeft" fmla="*/ 0 w 376200"/>
              <a:gd name="textAreaRight" fmla="*/ 376560 w 376200"/>
              <a:gd name="textAreaTop" fmla="*/ 0 h 653760"/>
              <a:gd name="textAreaBottom" fmla="*/ 654120 h 653760"/>
            </a:gdLst>
            <a:ahLst/>
            <a:rect l="textAreaLeft" t="textAreaTop" r="textAreaRight" b="textAreaBottom"/>
            <a:pathLst>
              <a:path w="593" h="1030">
                <a:moveTo>
                  <a:pt x="440" y="557"/>
                </a:moveTo>
                <a:lnTo>
                  <a:pt x="440" y="439"/>
                </a:lnTo>
                <a:lnTo>
                  <a:pt x="440" y="287"/>
                </a:lnTo>
                <a:lnTo>
                  <a:pt x="423" y="219"/>
                </a:lnTo>
                <a:lnTo>
                  <a:pt x="406" y="169"/>
                </a:lnTo>
                <a:lnTo>
                  <a:pt x="389" y="135"/>
                </a:lnTo>
                <a:lnTo>
                  <a:pt x="372" y="101"/>
                </a:lnTo>
                <a:lnTo>
                  <a:pt x="356" y="84"/>
                </a:lnTo>
                <a:lnTo>
                  <a:pt x="339" y="50"/>
                </a:lnTo>
                <a:lnTo>
                  <a:pt x="356" y="33"/>
                </a:lnTo>
                <a:lnTo>
                  <a:pt x="372" y="16"/>
                </a:lnTo>
                <a:lnTo>
                  <a:pt x="389" y="0"/>
                </a:lnTo>
                <a:lnTo>
                  <a:pt x="423" y="0"/>
                </a:lnTo>
                <a:lnTo>
                  <a:pt x="457" y="16"/>
                </a:lnTo>
                <a:lnTo>
                  <a:pt x="491" y="50"/>
                </a:lnTo>
                <a:lnTo>
                  <a:pt x="525" y="67"/>
                </a:lnTo>
                <a:lnTo>
                  <a:pt x="559" y="101"/>
                </a:lnTo>
                <a:lnTo>
                  <a:pt x="576" y="118"/>
                </a:lnTo>
                <a:lnTo>
                  <a:pt x="593" y="135"/>
                </a:lnTo>
                <a:lnTo>
                  <a:pt x="593" y="152"/>
                </a:lnTo>
                <a:lnTo>
                  <a:pt x="593" y="169"/>
                </a:lnTo>
                <a:lnTo>
                  <a:pt x="593" y="236"/>
                </a:lnTo>
                <a:lnTo>
                  <a:pt x="593" y="321"/>
                </a:lnTo>
                <a:lnTo>
                  <a:pt x="593" y="439"/>
                </a:lnTo>
                <a:lnTo>
                  <a:pt x="593" y="557"/>
                </a:lnTo>
                <a:lnTo>
                  <a:pt x="593" y="659"/>
                </a:lnTo>
                <a:lnTo>
                  <a:pt x="576" y="726"/>
                </a:lnTo>
                <a:lnTo>
                  <a:pt x="576" y="794"/>
                </a:lnTo>
                <a:lnTo>
                  <a:pt x="559" y="827"/>
                </a:lnTo>
                <a:lnTo>
                  <a:pt x="542" y="878"/>
                </a:lnTo>
                <a:lnTo>
                  <a:pt x="491" y="963"/>
                </a:lnTo>
                <a:lnTo>
                  <a:pt x="457" y="996"/>
                </a:lnTo>
                <a:lnTo>
                  <a:pt x="423" y="1013"/>
                </a:lnTo>
                <a:lnTo>
                  <a:pt x="406" y="1030"/>
                </a:lnTo>
                <a:lnTo>
                  <a:pt x="389" y="1030"/>
                </a:lnTo>
                <a:lnTo>
                  <a:pt x="372" y="1030"/>
                </a:lnTo>
                <a:lnTo>
                  <a:pt x="356" y="1013"/>
                </a:lnTo>
                <a:lnTo>
                  <a:pt x="339" y="996"/>
                </a:lnTo>
                <a:lnTo>
                  <a:pt x="339" y="963"/>
                </a:lnTo>
                <a:lnTo>
                  <a:pt x="305" y="929"/>
                </a:lnTo>
                <a:lnTo>
                  <a:pt x="271" y="878"/>
                </a:lnTo>
                <a:lnTo>
                  <a:pt x="220" y="844"/>
                </a:lnTo>
                <a:lnTo>
                  <a:pt x="152" y="794"/>
                </a:lnTo>
                <a:lnTo>
                  <a:pt x="84" y="743"/>
                </a:lnTo>
                <a:lnTo>
                  <a:pt x="34" y="709"/>
                </a:lnTo>
                <a:lnTo>
                  <a:pt x="17" y="692"/>
                </a:lnTo>
                <a:lnTo>
                  <a:pt x="0" y="675"/>
                </a:lnTo>
                <a:lnTo>
                  <a:pt x="17" y="675"/>
                </a:lnTo>
                <a:lnTo>
                  <a:pt x="51" y="675"/>
                </a:lnTo>
                <a:lnTo>
                  <a:pt x="101" y="675"/>
                </a:lnTo>
                <a:lnTo>
                  <a:pt x="186" y="692"/>
                </a:lnTo>
                <a:lnTo>
                  <a:pt x="254" y="709"/>
                </a:lnTo>
                <a:lnTo>
                  <a:pt x="322" y="709"/>
                </a:lnTo>
                <a:lnTo>
                  <a:pt x="372" y="709"/>
                </a:lnTo>
                <a:lnTo>
                  <a:pt x="389" y="709"/>
                </a:lnTo>
                <a:lnTo>
                  <a:pt x="406" y="692"/>
                </a:lnTo>
                <a:lnTo>
                  <a:pt x="423" y="659"/>
                </a:lnTo>
                <a:lnTo>
                  <a:pt x="423" y="608"/>
                </a:lnTo>
                <a:lnTo>
                  <a:pt x="440" y="5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7"/>
          <p:cNvSpPr/>
          <p:nvPr/>
        </p:nvSpPr>
        <p:spPr>
          <a:xfrm>
            <a:off x="5792760" y="3546360"/>
            <a:ext cx="193680" cy="397080"/>
          </a:xfrm>
          <a:custGeom>
            <a:avLst/>
            <a:gdLst>
              <a:gd name="textAreaLeft" fmla="*/ 0 w 193680"/>
              <a:gd name="textAreaRight" fmla="*/ 194040 w 1936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305" h="625">
                <a:moveTo>
                  <a:pt x="102" y="608"/>
                </a:moveTo>
                <a:lnTo>
                  <a:pt x="68" y="625"/>
                </a:lnTo>
                <a:lnTo>
                  <a:pt x="51" y="625"/>
                </a:lnTo>
                <a:lnTo>
                  <a:pt x="34" y="608"/>
                </a:lnTo>
                <a:lnTo>
                  <a:pt x="17" y="574"/>
                </a:lnTo>
                <a:lnTo>
                  <a:pt x="0" y="524"/>
                </a:lnTo>
                <a:lnTo>
                  <a:pt x="0" y="490"/>
                </a:lnTo>
                <a:lnTo>
                  <a:pt x="0" y="473"/>
                </a:lnTo>
                <a:lnTo>
                  <a:pt x="0" y="439"/>
                </a:lnTo>
                <a:lnTo>
                  <a:pt x="17" y="405"/>
                </a:lnTo>
                <a:lnTo>
                  <a:pt x="34" y="372"/>
                </a:lnTo>
                <a:lnTo>
                  <a:pt x="68" y="321"/>
                </a:lnTo>
                <a:lnTo>
                  <a:pt x="102" y="270"/>
                </a:lnTo>
                <a:lnTo>
                  <a:pt x="136" y="186"/>
                </a:lnTo>
                <a:lnTo>
                  <a:pt x="187" y="101"/>
                </a:lnTo>
                <a:lnTo>
                  <a:pt x="238" y="0"/>
                </a:lnTo>
                <a:lnTo>
                  <a:pt x="271" y="34"/>
                </a:lnTo>
                <a:lnTo>
                  <a:pt x="288" y="68"/>
                </a:lnTo>
                <a:lnTo>
                  <a:pt x="305" y="101"/>
                </a:lnTo>
                <a:lnTo>
                  <a:pt x="305" y="152"/>
                </a:lnTo>
                <a:lnTo>
                  <a:pt x="305" y="203"/>
                </a:lnTo>
                <a:lnTo>
                  <a:pt x="288" y="270"/>
                </a:lnTo>
                <a:lnTo>
                  <a:pt x="238" y="389"/>
                </a:lnTo>
                <a:lnTo>
                  <a:pt x="221" y="456"/>
                </a:lnTo>
                <a:lnTo>
                  <a:pt x="187" y="524"/>
                </a:lnTo>
                <a:lnTo>
                  <a:pt x="136" y="558"/>
                </a:lnTo>
                <a:lnTo>
                  <a:pt x="102" y="60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41"/>
          <p:cNvSpPr/>
          <p:nvPr/>
        </p:nvSpPr>
        <p:spPr>
          <a:xfrm>
            <a:off x="5932440" y="2301840"/>
            <a:ext cx="236520" cy="482760"/>
          </a:xfrm>
          <a:custGeom>
            <a:avLst/>
            <a:gdLst>
              <a:gd name="textAreaLeft" fmla="*/ 0 w 236520"/>
              <a:gd name="textAreaRight" fmla="*/ 236880 w 2365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372" h="760">
                <a:moveTo>
                  <a:pt x="186" y="490"/>
                </a:moveTo>
                <a:lnTo>
                  <a:pt x="169" y="406"/>
                </a:lnTo>
                <a:lnTo>
                  <a:pt x="152" y="355"/>
                </a:lnTo>
                <a:lnTo>
                  <a:pt x="118" y="304"/>
                </a:lnTo>
                <a:lnTo>
                  <a:pt x="101" y="253"/>
                </a:lnTo>
                <a:lnTo>
                  <a:pt x="84" y="203"/>
                </a:lnTo>
                <a:lnTo>
                  <a:pt x="67" y="186"/>
                </a:lnTo>
                <a:lnTo>
                  <a:pt x="50" y="152"/>
                </a:lnTo>
                <a:lnTo>
                  <a:pt x="34" y="135"/>
                </a:lnTo>
                <a:lnTo>
                  <a:pt x="17" y="118"/>
                </a:lnTo>
                <a:lnTo>
                  <a:pt x="0" y="85"/>
                </a:lnTo>
                <a:lnTo>
                  <a:pt x="0" y="68"/>
                </a:lnTo>
                <a:lnTo>
                  <a:pt x="0" y="34"/>
                </a:lnTo>
                <a:lnTo>
                  <a:pt x="17" y="17"/>
                </a:lnTo>
                <a:lnTo>
                  <a:pt x="67" y="0"/>
                </a:lnTo>
                <a:lnTo>
                  <a:pt x="135" y="17"/>
                </a:lnTo>
                <a:lnTo>
                  <a:pt x="220" y="34"/>
                </a:lnTo>
                <a:lnTo>
                  <a:pt x="254" y="152"/>
                </a:lnTo>
                <a:lnTo>
                  <a:pt x="271" y="253"/>
                </a:lnTo>
                <a:lnTo>
                  <a:pt x="288" y="338"/>
                </a:lnTo>
                <a:lnTo>
                  <a:pt x="305" y="422"/>
                </a:lnTo>
                <a:lnTo>
                  <a:pt x="322" y="490"/>
                </a:lnTo>
                <a:lnTo>
                  <a:pt x="338" y="558"/>
                </a:lnTo>
                <a:lnTo>
                  <a:pt x="355" y="591"/>
                </a:lnTo>
                <a:lnTo>
                  <a:pt x="372" y="642"/>
                </a:lnTo>
                <a:lnTo>
                  <a:pt x="372" y="693"/>
                </a:lnTo>
                <a:lnTo>
                  <a:pt x="372" y="743"/>
                </a:lnTo>
                <a:lnTo>
                  <a:pt x="372" y="760"/>
                </a:lnTo>
                <a:lnTo>
                  <a:pt x="338" y="760"/>
                </a:lnTo>
                <a:lnTo>
                  <a:pt x="322" y="760"/>
                </a:lnTo>
                <a:lnTo>
                  <a:pt x="305" y="743"/>
                </a:lnTo>
                <a:lnTo>
                  <a:pt x="288" y="727"/>
                </a:lnTo>
                <a:lnTo>
                  <a:pt x="271" y="693"/>
                </a:lnTo>
                <a:lnTo>
                  <a:pt x="254" y="659"/>
                </a:lnTo>
                <a:lnTo>
                  <a:pt x="237" y="608"/>
                </a:lnTo>
                <a:lnTo>
                  <a:pt x="220" y="558"/>
                </a:lnTo>
                <a:lnTo>
                  <a:pt x="186" y="4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0"/>
          <p:cNvSpPr/>
          <p:nvPr/>
        </p:nvSpPr>
        <p:spPr>
          <a:xfrm>
            <a:off x="6072120" y="2452680"/>
            <a:ext cx="549360" cy="106200"/>
          </a:xfrm>
          <a:custGeom>
            <a:avLst/>
            <a:gdLst>
              <a:gd name="textAreaLeft" fmla="*/ 0 w 549360"/>
              <a:gd name="textAreaRight" fmla="*/ 549720 w 5493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864" h="169">
                <a:moveTo>
                  <a:pt x="373" y="50"/>
                </a:moveTo>
                <a:lnTo>
                  <a:pt x="491" y="33"/>
                </a:lnTo>
                <a:lnTo>
                  <a:pt x="576" y="16"/>
                </a:lnTo>
                <a:lnTo>
                  <a:pt x="644" y="0"/>
                </a:lnTo>
                <a:lnTo>
                  <a:pt x="695" y="0"/>
                </a:lnTo>
                <a:lnTo>
                  <a:pt x="762" y="0"/>
                </a:lnTo>
                <a:lnTo>
                  <a:pt x="813" y="16"/>
                </a:lnTo>
                <a:lnTo>
                  <a:pt x="830" y="33"/>
                </a:lnTo>
                <a:lnTo>
                  <a:pt x="847" y="33"/>
                </a:lnTo>
                <a:lnTo>
                  <a:pt x="864" y="67"/>
                </a:lnTo>
                <a:lnTo>
                  <a:pt x="847" y="67"/>
                </a:lnTo>
                <a:lnTo>
                  <a:pt x="830" y="84"/>
                </a:lnTo>
                <a:lnTo>
                  <a:pt x="813" y="84"/>
                </a:lnTo>
                <a:lnTo>
                  <a:pt x="762" y="84"/>
                </a:lnTo>
                <a:lnTo>
                  <a:pt x="711" y="101"/>
                </a:lnTo>
                <a:lnTo>
                  <a:pt x="661" y="118"/>
                </a:lnTo>
                <a:lnTo>
                  <a:pt x="593" y="118"/>
                </a:lnTo>
                <a:lnTo>
                  <a:pt x="508" y="135"/>
                </a:lnTo>
                <a:lnTo>
                  <a:pt x="339" y="152"/>
                </a:lnTo>
                <a:lnTo>
                  <a:pt x="271" y="152"/>
                </a:lnTo>
                <a:lnTo>
                  <a:pt x="203" y="152"/>
                </a:lnTo>
                <a:lnTo>
                  <a:pt x="135" y="169"/>
                </a:lnTo>
                <a:lnTo>
                  <a:pt x="85" y="169"/>
                </a:lnTo>
                <a:lnTo>
                  <a:pt x="51" y="169"/>
                </a:lnTo>
                <a:lnTo>
                  <a:pt x="0" y="169"/>
                </a:lnTo>
                <a:lnTo>
                  <a:pt x="0" y="101"/>
                </a:lnTo>
                <a:lnTo>
                  <a:pt x="85" y="101"/>
                </a:lnTo>
                <a:lnTo>
                  <a:pt x="169" y="84"/>
                </a:lnTo>
                <a:lnTo>
                  <a:pt x="271" y="67"/>
                </a:lnTo>
                <a:lnTo>
                  <a:pt x="373" y="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9"/>
          <p:cNvSpPr/>
          <p:nvPr/>
        </p:nvSpPr>
        <p:spPr>
          <a:xfrm>
            <a:off x="5986440" y="2205000"/>
            <a:ext cx="946080" cy="547560"/>
          </a:xfrm>
          <a:custGeom>
            <a:avLst/>
            <a:gdLst>
              <a:gd name="textAreaLeft" fmla="*/ 0 w 946080"/>
              <a:gd name="textAreaRight" fmla="*/ 946440 w 94608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491" h="862">
                <a:moveTo>
                  <a:pt x="0" y="186"/>
                </a:moveTo>
                <a:lnTo>
                  <a:pt x="153" y="186"/>
                </a:lnTo>
                <a:lnTo>
                  <a:pt x="288" y="169"/>
                </a:lnTo>
                <a:lnTo>
                  <a:pt x="559" y="152"/>
                </a:lnTo>
                <a:lnTo>
                  <a:pt x="661" y="118"/>
                </a:lnTo>
                <a:lnTo>
                  <a:pt x="763" y="101"/>
                </a:lnTo>
                <a:lnTo>
                  <a:pt x="847" y="84"/>
                </a:lnTo>
                <a:lnTo>
                  <a:pt x="915" y="84"/>
                </a:lnTo>
                <a:lnTo>
                  <a:pt x="983" y="68"/>
                </a:lnTo>
                <a:lnTo>
                  <a:pt x="1034" y="51"/>
                </a:lnTo>
                <a:lnTo>
                  <a:pt x="1068" y="34"/>
                </a:lnTo>
                <a:lnTo>
                  <a:pt x="1102" y="34"/>
                </a:lnTo>
                <a:lnTo>
                  <a:pt x="1152" y="17"/>
                </a:lnTo>
                <a:lnTo>
                  <a:pt x="1186" y="0"/>
                </a:lnTo>
                <a:lnTo>
                  <a:pt x="1220" y="17"/>
                </a:lnTo>
                <a:lnTo>
                  <a:pt x="1254" y="34"/>
                </a:lnTo>
                <a:lnTo>
                  <a:pt x="1305" y="51"/>
                </a:lnTo>
                <a:lnTo>
                  <a:pt x="1373" y="84"/>
                </a:lnTo>
                <a:lnTo>
                  <a:pt x="1423" y="135"/>
                </a:lnTo>
                <a:lnTo>
                  <a:pt x="1474" y="169"/>
                </a:lnTo>
                <a:lnTo>
                  <a:pt x="1491" y="203"/>
                </a:lnTo>
                <a:lnTo>
                  <a:pt x="1491" y="220"/>
                </a:lnTo>
                <a:lnTo>
                  <a:pt x="1491" y="237"/>
                </a:lnTo>
                <a:lnTo>
                  <a:pt x="1474" y="253"/>
                </a:lnTo>
                <a:lnTo>
                  <a:pt x="1440" y="270"/>
                </a:lnTo>
                <a:lnTo>
                  <a:pt x="1423" y="287"/>
                </a:lnTo>
                <a:lnTo>
                  <a:pt x="1407" y="304"/>
                </a:lnTo>
                <a:lnTo>
                  <a:pt x="1390" y="321"/>
                </a:lnTo>
                <a:lnTo>
                  <a:pt x="1356" y="355"/>
                </a:lnTo>
                <a:lnTo>
                  <a:pt x="1339" y="405"/>
                </a:lnTo>
                <a:lnTo>
                  <a:pt x="1305" y="456"/>
                </a:lnTo>
                <a:lnTo>
                  <a:pt x="1288" y="507"/>
                </a:lnTo>
                <a:lnTo>
                  <a:pt x="1254" y="591"/>
                </a:lnTo>
                <a:lnTo>
                  <a:pt x="1237" y="659"/>
                </a:lnTo>
                <a:lnTo>
                  <a:pt x="1203" y="710"/>
                </a:lnTo>
                <a:lnTo>
                  <a:pt x="1186" y="760"/>
                </a:lnTo>
                <a:lnTo>
                  <a:pt x="1152" y="811"/>
                </a:lnTo>
                <a:lnTo>
                  <a:pt x="1135" y="828"/>
                </a:lnTo>
                <a:lnTo>
                  <a:pt x="1119" y="862"/>
                </a:lnTo>
                <a:lnTo>
                  <a:pt x="1102" y="862"/>
                </a:lnTo>
                <a:lnTo>
                  <a:pt x="1085" y="862"/>
                </a:lnTo>
                <a:lnTo>
                  <a:pt x="1068" y="862"/>
                </a:lnTo>
                <a:lnTo>
                  <a:pt x="1051" y="845"/>
                </a:lnTo>
                <a:lnTo>
                  <a:pt x="1051" y="811"/>
                </a:lnTo>
                <a:lnTo>
                  <a:pt x="1051" y="777"/>
                </a:lnTo>
                <a:lnTo>
                  <a:pt x="1068" y="727"/>
                </a:lnTo>
                <a:lnTo>
                  <a:pt x="1085" y="659"/>
                </a:lnTo>
                <a:lnTo>
                  <a:pt x="1102" y="574"/>
                </a:lnTo>
                <a:lnTo>
                  <a:pt x="1135" y="456"/>
                </a:lnTo>
                <a:lnTo>
                  <a:pt x="1152" y="355"/>
                </a:lnTo>
                <a:lnTo>
                  <a:pt x="1169" y="270"/>
                </a:lnTo>
                <a:lnTo>
                  <a:pt x="1169" y="220"/>
                </a:lnTo>
                <a:lnTo>
                  <a:pt x="1169" y="203"/>
                </a:lnTo>
                <a:lnTo>
                  <a:pt x="1152" y="203"/>
                </a:lnTo>
                <a:lnTo>
                  <a:pt x="1102" y="186"/>
                </a:lnTo>
                <a:lnTo>
                  <a:pt x="1051" y="186"/>
                </a:lnTo>
                <a:lnTo>
                  <a:pt x="1034" y="186"/>
                </a:lnTo>
                <a:lnTo>
                  <a:pt x="1000" y="186"/>
                </a:lnTo>
                <a:lnTo>
                  <a:pt x="966" y="186"/>
                </a:lnTo>
                <a:lnTo>
                  <a:pt x="915" y="203"/>
                </a:lnTo>
                <a:lnTo>
                  <a:pt x="847" y="203"/>
                </a:lnTo>
                <a:lnTo>
                  <a:pt x="780" y="203"/>
                </a:lnTo>
                <a:lnTo>
                  <a:pt x="695" y="220"/>
                </a:lnTo>
                <a:lnTo>
                  <a:pt x="610" y="237"/>
                </a:lnTo>
                <a:lnTo>
                  <a:pt x="509" y="253"/>
                </a:lnTo>
                <a:lnTo>
                  <a:pt x="424" y="253"/>
                </a:lnTo>
                <a:lnTo>
                  <a:pt x="254" y="270"/>
                </a:lnTo>
                <a:lnTo>
                  <a:pt x="119" y="270"/>
                </a:lnTo>
                <a:lnTo>
                  <a:pt x="0" y="270"/>
                </a:lnTo>
                <a:lnTo>
                  <a:pt x="0" y="18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40"/>
          <p:cNvSpPr/>
          <p:nvPr/>
        </p:nvSpPr>
        <p:spPr>
          <a:xfrm>
            <a:off x="6137280" y="2676600"/>
            <a:ext cx="547560" cy="87120"/>
          </a:xfrm>
          <a:custGeom>
            <a:avLst/>
            <a:gdLst>
              <a:gd name="textAreaLeft" fmla="*/ 0 w 547560"/>
              <a:gd name="textAreaRight" fmla="*/ 547920 w 547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864" h="136">
                <a:moveTo>
                  <a:pt x="0" y="68"/>
                </a:moveTo>
                <a:lnTo>
                  <a:pt x="186" y="34"/>
                </a:lnTo>
                <a:lnTo>
                  <a:pt x="271" y="34"/>
                </a:lnTo>
                <a:lnTo>
                  <a:pt x="372" y="17"/>
                </a:lnTo>
                <a:lnTo>
                  <a:pt x="491" y="17"/>
                </a:lnTo>
                <a:lnTo>
                  <a:pt x="609" y="0"/>
                </a:lnTo>
                <a:lnTo>
                  <a:pt x="728" y="0"/>
                </a:lnTo>
                <a:lnTo>
                  <a:pt x="864" y="0"/>
                </a:lnTo>
                <a:lnTo>
                  <a:pt x="864" y="102"/>
                </a:lnTo>
                <a:lnTo>
                  <a:pt x="830" y="102"/>
                </a:lnTo>
                <a:lnTo>
                  <a:pt x="779" y="102"/>
                </a:lnTo>
                <a:lnTo>
                  <a:pt x="694" y="102"/>
                </a:lnTo>
                <a:lnTo>
                  <a:pt x="609" y="102"/>
                </a:lnTo>
                <a:lnTo>
                  <a:pt x="491" y="119"/>
                </a:lnTo>
                <a:lnTo>
                  <a:pt x="355" y="119"/>
                </a:lnTo>
                <a:lnTo>
                  <a:pt x="203" y="136"/>
                </a:lnTo>
                <a:lnTo>
                  <a:pt x="33" y="136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1"/>
          <p:cNvSpPr/>
          <p:nvPr/>
        </p:nvSpPr>
        <p:spPr>
          <a:xfrm>
            <a:off x="6308640" y="2752560"/>
            <a:ext cx="182520" cy="223920"/>
          </a:xfrm>
          <a:custGeom>
            <a:avLst/>
            <a:gdLst>
              <a:gd name="textAreaLeft" fmla="*/ 0 w 182520"/>
              <a:gd name="textAreaRight" fmla="*/ 182880 w 1825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88" h="354">
                <a:moveTo>
                  <a:pt x="0" y="0"/>
                </a:moveTo>
                <a:lnTo>
                  <a:pt x="67" y="0"/>
                </a:lnTo>
                <a:lnTo>
                  <a:pt x="135" y="17"/>
                </a:lnTo>
                <a:lnTo>
                  <a:pt x="203" y="33"/>
                </a:lnTo>
                <a:lnTo>
                  <a:pt x="254" y="84"/>
                </a:lnTo>
                <a:lnTo>
                  <a:pt x="271" y="135"/>
                </a:lnTo>
                <a:lnTo>
                  <a:pt x="288" y="202"/>
                </a:lnTo>
                <a:lnTo>
                  <a:pt x="271" y="270"/>
                </a:lnTo>
                <a:lnTo>
                  <a:pt x="254" y="354"/>
                </a:lnTo>
                <a:lnTo>
                  <a:pt x="220" y="354"/>
                </a:lnTo>
                <a:lnTo>
                  <a:pt x="203" y="338"/>
                </a:lnTo>
                <a:lnTo>
                  <a:pt x="169" y="304"/>
                </a:lnTo>
                <a:lnTo>
                  <a:pt x="135" y="270"/>
                </a:lnTo>
                <a:lnTo>
                  <a:pt x="101" y="219"/>
                </a:lnTo>
                <a:lnTo>
                  <a:pt x="67" y="152"/>
                </a:lnTo>
                <a:lnTo>
                  <a:pt x="33" y="8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2"/>
          <p:cNvSpPr/>
          <p:nvPr/>
        </p:nvSpPr>
        <p:spPr>
          <a:xfrm>
            <a:off x="5491080" y="2849400"/>
            <a:ext cx="1828800" cy="2779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880" h="439">
                <a:moveTo>
                  <a:pt x="2846" y="135"/>
                </a:moveTo>
                <a:lnTo>
                  <a:pt x="2863" y="169"/>
                </a:lnTo>
                <a:lnTo>
                  <a:pt x="2880" y="186"/>
                </a:lnTo>
                <a:lnTo>
                  <a:pt x="2880" y="202"/>
                </a:lnTo>
                <a:lnTo>
                  <a:pt x="2880" y="219"/>
                </a:lnTo>
                <a:lnTo>
                  <a:pt x="2863" y="219"/>
                </a:lnTo>
                <a:lnTo>
                  <a:pt x="2812" y="219"/>
                </a:lnTo>
                <a:lnTo>
                  <a:pt x="2745" y="219"/>
                </a:lnTo>
                <a:lnTo>
                  <a:pt x="2694" y="219"/>
                </a:lnTo>
                <a:lnTo>
                  <a:pt x="2643" y="219"/>
                </a:lnTo>
                <a:lnTo>
                  <a:pt x="2524" y="202"/>
                </a:lnTo>
                <a:lnTo>
                  <a:pt x="2406" y="202"/>
                </a:lnTo>
                <a:lnTo>
                  <a:pt x="2321" y="202"/>
                </a:lnTo>
                <a:lnTo>
                  <a:pt x="2236" y="202"/>
                </a:lnTo>
                <a:lnTo>
                  <a:pt x="2202" y="202"/>
                </a:lnTo>
                <a:lnTo>
                  <a:pt x="2152" y="202"/>
                </a:lnTo>
                <a:lnTo>
                  <a:pt x="2033" y="219"/>
                </a:lnTo>
                <a:lnTo>
                  <a:pt x="1881" y="219"/>
                </a:lnTo>
                <a:lnTo>
                  <a:pt x="1711" y="236"/>
                </a:lnTo>
                <a:lnTo>
                  <a:pt x="1525" y="253"/>
                </a:lnTo>
                <a:lnTo>
                  <a:pt x="1372" y="287"/>
                </a:lnTo>
                <a:lnTo>
                  <a:pt x="1237" y="304"/>
                </a:lnTo>
                <a:lnTo>
                  <a:pt x="1118" y="321"/>
                </a:lnTo>
                <a:lnTo>
                  <a:pt x="1000" y="338"/>
                </a:lnTo>
                <a:lnTo>
                  <a:pt x="881" y="355"/>
                </a:lnTo>
                <a:lnTo>
                  <a:pt x="745" y="371"/>
                </a:lnTo>
                <a:lnTo>
                  <a:pt x="610" y="388"/>
                </a:lnTo>
                <a:lnTo>
                  <a:pt x="542" y="405"/>
                </a:lnTo>
                <a:lnTo>
                  <a:pt x="474" y="422"/>
                </a:lnTo>
                <a:lnTo>
                  <a:pt x="424" y="422"/>
                </a:lnTo>
                <a:lnTo>
                  <a:pt x="373" y="439"/>
                </a:lnTo>
                <a:lnTo>
                  <a:pt x="339" y="439"/>
                </a:lnTo>
                <a:lnTo>
                  <a:pt x="305" y="439"/>
                </a:lnTo>
                <a:lnTo>
                  <a:pt x="288" y="439"/>
                </a:lnTo>
                <a:lnTo>
                  <a:pt x="254" y="439"/>
                </a:lnTo>
                <a:lnTo>
                  <a:pt x="220" y="439"/>
                </a:lnTo>
                <a:lnTo>
                  <a:pt x="186" y="422"/>
                </a:lnTo>
                <a:lnTo>
                  <a:pt x="136" y="388"/>
                </a:lnTo>
                <a:lnTo>
                  <a:pt x="68" y="371"/>
                </a:lnTo>
                <a:lnTo>
                  <a:pt x="34" y="338"/>
                </a:lnTo>
                <a:lnTo>
                  <a:pt x="17" y="321"/>
                </a:lnTo>
                <a:lnTo>
                  <a:pt x="0" y="304"/>
                </a:lnTo>
                <a:lnTo>
                  <a:pt x="102" y="304"/>
                </a:lnTo>
                <a:lnTo>
                  <a:pt x="220" y="304"/>
                </a:lnTo>
                <a:lnTo>
                  <a:pt x="356" y="287"/>
                </a:lnTo>
                <a:lnTo>
                  <a:pt x="508" y="270"/>
                </a:lnTo>
                <a:lnTo>
                  <a:pt x="678" y="253"/>
                </a:lnTo>
                <a:lnTo>
                  <a:pt x="847" y="236"/>
                </a:lnTo>
                <a:lnTo>
                  <a:pt x="983" y="219"/>
                </a:lnTo>
                <a:lnTo>
                  <a:pt x="1135" y="202"/>
                </a:lnTo>
                <a:lnTo>
                  <a:pt x="1203" y="186"/>
                </a:lnTo>
                <a:lnTo>
                  <a:pt x="1288" y="186"/>
                </a:lnTo>
                <a:lnTo>
                  <a:pt x="1372" y="169"/>
                </a:lnTo>
                <a:lnTo>
                  <a:pt x="1474" y="152"/>
                </a:lnTo>
                <a:lnTo>
                  <a:pt x="1576" y="135"/>
                </a:lnTo>
                <a:lnTo>
                  <a:pt x="1694" y="118"/>
                </a:lnTo>
                <a:lnTo>
                  <a:pt x="1830" y="101"/>
                </a:lnTo>
                <a:lnTo>
                  <a:pt x="1965" y="67"/>
                </a:lnTo>
                <a:lnTo>
                  <a:pt x="2084" y="50"/>
                </a:lnTo>
                <a:lnTo>
                  <a:pt x="2202" y="34"/>
                </a:lnTo>
                <a:lnTo>
                  <a:pt x="2304" y="17"/>
                </a:lnTo>
                <a:lnTo>
                  <a:pt x="2389" y="17"/>
                </a:lnTo>
                <a:lnTo>
                  <a:pt x="2457" y="0"/>
                </a:lnTo>
                <a:lnTo>
                  <a:pt x="2507" y="0"/>
                </a:lnTo>
                <a:lnTo>
                  <a:pt x="2541" y="0"/>
                </a:lnTo>
                <a:lnTo>
                  <a:pt x="2558" y="0"/>
                </a:lnTo>
                <a:lnTo>
                  <a:pt x="2575" y="0"/>
                </a:lnTo>
                <a:lnTo>
                  <a:pt x="2609" y="0"/>
                </a:lnTo>
                <a:lnTo>
                  <a:pt x="2694" y="34"/>
                </a:lnTo>
                <a:lnTo>
                  <a:pt x="2779" y="84"/>
                </a:lnTo>
                <a:lnTo>
                  <a:pt x="2812" y="118"/>
                </a:lnTo>
                <a:lnTo>
                  <a:pt x="2846" y="13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48"/>
          <p:cNvSpPr/>
          <p:nvPr/>
        </p:nvSpPr>
        <p:spPr>
          <a:xfrm>
            <a:off x="5589720" y="3452760"/>
            <a:ext cx="215640" cy="439920"/>
          </a:xfrm>
          <a:custGeom>
            <a:avLst/>
            <a:gdLst>
              <a:gd name="textAreaLeft" fmla="*/ 0 w 215640"/>
              <a:gd name="textAreaRight" fmla="*/ 216000 w 21564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339" h="693">
                <a:moveTo>
                  <a:pt x="237" y="0"/>
                </a:moveTo>
                <a:lnTo>
                  <a:pt x="271" y="51"/>
                </a:lnTo>
                <a:lnTo>
                  <a:pt x="305" y="102"/>
                </a:lnTo>
                <a:lnTo>
                  <a:pt x="322" y="152"/>
                </a:lnTo>
                <a:lnTo>
                  <a:pt x="339" y="203"/>
                </a:lnTo>
                <a:lnTo>
                  <a:pt x="322" y="321"/>
                </a:lnTo>
                <a:lnTo>
                  <a:pt x="288" y="423"/>
                </a:lnTo>
                <a:lnTo>
                  <a:pt x="271" y="490"/>
                </a:lnTo>
                <a:lnTo>
                  <a:pt x="254" y="541"/>
                </a:lnTo>
                <a:lnTo>
                  <a:pt x="220" y="575"/>
                </a:lnTo>
                <a:lnTo>
                  <a:pt x="186" y="608"/>
                </a:lnTo>
                <a:lnTo>
                  <a:pt x="152" y="642"/>
                </a:lnTo>
                <a:lnTo>
                  <a:pt x="118" y="659"/>
                </a:lnTo>
                <a:lnTo>
                  <a:pt x="102" y="676"/>
                </a:lnTo>
                <a:lnTo>
                  <a:pt x="85" y="693"/>
                </a:lnTo>
                <a:lnTo>
                  <a:pt x="85" y="676"/>
                </a:lnTo>
                <a:lnTo>
                  <a:pt x="68" y="659"/>
                </a:lnTo>
                <a:lnTo>
                  <a:pt x="51" y="642"/>
                </a:lnTo>
                <a:lnTo>
                  <a:pt x="34" y="608"/>
                </a:lnTo>
                <a:lnTo>
                  <a:pt x="17" y="558"/>
                </a:lnTo>
                <a:lnTo>
                  <a:pt x="0" y="524"/>
                </a:lnTo>
                <a:lnTo>
                  <a:pt x="17" y="507"/>
                </a:lnTo>
                <a:lnTo>
                  <a:pt x="17" y="490"/>
                </a:lnTo>
                <a:lnTo>
                  <a:pt x="34" y="456"/>
                </a:lnTo>
                <a:lnTo>
                  <a:pt x="51" y="423"/>
                </a:lnTo>
                <a:lnTo>
                  <a:pt x="85" y="372"/>
                </a:lnTo>
                <a:lnTo>
                  <a:pt x="102" y="355"/>
                </a:lnTo>
                <a:lnTo>
                  <a:pt x="118" y="321"/>
                </a:lnTo>
                <a:lnTo>
                  <a:pt x="152" y="237"/>
                </a:lnTo>
                <a:lnTo>
                  <a:pt x="186" y="135"/>
                </a:lnTo>
                <a:lnTo>
                  <a:pt x="237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128592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à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TextBox 57"/>
          <p:cNvSpPr/>
          <p:nvPr/>
        </p:nvSpPr>
        <p:spPr>
          <a:xfrm>
            <a:off x="4619520" y="47862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画稍微长、三四画稍微短，心字底扁平托起上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33"/>
          <p:cNvSpPr/>
          <p:nvPr/>
        </p:nvSpPr>
        <p:spPr>
          <a:xfrm>
            <a:off x="857160" y="45385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恋恋不舍  眷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34"/>
          <p:cNvSpPr/>
          <p:nvPr/>
        </p:nvSpPr>
        <p:spPr>
          <a:xfrm>
            <a:off x="857160" y="506088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明恋恋不舍地离开了公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1"/>
          <p:cNvSpPr/>
          <p:nvPr/>
        </p:nvSpPr>
        <p:spPr>
          <a:xfrm>
            <a:off x="22399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3330360" y="21448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42"/>
          <p:cNvSpPr/>
          <p:nvPr/>
        </p:nvSpPr>
        <p:spPr>
          <a:xfrm>
            <a:off x="5708520" y="2401920"/>
            <a:ext cx="1301760" cy="25704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050" h="406">
                <a:moveTo>
                  <a:pt x="1525" y="220"/>
                </a:moveTo>
                <a:lnTo>
                  <a:pt x="1288" y="254"/>
                </a:lnTo>
                <a:lnTo>
                  <a:pt x="1034" y="288"/>
                </a:lnTo>
                <a:lnTo>
                  <a:pt x="780" y="321"/>
                </a:lnTo>
                <a:lnTo>
                  <a:pt x="508" y="372"/>
                </a:lnTo>
                <a:lnTo>
                  <a:pt x="390" y="389"/>
                </a:lnTo>
                <a:lnTo>
                  <a:pt x="305" y="389"/>
                </a:lnTo>
                <a:lnTo>
                  <a:pt x="271" y="406"/>
                </a:lnTo>
                <a:lnTo>
                  <a:pt x="237" y="406"/>
                </a:lnTo>
                <a:lnTo>
                  <a:pt x="220" y="406"/>
                </a:lnTo>
                <a:lnTo>
                  <a:pt x="204" y="406"/>
                </a:lnTo>
                <a:lnTo>
                  <a:pt x="187" y="406"/>
                </a:lnTo>
                <a:lnTo>
                  <a:pt x="153" y="389"/>
                </a:lnTo>
                <a:lnTo>
                  <a:pt x="119" y="372"/>
                </a:lnTo>
                <a:lnTo>
                  <a:pt x="85" y="355"/>
                </a:lnTo>
                <a:lnTo>
                  <a:pt x="51" y="338"/>
                </a:lnTo>
                <a:lnTo>
                  <a:pt x="17" y="321"/>
                </a:lnTo>
                <a:lnTo>
                  <a:pt x="17" y="305"/>
                </a:lnTo>
                <a:lnTo>
                  <a:pt x="0" y="271"/>
                </a:lnTo>
                <a:lnTo>
                  <a:pt x="51" y="271"/>
                </a:lnTo>
                <a:lnTo>
                  <a:pt x="102" y="271"/>
                </a:lnTo>
                <a:lnTo>
                  <a:pt x="170" y="271"/>
                </a:lnTo>
                <a:lnTo>
                  <a:pt x="254" y="271"/>
                </a:lnTo>
                <a:lnTo>
                  <a:pt x="356" y="254"/>
                </a:lnTo>
                <a:lnTo>
                  <a:pt x="492" y="237"/>
                </a:lnTo>
                <a:lnTo>
                  <a:pt x="627" y="220"/>
                </a:lnTo>
                <a:lnTo>
                  <a:pt x="780" y="203"/>
                </a:lnTo>
                <a:lnTo>
                  <a:pt x="1085" y="136"/>
                </a:lnTo>
                <a:lnTo>
                  <a:pt x="1406" y="68"/>
                </a:lnTo>
                <a:lnTo>
                  <a:pt x="1542" y="51"/>
                </a:lnTo>
                <a:lnTo>
                  <a:pt x="1644" y="17"/>
                </a:lnTo>
                <a:lnTo>
                  <a:pt x="1694" y="17"/>
                </a:lnTo>
                <a:lnTo>
                  <a:pt x="1728" y="17"/>
                </a:lnTo>
                <a:lnTo>
                  <a:pt x="1762" y="0"/>
                </a:lnTo>
                <a:lnTo>
                  <a:pt x="1779" y="0"/>
                </a:lnTo>
                <a:lnTo>
                  <a:pt x="1813" y="17"/>
                </a:lnTo>
                <a:lnTo>
                  <a:pt x="1864" y="17"/>
                </a:lnTo>
                <a:lnTo>
                  <a:pt x="1898" y="34"/>
                </a:lnTo>
                <a:lnTo>
                  <a:pt x="1949" y="51"/>
                </a:lnTo>
                <a:lnTo>
                  <a:pt x="1999" y="85"/>
                </a:lnTo>
                <a:lnTo>
                  <a:pt x="2016" y="102"/>
                </a:lnTo>
                <a:lnTo>
                  <a:pt x="2050" y="119"/>
                </a:lnTo>
                <a:lnTo>
                  <a:pt x="2050" y="136"/>
                </a:lnTo>
                <a:lnTo>
                  <a:pt x="2033" y="169"/>
                </a:lnTo>
                <a:lnTo>
                  <a:pt x="2016" y="169"/>
                </a:lnTo>
                <a:lnTo>
                  <a:pt x="1999" y="169"/>
                </a:lnTo>
                <a:lnTo>
                  <a:pt x="1949" y="169"/>
                </a:lnTo>
                <a:lnTo>
                  <a:pt x="1898" y="169"/>
                </a:lnTo>
                <a:lnTo>
                  <a:pt x="1830" y="186"/>
                </a:lnTo>
                <a:lnTo>
                  <a:pt x="1745" y="203"/>
                </a:lnTo>
                <a:lnTo>
                  <a:pt x="1644" y="203"/>
                </a:lnTo>
                <a:lnTo>
                  <a:pt x="1525" y="2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43"/>
          <p:cNvSpPr/>
          <p:nvPr/>
        </p:nvSpPr>
        <p:spPr>
          <a:xfrm>
            <a:off x="6116760" y="2573280"/>
            <a:ext cx="118800" cy="654120"/>
          </a:xfrm>
          <a:custGeom>
            <a:avLst/>
            <a:gdLst>
              <a:gd name="textAreaLeft" fmla="*/ 0 w 118800"/>
              <a:gd name="textAreaRight" fmla="*/ 119160 w 11880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86" h="1030">
                <a:moveTo>
                  <a:pt x="0" y="828"/>
                </a:moveTo>
                <a:lnTo>
                  <a:pt x="0" y="794"/>
                </a:lnTo>
                <a:lnTo>
                  <a:pt x="17" y="760"/>
                </a:lnTo>
                <a:lnTo>
                  <a:pt x="17" y="726"/>
                </a:lnTo>
                <a:lnTo>
                  <a:pt x="34" y="659"/>
                </a:lnTo>
                <a:lnTo>
                  <a:pt x="34" y="608"/>
                </a:lnTo>
                <a:lnTo>
                  <a:pt x="51" y="540"/>
                </a:lnTo>
                <a:lnTo>
                  <a:pt x="51" y="473"/>
                </a:lnTo>
                <a:lnTo>
                  <a:pt x="51" y="388"/>
                </a:lnTo>
                <a:lnTo>
                  <a:pt x="34" y="202"/>
                </a:lnTo>
                <a:lnTo>
                  <a:pt x="0" y="0"/>
                </a:lnTo>
                <a:lnTo>
                  <a:pt x="85" y="50"/>
                </a:lnTo>
                <a:lnTo>
                  <a:pt x="136" y="84"/>
                </a:lnTo>
                <a:lnTo>
                  <a:pt x="169" y="118"/>
                </a:lnTo>
                <a:lnTo>
                  <a:pt x="186" y="152"/>
                </a:lnTo>
                <a:lnTo>
                  <a:pt x="186" y="169"/>
                </a:lnTo>
                <a:lnTo>
                  <a:pt x="186" y="186"/>
                </a:lnTo>
                <a:lnTo>
                  <a:pt x="186" y="219"/>
                </a:lnTo>
                <a:lnTo>
                  <a:pt x="186" y="270"/>
                </a:lnTo>
                <a:lnTo>
                  <a:pt x="186" y="321"/>
                </a:lnTo>
                <a:lnTo>
                  <a:pt x="186" y="371"/>
                </a:lnTo>
                <a:lnTo>
                  <a:pt x="186" y="439"/>
                </a:lnTo>
                <a:lnTo>
                  <a:pt x="186" y="507"/>
                </a:lnTo>
                <a:lnTo>
                  <a:pt x="186" y="591"/>
                </a:lnTo>
                <a:lnTo>
                  <a:pt x="186" y="659"/>
                </a:lnTo>
                <a:lnTo>
                  <a:pt x="186" y="726"/>
                </a:lnTo>
                <a:lnTo>
                  <a:pt x="169" y="777"/>
                </a:lnTo>
                <a:lnTo>
                  <a:pt x="169" y="828"/>
                </a:lnTo>
                <a:lnTo>
                  <a:pt x="169" y="878"/>
                </a:lnTo>
                <a:lnTo>
                  <a:pt x="152" y="912"/>
                </a:lnTo>
                <a:lnTo>
                  <a:pt x="152" y="929"/>
                </a:lnTo>
                <a:lnTo>
                  <a:pt x="136" y="980"/>
                </a:lnTo>
                <a:lnTo>
                  <a:pt x="119" y="1013"/>
                </a:lnTo>
                <a:lnTo>
                  <a:pt x="102" y="1030"/>
                </a:lnTo>
                <a:lnTo>
                  <a:pt x="85" y="1030"/>
                </a:lnTo>
                <a:lnTo>
                  <a:pt x="68" y="1013"/>
                </a:lnTo>
                <a:lnTo>
                  <a:pt x="51" y="1013"/>
                </a:lnTo>
                <a:lnTo>
                  <a:pt x="34" y="980"/>
                </a:lnTo>
                <a:lnTo>
                  <a:pt x="34" y="929"/>
                </a:lnTo>
                <a:lnTo>
                  <a:pt x="17" y="861"/>
                </a:lnTo>
                <a:lnTo>
                  <a:pt x="0" y="8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429240" y="2541600"/>
            <a:ext cx="150840" cy="719280"/>
          </a:xfrm>
          <a:custGeom>
            <a:avLst/>
            <a:gdLst>
              <a:gd name="textAreaLeft" fmla="*/ 0 w 150840"/>
              <a:gd name="textAreaRight" fmla="*/ 151200 w 15084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238" h="1132">
                <a:moveTo>
                  <a:pt x="221" y="101"/>
                </a:moveTo>
                <a:lnTo>
                  <a:pt x="221" y="118"/>
                </a:lnTo>
                <a:lnTo>
                  <a:pt x="221" y="152"/>
                </a:lnTo>
                <a:lnTo>
                  <a:pt x="221" y="186"/>
                </a:lnTo>
                <a:lnTo>
                  <a:pt x="238" y="237"/>
                </a:lnTo>
                <a:lnTo>
                  <a:pt x="238" y="287"/>
                </a:lnTo>
                <a:lnTo>
                  <a:pt x="238" y="355"/>
                </a:lnTo>
                <a:lnTo>
                  <a:pt x="238" y="439"/>
                </a:lnTo>
                <a:lnTo>
                  <a:pt x="238" y="541"/>
                </a:lnTo>
                <a:lnTo>
                  <a:pt x="238" y="625"/>
                </a:lnTo>
                <a:lnTo>
                  <a:pt x="238" y="710"/>
                </a:lnTo>
                <a:lnTo>
                  <a:pt x="238" y="794"/>
                </a:lnTo>
                <a:lnTo>
                  <a:pt x="221" y="845"/>
                </a:lnTo>
                <a:lnTo>
                  <a:pt x="221" y="912"/>
                </a:lnTo>
                <a:lnTo>
                  <a:pt x="221" y="963"/>
                </a:lnTo>
                <a:lnTo>
                  <a:pt x="204" y="997"/>
                </a:lnTo>
                <a:lnTo>
                  <a:pt x="204" y="1031"/>
                </a:lnTo>
                <a:lnTo>
                  <a:pt x="187" y="1064"/>
                </a:lnTo>
                <a:lnTo>
                  <a:pt x="170" y="1098"/>
                </a:lnTo>
                <a:lnTo>
                  <a:pt x="153" y="1115"/>
                </a:lnTo>
                <a:lnTo>
                  <a:pt x="153" y="1132"/>
                </a:lnTo>
                <a:lnTo>
                  <a:pt x="136" y="1132"/>
                </a:lnTo>
                <a:lnTo>
                  <a:pt x="136" y="1115"/>
                </a:lnTo>
                <a:lnTo>
                  <a:pt x="119" y="1081"/>
                </a:lnTo>
                <a:lnTo>
                  <a:pt x="102" y="1031"/>
                </a:lnTo>
                <a:lnTo>
                  <a:pt x="85" y="997"/>
                </a:lnTo>
                <a:lnTo>
                  <a:pt x="85" y="946"/>
                </a:lnTo>
                <a:lnTo>
                  <a:pt x="85" y="879"/>
                </a:lnTo>
                <a:lnTo>
                  <a:pt x="85" y="811"/>
                </a:lnTo>
                <a:lnTo>
                  <a:pt x="85" y="743"/>
                </a:lnTo>
                <a:lnTo>
                  <a:pt x="102" y="659"/>
                </a:lnTo>
                <a:lnTo>
                  <a:pt x="102" y="558"/>
                </a:lnTo>
                <a:lnTo>
                  <a:pt x="102" y="456"/>
                </a:lnTo>
                <a:lnTo>
                  <a:pt x="85" y="355"/>
                </a:lnTo>
                <a:lnTo>
                  <a:pt x="68" y="237"/>
                </a:lnTo>
                <a:lnTo>
                  <a:pt x="34" y="118"/>
                </a:lnTo>
                <a:lnTo>
                  <a:pt x="0" y="0"/>
                </a:lnTo>
                <a:lnTo>
                  <a:pt x="85" y="17"/>
                </a:lnTo>
                <a:lnTo>
                  <a:pt x="153" y="51"/>
                </a:lnTo>
                <a:lnTo>
                  <a:pt x="187" y="85"/>
                </a:lnTo>
                <a:lnTo>
                  <a:pt x="221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5686560" y="2798640"/>
            <a:ext cx="204480" cy="417600"/>
          </a:xfrm>
          <a:custGeom>
            <a:avLst/>
            <a:gdLst>
              <a:gd name="textAreaLeft" fmla="*/ 0 w 204480"/>
              <a:gd name="textAreaRight" fmla="*/ 204840 w 20448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322" h="658">
                <a:moveTo>
                  <a:pt x="238" y="523"/>
                </a:moveTo>
                <a:lnTo>
                  <a:pt x="187" y="574"/>
                </a:lnTo>
                <a:lnTo>
                  <a:pt x="153" y="625"/>
                </a:lnTo>
                <a:lnTo>
                  <a:pt x="119" y="642"/>
                </a:lnTo>
                <a:lnTo>
                  <a:pt x="85" y="658"/>
                </a:lnTo>
                <a:lnTo>
                  <a:pt x="68" y="658"/>
                </a:lnTo>
                <a:lnTo>
                  <a:pt x="51" y="642"/>
                </a:lnTo>
                <a:lnTo>
                  <a:pt x="34" y="608"/>
                </a:lnTo>
                <a:lnTo>
                  <a:pt x="34" y="574"/>
                </a:lnTo>
                <a:lnTo>
                  <a:pt x="17" y="523"/>
                </a:lnTo>
                <a:lnTo>
                  <a:pt x="0" y="490"/>
                </a:lnTo>
                <a:lnTo>
                  <a:pt x="0" y="473"/>
                </a:lnTo>
                <a:lnTo>
                  <a:pt x="0" y="456"/>
                </a:lnTo>
                <a:lnTo>
                  <a:pt x="0" y="439"/>
                </a:lnTo>
                <a:lnTo>
                  <a:pt x="17" y="422"/>
                </a:lnTo>
                <a:lnTo>
                  <a:pt x="51" y="388"/>
                </a:lnTo>
                <a:lnTo>
                  <a:pt x="85" y="354"/>
                </a:lnTo>
                <a:lnTo>
                  <a:pt x="119" y="304"/>
                </a:lnTo>
                <a:lnTo>
                  <a:pt x="153" y="219"/>
                </a:lnTo>
                <a:lnTo>
                  <a:pt x="204" y="118"/>
                </a:lnTo>
                <a:lnTo>
                  <a:pt x="238" y="0"/>
                </a:lnTo>
                <a:lnTo>
                  <a:pt x="271" y="50"/>
                </a:lnTo>
                <a:lnTo>
                  <a:pt x="305" y="101"/>
                </a:lnTo>
                <a:lnTo>
                  <a:pt x="322" y="168"/>
                </a:lnTo>
                <a:lnTo>
                  <a:pt x="322" y="236"/>
                </a:lnTo>
                <a:lnTo>
                  <a:pt x="322" y="304"/>
                </a:lnTo>
                <a:lnTo>
                  <a:pt x="305" y="371"/>
                </a:lnTo>
                <a:lnTo>
                  <a:pt x="271" y="439"/>
                </a:lnTo>
                <a:lnTo>
                  <a:pt x="238" y="5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46"/>
          <p:cNvSpPr/>
          <p:nvPr/>
        </p:nvSpPr>
        <p:spPr>
          <a:xfrm>
            <a:off x="6686640" y="2798640"/>
            <a:ext cx="387360" cy="257400"/>
          </a:xfrm>
          <a:custGeom>
            <a:avLst/>
            <a:gdLst>
              <a:gd name="textAreaLeft" fmla="*/ 0 w 387360"/>
              <a:gd name="textAreaRight" fmla="*/ 387720 w 387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10" h="405">
                <a:moveTo>
                  <a:pt x="271" y="33"/>
                </a:moveTo>
                <a:lnTo>
                  <a:pt x="339" y="50"/>
                </a:lnTo>
                <a:lnTo>
                  <a:pt x="390" y="67"/>
                </a:lnTo>
                <a:lnTo>
                  <a:pt x="491" y="118"/>
                </a:lnTo>
                <a:lnTo>
                  <a:pt x="559" y="185"/>
                </a:lnTo>
                <a:lnTo>
                  <a:pt x="593" y="219"/>
                </a:lnTo>
                <a:lnTo>
                  <a:pt x="593" y="270"/>
                </a:lnTo>
                <a:lnTo>
                  <a:pt x="610" y="321"/>
                </a:lnTo>
                <a:lnTo>
                  <a:pt x="610" y="354"/>
                </a:lnTo>
                <a:lnTo>
                  <a:pt x="610" y="371"/>
                </a:lnTo>
                <a:lnTo>
                  <a:pt x="593" y="388"/>
                </a:lnTo>
                <a:lnTo>
                  <a:pt x="576" y="405"/>
                </a:lnTo>
                <a:lnTo>
                  <a:pt x="525" y="405"/>
                </a:lnTo>
                <a:lnTo>
                  <a:pt x="491" y="405"/>
                </a:lnTo>
                <a:lnTo>
                  <a:pt x="424" y="371"/>
                </a:lnTo>
                <a:lnTo>
                  <a:pt x="339" y="304"/>
                </a:lnTo>
                <a:lnTo>
                  <a:pt x="237" y="219"/>
                </a:lnTo>
                <a:lnTo>
                  <a:pt x="186" y="185"/>
                </a:lnTo>
                <a:lnTo>
                  <a:pt x="135" y="135"/>
                </a:lnTo>
                <a:lnTo>
                  <a:pt x="85" y="101"/>
                </a:lnTo>
                <a:lnTo>
                  <a:pt x="51" y="67"/>
                </a:lnTo>
                <a:lnTo>
                  <a:pt x="34" y="50"/>
                </a:lnTo>
                <a:lnTo>
                  <a:pt x="17" y="33"/>
                </a:lnTo>
                <a:lnTo>
                  <a:pt x="0" y="16"/>
                </a:lnTo>
                <a:lnTo>
                  <a:pt x="0" y="0"/>
                </a:lnTo>
                <a:lnTo>
                  <a:pt x="85" y="0"/>
                </a:lnTo>
                <a:lnTo>
                  <a:pt x="152" y="16"/>
                </a:lnTo>
                <a:lnTo>
                  <a:pt x="220" y="16"/>
                </a:lnTo>
                <a:lnTo>
                  <a:pt x="271" y="3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7"/>
          <p:cNvSpPr/>
          <p:nvPr/>
        </p:nvSpPr>
        <p:spPr>
          <a:xfrm>
            <a:off x="6170760" y="2165400"/>
            <a:ext cx="290520" cy="225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457" h="354">
                <a:moveTo>
                  <a:pt x="101" y="202"/>
                </a:moveTo>
                <a:lnTo>
                  <a:pt x="34" y="101"/>
                </a:lnTo>
                <a:lnTo>
                  <a:pt x="0" y="0"/>
                </a:lnTo>
                <a:lnTo>
                  <a:pt x="51" y="0"/>
                </a:lnTo>
                <a:lnTo>
                  <a:pt x="118" y="17"/>
                </a:lnTo>
                <a:lnTo>
                  <a:pt x="186" y="33"/>
                </a:lnTo>
                <a:lnTo>
                  <a:pt x="254" y="50"/>
                </a:lnTo>
                <a:lnTo>
                  <a:pt x="322" y="84"/>
                </a:lnTo>
                <a:lnTo>
                  <a:pt x="372" y="118"/>
                </a:lnTo>
                <a:lnTo>
                  <a:pt x="406" y="135"/>
                </a:lnTo>
                <a:lnTo>
                  <a:pt x="440" y="169"/>
                </a:lnTo>
                <a:lnTo>
                  <a:pt x="457" y="253"/>
                </a:lnTo>
                <a:lnTo>
                  <a:pt x="440" y="321"/>
                </a:lnTo>
                <a:lnTo>
                  <a:pt x="423" y="338"/>
                </a:lnTo>
                <a:lnTo>
                  <a:pt x="389" y="354"/>
                </a:lnTo>
                <a:lnTo>
                  <a:pt x="339" y="338"/>
                </a:lnTo>
                <a:lnTo>
                  <a:pt x="305" y="321"/>
                </a:lnTo>
                <a:lnTo>
                  <a:pt x="186" y="270"/>
                </a:lnTo>
                <a:lnTo>
                  <a:pt x="101" y="2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49"/>
          <p:cNvSpPr/>
          <p:nvPr/>
        </p:nvSpPr>
        <p:spPr>
          <a:xfrm>
            <a:off x="6235560" y="3367080"/>
            <a:ext cx="279720" cy="204840"/>
          </a:xfrm>
          <a:custGeom>
            <a:avLst/>
            <a:gdLst>
              <a:gd name="textAreaLeft" fmla="*/ 0 w 279720"/>
              <a:gd name="textAreaRight" fmla="*/ 280080 w 279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41" h="321">
                <a:moveTo>
                  <a:pt x="102" y="169"/>
                </a:moveTo>
                <a:lnTo>
                  <a:pt x="51" y="118"/>
                </a:lnTo>
                <a:lnTo>
                  <a:pt x="17" y="68"/>
                </a:lnTo>
                <a:lnTo>
                  <a:pt x="0" y="34"/>
                </a:lnTo>
                <a:lnTo>
                  <a:pt x="0" y="0"/>
                </a:lnTo>
                <a:lnTo>
                  <a:pt x="102" y="17"/>
                </a:lnTo>
                <a:lnTo>
                  <a:pt x="204" y="34"/>
                </a:lnTo>
                <a:lnTo>
                  <a:pt x="271" y="68"/>
                </a:lnTo>
                <a:lnTo>
                  <a:pt x="322" y="84"/>
                </a:lnTo>
                <a:lnTo>
                  <a:pt x="390" y="152"/>
                </a:lnTo>
                <a:lnTo>
                  <a:pt x="407" y="186"/>
                </a:lnTo>
                <a:lnTo>
                  <a:pt x="424" y="220"/>
                </a:lnTo>
                <a:lnTo>
                  <a:pt x="441" y="253"/>
                </a:lnTo>
                <a:lnTo>
                  <a:pt x="441" y="287"/>
                </a:lnTo>
                <a:lnTo>
                  <a:pt x="441" y="304"/>
                </a:lnTo>
                <a:lnTo>
                  <a:pt x="424" y="321"/>
                </a:lnTo>
                <a:lnTo>
                  <a:pt x="407" y="321"/>
                </a:lnTo>
                <a:lnTo>
                  <a:pt x="390" y="321"/>
                </a:lnTo>
                <a:lnTo>
                  <a:pt x="339" y="321"/>
                </a:lnTo>
                <a:lnTo>
                  <a:pt x="305" y="304"/>
                </a:lnTo>
                <a:lnTo>
                  <a:pt x="255" y="287"/>
                </a:lnTo>
                <a:lnTo>
                  <a:pt x="204" y="253"/>
                </a:lnTo>
                <a:lnTo>
                  <a:pt x="153" y="203"/>
                </a:lnTo>
                <a:lnTo>
                  <a:pt x="102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50"/>
          <p:cNvSpPr/>
          <p:nvPr/>
        </p:nvSpPr>
        <p:spPr>
          <a:xfrm>
            <a:off x="6794640" y="3367080"/>
            <a:ext cx="430200" cy="299880"/>
          </a:xfrm>
          <a:custGeom>
            <a:avLst/>
            <a:gdLst>
              <a:gd name="textAreaLeft" fmla="*/ 0 w 430200"/>
              <a:gd name="textAreaRight" fmla="*/ 430560 w 430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678" h="473">
                <a:moveTo>
                  <a:pt x="627" y="220"/>
                </a:moveTo>
                <a:lnTo>
                  <a:pt x="644" y="270"/>
                </a:lnTo>
                <a:lnTo>
                  <a:pt x="661" y="304"/>
                </a:lnTo>
                <a:lnTo>
                  <a:pt x="678" y="372"/>
                </a:lnTo>
                <a:lnTo>
                  <a:pt x="678" y="405"/>
                </a:lnTo>
                <a:lnTo>
                  <a:pt x="678" y="422"/>
                </a:lnTo>
                <a:lnTo>
                  <a:pt x="661" y="456"/>
                </a:lnTo>
                <a:lnTo>
                  <a:pt x="644" y="473"/>
                </a:lnTo>
                <a:lnTo>
                  <a:pt x="610" y="473"/>
                </a:lnTo>
                <a:lnTo>
                  <a:pt x="593" y="473"/>
                </a:lnTo>
                <a:lnTo>
                  <a:pt x="559" y="439"/>
                </a:lnTo>
                <a:lnTo>
                  <a:pt x="509" y="405"/>
                </a:lnTo>
                <a:lnTo>
                  <a:pt x="441" y="372"/>
                </a:lnTo>
                <a:lnTo>
                  <a:pt x="356" y="304"/>
                </a:lnTo>
                <a:lnTo>
                  <a:pt x="255" y="237"/>
                </a:lnTo>
                <a:lnTo>
                  <a:pt x="136" y="135"/>
                </a:lnTo>
                <a:lnTo>
                  <a:pt x="0" y="34"/>
                </a:lnTo>
                <a:lnTo>
                  <a:pt x="17" y="17"/>
                </a:lnTo>
                <a:lnTo>
                  <a:pt x="51" y="0"/>
                </a:lnTo>
                <a:lnTo>
                  <a:pt x="102" y="0"/>
                </a:lnTo>
                <a:lnTo>
                  <a:pt x="153" y="17"/>
                </a:lnTo>
                <a:lnTo>
                  <a:pt x="271" y="34"/>
                </a:lnTo>
                <a:lnTo>
                  <a:pt x="356" y="68"/>
                </a:lnTo>
                <a:lnTo>
                  <a:pt x="424" y="84"/>
                </a:lnTo>
                <a:lnTo>
                  <a:pt x="492" y="118"/>
                </a:lnTo>
                <a:lnTo>
                  <a:pt x="559" y="152"/>
                </a:lnTo>
                <a:lnTo>
                  <a:pt x="593" y="186"/>
                </a:lnTo>
                <a:lnTo>
                  <a:pt x="627" y="2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51"/>
          <p:cNvSpPr/>
          <p:nvPr/>
        </p:nvSpPr>
        <p:spPr>
          <a:xfrm>
            <a:off x="5945040" y="3421080"/>
            <a:ext cx="1065240" cy="56844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1677" h="896">
                <a:moveTo>
                  <a:pt x="1609" y="643"/>
                </a:moveTo>
                <a:lnTo>
                  <a:pt x="1643" y="643"/>
                </a:lnTo>
                <a:lnTo>
                  <a:pt x="1660" y="659"/>
                </a:lnTo>
                <a:lnTo>
                  <a:pt x="1677" y="676"/>
                </a:lnTo>
                <a:lnTo>
                  <a:pt x="1677" y="693"/>
                </a:lnTo>
                <a:lnTo>
                  <a:pt x="1677" y="727"/>
                </a:lnTo>
                <a:lnTo>
                  <a:pt x="1643" y="744"/>
                </a:lnTo>
                <a:lnTo>
                  <a:pt x="1626" y="761"/>
                </a:lnTo>
                <a:lnTo>
                  <a:pt x="1576" y="795"/>
                </a:lnTo>
                <a:lnTo>
                  <a:pt x="1525" y="811"/>
                </a:lnTo>
                <a:lnTo>
                  <a:pt x="1457" y="845"/>
                </a:lnTo>
                <a:lnTo>
                  <a:pt x="1338" y="879"/>
                </a:lnTo>
                <a:lnTo>
                  <a:pt x="1254" y="896"/>
                </a:lnTo>
                <a:lnTo>
                  <a:pt x="1169" y="896"/>
                </a:lnTo>
                <a:lnTo>
                  <a:pt x="1084" y="896"/>
                </a:lnTo>
                <a:lnTo>
                  <a:pt x="983" y="896"/>
                </a:lnTo>
                <a:lnTo>
                  <a:pt x="881" y="879"/>
                </a:lnTo>
                <a:lnTo>
                  <a:pt x="779" y="862"/>
                </a:lnTo>
                <a:lnTo>
                  <a:pt x="695" y="845"/>
                </a:lnTo>
                <a:lnTo>
                  <a:pt x="627" y="828"/>
                </a:lnTo>
                <a:lnTo>
                  <a:pt x="491" y="761"/>
                </a:lnTo>
                <a:lnTo>
                  <a:pt x="440" y="727"/>
                </a:lnTo>
                <a:lnTo>
                  <a:pt x="373" y="693"/>
                </a:lnTo>
                <a:lnTo>
                  <a:pt x="305" y="643"/>
                </a:lnTo>
                <a:lnTo>
                  <a:pt x="254" y="592"/>
                </a:lnTo>
                <a:lnTo>
                  <a:pt x="203" y="524"/>
                </a:lnTo>
                <a:lnTo>
                  <a:pt x="152" y="474"/>
                </a:lnTo>
                <a:lnTo>
                  <a:pt x="119" y="406"/>
                </a:lnTo>
                <a:lnTo>
                  <a:pt x="85" y="321"/>
                </a:lnTo>
                <a:lnTo>
                  <a:pt x="51" y="254"/>
                </a:lnTo>
                <a:lnTo>
                  <a:pt x="34" y="169"/>
                </a:lnTo>
                <a:lnTo>
                  <a:pt x="0" y="102"/>
                </a:lnTo>
                <a:lnTo>
                  <a:pt x="0" y="51"/>
                </a:lnTo>
                <a:lnTo>
                  <a:pt x="0" y="17"/>
                </a:lnTo>
                <a:lnTo>
                  <a:pt x="17" y="0"/>
                </a:lnTo>
                <a:lnTo>
                  <a:pt x="34" y="17"/>
                </a:lnTo>
                <a:lnTo>
                  <a:pt x="51" y="34"/>
                </a:lnTo>
                <a:lnTo>
                  <a:pt x="85" y="68"/>
                </a:lnTo>
                <a:lnTo>
                  <a:pt x="102" y="136"/>
                </a:lnTo>
                <a:lnTo>
                  <a:pt x="169" y="254"/>
                </a:lnTo>
                <a:lnTo>
                  <a:pt x="220" y="321"/>
                </a:lnTo>
                <a:lnTo>
                  <a:pt x="271" y="372"/>
                </a:lnTo>
                <a:lnTo>
                  <a:pt x="322" y="440"/>
                </a:lnTo>
                <a:lnTo>
                  <a:pt x="390" y="490"/>
                </a:lnTo>
                <a:lnTo>
                  <a:pt x="474" y="541"/>
                </a:lnTo>
                <a:lnTo>
                  <a:pt x="559" y="592"/>
                </a:lnTo>
                <a:lnTo>
                  <a:pt x="644" y="643"/>
                </a:lnTo>
                <a:lnTo>
                  <a:pt x="745" y="659"/>
                </a:lnTo>
                <a:lnTo>
                  <a:pt x="847" y="676"/>
                </a:lnTo>
                <a:lnTo>
                  <a:pt x="949" y="693"/>
                </a:lnTo>
                <a:lnTo>
                  <a:pt x="1050" y="693"/>
                </a:lnTo>
                <a:lnTo>
                  <a:pt x="1135" y="693"/>
                </a:lnTo>
                <a:lnTo>
                  <a:pt x="1203" y="676"/>
                </a:lnTo>
                <a:lnTo>
                  <a:pt x="1237" y="659"/>
                </a:lnTo>
                <a:lnTo>
                  <a:pt x="1271" y="643"/>
                </a:lnTo>
                <a:lnTo>
                  <a:pt x="1288" y="592"/>
                </a:lnTo>
                <a:lnTo>
                  <a:pt x="1288" y="524"/>
                </a:lnTo>
                <a:lnTo>
                  <a:pt x="1288" y="440"/>
                </a:lnTo>
                <a:lnTo>
                  <a:pt x="1271" y="372"/>
                </a:lnTo>
                <a:lnTo>
                  <a:pt x="1254" y="305"/>
                </a:lnTo>
                <a:lnTo>
                  <a:pt x="1271" y="271"/>
                </a:lnTo>
                <a:lnTo>
                  <a:pt x="1271" y="254"/>
                </a:lnTo>
                <a:lnTo>
                  <a:pt x="1288" y="271"/>
                </a:lnTo>
                <a:lnTo>
                  <a:pt x="1321" y="305"/>
                </a:lnTo>
                <a:lnTo>
                  <a:pt x="1355" y="355"/>
                </a:lnTo>
                <a:lnTo>
                  <a:pt x="1423" y="423"/>
                </a:lnTo>
                <a:lnTo>
                  <a:pt x="1474" y="507"/>
                </a:lnTo>
                <a:lnTo>
                  <a:pt x="1525" y="558"/>
                </a:lnTo>
                <a:lnTo>
                  <a:pt x="1576" y="609"/>
                </a:lnTo>
                <a:lnTo>
                  <a:pt x="1609" y="64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1357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6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TextBox 57"/>
          <p:cNvSpPr/>
          <p:nvPr/>
        </p:nvSpPr>
        <p:spPr>
          <a:xfrm>
            <a:off x="4619520" y="4857840"/>
            <a:ext cx="421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人”的撇捺舒展，下半部分要被包含在人下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3"/>
          <p:cNvSpPr/>
          <p:nvPr/>
        </p:nvSpPr>
        <p:spPr>
          <a:xfrm>
            <a:off x="792000" y="453852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恋恋不舍　舍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34"/>
          <p:cNvSpPr/>
          <p:nvPr/>
        </p:nvSpPr>
        <p:spPr>
          <a:xfrm>
            <a:off x="792000" y="504828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明恋恋不舍地离开了公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5435280" y="2136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30"/>
          <p:cNvSpPr/>
          <p:nvPr/>
        </p:nvSpPr>
        <p:spPr>
          <a:xfrm>
            <a:off x="5446800" y="2157480"/>
            <a:ext cx="1000080" cy="1068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576" h="1681">
                <a:moveTo>
                  <a:pt x="1288" y="255"/>
                </a:moveTo>
                <a:lnTo>
                  <a:pt x="1304" y="187"/>
                </a:lnTo>
                <a:lnTo>
                  <a:pt x="1321" y="153"/>
                </a:lnTo>
                <a:lnTo>
                  <a:pt x="1321" y="119"/>
                </a:lnTo>
                <a:lnTo>
                  <a:pt x="1321" y="85"/>
                </a:lnTo>
                <a:lnTo>
                  <a:pt x="1321" y="34"/>
                </a:lnTo>
                <a:lnTo>
                  <a:pt x="1321" y="0"/>
                </a:lnTo>
                <a:lnTo>
                  <a:pt x="1355" y="0"/>
                </a:lnTo>
                <a:lnTo>
                  <a:pt x="1406" y="0"/>
                </a:lnTo>
                <a:lnTo>
                  <a:pt x="1457" y="34"/>
                </a:lnTo>
                <a:lnTo>
                  <a:pt x="1525" y="85"/>
                </a:lnTo>
                <a:lnTo>
                  <a:pt x="1542" y="102"/>
                </a:lnTo>
                <a:lnTo>
                  <a:pt x="1559" y="136"/>
                </a:lnTo>
                <a:lnTo>
                  <a:pt x="1576" y="170"/>
                </a:lnTo>
                <a:lnTo>
                  <a:pt x="1559" y="187"/>
                </a:lnTo>
                <a:lnTo>
                  <a:pt x="1559" y="221"/>
                </a:lnTo>
                <a:lnTo>
                  <a:pt x="1525" y="255"/>
                </a:lnTo>
                <a:lnTo>
                  <a:pt x="1491" y="306"/>
                </a:lnTo>
                <a:lnTo>
                  <a:pt x="1457" y="373"/>
                </a:lnTo>
                <a:lnTo>
                  <a:pt x="1406" y="441"/>
                </a:lnTo>
                <a:lnTo>
                  <a:pt x="1338" y="526"/>
                </a:lnTo>
                <a:lnTo>
                  <a:pt x="1271" y="611"/>
                </a:lnTo>
                <a:lnTo>
                  <a:pt x="1203" y="713"/>
                </a:lnTo>
                <a:lnTo>
                  <a:pt x="1135" y="798"/>
                </a:lnTo>
                <a:lnTo>
                  <a:pt x="1000" y="968"/>
                </a:lnTo>
                <a:lnTo>
                  <a:pt x="864" y="1103"/>
                </a:lnTo>
                <a:lnTo>
                  <a:pt x="728" y="1205"/>
                </a:lnTo>
                <a:lnTo>
                  <a:pt x="610" y="1307"/>
                </a:lnTo>
                <a:lnTo>
                  <a:pt x="491" y="1409"/>
                </a:lnTo>
                <a:lnTo>
                  <a:pt x="373" y="1494"/>
                </a:lnTo>
                <a:lnTo>
                  <a:pt x="254" y="1562"/>
                </a:lnTo>
                <a:lnTo>
                  <a:pt x="152" y="1630"/>
                </a:lnTo>
                <a:lnTo>
                  <a:pt x="68" y="1664"/>
                </a:lnTo>
                <a:lnTo>
                  <a:pt x="17" y="1681"/>
                </a:lnTo>
                <a:lnTo>
                  <a:pt x="0" y="1681"/>
                </a:lnTo>
                <a:lnTo>
                  <a:pt x="0" y="1664"/>
                </a:lnTo>
                <a:lnTo>
                  <a:pt x="17" y="1647"/>
                </a:lnTo>
                <a:lnTo>
                  <a:pt x="51" y="1613"/>
                </a:lnTo>
                <a:lnTo>
                  <a:pt x="68" y="1596"/>
                </a:lnTo>
                <a:lnTo>
                  <a:pt x="119" y="1562"/>
                </a:lnTo>
                <a:lnTo>
                  <a:pt x="169" y="1528"/>
                </a:lnTo>
                <a:lnTo>
                  <a:pt x="220" y="1477"/>
                </a:lnTo>
                <a:lnTo>
                  <a:pt x="322" y="1392"/>
                </a:lnTo>
                <a:lnTo>
                  <a:pt x="440" y="1290"/>
                </a:lnTo>
                <a:lnTo>
                  <a:pt x="559" y="1171"/>
                </a:lnTo>
                <a:lnTo>
                  <a:pt x="678" y="1053"/>
                </a:lnTo>
                <a:lnTo>
                  <a:pt x="779" y="934"/>
                </a:lnTo>
                <a:lnTo>
                  <a:pt x="881" y="815"/>
                </a:lnTo>
                <a:lnTo>
                  <a:pt x="983" y="696"/>
                </a:lnTo>
                <a:lnTo>
                  <a:pt x="1067" y="594"/>
                </a:lnTo>
                <a:lnTo>
                  <a:pt x="1135" y="475"/>
                </a:lnTo>
                <a:lnTo>
                  <a:pt x="1203" y="390"/>
                </a:lnTo>
                <a:lnTo>
                  <a:pt x="1254" y="306"/>
                </a:lnTo>
                <a:lnTo>
                  <a:pt x="1288" y="25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1"/>
          <p:cNvSpPr/>
          <p:nvPr/>
        </p:nvSpPr>
        <p:spPr>
          <a:xfrm>
            <a:off x="6296040" y="2319480"/>
            <a:ext cx="1108080" cy="76500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745" h="1205">
                <a:moveTo>
                  <a:pt x="1593" y="1171"/>
                </a:moveTo>
                <a:lnTo>
                  <a:pt x="1508" y="1188"/>
                </a:lnTo>
                <a:lnTo>
                  <a:pt x="1440" y="1188"/>
                </a:lnTo>
                <a:lnTo>
                  <a:pt x="1305" y="1205"/>
                </a:lnTo>
                <a:lnTo>
                  <a:pt x="1254" y="1205"/>
                </a:lnTo>
                <a:lnTo>
                  <a:pt x="1203" y="1205"/>
                </a:lnTo>
                <a:lnTo>
                  <a:pt x="1169" y="1205"/>
                </a:lnTo>
                <a:lnTo>
                  <a:pt x="1152" y="1205"/>
                </a:lnTo>
                <a:lnTo>
                  <a:pt x="1119" y="1188"/>
                </a:lnTo>
                <a:lnTo>
                  <a:pt x="1085" y="1188"/>
                </a:lnTo>
                <a:lnTo>
                  <a:pt x="1051" y="1154"/>
                </a:lnTo>
                <a:lnTo>
                  <a:pt x="1017" y="1120"/>
                </a:lnTo>
                <a:lnTo>
                  <a:pt x="966" y="1086"/>
                </a:lnTo>
                <a:lnTo>
                  <a:pt x="915" y="1035"/>
                </a:lnTo>
                <a:lnTo>
                  <a:pt x="831" y="933"/>
                </a:lnTo>
                <a:lnTo>
                  <a:pt x="763" y="882"/>
                </a:lnTo>
                <a:lnTo>
                  <a:pt x="712" y="815"/>
                </a:lnTo>
                <a:lnTo>
                  <a:pt x="644" y="747"/>
                </a:lnTo>
                <a:lnTo>
                  <a:pt x="576" y="679"/>
                </a:lnTo>
                <a:lnTo>
                  <a:pt x="492" y="594"/>
                </a:lnTo>
                <a:lnTo>
                  <a:pt x="407" y="492"/>
                </a:lnTo>
                <a:lnTo>
                  <a:pt x="305" y="390"/>
                </a:lnTo>
                <a:lnTo>
                  <a:pt x="221" y="288"/>
                </a:lnTo>
                <a:lnTo>
                  <a:pt x="119" y="169"/>
                </a:lnTo>
                <a:lnTo>
                  <a:pt x="0" y="51"/>
                </a:lnTo>
                <a:lnTo>
                  <a:pt x="68" y="0"/>
                </a:lnTo>
                <a:lnTo>
                  <a:pt x="221" y="152"/>
                </a:lnTo>
                <a:lnTo>
                  <a:pt x="390" y="288"/>
                </a:lnTo>
                <a:lnTo>
                  <a:pt x="543" y="441"/>
                </a:lnTo>
                <a:lnTo>
                  <a:pt x="712" y="560"/>
                </a:lnTo>
                <a:lnTo>
                  <a:pt x="864" y="679"/>
                </a:lnTo>
                <a:lnTo>
                  <a:pt x="1000" y="781"/>
                </a:lnTo>
                <a:lnTo>
                  <a:pt x="1119" y="848"/>
                </a:lnTo>
                <a:lnTo>
                  <a:pt x="1220" y="899"/>
                </a:lnTo>
                <a:lnTo>
                  <a:pt x="1390" y="967"/>
                </a:lnTo>
                <a:lnTo>
                  <a:pt x="1559" y="1018"/>
                </a:lnTo>
                <a:lnTo>
                  <a:pt x="1644" y="1052"/>
                </a:lnTo>
                <a:lnTo>
                  <a:pt x="1695" y="1069"/>
                </a:lnTo>
                <a:lnTo>
                  <a:pt x="1728" y="1086"/>
                </a:lnTo>
                <a:lnTo>
                  <a:pt x="1745" y="1103"/>
                </a:lnTo>
                <a:lnTo>
                  <a:pt x="1745" y="1120"/>
                </a:lnTo>
                <a:lnTo>
                  <a:pt x="1712" y="1137"/>
                </a:lnTo>
                <a:lnTo>
                  <a:pt x="1661" y="1154"/>
                </a:lnTo>
                <a:lnTo>
                  <a:pt x="1593" y="11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32"/>
          <p:cNvSpPr/>
          <p:nvPr/>
        </p:nvSpPr>
        <p:spPr>
          <a:xfrm>
            <a:off x="6048360" y="2793960"/>
            <a:ext cx="560520" cy="150840"/>
          </a:xfrm>
          <a:custGeom>
            <a:avLst/>
            <a:gdLst>
              <a:gd name="textAreaLeft" fmla="*/ 0 w 560520"/>
              <a:gd name="textAreaRight" fmla="*/ 560880 w 5605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81" h="237">
                <a:moveTo>
                  <a:pt x="355" y="85"/>
                </a:moveTo>
                <a:lnTo>
                  <a:pt x="423" y="68"/>
                </a:lnTo>
                <a:lnTo>
                  <a:pt x="491" y="34"/>
                </a:lnTo>
                <a:lnTo>
                  <a:pt x="542" y="34"/>
                </a:lnTo>
                <a:lnTo>
                  <a:pt x="576" y="17"/>
                </a:lnTo>
                <a:lnTo>
                  <a:pt x="627" y="0"/>
                </a:lnTo>
                <a:lnTo>
                  <a:pt x="644" y="0"/>
                </a:lnTo>
                <a:lnTo>
                  <a:pt x="677" y="0"/>
                </a:lnTo>
                <a:lnTo>
                  <a:pt x="728" y="0"/>
                </a:lnTo>
                <a:lnTo>
                  <a:pt x="762" y="0"/>
                </a:lnTo>
                <a:lnTo>
                  <a:pt x="813" y="0"/>
                </a:lnTo>
                <a:lnTo>
                  <a:pt x="847" y="17"/>
                </a:lnTo>
                <a:lnTo>
                  <a:pt x="864" y="34"/>
                </a:lnTo>
                <a:lnTo>
                  <a:pt x="881" y="51"/>
                </a:lnTo>
                <a:lnTo>
                  <a:pt x="881" y="85"/>
                </a:lnTo>
                <a:lnTo>
                  <a:pt x="847" y="101"/>
                </a:lnTo>
                <a:lnTo>
                  <a:pt x="813" y="118"/>
                </a:lnTo>
                <a:lnTo>
                  <a:pt x="762" y="152"/>
                </a:lnTo>
                <a:lnTo>
                  <a:pt x="694" y="169"/>
                </a:lnTo>
                <a:lnTo>
                  <a:pt x="610" y="186"/>
                </a:lnTo>
                <a:lnTo>
                  <a:pt x="508" y="203"/>
                </a:lnTo>
                <a:lnTo>
                  <a:pt x="406" y="220"/>
                </a:lnTo>
                <a:lnTo>
                  <a:pt x="305" y="237"/>
                </a:lnTo>
                <a:lnTo>
                  <a:pt x="220" y="237"/>
                </a:lnTo>
                <a:lnTo>
                  <a:pt x="152" y="237"/>
                </a:lnTo>
                <a:lnTo>
                  <a:pt x="101" y="220"/>
                </a:lnTo>
                <a:lnTo>
                  <a:pt x="51" y="203"/>
                </a:lnTo>
                <a:lnTo>
                  <a:pt x="17" y="203"/>
                </a:lnTo>
                <a:lnTo>
                  <a:pt x="0" y="186"/>
                </a:lnTo>
                <a:lnTo>
                  <a:pt x="0" y="169"/>
                </a:lnTo>
                <a:lnTo>
                  <a:pt x="34" y="152"/>
                </a:lnTo>
                <a:lnTo>
                  <a:pt x="67" y="152"/>
                </a:lnTo>
                <a:lnTo>
                  <a:pt x="84" y="152"/>
                </a:lnTo>
                <a:lnTo>
                  <a:pt x="118" y="135"/>
                </a:lnTo>
                <a:lnTo>
                  <a:pt x="169" y="135"/>
                </a:lnTo>
                <a:lnTo>
                  <a:pt x="220" y="118"/>
                </a:lnTo>
                <a:lnTo>
                  <a:pt x="288" y="101"/>
                </a:lnTo>
                <a:lnTo>
                  <a:pt x="355" y="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34"/>
          <p:cNvSpPr/>
          <p:nvPr/>
        </p:nvSpPr>
        <p:spPr>
          <a:xfrm>
            <a:off x="5757840" y="3063960"/>
            <a:ext cx="1119240" cy="21564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762" h="340">
                <a:moveTo>
                  <a:pt x="0" y="272"/>
                </a:moveTo>
                <a:lnTo>
                  <a:pt x="0" y="255"/>
                </a:lnTo>
                <a:lnTo>
                  <a:pt x="34" y="238"/>
                </a:lnTo>
                <a:lnTo>
                  <a:pt x="85" y="238"/>
                </a:lnTo>
                <a:lnTo>
                  <a:pt x="153" y="221"/>
                </a:lnTo>
                <a:lnTo>
                  <a:pt x="288" y="204"/>
                </a:lnTo>
                <a:lnTo>
                  <a:pt x="424" y="187"/>
                </a:lnTo>
                <a:lnTo>
                  <a:pt x="458" y="170"/>
                </a:lnTo>
                <a:lnTo>
                  <a:pt x="509" y="170"/>
                </a:lnTo>
                <a:lnTo>
                  <a:pt x="559" y="153"/>
                </a:lnTo>
                <a:lnTo>
                  <a:pt x="627" y="153"/>
                </a:lnTo>
                <a:lnTo>
                  <a:pt x="712" y="136"/>
                </a:lnTo>
                <a:lnTo>
                  <a:pt x="797" y="119"/>
                </a:lnTo>
                <a:lnTo>
                  <a:pt x="881" y="102"/>
                </a:lnTo>
                <a:lnTo>
                  <a:pt x="983" y="85"/>
                </a:lnTo>
                <a:lnTo>
                  <a:pt x="1085" y="68"/>
                </a:lnTo>
                <a:lnTo>
                  <a:pt x="1169" y="51"/>
                </a:lnTo>
                <a:lnTo>
                  <a:pt x="1254" y="34"/>
                </a:lnTo>
                <a:lnTo>
                  <a:pt x="1322" y="17"/>
                </a:lnTo>
                <a:lnTo>
                  <a:pt x="1390" y="17"/>
                </a:lnTo>
                <a:lnTo>
                  <a:pt x="1423" y="0"/>
                </a:lnTo>
                <a:lnTo>
                  <a:pt x="1474" y="0"/>
                </a:lnTo>
                <a:lnTo>
                  <a:pt x="1491" y="0"/>
                </a:lnTo>
                <a:lnTo>
                  <a:pt x="1576" y="17"/>
                </a:lnTo>
                <a:lnTo>
                  <a:pt x="1661" y="34"/>
                </a:lnTo>
                <a:lnTo>
                  <a:pt x="1728" y="68"/>
                </a:lnTo>
                <a:lnTo>
                  <a:pt x="1745" y="85"/>
                </a:lnTo>
                <a:lnTo>
                  <a:pt x="1762" y="102"/>
                </a:lnTo>
                <a:lnTo>
                  <a:pt x="1762" y="119"/>
                </a:lnTo>
                <a:lnTo>
                  <a:pt x="1745" y="119"/>
                </a:lnTo>
                <a:lnTo>
                  <a:pt x="1711" y="136"/>
                </a:lnTo>
                <a:lnTo>
                  <a:pt x="1678" y="136"/>
                </a:lnTo>
                <a:lnTo>
                  <a:pt x="1627" y="153"/>
                </a:lnTo>
                <a:lnTo>
                  <a:pt x="1559" y="153"/>
                </a:lnTo>
                <a:lnTo>
                  <a:pt x="1491" y="170"/>
                </a:lnTo>
                <a:lnTo>
                  <a:pt x="1406" y="170"/>
                </a:lnTo>
                <a:lnTo>
                  <a:pt x="1017" y="221"/>
                </a:lnTo>
                <a:lnTo>
                  <a:pt x="644" y="272"/>
                </a:lnTo>
                <a:lnTo>
                  <a:pt x="542" y="289"/>
                </a:lnTo>
                <a:lnTo>
                  <a:pt x="458" y="306"/>
                </a:lnTo>
                <a:lnTo>
                  <a:pt x="390" y="323"/>
                </a:lnTo>
                <a:lnTo>
                  <a:pt x="339" y="323"/>
                </a:lnTo>
                <a:lnTo>
                  <a:pt x="288" y="340"/>
                </a:lnTo>
                <a:lnTo>
                  <a:pt x="237" y="340"/>
                </a:lnTo>
                <a:lnTo>
                  <a:pt x="221" y="340"/>
                </a:lnTo>
                <a:lnTo>
                  <a:pt x="187" y="340"/>
                </a:lnTo>
                <a:lnTo>
                  <a:pt x="136" y="340"/>
                </a:lnTo>
                <a:lnTo>
                  <a:pt x="68" y="306"/>
                </a:lnTo>
                <a:lnTo>
                  <a:pt x="34" y="289"/>
                </a:lnTo>
                <a:lnTo>
                  <a:pt x="17" y="289"/>
                </a:lnTo>
                <a:lnTo>
                  <a:pt x="0" y="2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35"/>
          <p:cNvSpPr/>
          <p:nvPr/>
        </p:nvSpPr>
        <p:spPr>
          <a:xfrm>
            <a:off x="5908680" y="3451320"/>
            <a:ext cx="193680" cy="560160"/>
          </a:xfrm>
          <a:custGeom>
            <a:avLst/>
            <a:gdLst>
              <a:gd name="textAreaLeft" fmla="*/ 0 w 193680"/>
              <a:gd name="textAreaRight" fmla="*/ 194040 w 1936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05" h="883">
                <a:moveTo>
                  <a:pt x="34" y="136"/>
                </a:moveTo>
                <a:lnTo>
                  <a:pt x="17" y="85"/>
                </a:lnTo>
                <a:lnTo>
                  <a:pt x="0" y="51"/>
                </a:lnTo>
                <a:lnTo>
                  <a:pt x="0" y="34"/>
                </a:lnTo>
                <a:lnTo>
                  <a:pt x="0" y="17"/>
                </a:lnTo>
                <a:lnTo>
                  <a:pt x="34" y="0"/>
                </a:lnTo>
                <a:lnTo>
                  <a:pt x="68" y="0"/>
                </a:lnTo>
                <a:lnTo>
                  <a:pt x="136" y="17"/>
                </a:lnTo>
                <a:lnTo>
                  <a:pt x="221" y="34"/>
                </a:lnTo>
                <a:lnTo>
                  <a:pt x="272" y="323"/>
                </a:lnTo>
                <a:lnTo>
                  <a:pt x="288" y="476"/>
                </a:lnTo>
                <a:lnTo>
                  <a:pt x="305" y="611"/>
                </a:lnTo>
                <a:lnTo>
                  <a:pt x="305" y="679"/>
                </a:lnTo>
                <a:lnTo>
                  <a:pt x="305" y="730"/>
                </a:lnTo>
                <a:lnTo>
                  <a:pt x="305" y="781"/>
                </a:lnTo>
                <a:lnTo>
                  <a:pt x="305" y="815"/>
                </a:lnTo>
                <a:lnTo>
                  <a:pt x="288" y="849"/>
                </a:lnTo>
                <a:lnTo>
                  <a:pt x="288" y="866"/>
                </a:lnTo>
                <a:lnTo>
                  <a:pt x="272" y="883"/>
                </a:lnTo>
                <a:lnTo>
                  <a:pt x="238" y="883"/>
                </a:lnTo>
                <a:lnTo>
                  <a:pt x="221" y="832"/>
                </a:lnTo>
                <a:lnTo>
                  <a:pt x="187" y="764"/>
                </a:lnTo>
                <a:lnTo>
                  <a:pt x="170" y="679"/>
                </a:lnTo>
                <a:lnTo>
                  <a:pt x="136" y="561"/>
                </a:lnTo>
                <a:lnTo>
                  <a:pt x="119" y="476"/>
                </a:lnTo>
                <a:lnTo>
                  <a:pt x="119" y="391"/>
                </a:lnTo>
                <a:lnTo>
                  <a:pt x="102" y="323"/>
                </a:lnTo>
                <a:lnTo>
                  <a:pt x="85" y="221"/>
                </a:lnTo>
                <a:lnTo>
                  <a:pt x="34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33"/>
          <p:cNvSpPr/>
          <p:nvPr/>
        </p:nvSpPr>
        <p:spPr>
          <a:xfrm>
            <a:off x="6178680" y="2922480"/>
            <a:ext cx="225360" cy="582840"/>
          </a:xfrm>
          <a:custGeom>
            <a:avLst/>
            <a:gdLst>
              <a:gd name="textAreaLeft" fmla="*/ 0 w 225360"/>
              <a:gd name="textAreaRight" fmla="*/ 225720 w 2253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356" h="917">
                <a:moveTo>
                  <a:pt x="288" y="408"/>
                </a:moveTo>
                <a:lnTo>
                  <a:pt x="254" y="510"/>
                </a:lnTo>
                <a:lnTo>
                  <a:pt x="220" y="629"/>
                </a:lnTo>
                <a:lnTo>
                  <a:pt x="186" y="764"/>
                </a:lnTo>
                <a:lnTo>
                  <a:pt x="136" y="917"/>
                </a:lnTo>
                <a:lnTo>
                  <a:pt x="0" y="917"/>
                </a:lnTo>
                <a:lnTo>
                  <a:pt x="51" y="713"/>
                </a:lnTo>
                <a:lnTo>
                  <a:pt x="102" y="510"/>
                </a:lnTo>
                <a:lnTo>
                  <a:pt x="102" y="442"/>
                </a:lnTo>
                <a:lnTo>
                  <a:pt x="119" y="357"/>
                </a:lnTo>
                <a:lnTo>
                  <a:pt x="119" y="306"/>
                </a:lnTo>
                <a:lnTo>
                  <a:pt x="119" y="255"/>
                </a:lnTo>
                <a:lnTo>
                  <a:pt x="119" y="204"/>
                </a:lnTo>
                <a:lnTo>
                  <a:pt x="119" y="153"/>
                </a:lnTo>
                <a:lnTo>
                  <a:pt x="119" y="68"/>
                </a:lnTo>
                <a:lnTo>
                  <a:pt x="119" y="0"/>
                </a:lnTo>
                <a:lnTo>
                  <a:pt x="220" y="34"/>
                </a:lnTo>
                <a:lnTo>
                  <a:pt x="288" y="85"/>
                </a:lnTo>
                <a:lnTo>
                  <a:pt x="339" y="102"/>
                </a:lnTo>
                <a:lnTo>
                  <a:pt x="356" y="136"/>
                </a:lnTo>
                <a:lnTo>
                  <a:pt x="356" y="170"/>
                </a:lnTo>
                <a:lnTo>
                  <a:pt x="339" y="221"/>
                </a:lnTo>
                <a:lnTo>
                  <a:pt x="322" y="306"/>
                </a:lnTo>
                <a:lnTo>
                  <a:pt x="288" y="40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Freeform 36"/>
          <p:cNvSpPr/>
          <p:nvPr/>
        </p:nvSpPr>
        <p:spPr>
          <a:xfrm>
            <a:off x="5985000" y="3386160"/>
            <a:ext cx="849240" cy="431640"/>
          </a:xfrm>
          <a:custGeom>
            <a:avLst/>
            <a:gdLst>
              <a:gd name="textAreaLeft" fmla="*/ 0 w 849240"/>
              <a:gd name="textAreaRight" fmla="*/ 849600 w 8492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38" h="680">
                <a:moveTo>
                  <a:pt x="1254" y="306"/>
                </a:moveTo>
                <a:lnTo>
                  <a:pt x="1237" y="323"/>
                </a:lnTo>
                <a:lnTo>
                  <a:pt x="1220" y="340"/>
                </a:lnTo>
                <a:lnTo>
                  <a:pt x="1186" y="357"/>
                </a:lnTo>
                <a:lnTo>
                  <a:pt x="1152" y="408"/>
                </a:lnTo>
                <a:lnTo>
                  <a:pt x="1118" y="459"/>
                </a:lnTo>
                <a:lnTo>
                  <a:pt x="1084" y="510"/>
                </a:lnTo>
                <a:lnTo>
                  <a:pt x="1034" y="595"/>
                </a:lnTo>
                <a:lnTo>
                  <a:pt x="983" y="680"/>
                </a:lnTo>
                <a:lnTo>
                  <a:pt x="847" y="680"/>
                </a:lnTo>
                <a:lnTo>
                  <a:pt x="881" y="595"/>
                </a:lnTo>
                <a:lnTo>
                  <a:pt x="898" y="510"/>
                </a:lnTo>
                <a:lnTo>
                  <a:pt x="932" y="442"/>
                </a:lnTo>
                <a:lnTo>
                  <a:pt x="949" y="374"/>
                </a:lnTo>
                <a:lnTo>
                  <a:pt x="966" y="340"/>
                </a:lnTo>
                <a:lnTo>
                  <a:pt x="966" y="289"/>
                </a:lnTo>
                <a:lnTo>
                  <a:pt x="966" y="255"/>
                </a:lnTo>
                <a:lnTo>
                  <a:pt x="966" y="238"/>
                </a:lnTo>
                <a:lnTo>
                  <a:pt x="966" y="221"/>
                </a:lnTo>
                <a:lnTo>
                  <a:pt x="949" y="204"/>
                </a:lnTo>
                <a:lnTo>
                  <a:pt x="898" y="187"/>
                </a:lnTo>
                <a:lnTo>
                  <a:pt x="864" y="170"/>
                </a:lnTo>
                <a:lnTo>
                  <a:pt x="813" y="170"/>
                </a:lnTo>
                <a:lnTo>
                  <a:pt x="729" y="187"/>
                </a:lnTo>
                <a:lnTo>
                  <a:pt x="644" y="187"/>
                </a:lnTo>
                <a:lnTo>
                  <a:pt x="508" y="204"/>
                </a:lnTo>
                <a:lnTo>
                  <a:pt x="373" y="221"/>
                </a:lnTo>
                <a:lnTo>
                  <a:pt x="186" y="238"/>
                </a:lnTo>
                <a:lnTo>
                  <a:pt x="0" y="272"/>
                </a:lnTo>
                <a:lnTo>
                  <a:pt x="0" y="136"/>
                </a:lnTo>
                <a:lnTo>
                  <a:pt x="203" y="136"/>
                </a:lnTo>
                <a:lnTo>
                  <a:pt x="373" y="119"/>
                </a:lnTo>
                <a:lnTo>
                  <a:pt x="525" y="102"/>
                </a:lnTo>
                <a:lnTo>
                  <a:pt x="661" y="85"/>
                </a:lnTo>
                <a:lnTo>
                  <a:pt x="762" y="68"/>
                </a:lnTo>
                <a:lnTo>
                  <a:pt x="830" y="51"/>
                </a:lnTo>
                <a:lnTo>
                  <a:pt x="898" y="34"/>
                </a:lnTo>
                <a:lnTo>
                  <a:pt x="915" y="34"/>
                </a:lnTo>
                <a:lnTo>
                  <a:pt x="949" y="17"/>
                </a:lnTo>
                <a:lnTo>
                  <a:pt x="983" y="0"/>
                </a:lnTo>
                <a:lnTo>
                  <a:pt x="1017" y="0"/>
                </a:lnTo>
                <a:lnTo>
                  <a:pt x="1050" y="34"/>
                </a:lnTo>
                <a:lnTo>
                  <a:pt x="1101" y="51"/>
                </a:lnTo>
                <a:lnTo>
                  <a:pt x="1186" y="102"/>
                </a:lnTo>
                <a:lnTo>
                  <a:pt x="1254" y="153"/>
                </a:lnTo>
                <a:lnTo>
                  <a:pt x="1305" y="187"/>
                </a:lnTo>
                <a:lnTo>
                  <a:pt x="1338" y="221"/>
                </a:lnTo>
                <a:lnTo>
                  <a:pt x="1338" y="238"/>
                </a:lnTo>
                <a:lnTo>
                  <a:pt x="1305" y="272"/>
                </a:lnTo>
                <a:lnTo>
                  <a:pt x="1288" y="289"/>
                </a:lnTo>
                <a:lnTo>
                  <a:pt x="1254" y="30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7"/>
          <p:cNvSpPr/>
          <p:nvPr/>
        </p:nvSpPr>
        <p:spPr>
          <a:xfrm>
            <a:off x="6048360" y="3774960"/>
            <a:ext cx="657360" cy="139680"/>
          </a:xfrm>
          <a:custGeom>
            <a:avLst/>
            <a:gdLst>
              <a:gd name="textAreaLeft" fmla="*/ 0 w 657360"/>
              <a:gd name="textAreaRight" fmla="*/ 657720 w 657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33" h="220">
                <a:moveTo>
                  <a:pt x="1033" y="135"/>
                </a:moveTo>
                <a:lnTo>
                  <a:pt x="1016" y="152"/>
                </a:lnTo>
                <a:lnTo>
                  <a:pt x="982" y="152"/>
                </a:lnTo>
                <a:lnTo>
                  <a:pt x="932" y="152"/>
                </a:lnTo>
                <a:lnTo>
                  <a:pt x="864" y="169"/>
                </a:lnTo>
                <a:lnTo>
                  <a:pt x="830" y="169"/>
                </a:lnTo>
                <a:lnTo>
                  <a:pt x="762" y="169"/>
                </a:lnTo>
                <a:lnTo>
                  <a:pt x="677" y="169"/>
                </a:lnTo>
                <a:lnTo>
                  <a:pt x="576" y="186"/>
                </a:lnTo>
                <a:lnTo>
                  <a:pt x="457" y="186"/>
                </a:lnTo>
                <a:lnTo>
                  <a:pt x="339" y="203"/>
                </a:lnTo>
                <a:lnTo>
                  <a:pt x="186" y="220"/>
                </a:lnTo>
                <a:lnTo>
                  <a:pt x="0" y="220"/>
                </a:lnTo>
                <a:lnTo>
                  <a:pt x="0" y="101"/>
                </a:lnTo>
                <a:lnTo>
                  <a:pt x="186" y="85"/>
                </a:lnTo>
                <a:lnTo>
                  <a:pt x="355" y="51"/>
                </a:lnTo>
                <a:lnTo>
                  <a:pt x="508" y="34"/>
                </a:lnTo>
                <a:lnTo>
                  <a:pt x="627" y="34"/>
                </a:lnTo>
                <a:lnTo>
                  <a:pt x="728" y="17"/>
                </a:lnTo>
                <a:lnTo>
                  <a:pt x="813" y="0"/>
                </a:lnTo>
                <a:lnTo>
                  <a:pt x="864" y="0"/>
                </a:lnTo>
                <a:lnTo>
                  <a:pt x="898" y="0"/>
                </a:lnTo>
                <a:lnTo>
                  <a:pt x="948" y="0"/>
                </a:lnTo>
                <a:lnTo>
                  <a:pt x="965" y="17"/>
                </a:lnTo>
                <a:lnTo>
                  <a:pt x="1016" y="68"/>
                </a:lnTo>
                <a:lnTo>
                  <a:pt x="1033" y="118"/>
                </a:lnTo>
                <a:lnTo>
                  <a:pt x="1033" y="13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reeform 44"/>
          <p:cNvSpPr/>
          <p:nvPr/>
        </p:nvSpPr>
        <p:spPr>
          <a:xfrm>
            <a:off x="6691320" y="2392200"/>
            <a:ext cx="290520" cy="216000"/>
          </a:xfrm>
          <a:custGeom>
            <a:avLst/>
            <a:gdLst>
              <a:gd name="textAreaLeft" fmla="*/ 0 w 290520"/>
              <a:gd name="textAreaRight" fmla="*/ 290880 w 290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57" h="339">
                <a:moveTo>
                  <a:pt x="0" y="17"/>
                </a:moveTo>
                <a:lnTo>
                  <a:pt x="17" y="0"/>
                </a:lnTo>
                <a:lnTo>
                  <a:pt x="34" y="0"/>
                </a:lnTo>
                <a:lnTo>
                  <a:pt x="84" y="0"/>
                </a:lnTo>
                <a:lnTo>
                  <a:pt x="135" y="0"/>
                </a:lnTo>
                <a:lnTo>
                  <a:pt x="203" y="0"/>
                </a:lnTo>
                <a:lnTo>
                  <a:pt x="254" y="0"/>
                </a:lnTo>
                <a:lnTo>
                  <a:pt x="322" y="17"/>
                </a:lnTo>
                <a:lnTo>
                  <a:pt x="355" y="51"/>
                </a:lnTo>
                <a:lnTo>
                  <a:pt x="406" y="67"/>
                </a:lnTo>
                <a:lnTo>
                  <a:pt x="440" y="118"/>
                </a:lnTo>
                <a:lnTo>
                  <a:pt x="457" y="152"/>
                </a:lnTo>
                <a:lnTo>
                  <a:pt x="457" y="203"/>
                </a:lnTo>
                <a:lnTo>
                  <a:pt x="457" y="271"/>
                </a:lnTo>
                <a:lnTo>
                  <a:pt x="457" y="305"/>
                </a:lnTo>
                <a:lnTo>
                  <a:pt x="440" y="322"/>
                </a:lnTo>
                <a:lnTo>
                  <a:pt x="406" y="339"/>
                </a:lnTo>
                <a:lnTo>
                  <a:pt x="372" y="322"/>
                </a:lnTo>
                <a:lnTo>
                  <a:pt x="322" y="288"/>
                </a:lnTo>
                <a:lnTo>
                  <a:pt x="254" y="254"/>
                </a:lnTo>
                <a:lnTo>
                  <a:pt x="169" y="186"/>
                </a:lnTo>
                <a:lnTo>
                  <a:pt x="101" y="118"/>
                </a:lnTo>
                <a:lnTo>
                  <a:pt x="34" y="67"/>
                </a:lnTo>
                <a:lnTo>
                  <a:pt x="0" y="34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20"/>
          <p:cNvSpPr/>
          <p:nvPr/>
        </p:nvSpPr>
        <p:spPr>
          <a:xfrm>
            <a:off x="128592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8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TextBox 57"/>
          <p:cNvSpPr/>
          <p:nvPr/>
        </p:nvSpPr>
        <p:spPr>
          <a:xfrm>
            <a:off x="4619520" y="485784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一笔要长、第三四笔是点提不要写横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请求  祈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4"/>
          <p:cNvSpPr/>
          <p:nvPr/>
        </p:nvSpPr>
        <p:spPr>
          <a:xfrm>
            <a:off x="857160" y="502128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明请求爸爸带他去公园玩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3474720" y="2209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8"/>
          <p:cNvSpPr/>
          <p:nvPr/>
        </p:nvSpPr>
        <p:spPr>
          <a:xfrm>
            <a:off x="5583240" y="3265560"/>
            <a:ext cx="623880" cy="463320"/>
          </a:xfrm>
          <a:custGeom>
            <a:avLst/>
            <a:gdLst>
              <a:gd name="textAreaLeft" fmla="*/ 0 w 623880"/>
              <a:gd name="textAreaRight" fmla="*/ 624240 w 6238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982" h="730">
                <a:moveTo>
                  <a:pt x="220" y="730"/>
                </a:moveTo>
                <a:lnTo>
                  <a:pt x="203" y="713"/>
                </a:lnTo>
                <a:lnTo>
                  <a:pt x="169" y="713"/>
                </a:lnTo>
                <a:lnTo>
                  <a:pt x="135" y="679"/>
                </a:lnTo>
                <a:lnTo>
                  <a:pt x="84" y="645"/>
                </a:lnTo>
                <a:lnTo>
                  <a:pt x="50" y="594"/>
                </a:lnTo>
                <a:lnTo>
                  <a:pt x="17" y="560"/>
                </a:lnTo>
                <a:lnTo>
                  <a:pt x="0" y="543"/>
                </a:lnTo>
                <a:lnTo>
                  <a:pt x="0" y="509"/>
                </a:lnTo>
                <a:lnTo>
                  <a:pt x="0" y="492"/>
                </a:lnTo>
                <a:lnTo>
                  <a:pt x="17" y="475"/>
                </a:lnTo>
                <a:lnTo>
                  <a:pt x="34" y="475"/>
                </a:lnTo>
                <a:lnTo>
                  <a:pt x="84" y="475"/>
                </a:lnTo>
                <a:lnTo>
                  <a:pt x="118" y="475"/>
                </a:lnTo>
                <a:lnTo>
                  <a:pt x="135" y="475"/>
                </a:lnTo>
                <a:lnTo>
                  <a:pt x="203" y="458"/>
                </a:lnTo>
                <a:lnTo>
                  <a:pt x="220" y="458"/>
                </a:lnTo>
                <a:lnTo>
                  <a:pt x="237" y="441"/>
                </a:lnTo>
                <a:lnTo>
                  <a:pt x="271" y="424"/>
                </a:lnTo>
                <a:lnTo>
                  <a:pt x="322" y="390"/>
                </a:lnTo>
                <a:lnTo>
                  <a:pt x="372" y="356"/>
                </a:lnTo>
                <a:lnTo>
                  <a:pt x="440" y="305"/>
                </a:lnTo>
                <a:lnTo>
                  <a:pt x="525" y="271"/>
                </a:lnTo>
                <a:lnTo>
                  <a:pt x="610" y="204"/>
                </a:lnTo>
                <a:lnTo>
                  <a:pt x="694" y="153"/>
                </a:lnTo>
                <a:lnTo>
                  <a:pt x="762" y="102"/>
                </a:lnTo>
                <a:lnTo>
                  <a:pt x="830" y="68"/>
                </a:lnTo>
                <a:lnTo>
                  <a:pt x="881" y="34"/>
                </a:lnTo>
                <a:lnTo>
                  <a:pt x="915" y="17"/>
                </a:lnTo>
                <a:lnTo>
                  <a:pt x="948" y="0"/>
                </a:lnTo>
                <a:lnTo>
                  <a:pt x="982" y="0"/>
                </a:lnTo>
                <a:lnTo>
                  <a:pt x="982" y="17"/>
                </a:lnTo>
                <a:lnTo>
                  <a:pt x="965" y="34"/>
                </a:lnTo>
                <a:lnTo>
                  <a:pt x="948" y="68"/>
                </a:lnTo>
                <a:lnTo>
                  <a:pt x="898" y="119"/>
                </a:lnTo>
                <a:lnTo>
                  <a:pt x="864" y="170"/>
                </a:lnTo>
                <a:lnTo>
                  <a:pt x="796" y="221"/>
                </a:lnTo>
                <a:lnTo>
                  <a:pt x="728" y="288"/>
                </a:lnTo>
                <a:lnTo>
                  <a:pt x="643" y="373"/>
                </a:lnTo>
                <a:lnTo>
                  <a:pt x="559" y="458"/>
                </a:lnTo>
                <a:lnTo>
                  <a:pt x="491" y="526"/>
                </a:lnTo>
                <a:lnTo>
                  <a:pt x="423" y="577"/>
                </a:lnTo>
                <a:lnTo>
                  <a:pt x="355" y="628"/>
                </a:lnTo>
                <a:lnTo>
                  <a:pt x="305" y="662"/>
                </a:lnTo>
                <a:lnTo>
                  <a:pt x="271" y="696"/>
                </a:lnTo>
                <a:lnTo>
                  <a:pt x="237" y="713"/>
                </a:lnTo>
                <a:lnTo>
                  <a:pt x="220" y="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9"/>
          <p:cNvSpPr/>
          <p:nvPr/>
        </p:nvSpPr>
        <p:spPr>
          <a:xfrm>
            <a:off x="5819760" y="3060720"/>
            <a:ext cx="236520" cy="1936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73" h="306">
                <a:moveTo>
                  <a:pt x="119" y="170"/>
                </a:moveTo>
                <a:lnTo>
                  <a:pt x="68" y="102"/>
                </a:lnTo>
                <a:lnTo>
                  <a:pt x="34" y="68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85" y="0"/>
                </a:lnTo>
                <a:lnTo>
                  <a:pt x="136" y="0"/>
                </a:lnTo>
                <a:lnTo>
                  <a:pt x="187" y="0"/>
                </a:lnTo>
                <a:lnTo>
                  <a:pt x="255" y="17"/>
                </a:lnTo>
                <a:lnTo>
                  <a:pt x="288" y="34"/>
                </a:lnTo>
                <a:lnTo>
                  <a:pt x="339" y="51"/>
                </a:lnTo>
                <a:lnTo>
                  <a:pt x="356" y="102"/>
                </a:lnTo>
                <a:lnTo>
                  <a:pt x="373" y="136"/>
                </a:lnTo>
                <a:lnTo>
                  <a:pt x="373" y="170"/>
                </a:lnTo>
                <a:lnTo>
                  <a:pt x="373" y="204"/>
                </a:lnTo>
                <a:lnTo>
                  <a:pt x="356" y="255"/>
                </a:lnTo>
                <a:lnTo>
                  <a:pt x="339" y="272"/>
                </a:lnTo>
                <a:lnTo>
                  <a:pt x="305" y="289"/>
                </a:lnTo>
                <a:lnTo>
                  <a:pt x="288" y="306"/>
                </a:lnTo>
                <a:lnTo>
                  <a:pt x="271" y="289"/>
                </a:lnTo>
                <a:lnTo>
                  <a:pt x="238" y="272"/>
                </a:lnTo>
                <a:lnTo>
                  <a:pt x="187" y="221"/>
                </a:lnTo>
                <a:lnTo>
                  <a:pt x="119" y="1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40"/>
          <p:cNvSpPr/>
          <p:nvPr/>
        </p:nvSpPr>
        <p:spPr>
          <a:xfrm>
            <a:off x="6411960" y="2813040"/>
            <a:ext cx="538200" cy="409680"/>
          </a:xfrm>
          <a:custGeom>
            <a:avLst/>
            <a:gdLst>
              <a:gd name="textAreaLeft" fmla="*/ 0 w 538200"/>
              <a:gd name="textAreaRight" fmla="*/ 538560 w 538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847" h="645">
                <a:moveTo>
                  <a:pt x="576" y="51"/>
                </a:moveTo>
                <a:lnTo>
                  <a:pt x="576" y="34"/>
                </a:lnTo>
                <a:lnTo>
                  <a:pt x="576" y="17"/>
                </a:lnTo>
                <a:lnTo>
                  <a:pt x="576" y="0"/>
                </a:lnTo>
                <a:lnTo>
                  <a:pt x="610" y="0"/>
                </a:lnTo>
                <a:lnTo>
                  <a:pt x="627" y="0"/>
                </a:lnTo>
                <a:lnTo>
                  <a:pt x="661" y="17"/>
                </a:lnTo>
                <a:lnTo>
                  <a:pt x="695" y="34"/>
                </a:lnTo>
                <a:lnTo>
                  <a:pt x="746" y="68"/>
                </a:lnTo>
                <a:lnTo>
                  <a:pt x="780" y="102"/>
                </a:lnTo>
                <a:lnTo>
                  <a:pt x="813" y="136"/>
                </a:lnTo>
                <a:lnTo>
                  <a:pt x="830" y="153"/>
                </a:lnTo>
                <a:lnTo>
                  <a:pt x="847" y="186"/>
                </a:lnTo>
                <a:lnTo>
                  <a:pt x="830" y="203"/>
                </a:lnTo>
                <a:lnTo>
                  <a:pt x="796" y="237"/>
                </a:lnTo>
                <a:lnTo>
                  <a:pt x="729" y="271"/>
                </a:lnTo>
                <a:lnTo>
                  <a:pt x="661" y="322"/>
                </a:lnTo>
                <a:lnTo>
                  <a:pt x="610" y="356"/>
                </a:lnTo>
                <a:lnTo>
                  <a:pt x="542" y="390"/>
                </a:lnTo>
                <a:lnTo>
                  <a:pt x="475" y="424"/>
                </a:lnTo>
                <a:lnTo>
                  <a:pt x="407" y="458"/>
                </a:lnTo>
                <a:lnTo>
                  <a:pt x="322" y="509"/>
                </a:lnTo>
                <a:lnTo>
                  <a:pt x="237" y="543"/>
                </a:lnTo>
                <a:lnTo>
                  <a:pt x="136" y="594"/>
                </a:lnTo>
                <a:lnTo>
                  <a:pt x="34" y="645"/>
                </a:lnTo>
                <a:lnTo>
                  <a:pt x="0" y="577"/>
                </a:lnTo>
                <a:lnTo>
                  <a:pt x="102" y="509"/>
                </a:lnTo>
                <a:lnTo>
                  <a:pt x="204" y="441"/>
                </a:lnTo>
                <a:lnTo>
                  <a:pt x="271" y="390"/>
                </a:lnTo>
                <a:lnTo>
                  <a:pt x="356" y="339"/>
                </a:lnTo>
                <a:lnTo>
                  <a:pt x="407" y="288"/>
                </a:lnTo>
                <a:lnTo>
                  <a:pt x="458" y="254"/>
                </a:lnTo>
                <a:lnTo>
                  <a:pt x="508" y="220"/>
                </a:lnTo>
                <a:lnTo>
                  <a:pt x="525" y="186"/>
                </a:lnTo>
                <a:lnTo>
                  <a:pt x="576" y="153"/>
                </a:lnTo>
                <a:lnTo>
                  <a:pt x="593" y="119"/>
                </a:lnTo>
                <a:lnTo>
                  <a:pt x="593" y="85"/>
                </a:lnTo>
                <a:lnTo>
                  <a:pt x="576" y="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42"/>
          <p:cNvSpPr/>
          <p:nvPr/>
        </p:nvSpPr>
        <p:spPr>
          <a:xfrm>
            <a:off x="5862600" y="2639880"/>
            <a:ext cx="851040" cy="227160"/>
          </a:xfrm>
          <a:custGeom>
            <a:avLst/>
            <a:gdLst>
              <a:gd name="textAreaLeft" fmla="*/ 0 w 851040"/>
              <a:gd name="textAreaRight" fmla="*/ 851400 w 851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339" h="357">
                <a:moveTo>
                  <a:pt x="542" y="153"/>
                </a:moveTo>
                <a:lnTo>
                  <a:pt x="678" y="119"/>
                </a:lnTo>
                <a:lnTo>
                  <a:pt x="796" y="85"/>
                </a:lnTo>
                <a:lnTo>
                  <a:pt x="898" y="68"/>
                </a:lnTo>
                <a:lnTo>
                  <a:pt x="983" y="51"/>
                </a:lnTo>
                <a:lnTo>
                  <a:pt x="1068" y="34"/>
                </a:lnTo>
                <a:lnTo>
                  <a:pt x="1118" y="17"/>
                </a:lnTo>
                <a:lnTo>
                  <a:pt x="1152" y="17"/>
                </a:lnTo>
                <a:lnTo>
                  <a:pt x="1169" y="0"/>
                </a:lnTo>
                <a:lnTo>
                  <a:pt x="1237" y="17"/>
                </a:lnTo>
                <a:lnTo>
                  <a:pt x="1288" y="17"/>
                </a:lnTo>
                <a:lnTo>
                  <a:pt x="1305" y="34"/>
                </a:lnTo>
                <a:lnTo>
                  <a:pt x="1322" y="51"/>
                </a:lnTo>
                <a:lnTo>
                  <a:pt x="1339" y="68"/>
                </a:lnTo>
                <a:lnTo>
                  <a:pt x="1322" y="102"/>
                </a:lnTo>
                <a:lnTo>
                  <a:pt x="1305" y="119"/>
                </a:lnTo>
                <a:lnTo>
                  <a:pt x="1288" y="119"/>
                </a:lnTo>
                <a:lnTo>
                  <a:pt x="1271" y="136"/>
                </a:lnTo>
                <a:lnTo>
                  <a:pt x="1237" y="136"/>
                </a:lnTo>
                <a:lnTo>
                  <a:pt x="1186" y="153"/>
                </a:lnTo>
                <a:lnTo>
                  <a:pt x="1135" y="170"/>
                </a:lnTo>
                <a:lnTo>
                  <a:pt x="1051" y="187"/>
                </a:lnTo>
                <a:lnTo>
                  <a:pt x="966" y="204"/>
                </a:lnTo>
                <a:lnTo>
                  <a:pt x="881" y="221"/>
                </a:lnTo>
                <a:lnTo>
                  <a:pt x="763" y="255"/>
                </a:lnTo>
                <a:lnTo>
                  <a:pt x="661" y="272"/>
                </a:lnTo>
                <a:lnTo>
                  <a:pt x="559" y="289"/>
                </a:lnTo>
                <a:lnTo>
                  <a:pt x="458" y="306"/>
                </a:lnTo>
                <a:lnTo>
                  <a:pt x="373" y="323"/>
                </a:lnTo>
                <a:lnTo>
                  <a:pt x="305" y="340"/>
                </a:lnTo>
                <a:lnTo>
                  <a:pt x="254" y="340"/>
                </a:lnTo>
                <a:lnTo>
                  <a:pt x="203" y="357"/>
                </a:lnTo>
                <a:lnTo>
                  <a:pt x="170" y="357"/>
                </a:lnTo>
                <a:lnTo>
                  <a:pt x="102" y="357"/>
                </a:lnTo>
                <a:lnTo>
                  <a:pt x="68" y="340"/>
                </a:lnTo>
                <a:lnTo>
                  <a:pt x="34" y="340"/>
                </a:lnTo>
                <a:lnTo>
                  <a:pt x="17" y="323"/>
                </a:lnTo>
                <a:lnTo>
                  <a:pt x="0" y="306"/>
                </a:lnTo>
                <a:lnTo>
                  <a:pt x="0" y="289"/>
                </a:lnTo>
                <a:lnTo>
                  <a:pt x="34" y="272"/>
                </a:lnTo>
                <a:lnTo>
                  <a:pt x="68" y="255"/>
                </a:lnTo>
                <a:lnTo>
                  <a:pt x="136" y="255"/>
                </a:lnTo>
                <a:lnTo>
                  <a:pt x="203" y="221"/>
                </a:lnTo>
                <a:lnTo>
                  <a:pt x="305" y="204"/>
                </a:lnTo>
                <a:lnTo>
                  <a:pt x="424" y="187"/>
                </a:lnTo>
                <a:lnTo>
                  <a:pt x="542" y="1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41"/>
          <p:cNvSpPr/>
          <p:nvPr/>
        </p:nvSpPr>
        <p:spPr>
          <a:xfrm>
            <a:off x="6056280" y="2198520"/>
            <a:ext cx="366840" cy="1940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576" h="3056">
                <a:moveTo>
                  <a:pt x="136" y="2716"/>
                </a:moveTo>
                <a:lnTo>
                  <a:pt x="68" y="2666"/>
                </a:lnTo>
                <a:lnTo>
                  <a:pt x="34" y="2632"/>
                </a:lnTo>
                <a:lnTo>
                  <a:pt x="0" y="2598"/>
                </a:lnTo>
                <a:lnTo>
                  <a:pt x="0" y="2581"/>
                </a:lnTo>
                <a:lnTo>
                  <a:pt x="17" y="2581"/>
                </a:lnTo>
                <a:lnTo>
                  <a:pt x="51" y="2581"/>
                </a:lnTo>
                <a:lnTo>
                  <a:pt x="102" y="2598"/>
                </a:lnTo>
                <a:lnTo>
                  <a:pt x="170" y="2615"/>
                </a:lnTo>
                <a:lnTo>
                  <a:pt x="220" y="2632"/>
                </a:lnTo>
                <a:lnTo>
                  <a:pt x="271" y="2649"/>
                </a:lnTo>
                <a:lnTo>
                  <a:pt x="322" y="2649"/>
                </a:lnTo>
                <a:lnTo>
                  <a:pt x="339" y="2632"/>
                </a:lnTo>
                <a:lnTo>
                  <a:pt x="356" y="2632"/>
                </a:lnTo>
                <a:lnTo>
                  <a:pt x="356" y="2598"/>
                </a:lnTo>
                <a:lnTo>
                  <a:pt x="356" y="2564"/>
                </a:lnTo>
                <a:lnTo>
                  <a:pt x="373" y="2513"/>
                </a:lnTo>
                <a:lnTo>
                  <a:pt x="373" y="2462"/>
                </a:lnTo>
                <a:lnTo>
                  <a:pt x="373" y="2394"/>
                </a:lnTo>
                <a:lnTo>
                  <a:pt x="390" y="2309"/>
                </a:lnTo>
                <a:lnTo>
                  <a:pt x="390" y="2224"/>
                </a:lnTo>
                <a:lnTo>
                  <a:pt x="390" y="2003"/>
                </a:lnTo>
                <a:lnTo>
                  <a:pt x="390" y="1783"/>
                </a:lnTo>
                <a:lnTo>
                  <a:pt x="390" y="1545"/>
                </a:lnTo>
                <a:lnTo>
                  <a:pt x="390" y="1273"/>
                </a:lnTo>
                <a:lnTo>
                  <a:pt x="390" y="1138"/>
                </a:lnTo>
                <a:lnTo>
                  <a:pt x="390" y="1019"/>
                </a:lnTo>
                <a:lnTo>
                  <a:pt x="373" y="900"/>
                </a:lnTo>
                <a:lnTo>
                  <a:pt x="373" y="781"/>
                </a:lnTo>
                <a:lnTo>
                  <a:pt x="373" y="594"/>
                </a:lnTo>
                <a:lnTo>
                  <a:pt x="373" y="407"/>
                </a:lnTo>
                <a:lnTo>
                  <a:pt x="356" y="340"/>
                </a:lnTo>
                <a:lnTo>
                  <a:pt x="356" y="272"/>
                </a:lnTo>
                <a:lnTo>
                  <a:pt x="339" y="221"/>
                </a:lnTo>
                <a:lnTo>
                  <a:pt x="339" y="170"/>
                </a:lnTo>
                <a:lnTo>
                  <a:pt x="322" y="136"/>
                </a:lnTo>
                <a:lnTo>
                  <a:pt x="322" y="102"/>
                </a:lnTo>
                <a:lnTo>
                  <a:pt x="305" y="85"/>
                </a:lnTo>
                <a:lnTo>
                  <a:pt x="305" y="68"/>
                </a:lnTo>
                <a:lnTo>
                  <a:pt x="288" y="51"/>
                </a:lnTo>
                <a:lnTo>
                  <a:pt x="271" y="34"/>
                </a:lnTo>
                <a:lnTo>
                  <a:pt x="271" y="17"/>
                </a:lnTo>
                <a:lnTo>
                  <a:pt x="271" y="0"/>
                </a:lnTo>
                <a:lnTo>
                  <a:pt x="288" y="0"/>
                </a:lnTo>
                <a:lnTo>
                  <a:pt x="339" y="0"/>
                </a:lnTo>
                <a:lnTo>
                  <a:pt x="373" y="17"/>
                </a:lnTo>
                <a:lnTo>
                  <a:pt x="441" y="34"/>
                </a:lnTo>
                <a:lnTo>
                  <a:pt x="491" y="51"/>
                </a:lnTo>
                <a:lnTo>
                  <a:pt x="542" y="85"/>
                </a:lnTo>
                <a:lnTo>
                  <a:pt x="559" y="102"/>
                </a:lnTo>
                <a:lnTo>
                  <a:pt x="576" y="119"/>
                </a:lnTo>
                <a:lnTo>
                  <a:pt x="576" y="153"/>
                </a:lnTo>
                <a:lnTo>
                  <a:pt x="559" y="204"/>
                </a:lnTo>
                <a:lnTo>
                  <a:pt x="559" y="221"/>
                </a:lnTo>
                <a:lnTo>
                  <a:pt x="542" y="255"/>
                </a:lnTo>
                <a:lnTo>
                  <a:pt x="525" y="306"/>
                </a:lnTo>
                <a:lnTo>
                  <a:pt x="525" y="357"/>
                </a:lnTo>
                <a:lnTo>
                  <a:pt x="525" y="407"/>
                </a:lnTo>
                <a:lnTo>
                  <a:pt x="525" y="458"/>
                </a:lnTo>
                <a:lnTo>
                  <a:pt x="508" y="526"/>
                </a:lnTo>
                <a:lnTo>
                  <a:pt x="508" y="611"/>
                </a:lnTo>
                <a:lnTo>
                  <a:pt x="508" y="713"/>
                </a:lnTo>
                <a:lnTo>
                  <a:pt x="508" y="832"/>
                </a:lnTo>
                <a:lnTo>
                  <a:pt x="508" y="968"/>
                </a:lnTo>
                <a:lnTo>
                  <a:pt x="508" y="1121"/>
                </a:lnTo>
                <a:lnTo>
                  <a:pt x="508" y="1426"/>
                </a:lnTo>
                <a:lnTo>
                  <a:pt x="525" y="1715"/>
                </a:lnTo>
                <a:lnTo>
                  <a:pt x="525" y="1969"/>
                </a:lnTo>
                <a:lnTo>
                  <a:pt x="542" y="2224"/>
                </a:lnTo>
                <a:lnTo>
                  <a:pt x="542" y="2326"/>
                </a:lnTo>
                <a:lnTo>
                  <a:pt x="542" y="2428"/>
                </a:lnTo>
                <a:lnTo>
                  <a:pt x="542" y="2513"/>
                </a:lnTo>
                <a:lnTo>
                  <a:pt x="542" y="2581"/>
                </a:lnTo>
                <a:lnTo>
                  <a:pt x="542" y="2649"/>
                </a:lnTo>
                <a:lnTo>
                  <a:pt x="542" y="2699"/>
                </a:lnTo>
                <a:lnTo>
                  <a:pt x="542" y="2750"/>
                </a:lnTo>
                <a:lnTo>
                  <a:pt x="542" y="2767"/>
                </a:lnTo>
                <a:lnTo>
                  <a:pt x="525" y="2818"/>
                </a:lnTo>
                <a:lnTo>
                  <a:pt x="508" y="2869"/>
                </a:lnTo>
                <a:lnTo>
                  <a:pt x="458" y="2971"/>
                </a:lnTo>
                <a:lnTo>
                  <a:pt x="424" y="3005"/>
                </a:lnTo>
                <a:lnTo>
                  <a:pt x="390" y="3039"/>
                </a:lnTo>
                <a:lnTo>
                  <a:pt x="373" y="3056"/>
                </a:lnTo>
                <a:lnTo>
                  <a:pt x="339" y="3056"/>
                </a:lnTo>
                <a:lnTo>
                  <a:pt x="322" y="3039"/>
                </a:lnTo>
                <a:lnTo>
                  <a:pt x="305" y="3022"/>
                </a:lnTo>
                <a:lnTo>
                  <a:pt x="288" y="2988"/>
                </a:lnTo>
                <a:lnTo>
                  <a:pt x="288" y="2937"/>
                </a:lnTo>
                <a:lnTo>
                  <a:pt x="288" y="2886"/>
                </a:lnTo>
                <a:lnTo>
                  <a:pt x="254" y="2835"/>
                </a:lnTo>
                <a:lnTo>
                  <a:pt x="203" y="2784"/>
                </a:lnTo>
                <a:lnTo>
                  <a:pt x="136" y="27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43"/>
          <p:cNvSpPr/>
          <p:nvPr/>
        </p:nvSpPr>
        <p:spPr>
          <a:xfrm>
            <a:off x="6348240" y="3125880"/>
            <a:ext cx="1020960" cy="636480"/>
          </a:xfrm>
          <a:custGeom>
            <a:avLst/>
            <a:gdLst>
              <a:gd name="textAreaLeft" fmla="*/ 0 w 1020960"/>
              <a:gd name="textAreaRight" fmla="*/ 1021320 w 10209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609" h="1002">
                <a:moveTo>
                  <a:pt x="897" y="1002"/>
                </a:moveTo>
                <a:lnTo>
                  <a:pt x="881" y="985"/>
                </a:lnTo>
                <a:lnTo>
                  <a:pt x="830" y="934"/>
                </a:lnTo>
                <a:lnTo>
                  <a:pt x="745" y="866"/>
                </a:lnTo>
                <a:lnTo>
                  <a:pt x="643" y="764"/>
                </a:lnTo>
                <a:lnTo>
                  <a:pt x="525" y="628"/>
                </a:lnTo>
                <a:lnTo>
                  <a:pt x="372" y="475"/>
                </a:lnTo>
                <a:lnTo>
                  <a:pt x="186" y="306"/>
                </a:lnTo>
                <a:lnTo>
                  <a:pt x="0" y="102"/>
                </a:lnTo>
                <a:lnTo>
                  <a:pt x="33" y="0"/>
                </a:lnTo>
                <a:lnTo>
                  <a:pt x="203" y="153"/>
                </a:lnTo>
                <a:lnTo>
                  <a:pt x="372" y="272"/>
                </a:lnTo>
                <a:lnTo>
                  <a:pt x="525" y="391"/>
                </a:lnTo>
                <a:lnTo>
                  <a:pt x="660" y="492"/>
                </a:lnTo>
                <a:lnTo>
                  <a:pt x="796" y="577"/>
                </a:lnTo>
                <a:lnTo>
                  <a:pt x="931" y="645"/>
                </a:lnTo>
                <a:lnTo>
                  <a:pt x="1084" y="713"/>
                </a:lnTo>
                <a:lnTo>
                  <a:pt x="1253" y="764"/>
                </a:lnTo>
                <a:lnTo>
                  <a:pt x="1338" y="798"/>
                </a:lnTo>
                <a:lnTo>
                  <a:pt x="1406" y="815"/>
                </a:lnTo>
                <a:lnTo>
                  <a:pt x="1474" y="832"/>
                </a:lnTo>
                <a:lnTo>
                  <a:pt x="1524" y="849"/>
                </a:lnTo>
                <a:lnTo>
                  <a:pt x="1558" y="866"/>
                </a:lnTo>
                <a:lnTo>
                  <a:pt x="1575" y="866"/>
                </a:lnTo>
                <a:lnTo>
                  <a:pt x="1592" y="883"/>
                </a:lnTo>
                <a:lnTo>
                  <a:pt x="1609" y="883"/>
                </a:lnTo>
                <a:lnTo>
                  <a:pt x="1592" y="900"/>
                </a:lnTo>
                <a:lnTo>
                  <a:pt x="1558" y="917"/>
                </a:lnTo>
                <a:lnTo>
                  <a:pt x="1490" y="934"/>
                </a:lnTo>
                <a:lnTo>
                  <a:pt x="1389" y="951"/>
                </a:lnTo>
                <a:lnTo>
                  <a:pt x="1287" y="968"/>
                </a:lnTo>
                <a:lnTo>
                  <a:pt x="1202" y="985"/>
                </a:lnTo>
                <a:lnTo>
                  <a:pt x="1135" y="985"/>
                </a:lnTo>
                <a:lnTo>
                  <a:pt x="1084" y="1002"/>
                </a:lnTo>
                <a:lnTo>
                  <a:pt x="982" y="1002"/>
                </a:lnTo>
                <a:lnTo>
                  <a:pt x="897" y="10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2243160" y="2335320"/>
            <a:ext cx="4743360" cy="30286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5400000"/>
          </a:gradFill>
          <a:ln w="648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8"/>
          <p:cNvGrpSpPr/>
          <p:nvPr/>
        </p:nvGrpSpPr>
        <p:grpSpPr>
          <a:xfrm>
            <a:off x="1476360" y="905040"/>
            <a:ext cx="6865920" cy="1180800"/>
            <a:chOff x="1476360" y="905040"/>
            <a:chExt cx="6865920" cy="1180800"/>
          </a:xfrm>
        </p:grpSpPr>
        <p:sp>
          <p:nvSpPr>
            <p:cNvPr id="62" name="Text Box 2"/>
            <p:cNvSpPr/>
            <p:nvPr/>
          </p:nvSpPr>
          <p:spPr>
            <a:xfrm>
              <a:off x="2710440" y="1044720"/>
              <a:ext cx="56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一匹出色的马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" name="组合 13337"/>
            <p:cNvGrpSpPr/>
            <p:nvPr/>
          </p:nvGrpSpPr>
          <p:grpSpPr>
            <a:xfrm>
              <a:off x="1476360" y="905040"/>
              <a:ext cx="1180800" cy="1180800"/>
              <a:chOff x="1476360" y="905040"/>
              <a:chExt cx="1180800" cy="1180800"/>
            </a:xfrm>
          </p:grpSpPr>
          <p:sp>
            <p:nvSpPr>
              <p:cNvPr id="64" name="AutoShape 11"/>
              <p:cNvSpPr/>
              <p:nvPr/>
            </p:nvSpPr>
            <p:spPr>
              <a:xfrm>
                <a:off x="14763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文本框 13"/>
              <p:cNvSpPr/>
              <p:nvPr/>
            </p:nvSpPr>
            <p:spPr>
              <a:xfrm>
                <a:off x="1767240" y="105048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7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" name="圆角矩形 22"/>
          <p:cNvSpPr/>
          <p:nvPr/>
        </p:nvSpPr>
        <p:spPr>
          <a:xfrm>
            <a:off x="3092400" y="3295800"/>
            <a:ext cx="3133800" cy="83952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46" descr="枫叶副本"/>
          <p:cNvPicPr/>
          <p:nvPr/>
        </p:nvPicPr>
        <p:blipFill>
          <a:blip r:embed="rId4"/>
          <a:stretch/>
        </p:blipFill>
        <p:spPr>
          <a:xfrm>
            <a:off x="3879720" y="3247920"/>
            <a:ext cx="1059120" cy="1014480"/>
          </a:xfrm>
          <a:prstGeom prst="rect">
            <a:avLst/>
          </a:prstGeom>
          <a:ln w="0">
            <a:noFill/>
          </a:ln>
        </p:spPr>
      </p:pic>
      <p:pic>
        <p:nvPicPr>
          <p:cNvPr id="68" name="矩形 25" descr=""/>
          <p:cNvPicPr/>
          <p:nvPr/>
        </p:nvPicPr>
        <p:blipFill>
          <a:blip r:embed="rId5"/>
          <a:stretch/>
        </p:blipFill>
        <p:spPr>
          <a:xfrm>
            <a:off x="2828880" y="3206880"/>
            <a:ext cx="3700440" cy="858600"/>
          </a:xfrm>
          <a:prstGeom prst="rect">
            <a:avLst/>
          </a:prstGeom>
          <a:ln w="0">
            <a:noFill/>
          </a:ln>
        </p:spPr>
      </p:pic>
      <p:pic>
        <p:nvPicPr>
          <p:cNvPr id="69" name="任意多边形 34" descr=""/>
          <p:cNvPicPr/>
          <p:nvPr/>
        </p:nvPicPr>
        <p:blipFill>
          <a:blip r:embed="rId6"/>
          <a:stretch/>
        </p:blipFill>
        <p:spPr>
          <a:xfrm>
            <a:off x="219240" y="5535720"/>
            <a:ext cx="1706400" cy="768240"/>
          </a:xfrm>
          <a:prstGeom prst="rect">
            <a:avLst/>
          </a:prstGeom>
          <a:ln w="0">
            <a:noFill/>
          </a:ln>
        </p:spPr>
      </p:pic>
      <p:pic>
        <p:nvPicPr>
          <p:cNvPr id="70" name="任意多边形 35" descr=""/>
          <p:cNvPicPr/>
          <p:nvPr/>
        </p:nvPicPr>
        <p:blipFill>
          <a:blip r:embed="rId7"/>
          <a:stretch/>
        </p:blipFill>
        <p:spPr>
          <a:xfrm>
            <a:off x="1914480" y="5535720"/>
            <a:ext cx="1706760" cy="768240"/>
          </a:xfrm>
          <a:prstGeom prst="rect">
            <a:avLst/>
          </a:prstGeom>
          <a:ln w="0">
            <a:noFill/>
          </a:ln>
        </p:spPr>
      </p:pic>
      <p:pic>
        <p:nvPicPr>
          <p:cNvPr id="71" name="任意多边形 36" descr=""/>
          <p:cNvPicPr/>
          <p:nvPr/>
        </p:nvPicPr>
        <p:blipFill>
          <a:blip r:embed="rId8"/>
          <a:stretch/>
        </p:blipFill>
        <p:spPr>
          <a:xfrm>
            <a:off x="5389560" y="5535720"/>
            <a:ext cx="1706400" cy="768240"/>
          </a:xfrm>
          <a:prstGeom prst="rect">
            <a:avLst/>
          </a:prstGeom>
          <a:ln w="0">
            <a:noFill/>
          </a:ln>
        </p:spPr>
      </p:pic>
      <p:pic>
        <p:nvPicPr>
          <p:cNvPr id="72" name="任意多边形 37" descr=""/>
          <p:cNvPicPr/>
          <p:nvPr/>
        </p:nvPicPr>
        <p:blipFill>
          <a:blip r:embed="rId9"/>
          <a:stretch/>
        </p:blipFill>
        <p:spPr>
          <a:xfrm>
            <a:off x="3651120" y="5535720"/>
            <a:ext cx="1706760" cy="768240"/>
          </a:xfrm>
          <a:prstGeom prst="rect">
            <a:avLst/>
          </a:prstGeom>
          <a:ln w="0">
            <a:noFill/>
          </a:ln>
        </p:spPr>
      </p:pic>
      <p:pic>
        <p:nvPicPr>
          <p:cNvPr id="73" name="任意多边形 38" descr=""/>
          <p:cNvPicPr/>
          <p:nvPr/>
        </p:nvPicPr>
        <p:blipFill>
          <a:blip r:embed="rId10"/>
          <a:stretch/>
        </p:blipFill>
        <p:spPr>
          <a:xfrm>
            <a:off x="7139160" y="5522760"/>
            <a:ext cx="173664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流程图: 摘录 39"/>
          <p:cNvSpPr/>
          <p:nvPr/>
        </p:nvSpPr>
        <p:spPr>
          <a:xfrm rot="5400000">
            <a:off x="1824480" y="5823720"/>
            <a:ext cx="191880" cy="19044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流程图: 摘录 40"/>
          <p:cNvSpPr/>
          <p:nvPr/>
        </p:nvSpPr>
        <p:spPr>
          <a:xfrm rot="5400000">
            <a:off x="3521520" y="5823720"/>
            <a:ext cx="191880" cy="19044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流程图: 摘录 41"/>
          <p:cNvSpPr/>
          <p:nvPr/>
        </p:nvSpPr>
        <p:spPr>
          <a:xfrm rot="5400000">
            <a:off x="5294880" y="5823720"/>
            <a:ext cx="191880" cy="19044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流程图: 摘录 42"/>
          <p:cNvSpPr/>
          <p:nvPr/>
        </p:nvSpPr>
        <p:spPr>
          <a:xfrm rot="5400000">
            <a:off x="6991920" y="5823720"/>
            <a:ext cx="191880" cy="19044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1"/>
          <p:cNvSpPr/>
          <p:nvPr/>
        </p:nvSpPr>
        <p:spPr>
          <a:xfrm>
            <a:off x="1227240" y="1909800"/>
            <a:ext cx="745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波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柔软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郊外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异常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组合 1"/>
          <p:cNvGrpSpPr/>
          <p:nvPr/>
        </p:nvGrpSpPr>
        <p:grpSpPr>
          <a:xfrm>
            <a:off x="558720" y="1098720"/>
            <a:ext cx="2594160" cy="666720"/>
            <a:chOff x="558720" y="1098720"/>
            <a:chExt cx="2594160" cy="666720"/>
          </a:xfrm>
        </p:grpSpPr>
        <p:sp>
          <p:nvSpPr>
            <p:cNvPr id="410" name="圆角矩形 5"/>
            <p:cNvSpPr/>
            <p:nvPr/>
          </p:nvSpPr>
          <p:spPr>
            <a:xfrm>
              <a:off x="1374840" y="12366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0987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文本框 16"/>
            <p:cNvSpPr/>
            <p:nvPr/>
          </p:nvSpPr>
          <p:spPr>
            <a:xfrm>
              <a:off x="1634040" y="12556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矩形 1"/>
          <p:cNvSpPr/>
          <p:nvPr/>
        </p:nvSpPr>
        <p:spPr>
          <a:xfrm>
            <a:off x="1968480" y="1924200"/>
            <a:ext cx="713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波浪形成的水纹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微风吹来，河面上泛起了层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波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柔和；不坚硬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走在草坪上，我仿佛踏上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柔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地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城市外面的地方（对某一城市说）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星期天，爸爸带我到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郊外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游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非常；特别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这件事并没什么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异常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"/>
          <p:cNvSpPr/>
          <p:nvPr/>
        </p:nvSpPr>
        <p:spPr>
          <a:xfrm>
            <a:off x="1187280" y="2039760"/>
            <a:ext cx="745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已经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恋恋不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迎接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1928880" y="2054160"/>
            <a:ext cx="64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表示动作、变化完成或达到某种程度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我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已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二年级的小学上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舍不得离开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太阳快要下山了，我们只好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恋恋不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离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了美丽的公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做好准备期待某事物或某情况到来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我们全家一起到大门口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迎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客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"/>
          <p:cNvSpPr/>
          <p:nvPr/>
        </p:nvSpPr>
        <p:spPr>
          <a:xfrm>
            <a:off x="3384360" y="1863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恋恋不舍    依依不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103480" y="2279520"/>
            <a:ext cx="647856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个词都有“舍不得离开”的意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恋恋不舍”经常用于人，一般指人要分手时舍不得离开。“恋恋不舍”指物，或地方。比如到某地游玩后，舍不得离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今天我去公园玩得很开心，转眼间要回家了，我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恋恋不舍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叔叔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依依不舍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地告别亲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登上去北京的列车。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3"/>
          <p:cNvGrpSpPr/>
          <p:nvPr/>
        </p:nvGrpSpPr>
        <p:grpSpPr>
          <a:xfrm>
            <a:off x="465120" y="1082520"/>
            <a:ext cx="2594160" cy="667080"/>
            <a:chOff x="465120" y="1082520"/>
            <a:chExt cx="2594160" cy="667080"/>
          </a:xfrm>
        </p:grpSpPr>
        <p:sp>
          <p:nvSpPr>
            <p:cNvPr id="419" name="圆角矩形 14"/>
            <p:cNvSpPr/>
            <p:nvPr/>
          </p:nvSpPr>
          <p:spPr>
            <a:xfrm>
              <a:off x="1281240" y="122076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65120" y="1082520"/>
              <a:ext cx="1087560" cy="6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文本框 16"/>
            <p:cNvSpPr/>
            <p:nvPr/>
          </p:nvSpPr>
          <p:spPr>
            <a:xfrm>
              <a:off x="1540440" y="12398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4"/>
          <p:cNvGrpSpPr/>
          <p:nvPr/>
        </p:nvGrpSpPr>
        <p:grpSpPr>
          <a:xfrm>
            <a:off x="615960" y="2325600"/>
            <a:ext cx="1670040" cy="459720"/>
            <a:chOff x="615960" y="2325600"/>
            <a:chExt cx="1670040" cy="459720"/>
          </a:xfrm>
        </p:grpSpPr>
        <p:pic>
          <p:nvPicPr>
            <p:cNvPr id="423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15960" y="237996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Box 3"/>
            <p:cNvSpPr/>
            <p:nvPr/>
          </p:nvSpPr>
          <p:spPr>
            <a:xfrm>
              <a:off x="959040" y="23256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20"/>
          <p:cNvGrpSpPr/>
          <p:nvPr/>
        </p:nvGrpSpPr>
        <p:grpSpPr>
          <a:xfrm>
            <a:off x="603360" y="2930400"/>
            <a:ext cx="1670040" cy="459720"/>
            <a:chOff x="603360" y="2930400"/>
            <a:chExt cx="1670040" cy="459720"/>
          </a:xfrm>
        </p:grpSpPr>
        <p:pic>
          <p:nvPicPr>
            <p:cNvPr id="426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03360" y="2985120"/>
              <a:ext cx="36612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Box 22"/>
            <p:cNvSpPr/>
            <p:nvPr/>
          </p:nvSpPr>
          <p:spPr>
            <a:xfrm>
              <a:off x="946440" y="29304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23"/>
          <p:cNvGrpSpPr/>
          <p:nvPr/>
        </p:nvGrpSpPr>
        <p:grpSpPr>
          <a:xfrm>
            <a:off x="603360" y="4494240"/>
            <a:ext cx="1682640" cy="459720"/>
            <a:chOff x="603360" y="4494240"/>
            <a:chExt cx="1682640" cy="459720"/>
          </a:xfrm>
        </p:grpSpPr>
        <p:pic>
          <p:nvPicPr>
            <p:cNvPr id="429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03360" y="453564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TextBox 25"/>
            <p:cNvSpPr/>
            <p:nvPr/>
          </p:nvSpPr>
          <p:spPr>
            <a:xfrm>
              <a:off x="959400" y="449424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C:\Users\Administrator\Desktop\新归类\2017秋原稿\张存霞老师课件\课件模板（老师修改）\小学语文课件模板（老师修改）4.20\可改图标\再读感悟.png"/>
          <p:cNvPicPr/>
          <p:nvPr/>
        </p:nvPicPr>
        <p:blipFill>
          <a:blip r:embed="rId1"/>
          <a:stretch/>
        </p:blipFill>
        <p:spPr>
          <a:xfrm>
            <a:off x="3406680" y="284040"/>
            <a:ext cx="2516400" cy="66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32" name="组合 2"/>
          <p:cNvGrpSpPr/>
          <p:nvPr/>
        </p:nvGrpSpPr>
        <p:grpSpPr>
          <a:xfrm>
            <a:off x="984240" y="1946160"/>
            <a:ext cx="7149960" cy="3256200"/>
            <a:chOff x="984240" y="1946160"/>
            <a:chExt cx="7149960" cy="3256200"/>
          </a:xfrm>
        </p:grpSpPr>
        <p:pic>
          <p:nvPicPr>
            <p:cNvPr id="433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984240" y="1946160"/>
              <a:ext cx="7149960" cy="32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任意多边形 4"/>
            <p:cNvSpPr/>
            <p:nvPr/>
          </p:nvSpPr>
          <p:spPr>
            <a:xfrm>
              <a:off x="1146600" y="3216240"/>
              <a:ext cx="6814080" cy="165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1400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边读边想，课文可以分成几段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3"/>
          <p:cNvSpPr/>
          <p:nvPr/>
        </p:nvSpPr>
        <p:spPr>
          <a:xfrm>
            <a:off x="995400" y="220680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第一部分（第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1-3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留恋美景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写“我们”一家人被郊外的美景吸引，不想回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第二部分（第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4-6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不同做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写妹妹求爸爸妈妈抱，妈妈拒绝，爸爸让她骑着“马”回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第三部分（第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7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骑“马”回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写妹妹骑着这匹出色的“马”早早地回到了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组合 11"/>
          <p:cNvGrpSpPr/>
          <p:nvPr/>
        </p:nvGrpSpPr>
        <p:grpSpPr>
          <a:xfrm>
            <a:off x="946080" y="1168560"/>
            <a:ext cx="3792600" cy="717480"/>
            <a:chOff x="946080" y="1168560"/>
            <a:chExt cx="3792600" cy="717480"/>
          </a:xfrm>
        </p:grpSpPr>
        <p:grpSp>
          <p:nvGrpSpPr>
            <p:cNvPr id="437" name="圆角矩形 9"/>
            <p:cNvGrpSpPr/>
            <p:nvPr/>
          </p:nvGrpSpPr>
          <p:grpSpPr>
            <a:xfrm>
              <a:off x="946080" y="1179720"/>
              <a:ext cx="1032120" cy="694800"/>
              <a:chOff x="946080" y="1179720"/>
              <a:chExt cx="1032120" cy="694800"/>
            </a:xfrm>
          </p:grpSpPr>
          <p:pic>
            <p:nvPicPr>
              <p:cNvPr id="438" name="圆角矩形 9" descr=""/>
              <p:cNvPicPr/>
              <p:nvPr/>
            </p:nvPicPr>
            <p:blipFill>
              <a:blip r:embed="rId1"/>
              <a:stretch/>
            </p:blipFill>
            <p:spPr>
              <a:xfrm>
                <a:off x="946080" y="1179720"/>
                <a:ext cx="10321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992880" y="1222200"/>
                <a:ext cx="9406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40" name="任意多边形 10" descr=""/>
            <p:cNvPicPr/>
            <p:nvPr/>
          </p:nvPicPr>
          <p:blipFill>
            <a:blip r:embed="rId2"/>
            <a:stretch/>
          </p:blipFill>
          <p:spPr>
            <a:xfrm>
              <a:off x="1748160" y="1168560"/>
              <a:ext cx="299052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示 7" descr=""/>
          <p:cNvPicPr/>
          <p:nvPr/>
        </p:nvPicPr>
        <p:blipFill>
          <a:blip r:embed="rId1"/>
          <a:stretch/>
        </p:blipFill>
        <p:spPr>
          <a:xfrm>
            <a:off x="676440" y="1096920"/>
            <a:ext cx="3090600" cy="1055880"/>
          </a:xfrm>
          <a:prstGeom prst="rect">
            <a:avLst/>
          </a:prstGeom>
          <a:ln w="0">
            <a:noFill/>
          </a:ln>
        </p:spPr>
      </p:pic>
      <p:sp>
        <p:nvSpPr>
          <p:cNvPr id="442" name="矩形 11"/>
          <p:cNvSpPr/>
          <p:nvPr/>
        </p:nvSpPr>
        <p:spPr>
          <a:xfrm>
            <a:off x="696960" y="2479680"/>
            <a:ext cx="775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后，你感受到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11"/>
          <p:cNvSpPr/>
          <p:nvPr/>
        </p:nvSpPr>
        <p:spPr>
          <a:xfrm>
            <a:off x="1144440" y="333360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们从读中感受到了教育智慧地重要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5" name="文本框 17"/>
          <p:cNvSpPr/>
          <p:nvPr/>
        </p:nvSpPr>
        <p:spPr>
          <a:xfrm>
            <a:off x="2864160" y="1281240"/>
            <a:ext cx="3415320" cy="490680"/>
          </a:xfrm>
          <a:prstGeom prst="pie">
            <a:avLst/>
          </a:prstGeom>
          <a:solidFill>
            <a:srgbClr val="deebf7"/>
          </a:solidFill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点拨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“课后练习单”的“基础知识练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3"/>
          <p:cNvSpPr/>
          <p:nvPr/>
        </p:nvSpPr>
        <p:spPr>
          <a:xfrm>
            <a:off x="826920" y="212256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是聪明小裁判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选择加点字的正确读音打“√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ā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"/>
          <p:cNvSpPr/>
          <p:nvPr/>
        </p:nvSpPr>
        <p:spPr>
          <a:xfrm>
            <a:off x="1464840" y="3065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郊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2"/>
          <p:cNvSpPr/>
          <p:nvPr/>
        </p:nvSpPr>
        <p:spPr>
          <a:xfrm>
            <a:off x="4936680" y="306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广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3"/>
          <p:cNvSpPr/>
          <p:nvPr/>
        </p:nvSpPr>
        <p:spPr>
          <a:xfrm>
            <a:off x="4955760" y="416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跨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4"/>
          <p:cNvSpPr/>
          <p:nvPr/>
        </p:nvSpPr>
        <p:spPr>
          <a:xfrm>
            <a:off x="1482480" y="412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骑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左大括号 5"/>
          <p:cNvSpPr/>
          <p:nvPr/>
        </p:nvSpPr>
        <p:spPr>
          <a:xfrm>
            <a:off x="2181240" y="2924280"/>
            <a:ext cx="46080" cy="79200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000"/>
              <a:gd name="textAreaBottom" fmla="*/ 7909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5"/>
                </a:cubicBezTo>
                <a:lnTo>
                  <a:pt x="10800" y="10695"/>
                </a:lnTo>
                <a:cubicBezTo>
                  <a:pt x="10800" y="10748"/>
                  <a:pt x="5400" y="10800"/>
                  <a:pt x="0" y="10800"/>
                </a:cubicBezTo>
                <a:cubicBezTo>
                  <a:pt x="5400" y="10800"/>
                  <a:pt x="10800" y="10853"/>
                  <a:pt x="10800" y="10905"/>
                </a:cubicBezTo>
                <a:lnTo>
                  <a:pt x="10800" y="21495"/>
                </a:lnTo>
                <a:cubicBezTo>
                  <a:pt x="10800" y="2154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左大括号 14"/>
          <p:cNvSpPr/>
          <p:nvPr/>
        </p:nvSpPr>
        <p:spPr>
          <a:xfrm>
            <a:off x="5640480" y="2938320"/>
            <a:ext cx="44280" cy="792360"/>
          </a:xfrm>
          <a:custGeom>
            <a:avLst/>
            <a:gdLst>
              <a:gd name="textAreaLeft" fmla="*/ 28440 w 44280"/>
              <a:gd name="textAreaRight" fmla="*/ 44640 w 44280"/>
              <a:gd name="textAreaTop" fmla="*/ 1080 h 792360"/>
              <a:gd name="textAreaBottom" fmla="*/ 79128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"/>
                  <a:pt x="10800" y="101"/>
                </a:cubicBezTo>
                <a:lnTo>
                  <a:pt x="10800" y="10699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1"/>
                  <a:pt x="10800" y="10901"/>
                </a:cubicBezTo>
                <a:lnTo>
                  <a:pt x="10800" y="21499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左大括号 15"/>
          <p:cNvSpPr/>
          <p:nvPr/>
        </p:nvSpPr>
        <p:spPr>
          <a:xfrm>
            <a:off x="2157480" y="4037040"/>
            <a:ext cx="46080" cy="79200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000"/>
              <a:gd name="textAreaBottom" fmla="*/ 7909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5"/>
                </a:cubicBezTo>
                <a:lnTo>
                  <a:pt x="10800" y="10695"/>
                </a:lnTo>
                <a:cubicBezTo>
                  <a:pt x="10800" y="10748"/>
                  <a:pt x="5400" y="10800"/>
                  <a:pt x="0" y="10800"/>
                </a:cubicBezTo>
                <a:cubicBezTo>
                  <a:pt x="5400" y="10800"/>
                  <a:pt x="10800" y="10853"/>
                  <a:pt x="10800" y="10905"/>
                </a:cubicBezTo>
                <a:lnTo>
                  <a:pt x="10800" y="21495"/>
                </a:lnTo>
                <a:cubicBezTo>
                  <a:pt x="10800" y="2154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左大括号 16"/>
          <p:cNvSpPr/>
          <p:nvPr/>
        </p:nvSpPr>
        <p:spPr>
          <a:xfrm>
            <a:off x="5657760" y="4029120"/>
            <a:ext cx="46080" cy="79200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000"/>
              <a:gd name="textAreaBottom" fmla="*/ 7909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5"/>
                </a:cubicBezTo>
                <a:lnTo>
                  <a:pt x="10800" y="10695"/>
                </a:lnTo>
                <a:cubicBezTo>
                  <a:pt x="10800" y="10748"/>
                  <a:pt x="5400" y="10800"/>
                  <a:pt x="0" y="10800"/>
                </a:cubicBezTo>
                <a:cubicBezTo>
                  <a:pt x="5400" y="10800"/>
                  <a:pt x="10800" y="10853"/>
                  <a:pt x="10800" y="10905"/>
                </a:cubicBezTo>
                <a:lnTo>
                  <a:pt x="10800" y="21495"/>
                </a:lnTo>
                <a:cubicBezTo>
                  <a:pt x="10800" y="2154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"/>
          <p:cNvSpPr/>
          <p:nvPr/>
        </p:nvSpPr>
        <p:spPr>
          <a:xfrm>
            <a:off x="1419120" y="3111480"/>
            <a:ext cx="36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2"/>
          <p:cNvSpPr/>
          <p:nvPr/>
        </p:nvSpPr>
        <p:spPr>
          <a:xfrm>
            <a:off x="5213520" y="3103560"/>
            <a:ext cx="36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1433520" y="4175280"/>
            <a:ext cx="36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2"/>
          <p:cNvSpPr/>
          <p:nvPr/>
        </p:nvSpPr>
        <p:spPr>
          <a:xfrm>
            <a:off x="4903920" y="4194000"/>
            <a:ext cx="36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3188880" y="277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25"/>
          <p:cNvSpPr/>
          <p:nvPr/>
        </p:nvSpPr>
        <p:spPr>
          <a:xfrm>
            <a:off x="6544800" y="3335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矩形 26"/>
          <p:cNvSpPr/>
          <p:nvPr/>
        </p:nvSpPr>
        <p:spPr>
          <a:xfrm>
            <a:off x="2950560" y="388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矩形 27"/>
          <p:cNvSpPr/>
          <p:nvPr/>
        </p:nvSpPr>
        <p:spPr>
          <a:xfrm>
            <a:off x="6687720" y="4429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654520" y="4235400"/>
          <a:ext cx="288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3637080" y="2575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3637080" y="42354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547640" y="42354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矩形 3"/>
          <p:cNvSpPr/>
          <p:nvPr/>
        </p:nvSpPr>
        <p:spPr>
          <a:xfrm>
            <a:off x="971640" y="202248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pǐ               bō    wén          hǎo  xi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ēng   jǐng            yāo   qiú             liàn   liàn    bù    shě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矩形 17"/>
          <p:cNvSpPr/>
          <p:nvPr/>
        </p:nvSpPr>
        <p:spPr>
          <a:xfrm>
            <a:off x="906480" y="981000"/>
            <a:ext cx="79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，写词语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653080" y="25750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555920" y="2575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矩形 14"/>
          <p:cNvSpPr/>
          <p:nvPr/>
        </p:nvSpPr>
        <p:spPr>
          <a:xfrm>
            <a:off x="5721480" y="4289400"/>
            <a:ext cx="28494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恋 恋 不 舍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9"/>
          <p:cNvSpPr/>
          <p:nvPr/>
        </p:nvSpPr>
        <p:spPr>
          <a:xfrm>
            <a:off x="1671120" y="2611440"/>
            <a:ext cx="1213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 匹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10"/>
          <p:cNvSpPr/>
          <p:nvPr/>
        </p:nvSpPr>
        <p:spPr>
          <a:xfrm>
            <a:off x="3837960" y="2603520"/>
            <a:ext cx="102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 纹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矩形 11"/>
          <p:cNvSpPr/>
          <p:nvPr/>
        </p:nvSpPr>
        <p:spPr>
          <a:xfrm>
            <a:off x="5852520" y="2617920"/>
            <a:ext cx="102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 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3"/>
          <p:cNvSpPr/>
          <p:nvPr/>
        </p:nvSpPr>
        <p:spPr>
          <a:xfrm>
            <a:off x="1737720" y="4268880"/>
            <a:ext cx="102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 景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矩形 15"/>
          <p:cNvSpPr/>
          <p:nvPr/>
        </p:nvSpPr>
        <p:spPr>
          <a:xfrm>
            <a:off x="3837960" y="4275000"/>
            <a:ext cx="102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 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11"/>
          <p:cNvSpPr/>
          <p:nvPr/>
        </p:nvSpPr>
        <p:spPr>
          <a:xfrm>
            <a:off x="971640" y="166860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量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果园　　　　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溪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柳树      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枝条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        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3"/>
          <p:cNvSpPr/>
          <p:nvPr/>
        </p:nvSpPr>
        <p:spPr>
          <a:xfrm>
            <a:off x="563220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矩形 1"/>
          <p:cNvSpPr/>
          <p:nvPr/>
        </p:nvSpPr>
        <p:spPr>
          <a:xfrm>
            <a:off x="2247840" y="231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矩形 10"/>
          <p:cNvSpPr/>
          <p:nvPr/>
        </p:nvSpPr>
        <p:spPr>
          <a:xfrm>
            <a:off x="5618160" y="230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矩形 11"/>
          <p:cNvSpPr/>
          <p:nvPr/>
        </p:nvSpPr>
        <p:spPr>
          <a:xfrm>
            <a:off x="2247840" y="287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矩形 12"/>
          <p:cNvSpPr/>
          <p:nvPr/>
        </p:nvSpPr>
        <p:spPr>
          <a:xfrm>
            <a:off x="5618160" y="287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14"/>
          <p:cNvSpPr/>
          <p:nvPr/>
        </p:nvSpPr>
        <p:spPr>
          <a:xfrm>
            <a:off x="224784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7"/>
          <p:cNvSpPr/>
          <p:nvPr/>
        </p:nvSpPr>
        <p:spPr>
          <a:xfrm>
            <a:off x="900000" y="1158840"/>
            <a:ext cx="756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路的一边是田野，葱葱绿绿的，非常可爱，像一片柔软的绿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一边看，一边走，路已经走了不少，却还恋恋不舍，不想回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一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早回来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1"/>
          <p:cNvSpPr/>
          <p:nvPr/>
        </p:nvSpPr>
        <p:spPr>
          <a:xfrm>
            <a:off x="1994040" y="56484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济南的趵突泉太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矩形 3"/>
          <p:cNvSpPr/>
          <p:nvPr/>
        </p:nvSpPr>
        <p:spPr>
          <a:xfrm>
            <a:off x="1988280" y="289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满天的星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4"/>
          <p:cNvSpPr/>
          <p:nvPr/>
        </p:nvSpPr>
        <p:spPr>
          <a:xfrm>
            <a:off x="4181400" y="2903400"/>
            <a:ext cx="33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双双明亮的眼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5"/>
          <p:cNvSpPr/>
          <p:nvPr/>
        </p:nvSpPr>
        <p:spPr>
          <a:xfrm>
            <a:off x="1785600" y="453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奶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6"/>
          <p:cNvSpPr/>
          <p:nvPr/>
        </p:nvSpPr>
        <p:spPr>
          <a:xfrm>
            <a:off x="3763440" y="4540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叮嘱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矩形 8"/>
          <p:cNvSpPr/>
          <p:nvPr/>
        </p:nvSpPr>
        <p:spPr>
          <a:xfrm>
            <a:off x="6474600" y="4537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给我穿衣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示 4" descr=""/>
          <p:cNvPicPr/>
          <p:nvPr/>
        </p:nvPicPr>
        <p:blipFill>
          <a:blip r:embed="rId1"/>
          <a:stretch/>
        </p:blipFill>
        <p:spPr>
          <a:xfrm>
            <a:off x="878040" y="1096920"/>
            <a:ext cx="3090600" cy="105588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1008000" y="2638440"/>
            <a:ext cx="645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、会写本课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初步感知文意，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"/>
          <p:cNvSpPr/>
          <p:nvPr/>
        </p:nvSpPr>
        <p:spPr>
          <a:xfrm>
            <a:off x="826920" y="17683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课文学得怎么样，把空填上才算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沿着一条小河走。河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，微风吹过，泛起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河岸上垂下来的柳叶，拂过妈妈和爸爸的头发，我和妹妹看着都笑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14"/>
          <p:cNvSpPr/>
          <p:nvPr/>
        </p:nvSpPr>
        <p:spPr>
          <a:xfrm>
            <a:off x="3383280" y="29811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层层波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2"/>
          <p:cNvSpPr/>
          <p:nvPr/>
        </p:nvSpPr>
        <p:spPr>
          <a:xfrm>
            <a:off x="5925600" y="2417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碧绿碧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5400000"/>
          </a:gradFill>
          <a:ln w="648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497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498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3672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7768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3016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流程图: 摘录 25"/>
            <p:cNvSpPr/>
            <p:nvPr/>
          </p:nvSpPr>
          <p:spPr>
            <a:xfrm rot="5400000">
              <a:off x="2749320" y="5916600"/>
              <a:ext cx="167760" cy="21492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流程图: 摘录 40"/>
            <p:cNvSpPr/>
            <p:nvPr/>
          </p:nvSpPr>
          <p:spPr>
            <a:xfrm rot="5400000">
              <a:off x="4476600" y="5916600"/>
              <a:ext cx="167760" cy="21492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流程图: 摘录 41"/>
            <p:cNvSpPr/>
            <p:nvPr/>
          </p:nvSpPr>
          <p:spPr>
            <a:xfrm rot="5400000">
              <a:off x="6237720" y="5916600"/>
              <a:ext cx="167760" cy="21492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组合 13338"/>
          <p:cNvGrpSpPr/>
          <p:nvPr/>
        </p:nvGrpSpPr>
        <p:grpSpPr>
          <a:xfrm>
            <a:off x="1730520" y="905040"/>
            <a:ext cx="6851520" cy="1180800"/>
            <a:chOff x="1730520" y="905040"/>
            <a:chExt cx="6851520" cy="1180800"/>
          </a:xfrm>
        </p:grpSpPr>
        <p:sp>
          <p:nvSpPr>
            <p:cNvPr id="506" name="Text Box 2"/>
            <p:cNvSpPr/>
            <p:nvPr/>
          </p:nvSpPr>
          <p:spPr>
            <a:xfrm>
              <a:off x="2950200" y="1013760"/>
              <a:ext cx="56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一匹出色的马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7" name="组合 13337"/>
            <p:cNvGrpSpPr/>
            <p:nvPr/>
          </p:nvGrpSpPr>
          <p:grpSpPr>
            <a:xfrm>
              <a:off x="1730520" y="905040"/>
              <a:ext cx="1181160" cy="1180800"/>
              <a:chOff x="1730520" y="905040"/>
              <a:chExt cx="1181160" cy="1180800"/>
            </a:xfrm>
          </p:grpSpPr>
          <p:sp>
            <p:nvSpPr>
              <p:cNvPr id="508" name="AutoShape 11"/>
              <p:cNvSpPr/>
              <p:nvPr/>
            </p:nvSpPr>
            <p:spPr>
              <a:xfrm>
                <a:off x="173052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文本框 13"/>
              <p:cNvSpPr/>
              <p:nvPr/>
            </p:nvSpPr>
            <p:spPr>
              <a:xfrm>
                <a:off x="2021400" y="105048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7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10" name="Picture 24" descr=""/>
          <p:cNvPicPr/>
          <p:nvPr/>
        </p:nvPicPr>
        <p:blipFill>
          <a:blip r:embed="rId7"/>
          <a:stretch/>
        </p:blipFill>
        <p:spPr>
          <a:xfrm>
            <a:off x="2243160" y="2335320"/>
            <a:ext cx="4743360" cy="3028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21"/>
          <p:cNvSpPr/>
          <p:nvPr/>
        </p:nvSpPr>
        <p:spPr>
          <a:xfrm>
            <a:off x="3092400" y="3295800"/>
            <a:ext cx="3133800" cy="83952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图片 46" descr="枫叶副本"/>
          <p:cNvPicPr/>
          <p:nvPr/>
        </p:nvPicPr>
        <p:blipFill>
          <a:blip r:embed="rId8"/>
          <a:stretch/>
        </p:blipFill>
        <p:spPr>
          <a:xfrm>
            <a:off x="3879720" y="3247920"/>
            <a:ext cx="1059120" cy="1014480"/>
          </a:xfrm>
          <a:prstGeom prst="rect">
            <a:avLst/>
          </a:prstGeom>
          <a:ln w="0">
            <a:noFill/>
          </a:ln>
        </p:spPr>
      </p:pic>
      <p:pic>
        <p:nvPicPr>
          <p:cNvPr id="513" name="矩形 23" descr=""/>
          <p:cNvPicPr/>
          <p:nvPr/>
        </p:nvPicPr>
        <p:blipFill>
          <a:blip r:embed="rId9"/>
          <a:stretch/>
        </p:blipFill>
        <p:spPr>
          <a:xfrm>
            <a:off x="2828880" y="3206880"/>
            <a:ext cx="37004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6"/>
          <p:cNvSpPr/>
          <p:nvPr/>
        </p:nvSpPr>
        <p:spPr>
          <a:xfrm>
            <a:off x="1028880" y="2627280"/>
            <a:ext cx="746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。背诵自己喜欢的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受父亲的教育智慧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图示 3" descr=""/>
          <p:cNvPicPr/>
          <p:nvPr/>
        </p:nvPicPr>
        <p:blipFill>
          <a:blip r:embed="rId1"/>
          <a:stretch/>
        </p:blipFill>
        <p:spPr>
          <a:xfrm>
            <a:off x="878040" y="1096920"/>
            <a:ext cx="3090600" cy="10558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内容占位符 2"/>
          <p:cNvSpPr/>
          <p:nvPr/>
        </p:nvSpPr>
        <p:spPr>
          <a:xfrm>
            <a:off x="841320" y="1838160"/>
            <a:ext cx="7532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课文中，你受到了什么启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“一匹出色的马”指的是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描写妹妹变化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一想妹妹为什么会有这样的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四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说“这是一匹出色的马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792000" y="1058760"/>
            <a:ext cx="37674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组合 31"/>
          <p:cNvGrpSpPr/>
          <p:nvPr/>
        </p:nvGrpSpPr>
        <p:grpSpPr>
          <a:xfrm>
            <a:off x="1122480" y="4971960"/>
            <a:ext cx="7165800" cy="1208160"/>
            <a:chOff x="1122480" y="4971960"/>
            <a:chExt cx="7165800" cy="1208160"/>
          </a:xfrm>
        </p:grpSpPr>
        <p:sp>
          <p:nvSpPr>
            <p:cNvPr id="521" name="单圆角矩形 33"/>
            <p:cNvSpPr/>
            <p:nvPr/>
          </p:nvSpPr>
          <p:spPr>
            <a:xfrm>
              <a:off x="2119320" y="5217840"/>
              <a:ext cx="6168960" cy="860400"/>
            </a:xfrm>
            <a:prstGeom prst="pie">
              <a:avLst/>
            </a:prstGeom>
            <a:noFill/>
            <a:ln w="12600">
              <a:solidFill>
                <a:srgbClr val="d6dc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0600" rIns="120600" tIns="120600" bIns="120600" anchor="ctr">
              <a:noAutofit/>
            </a:bodyPr>
            <a:p>
              <a:pPr lvl="1" marL="17460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从课文中，你受到了什么启发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32"/>
            <p:cNvSpPr/>
            <p:nvPr/>
          </p:nvSpPr>
          <p:spPr>
            <a:xfrm>
              <a:off x="1122480" y="4971960"/>
              <a:ext cx="1170000" cy="1208160"/>
            </a:xfrm>
            <a:prstGeom prst="pie">
              <a:avLst/>
            </a:prstGeom>
            <a:solidFill>
              <a:srgbClr val="adb9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920" rIns="187920" tIns="216000" bIns="2307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边听边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图文框 38"/>
          <p:cNvSpPr/>
          <p:nvPr/>
        </p:nvSpPr>
        <p:spPr>
          <a:xfrm>
            <a:off x="2335320" y="1216080"/>
            <a:ext cx="4473360" cy="906480"/>
          </a:xfrm>
          <a:prstGeom prst="pie">
            <a:avLst/>
          </a:prstGeom>
          <a:solidFill>
            <a:srgbClr val="deebf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1440" rIns="181440" tIns="181440" bIns="18144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录音回顾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7" descr=""/>
          <p:cNvPicPr/>
          <p:nvPr/>
        </p:nvPicPr>
        <p:blipFill>
          <a:blip r:embed="rId1"/>
          <a:stretch/>
        </p:blipFill>
        <p:spPr>
          <a:xfrm>
            <a:off x="2019240" y="2181240"/>
            <a:ext cx="51037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"/>
          <p:cNvSpPr/>
          <p:nvPr/>
        </p:nvSpPr>
        <p:spPr>
          <a:xfrm>
            <a:off x="709560" y="1484280"/>
            <a:ext cx="77104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沿着一条小河走。河水碧绿碧绿的，微风吹过，泛起层层波纹。河岸上垂下来的柳叶，拂过妈妈和爸爸的头发，我和妹妹看着都笑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27" name="任意多边形 6"/>
          <p:cNvSpPr/>
          <p:nvPr/>
        </p:nvSpPr>
        <p:spPr>
          <a:xfrm>
            <a:off x="689040" y="330516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是什么描写？你感受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7"/>
          <p:cNvSpPr/>
          <p:nvPr/>
        </p:nvSpPr>
        <p:spPr>
          <a:xfrm>
            <a:off x="1031760" y="392256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这些环境描写中让我们感到这里的景色很美，衬托出一家人其乐融融的氛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圆角矩形 2"/>
          <p:cNvSpPr/>
          <p:nvPr/>
        </p:nvSpPr>
        <p:spPr>
          <a:xfrm>
            <a:off x="5635440" y="2639880"/>
            <a:ext cx="962640" cy="5094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环境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2"/>
          <p:cNvSpPr/>
          <p:nvPr/>
        </p:nvSpPr>
        <p:spPr>
          <a:xfrm>
            <a:off x="860400" y="177336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路的一边是田野，葱葱绿绿的，非常可爱，像一片柔软的绿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6"/>
          <p:cNvSpPr/>
          <p:nvPr/>
        </p:nvSpPr>
        <p:spPr>
          <a:xfrm>
            <a:off x="689040" y="311616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自然段用到了什么修辞方法？有什么好处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1076400" y="38354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自然段用到了比喻的修辞方法，把“田野”比作“绿毯”生动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"/>
          <p:cNvSpPr/>
          <p:nvPr/>
        </p:nvSpPr>
        <p:spPr>
          <a:xfrm>
            <a:off x="1092240" y="1812960"/>
            <a:ext cx="7531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65a"/>
                </a:solidFill>
                <a:latin typeface="黑体"/>
                <a:ea typeface="黑体"/>
              </a:rPr>
              <a:t>仿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24" descr="花盆.png"/>
          <p:cNvPicPr/>
          <p:nvPr/>
        </p:nvPicPr>
        <p:blipFill>
          <a:blip r:embed="rId1"/>
          <a:stretch/>
        </p:blipFill>
        <p:spPr>
          <a:xfrm>
            <a:off x="860400" y="2031840"/>
            <a:ext cx="322200" cy="368640"/>
          </a:xfrm>
          <a:prstGeom prst="rect">
            <a:avLst/>
          </a:prstGeom>
          <a:ln w="0">
            <a:noFill/>
          </a:ln>
        </p:spPr>
      </p:pic>
      <p:sp>
        <p:nvSpPr>
          <p:cNvPr id="535" name="矩形 2"/>
          <p:cNvSpPr/>
          <p:nvPr/>
        </p:nvSpPr>
        <p:spPr>
          <a:xfrm>
            <a:off x="1814400" y="331164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弯弯的小河像一条银色的带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1762200" y="259380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照样子，写句子。注意用上“像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2"/>
          <p:cNvSpPr/>
          <p:nvPr/>
        </p:nvSpPr>
        <p:spPr>
          <a:xfrm>
            <a:off x="754200" y="183204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春天的郊外，景色异常美丽。我们一边看，一边走，路已经走了不少，却还恋恋不舍，不想回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任意多边形 4"/>
          <p:cNvSpPr/>
          <p:nvPr/>
        </p:nvSpPr>
        <p:spPr>
          <a:xfrm>
            <a:off x="689040" y="313056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“恋恋不舍” 中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5"/>
          <p:cNvSpPr/>
          <p:nvPr/>
        </p:nvSpPr>
        <p:spPr>
          <a:xfrm>
            <a:off x="1062000" y="38354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恋恋不舍”写了我们当时不愿意回去，更突出了这里的景色很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听英语.png"/>
          <p:cNvPicPr/>
          <p:nvPr/>
        </p:nvPicPr>
        <p:blipFill>
          <a:blip r:embed="rId1"/>
          <a:stretch/>
        </p:blipFill>
        <p:spPr>
          <a:xfrm>
            <a:off x="5111640" y="1409760"/>
            <a:ext cx="2489400" cy="4165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19"/>
          <p:cNvGrpSpPr/>
          <p:nvPr/>
        </p:nvGrpSpPr>
        <p:grpSpPr>
          <a:xfrm>
            <a:off x="1685880" y="1745280"/>
            <a:ext cx="2851200" cy="3549960"/>
            <a:chOff x="1685880" y="1745280"/>
            <a:chExt cx="2851200" cy="3549960"/>
          </a:xfrm>
        </p:grpSpPr>
        <p:sp>
          <p:nvSpPr>
            <p:cNvPr id="83" name="Oval 677"/>
            <p:cNvSpPr/>
            <p:nvPr/>
          </p:nvSpPr>
          <p:spPr>
            <a:xfrm rot="21274800">
              <a:off x="1955160" y="1848960"/>
              <a:ext cx="2308320" cy="2311560"/>
            </a:xfrm>
            <a:prstGeom prst="ellipse">
              <a:avLst/>
            </a:prstGeom>
            <a:gradFill rotWithShape="0">
              <a:gsLst>
                <a:gs pos="0">
                  <a:srgbClr val="eea420"/>
                </a:gs>
                <a:gs pos="100000">
                  <a:srgbClr val="df6421"/>
                </a:gs>
              </a:gsLst>
              <a:lin ang="57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510"/>
            <p:cNvSpPr/>
            <p:nvPr/>
          </p:nvSpPr>
          <p:spPr>
            <a:xfrm>
              <a:off x="2069640" y="3324240"/>
              <a:ext cx="2086920" cy="744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512"/>
            <p:cNvSpPr/>
            <p:nvPr/>
          </p:nvSpPr>
          <p:spPr>
            <a:xfrm>
              <a:off x="2374200" y="2090520"/>
              <a:ext cx="615600" cy="62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513"/>
            <p:cNvSpPr/>
            <p:nvPr/>
          </p:nvSpPr>
          <p:spPr>
            <a:xfrm>
              <a:off x="1685880" y="3479400"/>
              <a:ext cx="2838240" cy="1815840"/>
            </a:xfrm>
            <a:prstGeom prst="roundRect">
              <a:avLst>
                <a:gd name="adj" fmla="val 5801"/>
              </a:avLst>
            </a:prstGeom>
            <a:solidFill>
              <a:srgbClr val="ffffff"/>
            </a:solidFill>
            <a:ln w="57240">
              <a:solidFill>
                <a:srgbClr val="f69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6"/>
            <p:cNvSpPr/>
            <p:nvPr/>
          </p:nvSpPr>
          <p:spPr>
            <a:xfrm>
              <a:off x="2276280" y="2236680"/>
              <a:ext cx="1879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Adobe 黑体 Std R"/>
                  <a:ea typeface="Adobe 黑体 Std R"/>
                </a:rPr>
                <a:t>   </a:t>
              </a: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点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听朗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组 53"/>
            <p:cNvGrpSpPr/>
            <p:nvPr/>
          </p:nvGrpSpPr>
          <p:grpSpPr>
            <a:xfrm>
              <a:off x="2303640" y="2147040"/>
              <a:ext cx="655200" cy="655200"/>
              <a:chOff x="2303640" y="2147040"/>
              <a:chExt cx="655200" cy="655200"/>
            </a:xfrm>
          </p:grpSpPr>
          <p:sp>
            <p:nvSpPr>
              <p:cNvPr id="89" name="椭圆 26"/>
              <p:cNvSpPr/>
              <p:nvPr/>
            </p:nvSpPr>
            <p:spPr>
              <a:xfrm>
                <a:off x="2579400" y="2298240"/>
                <a:ext cx="208080" cy="2077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" name="图片 10" descr=""/>
              <p:cNvPicPr/>
              <p:nvPr/>
            </p:nvPicPr>
            <p:blipFill>
              <a:blip r:embed="rId3"/>
              <a:stretch/>
            </p:blipFill>
            <p:spPr>
              <a:xfrm rot="2700000">
                <a:off x="2434320" y="2207880"/>
                <a:ext cx="39348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矩形 11"/>
            <p:cNvSpPr/>
            <p:nvPr/>
          </p:nvSpPr>
          <p:spPr>
            <a:xfrm>
              <a:off x="1689840" y="3492720"/>
              <a:ext cx="28472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4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听范读，边听边画出课文中的生字词。同时认准字音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理解诗词意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23"/>
          <p:cNvSpPr/>
          <p:nvPr/>
        </p:nvSpPr>
        <p:spPr>
          <a:xfrm>
            <a:off x="912960" y="2595600"/>
            <a:ext cx="7448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恋恋不舍”前两个字相同，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A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词语，这种词语很多，如：勃勃生机、落落大方、夸夸其谈等，我们要学习积累和运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组合 9"/>
          <p:cNvGrpSpPr/>
          <p:nvPr/>
        </p:nvGrpSpPr>
        <p:grpSpPr>
          <a:xfrm>
            <a:off x="738360" y="1515960"/>
            <a:ext cx="8102520" cy="835200"/>
            <a:chOff x="738360" y="1515960"/>
            <a:chExt cx="8102520" cy="835200"/>
          </a:xfrm>
        </p:grpSpPr>
        <p:sp>
          <p:nvSpPr>
            <p:cNvPr id="542" name="矩形 1"/>
            <p:cNvSpPr/>
            <p:nvPr/>
          </p:nvSpPr>
          <p:spPr>
            <a:xfrm>
              <a:off x="3816720" y="1552680"/>
              <a:ext cx="5024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识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ABC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式词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3" name="Picture 6" descr=""/>
            <p:cNvPicPr/>
            <p:nvPr/>
          </p:nvPicPr>
          <p:blipFill>
            <a:blip r:embed="rId1"/>
            <a:stretch/>
          </p:blipFill>
          <p:spPr>
            <a:xfrm>
              <a:off x="738360" y="1515960"/>
              <a:ext cx="307836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2"/>
          <p:cNvSpPr/>
          <p:nvPr/>
        </p:nvSpPr>
        <p:spPr>
          <a:xfrm>
            <a:off x="669960" y="1398600"/>
            <a:ext cx="762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妹妹转过头求爸爸。爸爸不作声，他松开我的手，从路旁一株柳树下，拾起一根又长又细的枝条，把它递给了妹妹，说：“这是一匹出色的马，你走不动了，就骑着它回家吧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任意多边形 5"/>
          <p:cNvSpPr/>
          <p:nvPr/>
        </p:nvSpPr>
        <p:spPr>
          <a:xfrm>
            <a:off x="658800" y="311616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964"/>
              </a:spcAft>
              <a:buSzPct val="102909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你从爸爸的话语中体会出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6"/>
          <p:cNvSpPr/>
          <p:nvPr/>
        </p:nvSpPr>
        <p:spPr>
          <a:xfrm>
            <a:off x="1046160" y="383544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爸爸的话充满了启发和激励。把一根柳条比作一匹出色的马，符合孩子们的心里，让妹妹自己骑着它回家迎合了小孩子好奇心很强的特点，同时按时妹妹要学会自己克服困难。这句话蕴含了父亲的教育智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7"/>
          <p:cNvSpPr/>
          <p:nvPr/>
        </p:nvSpPr>
        <p:spPr>
          <a:xfrm>
            <a:off x="1046160" y="361800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跨”和“蹦蹦跳跳”写出了妹妹高兴地接受了爸爸的建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2"/>
          <p:cNvSpPr/>
          <p:nvPr/>
        </p:nvSpPr>
        <p:spPr>
          <a:xfrm>
            <a:off x="831960" y="18907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妹妹高兴地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“马”，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蹦蹦跳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地奔向前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任意多边形 6"/>
          <p:cNvSpPr/>
          <p:nvPr/>
        </p:nvSpPr>
        <p:spPr>
          <a:xfrm>
            <a:off x="658800" y="281160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964"/>
              </a:spcAft>
              <a:buSzPct val="102909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你从“跨”和“蹦蹦跳跳” 体会出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2"/>
          <p:cNvSpPr/>
          <p:nvPr/>
        </p:nvSpPr>
        <p:spPr>
          <a:xfrm>
            <a:off x="711360" y="171612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等我们回到家时，她已经在门口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接我们，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笑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说：“我早回来啦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4"/>
          <p:cNvSpPr/>
          <p:nvPr/>
        </p:nvSpPr>
        <p:spPr>
          <a:xfrm>
            <a:off x="1046160" y="382104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迎接”“笑”可以看出此时妹妹不但自己回到了家，而且非常高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5"/>
          <p:cNvSpPr/>
          <p:nvPr/>
        </p:nvSpPr>
        <p:spPr>
          <a:xfrm>
            <a:off x="658800" y="301464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964"/>
              </a:spcAft>
              <a:buSzPct val="102909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迎接”“笑”可以看出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2"/>
          <p:cNvSpPr/>
          <p:nvPr/>
        </p:nvSpPr>
        <p:spPr>
          <a:xfrm>
            <a:off x="804960" y="2089080"/>
            <a:ext cx="753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文本，感受到了爸爸的教育智慧。让我们拿起金钥匙开启智慧之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"/>
          <p:cNvSpPr/>
          <p:nvPr/>
        </p:nvSpPr>
        <p:spPr>
          <a:xfrm>
            <a:off x="1119240" y="3532320"/>
            <a:ext cx="75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课文中，我懂得了教育智慧的重要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977760" y="2754360"/>
            <a:ext cx="74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课文中，你受到了什么启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内容占位符 2"/>
          <p:cNvSpPr/>
          <p:nvPr/>
        </p:nvSpPr>
        <p:spPr>
          <a:xfrm>
            <a:off x="72720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“一匹出色的马”指的是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1"/>
          <p:cNvSpPr/>
          <p:nvPr/>
        </p:nvSpPr>
        <p:spPr>
          <a:xfrm>
            <a:off x="1123920" y="32115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中“一匹出色的马”其实就是一根又长又细的枝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内容占位符 2"/>
          <p:cNvSpPr/>
          <p:nvPr/>
        </p:nvSpPr>
        <p:spPr>
          <a:xfrm>
            <a:off x="738360" y="1446120"/>
            <a:ext cx="78469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描写妹妹变化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1"/>
          <p:cNvSpPr/>
          <p:nvPr/>
        </p:nvSpPr>
        <p:spPr>
          <a:xfrm>
            <a:off x="905040" y="226368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当我们往回走的时候，妹妹求妈妈抱她：“我很累，走不动了，抱抱我。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妹妹高兴地跨上“马”，蹦蹦跳跳地奔向前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等我们回到家时，她已经在门口迎接我们，笑着说：“我早回来啦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内容占位符 2"/>
          <p:cNvSpPr/>
          <p:nvPr/>
        </p:nvSpPr>
        <p:spPr>
          <a:xfrm>
            <a:off x="804960" y="181764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一想妹妹为什么会有这样的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1"/>
          <p:cNvSpPr/>
          <p:nvPr/>
        </p:nvSpPr>
        <p:spPr>
          <a:xfrm>
            <a:off x="1190520" y="2568600"/>
            <a:ext cx="70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爸爸从路旁一株柳树下，拾起一根又长又细的枝条，把它递给了妹妹，说：“这是一匹出色的马，你走不动了，就骑着它回家吧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内容占位符 2"/>
          <p:cNvSpPr/>
          <p:nvPr/>
        </p:nvSpPr>
        <p:spPr>
          <a:xfrm>
            <a:off x="747720" y="1706400"/>
            <a:ext cx="76453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四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说“这是一匹出色的马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1"/>
          <p:cNvSpPr/>
          <p:nvPr/>
        </p:nvSpPr>
        <p:spPr>
          <a:xfrm>
            <a:off x="1152360" y="24876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妹妹把它当成了一匹真正的马，忘记了疲劳，“骑”着它回家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5"/>
          <p:cNvGrpSpPr/>
          <p:nvPr/>
        </p:nvGrpSpPr>
        <p:grpSpPr>
          <a:xfrm>
            <a:off x="971640" y="1376280"/>
            <a:ext cx="7149960" cy="4519800"/>
            <a:chOff x="971640" y="1376280"/>
            <a:chExt cx="7149960" cy="4519800"/>
          </a:xfrm>
        </p:grpSpPr>
        <p:pic>
          <p:nvPicPr>
            <p:cNvPr id="93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971640" y="1376280"/>
              <a:ext cx="7149960" cy="45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任意多边形 7"/>
            <p:cNvSpPr/>
            <p:nvPr/>
          </p:nvSpPr>
          <p:spPr>
            <a:xfrm>
              <a:off x="1133640" y="2626200"/>
              <a:ext cx="6814080" cy="2957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请同学们自由朗读课文，努力读准字音、读通句子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想一想：课文主要写了什么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26"/>
          <p:cNvSpPr/>
          <p:nvPr/>
        </p:nvSpPr>
        <p:spPr>
          <a:xfrm>
            <a:off x="997560" y="359496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一匹出色的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左大括号 6"/>
          <p:cNvSpPr/>
          <p:nvPr/>
        </p:nvSpPr>
        <p:spPr>
          <a:xfrm>
            <a:off x="1695600" y="2255760"/>
            <a:ext cx="314280" cy="3238560"/>
          </a:xfrm>
          <a:custGeom>
            <a:avLst/>
            <a:gdLst>
              <a:gd name="textAreaLeft" fmla="*/ 200880 w 314280"/>
              <a:gd name="textAreaRight" fmla="*/ 314640 w 314280"/>
              <a:gd name="textAreaTop" fmla="*/ 7920 h 3238560"/>
              <a:gd name="textAreaBottom" fmla="*/ 323064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28"/>
          <p:cNvSpPr/>
          <p:nvPr/>
        </p:nvSpPr>
        <p:spPr>
          <a:xfrm>
            <a:off x="1749600" y="3516480"/>
            <a:ext cx="20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同做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要大人抱）  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3"/>
          <p:cNvSpPr/>
          <p:nvPr/>
        </p:nvSpPr>
        <p:spPr>
          <a:xfrm>
            <a:off x="3821040" y="3281400"/>
            <a:ext cx="395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妈妈 拒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爸爸 给了“一匹出色的马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4"/>
          <p:cNvSpPr/>
          <p:nvPr/>
        </p:nvSpPr>
        <p:spPr>
          <a:xfrm>
            <a:off x="1938240" y="48610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卖泥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8160" cy="69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3" name="组合 3"/>
          <p:cNvGrpSpPr/>
          <p:nvPr/>
        </p:nvGrpSpPr>
        <p:grpSpPr>
          <a:xfrm>
            <a:off x="558720" y="1165320"/>
            <a:ext cx="2594160" cy="666720"/>
            <a:chOff x="558720" y="1165320"/>
            <a:chExt cx="2594160" cy="666720"/>
          </a:xfrm>
        </p:grpSpPr>
        <p:sp>
          <p:nvSpPr>
            <p:cNvPr id="574" name="圆角矩形 16"/>
            <p:cNvSpPr/>
            <p:nvPr/>
          </p:nvSpPr>
          <p:spPr>
            <a:xfrm>
              <a:off x="1374840" y="13032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653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文本框 16"/>
            <p:cNvSpPr/>
            <p:nvPr/>
          </p:nvSpPr>
          <p:spPr>
            <a:xfrm>
              <a:off x="1634040" y="1322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左大括号 19"/>
          <p:cNvSpPr/>
          <p:nvPr/>
        </p:nvSpPr>
        <p:spPr>
          <a:xfrm>
            <a:off x="3684600" y="3405240"/>
            <a:ext cx="198360" cy="103968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1039680"/>
              <a:gd name="textAreaBottom" fmla="*/ 1034640 h 103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左大括号 15"/>
          <p:cNvSpPr/>
          <p:nvPr/>
        </p:nvSpPr>
        <p:spPr>
          <a:xfrm rot="10800000">
            <a:off x="7772040" y="2365200"/>
            <a:ext cx="250920" cy="3238560"/>
          </a:xfrm>
          <a:custGeom>
            <a:avLst/>
            <a:gdLst>
              <a:gd name="textAreaLeft" fmla="*/ 160200 w 250920"/>
              <a:gd name="textAreaRight" fmla="*/ 251280 w 250920"/>
              <a:gd name="textAreaTop" fmla="*/ 6480 h 3238560"/>
              <a:gd name="textAreaBottom" fmla="*/ 323208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"/>
                  <a:pt x="10800" y="139"/>
                </a:cubicBezTo>
                <a:lnTo>
                  <a:pt x="10800" y="10661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70"/>
                  <a:pt x="10800" y="10939"/>
                </a:cubicBezTo>
                <a:lnTo>
                  <a:pt x="10800" y="21461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0"/>
          <p:cNvSpPr/>
          <p:nvPr/>
        </p:nvSpPr>
        <p:spPr>
          <a:xfrm>
            <a:off x="2193120" y="225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留恋美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21"/>
          <p:cNvSpPr/>
          <p:nvPr/>
        </p:nvSpPr>
        <p:spPr>
          <a:xfrm>
            <a:off x="8098200" y="293832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内容占位符 2"/>
          <p:cNvSpPr/>
          <p:nvPr/>
        </p:nvSpPr>
        <p:spPr>
          <a:xfrm>
            <a:off x="923760" y="241308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了一家四口到郊外散步，大家走不动时，妹妹求爸爸妈妈抱，妈妈拒绝，爸爸让她骑着出色地马回家的故事。这个故事告诉我们教育孩子需要教育智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58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4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1"/>
          <p:cNvSpPr/>
          <p:nvPr/>
        </p:nvSpPr>
        <p:spPr>
          <a:xfrm>
            <a:off x="1000080" y="1674720"/>
            <a:ext cx="755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爱发脾气的孩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有个男孩儿，脾气很不好，不管遇到什么事，有不顺心，就大发雷霆。虽然事情过后，他也能认识到自己的错误，向别人道歉，但是，他的朋友还是越来越少。爸爸对他的这个缺点提出了批评，他却满不在乎地说：“我不是已经道歉了吗？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天，爸爸交给他一盒钉子和一把锤子，然后把他领到院子里的一个木桩前，说：“下次你再要发脾气，就往这个木桩上钉一颗钉子，等你想道歉了，再把这颗钉子拔出来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男孩儿不理解爸爸的用意，不过还是点了点头。很快，爸爸看到木桩上钉了很多钉子。过了一段时间，爸爸发现新钉的钉子少了，开始有了拔出钉子留下的洞。到后来，几个星期才有一颗新钉子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880" cy="601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8" name="组合 3"/>
          <p:cNvGrpSpPr/>
          <p:nvPr/>
        </p:nvGrpSpPr>
        <p:grpSpPr>
          <a:xfrm>
            <a:off x="544680" y="1030320"/>
            <a:ext cx="2593800" cy="666720"/>
            <a:chOff x="544680" y="1030320"/>
            <a:chExt cx="2593800" cy="666720"/>
          </a:xfrm>
        </p:grpSpPr>
        <p:sp>
          <p:nvSpPr>
            <p:cNvPr id="589" name="圆角矩形 7"/>
            <p:cNvSpPr/>
            <p:nvPr/>
          </p:nvSpPr>
          <p:spPr>
            <a:xfrm>
              <a:off x="1360440" y="11682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44680" y="10303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文本框 16"/>
            <p:cNvSpPr/>
            <p:nvPr/>
          </p:nvSpPr>
          <p:spPr>
            <a:xfrm>
              <a:off x="1620000" y="118728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1"/>
          <p:cNvSpPr/>
          <p:nvPr/>
        </p:nvSpPr>
        <p:spPr>
          <a:xfrm>
            <a:off x="738360" y="1181160"/>
            <a:ext cx="755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终于有一天，男孩儿来到爸爸面前，把当初爸爸交给他的钉子和锤子还给了爸爸。他说：“爸爸，我已经不需要这些东西了，我现在可以控制自己，不再乱发脾气了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爸爸让男孩儿讲一讲原因。男孩儿说：“当我拔出第一颗钉子的时候，看到一个那么深的洞，再也填不平，我的心受到很大的震动。以后每钉一颗钉子，我心里都非常难受，因为我知道，这又是一个无法填平的洞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图片 3" descr=""/>
          <p:cNvPicPr/>
          <p:nvPr/>
        </p:nvPicPr>
        <p:blipFill>
          <a:blip r:embed="rId1"/>
          <a:stretch/>
        </p:blipFill>
        <p:spPr>
          <a:xfrm>
            <a:off x="2567160" y="3870360"/>
            <a:ext cx="4071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1"/>
          <p:cNvSpPr/>
          <p:nvPr/>
        </p:nvSpPr>
        <p:spPr>
          <a:xfrm>
            <a:off x="1052640" y="2125800"/>
            <a:ext cx="73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故书不厌百回读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熟读深思子自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------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苏轼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送安惊落第诗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问渠那得清如许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有源头活水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------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朱熹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观书有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百川东到海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何时复西归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壮不努力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大徒伤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------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汉乐府民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长歌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59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6"/>
          <p:cNvGrpSpPr/>
          <p:nvPr/>
        </p:nvGrpSpPr>
        <p:grpSpPr>
          <a:xfrm>
            <a:off x="558720" y="1231920"/>
            <a:ext cx="3849840" cy="666720"/>
            <a:chOff x="558720" y="1231920"/>
            <a:chExt cx="3849840" cy="666720"/>
          </a:xfrm>
        </p:grpSpPr>
        <p:sp>
          <p:nvSpPr>
            <p:cNvPr id="600" name="圆角矩形 7"/>
            <p:cNvSpPr/>
            <p:nvPr/>
          </p:nvSpPr>
          <p:spPr>
            <a:xfrm>
              <a:off x="1374480" y="13698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6"/>
            <p:cNvSpPr/>
            <p:nvPr/>
          </p:nvSpPr>
          <p:spPr>
            <a:xfrm>
              <a:off x="1634040" y="13888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2319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内容占位符 2"/>
          <p:cNvSpPr/>
          <p:nvPr/>
        </p:nvSpPr>
        <p:spPr>
          <a:xfrm>
            <a:off x="914400" y="2600280"/>
            <a:ext cx="2484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马的典故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0"/>
          <p:cNvSpPr/>
          <p:nvPr/>
        </p:nvSpPr>
        <p:spPr>
          <a:xfrm>
            <a:off x="1515960" y="3357720"/>
            <a:ext cx="73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伯乐相马、车水马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10"/>
          <p:cNvSpPr/>
          <p:nvPr/>
        </p:nvSpPr>
        <p:spPr>
          <a:xfrm>
            <a:off x="900000" y="2390760"/>
            <a:ext cx="7566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本文以生动、形象的语言，清楚的条理，讲述了一家四口到郊外散步时所发生的事情。让我们体会到了“爸爸”的智慧，同时也暗示我们要学会自己克服困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图示 12" descr=""/>
          <p:cNvPicPr/>
          <p:nvPr/>
        </p:nvPicPr>
        <p:blipFill>
          <a:blip r:embed="rId1"/>
          <a:stretch/>
        </p:blipFill>
        <p:spPr>
          <a:xfrm>
            <a:off x="676440" y="1096920"/>
            <a:ext cx="30906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12"/>
          <p:cNvSpPr/>
          <p:nvPr/>
        </p:nvSpPr>
        <p:spPr>
          <a:xfrm>
            <a:off x="824040" y="20145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试着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"/>
          <p:cNvSpPr/>
          <p:nvPr/>
        </p:nvSpPr>
        <p:spPr>
          <a:xfrm>
            <a:off x="1171440" y="2749680"/>
            <a:ext cx="69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感情地朗读课文，首先要借助汉语拼音解决文中的生字词把课文读正确、流利。把自己的情感融入到句子中完成本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7" descr=""/>
          <p:cNvPicPr/>
          <p:nvPr/>
        </p:nvPicPr>
        <p:blipFill>
          <a:blip r:embed="rId1"/>
          <a:stretch/>
        </p:blipFill>
        <p:spPr>
          <a:xfrm>
            <a:off x="-79200" y="878040"/>
            <a:ext cx="43336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12"/>
          <p:cNvSpPr/>
          <p:nvPr/>
        </p:nvSpPr>
        <p:spPr>
          <a:xfrm>
            <a:off x="725400" y="1133640"/>
            <a:ext cx="77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读句子，体会妹妹的变化，再说说她为什么会有这样的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"/>
          <p:cNvSpPr/>
          <p:nvPr/>
        </p:nvSpPr>
        <p:spPr>
          <a:xfrm>
            <a:off x="1077840" y="3984480"/>
            <a:ext cx="74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开始妹妹向妈妈撒娇，后来妹妹高兴地自己骑着“马”回家了。爸爸的鼓励和引导让妹妹愉快地做好自己的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1"/>
          <p:cNvSpPr/>
          <p:nvPr/>
        </p:nvSpPr>
        <p:spPr>
          <a:xfrm>
            <a:off x="725400" y="218592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当我们往回走的时候，妹妹求妈妈抱她：“我很累走不动了，抱抱我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妹妹高兴地跨上“马”，蹦蹦跳跳地奔向前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12"/>
          <p:cNvSpPr/>
          <p:nvPr/>
        </p:nvSpPr>
        <p:spPr>
          <a:xfrm>
            <a:off x="860400" y="1273320"/>
            <a:ext cx="73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句子，边读边想象画面，再把句子抄写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2"/>
          <p:cNvSpPr/>
          <p:nvPr/>
        </p:nvSpPr>
        <p:spPr>
          <a:xfrm>
            <a:off x="1154160" y="3508200"/>
            <a:ext cx="732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条小河，河水清清的，微风吹过河面，泛起一圈圈涟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路边的田野上长满了绿油油的小草就像一条柔软的绿地毯一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4"/>
          <p:cNvSpPr/>
          <p:nvPr/>
        </p:nvSpPr>
        <p:spPr>
          <a:xfrm>
            <a:off x="798480" y="1881360"/>
            <a:ext cx="76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河水碧绿碧绿的，微风吹过，泛起层层波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路的一边是田野，葱葱绿绿的，非常可爱，像一片柔软的绿毯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771480" y="2443320"/>
            <a:ext cx="7434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1006560" y="2952720"/>
            <a:ext cx="764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jiāo</a:t>
            </a: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  fàn          bō  wén    cōng                         ruǎn          tǎ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郊外  泛起  波纹  葱葱绿绿  柔软  绿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            liàn          shě      qiú                      zhū      qí             ku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异常  恋恋不舍  求妈妈  一株  骑着  跨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7" descr="花盆.png"/>
          <p:cNvPicPr/>
          <p:nvPr/>
        </p:nvPicPr>
        <p:blipFill>
          <a:blip r:embed="rId1"/>
          <a:stretch/>
        </p:blipFill>
        <p:spPr>
          <a:xfrm>
            <a:off x="452520" y="2038320"/>
            <a:ext cx="507960" cy="595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1388160" y="2049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bc5e"/>
                </a:solidFill>
                <a:latin typeface="黑体"/>
                <a:ea typeface="黑体"/>
              </a:rPr>
              <a:t>读一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示 11" descr=""/>
          <p:cNvPicPr/>
          <p:nvPr/>
        </p:nvPicPr>
        <p:blipFill>
          <a:blip r:embed="rId2"/>
          <a:stretch/>
        </p:blipFill>
        <p:spPr>
          <a:xfrm>
            <a:off x="2382840" y="847800"/>
            <a:ext cx="4498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7167"/>
          <p:cNvSpPr/>
          <p:nvPr/>
        </p:nvSpPr>
        <p:spPr>
          <a:xfrm>
            <a:off x="1036800" y="2157480"/>
            <a:ext cx="739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下面加点字的读音完全正确的一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郊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泛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波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葱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ō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柔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ǎ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ǎ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异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骑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7168"/>
          <p:cNvSpPr/>
          <p:nvPr/>
        </p:nvSpPr>
        <p:spPr>
          <a:xfrm>
            <a:off x="4478040" y="294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9" name="文本框 17"/>
          <p:cNvSpPr/>
          <p:nvPr/>
        </p:nvSpPr>
        <p:spPr>
          <a:xfrm>
            <a:off x="3344040" y="1281240"/>
            <a:ext cx="2455920" cy="490680"/>
          </a:xfrm>
          <a:prstGeom prst="pie">
            <a:avLst/>
          </a:prstGeom>
          <a:solidFill>
            <a:srgbClr val="deebf7"/>
          </a:solidFill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典中点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的“基础练习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1"/>
          <p:cNvSpPr/>
          <p:nvPr/>
        </p:nvSpPr>
        <p:spPr>
          <a:xfrm>
            <a:off x="6950880" y="22478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7168"/>
          <p:cNvSpPr/>
          <p:nvPr/>
        </p:nvSpPr>
        <p:spPr>
          <a:xfrm>
            <a:off x="2192040" y="293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7168"/>
          <p:cNvSpPr/>
          <p:nvPr/>
        </p:nvSpPr>
        <p:spPr>
          <a:xfrm>
            <a:off x="6726240" y="294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7168"/>
          <p:cNvSpPr/>
          <p:nvPr/>
        </p:nvSpPr>
        <p:spPr>
          <a:xfrm>
            <a:off x="2206440" y="35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168"/>
          <p:cNvSpPr/>
          <p:nvPr/>
        </p:nvSpPr>
        <p:spPr>
          <a:xfrm>
            <a:off x="477828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7168"/>
          <p:cNvSpPr/>
          <p:nvPr/>
        </p:nvSpPr>
        <p:spPr>
          <a:xfrm>
            <a:off x="7064280" y="35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矩形 7168"/>
          <p:cNvSpPr/>
          <p:nvPr/>
        </p:nvSpPr>
        <p:spPr>
          <a:xfrm>
            <a:off x="2192040" y="404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7168"/>
          <p:cNvSpPr/>
          <p:nvPr/>
        </p:nvSpPr>
        <p:spPr>
          <a:xfrm>
            <a:off x="4854600" y="404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矩形 7168"/>
          <p:cNvSpPr/>
          <p:nvPr/>
        </p:nvSpPr>
        <p:spPr>
          <a:xfrm>
            <a:off x="6840360" y="404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1246320" y="263052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119400" y="26305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4991040" y="26305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862680" y="26305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1276200" y="428292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4989600" y="4282920"/>
          <a:ext cx="287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矩形 3"/>
          <p:cNvSpPr/>
          <p:nvPr/>
        </p:nvSpPr>
        <p:spPr>
          <a:xfrm>
            <a:off x="466560" y="151776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二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yì      pǐ            bō   wén          jǐng    sè           yāo   qi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hǎo xiàng         mèi   mei        liàn    liàn    bù    sh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9"/>
          <p:cNvSpPr/>
          <p:nvPr/>
        </p:nvSpPr>
        <p:spPr>
          <a:xfrm>
            <a:off x="732240" y="2496960"/>
            <a:ext cx="24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一 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0"/>
          <p:cNvSpPr/>
          <p:nvPr/>
        </p:nvSpPr>
        <p:spPr>
          <a:xfrm>
            <a:off x="2718360" y="2511360"/>
            <a:ext cx="22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波 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12"/>
          <p:cNvSpPr/>
          <p:nvPr/>
        </p:nvSpPr>
        <p:spPr>
          <a:xfrm>
            <a:off x="4591080" y="2511360"/>
            <a:ext cx="22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景 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4"/>
          <p:cNvSpPr/>
          <p:nvPr/>
        </p:nvSpPr>
        <p:spPr>
          <a:xfrm>
            <a:off x="6459480" y="2496960"/>
            <a:ext cx="22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要 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5"/>
          <p:cNvSpPr/>
          <p:nvPr/>
        </p:nvSpPr>
        <p:spPr>
          <a:xfrm>
            <a:off x="864360" y="4165560"/>
            <a:ext cx="22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好 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16"/>
          <p:cNvSpPr/>
          <p:nvPr/>
        </p:nvSpPr>
        <p:spPr>
          <a:xfrm>
            <a:off x="5070600" y="4165560"/>
            <a:ext cx="299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恋 恋 不 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214800" y="429084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矩形 18"/>
          <p:cNvSpPr/>
          <p:nvPr/>
        </p:nvSpPr>
        <p:spPr>
          <a:xfrm>
            <a:off x="2801880" y="4173480"/>
            <a:ext cx="22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妹 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3"/>
          <p:cNvSpPr/>
          <p:nvPr/>
        </p:nvSpPr>
        <p:spPr>
          <a:xfrm>
            <a:off x="1119240" y="1719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量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　　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柳树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河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毯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晚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枝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"/>
          <p:cNvSpPr/>
          <p:nvPr/>
        </p:nvSpPr>
        <p:spPr>
          <a:xfrm>
            <a:off x="3132000" y="2592360"/>
            <a:ext cx="3633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个　条　片　株　根　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2"/>
          <p:cNvSpPr/>
          <p:nvPr/>
        </p:nvSpPr>
        <p:spPr>
          <a:xfrm>
            <a:off x="2589840" y="3441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5"/>
          <p:cNvSpPr/>
          <p:nvPr/>
        </p:nvSpPr>
        <p:spPr>
          <a:xfrm>
            <a:off x="5059080" y="3443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6"/>
          <p:cNvSpPr/>
          <p:nvPr/>
        </p:nvSpPr>
        <p:spPr>
          <a:xfrm>
            <a:off x="2592360" y="4000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8"/>
          <p:cNvSpPr/>
          <p:nvPr/>
        </p:nvSpPr>
        <p:spPr>
          <a:xfrm>
            <a:off x="5059080" y="400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9"/>
          <p:cNvSpPr/>
          <p:nvPr/>
        </p:nvSpPr>
        <p:spPr>
          <a:xfrm>
            <a:off x="2592360" y="457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10"/>
          <p:cNvSpPr/>
          <p:nvPr/>
        </p:nvSpPr>
        <p:spPr>
          <a:xfrm>
            <a:off x="5059080" y="455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3"/>
          <p:cNvSpPr/>
          <p:nvPr/>
        </p:nvSpPr>
        <p:spPr>
          <a:xfrm>
            <a:off x="1395360" y="199872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照样子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高高兴兴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又长又细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 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摇摇头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 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矩形 2"/>
          <p:cNvSpPr/>
          <p:nvPr/>
        </p:nvSpPr>
        <p:spPr>
          <a:xfrm>
            <a:off x="3864960" y="264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蹦蹦跳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4"/>
          <p:cNvSpPr/>
          <p:nvPr/>
        </p:nvSpPr>
        <p:spPr>
          <a:xfrm>
            <a:off x="5672880" y="264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葱葱绿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7"/>
          <p:cNvSpPr/>
          <p:nvPr/>
        </p:nvSpPr>
        <p:spPr>
          <a:xfrm>
            <a:off x="3850560" y="3198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粗又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9"/>
          <p:cNvSpPr/>
          <p:nvPr/>
        </p:nvSpPr>
        <p:spPr>
          <a:xfrm>
            <a:off x="5693760" y="3201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蹦又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20"/>
          <p:cNvSpPr/>
          <p:nvPr/>
        </p:nvSpPr>
        <p:spPr>
          <a:xfrm>
            <a:off x="3476160" y="374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挺挺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21"/>
          <p:cNvSpPr/>
          <p:nvPr/>
        </p:nvSpPr>
        <p:spPr>
          <a:xfrm>
            <a:off x="5025600" y="373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抬抬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7168"/>
          <p:cNvSpPr/>
          <p:nvPr/>
        </p:nvSpPr>
        <p:spPr>
          <a:xfrm>
            <a:off x="1946160" y="335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7168"/>
          <p:cNvSpPr/>
          <p:nvPr/>
        </p:nvSpPr>
        <p:spPr>
          <a:xfrm>
            <a:off x="2576520" y="335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矩形 3"/>
          <p:cNvSpPr/>
          <p:nvPr/>
        </p:nvSpPr>
        <p:spPr>
          <a:xfrm>
            <a:off x="1042920" y="170028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写出下面加点词语的近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春天的郊外，景色异常美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拾起一根又长又细的枝条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妹妹高兴地跨上“马”，蹦蹦跳跳地奔向前去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7168"/>
          <p:cNvSpPr/>
          <p:nvPr/>
        </p:nvSpPr>
        <p:spPr>
          <a:xfrm>
            <a:off x="4043160" y="249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7168"/>
          <p:cNvSpPr/>
          <p:nvPr/>
        </p:nvSpPr>
        <p:spPr>
          <a:xfrm>
            <a:off x="4359240" y="249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168"/>
          <p:cNvSpPr/>
          <p:nvPr/>
        </p:nvSpPr>
        <p:spPr>
          <a:xfrm>
            <a:off x="190476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168"/>
          <p:cNvSpPr/>
          <p:nvPr/>
        </p:nvSpPr>
        <p:spPr>
          <a:xfrm>
            <a:off x="2217600" y="305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矩形 7168"/>
          <p:cNvSpPr/>
          <p:nvPr/>
        </p:nvSpPr>
        <p:spPr>
          <a:xfrm>
            <a:off x="251748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矩形 7168"/>
          <p:cNvSpPr/>
          <p:nvPr/>
        </p:nvSpPr>
        <p:spPr>
          <a:xfrm>
            <a:off x="2216160" y="361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4"/>
          <p:cNvSpPr/>
          <p:nvPr/>
        </p:nvSpPr>
        <p:spPr>
          <a:xfrm>
            <a:off x="5938560" y="235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特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5"/>
          <p:cNvSpPr/>
          <p:nvPr/>
        </p:nvSpPr>
        <p:spPr>
          <a:xfrm>
            <a:off x="5951160" y="2914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捡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6"/>
          <p:cNvSpPr/>
          <p:nvPr/>
        </p:nvSpPr>
        <p:spPr>
          <a:xfrm>
            <a:off x="1936440" y="401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示 6" descr=""/>
          <p:cNvPicPr/>
          <p:nvPr/>
        </p:nvPicPr>
        <p:blipFill>
          <a:blip r:embed="rId1"/>
          <a:stretch/>
        </p:blipFill>
        <p:spPr>
          <a:xfrm>
            <a:off x="878040" y="1103400"/>
            <a:ext cx="3084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1"/>
          <p:cNvSpPr/>
          <p:nvPr/>
        </p:nvSpPr>
        <p:spPr>
          <a:xfrm>
            <a:off x="2306520" y="2343240"/>
            <a:ext cx="10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3033720" y="23385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278080" y="290340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3184560" y="28940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086440" y="290052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7" descr="花盆.png"/>
          <p:cNvPicPr/>
          <p:nvPr/>
        </p:nvPicPr>
        <p:blipFill>
          <a:blip r:embed="rId1"/>
          <a:stretch/>
        </p:blipFill>
        <p:spPr>
          <a:xfrm>
            <a:off x="766800" y="1523880"/>
            <a:ext cx="507960" cy="595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0"/>
          <p:cNvSpPr/>
          <p:nvPr/>
        </p:nvSpPr>
        <p:spPr>
          <a:xfrm>
            <a:off x="1500840" y="1589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c060"/>
                </a:solidFill>
                <a:latin typeface="黑体"/>
                <a:ea typeface="黑体"/>
              </a:rPr>
              <a:t>我会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122720" y="291636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1857240" y="3746520"/>
            <a:ext cx="12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à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2"/>
          <p:cNvSpPr/>
          <p:nvPr/>
        </p:nvSpPr>
        <p:spPr>
          <a:xfrm>
            <a:off x="4700520" y="37512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3"/>
          <p:cNvSpPr/>
          <p:nvPr/>
        </p:nvSpPr>
        <p:spPr>
          <a:xfrm>
            <a:off x="2817720" y="3746520"/>
            <a:ext cx="14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4"/>
          <p:cNvSpPr/>
          <p:nvPr/>
        </p:nvSpPr>
        <p:spPr>
          <a:xfrm>
            <a:off x="5695920" y="37656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7"/>
          <p:cNvSpPr/>
          <p:nvPr/>
        </p:nvSpPr>
        <p:spPr>
          <a:xfrm>
            <a:off x="1828800" y="42260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2778120" y="42386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9"/>
          <p:cNvSpPr/>
          <p:nvPr/>
        </p:nvSpPr>
        <p:spPr>
          <a:xfrm>
            <a:off x="901800" y="419256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3"/>
          <p:cNvSpPr/>
          <p:nvPr/>
        </p:nvSpPr>
        <p:spPr>
          <a:xfrm>
            <a:off x="3718080" y="421956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4"/>
          <p:cNvSpPr/>
          <p:nvPr/>
        </p:nvSpPr>
        <p:spPr>
          <a:xfrm>
            <a:off x="4654440" y="423864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46"/>
          <p:cNvSpPr/>
          <p:nvPr/>
        </p:nvSpPr>
        <p:spPr>
          <a:xfrm>
            <a:off x="4089240" y="2343240"/>
            <a:ext cx="10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7"/>
          <p:cNvSpPr/>
          <p:nvPr/>
        </p:nvSpPr>
        <p:spPr>
          <a:xfrm>
            <a:off x="6045120" y="2349360"/>
            <a:ext cx="112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uǎ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2"/>
          <p:cNvSpPr/>
          <p:nvPr/>
        </p:nvSpPr>
        <p:spPr>
          <a:xfrm>
            <a:off x="1082520" y="373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9"/>
          <p:cNvSpPr/>
          <p:nvPr/>
        </p:nvSpPr>
        <p:spPr>
          <a:xfrm>
            <a:off x="1373040" y="2351160"/>
            <a:ext cx="12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0"/>
          <p:cNvSpPr/>
          <p:nvPr/>
        </p:nvSpPr>
        <p:spPr>
          <a:xfrm>
            <a:off x="1333440" y="291636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1"/>
          <p:cNvSpPr/>
          <p:nvPr/>
        </p:nvSpPr>
        <p:spPr>
          <a:xfrm>
            <a:off x="6975360" y="291636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6072120" y="290340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2"/>
          <p:cNvSpPr/>
          <p:nvPr/>
        </p:nvSpPr>
        <p:spPr>
          <a:xfrm>
            <a:off x="7029360" y="235440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ǎ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5"/>
          <p:cNvSpPr/>
          <p:nvPr/>
        </p:nvSpPr>
        <p:spPr>
          <a:xfrm>
            <a:off x="6595920" y="420696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48"/>
          <p:cNvSpPr/>
          <p:nvPr/>
        </p:nvSpPr>
        <p:spPr>
          <a:xfrm>
            <a:off x="6694560" y="3753000"/>
            <a:ext cx="14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50"/>
          <p:cNvSpPr/>
          <p:nvPr/>
        </p:nvSpPr>
        <p:spPr>
          <a:xfrm>
            <a:off x="5041800" y="2351160"/>
            <a:ext cx="112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ō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1"/>
          <p:cNvSpPr/>
          <p:nvPr/>
        </p:nvSpPr>
        <p:spPr>
          <a:xfrm>
            <a:off x="5705640" y="422100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3"/>
          <p:cNvSpPr/>
          <p:nvPr/>
        </p:nvSpPr>
        <p:spPr>
          <a:xfrm>
            <a:off x="3755880" y="37512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5"/>
          <p:cNvSpPr/>
          <p:nvPr/>
        </p:nvSpPr>
        <p:spPr>
          <a:xfrm>
            <a:off x="7562880" y="37782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1"/>
          <p:cNvSpPr/>
          <p:nvPr/>
        </p:nvSpPr>
        <p:spPr>
          <a:xfrm>
            <a:off x="7572240" y="423396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5"/>
          <p:cNvGrpSpPr/>
          <p:nvPr/>
        </p:nvGrpSpPr>
        <p:grpSpPr>
          <a:xfrm>
            <a:off x="3033720" y="2394000"/>
            <a:ext cx="3327480" cy="2013120"/>
            <a:chOff x="3033720" y="2394000"/>
            <a:chExt cx="3327480" cy="2013120"/>
          </a:xfrm>
        </p:grpSpPr>
        <p:sp>
          <p:nvSpPr>
            <p:cNvPr id="133" name="左大括号 14"/>
            <p:cNvSpPr/>
            <p:nvPr/>
          </p:nvSpPr>
          <p:spPr>
            <a:xfrm>
              <a:off x="3033720" y="2678040"/>
              <a:ext cx="150480" cy="9493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49320"/>
                <a:gd name="textAreaBottom" fmla="*/ 94572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15"/>
            <p:cNvSpPr/>
            <p:nvPr/>
          </p:nvSpPr>
          <p:spPr>
            <a:xfrm>
              <a:off x="3194640" y="2394000"/>
              <a:ext cx="316656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à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分散）    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ǎ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散落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TextBox 1"/>
          <p:cNvSpPr/>
          <p:nvPr/>
        </p:nvSpPr>
        <p:spPr>
          <a:xfrm>
            <a:off x="2462040" y="290844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5"/>
          <p:cNvGrpSpPr/>
          <p:nvPr/>
        </p:nvGrpSpPr>
        <p:grpSpPr>
          <a:xfrm>
            <a:off x="3041640" y="3838680"/>
            <a:ext cx="3341520" cy="1373400"/>
            <a:chOff x="3041640" y="3838680"/>
            <a:chExt cx="3341520" cy="1373400"/>
          </a:xfrm>
        </p:grpSpPr>
        <p:sp>
          <p:nvSpPr>
            <p:cNvPr id="137" name="左大括号 11"/>
            <p:cNvSpPr/>
            <p:nvPr/>
          </p:nvSpPr>
          <p:spPr>
            <a:xfrm>
              <a:off x="3041640" y="411012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5"/>
            <p:cNvSpPr/>
            <p:nvPr/>
          </p:nvSpPr>
          <p:spPr>
            <a:xfrm>
              <a:off x="3215520" y="3838680"/>
              <a:ext cx="31676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i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还有）  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uá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还书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Box 1"/>
          <p:cNvSpPr/>
          <p:nvPr/>
        </p:nvSpPr>
        <p:spPr>
          <a:xfrm>
            <a:off x="2462040" y="434016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7" descr="花盆.png"/>
          <p:cNvPicPr/>
          <p:nvPr/>
        </p:nvPicPr>
        <p:blipFill>
          <a:blip r:embed="rId1"/>
          <a:stretch/>
        </p:blipFill>
        <p:spPr>
          <a:xfrm>
            <a:off x="887400" y="1563840"/>
            <a:ext cx="507960" cy="5950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0"/>
          <p:cNvSpPr/>
          <p:nvPr/>
        </p:nvSpPr>
        <p:spPr>
          <a:xfrm>
            <a:off x="1594440" y="1616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c060"/>
                </a:solidFill>
                <a:latin typeface="黑体"/>
                <a:ea typeface="黑体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任意多边形 32"/>
          <p:cNvSpPr/>
          <p:nvPr/>
        </p:nvSpPr>
        <p:spPr>
          <a:xfrm>
            <a:off x="1262160" y="2673360"/>
            <a:ext cx="6797520" cy="1152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>
              <a:lnSpc>
                <a:spcPct val="150000"/>
              </a:lnSpc>
              <a:spcAft>
                <a:spcPts val="1400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名读课文，同学互评：字音是否正确，句子是否通顺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Administrator</cp:lastModifiedBy>
  <dcterms:modified xsi:type="dcterms:W3CDTF">2018-02-24T06:44:14Z</dcterms:modified>
  <cp:revision>5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