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AA1-0188-4A8F-A903-6D1A4E78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94B-09CE-4C0F-93EE-964AD281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5F2-58D6-4E54-80D5-23A3504A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4B7-1161-451E-AEE0-6146FC14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A8AE-C16A-4D5E-B978-C9226D3D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1A0-8044-48D7-B23F-E0920875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5E4C-8D4C-4781-910D-FCC44EAC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DB4D-B88C-4A13-B2A3-249B3E2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AD51-72C8-4900-85CB-FF0DF581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70A3-4177-4A93-96AB-AE3F874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ED56-3992-4DDA-856C-7D26DBEE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8A0-9A15-4952-882C-1FB2B146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47A9-EC72-4757-BEA4-C92A73E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639A-A9A7-415D-822E-864664A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0544-DB92-4D76-9DA2-6F5CC71E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7D2A-23AD-425E-871E-7F7A8DE1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67F9-0502-4212-A42C-77C22BD7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149-D948-4B05-9825-46AF0D5B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97C-7CB5-42C7-BC62-FE5EB41D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F21-027D-4D14-943A-071FD23C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A0C-AD9F-4006-9A50-A7B11FB4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D91-4FEE-4924-B86D-05E7355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668-78A7-49D2-A271-D5324761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60E-7288-4F2B-B900-A92B9AD9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C409-DD78-4FC8-B9EB-BB3B102074EF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A87F-8642-4CF4-8808-0F0B79C90E6F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97000"/>
            <a:ext cx="90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27.</a:t>
            </a:r>
            <a:r>
              <a:rPr b="0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寓  言  两 则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314172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ff"/>
                </a:solidFill>
                <a:latin typeface="Arial"/>
                <a:ea typeface="宋体"/>
              </a:rPr>
              <a:t>揠苗助长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19640" y="907920"/>
            <a:ext cx="5333760" cy="345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14400" y="129528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8080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81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读《揠苗助长》，说说那个人为什么要拔禾苗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509112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废了那么多力气，为什么结果禾苗全都枯死了呢？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2852640"/>
            <a:ext cx="1656000" cy="505080"/>
          </a:xfrm>
          <a:custGeom>
            <a:avLst/>
            <a:gdLst>
              <a:gd name="textAreaLeft" fmla="*/ 32400 w 1656000"/>
              <a:gd name="textAreaRight" fmla="*/ 1623600 w 165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70785" h="21600">
                <a:moveTo>
                  <a:pt x="0" y="0"/>
                </a:moveTo>
                <a:lnTo>
                  <a:pt x="70785" y="0"/>
                </a:lnTo>
                <a:lnTo>
                  <a:pt x="70785" y="21600"/>
                </a:lnTo>
                <a:lnTo>
                  <a:pt x="0" y="21600"/>
                </a:lnTo>
                <a:close/>
              </a:path>
              <a:path fill="lightenLess" w="70785" h="21600">
                <a:moveTo>
                  <a:pt x="0" y="0"/>
                </a:moveTo>
                <a:lnTo>
                  <a:pt x="70785" y="0"/>
                </a:lnTo>
                <a:lnTo>
                  <a:pt x="69385" y="1400"/>
                </a:lnTo>
                <a:lnTo>
                  <a:pt x="1400" y="1400"/>
                </a:lnTo>
                <a:close/>
              </a:path>
              <a:path fill="darken" w="70785" h="21600">
                <a:moveTo>
                  <a:pt x="70785" y="0"/>
                </a:moveTo>
                <a:lnTo>
                  <a:pt x="70785" y="21600"/>
                </a:lnTo>
                <a:lnTo>
                  <a:pt x="69385" y="20200"/>
                </a:lnTo>
                <a:lnTo>
                  <a:pt x="69385" y="1400"/>
                </a:lnTo>
                <a:close/>
              </a:path>
              <a:path fill="darkenLess" w="70785" h="21600">
                <a:moveTo>
                  <a:pt x="70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385" y="20200"/>
                </a:lnTo>
                <a:close/>
              </a:path>
              <a:path fill="lighten" w="70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好办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789360"/>
            <a:ext cx="1657080" cy="503280"/>
          </a:xfrm>
          <a:custGeom>
            <a:avLst/>
            <a:gdLst>
              <a:gd name="textAreaLeft" fmla="*/ 32400 w 1657080"/>
              <a:gd name="textAreaRight" fmla="*/ 1624680 w 1657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1084" h="21600">
                <a:moveTo>
                  <a:pt x="0" y="0"/>
                </a:moveTo>
                <a:lnTo>
                  <a:pt x="71084" y="0"/>
                </a:lnTo>
                <a:lnTo>
                  <a:pt x="71084" y="21600"/>
                </a:lnTo>
                <a:lnTo>
                  <a:pt x="0" y="21600"/>
                </a:lnTo>
                <a:close/>
              </a:path>
              <a:path fill="lightenLess" w="71084" h="21600">
                <a:moveTo>
                  <a:pt x="0" y="0"/>
                </a:moveTo>
                <a:lnTo>
                  <a:pt x="71084" y="0"/>
                </a:lnTo>
                <a:lnTo>
                  <a:pt x="69684" y="1400"/>
                </a:lnTo>
                <a:lnTo>
                  <a:pt x="1400" y="1400"/>
                </a:lnTo>
                <a:close/>
              </a:path>
              <a:path fill="darken" w="71084" h="21600">
                <a:moveTo>
                  <a:pt x="71084" y="0"/>
                </a:moveTo>
                <a:lnTo>
                  <a:pt x="71084" y="21600"/>
                </a:lnTo>
                <a:lnTo>
                  <a:pt x="69684" y="20200"/>
                </a:lnTo>
                <a:lnTo>
                  <a:pt x="69684" y="1400"/>
                </a:lnTo>
                <a:close/>
              </a:path>
              <a:path fill="darkenLess" w="71084" h="21600">
                <a:moveTo>
                  <a:pt x="71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684" y="20200"/>
                </a:lnTo>
                <a:close/>
              </a:path>
              <a:path fill="lighten" w="71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好辛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724280"/>
            <a:ext cx="1657080" cy="505080"/>
          </a:xfrm>
          <a:custGeom>
            <a:avLst/>
            <a:gdLst>
              <a:gd name="textAreaLeft" fmla="*/ 32400 w 1657080"/>
              <a:gd name="textAreaRight" fmla="*/ 1624680 w 1657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70831" h="21600">
                <a:moveTo>
                  <a:pt x="0" y="0"/>
                </a:moveTo>
                <a:lnTo>
                  <a:pt x="70831" y="0"/>
                </a:lnTo>
                <a:lnTo>
                  <a:pt x="70831" y="21600"/>
                </a:lnTo>
                <a:lnTo>
                  <a:pt x="0" y="21600"/>
                </a:lnTo>
                <a:close/>
              </a:path>
              <a:path fill="lightenLess" w="70831" h="21600">
                <a:moveTo>
                  <a:pt x="0" y="0"/>
                </a:moveTo>
                <a:lnTo>
                  <a:pt x="70831" y="0"/>
                </a:lnTo>
                <a:lnTo>
                  <a:pt x="69431" y="1400"/>
                </a:lnTo>
                <a:lnTo>
                  <a:pt x="1400" y="1400"/>
                </a:lnTo>
                <a:close/>
              </a:path>
              <a:path fill="darken" w="70831" h="21600">
                <a:moveTo>
                  <a:pt x="70831" y="0"/>
                </a:moveTo>
                <a:lnTo>
                  <a:pt x="70831" y="21600"/>
                </a:lnTo>
                <a:lnTo>
                  <a:pt x="69431" y="20200"/>
                </a:lnTo>
                <a:lnTo>
                  <a:pt x="69431" y="1400"/>
                </a:lnTo>
                <a:close/>
              </a:path>
              <a:path fill="darkenLess" w="70831" h="21600">
                <a:moveTo>
                  <a:pt x="7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31" y="20200"/>
                </a:lnTo>
                <a:close/>
              </a:path>
              <a:path fill="lighten" w="7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好结果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661000"/>
            <a:ext cx="1584000" cy="504720"/>
          </a:xfrm>
          <a:custGeom>
            <a:avLst/>
            <a:gdLst>
              <a:gd name="textAreaLeft" fmla="*/ 32400 w 1584000"/>
              <a:gd name="textAreaRight" fmla="*/ 1551600 w 1584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7756" h="21600">
                <a:moveTo>
                  <a:pt x="0" y="0"/>
                </a:moveTo>
                <a:lnTo>
                  <a:pt x="67756" y="0"/>
                </a:lnTo>
                <a:lnTo>
                  <a:pt x="67756" y="21600"/>
                </a:lnTo>
                <a:lnTo>
                  <a:pt x="0" y="21600"/>
                </a:lnTo>
                <a:close/>
              </a:path>
              <a:path fill="lightenLess" w="67756" h="21600">
                <a:moveTo>
                  <a:pt x="0" y="0"/>
                </a:moveTo>
                <a:lnTo>
                  <a:pt x="67756" y="0"/>
                </a:lnTo>
                <a:lnTo>
                  <a:pt x="66356" y="1400"/>
                </a:lnTo>
                <a:lnTo>
                  <a:pt x="1400" y="1400"/>
                </a:lnTo>
                <a:close/>
              </a:path>
              <a:path fill="darken" w="67756" h="21600">
                <a:moveTo>
                  <a:pt x="67756" y="0"/>
                </a:moveTo>
                <a:lnTo>
                  <a:pt x="67756" y="21600"/>
                </a:lnTo>
                <a:lnTo>
                  <a:pt x="66356" y="20200"/>
                </a:lnTo>
                <a:lnTo>
                  <a:pt x="66356" y="1400"/>
                </a:lnTo>
                <a:close/>
              </a:path>
              <a:path fill="darkenLess" w="67756" h="21600">
                <a:moveTo>
                  <a:pt x="67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56" y="20200"/>
                </a:lnTo>
                <a:close/>
              </a:path>
              <a:path fill="lighten" w="67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好愚蠢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49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感悟几个“好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989000"/>
            <a:ext cx="1584360" cy="5032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7965" h="21600">
                <a:moveTo>
                  <a:pt x="0" y="0"/>
                </a:moveTo>
                <a:lnTo>
                  <a:pt x="67965" y="0"/>
                </a:lnTo>
                <a:lnTo>
                  <a:pt x="67965" y="21600"/>
                </a:lnTo>
                <a:lnTo>
                  <a:pt x="0" y="21600"/>
                </a:lnTo>
                <a:close/>
              </a:path>
              <a:path fill="lightenLess" w="67965" h="21600">
                <a:moveTo>
                  <a:pt x="0" y="0"/>
                </a:moveTo>
                <a:lnTo>
                  <a:pt x="67965" y="0"/>
                </a:lnTo>
                <a:lnTo>
                  <a:pt x="67965" y="0"/>
                </a:lnTo>
                <a:lnTo>
                  <a:pt x="0" y="0"/>
                </a:lnTo>
                <a:close/>
              </a:path>
              <a:path fill="darken" w="67965" h="21600">
                <a:moveTo>
                  <a:pt x="67965" y="0"/>
                </a:moveTo>
                <a:lnTo>
                  <a:pt x="67965" y="21600"/>
                </a:lnTo>
                <a:lnTo>
                  <a:pt x="67965" y="21600"/>
                </a:lnTo>
                <a:lnTo>
                  <a:pt x="67965" y="0"/>
                </a:lnTo>
                <a:close/>
              </a:path>
              <a:path fill="darkenLess" w="67965" h="21600">
                <a:moveTo>
                  <a:pt x="6796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67965" y="21600"/>
                </a:lnTo>
                <a:close/>
              </a:path>
              <a:path fill="lighten" w="6796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好焦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58920" y="191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禾苗长得太慢，他焦急地在田边转来转去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2852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把禾苗一棵一棵往高里拔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从中午一直忙到太阳落山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4797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力气总算没白费，禾苗都长高了一大截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5734080"/>
            <a:ext cx="640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57340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禾苗都枯死了，他不顾事物发展规律，急于求成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填一填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《揠苗助长》讲的是（          ）有个人，他（       ）自己田里的禾苗长得快些。于是，他把禾苗一棵一棵往高里拔。可是他的力气（       ）了，禾苗都枯死了。读了这则寓言，我懂得了（                             ）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1484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古时候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2133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巴望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3933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白费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08464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做事不可急于求成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3933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26920" y="3933720"/>
            <a:ext cx="7391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你在学习和生活中遇见过像“揠苗助长”这样   的事吗？说说你的感想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80808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1577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把这则寓言故事讲给你的爸爸 妈妈听。</a:t>
            </a:r>
            <a:r>
              <a:rPr b="0" lang="zh-CN" sz="4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2416320" cy="4035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76720" y="1052640"/>
            <a:ext cx="53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宋体"/>
              </a:rPr>
              <a:t>你知道什么是寓言吗？你读过寓言故事没有？说说你读过的寓言故事吧！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170028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  <a:ea typeface="宋体"/>
              </a:rPr>
              <a:t>乌鸦喝水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84360" y="333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  <a:ea typeface="宋体"/>
              </a:rPr>
              <a:t>坐井观天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33336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  <a:ea typeface="宋体"/>
              </a:rPr>
              <a:t>酸的和甜的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692280"/>
            <a:ext cx="8135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  <a:ea typeface="宋体"/>
              </a:rPr>
              <a:t>这些都是寓言。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寓言是借故事来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明道理的一种文章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2509920" cy="375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20440" y="2492280"/>
            <a:ext cx="16426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这节课我们学习一则寓言《揠苗助长》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</a:rPr>
              <a:t>读读课文</a:t>
            </a:r>
            <a:endParaRPr b="0" lang="en-US" sz="72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zh-CN" sz="7200" spc="-1" strike="noStrike">
                <a:solidFill>
                  <a:srgbClr val="ff0066"/>
                </a:solidFill>
                <a:latin typeface="Arial"/>
              </a:rPr>
              <a:t>自读课文。轻声朗读课文，找出并读准生字、新词。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3716280"/>
            <a:ext cx="7417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寓</a:t>
            </a:r>
            <a:r>
              <a:rPr b="1" lang="zh-CN" sz="5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言  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焦</a:t>
            </a:r>
            <a:r>
              <a:rPr b="1" lang="zh-CN" sz="5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急  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喘</a:t>
            </a:r>
            <a:r>
              <a:rPr b="1" lang="zh-CN" sz="5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气</a:t>
            </a:r>
            <a:r>
              <a:rPr b="1" lang="zh-CN" sz="4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6520" y="1905120"/>
            <a:ext cx="20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读读认认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997360"/>
            <a:ext cx="700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  <a:ea typeface="宋体"/>
              </a:rPr>
              <a:t>yù      jiāo     chuǎn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00200" y="2556000"/>
            <a:ext cx="65530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寓言       揠苗助长       巴望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焦急       自言自语       筋疲力尽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喘气       一大截         白费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80972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8080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读读记记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1:05:39Z</dcterms:created>
  <dc:creator>User</dc:creator>
  <dc:description/>
  <dc:language>en-US</dc:language>
  <cp:lastModifiedBy>微软用户</cp:lastModifiedBy>
  <dcterms:modified xsi:type="dcterms:W3CDTF">2012-03-18T09:08:58Z</dcterms:modified>
  <cp:revision>41</cp:revision>
  <dc:subject/>
  <dc:title>幻灯片 1</dc:title>
</cp:coreProperties>
</file>