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E77-92D5-4E7E-BAD3-D8B19DC8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CC4-F87C-484C-8326-CCF99654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526A4-94CA-4D04-9948-0CE9AAC4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11B2E-AF82-4230-927F-709E75FB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A59A5-0CC4-4ED2-8FE3-80DD1C1D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CCC51-95C9-413C-BBA0-4524914C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C0922-B46A-4B3E-8619-C3DBC66C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2EE0C-5A36-4D22-BC32-6CF261D7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03727-BF95-4FDA-9179-E4C8A3FB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A6D69-6B0B-4464-8C9F-5694CE84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7F713-3BA2-4D0D-8479-B8B6E4F8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9ED-47C5-4886-BB30-6A400F4B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380-6F41-4B16-9955-7466F9C5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C198-9B53-4308-A346-10CC9864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6103-E1AD-4461-A58C-5CFF08EE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F499-64A0-4574-A313-DF9B83F3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4485-925F-40DC-83E5-7D0EB3AF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B39C-A485-46FF-8428-37EAE39A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74DB-8B4D-433D-976F-714022C4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57A0-026A-46E8-863A-4063E24A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F5D-4618-4934-BCC4-EFA5CF2F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E31E-157B-4950-8D25-6A323EED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3D0D-44EE-4D57-970C-69DDDE7E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9811-8F41-4278-AC6D-FA923B48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E003-5DE7-422F-93FA-A23E2A6C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E300-10DD-4896-BD1F-2E2CCB80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9556-C51A-4C0C-B4BA-0A2F2366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B33F-BC20-4E2F-B61A-1D84BD5E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CDBA6-D579-4B49-BB9A-CA82D30F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62AF6-A3DC-49DB-BB6E-1CCCD3BF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8FFF-DDF6-46F1-A941-FFF8160E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48C-3EA6-43D7-BF9B-585E0962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A218-6556-42FC-B30E-C5DAB08D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2B447-BAC9-49A1-B857-AACD1A4F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40FD-FADE-41F3-9549-D7224276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8428-DEBD-4C4D-8FC1-99FBA045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5D72-AA37-4FBD-8356-29867990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44F4-E748-4DED-8CB7-37DF419F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73520-DB5A-4ECA-A8E4-0E9E2FDA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A8314-A18E-48FB-B497-91570ACE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28DC2-6BEB-4CBE-8918-7D3488E6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84E62-93B5-46E0-869B-36ED63AF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0C7-12D1-4E66-A9BA-29B46E9D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9E860-EE4C-4887-8A60-E06A13F5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ED2D4-56B4-4929-A71D-FF9F0B72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B136B-981F-41D8-A3EF-48F8B3CE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FAE22-B867-4365-8699-ECABF47C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0C27-5454-4D61-B533-5E27A5B1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CFD69-21B6-48EC-A275-1813BE5B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2B3AB-7939-4C9C-8A3B-3B519BEE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219A3-68AB-4406-983E-2A086403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63754-FB43-4F77-9D11-ABDA2406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77A37-E3C3-4AEB-B1CA-97144408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C40-7C85-4D25-A912-D70A3BE1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1EEDE-A064-4E9B-97F6-9DD300BC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D2511-6E93-4292-BB57-04239B29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DF240-148D-45BB-8780-30A7F965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3020C-A3E8-49CE-8ADD-778FD0AC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C0F45-AC77-475C-A89D-C5AEFBC1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A4BFE-0875-4F99-935D-19E16EAC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4C1BE-547E-407E-8737-33E884B1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476A6-84DB-4587-92FB-D7A9EB49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2ABCE-CC6A-493F-AA2B-F4F31C4B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15B24-8696-4CE0-AEAA-A9D986B0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942-B53D-4C2A-BC4F-0E434DEE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E5E1A-580F-45A0-87F8-225F2EFB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3594A-58C4-45C7-9FC7-E4A0F16C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A50C1-714A-40EB-88D8-CD671095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79600-78F0-4A7F-942A-C7AD21C9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C659B-B31E-4CB5-8922-3D94E340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8F299-8A17-4FC0-B761-AF2A02D3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19B34-B07B-4C2A-9940-4FC81BB1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BDA06-ACE9-492F-ADC7-5EBB548D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9C468-032D-46BC-95F8-F04A3B73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38876-BFC5-4ECF-9B7F-0A099AD1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C58-D663-4CCA-87BD-BF855A60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06A6F-25BF-4AFA-9257-B9A69E7C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EF164-CEC0-4EB7-8B6A-6C7EDC8D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AB488-1CFC-43AB-9024-894AAC28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5AC11-AB6F-4031-A6E4-B5ADBE22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64B58-2524-40A5-9F9A-5FF10596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91B0B-A775-4453-BAB5-68E616F3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DA2A8-FC9D-41AD-83EE-FB87AA16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A70E2-B22F-4814-95A7-20FC1216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FF2BC-C93B-418F-8A12-97CCCA81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3AF18-0E5C-479F-AD65-7B1DF659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B1F-BD36-4D2E-BC8A-72D18D76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6C156-226C-4ECD-8F45-0A0B8211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899E0-4D5E-4D76-B9FE-7384EB39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55B0D-F2AB-4493-9530-B719720A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76B09-484E-46FC-B571-DAB70D86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51EE3-978C-4932-B72D-704593D0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9D3A2-7CAC-4773-B5A4-C20B52A2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E3811-4F8D-4761-9FFF-24A7DA36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02A50-ECA8-49B3-87C2-4478D1AC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EE916-8D8F-4190-B899-464F7134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F5A4F-EF56-4328-BE67-788892FF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36F-CA20-437B-ADD3-5AE48B00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6AE83-67A4-40FD-A991-8B8CD72B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8B9AC-9A6D-4F4C-8E45-0E5C91BB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8F8C7-7DB5-4B20-B0C4-E6EFD16B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C624E-A6CD-4677-B2CE-F2A1CDAF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C2D5B-0117-44E8-973B-E67EC8C4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923A0-A892-46D5-AC4C-C32AD1B3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46858-91BD-4AC4-AE53-189CA468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D15A3-150C-4F02-94D8-4CC5CF0F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6600F-0774-4FFB-876B-9E1416A8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771FC-A6A4-4AF2-B8DE-B1361578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6502-5ED6-46BF-A702-D4590A28DD4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8F03-ED88-4E57-8681-CDA167B54E9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44F5-68ED-44A7-98C7-4D3481EEE57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AE3A-CEBC-47F3-AED7-27D5E53FDB0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AAE4-DB64-42BF-9D5A-540808FC99AD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BE86-1515-4846-80AC-D09260E78E4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503C-22F1-4257-A20C-0A23B16AC3DD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E36A-5226-47EE-A95F-3325939AB1B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3142-CCC6-4A57-8D9B-CE1E7FC6152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971640" y="2276640"/>
            <a:ext cx="360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华文新魏"/>
              </a:rPr>
              <a:t>寓言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3851280" y="2257560"/>
            <a:ext cx="352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华文新魏"/>
              </a:rPr>
              <a:t>两则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431640" y="4005360"/>
            <a:ext cx="853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华文新魏"/>
              </a:rPr>
              <a:t>（                     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2071080" y="40482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华文新魏"/>
              </a:rPr>
              <a:t>小故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5117400" y="40766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华文新魏"/>
              </a:rPr>
              <a:t>大道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封面"/>
          <p:cNvPicPr/>
          <p:nvPr/>
        </p:nvPicPr>
        <p:blipFill>
          <a:blip r:embed="rId1">
            <a:lum bright="70000" contrast="-70000"/>
          </a:blip>
          <a:srcRect l="0" t="2263" r="0" b="0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z013"/>
          <p:cNvPicPr/>
          <p:nvPr/>
        </p:nvPicPr>
        <p:blipFill>
          <a:blip r:embed="rId2"/>
          <a:stretch/>
        </p:blipFill>
        <p:spPr>
          <a:xfrm>
            <a:off x="287280" y="44280"/>
            <a:ext cx="1260360" cy="1260720"/>
          </a:xfrm>
          <a:prstGeom prst="rect">
            <a:avLst/>
          </a:prstGeom>
          <a:ln w="0">
            <a:noFill/>
          </a:ln>
        </p:spPr>
      </p:pic>
      <p:sp>
        <p:nvSpPr>
          <p:cNvPr id="445" name="AutoShape 4"/>
          <p:cNvSpPr/>
          <p:nvPr/>
        </p:nvSpPr>
        <p:spPr>
          <a:xfrm>
            <a:off x="2268360" y="44280"/>
            <a:ext cx="4967640" cy="1197000"/>
          </a:xfrm>
          <a:prstGeom prst="irregularSeal2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84360" y="404640"/>
            <a:ext cx="446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Franklin Gothic Medium"/>
                <a:ea typeface="华文行楷"/>
              </a:rPr>
              <a:t>快乐作业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42560" y="1484280"/>
            <a:ext cx="6480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Franklin Gothic Book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农夫的自述</a:t>
            </a:r>
            <a:r>
              <a:rPr b="1" lang="zh-CN" sz="3600" spc="-1" strike="noStrike">
                <a:solidFill>
                  <a:srgbClr val="ff3300"/>
                </a:solidFill>
                <a:latin typeface="Franklin Gothic Book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716360" y="393372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封面"/>
          <p:cNvPicPr/>
          <p:nvPr/>
        </p:nvPicPr>
        <p:blipFill>
          <a:blip r:embed="rId1">
            <a:lum bright="70000" contrast="-70000"/>
          </a:blip>
          <a:srcRect l="0" t="2263" r="0" b="0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3"/>
          <p:cNvSpPr/>
          <p:nvPr/>
        </p:nvSpPr>
        <p:spPr>
          <a:xfrm>
            <a:off x="395280" y="765000"/>
            <a:ext cx="71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我们身边有类似与“揠苗助长”的人和事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3"/>
          <p:cNvPicPr/>
          <p:nvPr/>
        </p:nvPicPr>
        <p:blipFill>
          <a:blip r:embed="rId2"/>
          <a:srcRect l="18864" t="0" r="21169" b="0"/>
          <a:stretch/>
        </p:blipFill>
        <p:spPr>
          <a:xfrm>
            <a:off x="6661080" y="1197000"/>
            <a:ext cx="2519280" cy="318132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250920" y="1989000"/>
            <a:ext cx="74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明说：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爸爸，天天要我做一大堆课外习题，恨不得要我从现在的六十几分一下子考到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分！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 小芳每天回家都要弹钢琴，一弹就是几个小时，而且都是很难的曲子，如果弹不好妈妈还要发火，恨不得要她一下子就成为钢琴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0" name="Picture 5" descr="封面"/>
          <p:cNvPicPr/>
          <p:nvPr/>
        </p:nvPicPr>
        <p:blipFill>
          <a:blip r:embed="rId1"/>
          <a:srcRect l="0" t="225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5"/>
          <p:cNvSpPr/>
          <p:nvPr/>
        </p:nvSpPr>
        <p:spPr>
          <a:xfrm>
            <a:off x="4067280" y="549360"/>
            <a:ext cx="2305080" cy="863640"/>
          </a:xfrm>
          <a:prstGeom prst="cloudCallout">
            <a:avLst>
              <a:gd name="adj1" fmla="val -44148"/>
              <a:gd name="adj2" fmla="val 51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611280" y="105264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ba2f"/>
                </a:solidFill>
                <a:latin typeface="Arial"/>
                <a:ea typeface="华文行楷"/>
              </a:rPr>
              <a:t>揠苗助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6"/>
          <p:cNvSpPr/>
          <p:nvPr/>
        </p:nvSpPr>
        <p:spPr>
          <a:xfrm>
            <a:off x="5940360" y="11206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方正舒体"/>
              </a:rPr>
              <a:t>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7"/>
          <p:cNvSpPr/>
          <p:nvPr/>
        </p:nvSpPr>
        <p:spPr>
          <a:xfrm>
            <a:off x="5867280" y="2463840"/>
            <a:ext cx="19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方正舒体"/>
              </a:rPr>
              <a:t>结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8"/>
          <p:cNvSpPr/>
          <p:nvPr/>
        </p:nvSpPr>
        <p:spPr>
          <a:xfrm>
            <a:off x="2843280" y="2349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方正舒体"/>
              </a:rPr>
              <a:t>寓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0"/>
          <p:cNvSpPr/>
          <p:nvPr/>
        </p:nvSpPr>
        <p:spPr>
          <a:xfrm>
            <a:off x="6401880" y="1785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方正舒体"/>
              </a:rPr>
              <a:t>经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封面"/>
          <p:cNvPicPr/>
          <p:nvPr/>
        </p:nvPicPr>
        <p:blipFill>
          <a:blip r:embed="rId1">
            <a:lum bright="70000" contrast="-70000"/>
          </a:blip>
          <a:srcRect l="0" t="2263" r="0" b="0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7640" y="691920"/>
            <a:ext cx="907236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Franklin Gothic Medium"/>
                <a:ea typeface="楷体_GB2312"/>
              </a:rPr>
              <a:t>他巴望着自己田里的禾苗长得快些，就天天到田边去看。可他总觉得禾苗一点儿也没有长，心里十分焦急。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5508720" y="1052640"/>
            <a:ext cx="93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427640" y="1916280"/>
            <a:ext cx="93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7380360" y="2708280"/>
            <a:ext cx="9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020000" y="3573360"/>
            <a:ext cx="9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395280" y="443700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8221680" y="646128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  <a:ea typeface="方正舒体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4192560" y="566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0" y="207180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Franklin Gothic Medium"/>
                <a:ea typeface="楷体_GB2312"/>
              </a:rPr>
              <a:t>巴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2"/>
          <p:cNvSpPr/>
          <p:nvPr/>
        </p:nvSpPr>
        <p:spPr>
          <a:xfrm>
            <a:off x="-214200" y="30002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Franklin Gothic Medium"/>
                <a:ea typeface="楷体_GB2312"/>
              </a:rPr>
              <a:t>天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3"/>
          <p:cNvSpPr/>
          <p:nvPr/>
        </p:nvSpPr>
        <p:spPr>
          <a:xfrm>
            <a:off x="5429160" y="30002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Franklin Gothic Medium"/>
                <a:ea typeface="楷体_GB2312"/>
              </a:rPr>
              <a:t>总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6500880" y="385776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Franklin Gothic Medium"/>
                <a:ea typeface="楷体_GB2312"/>
              </a:rPr>
              <a:t>焦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5"/>
          <p:cNvSpPr/>
          <p:nvPr/>
        </p:nvSpPr>
        <p:spPr>
          <a:xfrm>
            <a:off x="6286680" y="3000240"/>
            <a:ext cx="30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Franklin Gothic Medium"/>
                <a:ea typeface="楷体_GB2312"/>
              </a:rPr>
              <a:t>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5" descr="封面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32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Franklin Gothic Medium"/>
                <a:ea typeface="楷体_GB2312"/>
              </a:rPr>
              <a:t>一天，他终于想出了办法，就急忙跑到田里，将禾苗一棵一棵地往上拔。他从中午一直忙到天黑，累得筋疲力尽。</a:t>
            </a:r>
            <a:br>
              <a:rPr sz="4400"/>
            </a:b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4284720" y="443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2781360" y="395280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Franklin Gothic Medium"/>
                <a:ea typeface="楷体_GB2312"/>
              </a:rPr>
              <a:t>筋疲力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5040360" y="309240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Franklin Gothic Medium"/>
                <a:ea typeface="楷体_GB2312"/>
              </a:rPr>
              <a:t>一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-17640" y="2239920"/>
            <a:ext cx="864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Franklin Gothic Medium"/>
                <a:ea typeface="楷体_GB2312"/>
              </a:rPr>
              <a:t>                                             </a:t>
            </a:r>
            <a:r>
              <a:rPr b="1" lang="zh-CN" sz="4400" spc="-1" strike="noStrike">
                <a:solidFill>
                  <a:srgbClr val="ff3300"/>
                </a:solidFill>
                <a:latin typeface="Franklin Gothic Medium"/>
                <a:ea typeface="楷体_GB2312"/>
              </a:rPr>
              <a:t>一棵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-846000" y="307980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Franklin Gothic Medium"/>
                <a:ea typeface="楷体_GB2312"/>
              </a:rPr>
              <a:t>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封面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32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回到家里，他兴致勃勃地说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真把我累坏啦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!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力气总算没有白费，咱家的禾苗棵棵都长了一大截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!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8221680" y="646128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  <a:ea typeface="方正舒体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4500720" y="17146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Franklin Gothic Medium"/>
                <a:ea typeface="楷体_GB2312"/>
              </a:rPr>
              <a:t>兴致勃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5" descr="5"/>
          <p:cNvPicPr/>
          <p:nvPr/>
        </p:nvPicPr>
        <p:blipFill>
          <a:blip r:embed="rId1">
            <a:lum bright="70000" contrast="-70000"/>
          </a:blip>
          <a:srcRect l="0" t="0" r="0" b="1018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50920" y="162864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Franklin Gothic Medium"/>
                <a:ea typeface="楷体_GB2312"/>
              </a:rPr>
              <a:t>他的儿子很纳闷，第二天跑到田里一看，所有的禾苗都枯死了。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8221680" y="646128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  <a:ea typeface="方正舒体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611280" y="206064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违反了事物的发展规律、急于求成，反而会误了大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AutoShape 2"/>
          <p:cNvSpPr/>
          <p:nvPr/>
        </p:nvSpPr>
        <p:spPr>
          <a:xfrm>
            <a:off x="1908000" y="692280"/>
            <a:ext cx="2448000" cy="865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900000" y="2060640"/>
            <a:ext cx="7128000" cy="3887640"/>
            <a:chOff x="900000" y="2060640"/>
            <a:chExt cx="7128000" cy="3887640"/>
          </a:xfrm>
        </p:grpSpPr>
        <p:sp>
          <p:nvSpPr>
            <p:cNvPr id="438" name="AutoShape 4"/>
            <p:cNvSpPr/>
            <p:nvPr/>
          </p:nvSpPr>
          <p:spPr>
            <a:xfrm>
              <a:off x="900000" y="2060640"/>
              <a:ext cx="7128000" cy="3887640"/>
            </a:xfrm>
            <a:prstGeom prst="flowChartAlternateProcess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4"/>
            <p:cNvSpPr/>
            <p:nvPr/>
          </p:nvSpPr>
          <p:spPr>
            <a:xfrm>
              <a:off x="1428120" y="2741400"/>
              <a:ext cx="6500520" cy="24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   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欲速则不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   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心急吃不了热豆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急于求成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杀鸡取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23640" y="549360"/>
            <a:ext cx="2879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Franklin Gothic Medium"/>
                <a:ea typeface="楷体_GB2312"/>
              </a:rPr>
              <a:t>送给农夫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441" name="Picture 7" descr="1"/>
          <p:cNvPicPr/>
          <p:nvPr/>
        </p:nvPicPr>
        <p:blipFill>
          <a:blip r:embed="rId1"/>
          <a:stretch/>
        </p:blipFill>
        <p:spPr>
          <a:xfrm>
            <a:off x="-1044720" y="0"/>
            <a:ext cx="4200840" cy="31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611280" y="206064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违反了事物的发展规律、急于求成，反而会误了大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7:21:38Z</dcterms:created>
  <dc:creator>周国伟</dc:creator>
  <dc:description/>
  <dc:language>en-US</dc:language>
  <cp:lastModifiedBy>jyyp</cp:lastModifiedBy>
  <dcterms:modified xsi:type="dcterms:W3CDTF">2011-05-10T01:10:26Z</dcterms:modified>
  <cp:revision>262</cp:revision>
  <dc:subject/>
  <dc:title>幻灯片 1</dc:title>
</cp:coreProperties>
</file>