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518-8651-40A0-8C48-69921EEC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A13-E870-40AF-864A-AC2AD560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A12-9221-4A2E-AA56-E5C0BC60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F9EF-91CA-4039-89F3-20476E5A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6F3E-7726-4B32-A6B5-FD91FD28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5727-7EF2-4CB9-88AA-12C90019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1BE9-492E-4AF1-BF28-90C4B649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B9E4-A75F-45BB-8F7C-3B281D6D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6B2E-7011-45B9-AC73-7C8A5025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C939-6255-41F0-80FE-59C58F8D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FEC1-21F6-40CD-984F-289946DC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2A27-B507-4FAC-B821-1F32C4F3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3924-9286-4F25-9174-DD5F5022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62AA-5C57-431E-8032-70593401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A0DA-F1F5-44D8-AECB-FB542201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37CD-F53D-443B-A578-BF7F5DC8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7C59-3535-4C13-84CE-5B7D6A2F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BB4-66D1-4846-AE26-547D1C83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ADE8-BD7E-4AFB-88BE-161B857D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AC1-FF97-4816-944E-076E806D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11DA-0AF3-4A70-9A53-131FCC43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1AB-98FE-451D-B038-760827E0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AFFD-747C-41FE-8D06-AC01AD7C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7DB-3446-4E32-84DD-908C8C4D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BA5A-36E4-47A4-8738-EE8BC277CA1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8F7D-A05C-46C4-A9A0-A57D9209FE14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00360" y="2060640"/>
            <a:ext cx="3024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7a77"/>
                </a:solidFill>
                <a:latin typeface="Arial"/>
              </a:rPr>
              <a:t>咏煤炭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7a77"/>
                </a:solidFill>
                <a:latin typeface="Arial"/>
              </a:rPr>
              <a:t>于谦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11280" y="836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《咏煤炭》中托物言志，借以明志的名句是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41300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20a05"/>
                </a:solidFill>
                <a:latin typeface="Arial"/>
              </a:rPr>
              <a:t>但愿苍生俱饱暖，不辞辛苦出山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3716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由此你会想到哪位诗人的哪句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2926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20a05"/>
                </a:solidFill>
                <a:latin typeface="Arial"/>
              </a:rPr>
              <a:t>杜甫《茅屋为秋风所破歌》中的“安得广厦千万间，大庇天下寒士俱欢颜。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206064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此句表达了诗人怎样的情怀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2637000"/>
            <a:ext cx="792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92920" y="28670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抒发诗人至死也要为国家出力的爱国之情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7280" y="609120"/>
            <a:ext cx="441468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石灰吟</a:t>
            </a:r>
            <a:br>
              <a:rPr sz="44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于谦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千锤万凿出深山，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烈火焚烧若等闲。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粉身碎骨全不怕，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要留清白在人间。</a:t>
            </a:r>
            <a:br>
              <a:rPr sz="3600"/>
            </a:b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457200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于谦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(1398-1457)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，明钱塘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今浙江杭州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人，字廷益，号节庵。永乐进士，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宣德初授御史，曾随宣宗镇压汉王朱高煦之叛。出按江西，颂声满道 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他忧国忘身，口不言功，自奉俭约，所居仅蔽风雨，但性固刚直，颇遭众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26920" y="907920"/>
            <a:ext cx="7632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20a05"/>
                </a:solidFill>
                <a:latin typeface="Arial"/>
              </a:rPr>
              <a:t>咏煤炭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20a05"/>
                </a:solidFill>
                <a:latin typeface="Arial"/>
              </a:rPr>
              <a:t>于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20a05"/>
                </a:solidFill>
                <a:latin typeface="Arial"/>
              </a:rPr>
              <a:t>凿开混沌得乌金，藏蓄阳和意最深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20a05"/>
                </a:solidFill>
                <a:latin typeface="Arial"/>
              </a:rPr>
              <a:t>爝火燃回春浩浩，洪炉照破夜沉沉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20a05"/>
                </a:solidFill>
                <a:latin typeface="Arial"/>
              </a:rPr>
              <a:t>鼎彝元赖生成力，铁石犹存死后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20a05"/>
                </a:solidFill>
                <a:latin typeface="Arial"/>
              </a:rPr>
              <a:t>但愿苍生俱饱暖，不辞辛苦出山林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80000" y="189000"/>
            <a:ext cx="2664000" cy="503280"/>
          </a:xfrm>
          <a:prstGeom prst="wedgeRoundRectCallout">
            <a:avLst>
              <a:gd name="adj1" fmla="val -54527"/>
              <a:gd name="adj2" fmla="val 164509"/>
              <a:gd name="adj3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咏物的七言律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191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14922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20a05"/>
                </a:solidFill>
                <a:latin typeface="Arial"/>
              </a:rPr>
              <a:t>凿开</a:t>
            </a:r>
            <a:r>
              <a:rPr b="0" lang="zh-CN" sz="3600" spc="-1" strike="noStrike" u="sng">
                <a:solidFill>
                  <a:srgbClr val="020a05"/>
                </a:solidFill>
                <a:uFillTx/>
                <a:latin typeface="Arial"/>
              </a:rPr>
              <a:t>混沌</a:t>
            </a:r>
            <a:r>
              <a:rPr b="0" lang="zh-CN" sz="3600" spc="-1" strike="noStrike">
                <a:solidFill>
                  <a:srgbClr val="020a05"/>
                </a:solidFill>
                <a:latin typeface="Arial"/>
              </a:rPr>
              <a:t>得</a:t>
            </a:r>
            <a:r>
              <a:rPr b="0" lang="zh-CN" sz="3600" spc="-1" strike="noStrike" u="sng">
                <a:solidFill>
                  <a:srgbClr val="020a05"/>
                </a:solidFill>
                <a:uFillTx/>
                <a:latin typeface="Arial"/>
              </a:rPr>
              <a:t>乌金</a:t>
            </a:r>
            <a:r>
              <a:rPr b="0" lang="zh-CN" sz="3600" spc="-1" strike="noStrike">
                <a:solidFill>
                  <a:srgbClr val="020a05"/>
                </a:solidFill>
                <a:latin typeface="Arial"/>
              </a:rPr>
              <a:t>，藏蓄</a:t>
            </a:r>
            <a:r>
              <a:rPr b="0" lang="zh-CN" sz="3600" spc="-1" strike="noStrike" u="sng">
                <a:solidFill>
                  <a:srgbClr val="020a05"/>
                </a:solidFill>
                <a:uFillTx/>
                <a:latin typeface="Arial"/>
              </a:rPr>
              <a:t>阳和</a:t>
            </a:r>
            <a:r>
              <a:rPr b="0" lang="zh-CN" sz="3600" spc="-1" strike="noStrike">
                <a:solidFill>
                  <a:srgbClr val="020a05"/>
                </a:solidFill>
                <a:latin typeface="Arial"/>
              </a:rPr>
              <a:t>意最深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1640" y="1989000"/>
            <a:ext cx="1584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煤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点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67280" y="2206800"/>
            <a:ext cx="367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　　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原指暖和的阳光，这里借指煤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4292640"/>
            <a:ext cx="777744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52110"/>
                </a:solidFill>
                <a:latin typeface="Arial"/>
              </a:rPr>
              <a:t>首联：写煤炭埋藏之深，储藏热量之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2205000"/>
            <a:ext cx="1440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  ↑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指大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260280"/>
            <a:ext cx="3241800" cy="863640"/>
          </a:xfrm>
          <a:prstGeom prst="wedgeRoundRectCallout">
            <a:avLst>
              <a:gd name="adj1" fmla="val -61800"/>
              <a:gd name="adj2" fmla="val 108273"/>
              <a:gd name="adj3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这里蕴藏着治国安民的阳和布泽之气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692280"/>
            <a:ext cx="403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20a05"/>
                </a:solidFill>
                <a:latin typeface="Arial"/>
              </a:rPr>
              <a:t>爝火燃回春浩浩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20a05"/>
                </a:solidFill>
                <a:latin typeface="Arial"/>
              </a:rPr>
              <a:t>洪炉照破夜沉沉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476280"/>
            <a:ext cx="5184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形容煤炭燃烧给人们带来温暖，就像春回大地一般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69228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133720"/>
            <a:ext cx="417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写出炉火火势之大能够冲破沉沉的黑夜。显示大手笔的气势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349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1577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颔联（名句）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用比喻手法具体描写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煤炭的能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量之大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2000" y="4149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0a05"/>
                </a:solidFill>
                <a:latin typeface="Arial"/>
              </a:rPr>
              <a:t>煤炭的作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549360"/>
            <a:ext cx="417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20a05"/>
                </a:solidFill>
                <a:latin typeface="Arial"/>
              </a:rPr>
              <a:t>鼎彝元赖生成力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20a05"/>
                </a:solidFill>
                <a:uFillTx/>
                <a:latin typeface="Arial"/>
              </a:rPr>
              <a:t>铁石</a:t>
            </a:r>
            <a:r>
              <a:rPr b="0" lang="zh-CN" sz="3600" spc="-1" strike="noStrike">
                <a:solidFill>
                  <a:srgbClr val="020a05"/>
                </a:solidFill>
                <a:latin typeface="Arial"/>
              </a:rPr>
              <a:t>犹存死后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933720"/>
            <a:ext cx="8353440" cy="581400"/>
          </a:xfrm>
          <a:prstGeom prst="rect">
            <a:avLst/>
          </a:prstGeom>
          <a:noFill/>
          <a:ln w="9360">
            <a:solidFill>
              <a:srgbClr val="106a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颈联</a:t>
            </a:r>
            <a:r>
              <a:rPr b="0" lang="zh-CN" sz="3200" spc="-1" strike="noStrike">
                <a:solidFill>
                  <a:srgbClr val="106a32"/>
                </a:solidFill>
                <a:latin typeface="Arial"/>
              </a:rPr>
              <a:t>（名句）：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用比喻手法点明煤炭的作用。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[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寓意指甘于为国家利益而自我牺牲的人，乃国之根本，民之福星。朝廷必须依靠臣民的衷心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8360" y="47628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含义：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鼎彝这类器具也要依靠煤炭的火力才能熔铸而成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549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278136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└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造福于民坚贞不变的决心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19280" y="47628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20a05"/>
                </a:solidFill>
                <a:latin typeface="Arial"/>
              </a:rPr>
              <a:t>但愿</a:t>
            </a:r>
            <a:r>
              <a:rPr b="0" lang="zh-CN" sz="3600" spc="-1" strike="noStrike" u="sng">
                <a:solidFill>
                  <a:srgbClr val="020a05"/>
                </a:solidFill>
                <a:uFillTx/>
                <a:latin typeface="Arial"/>
              </a:rPr>
              <a:t>苍生</a:t>
            </a:r>
            <a:r>
              <a:rPr b="0" lang="zh-CN" sz="3600" spc="-1" strike="noStrike">
                <a:solidFill>
                  <a:srgbClr val="020a05"/>
                </a:solidFill>
                <a:latin typeface="Arial"/>
              </a:rPr>
              <a:t>俱饱暖，不辞辛苦出山林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2637000"/>
            <a:ext cx="78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尾联（</a:t>
            </a:r>
            <a:r>
              <a:rPr b="0" lang="zh-CN" sz="3200" spc="-1" strike="noStrike">
                <a:solidFill>
                  <a:srgbClr val="106a32"/>
                </a:solidFill>
                <a:latin typeface="Arial"/>
              </a:rPr>
              <a:t>名句）：借物抒情，托物言志，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抒发诗人至死也要为国家出力的丹心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1125360"/>
            <a:ext cx="144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↑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老百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508640"/>
            <a:ext cx="7850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2110"/>
                </a:solidFill>
                <a:latin typeface="Arial"/>
              </a:rPr>
              <a:t>主题：以煤炭自喻，托物言志，表达诗人爱国忧民的思想及甘愿为国为民出力献身的高风亮节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116000" y="1197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20a05"/>
                </a:solidFill>
                <a:latin typeface="Arial"/>
              </a:rPr>
              <a:t>这首诗是怎样抒发诗人感情的？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234936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前四句描写煤炭的形象，写尽煤炭一生。后四句有感而发，抒发诗人为国为民，竭尽心力的情怀。全诗以物喻人，托物言志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5:10:27Z</dcterms:created>
  <dc:creator>*</dc:creator>
  <dc:description/>
  <dc:language>en-US</dc:language>
  <cp:lastModifiedBy>000</cp:lastModifiedBy>
  <dcterms:modified xsi:type="dcterms:W3CDTF">2013-12-23T13:31:19Z</dcterms:modified>
  <cp:revision>29</cp:revision>
  <dc:subject/>
  <dc:title>幻灯片 1</dc:title>
</cp:coreProperties>
</file>