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11.jpeg" ContentType="image/jpeg"/>
  <Override PartName="/ppt/media/image23.wmf" ContentType="image/x-wmf"/>
  <Override PartName="/ppt/media/image12.wmf" ContentType="image/x-wmf"/>
  <Override PartName="/ppt/media/image13.wmf" ContentType="image/x-wmf"/>
  <Override PartName="/ppt/media/image10.jpeg" ContentType="image/jpeg"/>
  <Override PartName="/ppt/media/image8.wmf" ContentType="image/x-wmf"/>
  <Override PartName="/ppt/media/image38.wmf" ContentType="image/x-wmf"/>
  <Override PartName="/ppt/media/image34.jpeg" ContentType="image/jpeg"/>
  <Override PartName="/ppt/media/image39.wmf" ContentType="image/x-wmf"/>
  <Override PartName="/ppt/media/image41.png" ContentType="image/png"/>
  <Override PartName="/ppt/media/image9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40.jpeg" ContentType="image/jpeg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723B-0080-48A3-A5F3-A7A984FDC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20BD-953A-4C4E-8134-3EC8CE6D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AD89-A273-4E33-A96E-5E18515DD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E802-04A4-4C9A-8316-181C61482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0A06-168B-458E-B9CE-FFA1B9F9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146D-F9D3-4A57-9879-83E58883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8AC2-DCF0-4258-9A4E-4B3A56BE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ED95-F460-4753-8299-FEC70BAE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5FF3-6F69-4811-B07E-82F3FF90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AEEA-2E66-4B7D-9302-D5D32D17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0D4B-DF02-47D7-AFDB-D74F71EC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A5F5-2D22-421C-A7FC-2A484C63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06C7-BB63-40BA-B8A9-212EB418E1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8.wmf"/><Relationship Id="rId2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wmf"/><Relationship Id="rId11" Type="http://schemas.openxmlformats.org/officeDocument/2006/relationships/image" Target="../media/image34.jpe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image" Target="../media/image40.jpe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6360" y="2668680"/>
            <a:ext cx="45943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有理数的减法（二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72880" y="1346040"/>
            <a:ext cx="864108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数轴上，点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别表示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用有理数减法，分别计算下列情况下点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间的距离；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能发现点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间的距离与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间的关系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576440" y="281160"/>
            <a:ext cx="18288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自主探究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4,-113,-5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4,-113,-5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327560" y="-54000"/>
            <a:ext cx="1839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 rot="540000">
            <a:off x="6445080" y="1438200"/>
            <a:ext cx="17240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探索发现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7" name=""/>
          <p:cNvSpPr/>
          <p:nvPr/>
        </p:nvSpPr>
        <p:spPr>
          <a:xfrm>
            <a:off x="287280" y="1230480"/>
            <a:ext cx="8856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理数加、减混合运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体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理数加、减混合运算统一化为加法运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9999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c=a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观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于式子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)+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的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说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书写简单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省略式中的括号和加号，于是上式可写为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读作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__________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或读作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1000" y="3726000"/>
            <a:ext cx="3816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，＋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，＋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5,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13000" y="4776840"/>
            <a:ext cx="28688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81200" y="5803920"/>
            <a:ext cx="4896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负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、正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、正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5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、负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的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16120" y="5284800"/>
            <a:ext cx="295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负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加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加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减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24000" y="1628640"/>
            <a:ext cx="860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理数的加减混合运算可以统一为什么运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能说说使用加法结合律时遵循什么原则么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136600" y="4030560"/>
            <a:ext cx="4822920" cy="2158920"/>
            <a:chOff x="2136600" y="4030560"/>
            <a:chExt cx="4822920" cy="2158920"/>
          </a:xfrm>
        </p:grpSpPr>
        <p:sp>
          <p:nvSpPr>
            <p:cNvPr id="124" name=""/>
            <p:cNvSpPr/>
            <p:nvPr/>
          </p:nvSpPr>
          <p:spPr>
            <a:xfrm>
              <a:off x="2136600" y="4030560"/>
              <a:ext cx="4822920" cy="2158920"/>
            </a:xfrm>
            <a:prstGeom prst="cloudCallout">
              <a:avLst>
                <a:gd name="adj1" fmla="val 60398"/>
                <a:gd name="adj2" fmla="val -75884"/>
              </a:avLst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0"/>
            <p:cNvSpPr/>
            <p:nvPr/>
          </p:nvSpPr>
          <p:spPr>
            <a:xfrm>
              <a:off x="2712600" y="4462200"/>
              <a:ext cx="417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互为相反数的数相结合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能凑整的数相结合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同分母的数相结合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 txBox="1"/>
          <p:nvPr/>
        </p:nvSpPr>
        <p:spPr>
          <a:xfrm>
            <a:off x="1600200" y="290520"/>
            <a:ext cx="18288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知识梳理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1022040" y="141192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计算：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38360" y="2133720"/>
          <a:ext cx="3041640" cy="57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360" y="2133720"/>
                    <a:ext cx="3041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595760" y="2133720"/>
          <a:ext cx="4194360" cy="53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5760" y="2133720"/>
                    <a:ext cx="419436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749160" y="3621240"/>
          <a:ext cx="3175200" cy="50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9160" y="3621240"/>
                    <a:ext cx="31752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Rectangle 13"/>
          <p:cNvSpPr/>
          <p:nvPr/>
        </p:nvSpPr>
        <p:spPr>
          <a:xfrm>
            <a:off x="3768480" y="421848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628640" y="287280"/>
            <a:ext cx="182880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随堂练习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6" name=""/>
          <p:cNvSpPr/>
          <p:nvPr/>
        </p:nvSpPr>
        <p:spPr>
          <a:xfrm>
            <a:off x="2756880" y="910440"/>
            <a:ext cx="22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科书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页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752400" y="4292640"/>
          <a:ext cx="1947960" cy="49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2400" y="4292640"/>
                    <a:ext cx="194796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750960" y="4916520"/>
          <a:ext cx="1444680" cy="485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0960" y="4916520"/>
                    <a:ext cx="14446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1" name=""/>
          <p:cNvGrpSpPr/>
          <p:nvPr/>
        </p:nvGrpSpPr>
        <p:grpSpPr>
          <a:xfrm>
            <a:off x="250920" y="2924280"/>
            <a:ext cx="3457080" cy="520560"/>
            <a:chOff x="250920" y="2924280"/>
            <a:chExt cx="3457080" cy="520560"/>
          </a:xfrm>
        </p:grpSpPr>
        <p:sp>
          <p:nvSpPr>
            <p:cNvPr id="142" name=""/>
            <p:cNvSpPr/>
            <p:nvPr/>
          </p:nvSpPr>
          <p:spPr>
            <a:xfrm>
              <a:off x="250920" y="2924280"/>
              <a:ext cx="8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解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3" name=""/>
            <p:cNvGraphicFramePr/>
            <p:nvPr/>
          </p:nvGraphicFramePr>
          <p:xfrm>
            <a:off x="1218600" y="2924280"/>
            <a:ext cx="2489400" cy="5050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218600" y="2924280"/>
                      <a:ext cx="2489400" cy="50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45" name=""/>
          <p:cNvGraphicFramePr/>
          <p:nvPr/>
        </p:nvGraphicFramePr>
        <p:xfrm>
          <a:off x="4788000" y="3611520"/>
          <a:ext cx="4060800" cy="512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88000" y="3611520"/>
                    <a:ext cx="406080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4784760" y="4354560"/>
          <a:ext cx="1731960" cy="473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84760" y="4354560"/>
                    <a:ext cx="173196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4788000" y="5041800"/>
          <a:ext cx="792000" cy="501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788000" y="5041800"/>
                    <a:ext cx="79200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4211640" y="2708280"/>
            <a:ext cx="0" cy="295272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284720" y="2905200"/>
            <a:ext cx="4534920" cy="539640"/>
            <a:chOff x="4284720" y="2905200"/>
            <a:chExt cx="4534920" cy="539640"/>
          </a:xfrm>
        </p:grpSpPr>
        <p:sp>
          <p:nvSpPr>
            <p:cNvPr id="153" name=""/>
            <p:cNvSpPr/>
            <p:nvPr/>
          </p:nvSpPr>
          <p:spPr>
            <a:xfrm>
              <a:off x="4284720" y="2924280"/>
              <a:ext cx="93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解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4" name=""/>
            <p:cNvGraphicFramePr/>
            <p:nvPr/>
          </p:nvGraphicFramePr>
          <p:xfrm>
            <a:off x="5178240" y="2905200"/>
            <a:ext cx="3641400" cy="4906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55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178240" y="2905200"/>
                      <a:ext cx="3641400" cy="49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1022040" y="141192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计算：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81120" y="2060640"/>
          <a:ext cx="5479920" cy="57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2060640"/>
                    <a:ext cx="54799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Rectangle 13"/>
          <p:cNvSpPr/>
          <p:nvPr/>
        </p:nvSpPr>
        <p:spPr>
          <a:xfrm>
            <a:off x="3768480" y="421848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66760" y="750960"/>
            <a:ext cx="26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科书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页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733320" y="4508640"/>
          <a:ext cx="2167200" cy="52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3320" y="4508640"/>
                    <a:ext cx="216720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826920" y="5373720"/>
          <a:ext cx="820800" cy="52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5373720"/>
                    <a:ext cx="82080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712800" y="3716280"/>
          <a:ext cx="3278160" cy="52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2800" y="3716280"/>
                    <a:ext cx="32781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7" name=""/>
          <p:cNvGrpSpPr/>
          <p:nvPr/>
        </p:nvGrpSpPr>
        <p:grpSpPr>
          <a:xfrm>
            <a:off x="250920" y="2911320"/>
            <a:ext cx="5770440" cy="571680"/>
            <a:chOff x="250920" y="2911320"/>
            <a:chExt cx="5770440" cy="571680"/>
          </a:xfrm>
        </p:grpSpPr>
        <p:sp>
          <p:nvSpPr>
            <p:cNvPr id="168" name=""/>
            <p:cNvSpPr/>
            <p:nvPr/>
          </p:nvSpPr>
          <p:spPr>
            <a:xfrm>
              <a:off x="250920" y="2923920"/>
              <a:ext cx="8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解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9" name=""/>
            <p:cNvGraphicFramePr/>
            <p:nvPr/>
          </p:nvGraphicFramePr>
          <p:xfrm>
            <a:off x="1108080" y="2911320"/>
            <a:ext cx="4913280" cy="571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108080" y="2911320"/>
                      <a:ext cx="491328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71" name="" descr=""/>
          <p:cNvPicPr/>
          <p:nvPr/>
        </p:nvPicPr>
        <p:blipFill>
          <a:blip r:embed="rId11"/>
          <a:stretch/>
        </p:blipFill>
        <p:spPr>
          <a:xfrm>
            <a:off x="6408720" y="2660760"/>
            <a:ext cx="2367000" cy="324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1018800" y="162468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计算：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801800" y="1446120"/>
          <a:ext cx="4565520" cy="106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1800" y="1446120"/>
                    <a:ext cx="4565520" cy="10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Rectangle 13"/>
          <p:cNvSpPr/>
          <p:nvPr/>
        </p:nvSpPr>
        <p:spPr>
          <a:xfrm>
            <a:off x="3767760" y="421848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104840" y="2405160"/>
            <a:ext cx="4813200" cy="1063440"/>
            <a:chOff x="1104840" y="2405160"/>
            <a:chExt cx="4813200" cy="1063440"/>
          </a:xfrm>
        </p:grpSpPr>
        <p:sp>
          <p:nvSpPr>
            <p:cNvPr id="177" name=""/>
            <p:cNvSpPr/>
            <p:nvPr/>
          </p:nvSpPr>
          <p:spPr>
            <a:xfrm>
              <a:off x="1104840" y="2636640"/>
              <a:ext cx="93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解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8" name=""/>
            <p:cNvGraphicFramePr/>
            <p:nvPr/>
          </p:nvGraphicFramePr>
          <p:xfrm>
            <a:off x="1992240" y="2405160"/>
            <a:ext cx="3925800" cy="1063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92240" y="2405160"/>
                      <a:ext cx="3925800" cy="106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80" name=""/>
          <p:cNvGraphicFramePr/>
          <p:nvPr/>
        </p:nvGraphicFramePr>
        <p:xfrm>
          <a:off x="1609560" y="3557520"/>
          <a:ext cx="3189600" cy="106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9560" y="3557520"/>
                    <a:ext cx="3189600" cy="10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1608120" y="4640400"/>
          <a:ext cx="3490920" cy="1063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8120" y="4640400"/>
                    <a:ext cx="3490920" cy="10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1608120" y="5726160"/>
          <a:ext cx="1407960" cy="1063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08120" y="5726160"/>
                    <a:ext cx="1407960" cy="10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120320" y="751680"/>
            <a:ext cx="27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科书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页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1"/>
          <a:stretch/>
        </p:blipFill>
        <p:spPr>
          <a:xfrm>
            <a:off x="6296040" y="2087640"/>
            <a:ext cx="2684520" cy="40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2"/>
          <p:cNvSpPr/>
          <p:nvPr/>
        </p:nvSpPr>
        <p:spPr>
          <a:xfrm>
            <a:off x="585720" y="2130480"/>
            <a:ext cx="7991640" cy="2606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005e9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028880" y="2457360"/>
            <a:ext cx="7081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经常不断地学习，你就什么都知道。    你知道得越多，你就越有力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————  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高尔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矩形 5" descr=""/>
          <p:cNvPicPr/>
          <p:nvPr/>
        </p:nvPicPr>
        <p:blipFill>
          <a:blip r:embed="rId1"/>
          <a:stretch/>
        </p:blipFill>
        <p:spPr>
          <a:xfrm>
            <a:off x="3035160" y="639720"/>
            <a:ext cx="3011760" cy="11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582480" y="113220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．叙述有理数的加法法则．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1303200" y="1851120"/>
            <a:ext cx="571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．叙述有理数的加法运算律．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303200" y="257184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．叙述有理数的减法法则．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287360" y="336384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．小学加减法混合运算的顺序是怎样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601640" y="297000"/>
            <a:ext cx="18288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知识回顾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089240" y="3610080"/>
            <a:ext cx="4113360" cy="30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789480" y="1701000"/>
            <a:ext cx="175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计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579760" y="1739880"/>
          <a:ext cx="523224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9760" y="1739880"/>
                    <a:ext cx="5232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Rectangle 7"/>
          <p:cNvSpPr/>
          <p:nvPr/>
        </p:nvSpPr>
        <p:spPr>
          <a:xfrm>
            <a:off x="611280" y="2226240"/>
            <a:ext cx="8532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这个算式中有加法，也有减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可以根据有理数减法法则，把它改写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970560" y="2427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606680" y="303120"/>
            <a:ext cx="411480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创设情境，引入新知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787400" y="3767040"/>
          <a:ext cx="5089680" cy="56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87400" y="3767040"/>
                    <a:ext cx="508968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1403280" y="4365720"/>
            <a:ext cx="547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5364000" y="4726080"/>
            <a:ext cx="3492360" cy="1511280"/>
            <a:chOff x="5364000" y="4726080"/>
            <a:chExt cx="3492360" cy="1511280"/>
          </a:xfrm>
        </p:grpSpPr>
        <p:sp>
          <p:nvSpPr>
            <p:cNvPr id="58" name=""/>
            <p:cNvSpPr/>
            <p:nvPr/>
          </p:nvSpPr>
          <p:spPr>
            <a:xfrm>
              <a:off x="5364000" y="4726080"/>
              <a:ext cx="3492360" cy="1511280"/>
            </a:xfrm>
            <a:prstGeom prst="cloudCallout">
              <a:avLst>
                <a:gd name="adj1" fmla="val -83180"/>
                <a:gd name="adj2" fmla="val -66384"/>
              </a:avLst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867280" y="5013360"/>
              <a:ext cx="2663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使问题转化为几个有理数的加法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5"/>
          <p:cNvSpPr/>
          <p:nvPr/>
        </p:nvSpPr>
        <p:spPr>
          <a:xfrm>
            <a:off x="933840" y="1551240"/>
            <a:ext cx="146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例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计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629080" y="1557360"/>
          <a:ext cx="496728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9080" y="1557360"/>
                    <a:ext cx="49672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Text Box 10"/>
          <p:cNvSpPr/>
          <p:nvPr/>
        </p:nvSpPr>
        <p:spPr>
          <a:xfrm>
            <a:off x="980640" y="234792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71760" y="3139920"/>
          <a:ext cx="508788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71760" y="3139920"/>
                    <a:ext cx="50878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1403280" y="4653000"/>
            <a:ext cx="547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855800" y="2492280"/>
          <a:ext cx="5021280" cy="57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55800" y="2492280"/>
                    <a:ext cx="502128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1566720" y="3933720"/>
          <a:ext cx="6029640" cy="57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66720" y="3933720"/>
                    <a:ext cx="60296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576440" y="4724280"/>
          <a:ext cx="2892240" cy="576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76440" y="4724280"/>
                    <a:ext cx="28922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1617840" y="5516640"/>
          <a:ext cx="1585800" cy="520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17840" y="5516640"/>
                    <a:ext cx="15858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5" name=""/>
          <p:cNvGrpSpPr/>
          <p:nvPr/>
        </p:nvGrpSpPr>
        <p:grpSpPr>
          <a:xfrm>
            <a:off x="5957640" y="4591080"/>
            <a:ext cx="2726280" cy="2170080"/>
            <a:chOff x="5957640" y="4591080"/>
            <a:chExt cx="2726280" cy="2170080"/>
          </a:xfrm>
        </p:grpSpPr>
        <p:sp>
          <p:nvSpPr>
            <p:cNvPr id="76" name=""/>
            <p:cNvSpPr/>
            <p:nvPr/>
          </p:nvSpPr>
          <p:spPr>
            <a:xfrm rot="1074600">
              <a:off x="6132240" y="4919760"/>
              <a:ext cx="2376360" cy="1512720"/>
            </a:xfrm>
            <a:prstGeom prst="cloudCallout">
              <a:avLst>
                <a:gd name="adj1" fmla="val -83944"/>
                <a:gd name="adj2" fmla="val -42180"/>
              </a:avLst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564240" y="5278680"/>
              <a:ext cx="172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这里使用了哪些运算律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533600" y="3000240"/>
                <a:ext cx="4819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 txBox="1"/>
          <p:nvPr/>
        </p:nvSpPr>
        <p:spPr>
          <a:xfrm>
            <a:off x="1627200" y="272880"/>
            <a:ext cx="91440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归纳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0" name=""/>
          <p:cNvSpPr/>
          <p:nvPr/>
        </p:nvSpPr>
        <p:spPr>
          <a:xfrm>
            <a:off x="291960" y="1546200"/>
            <a:ext cx="847404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归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引入相反数后，加减混合运算可以统一为加减运算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771560" y="3706920"/>
            <a:ext cx="4345200" cy="272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327560" y="-54000"/>
            <a:ext cx="1839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8000" y="1476360"/>
            <a:ext cx="871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下列各式写成省略加号和的形式，并读出各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 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5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式子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还原成加号的和的形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76320" y="3444840"/>
            <a:ext cx="3889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8)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)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01640" y="290520"/>
            <a:ext cx="18288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自主预习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479680" y="4197240"/>
            <a:ext cx="4276800" cy="234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692360" y="1636560"/>
          <a:ext cx="4594320" cy="5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636560"/>
                    <a:ext cx="459432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7"/>
          <p:cNvSpPr/>
          <p:nvPr/>
        </p:nvSpPr>
        <p:spPr>
          <a:xfrm>
            <a:off x="639720" y="4482360"/>
            <a:ext cx="78296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个算式可以读作“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和”，或读作“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4840" y="1625760"/>
            <a:ext cx="12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算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2139840"/>
            <a:ext cx="7848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四个数的和，为书写简单，可以省略算式中的括号和加号，把它写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340000" y="3724200"/>
                <a:ext cx="29034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984960" y="1623240"/>
            <a:ext cx="15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例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计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625840" y="1628640"/>
          <a:ext cx="475452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5840" y="1628640"/>
                    <a:ext cx="47545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10"/>
          <p:cNvSpPr/>
          <p:nvPr/>
        </p:nvSpPr>
        <p:spPr>
          <a:xfrm>
            <a:off x="981360" y="242100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668600" y="3249720"/>
          <a:ext cx="3341520" cy="53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8600" y="3249720"/>
                    <a:ext cx="33415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403280" y="4726080"/>
            <a:ext cx="547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922400" y="2378160"/>
          <a:ext cx="486900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22400" y="2378160"/>
                    <a:ext cx="48690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674720" y="4003560"/>
          <a:ext cx="3335400" cy="506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4720" y="4003560"/>
                    <a:ext cx="333540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671480" y="4726080"/>
          <a:ext cx="1963800" cy="511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1480" y="4726080"/>
                    <a:ext cx="196380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1692360" y="5410080"/>
          <a:ext cx="1409760" cy="511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92360" y="5410080"/>
                    <a:ext cx="140976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5335560" y="4589640"/>
            <a:ext cx="3710160" cy="2016000"/>
          </a:xfrm>
          <a:prstGeom prst="cloudCallout">
            <a:avLst>
              <a:gd name="adj1" fmla="val -50986"/>
              <a:gd name="adj2" fmla="val -10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大胆探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在符号简写这个环节，有什么小窍门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736560"/>
            <a:ext cx="878508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计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6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45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7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55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4)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403280" y="1812960"/>
                <a:ext cx="589284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（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）</m:t>
                    </m:r>
                    <m:r>
                      <m:t xml:space="preserve">−</m:t>
                    </m:r>
                    <m:r>
                      <m:t xml:space="preserve">（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347760" y="4016520"/>
            <a:ext cx="8596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体验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加减混合运算的一般步骤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遇“减”化“加”，并写成省略加号的代数和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利用加法运算律，进行简便运算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求出结果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体验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交换加数的位置，要连同它的符号一起交换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274760" y="2863800"/>
                <a:ext cx="637848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7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1T03:22:35Z</dcterms:created>
  <dc:creator>Administrator</dc:creator>
  <dc:description/>
  <dc:language>en-US</dc:language>
  <cp:lastModifiedBy>Windows 用户</cp:lastModifiedBy>
  <dcterms:modified xsi:type="dcterms:W3CDTF">2016-09-21T02:16:3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