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wmf" ContentType="image/x-wmf"/>
  <Override PartName="/ppt/media/image14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9.jpeg" ContentType="image/jpeg"/>
  <Override PartName="/ppt/media/image10.wmf" ContentType="image/x-wmf"/>
  <Override PartName="/ppt/media/image2.png" ContentType="image/png"/>
  <Override PartName="/ppt/media/image5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BC37-346F-4CC3-9A7C-78B9572C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D9DC-25A5-4053-A7C0-B1E9B39A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DD04-6BA7-49C3-A29C-612F34A6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C5DF-FC54-4BC1-BEB0-D63C0224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9CA5-D8EF-490B-A059-045764DB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9D6A-8BDE-466E-B7E4-79177864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ECA8-FBC1-4E11-BE57-3D5ABA49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4DB0-D563-4B24-B9FB-EC4EB0D0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E0A1-40F7-48C9-A384-4B7F473F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2216-47FA-4A95-B0C5-681E084B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700B-DE73-48FE-8DF5-6C2F122E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97C2-9A2E-48A1-9046-75164B21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B7CF-84DF-407D-85A7-91D3B6334A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6360" y="2668680"/>
            <a:ext cx="45943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有理数的减法（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32000" y="198900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1628640"/>
            <a:ext cx="79930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考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小学，只有当</a:t>
            </a:r>
            <a:r>
              <a:rPr b="1" i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于或等于</a:t>
            </a:r>
            <a:r>
              <a:rPr b="1" i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，我们才会做</a:t>
            </a:r>
            <a:r>
              <a:rPr b="1" i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－</a:t>
            </a:r>
            <a:r>
              <a:rPr b="1" i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现在，当</a:t>
            </a:r>
            <a:r>
              <a:rPr b="1" i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于</a:t>
            </a:r>
            <a:r>
              <a:rPr b="1" i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，你会做</a:t>
            </a:r>
            <a:r>
              <a:rPr b="1" i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－</a:t>
            </a:r>
            <a:r>
              <a:rPr b="1" i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吗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般地，较小的数减去较大的数，所得的差的符号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596960" y="299880"/>
            <a:ext cx="182880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自主探究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5" name="叶子 212"/>
          <p:cNvSpPr/>
          <p:nvPr/>
        </p:nvSpPr>
        <p:spPr>
          <a:xfrm>
            <a:off x="1014480" y="1812960"/>
            <a:ext cx="471600" cy="563400"/>
          </a:xfrm>
          <a:custGeom>
            <a:avLst/>
            <a:gdLst/>
            <a:ahLst/>
            <a:rect l="l" t="t" r="r" b="b"/>
            <a:pathLst>
              <a:path w="63" h="57">
                <a:moveTo>
                  <a:pt x="0" y="55"/>
                </a:moveTo>
                <a:cubicBezTo>
                  <a:pt x="0" y="55"/>
                  <a:pt x="0" y="57"/>
                  <a:pt x="4" y="57"/>
                </a:cubicBezTo>
                <a:cubicBezTo>
                  <a:pt x="3" y="54"/>
                  <a:pt x="11" y="45"/>
                  <a:pt x="11" y="45"/>
                </a:cubicBezTo>
                <a:cubicBezTo>
                  <a:pt x="11" y="45"/>
                  <a:pt x="25" y="54"/>
                  <a:pt x="40" y="39"/>
                </a:cubicBezTo>
                <a:cubicBezTo>
                  <a:pt x="54" y="23"/>
                  <a:pt x="44" y="11"/>
                  <a:pt x="63" y="0"/>
                </a:cubicBezTo>
                <a:cubicBezTo>
                  <a:pt x="17" y="10"/>
                  <a:pt x="7" y="24"/>
                  <a:pt x="8" y="43"/>
                </a:cubicBezTo>
                <a:cubicBezTo>
                  <a:pt x="12" y="34"/>
                  <a:pt x="24" y="22"/>
                  <a:pt x="34" y="17"/>
                </a:cubicBezTo>
                <a:cubicBezTo>
                  <a:pt x="17" y="29"/>
                  <a:pt x="5" y="47"/>
                  <a:pt x="0" y="55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93040" y="1107360"/>
            <a:ext cx="25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科书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页   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1268280"/>
            <a:ext cx="853272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计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;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9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 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9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6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4221000"/>
            <a:ext cx="8020080" cy="22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计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º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温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 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º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º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786320" y="868320"/>
            <a:ext cx="6087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下列括号内各应填什么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（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-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-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-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       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0 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-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= 0 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        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（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-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- 3 =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-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       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+39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= 1 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计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（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+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-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；     （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（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+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0 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-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；             （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（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-23.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-12.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011000" y="497520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6640560" y="50896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-(-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7"/>
          <p:cNvSpPr/>
          <p:nvPr/>
        </p:nvSpPr>
        <p:spPr>
          <a:xfrm>
            <a:off x="6024600" y="15447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7"/>
          <p:cNvSpPr/>
          <p:nvPr/>
        </p:nvSpPr>
        <p:spPr>
          <a:xfrm>
            <a:off x="5164200" y="2117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7"/>
          <p:cNvSpPr/>
          <p:nvPr/>
        </p:nvSpPr>
        <p:spPr>
          <a:xfrm>
            <a:off x="557064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7"/>
          <p:cNvSpPr/>
          <p:nvPr/>
        </p:nvSpPr>
        <p:spPr>
          <a:xfrm>
            <a:off x="5079960" y="31971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-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44480" y="281160"/>
            <a:ext cx="1828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随堂练习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143000" y="10717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全班学生分成两个组进行游戏，答对一题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分，答错一题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分，游戏结束时，各组分数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23880" y="2620800"/>
          <a:ext cx="6095880" cy="134604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一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59" name="Text Box 23"/>
          <p:cNvSpPr/>
          <p:nvPr/>
        </p:nvSpPr>
        <p:spPr>
          <a:xfrm>
            <a:off x="1997280" y="460836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第一名超过第二名多少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第一名超过第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名多少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/>
          <p:cNvSpPr/>
          <p:nvPr/>
        </p:nvSpPr>
        <p:spPr>
          <a:xfrm>
            <a:off x="585720" y="2130480"/>
            <a:ext cx="7991640" cy="2606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5e9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28880" y="2457360"/>
            <a:ext cx="708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世上无难事只怕有心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矩形 5" descr=""/>
          <p:cNvPicPr/>
          <p:nvPr/>
        </p:nvPicPr>
        <p:blipFill>
          <a:blip r:embed="rId1"/>
          <a:stretch/>
        </p:blipFill>
        <p:spPr>
          <a:xfrm>
            <a:off x="3035160" y="639720"/>
            <a:ext cx="3011760" cy="11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1295280" y="15811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复习有理数的加法法则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23960" y="281160"/>
            <a:ext cx="1828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知识回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1308240" y="232092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计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  +  16       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（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（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10      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   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（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 7      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 +    0          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+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235560" y="4084560"/>
            <a:ext cx="1841760" cy="192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0800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11360" y="317520"/>
            <a:ext cx="4114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创设情境，引入新知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"/>
          <p:cNvSpPr/>
          <p:nvPr/>
        </p:nvSpPr>
        <p:spPr>
          <a:xfrm>
            <a:off x="235080" y="3152880"/>
            <a:ext cx="3012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北京某天气温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º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º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这天的温差是多少摄氏度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930400" y="852480"/>
            <a:ext cx="3816360" cy="1539720"/>
            <a:chOff x="2930400" y="852480"/>
            <a:chExt cx="3816360" cy="1539720"/>
          </a:xfrm>
        </p:grpSpPr>
        <p:sp>
          <p:nvSpPr>
            <p:cNvPr id="50" name=""/>
            <p:cNvSpPr/>
            <p:nvPr/>
          </p:nvSpPr>
          <p:spPr>
            <a:xfrm>
              <a:off x="2930400" y="852480"/>
              <a:ext cx="3816360" cy="1539720"/>
            </a:xfrm>
            <a:prstGeom prst="cloudCallout">
              <a:avLst>
                <a:gd name="adj1" fmla="val -83819"/>
                <a:gd name="adj2" fmla="val 99791"/>
              </a:avLst>
            </a:prstGeom>
            <a:solidFill>
              <a:srgbClr val="ffcc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79840" y="1139760"/>
              <a:ext cx="2663640" cy="8262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温差是指最高气温减最低气温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08280" y="2901960"/>
            <a:ext cx="1101960" cy="3639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799240" y="44578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)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99240" y="44672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2"/>
          <p:cNvSpPr/>
          <p:nvPr/>
        </p:nvSpPr>
        <p:spPr>
          <a:xfrm>
            <a:off x="1367280" y="187560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怎样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564000" y="1978200"/>
          <a:ext cx="180000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978200"/>
                    <a:ext cx="18000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13"/>
          <p:cNvSpPr/>
          <p:nvPr/>
        </p:nvSpPr>
        <p:spPr>
          <a:xfrm>
            <a:off x="3934440" y="344664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5507640" y="19065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6"/>
          <p:cNvSpPr/>
          <p:nvPr/>
        </p:nvSpPr>
        <p:spPr>
          <a:xfrm>
            <a:off x="1723320" y="2571120"/>
            <a:ext cx="113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想一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1951560" y="3779280"/>
            <a:ext cx="5045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观察（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）（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）两个等式得出的结果，你发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了什么？从结果中能看出减－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相当于加哪个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1"/>
          <p:cNvSpPr/>
          <p:nvPr/>
        </p:nvSpPr>
        <p:spPr>
          <a:xfrm>
            <a:off x="596880" y="537876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幼圆"/>
              </a:rPr>
              <a:t>思考：对于其它的数，这个猜想还成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492360" y="2698920"/>
          <a:ext cx="1729080" cy="49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2698920"/>
                    <a:ext cx="172908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ext Box 22"/>
          <p:cNvSpPr/>
          <p:nvPr/>
        </p:nvSpPr>
        <p:spPr>
          <a:xfrm>
            <a:off x="5219640" y="262584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611360" y="282600"/>
            <a:ext cx="1828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自主预习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419120" y="2657520"/>
          <a:ext cx="182556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9120" y="2657520"/>
                    <a:ext cx="18255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672000" y="2674800"/>
          <a:ext cx="223200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2000" y="2674800"/>
                    <a:ext cx="22320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6281640" y="2671920"/>
          <a:ext cx="2266920" cy="59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81640" y="2671920"/>
                    <a:ext cx="226692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Rectangle 13"/>
          <p:cNvSpPr/>
          <p:nvPr/>
        </p:nvSpPr>
        <p:spPr>
          <a:xfrm>
            <a:off x="134280" y="84348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4068000" y="113040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441360" y="4149000"/>
            <a:ext cx="367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这些数减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的结果与它们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的结果相同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9"/>
          <p:cNvSpPr/>
          <p:nvPr/>
        </p:nvSpPr>
        <p:spPr>
          <a:xfrm>
            <a:off x="1619280" y="987480"/>
            <a:ext cx="5400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上式中的数换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用上面的方法考虑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5216400" y="3701880"/>
            <a:ext cx="3171960" cy="211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679320" y="168876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去一个正数，还等于加上这个正数的相反数吗？举例说明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873000" y="3317760"/>
          <a:ext cx="337680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3000" y="3317760"/>
                    <a:ext cx="33768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649760" y="3368520"/>
          <a:ext cx="3927600" cy="58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9760" y="3368520"/>
                    <a:ext cx="39276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936720" y="4152960"/>
          <a:ext cx="3492360" cy="5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6720" y="4152960"/>
                    <a:ext cx="34923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513320" y="4165560"/>
          <a:ext cx="4137120" cy="54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13320" y="4165560"/>
                    <a:ext cx="41371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Rectangle 12"/>
          <p:cNvSpPr/>
          <p:nvPr/>
        </p:nvSpPr>
        <p:spPr>
          <a:xfrm>
            <a:off x="1599840" y="5261760"/>
            <a:ext cx="32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从中又能有新的发现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1081080" y="30434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你能用字母把减法法则表示出来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4471560" y="2075400"/>
            <a:ext cx="6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微软雅黑"/>
                <a:ea typeface="微软雅黑"/>
              </a:rPr>
              <a:t>减去一个数，等于加上这个数的相反数．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1996920" y="297648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81080" y="1170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有理数减法法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162160" y="3978360"/>
            <a:ext cx="3384720" cy="792000"/>
            <a:chOff x="2162160" y="3978360"/>
            <a:chExt cx="3384720" cy="792000"/>
          </a:xfrm>
        </p:grpSpPr>
        <p:graphicFrame>
          <p:nvGraphicFramePr>
            <p:cNvPr id="93" name=""/>
            <p:cNvGraphicFramePr/>
            <p:nvPr/>
          </p:nvGraphicFramePr>
          <p:xfrm>
            <a:off x="2416320" y="4049640"/>
            <a:ext cx="2808000" cy="565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16320" y="4049640"/>
                      <a:ext cx="280800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" name=""/>
            <p:cNvSpPr/>
            <p:nvPr/>
          </p:nvSpPr>
          <p:spPr>
            <a:xfrm>
              <a:off x="2162160" y="3978360"/>
              <a:ext cx="3384720" cy="79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 txBox="1"/>
          <p:nvPr/>
        </p:nvSpPr>
        <p:spPr>
          <a:xfrm>
            <a:off x="1611360" y="303120"/>
            <a:ext cx="182880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知识梳理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270920" y="3828960"/>
            <a:ext cx="1118880" cy="25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2222640" y="1865160"/>
          <a:ext cx="187308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2640" y="1865160"/>
                    <a:ext cx="18730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6400800" y="1898640"/>
          <a:ext cx="863640" cy="4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898640"/>
                    <a:ext cx="86364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222640" y="2847960"/>
          <a:ext cx="201600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22640" y="2847960"/>
                    <a:ext cx="20160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6400800" y="2585880"/>
          <a:ext cx="1870200" cy="99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00800" y="2585880"/>
                    <a:ext cx="1870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8"/>
          <p:cNvSpPr/>
          <p:nvPr/>
        </p:nvSpPr>
        <p:spPr>
          <a:xfrm>
            <a:off x="1342440" y="857520"/>
            <a:ext cx="17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计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681520" y="18288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1143000" y="2381760"/>
            <a:ext cx="100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5709240" y="281304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3961440" y="3720240"/>
            <a:ext cx="27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1432080" y="181620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27720" y="18874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73880" y="28735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27720" y="28242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3000" y="18162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2376360" y="3765600"/>
            <a:ext cx="4119840" cy="27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8"/>
          <p:cNvSpPr/>
          <p:nvPr/>
        </p:nvSpPr>
        <p:spPr>
          <a:xfrm>
            <a:off x="1591200" y="785880"/>
            <a:ext cx="156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微软雅黑"/>
                <a:ea typeface="微软雅黑"/>
              </a:rPr>
              <a:t>例</a:t>
            </a:r>
            <a:r>
              <a:rPr b="1" lang="en-US" sz="2800" spc="-1" strike="noStrike">
                <a:solidFill>
                  <a:srgbClr val="008000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微软雅黑"/>
                <a:ea typeface="微软雅黑"/>
              </a:rPr>
              <a:t>4 </a:t>
            </a:r>
            <a:r>
              <a:rPr b="1" lang="zh-CN" sz="2800" spc="-1" strike="noStrike">
                <a:solidFill>
                  <a:srgbClr val="008000"/>
                </a:solidFill>
                <a:latin typeface="微软雅黑"/>
                <a:ea typeface="微软雅黑"/>
              </a:rPr>
              <a:t>计算</a:t>
            </a:r>
            <a:r>
              <a:rPr b="1" lang="en-US" sz="2800" spc="-1" strike="noStrike">
                <a:solidFill>
                  <a:srgbClr val="008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06640" y="1965240"/>
            <a:ext cx="3528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：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33880" y="2016000"/>
            <a:ext cx="302436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＝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952640" y="1527120"/>
          <a:ext cx="18288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2640" y="1527120"/>
                    <a:ext cx="1828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776920" y="1539720"/>
          <a:ext cx="754200" cy="41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76920" y="1539720"/>
                    <a:ext cx="754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Rectangle 9"/>
          <p:cNvSpPr/>
          <p:nvPr/>
        </p:nvSpPr>
        <p:spPr>
          <a:xfrm>
            <a:off x="5000040" y="1468440"/>
            <a:ext cx="5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1101600" y="1457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93960" y="14572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50120" y="14414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52560" y="4502160"/>
            <a:ext cx="35290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：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776840" y="4468680"/>
            <a:ext cx="4033800" cy="2324160"/>
            <a:chOff x="4776840" y="4468680"/>
            <a:chExt cx="4033800" cy="2324160"/>
          </a:xfrm>
        </p:grpSpPr>
        <p:sp>
          <p:nvSpPr>
            <p:cNvPr id="130" name=""/>
            <p:cNvSpPr/>
            <p:nvPr/>
          </p:nvSpPr>
          <p:spPr>
            <a:xfrm>
              <a:off x="4776840" y="4681440"/>
              <a:ext cx="3333600" cy="20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解：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1" name=""/>
            <p:cNvGraphicFramePr/>
            <p:nvPr/>
          </p:nvGraphicFramePr>
          <p:xfrm>
            <a:off x="5556240" y="4468680"/>
            <a:ext cx="3254400" cy="1081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56240" y="4468680"/>
                      <a:ext cx="3254400" cy="10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" name=""/>
            <p:cNvGraphicFramePr/>
            <p:nvPr/>
          </p:nvGraphicFramePr>
          <p:xfrm>
            <a:off x="5897520" y="5713200"/>
            <a:ext cx="1027080" cy="1079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897520" y="5713200"/>
                      <a:ext cx="1027080" cy="10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5" name=""/>
          <p:cNvGraphicFramePr/>
          <p:nvPr/>
        </p:nvGraphicFramePr>
        <p:xfrm>
          <a:off x="1987560" y="3871800"/>
          <a:ext cx="1919160" cy="4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7560" y="3871800"/>
                    <a:ext cx="19191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640480" y="3554280"/>
          <a:ext cx="1966680" cy="993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40480" y="3554280"/>
                    <a:ext cx="1966680" cy="9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Rectangle 10"/>
          <p:cNvSpPr/>
          <p:nvPr/>
        </p:nvSpPr>
        <p:spPr>
          <a:xfrm>
            <a:off x="880920" y="3339720"/>
            <a:ext cx="12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4971600" y="3767400"/>
            <a:ext cx="5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49640" y="37814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1T03:22:35Z</dcterms:created>
  <dc:creator>Administrator</dc:creator>
  <dc:description/>
  <dc:language>en-US</dc:language>
  <cp:lastModifiedBy>Windows 用户</cp:lastModifiedBy>
  <dcterms:modified xsi:type="dcterms:W3CDTF">2016-09-21T02:16:3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