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7C5-80FE-4135-8B9C-20BAD523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A91-09D9-4DFC-950C-58F1E321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F25-183B-4C63-BFB0-E9468532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FA2-8DEF-4DEC-A77D-A20EED09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BF7-68FC-4AD0-9B88-8D8B3CF7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CAE-9EDE-4A2E-8C22-E4DC7E6A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7C2-63F7-4AB9-9BB5-8E9408DD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1A6-B10B-48EE-8E5F-B4AD8A11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E47-8A0A-435B-9D4E-42AC936C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6C2-C759-4CE8-A506-5C6E4C87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DA3-0E10-4704-9985-B843E230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372-43B2-4FE4-9107-F9EDF0D1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2E4F-BA7A-4786-9265-12A4736CA5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6360" y="2668680"/>
            <a:ext cx="45943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有理数的加法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63640" y="2108160"/>
            <a:ext cx="184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39800" y="27936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知识梳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2193480" y="1581120"/>
            <a:ext cx="50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有理数的加法仍满足加法交换律和结合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5200" y="2368440"/>
            <a:ext cx="751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加法交换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两个数相加，交换加数的位置，和不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a+b=b+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2080" y="3995640"/>
            <a:ext cx="758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加法结合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三个数相加，先把前两个数相加，或者先把后两个数相加，和不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(a+b)+c=a+(b+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733400" y="242892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互为相反数的两个数先相加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相反数结合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701000" y="307800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符号相同的两个数先相加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同号结合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628280" y="365436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分母相同的数先相加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同分母结合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9040" y="424188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几个数相加得到整数，先相加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凑整法；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841760" y="4878360"/>
            <a:ext cx="50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整数与整数，小数与小数相加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同形结合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4040" y="14382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我们在哪些情况下考虑使用加法运算律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39800" y="27936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知识梳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9600" y="1600200"/>
            <a:ext cx="61214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66800" y="27468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随堂练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5080" y="1943280"/>
            <a:ext cx="2470320" cy="37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77840" y="2803680"/>
            <a:ext cx="5257440" cy="2253600"/>
            <a:chOff x="177840" y="2803680"/>
            <a:chExt cx="5257440" cy="2253600"/>
          </a:xfrm>
        </p:grpSpPr>
        <p:graphicFrame>
          <p:nvGraphicFramePr>
            <p:cNvPr id="107" name=""/>
            <p:cNvGraphicFramePr/>
            <p:nvPr/>
          </p:nvGraphicFramePr>
          <p:xfrm>
            <a:off x="1675080" y="2803680"/>
            <a:ext cx="2983680" cy="96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5080" y="2803680"/>
                      <a:ext cx="2983680" cy="96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1618200" y="4103640"/>
            <a:ext cx="3817080" cy="95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8200" y="4103640"/>
                      <a:ext cx="3817080" cy="95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177840" y="296208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7840" y="43304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55560" y="17622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48480" y="2270160"/>
            <a:ext cx="3157560" cy="2921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666800" y="27468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随堂练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585720" y="2130480"/>
            <a:ext cx="7991640" cy="2606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28880" y="2457360"/>
            <a:ext cx="708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生的价值，并不是用时间，而是用深度去衡量的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列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托尔斯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矩形 5" descr=""/>
          <p:cNvPicPr/>
          <p:nvPr/>
        </p:nvPicPr>
        <p:blipFill>
          <a:blip r:embed="rId1"/>
          <a:stretch/>
        </p:blipFill>
        <p:spPr>
          <a:xfrm>
            <a:off x="3035160" y="639720"/>
            <a:ext cx="301176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2968560"/>
            <a:ext cx="365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2968560"/>
            <a:ext cx="365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1"/>
          <p:cNvSpPr/>
          <p:nvPr/>
        </p:nvSpPr>
        <p:spPr>
          <a:xfrm>
            <a:off x="0" y="2968560"/>
            <a:ext cx="365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4"/>
          <p:cNvSpPr/>
          <p:nvPr/>
        </p:nvSpPr>
        <p:spPr>
          <a:xfrm>
            <a:off x="0" y="2968560"/>
            <a:ext cx="365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16040" y="28260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知识回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1015920" y="2687760"/>
            <a:ext cx="7199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8120" y="909720"/>
            <a:ext cx="7758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有理数加法法则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0)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0)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3)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3)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7)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6        16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48280" y="4464000"/>
            <a:ext cx="2905200" cy="21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838080" y="0"/>
            <a:ext cx="5562720" cy="1189080"/>
            <a:chOff x="838080" y="0"/>
            <a:chExt cx="5562720" cy="1189080"/>
          </a:xfrm>
        </p:grpSpPr>
        <p:sp>
          <p:nvSpPr>
            <p:cNvPr id="51" name="Text Box 5"/>
            <p:cNvSpPr/>
            <p:nvPr/>
          </p:nvSpPr>
          <p:spPr>
            <a:xfrm>
              <a:off x="2971800" y="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7"/>
            <p:cNvSpPr/>
            <p:nvPr/>
          </p:nvSpPr>
          <p:spPr>
            <a:xfrm>
              <a:off x="838080" y="60948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101600" y="979560"/>
            <a:ext cx="77407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下面各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9.18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+6.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6.18+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—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9.18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—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.3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—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.6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；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—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.6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 —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.3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14600" y="289080"/>
            <a:ext cx="4114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创设情境，引入新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6"/>
          <p:cNvSpPr/>
          <p:nvPr/>
        </p:nvSpPr>
        <p:spPr>
          <a:xfrm>
            <a:off x="763560" y="179388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比较以上各组两个算式的结果有什么关系？每组两个算式有什么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7"/>
          <p:cNvSpPr/>
          <p:nvPr/>
        </p:nvSpPr>
        <p:spPr>
          <a:xfrm>
            <a:off x="919080" y="2728800"/>
            <a:ext cx="70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小学学的加法交换律在有理数的加法中还适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909720" y="400680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请你再换几个加数，试一试，看一看所得的结果 如何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49520" y="287280"/>
            <a:ext cx="9144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观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62600" y="4478400"/>
            <a:ext cx="2320920" cy="199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2143440" y="1550880"/>
            <a:ext cx="31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用精炼的语言表述这一结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把该规律用字母表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4360" y="3068640"/>
            <a:ext cx="79930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bbe0e3"/>
                </a:solidFill>
                <a:latin typeface="楷体_GB2312"/>
                <a:ea typeface="微软雅黑"/>
              </a:rPr>
              <a:t>有理数加法中，两个数相加，交换加数的位置，和不变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03440" y="29988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自主预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80720" y="4549680"/>
            <a:ext cx="4988160" cy="676440"/>
            <a:chOff x="1980720" y="4549680"/>
            <a:chExt cx="4988160" cy="676440"/>
          </a:xfrm>
        </p:grpSpPr>
        <p:sp>
          <p:nvSpPr>
            <p:cNvPr id="64" name="Text Box 7"/>
            <p:cNvSpPr/>
            <p:nvPr/>
          </p:nvSpPr>
          <p:spPr>
            <a:xfrm>
              <a:off x="1980720" y="462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加法交换律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3851280" y="4549680"/>
                  <a:ext cx="311760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笔 178"/>
          <p:cNvSpPr/>
          <p:nvPr/>
        </p:nvSpPr>
        <p:spPr>
          <a:xfrm flipH="1">
            <a:off x="722160" y="3071880"/>
            <a:ext cx="447840" cy="37764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87280" y="1589040"/>
          <a:ext cx="288000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89040"/>
                    <a:ext cx="28800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429080" y="1585800"/>
          <a:ext cx="2879640" cy="7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1585800"/>
                    <a:ext cx="28796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8"/>
          <p:cNvSpPr/>
          <p:nvPr/>
        </p:nvSpPr>
        <p:spPr>
          <a:xfrm>
            <a:off x="0" y="234864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两个式子的结果有什么关系？说说你的猜想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258840" y="312588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再换几个数试一试，你的猜想是否还成立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50920" y="386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请用精炼的语言把你得到的结论概括出来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你能用字母把这个规律表示出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120920" y="1838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06680" y="281160"/>
            <a:ext cx="4114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创设情境，引入新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9"/>
          <p:cNvSpPr/>
          <p:nvPr/>
        </p:nvSpPr>
        <p:spPr>
          <a:xfrm>
            <a:off x="658800" y="1514520"/>
            <a:ext cx="741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理数的加法中，三个数相加，先把前两个数相加，或者先把后两个数相加，和不变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476360" y="3343320"/>
            <a:ext cx="4967280" cy="1415880"/>
            <a:chOff x="1476360" y="3343320"/>
            <a:chExt cx="4967280" cy="1415880"/>
          </a:xfrm>
        </p:grpSpPr>
        <p:sp>
          <p:nvSpPr>
            <p:cNvPr id="78" name="Text Box 10"/>
            <p:cNvSpPr/>
            <p:nvPr/>
          </p:nvSpPr>
          <p:spPr>
            <a:xfrm>
              <a:off x="1836360" y="33433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加法结合律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1476360" y="4062600"/>
                  <a:ext cx="4967280" cy="69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"/>
          <p:cNvSpPr txBox="1"/>
          <p:nvPr/>
        </p:nvSpPr>
        <p:spPr>
          <a:xfrm>
            <a:off x="1609560" y="24912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自主预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笔 177"/>
          <p:cNvSpPr/>
          <p:nvPr/>
        </p:nvSpPr>
        <p:spPr>
          <a:xfrm flipH="1">
            <a:off x="844560" y="1687680"/>
            <a:ext cx="447840" cy="52524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59320" y="4305240"/>
            <a:ext cx="462096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1160640" y="1029600"/>
            <a:ext cx="61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  <a:ea typeface="Times New Roman"/>
              </a:rPr>
              <a:t>计算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6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5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4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5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06680" y="27144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自主探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1508040" y="1914480"/>
            <a:ext cx="540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4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6+24+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72160" y="2965320"/>
            <a:ext cx="3120840" cy="3551400"/>
          </a:xfrm>
          <a:prstGeom prst="rect">
            <a:avLst/>
          </a:prstGeom>
          <a:ln w="0">
            <a:noFill/>
          </a:ln>
        </p:spPr>
      </p:pic>
      <p:sp>
        <p:nvSpPr>
          <p:cNvPr id="87" name="弧边矩形 184"/>
          <p:cNvSpPr/>
          <p:nvPr/>
        </p:nvSpPr>
        <p:spPr>
          <a:xfrm>
            <a:off x="4524480" y="6264360"/>
            <a:ext cx="3162240" cy="32688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41600" y="2063880"/>
            <a:ext cx="6192720" cy="2114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174680" y="1239840"/>
            <a:ext cx="78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  1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袋小麦称后记录如图所示（单位：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g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26920" y="4154400"/>
            <a:ext cx="7560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袋小麦一共多少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g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）如果每袋小麦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90 kg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为标准，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袋小麦总计超过多少千克或不足多少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g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03:22:35Z</dcterms:created>
  <dc:creator>Administrator</dc:creator>
  <dc:description/>
  <dc:language>en-US</dc:language>
  <cp:lastModifiedBy>Windows 用户</cp:lastModifiedBy>
  <dcterms:modified xsi:type="dcterms:W3CDTF">2016-09-21T02:16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