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8.png" ContentType="image/png"/>
  <Override PartName="/ppt/media/type.wav" ContentType="audio/x-wav"/>
  <Override PartName="/ppt/media/chimes.wav" ContentType="audio/x-wav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applause.wav" ContentType="audio/x-wav"/>
  <Override PartName="/ppt/media/image5.wmf" ContentType="image/x-wmf"/>
  <Override PartName="/ppt/media/image4.jpeg" ContentType="image/jpeg"/>
  <Override PartName="/ppt/media/image10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1EA-01D7-47BD-9EC4-77D9E502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D21-69F4-4F8B-8F3F-4B6ECCD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0F3-6D22-431C-961C-3064A3AB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427-35C6-46C3-B342-4DE48DDC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7C3-3533-40AB-AB4A-8696D84B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5E4-E2F0-4A9E-9A85-956FFCF8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51C-3921-44FC-902C-C61DA3F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0DD-6B49-4F06-A375-9DBAB6E1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9D4-C3EF-4283-84DB-99F294E3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59B-E2AA-4EE4-BCFF-090D17D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0EA-B6F0-46A8-A6F3-516BE5E6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1F7-317E-446B-B09F-D8D8693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5A4D-C8D0-4954-B484-50C0CFA2C0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package" Target="../embeddings/oleObject1.docx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package" Target="../embeddings/oleObject2.docx"/><Relationship Id="rId14" Type="http://schemas.openxmlformats.org/officeDocument/2006/relationships/image" Target="../media/image16.wmf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chimes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himes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chimes.wav"/><Relationship Id="rId30" Type="http://schemas.openxmlformats.org/officeDocument/2006/relationships/audio" Target="../media/applause.wav"/><Relationship Id="rId3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6360" y="2668680"/>
            <a:ext cx="45943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有理数的加法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442520" y="1066320"/>
            <a:ext cx="70074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如果物体向右运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，再向左运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，那么两次运动的结果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3080" y="2563920"/>
            <a:ext cx="42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叶子 279"/>
          <p:cNvSpPr/>
          <p:nvPr/>
        </p:nvSpPr>
        <p:spPr>
          <a:xfrm>
            <a:off x="1609560" y="1155600"/>
            <a:ext cx="366840" cy="4176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92080" y="314316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算式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⑤表明，互为相反数的两个数相加，结果为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280" y="3881160"/>
            <a:ext cx="779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物体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右（或左）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原地不动，很显然，两秒后物体从起点向右（或左）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m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用算式表示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440" y="5324400"/>
            <a:ext cx="61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 或  （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  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5875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38600" y="58831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一个数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相加，仍得这个数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3213000"/>
            <a:ext cx="86407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同号两数相加，取相同符号，并把绝对值相加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绝对值不相等的异号两数相加，取绝对值较大的加数的符号，并用较大的绝对值减去较小的绝对值，互为相反数的两个数相加得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一个数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相加，仍得这个数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1080" y="2565360"/>
            <a:ext cx="188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有理数加法法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5560" y="977760"/>
            <a:ext cx="7777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算式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~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知，有理数加法运算中，根据我们前面讨论的不同情况完整地将有理数的加法法则表述出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49440" y="30780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知识梳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819000" y="114948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理数加法运算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据有理数的加法法则确定和的符号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>
            <a:hlinkClick r:id="rId1" action="ppaction://hlinksldjump"/>
          </p:cNvPr>
          <p:cNvSpPr/>
          <p:nvPr/>
        </p:nvSpPr>
        <p:spPr>
          <a:xfrm>
            <a:off x="8126280" y="5981760"/>
            <a:ext cx="184320" cy="36648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366480"/>
              <a:gd name="textAreaBottom" fmla="*/ 354600 h 366480"/>
            </a:gdLst>
            <a:ahLst/>
            <a:rect l="textAreaLeft" t="textAreaTop" r="textAreaRight" b="textAreaBottom"/>
            <a:pathLst>
              <a:path w="21600" h="42905">
                <a:moveTo>
                  <a:pt x="0" y="0"/>
                </a:moveTo>
                <a:lnTo>
                  <a:pt x="21600" y="0"/>
                </a:lnTo>
                <a:lnTo>
                  <a:pt x="21600" y="42905"/>
                </a:lnTo>
                <a:lnTo>
                  <a:pt x="0" y="42905"/>
                </a:lnTo>
                <a:close/>
              </a:path>
              <a:path fill="lightenLess" w="21600" h="42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05">
                <a:moveTo>
                  <a:pt x="21600" y="0"/>
                </a:moveTo>
                <a:lnTo>
                  <a:pt x="21600" y="42905"/>
                </a:lnTo>
                <a:lnTo>
                  <a:pt x="20200" y="41505"/>
                </a:lnTo>
                <a:lnTo>
                  <a:pt x="20200" y="1400"/>
                </a:lnTo>
                <a:close/>
              </a:path>
              <a:path fill="darkenLess" w="21600" h="42905">
                <a:moveTo>
                  <a:pt x="21600" y="42905"/>
                </a:moveTo>
                <a:lnTo>
                  <a:pt x="0" y="42905"/>
                </a:lnTo>
                <a:lnTo>
                  <a:pt x="1400" y="41505"/>
                </a:lnTo>
                <a:lnTo>
                  <a:pt x="20200" y="41505"/>
                </a:lnTo>
                <a:close/>
              </a:path>
              <a:path fill="lighten" w="21600" h="42905">
                <a:moveTo>
                  <a:pt x="0" y="42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05"/>
                </a:lnTo>
                <a:close/>
              </a:path>
              <a:path fill="darken" w="21600" h="42905">
                <a:moveTo>
                  <a:pt x="3794" y="21453"/>
                </a:moveTo>
                <a:lnTo>
                  <a:pt x="17806" y="14446"/>
                </a:lnTo>
                <a:lnTo>
                  <a:pt x="17806" y="2845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68360" y="566100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根据有理数的加法法则进行绝对值的加减运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84240" y="2268360"/>
            <a:ext cx="6524640" cy="34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073160" y="1434960"/>
            <a:ext cx="7102440" cy="534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1143000" y="1897200"/>
            <a:ext cx="6237360" cy="469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609480" y="2443320"/>
            <a:ext cx="5273640" cy="39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1089000" y="2414520"/>
            <a:ext cx="5719680" cy="561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5"/>
          <a:stretch/>
        </p:blipFill>
        <p:spPr>
          <a:xfrm>
            <a:off x="1523880" y="2824200"/>
            <a:ext cx="5273640" cy="474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6"/>
          <a:stretch/>
        </p:blipFill>
        <p:spPr>
          <a:xfrm>
            <a:off x="1508040" y="3265560"/>
            <a:ext cx="5273640" cy="5364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9"/>
          <p:cNvSpPr/>
          <p:nvPr/>
        </p:nvSpPr>
        <p:spPr>
          <a:xfrm>
            <a:off x="68400" y="3146400"/>
            <a:ext cx="1371600" cy="685800"/>
          </a:xfrm>
          <a:prstGeom prst="wedgeRectCallout">
            <a:avLst>
              <a:gd name="adj1" fmla="val 74189"/>
              <a:gd name="adj2" fmla="val -5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号（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可以省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1066680" y="3875040"/>
            <a:ext cx="5273640" cy="574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1523880" y="4332240"/>
            <a:ext cx="5424480" cy="549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"/>
          <p:cNvPicPr/>
          <p:nvPr/>
        </p:nvPicPr>
        <p:blipFill>
          <a:blip r:embed="rId9"/>
          <a:stretch/>
        </p:blipFill>
        <p:spPr>
          <a:xfrm>
            <a:off x="1523880" y="4789440"/>
            <a:ext cx="5273640" cy="4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13"/>
          <p:cNvGraphicFramePr/>
          <p:nvPr/>
        </p:nvGraphicFramePr>
        <p:xfrm>
          <a:off x="1066680" y="5246640"/>
          <a:ext cx="5273640" cy="5000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66680" y="5246640"/>
                    <a:ext cx="5273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Picture 14" descr=""/>
          <p:cNvPicPr/>
          <p:nvPr/>
        </p:nvPicPr>
        <p:blipFill>
          <a:blip r:embed="rId12"/>
          <a:stretch/>
        </p:blipFill>
        <p:spPr>
          <a:xfrm>
            <a:off x="3048120" y="5246640"/>
            <a:ext cx="5273640" cy="3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15"/>
          <p:cNvGraphicFramePr/>
          <p:nvPr/>
        </p:nvGraphicFramePr>
        <p:xfrm>
          <a:off x="1066680" y="5719680"/>
          <a:ext cx="5273640" cy="5302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5719680"/>
                    <a:ext cx="5273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17"/>
          <p:cNvSpPr/>
          <p:nvPr/>
        </p:nvSpPr>
        <p:spPr>
          <a:xfrm>
            <a:off x="3780000" y="2290680"/>
            <a:ext cx="5086080" cy="1727280"/>
          </a:xfrm>
          <a:prstGeom prst="wedgeRectCallout">
            <a:avLst>
              <a:gd name="adj1" fmla="val -59083"/>
              <a:gd name="adj2" fmla="val -2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步：确定符号 异号两数相加，取绝对值较大的数的符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步：确定和的绝对值 用较大的绝对值减去较小的绝对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3851280" y="4091040"/>
            <a:ext cx="4649760" cy="838080"/>
          </a:xfrm>
          <a:prstGeom prst="wedgeRectCallout">
            <a:avLst>
              <a:gd name="adj1" fmla="val -61574"/>
              <a:gd name="adj2" fmla="val -6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号两数相加，取相同的符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把两数的绝对值相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4245120" y="5057640"/>
            <a:ext cx="4038480" cy="533520"/>
          </a:xfrm>
          <a:prstGeom prst="wedgeRectCallout">
            <a:avLst>
              <a:gd name="adj1" fmla="val -58138"/>
              <a:gd name="adj2" fmla="val -178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相反数的两数相加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243320" y="5834160"/>
            <a:ext cx="4038840" cy="533160"/>
          </a:xfrm>
          <a:prstGeom prst="wedgeRectCallout">
            <a:avLst>
              <a:gd name="adj1" fmla="val -61124"/>
              <a:gd name="adj2" fmla="val -279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何数相加，仍得这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916360" y="5818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33600" y="88884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解下列各题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93720" y="2937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随堂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0" dur="1" fill="hold"/>
                                  <p:tgtEl>
                                    <p:spTgt spid="1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9360" y="1039680"/>
            <a:ext cx="566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例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）（－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）＋（－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9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）（－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4.7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）＋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3.9</a:t>
            </a:r>
            <a:r>
              <a:rPr b="1" lang="zh-CN" sz="3200" spc="-1" strike="noStrike">
                <a:solidFill>
                  <a:srgbClr val="bbe0e3"/>
                </a:solidFill>
                <a:latin typeface="Comic Sans MS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240" y="3375000"/>
            <a:ext cx="8478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解：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-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-9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-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+9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-4.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+3.9=-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.7-3,9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-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48160" y="4653000"/>
            <a:ext cx="1865520" cy="1915920"/>
          </a:xfrm>
          <a:prstGeom prst="rect">
            <a:avLst/>
          </a:prstGeom>
          <a:ln w="0">
            <a:noFill/>
          </a:ln>
        </p:spPr>
      </p:pic>
      <p:sp>
        <p:nvSpPr>
          <p:cNvPr id="201" name="弧边矩形 583"/>
          <p:cNvSpPr/>
          <p:nvPr/>
        </p:nvSpPr>
        <p:spPr>
          <a:xfrm>
            <a:off x="5281560" y="6489720"/>
            <a:ext cx="2103480" cy="12852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028880" y="2457360"/>
            <a:ext cx="708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我认为人生最美好的主旨和人类生活最幸福的结果，无过于学习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———— 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巴尔扎克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矩形 5" descr=""/>
          <p:cNvPicPr/>
          <p:nvPr/>
        </p:nvPicPr>
        <p:blipFill>
          <a:blip r:embed="rId1"/>
          <a:stretch/>
        </p:blipFill>
        <p:spPr>
          <a:xfrm>
            <a:off x="3035160" y="639720"/>
            <a:ext cx="301176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-45720" bIns="-4572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-45720" bIns="-4572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-45720" bIns="-4572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-45720" bIns="-4572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74640" y="31104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1843200"/>
            <a:ext cx="633888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bbe0e3"/>
                </a:solidFill>
                <a:latin typeface="Times New Roman"/>
              </a:rPr>
              <a:t>有理数有几种分类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bbe0e3"/>
                </a:solidFill>
                <a:latin typeface="Times New Roman"/>
              </a:rPr>
              <a:t>都是如何分类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35400" y="3720960"/>
            <a:ext cx="3029040" cy="2889360"/>
          </a:xfrm>
          <a:prstGeom prst="rect">
            <a:avLst/>
          </a:prstGeom>
          <a:ln w="0">
            <a:noFill/>
          </a:ln>
        </p:spPr>
      </p:pic>
      <p:sp>
        <p:nvSpPr>
          <p:cNvPr id="49" name="弧边矩形 251"/>
          <p:cNvSpPr/>
          <p:nvPr/>
        </p:nvSpPr>
        <p:spPr>
          <a:xfrm>
            <a:off x="4991040" y="6464160"/>
            <a:ext cx="1282680" cy="15408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45720"/>
            <a:ext cx="79930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bbe0e3"/>
                </a:solidFill>
                <a:latin typeface="微软雅黑"/>
                <a:ea typeface="微软雅黑"/>
              </a:rPr>
              <a:t>思考  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bbe0e3"/>
                </a:solidFill>
                <a:latin typeface="微软雅黑"/>
                <a:ea typeface="微软雅黑"/>
              </a:rPr>
              <a:t>在小学，我们学过正数及</a:t>
            </a:r>
            <a:r>
              <a:rPr b="1" lang="en-US" sz="2800" spc="-1" strike="noStrike">
                <a:solidFill>
                  <a:srgbClr val="bbe0e3"/>
                </a:solidFill>
                <a:latin typeface="微软雅黑"/>
                <a:ea typeface="微软雅黑"/>
              </a:rPr>
              <a:t>0</a:t>
            </a:r>
            <a:r>
              <a:rPr b="1" lang="zh-CN" sz="2800" spc="-1" strike="noStrike">
                <a:solidFill>
                  <a:srgbClr val="bbe0e3"/>
                </a:solidFill>
                <a:latin typeface="微软雅黑"/>
                <a:ea typeface="微软雅黑"/>
              </a:rPr>
              <a:t>的加法运算．学过的加法类型是正数与正数相加、正数与</a:t>
            </a:r>
            <a:r>
              <a:rPr b="1" lang="en-US" sz="2800" spc="-1" strike="noStrike">
                <a:solidFill>
                  <a:srgbClr val="bbe0e3"/>
                </a:solidFill>
                <a:latin typeface="微软雅黑"/>
                <a:ea typeface="微软雅黑"/>
              </a:rPr>
              <a:t>0</a:t>
            </a:r>
            <a:r>
              <a:rPr b="1" lang="zh-CN" sz="2800" spc="-1" strike="noStrike">
                <a:solidFill>
                  <a:srgbClr val="bbe0e3"/>
                </a:solidFill>
                <a:latin typeface="微软雅黑"/>
                <a:ea typeface="微软雅黑"/>
              </a:rPr>
              <a:t>相加．引入负数后，加法的类型还有哪几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叶子 254"/>
          <p:cNvSpPr/>
          <p:nvPr/>
        </p:nvSpPr>
        <p:spPr>
          <a:xfrm flipH="1">
            <a:off x="813600" y="1736640"/>
            <a:ext cx="351000" cy="43524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73600" y="4421160"/>
            <a:ext cx="30272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06520" y="2700360"/>
            <a:ext cx="2232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正数＋正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2720880"/>
            <a:ext cx="2087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＋正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2708280"/>
            <a:ext cx="2087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负数＋正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0360" y="3386160"/>
            <a:ext cx="19987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9080" y="3429000"/>
            <a:ext cx="208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2080" y="3416400"/>
            <a:ext cx="208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负数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0360" y="4111560"/>
            <a:ext cx="1998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9080" y="4073400"/>
            <a:ext cx="20876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＋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4052880"/>
            <a:ext cx="2087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负数＋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160" y="1496880"/>
            <a:ext cx="23652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一个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个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700280"/>
            <a:ext cx="199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正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1808280"/>
            <a:ext cx="20876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1808280"/>
            <a:ext cx="20876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负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4120" y="2625840"/>
            <a:ext cx="2106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正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4120" y="3252960"/>
            <a:ext cx="21067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003560"/>
            <a:ext cx="2106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负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84280"/>
            <a:ext cx="2106360" cy="11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0360" y="148428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9080" y="148428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148428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4640" y="2616120"/>
            <a:ext cx="828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278160"/>
            <a:ext cx="828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003560"/>
            <a:ext cx="828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484280"/>
            <a:ext cx="0" cy="313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04360" y="1484280"/>
            <a:ext cx="0" cy="313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9840" y="14256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62132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324000" y="479736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：共三种类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55180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同号两个数相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28680" y="553896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异号两个数相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1440" y="61149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一个数与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0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相加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2000" y="342108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微软雅黑"/>
                <a:ea typeface="微软雅黑"/>
              </a:rPr>
              <a:t>正数＋</a:t>
            </a:r>
            <a:r>
              <a:rPr b="1" lang="en-US" sz="2400" spc="-1" strike="noStrike">
                <a:solidFill>
                  <a:srgbClr val="bbe0e3"/>
                </a:solidFill>
                <a:latin typeface="Times New Roman"/>
                <a:ea typeface="微软雅黑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4240" y="407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  <a:ea typeface="微软雅黑"/>
              </a:rPr>
              <a:t>负数＋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64268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一个物体向左右方向运动，我们规定向右为正，向左为负．比如：向右运动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记作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，向左运动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记作－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494080"/>
            <a:ext cx="795636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物体先向右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向右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两次运动后总的结果是什么？能否用算式表示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6477120" y="4467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600200" y="4390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7620120" y="4390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5334120" y="439092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838080" y="4390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3124080" y="54752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+(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1600200" y="401004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4325760"/>
            <a:ext cx="8153280" cy="688320"/>
            <a:chOff x="609480" y="4325760"/>
            <a:chExt cx="8153280" cy="688320"/>
          </a:xfrm>
        </p:grpSpPr>
        <p:sp>
          <p:nvSpPr>
            <p:cNvPr id="96" name="Line 4"/>
            <p:cNvSpPr/>
            <p:nvPr/>
          </p:nvSpPr>
          <p:spPr>
            <a:xfrm>
              <a:off x="2361960" y="43909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09480" y="4325760"/>
              <a:ext cx="8153280" cy="688320"/>
              <a:chOff x="609480" y="4325760"/>
              <a:chExt cx="8153280" cy="688320"/>
            </a:xfrm>
          </p:grpSpPr>
          <p:sp>
            <p:nvSpPr>
              <p:cNvPr id="98" name="Line 2"/>
              <p:cNvSpPr/>
              <p:nvPr/>
            </p:nvSpPr>
            <p:spPr>
              <a:xfrm>
                <a:off x="609480" y="4478040"/>
                <a:ext cx="7772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3047760" y="44020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 flipV="1">
                <a:off x="3809880" y="44017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4572000" y="44020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6095880" y="4402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0"/>
              <p:cNvSpPr/>
              <p:nvPr/>
            </p:nvSpPr>
            <p:spPr>
              <a:xfrm>
                <a:off x="6858000" y="44020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4"/>
              <p:cNvSpPr/>
              <p:nvPr/>
            </p:nvSpPr>
            <p:spPr>
              <a:xfrm>
                <a:off x="761760" y="4554360"/>
                <a:ext cx="800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      0        1       2        3        4        5        6        7       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>
                <a:off x="5333760" y="432576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Line 18"/>
          <p:cNvSpPr/>
          <p:nvPr/>
        </p:nvSpPr>
        <p:spPr>
          <a:xfrm>
            <a:off x="5330880" y="40086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1619280" y="407664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7620120" y="40863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5410080" y="408636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600200" y="454356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620120" y="44672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1571760" y="5300640"/>
            <a:ext cx="6095880" cy="216000"/>
          </a:xfrm>
          <a:prstGeom prst="rightArrow">
            <a:avLst>
              <a:gd name="adj1" fmla="val 50000"/>
              <a:gd name="adj2" fmla="val 7055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556000" y="3571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5867280" y="3571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5121720" y="3500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4800600" y="48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71760" y="307800"/>
            <a:ext cx="4114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创设情境，引入新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171360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一个物体向左右方向运动，我们规定向右为正，向左为负．向右运动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记作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，向左运动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记作－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494080"/>
            <a:ext cx="849636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物体先向左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向左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两次运动后总的结果是什么？能否用算式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621560" y="4013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1606680" y="4051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3813120" y="4025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1619280" y="42926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 flipH="1">
            <a:off x="3800160" y="4275000"/>
            <a:ext cx="3794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7626240" y="4508640"/>
            <a:ext cx="288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1598760" y="4508640"/>
            <a:ext cx="2052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1641600" y="5445000"/>
            <a:ext cx="6019560" cy="144720"/>
          </a:xfrm>
          <a:prstGeom prst="leftArrow">
            <a:avLst>
              <a:gd name="adj1" fmla="val 50000"/>
              <a:gd name="adj2" fmla="val 10398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1763640" y="3500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3924360" y="3500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3087720" y="61009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3559680" y="349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4284720" y="544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90720" y="4348080"/>
            <a:ext cx="7619760" cy="1206360"/>
            <a:chOff x="990720" y="4348080"/>
            <a:chExt cx="7619760" cy="1206360"/>
          </a:xfrm>
        </p:grpSpPr>
        <p:sp>
          <p:nvSpPr>
            <p:cNvPr id="134" name="Line 4"/>
            <p:cNvSpPr/>
            <p:nvPr/>
          </p:nvSpPr>
          <p:spPr>
            <a:xfrm>
              <a:off x="1599840" y="434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2285640" y="434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3809880" y="434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"/>
            <p:cNvSpPr/>
            <p:nvPr/>
          </p:nvSpPr>
          <p:spPr>
            <a:xfrm>
              <a:off x="4571640" y="434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5333760" y="434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6095880" y="434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7619760" y="434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"/>
            <p:cNvSpPr/>
            <p:nvPr/>
          </p:nvSpPr>
          <p:spPr>
            <a:xfrm>
              <a:off x="1115640" y="4508280"/>
              <a:ext cx="739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990720" y="4728960"/>
              <a:ext cx="76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 0     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>
              <a:off x="8305560" y="4348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>
              <a:off x="6876720" y="4356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2987280" y="4365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 txBox="1"/>
          <p:nvPr/>
        </p:nvSpPr>
        <p:spPr>
          <a:xfrm>
            <a:off x="1533600" y="279360"/>
            <a:ext cx="4114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创设情境，引入新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39280" y="278028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根据以上两个算式能否尝试总结同号两数相加的法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1403280" y="13413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1432080" y="1989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1120" y="3594600"/>
            <a:ext cx="41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同号两数相加，取相同符号，并把绝对值相加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570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28880" y="4060800"/>
            <a:ext cx="385776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360" y="1576440"/>
            <a:ext cx="8745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数轴，求以下物体两次运动的结果，并用算式表示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向左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再向右运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物体从起点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向右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再向左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物体从起点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运动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向左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再向右运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物体从起点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运动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38280" y="3207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预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31560" y="1415520"/>
            <a:ext cx="84438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 fontScale="82000"/>
          </a:bodyPr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）如果物体先向左运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3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，再向右运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，那么两次运动的最后结果怎样？如何用算式表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）如果物体先向右运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3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，再向左运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，那么两次运动的最后结果怎样？如何用算式表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叶子 268"/>
          <p:cNvSpPr/>
          <p:nvPr/>
        </p:nvSpPr>
        <p:spPr>
          <a:xfrm flipH="1">
            <a:off x="446040" y="1582560"/>
            <a:ext cx="393840" cy="40176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720" y="4281480"/>
            <a:ext cx="778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结果是物体从起点向右运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成算式就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5=2                   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2920" y="5024520"/>
            <a:ext cx="77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结果是物体从起点向左运动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成算式就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2               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6680" y="5861160"/>
            <a:ext cx="77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从算式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③④</a:t>
            </a: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可以看出：符号相反的两个数相加，结果的符号与绝对值较大的加数的符号相同，并用较大的绝对值减去较小的绝对值</a:t>
            </a: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03:22:35Z</dcterms:created>
  <dc:creator>Administrator</dc:creator>
  <dc:description/>
  <dc:language>en-US</dc:language>
  <cp:lastModifiedBy>Windows 用户</cp:lastModifiedBy>
  <dcterms:modified xsi:type="dcterms:W3CDTF">2016-09-21T02:16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