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13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0618-FB8C-4DBF-A47A-092961B4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254-51CD-4267-90E7-1C637B8A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A12-9FCD-411A-9948-EF64BB74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222-8515-417F-8020-89021F2A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FA3-3848-4BA6-976C-AC96290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442-9805-452A-AB97-5C8277B3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B2D-6954-4727-BD7E-0D61F4B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6AE-C395-4DE5-B4AE-254DD3EA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F94-8B87-4244-8070-E4C905D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ECA-89D1-4B37-BBE6-769A4A0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4A2-CD27-480F-B2D4-5B12E94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B06-8C3D-4B85-B2A7-830B9B8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A97-2904-44D9-B6BA-A7CD3BA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76C-DC41-4D20-8069-A57E66B9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" Target="slide12.xm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19720" y="4952880"/>
            <a:ext cx="4114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制作人：南京江宁区丹阳中学 孙振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219320"/>
            <a:ext cx="82296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雨林的毁灭</a:t>
            </a: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---</a:t>
            </a: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世界性灾难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几位生病的群众正在五宝镇一个临时医疗点里输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over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仪陇山体滑坡1" descr=""/>
          <p:cNvPicPr/>
          <p:nvPr/>
        </p:nvPicPr>
        <p:blipFill>
          <a:blip r:embed="rId2"/>
          <a:stretch/>
        </p:blipFill>
        <p:spPr>
          <a:xfrm>
            <a:off x="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66880" y="914400"/>
            <a:ext cx="1399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仪陇山体滑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81080" y="402264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被洪水冲垮的桥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6120" y="45720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菲律宾山体滑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81680" y="914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遇难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522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菲律宾救援人员运送遗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52680" y="380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7sanxiamugu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9000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3qutangx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4sanxiakuime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6pub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7sanxiamugu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8wujia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9wujiang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awux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对比图一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745080" cy="4681440"/>
          </a:xfrm>
          <a:prstGeom prst="rect">
            <a:avLst/>
          </a:prstGeom>
          <a:ln w="0">
            <a:noFill/>
          </a:ln>
        </p:spPr>
      </p:pic>
      <p:pic>
        <p:nvPicPr>
          <p:cNvPr id="74" name="对比图2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4286160" cy="460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6021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夕日“天堂”今日成荒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雨林知识知多少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热带雨林已成为地球上最复杂和生物种类最多的环境。它们仅占地球陆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总面积的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7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，却拥有地球动植物物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。理应称热带雨林为“世界上生命力最强的地方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科学家曾经估计世界上的生物物种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万。随着科学研究的深人，这个数字已上升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万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万。热带雨林的生物多样性最为丰富，生活着全世界半数以上的物种 。雨林中约中三分之二的动植物在树冠层上生活和栖息，这些附生植物多达２万种，活像蔚为壮观的空中植物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雨林的树冠层有很多野生飞行的微生物，它们不知疲倦地在花丛间飞舞；在层林木和树冠层一样与生物共存。汇集着世界大部分猴和灵长类动物在其间荡来荡去，上下攀援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雨林知识知多少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（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熱帶雨林終年有大量的植物食料供應，所以一般動物均可在很小的空間內找到足夠的食物，物種間的競爭較小。又因植物食料多是高懸樹上，所以動物身體較為細小，而且動作敏捷，以方便攀援爬高，或在枝間穿插。熱帶雨林的動物數不勝數，而且色彩繽紛。各種動物如猴子、樹獺、爬蟲類和鳥類，大部分棲息在各層喬木之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單一的生活空間及獨特的食物，令整個雨林生態系統變得脆弱︰就是雨林的一小角受到破壞，大量生物也會無法生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wmap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  <p:cond evt="onClick"/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  <p:cond evt="onClick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91a_small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240000" cy="3960720"/>
          </a:xfrm>
          <a:prstGeom prst="rect">
            <a:avLst/>
          </a:prstGeom>
          <a:ln w="0">
            <a:noFill/>
          </a:ln>
        </p:spPr>
      </p:pic>
      <p:pic>
        <p:nvPicPr>
          <p:cNvPr id="82" name="m91b_small对比图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306960" cy="3960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522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雨林以每分钟２７万平方米（相当于４０个足球场的速度遭到长度毁灭。每年有一个纽约州大小的雨林永远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合作探究学习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：</a:t>
            </a:r>
            <a:br>
              <a:rPr sz="40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为什么说雨林的毁灭是世界性的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灾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珍贵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植物物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濒临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动物物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濒临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生物的多样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遭到破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破坏大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水土流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雨林与植物资源动物资源与大气环境形成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一个整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如果将雨林完全毁掉，到下世纪中叶，地球很可能会经历第６次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大规模灭绝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ernter1_2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952720" cy="3240000"/>
          </a:xfrm>
          <a:prstGeom prst="rect">
            <a:avLst/>
          </a:prstGeom>
          <a:ln w="0">
            <a:noFill/>
          </a:ln>
        </p:spPr>
      </p:pic>
      <p:pic>
        <p:nvPicPr>
          <p:cNvPr id="87" name="helicobi_2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664000" cy="2637000"/>
          </a:xfrm>
          <a:prstGeom prst="rect">
            <a:avLst/>
          </a:prstGeom>
          <a:ln w="0">
            <a:noFill/>
          </a:ln>
        </p:spPr>
      </p:pic>
      <p:pic>
        <p:nvPicPr>
          <p:cNvPr id="88" name="helicop2_2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095640" cy="259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65920" y="907920"/>
            <a:ext cx="1090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珍贵植物物种濒临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aphinia_2" descr=""/>
          <p:cNvPicPr/>
          <p:nvPr/>
        </p:nvPicPr>
        <p:blipFill>
          <a:blip r:embed="rId6"/>
          <a:stretch/>
        </p:blipFill>
        <p:spPr>
          <a:xfrm>
            <a:off x="4643280" y="476280"/>
            <a:ext cx="36576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dw11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247920" cy="3086280"/>
          </a:xfrm>
          <a:prstGeom prst="rect">
            <a:avLst/>
          </a:prstGeom>
          <a:ln w="0">
            <a:noFill/>
          </a:ln>
        </p:spPr>
      </p:pic>
      <p:pic>
        <p:nvPicPr>
          <p:cNvPr id="93" name="dw14" descr=""/>
          <p:cNvPicPr/>
          <p:nvPr/>
        </p:nvPicPr>
        <p:blipFill>
          <a:blip r:embed="rId4"/>
          <a:stretch/>
        </p:blipFill>
        <p:spPr>
          <a:xfrm>
            <a:off x="5003640" y="476280"/>
            <a:ext cx="2962440" cy="3166920"/>
          </a:xfrm>
          <a:prstGeom prst="rect">
            <a:avLst/>
          </a:prstGeom>
          <a:ln w="0">
            <a:noFill/>
          </a:ln>
        </p:spPr>
      </p:pic>
      <p:pic>
        <p:nvPicPr>
          <p:cNvPr id="94" name="dw28" descr=""/>
          <p:cNvPicPr/>
          <p:nvPr/>
        </p:nvPicPr>
        <p:blipFill>
          <a:blip r:embed="rId5"/>
          <a:stretch/>
        </p:blipFill>
        <p:spPr>
          <a:xfrm>
            <a:off x="755640" y="3645000"/>
            <a:ext cx="320976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dw18" descr=""/>
          <p:cNvPicPr/>
          <p:nvPr/>
        </p:nvPicPr>
        <p:blipFill>
          <a:blip r:embed="rId6"/>
          <a:stretch/>
        </p:blipFill>
        <p:spPr>
          <a:xfrm>
            <a:off x="5076720" y="3860640"/>
            <a:ext cx="3040200" cy="249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26280" y="836640"/>
            <a:ext cx="1090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珍贵动物物种濒临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灭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768320" y="763560"/>
            <a:ext cx="5609160" cy="4098240"/>
            <a:chOff x="1768320" y="763560"/>
            <a:chExt cx="5609160" cy="4098240"/>
          </a:xfrm>
        </p:grpSpPr>
        <p:sp>
          <p:nvSpPr>
            <p:cNvPr id="98" name="_s256004"/>
            <p:cNvSpPr/>
            <p:nvPr/>
          </p:nvSpPr>
          <p:spPr>
            <a:xfrm flipH="1">
              <a:off x="3219120" y="3598920"/>
              <a:ext cx="679320" cy="315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256005"/>
            <p:cNvSpPr/>
            <p:nvPr/>
          </p:nvSpPr>
          <p:spPr>
            <a:xfrm>
              <a:off x="1768320" y="3600720"/>
              <a:ext cx="1558800" cy="1261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动物物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256006"/>
            <p:cNvSpPr/>
            <p:nvPr/>
          </p:nvSpPr>
          <p:spPr>
            <a:xfrm>
              <a:off x="5244480" y="3598920"/>
              <a:ext cx="677160" cy="317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256007"/>
            <p:cNvSpPr/>
            <p:nvPr/>
          </p:nvSpPr>
          <p:spPr>
            <a:xfrm>
              <a:off x="5818320" y="3600720"/>
              <a:ext cx="1559160" cy="126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大气、水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256008"/>
            <p:cNvSpPr/>
            <p:nvPr/>
          </p:nvSpPr>
          <p:spPr>
            <a:xfrm flipV="1">
              <a:off x="4571640" y="2022120"/>
              <a:ext cx="0" cy="63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256009"/>
            <p:cNvSpPr/>
            <p:nvPr/>
          </p:nvSpPr>
          <p:spPr>
            <a:xfrm>
              <a:off x="3793320" y="763560"/>
              <a:ext cx="1558800" cy="1261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</a:rPr>
                <a:t>植物物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256010"/>
            <p:cNvSpPr/>
            <p:nvPr/>
          </p:nvSpPr>
          <p:spPr>
            <a:xfrm>
              <a:off x="3779640" y="2637360"/>
              <a:ext cx="1558800" cy="1260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cc00"/>
                  </a:solidFill>
                  <a:latin typeface="Arial"/>
                </a:rPr>
                <a:t>雨林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57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5640" y="76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雨林的消失意味着人类将永远丧失一大批动植物物种，而地球上生命多样性的毁灭又将破坏人们赖以生存的大气，进而引起全球气温升高、冰川融解、洪水泛滥等一系列灾难，并最终有可能导致地球生物物种的大规模灭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地球生物的多样性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地球上生存着几千万种包括动物、植物和微生物在内的生物。生物多样性是地球上４０亿年来生物进化的结果。人类的衣食住行没有一项能脱离生物多样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人类正面临着人口、粮食、环境、资源及能源等五大危机。这五大危机的解决无一不与生物多样性有密切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近年来全世界每年约有１１３０万顷森林遭到毁灭性破坏。热带雨林是世界上生物多样性最丰富的地方，但每年还有１８００万公顷的热带雨林遭到破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全世界已有１２％的哺乳动物和１１％的鸟类灭绝。每２４小时有１５０－２００种生物物种从地球上消失。一半以上的猿猴正处于灭绝的边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地球生物多样性的破坏，导致着一系列灾难气候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00"/>
                </a:solidFill>
                <a:latin typeface="Times New Roman"/>
              </a:rPr>
              <a:t>人类摧毁雨林的最主要原因是什么</a:t>
            </a: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原木出口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日本生产的大量一次性木筷子，可以建造１．１万间住宅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兴建牧场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毁掉６平方米的雨林方可换得１００克汉堡包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2920" y="494172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广告大赛银奖作品：拿起它你已经吃掉森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U509P1T1D3352213F21DT20040527181114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27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U398P1T1D3352433F21DT20040527193028" descr=""/>
          <p:cNvPicPr/>
          <p:nvPr/>
        </p:nvPicPr>
        <p:blipFill>
          <a:blip r:embed="rId2"/>
          <a:stretch/>
        </p:blipFill>
        <p:spPr>
          <a:xfrm>
            <a:off x="3057480" y="692280"/>
            <a:ext cx="4251240" cy="4879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85720" y="62064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地球给予我们的还能吃多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  <p:cond evt="onClick"/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  <p:cond evt="onClick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热带雨林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95640" y="62064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原木出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hifting-cycle-s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137440" cy="619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4762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兴建牧场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U398P1T1D3352349F21DT20040527190103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058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U398P1T1D3352498F21DT20040527195657" descr=""/>
          <p:cNvPicPr/>
          <p:nvPr/>
        </p:nvPicPr>
        <p:blipFill>
          <a:blip r:embed="rId2"/>
          <a:stretch/>
        </p:blipFill>
        <p:spPr>
          <a:xfrm>
            <a:off x="1979640" y="692280"/>
            <a:ext cx="4464000" cy="43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79640" y="5516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苹果—地球的相似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我们还能为地球做些什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U509P1T1D3358521F21DT20040528114012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533760" cy="4286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35280" y="530064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我们最后扔掉的将是地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作业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一、必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１、字词积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濒临　　栖息　　灰烬　　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刀耕火种　　滥砍滥伐　　　意味深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２、通读文章，找出本文的主要说明方法，并简析其说明效果（结合练习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二、选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人类怎样才能有效地保护雨林，进而保护地球生物的多样性，请你设计出一个实施方案，并以同学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a3qutangxi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2136600"/>
            <a:ext cx="822960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但人类不能没有地球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57200"/>
            <a:ext cx="7924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地球可以没有人类</a:t>
            </a:r>
            <a:r>
              <a:rPr b="1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,</a:t>
            </a:r>
            <a:endParaRPr b="1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ou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Z067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619760" cy="5106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508464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800600" y="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达县被洪水围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232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开县城遭水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049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被困群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3000" y="76320"/>
            <a:ext cx="12776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五宝镇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村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岁的王有国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岁的贺淑珍夫妇，抱着小孙子呆坐在垮塌的住房废墟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59680" y="228600"/>
            <a:ext cx="18262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四川特大滑坡淹没区五宝镇群众抗洪救灾纪实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一名男子正在自己二楼的家中洗窗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4:53:44Z</dcterms:created>
  <dc:creator>孙振坤</dc:creator>
  <dc:description/>
  <dc:language>en-US</dc:language>
  <cp:lastModifiedBy>zmj</cp:lastModifiedBy>
  <dcterms:modified xsi:type="dcterms:W3CDTF">2011-11-25T09:36:12Z</dcterms:modified>
  <cp:revision>103</cp:revision>
  <dc:subject/>
  <dc:title>PowerPoint 演示文稿</dc:title>
</cp:coreProperties>
</file>