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12E-EC24-4431-A1E7-00938D30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DFD-8259-48CF-86C5-D01A03E3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84F-F093-49F1-8639-FED15EA0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A8B-52EE-41AD-A2A5-7F8CED5F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1229D-82E8-4B18-9F2B-4561BDAB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D0E21-E1B7-4D09-A5DD-BDADFD2F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17D0A-37A9-4267-A9B5-03036113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26019-79A3-4D66-8EB8-AD4D351A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B1EB3-2DD1-4EAE-ABC9-0916F49B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F744E-A843-4ED0-BE10-06B9477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0BFAD-6050-475C-9B44-E344E87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FC3-5AFC-4817-8D21-C6173E2C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91A3F-1317-499E-A2C3-7DEF44C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F6609-3B26-4AB0-BB96-58786D7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D7F5B-E0FD-42A7-BE16-CF1232F1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72FF0-1959-4A75-A3DB-FB007F7D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2A398-5B98-493C-BFB0-91B2BE08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6EE-F96D-411F-A142-7FE90969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9A0-79B7-458C-9C5B-650F6B68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B9D-D7F9-449F-BF4B-411A0E5F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5B2-80A7-461C-9CA4-302D16E8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E87-A70F-4744-B02E-83F304E7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FB7-D51C-48FB-AFFE-3FBC190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B26-8B10-4F27-B364-D24F174C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470C-ACD3-4DAE-B889-1C76CBD4C3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9F59-EC61-4AEC-8706-8AFBADBA59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F%DA%CF%E3%CC%C7&amp;in=19914&amp;cl=2&amp;cm=1&amp;sc=0&amp;lm=-1&amp;pn=25&amp;rn=1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image.baidu.com/i?ct=503316480&amp;z=0&amp;tn=baiduimagedetail&amp;word=%C2%D6&#805;&amp;in=19212&amp;cl=2&amp;cm=1&amp;sc=0&amp;lm=-1&amp;pn=1&amp;rn=1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image.baidu.com/i?ct=503316480&amp;z=0&amp;tn=baiduimagedetail&amp;word=%BF%A7%B7%C8&amp;in=11559&amp;cl=2&amp;cm=1&amp;sc=0&amp;lm=-1&amp;pn=9&amp;rn=1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image.baidu.com/i?ct=503316480&amp;z=0&amp;tn=baiduimagedetail&amp;word=&#1193;%B2%C4&amp;in=13932&amp;cl=2&amp;cm=1&amp;sc=0&amp;lm=-1&amp;pn=16&amp;rn=1" TargetMode="External"/><Relationship Id="rId9" Type="http://schemas.openxmlformats.org/officeDocument/2006/relationships/image" Target="../media/image22.jpeg"/><Relationship Id="rId10" Type="http://schemas.openxmlformats.org/officeDocument/2006/relationships/hyperlink" Target="http://image.baidu.com/i?ct=503316480&amp;z=0&amp;tn=baiduimagedetail&amp;word=%C8&#564;%F8&#750;%B9%FB&amp;in=55&amp;cl=2&amp;cm=1&amp;sc=0&amp;lm=-1&amp;pn=13&amp;rn=1" TargetMode="External"/><Relationship Id="rId11" Type="http://schemas.openxmlformats.org/officeDocument/2006/relationships/image" Target="../media/image23.jpeg"/><Relationship Id="rId12" Type="http://schemas.openxmlformats.org/officeDocument/2006/relationships/hyperlink" Target="http://image.baidu.com/i?ct=503316480&amp;z=0&amp;tn=baiduimagedetail&amp;word=%B3%A4%B4%BA%BB%A8&amp;in=9502&amp;cl=2&amp;cm=1&amp;sc=0&amp;lm=-1&amp;pn=92&amp;rn=1" TargetMode="External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0&amp;tn=baiduimagedetail&amp;word=%BB%C4&#637;&#890;%C1%EB&amp;in=853&amp;cl=2&amp;cm=1&amp;sc=0&amp;lm=-1&amp;pn=0&amp;rn=1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image.baidu.com/i?ct=503316480&amp;z=0&amp;tn=baiduimagedetail&amp;word=%BB%C4&#637;&#890;%C1%EB&amp;in=853&amp;cl=2&amp;cm=1&amp;sc=0&amp;lm=-1&amp;pn=1&amp;rn=1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63840" y="2700360"/>
            <a:ext cx="592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雨林的毁灭——世界性的灾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83d12486f3af4237c75cc3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8" name="fernter1_2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820960" cy="2879640"/>
          </a:xfrm>
          <a:prstGeom prst="rect">
            <a:avLst/>
          </a:prstGeom>
          <a:ln w="0">
            <a:noFill/>
          </a:ln>
        </p:spPr>
      </p:pic>
      <p:pic>
        <p:nvPicPr>
          <p:cNvPr id="99" name="helicobi_2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2808360" cy="2637000"/>
          </a:xfrm>
          <a:prstGeom prst="rect">
            <a:avLst/>
          </a:prstGeom>
          <a:ln w="0">
            <a:noFill/>
          </a:ln>
        </p:spPr>
      </p:pic>
      <p:pic>
        <p:nvPicPr>
          <p:cNvPr id="100" name="helicop2_2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45480" y="1123920"/>
            <a:ext cx="11552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珍贵植物物种濒临灭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aphinia_2" descr=""/>
          <p:cNvPicPr/>
          <p:nvPr/>
        </p:nvPicPr>
        <p:blipFill>
          <a:blip r:embed="rId6"/>
          <a:stretch/>
        </p:blipFill>
        <p:spPr>
          <a:xfrm>
            <a:off x="5219640" y="765000"/>
            <a:ext cx="295272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981da60f41ed2cfa36d12226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73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u=2782706533,47584503&amp;gp=4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62680" y="4941720"/>
            <a:ext cx="1238040" cy="100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32000" y="40464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1125360"/>
            <a:ext cx="51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836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隶书"/>
              </a:rPr>
              <a:t>你知道雨林对人类生活有何重要性呢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4869000"/>
            <a:ext cx="432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宝贵的生活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工业资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046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华文新魏"/>
              </a:rPr>
              <a:t>神奇的药物资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3357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新魏"/>
              </a:rPr>
              <a:t>丰富的食品资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u=804852589,1635854803&amp;gp=2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4788000"/>
            <a:ext cx="1333800" cy="1305000"/>
          </a:xfrm>
          <a:prstGeom prst="rect">
            <a:avLst/>
          </a:prstGeom>
          <a:ln w="0">
            <a:noFill/>
          </a:ln>
        </p:spPr>
      </p:pic>
      <p:pic>
        <p:nvPicPr>
          <p:cNvPr id="112" name="u=2993263665,2683837936&amp;gp=1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322092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113" name="u=3108812042,1239536259&amp;gp=38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16720" y="1714680"/>
            <a:ext cx="1324080" cy="1066680"/>
          </a:xfrm>
          <a:prstGeom prst="rect">
            <a:avLst/>
          </a:prstGeom>
          <a:ln w="0">
            <a:noFill/>
          </a:ln>
        </p:spPr>
      </p:pic>
      <p:pic>
        <p:nvPicPr>
          <p:cNvPr id="114" name="u=2581261146,1026041754&amp;gp=-3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00720" y="3284640"/>
            <a:ext cx="1323720" cy="923760"/>
          </a:xfrm>
          <a:prstGeom prst="rect">
            <a:avLst/>
          </a:prstGeom>
          <a:ln w="0">
            <a:noFill/>
          </a:ln>
        </p:spPr>
      </p:pic>
      <p:pic>
        <p:nvPicPr>
          <p:cNvPr id="115" name="u=184091440,822431320&amp;gp=34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572000" y="1773360"/>
            <a:ext cx="132408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6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60320" y="504360"/>
            <a:ext cx="3954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楷体_GB2312"/>
              </a:rPr>
              <a:t>了解雨林目前的现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雨林以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每分钟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27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万平方米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（相当于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0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多个足球场）的速度遭到彻底毁灭。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每年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有一个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纽约州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大小的雨林永远消失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u=825113295,3092357779&amp;gp=3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5084640"/>
            <a:ext cx="338472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u=2395227589,205465415&amp;gp=3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19640" y="2997360"/>
            <a:ext cx="3456000" cy="1871640"/>
          </a:xfrm>
          <a:prstGeom prst="rect">
            <a:avLst/>
          </a:prstGeom>
          <a:ln w="0">
            <a:noFill/>
          </a:ln>
        </p:spPr>
      </p:pic>
      <p:pic>
        <p:nvPicPr>
          <p:cNvPr id="120" name="u=1954472000,2747488595&amp;gp=38" descr=""/>
          <p:cNvPicPr/>
          <p:nvPr/>
        </p:nvPicPr>
        <p:blipFill>
          <a:blip r:embed="rId6"/>
          <a:stretch/>
        </p:blipFill>
        <p:spPr>
          <a:xfrm>
            <a:off x="826920" y="2997360"/>
            <a:ext cx="345780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u=2623612971,2565681273&amp;gp=-46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352908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12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12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62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62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ffffff"/>
                </a:solidFill>
                <a:latin typeface="Tahoma"/>
              </a:rPr>
              <a:t>合作探究学习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：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、为什么说雨林的毁灭是世界性的灾难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珍贵植物物种濒临灭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动物物种濒临灭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地球生物的多样性遭到破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破坏大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水土流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雨林与植物资源动物资源与大气环境形成一个整体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如果将雨林完全毁掉，到下世纪中叶，地球很可能会经历第６次大规模灭绝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、环境的破坏会导致了那些自然灾害的发生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比如：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008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年初南方罕见的雪灾，汶川大地震，达县的山体滑坡，频频发生的水灾害，旱灾，都是由于自然环境受到不断的破坏后给人类惩罚。（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出示图片）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18a38751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001109b42f30093ad4be12[1]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几位生病的群众正在五宝镇一个临时医疗点里输液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3f95dacb7fe0bd02bf09e640" descr=""/>
          <p:cNvPicPr/>
          <p:nvPr/>
        </p:nvPicPr>
        <p:blipFill>
          <a:blip r:embed="rId2"/>
          <a:stretch/>
        </p:blipFill>
        <p:spPr>
          <a:xfrm>
            <a:off x="0" y="0"/>
            <a:ext cx="10156680" cy="7616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3200" y="1773360"/>
            <a:ext cx="911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汶川大地震山体滑坡后的情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31640" y="76320"/>
            <a:ext cx="729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达县由于山体滑坡两位老人和小孙子呆坐在垮塌的住房废墟上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U398P1T1D3352349F21DT20040527190103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540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4360" y="404640"/>
            <a:ext cx="777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思考：从上面的图片中我们可以知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748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cc00"/>
                </a:solidFill>
                <a:latin typeface="宋体"/>
              </a:rPr>
              <a:t>、既然雨林的毁灭会导致这样严重的后果，为什么人类还要这样大面积的砍伐呢？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答：利益的驱使、环保意识的淡薄、法制力度不够等。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宋体"/>
              </a:rPr>
              <a:t>、在我们身边，有这样的例子吗？请举例，请谈谈如何以实际行动保护森林资源，争当环保小卫士。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答：如一次性餐筷、桌椅、木房屋、棺材、纸张铺张浪费等等。提倡：无氟冰箱、无氟摩斯、无磷洗衣粉、复合型板木家具、无汞无镉环保电池（痛痛病）、节能荧光灯、分类垃圾、拒用一次性餐盒餐筷、节约用纸用水、植树造林等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40464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广告大赛银奖作品：拿起它你已经吃掉森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U509P1T1D3352213F21DT20040527181114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2723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我们还能为地球做些什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U509P1T1D3358521F21DT2004052811401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05816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35280" y="530064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我们最后扔掉的将是地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68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作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黑体"/>
              </a:rPr>
              <a:t>一、必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１、字词积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濒临　　      栖息　　     灰烬　　    摄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刀耕火种　　滥砍滥伐　 意味深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２、通读文章，找出本文的主要说明方法，并简析其说明效果（结合练习二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黑体"/>
              </a:rPr>
              <a:t>二、选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人类怎样才能有效地保护雨林，进而保护地球生物的多样性，请你设计出一个实施方案，并以同学交流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3" descr=""/>
          <p:cNvPicPr/>
          <p:nvPr/>
        </p:nvPicPr>
        <p:blipFill>
          <a:blip r:embed="rId2"/>
          <a:stretch/>
        </p:blipFill>
        <p:spPr>
          <a:xfrm>
            <a:off x="0" y="-87480"/>
            <a:ext cx="9144000" cy="7034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763640" y="2205000"/>
            <a:ext cx="5329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谢谢大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8457fc3fde300b1b741298186c625bd0" descr=""/>
          <p:cNvPicPr/>
          <p:nvPr/>
        </p:nvPicPr>
        <p:blipFill>
          <a:blip r:embed="rId2"/>
          <a:stretch/>
        </p:blipFill>
        <p:spPr>
          <a:xfrm>
            <a:off x="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15000" y="1149480"/>
            <a:ext cx="15210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隶书"/>
              </a:rPr>
              <a:t>亚马逊雨林的河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50000">
              <a:srgbClr val="ff66cc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4" descr=""/>
          <p:cNvPicPr/>
          <p:nvPr/>
        </p:nvPicPr>
        <p:blipFill>
          <a:blip r:embed="rId1"/>
          <a:stretch/>
        </p:blipFill>
        <p:spPr>
          <a:xfrm>
            <a:off x="-146160" y="-146160"/>
            <a:ext cx="9436320" cy="715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黑体"/>
              </a:rPr>
              <a:t>教学重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、了解热带雨林被毁坏的惊人现状和给人类造成的巨大灾难。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、培养环保意识。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、了解列数字的说明方法在文中的作用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7544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  <a:ea typeface="黑体"/>
              </a:rPr>
              <a:t>热带雨林常识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介绍热带雨林的主要分布地点（出示图片）：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南美亚马逊河流域（世界第一大河、世界仅有的“酱油河”、巨嘴鸟、黑色食人鱼）、西非刚果盆地、东南亚（中国的台湾、云南、海南等地），是地球的绿色项链。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热带雨林的特点及若干知识：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四季如春，平均气温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度左右，有“地球之肺”之称，“树上生树”、“叶上开花”、吃昆虫的猪笼草、跳舞草、富有特色的藤蔓、“绞杀现象”的典型爬树龙等有趣动植物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531720"/>
            <a:ext cx="8569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热带雨林已成为地球上最复杂和生物种类最多的环境。它们仅占地球陆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总面积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%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，却拥有地球动植物物种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%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。理应称热带雨林为“世界上生命力最强的地方”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科学家曾经估计世界上的生物物种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万。随着科学研究的深人，这个数字已上升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00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万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00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万。热带雨林的生物多样性最为丰富，生活着全世界半数以上的物种 。雨林中约中三分之二的动植物在树冠层上生活和栖息，这些附生植物多达２万种，活像蔚为壮观的空中植物园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、雨林的树冠层有很多野生飞行的微生物，它们不知疲倦地在花丛间飞舞；在层林木和树冠层一样与生物共存。汇集着世界大部分猴和灵长类动物在其间荡来荡去，上下攀援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map" descr=""/>
          <p:cNvPicPr/>
          <p:nvPr/>
        </p:nvPicPr>
        <p:blipFill>
          <a:blip r:embed="rId2"/>
          <a:stretch/>
        </p:blipFill>
        <p:spPr>
          <a:xfrm>
            <a:off x="-2629080" y="-3089160"/>
            <a:ext cx="17138880" cy="1285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b001c355084fea45d1090626" descr=""/>
          <p:cNvPicPr/>
          <p:nvPr/>
        </p:nvPicPr>
        <p:blipFill>
          <a:blip r:embed="rId2"/>
          <a:stretch/>
        </p:blipFill>
        <p:spPr>
          <a:xfrm>
            <a:off x="-252360" y="0"/>
            <a:ext cx="9648720" cy="704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4:53:44Z</dcterms:created>
  <dc:creator>名山初中   覃堃</dc:creator>
  <dc:description/>
  <dc:language>en-US</dc:language>
  <cp:lastModifiedBy>zmj</cp:lastModifiedBy>
  <dcterms:modified xsi:type="dcterms:W3CDTF">2010-12-18T15:14:13Z</dcterms:modified>
  <cp:revision>136</cp:revision>
  <dc:subject/>
  <dc:title>PowerPoint 演示文稿</dc:title>
</cp:coreProperties>
</file>