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6B1-FB88-4B06-B413-BCE3CEE0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A0F-6FD9-4753-A7F6-B8CE92B1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7F0-E865-42ED-A7CF-F7F256EA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65D-C3C6-437F-9A6B-CE8962C9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C49-3132-4FC3-935E-5CBCDC5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597-044A-4BB7-9829-EABEFDE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D29-6D99-42D5-91C4-9A0C190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BE3-866C-43F9-9A81-D4164F31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180-E038-47FF-8EFD-49470C2B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ED0-0EFC-4644-8EF2-EAA53A7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497-B5E6-4E5C-9564-934960B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15B-AAA5-48C9-834D-D7D82D6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4A30-236A-41F0-8E35-6C6EE659B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有教无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01360" y="4876920"/>
            <a:ext cx="164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西安高新第三中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姓名：张       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4582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孔子学鼓琴师襄子，十日不进。师襄子曰：“可以益矣。”孔子曰：“丘已 习其曲矣，未得其数也。”有间，曰：“已习其数，可以益矣。”孔子曰：“丘 未得其志也。”有间，曰：“已习其志，可以益矣。”孔子曰：“丘未得其为人 也。”有间，有所穆然深思焉，有所怡然高望而远志焉。曰：“丘得其为人，黯 然而黑，几然而长，眼如望羊，如王四国，非文王其谁能为此也！”师襄子辟席 再拜，曰：“师盖云文王操也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谈谈你得到的启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总结升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的收获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771640" y="1197000"/>
            <a:ext cx="36576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cap="sq" w="1908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再 见</a:t>
            </a:r>
            <a:endParaRPr b="1" lang="en-US" sz="9600" spc="1" strike="noStrike">
              <a:ln cap="sq" w="1908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0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5400000">
            <a:off x="4724280" y="2895480"/>
            <a:ext cx="426744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跃跃欲试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孔门弟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轻时喜欢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子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豪气与率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求学时羡慕聪明的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子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子游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人交往时又希望具备宰予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子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伶俐口才；就业之后， 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仲弓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冉求的从政经历可供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后，曾参不断进步；子张勇于提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至于首席弟子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颜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，更是我们终身的典范。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有教无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77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引领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孟懿子问孝。子曰：“无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樊迟御，子告之曰：“孟孙问孝于我，我对曰无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樊迟曰：“何谓也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子曰：“生，事之以礼；死，葬之以礼，祭之以礼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引领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子在川上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逝者如斯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舍昼夜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子路问君子。子曰：“修己以敬。”曰：“如斯而已乎？”曰：“修己以安人 。”曰：“如斯而已乎？”曰：“修己以安百姓 。修己以安百姓，尧舜其犹病诸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子曰：“不曰‘如之何，如之何’者，吾末如之何也矣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引领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训练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材料反映了孔子的什么教育思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樊迟三问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次子曰：“爱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次子曰：“仁者先难而后获，可谓仁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次子曰：“居处恭，执事敬，与人忠。虽之夷狄，不可弃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园</dc:creator>
  <dc:description/>
  <dc:language>en-US</dc:language>
  <cp:lastModifiedBy>微软用户</cp:lastModifiedBy>
  <dcterms:modified xsi:type="dcterms:W3CDTF">2012-02-28T06:07:27Z</dcterms:modified>
  <cp:revision>22</cp:revision>
  <dc:subject>先秦诸子</dc:subject>
  <dc:title>有教无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