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9E6-27FC-4B74-85D9-4C3CD75B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5907-16CB-49AF-8CE5-91C2829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FC2-99AB-49C7-9695-1679A4D5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E86-56D9-4123-A8BE-C42259C1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814A-A174-4986-9C48-AB4139DD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C921-B509-4A95-8501-AD54D2B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BF5B-1719-4B25-BB49-93D90BB6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94BB-8CF5-4DE9-BE16-5C2E6DEB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719D-95ED-4D77-877E-1A81ABC7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698B-EE2A-410D-96AE-ADF2210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1E3F-E006-4514-B4B2-C98CA4B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D4B-D617-4D31-BAD7-29C32FD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C8C8-6951-46BD-B036-504786C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E61C-CBE8-41A5-B2AB-00362E70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A45-2EF5-442B-A0DB-ECC7036D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994A-35E3-47D5-922E-3438E386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3135-429A-4053-958C-C377F97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399-9F13-4841-8181-8F6E6C6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497-4186-42A7-9509-D36C91D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96D-6D79-494E-80AD-29F1E016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C03-EE07-40A4-9EC2-3AFF393F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4F0-0010-4281-B5A2-8A27BB8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7AB-B61F-42FB-9E72-7DC0BB2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FD1-FC99-4A51-809C-D7759B67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05A-55D3-41DA-ABF6-701E2617A4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0AFA-0C91-4108-9AF1-FCFDC803A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195640" y="278136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有教无类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431640"/>
            <a:ext cx="79930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子曰：“不愤不启，不悱不发。举一隅不以三隅反，则不复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，类推。整句话省略了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若非弟子努力想弄明白某个问题却又弄不明白，就不去开导他，若非弟子想表达某种意思却又表达不出来，就不去启发他。举一个墙角作例子给弟子讲清楚，而弟子不能触类旁通推知另外三个墙角的情况，就不再去教他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620640"/>
            <a:ext cx="799308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子曰：“吾尝终日不食，终夜不寝，以思，无益，不如学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，曾经；以，来，用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我曾经整日不吃，整夜不睡，来思考，没有好处，还不如去学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381880" cy="518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学而不思则罔，思而不学则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光读书而不思考就会上当受骗；光思考而不读书就会陷入危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381880" cy="518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原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子曰：“回也非助我者也，于吾言无所不说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子说：“颜回不是帮助我的人啊，对我说的话没有一句不喜欢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33526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贡曰：“贫而无谄，富而无骄，何如？”子曰：“可也。未若贫而乐，富而好礼者也。”子贡曰：“《诗》云：‘如切如磋，如琢如磨’，其斯之谓与？”子曰：“赐也，始可与言《诗》已矣，告诸往而知来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52388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276720"/>
            <a:ext cx="8458200" cy="11905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子贡说：“贫穷却不阿谀奉承，富贵却不狂妄自大，怎样？”孔子说：“可以。不如穷得有志气，富得有涵养的人。”子贡说：“修养的完善，如同玉器的加工：切了再磋，琢了再磨，对吧？”孔子说：“子贡啊，现在可以与你谈诗了。说到过去，你就知道未来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4760" y="-152280"/>
            <a:ext cx="22892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问曰：“‘巧笑倩兮，美目盼兮，素以为绚兮’。何谓也？”子曰：“绘事后素。”曰：“礼后乎？”子曰：“启予者商也，始可与言诗已矣！”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2286000" cy="79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171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4000" y="3573360"/>
            <a:ext cx="8569080" cy="1636920"/>
          </a:xfrm>
          <a:prstGeom prst="rect">
            <a:avLst/>
          </a:prstGeom>
          <a:solidFill>
            <a:srgbClr val="ccffcc">
              <a:alpha val="41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【译文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问道：“美丽的笑容上面泛起一对酒窝，漂亮的眼睛闪闪转动，未染色的丝绸变成了艳丽的衣裳，这是说什么啊？”孔子说：“这是说绘画后于白色的底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夏说：“礼后于人的本性吗（就是说礼是施于人的本性上面的吗）？”孔子说：“启发我的是卜商啊！从现在开始可以跟他讨论《诗三百》了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263700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概括你从中得到的认识或启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647640" y="274464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>
                        <a:alpha val="99215"/>
                      </a:srgbClr>
                    </a:gs>
                    <a:gs pos="100000">
                      <a:srgbClr val="750075"/>
                    </a:gs>
                  </a:gsLst>
                  <a:lin ang="0"/>
                </a:gradFill>
                <a:latin typeface="宋体"/>
              </a:rPr>
              <a:t>阅读与感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>
                      <a:alpha val="99215"/>
                    </a:srgbClr>
                  </a:gs>
                  <a:gs pos="100000">
                    <a:srgbClr val="750075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5400000">
            <a:off x="-793080" y="296136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温馨祝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把自己的学习心得写成小卡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后送给老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42920" y="1197000"/>
            <a:ext cx="7058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教学目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一、领会孔子的教育思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二、累积文言文知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3492360" cy="270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 rot="5400000">
            <a:off x="-432000" y="288936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说一说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557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无类”指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7640" y="1125360"/>
            <a:ext cx="6480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一、不分身份、地位均要教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二、不管品行、习性，对所有的人都平等地加以教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549360"/>
            <a:ext cx="8569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子曰：“有教无类。”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，教育；类，类别；名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人人我都教育，没有区别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子曰：“中人以上，可以语上也；中人以下，不可以语上也。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“中上等天赋的人，可以同他研究高深的学问；中下等天赋的人，不可以同他讨论高深的学问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2100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431640"/>
            <a:ext cx="85690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子路问：“闻斯行诸？”子曰：“有父兄在，如之何其闻斯行之？”冉有问：“闻斯行诸？”子曰：“闻斯行之！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斯，副词，就；诸，之乎；其，表反问语气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子路问道：“听到就去做吗？”孔子回答说：“有老父长兄健在，怎么能听到就去做呢？”冉有问道：“听到就去做吗？”孔子回答：“听到就去做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89000"/>
            <a:ext cx="7993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公西华曰：“由也问‘闻斯行诸’，子曰：‘有父兄在’；求也问‘闻斯行诸’，子曰：‘闻斯行之’。赤也惑，敢问。”子曰：“求也退，故进之；由也兼人，故退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，句中语气词；“进之”“退之”使动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西华说：“仲由问‘听到了就去实践它吗’，您说‘有父兄活着’；冉求问‘听到了就去实践它吗’，您说‘听到就去实践它’。我有点糊涂，斗胆问问。”孔子说：“冉求平时做事退缩，所以我要推他一把；子路本事太大（容易冒失），所以我要让他退一步想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476280"/>
            <a:ext cx="849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子张问曰：“令尹子文三仕为令尹，无喜色；三已之，无愠色。旧令尹之政，必以告新令尹。何如？”子曰：“忠矣。”曰：“仁矣乎？”曰：“未知。焉得仁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旧，过往、过往；以告，应为“以之告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张问道：“令尹子文三次当令尹这个官，没有高兴的脸色；三次罢免了他，也没有生气的样子。先前任令尹时的政事，一定把它告诉继任的令尹。他怎么了？”孔子说：“（他）算得上忠了。”子张说：“（那）算得上仁吗？”孔子答：“不晓得。哪里算得上仁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1116000" cy="5493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选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“崔子弑齐君，陈文子有马十乘，弃而违之。至于他邦，则曰：‘犹吾大夫崔子也。’违之。之一邦，则又曰：‘犹吾大夫崔子也。’违之。何如？”子曰：“清矣。”曰：“仁矣乎？”子曰：“未知。焉得仁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注释】至于，去到；之，到；焉，哪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【译文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子张问）“崔子杀了齐国的国君，大夫陈文子有马四十匹，却抛下离开齐国。到另一个国家，就说：‘这里的大夫就像我们齐国的大夫崔子一样啊。’于是离开这个国家。到了另一个国家，就又说：‘这里的大夫就像我们齐国的大夫崔子一样啊。’于是又离开这个国家。（您认为他）怎么样啊？”孔子说：“算得上清白了。”子张问：“算得上仁吗？”孔子说：“不晓得。哪里算得上仁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7:44:50Z</dcterms:created>
  <dc:creator>USER</dc:creator>
  <dc:description/>
  <dc:language>en-US</dc:language>
  <cp:lastModifiedBy>微软用户</cp:lastModifiedBy>
  <dcterms:modified xsi:type="dcterms:W3CDTF">2017-02-19T12:26:28Z</dcterms:modified>
  <cp:revision>31</cp:revision>
  <dc:subject/>
  <dc:title>幻灯片 1</dc:title>
</cp:coreProperties>
</file>