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AF955-1B02-4EA5-B94B-1312D39CC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40D32-FD3C-406E-BCC0-99AE741D0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03D00-A211-4E14-8AC3-497504416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533D7-D123-4151-A353-79050E2AA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526B0-A8C1-40EA-9A87-E990D33CD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DEC0E-165F-4053-8B86-56094A42A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2E28A-42B4-43F0-9DD2-5530142A0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4DC4C-907A-49F3-9E90-0CBD3CBF6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EDE8C-2B17-4214-A34E-CEB0A2A21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8396D-F2A9-4866-B6CE-A73784162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1F760-0C89-4F92-9F6B-F35AB8DED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1DE65-58BF-4EB7-8ED4-31CBC3217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82620-CE29-4FF8-B12B-C6AB85DF300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981080" y="533520"/>
            <a:ext cx="685800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1" strike="noStrike">
                <a:ln w="158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800000"/>
                    </a:gs>
                    <a:gs pos="100000">
                      <a:srgbClr val="3333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华文行楷"/>
              </a:rPr>
              <a:t>有教无类</a:t>
            </a:r>
            <a:endParaRPr b="1" lang="en-US" sz="6600" spc="1" strike="noStrike">
              <a:ln w="158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800000"/>
                  </a:gs>
                  <a:gs pos="100000">
                    <a:srgbClr val="3333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42" name=""/>
          <p:cNvSpPr/>
          <p:nvPr/>
        </p:nvSpPr>
        <p:spPr>
          <a:xfrm>
            <a:off x="5029200" y="4191120"/>
            <a:ext cx="396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孔子以卓有成效的实践，改变了教育对象限于统治阶层的历史传统，开创了平民教育的新纪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l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2971800" y="609480"/>
            <a:ext cx="586728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 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问孔子的人，有学生，也有别人。问的问题，也主要是做官和做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易中天教授统计了一下，《论语》书中，孔子回答得最多的问题，是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政治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包括做官、事君、为政），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19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次。其次是问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对某个人的评价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次。再次是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问仁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9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次。又再次是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问礼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次；问孝，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次；问君子，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次；问士，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次。其余，如问友、问知、问明、问达、问行、问好恶、问做人也都可以归入问仁问孝一类。有人问过军事，孔子的回答是他不懂，没学过（《论语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·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卫灵公》），也有人问过鬼神，孔子的回答是“未能事人，焉能事鬼”（《论语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·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先进》）。这两个答案，都等于拒绝回答。拒绝回答当然也是回答。答案就是：这些问题我没兴趣。感兴趣的，只有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政治学和伦理学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。其实即便是问文学，孔门师生也能扯到政治伦理上去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304920" y="2971800"/>
            <a:ext cx="2220840" cy="35337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u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6" dur="2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1" dur="20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-360" y="914040"/>
            <a:ext cx="57150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子夏问曰：“‘巧笑倩兮，美目盼兮，素以为绚兮’。何谓也？”子曰：“绘事后素。”曰：“礼后乎？”子曰：“启予者商也，始可与言诗已矣！”  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0" y="0"/>
            <a:ext cx="2286000" cy="792000"/>
          </a:xfrm>
          <a:prstGeom prst="rect">
            <a:avLst/>
          </a:prstGeom>
          <a:solidFill>
            <a:srgbClr val="0000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选文</a:t>
            </a: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5715000" y="0"/>
            <a:ext cx="3429000" cy="317196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304920" y="3581280"/>
            <a:ext cx="8153280" cy="1415880"/>
          </a:xfrm>
          <a:prstGeom prst="rect">
            <a:avLst/>
          </a:prstGeom>
          <a:solidFill>
            <a:srgbClr val="ccffcc">
              <a:alpha val="41000"/>
            </a:srgbClr>
          </a:solidFill>
          <a:ln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【译文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子夏问道：“美丽的笑容上面泛起一对酒窝，漂亮的眼睛闪闪转动，未染色的丝绸变成了艳丽的衣裳，这是说什么啊？”孔子说：“这是说绘画后于白色的底子。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子夏说：“礼后于人的本性吗（就是说礼是施于人的本性上面的吗）？”孔子说：“启发我的是卜商啊！从现在开始可以跟他讨论《诗三百》了。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lu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228600" y="457200"/>
            <a:ext cx="8610480" cy="6019920"/>
          </a:xfrm>
          <a:prstGeom prst="rect">
            <a:avLst/>
          </a:prstGeom>
          <a:solidFill>
            <a:srgbClr val="ccffcc"/>
          </a:solidFill>
          <a:ln w="57240">
            <a:solidFill>
              <a:srgbClr val="ff66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【评析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这个意思很清楚，子夏为什么还要问？显然，他是要“举一反三”。于是孔子回答“绘事后素”。绘事，就是画画；后素，就是“后于素”。也就是说，画画，要先有白底子，然后才能画花纹。这就已经是由此及彼，说开去了。谁知子夏竟大受启发，高兴地问：“礼后乎？”什么叫“礼后乎”？就是说，礼，也像绘画的花纹一样，要放在打底子的后面吧？孔子一听，喜出望外地说：启发我的人就是你呀（起予者商也），我可以和你讨论诗了（始可与言诗已矣）！孔子为什么会这样说？因为在孔子看来，</a:t>
            </a:r>
            <a:r>
              <a:rPr b="1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礼乐也是要先打底子的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。拿什么打底子？仁。仁爱或者仁义，就是礼乐的底子。仁为礼乐之本，当然要先仁义而后礼乐。这就叫“</a:t>
            </a:r>
            <a:r>
              <a:rPr b="1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礼后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”，或者说“仁先礼后”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不过这样一来，“巧笑倩兮，美目盼兮，素以为绚兮”这句话的本意就变了，不再是“以本色为美”，而是“以本色为底”。所以课本的翻译，虽未必是诗的原意，却符合孔子的想法。曲解诗意的，不是课本，倒是孔夫子。那么，是孔子不懂诗吗？不是。他是</a:t>
            </a:r>
            <a:r>
              <a:rPr b="1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故意曲解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，也就是要借古人的话，说自己的事。原意不原意，曲解不曲解，严谨不严谨，他可不管。孔子的“曲解诗意”，其实是不怎么好批评的。环境不同，目的不同，想法也不同。孔子和子夏谈诗，并不是做研究，而是讲道理。子夏问，孔子答，目的都不在诗之中，而在诗之外。诗的本意，也就并不重要。只不过这个弯，也实在转得太大了一点，让我们看得一头雾水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lu"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7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2" dur="2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7" dur="20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2" dur="20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304560" y="1218960"/>
            <a:ext cx="8381880" cy="5181480"/>
          </a:xfrm>
          <a:prstGeom prst="rect">
            <a:avLst/>
          </a:prstGeom>
          <a:solidFill>
            <a:srgbClr val="ffffff">
              <a:alpha val="47000"/>
            </a:srgbClr>
          </a:solidFill>
          <a:ln w="57240">
            <a:solidFill>
              <a:srgbClr val="008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《论语》当中孔子也对自己的教学经验进行过总结。一方面是客观上的启发，另一方面是主观上的思考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5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【原文】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子曰：“不愤不启、不悱不发，举一隅不以三隅反，则不复也。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【译文】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孔子说：“不到苦思冥想时，不去提醒；不到欲说无语时，不去引导。不能举一例能理解三个类似的问题，就不要再教他了。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6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【原文】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子曰：“吾尝终日不食，终夜不寝，以思。无益，不如学也。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【译文】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孔子说：“我曾整天不吃、整夜不睡，来思考。结果没好处，还不如学习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7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【原文】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子曰：“学而不思则罔，思而不学则殆。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【译文】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孔子说：“读书不想事，越学越糊涂；想事不读书，越想越头痛。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0"/>
            <a:ext cx="3352680" cy="792000"/>
          </a:xfrm>
          <a:prstGeom prst="rect">
            <a:avLst/>
          </a:prstGeom>
          <a:solidFill>
            <a:srgbClr val="0000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选文</a:t>
            </a: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5</a:t>
            </a: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、</a:t>
            </a: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6</a:t>
            </a: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、</a:t>
            </a: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lu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304920" y="380520"/>
            <a:ext cx="6781680" cy="6248520"/>
          </a:xfrm>
          <a:prstGeom prst="rect">
            <a:avLst/>
          </a:prstGeom>
          <a:solidFill>
            <a:srgbClr val="ffffff">
              <a:alpha val="39000"/>
            </a:srgbClr>
          </a:solidFill>
          <a:ln w="5724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第一句话，让我从中看到了一个深谙教育心理学的孔子，这个老师有点坏，“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愤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”“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悱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”两个字，仿佛让我看到他对着学生一脸悠然自得说：“很难吧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~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不知道了吧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~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不知道就在想一想啊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~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想不出来了吧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~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好吧，那就让我来告诉你……”一副欠扁的样子，但你又确实想知道，能奈他何。也就是说，一定是学生很想知道了，他才说，因为他知道这样的教学效果最好。不像我们，大家不一定想知道，我在这里说的满头大汗，所以大家回去记不住什么。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第二句话和第三句话，孔子重视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思考和学习的关系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。这种关系荀子也论述过，他说的是“吾尝终日而思矣，不如须臾之所学。”教学中不仅要教给学生，让他们记住，还得有时间让学生来回味。这种状态我很认可。但是，很不幸的，大家生活在一个学都来不及的时代里，思的时间就更少了，所以没事多发呆，好好想想自己的人生，想想学过的知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 rot="680400">
            <a:off x="6933960" y="3886200"/>
            <a:ext cx="2071440" cy="28195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u"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2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7" dur="2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2" dur="20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1523880" cy="792000"/>
          </a:xfrm>
          <a:prstGeom prst="rect">
            <a:avLst/>
          </a:prstGeom>
          <a:solidFill>
            <a:srgbClr val="000000"/>
          </a:solidFill>
          <a:ln w="381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选文</a:t>
            </a: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914400"/>
            <a:ext cx="37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子曰：“有教无类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600200"/>
            <a:ext cx="6084720" cy="520560"/>
          </a:xfrm>
          <a:prstGeom prst="rect">
            <a:avLst/>
          </a:prstGeom>
          <a:noFill/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【译文】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黑体"/>
              </a:rPr>
              <a:t>孔子说：“人人我都教育，没有区别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04920" y="3124080"/>
            <a:ext cx="7924680" cy="1625400"/>
          </a:xfrm>
          <a:prstGeom prst="rect">
            <a:avLst/>
          </a:prstGeom>
          <a:solidFill>
            <a:srgbClr val="ccffff">
              <a:alpha val="67000"/>
            </a:srgbClr>
          </a:soli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【评析】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“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无类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”是指：一、不分身份、地位均要教育。二、不管品行、习性，对所有的人都平等地加以教育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所谓有教无类，是指对所有的人都进行教育而没有类的区别，即不因为贫富地、贵践、智愚、善恶等原因把一些人人排除在教育对象之外。孔子这类么说，也这么做。他以卓有成效的实践，改变了教育对象限于统治阶层的历史传统，开创了平民教育的新纪元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6172200" y="0"/>
            <a:ext cx="2971800" cy="28861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u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0" y="1066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子曰：“中人以上，可以语上也；中人以下，不可以语上也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1523880" cy="792000"/>
          </a:xfrm>
          <a:prstGeom prst="rect">
            <a:avLst/>
          </a:prstGeom>
          <a:solidFill>
            <a:srgbClr val="0000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选文</a:t>
            </a: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04920" y="3276720"/>
            <a:ext cx="6095880" cy="1739880"/>
          </a:xfrm>
          <a:prstGeom prst="rect">
            <a:avLst/>
          </a:prstGeom>
          <a:solidFill>
            <a:srgbClr val="ffffff">
              <a:alpha val="48000"/>
            </a:srgbClr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【译文】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孔子说：“中上等天赋的人，可以同他研究高深的学问；中下等天赋的人，不可以同他讨论高深的学问。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6477120" y="0"/>
            <a:ext cx="266688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u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152280" y="304920"/>
            <a:ext cx="5105520" cy="6324480"/>
          </a:xfrm>
          <a:prstGeom prst="rect">
            <a:avLst/>
          </a:prstGeom>
          <a:noFill/>
          <a:ln w="57240">
            <a:solidFill>
              <a:srgbClr val="008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【评析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这句孔子的自白，让后人看到，这位万世师表的人物他也是有想法的，什么样的人用什么样的教法。孔子重视学习和思考的关系，所以他说“学而不思则罔，思而不学则殆。”学生不聪明，自己又讲的太玄妙。学生会去想啊想，想不出来，就“殆”了，殆是什么意思？危险。学生理解能力足够，就讲授适合他们学的东西，这就是孔子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6248520" y="152280"/>
            <a:ext cx="2770200" cy="4191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 txBox="1"/>
          <p:nvPr/>
        </p:nvSpPr>
        <p:spPr>
          <a:xfrm>
            <a:off x="5791320" y="4800600"/>
            <a:ext cx="312408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8200"/>
                    </a:gs>
                    <a:gs pos="50000">
                      <a:srgbClr val="000082"/>
                    </a:gs>
                    <a:gs pos="100000">
                      <a:srgbClr val="ff8200"/>
                    </a:gs>
                  </a:gsLst>
                  <a:lin ang="135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隶书"/>
              </a:rPr>
              <a:t>因材施教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8200"/>
                  </a:gs>
                  <a:gs pos="50000">
                    <a:srgbClr val="000082"/>
                  </a:gs>
                  <a:gs pos="100000">
                    <a:srgbClr val="ff8200"/>
                  </a:gs>
                </a:gsLst>
                <a:lin ang="135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华文隶书"/>
              <a:ea typeface="华文隶书"/>
            </a:endParaRPr>
          </a:p>
        </p:txBody>
      </p:sp>
    </p:spTree>
  </p:cSld>
  <p:transition spd="slow">
    <p:strips dir="lu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" dur="2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-360" y="914040"/>
            <a:ext cx="71629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子贡曰：“贫而无谄，富而无骄，何如？”子曰：“可也。未若贫而乐，富而好礼者也。”子贡曰：“《诗》云：‘如切如磋，如琢如磨’，其斯之谓与？”子曰：“赐也，始可与言《诗》已矣，告诸往而知来者。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0"/>
            <a:ext cx="1523880" cy="792000"/>
          </a:xfrm>
          <a:prstGeom prst="rect">
            <a:avLst/>
          </a:prstGeom>
          <a:solidFill>
            <a:srgbClr val="0000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选文</a:t>
            </a: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4920" y="3200400"/>
            <a:ext cx="7848360" cy="916200"/>
          </a:xfrm>
          <a:prstGeom prst="rect">
            <a:avLst/>
          </a:prstGeom>
          <a:noFill/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【译文】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子贡说：“贫穷却不阿谀奉承，富贵却不狂妄自大，怎样？”孔子说：“可以。不如穷得有志气，富得有涵养的人。”子贡说：“修养的完善，如同玉器的加工：切了再磋，琢了再磨，对吧？”孔子说：“子贡啊，现在可以与你谈诗了。说到过去，你就知道未来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854760" y="-152280"/>
            <a:ext cx="2289240" cy="29718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u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9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3962160" y="228600"/>
            <a:ext cx="4800600" cy="5943600"/>
          </a:xfrm>
          <a:prstGeom prst="rect">
            <a:avLst/>
          </a:prstGeom>
          <a:solidFill>
            <a:srgbClr val="ffffff">
              <a:alpha val="44000"/>
            </a:srgbClr>
          </a:solidFill>
          <a:ln w="57240">
            <a:solidFill>
              <a:srgbClr val="ff66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【评析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这则故事，除了让我们看到孔子的教学方法在于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启发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之外，“赐也，始可与言《诗》已矣”这一句中我们可以知道，孔子是在子贡弄明白前一个道理之后，才开始和他谈论《诗经》，这就是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循序渐进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838080" y="1828800"/>
            <a:ext cx="2246400" cy="46483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u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6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1" dur="2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6" dur="20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151920" y="837720"/>
            <a:ext cx="7086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子路问：“闻斯行诸？”子曰：“有父兄在，如之何其闻斯行之？”冉有问：“闻斯行诸？”子曰：“闻斯行之。”公西华曰：“由也问‘闻斯行诸’，子曰‘有父兄在’；求也问‘闻斯行诸’，子曰‘闻斯行之’。赤也惑，敢问？”子曰：“求也退，故进之；由也兼人，故退之。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0" y="0"/>
            <a:ext cx="1523880" cy="792000"/>
          </a:xfrm>
          <a:prstGeom prst="rect">
            <a:avLst/>
          </a:prstGeom>
          <a:solidFill>
            <a:srgbClr val="0000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选文</a:t>
            </a: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3048120"/>
            <a:ext cx="6477120" cy="1434600"/>
          </a:xfrm>
          <a:prstGeom prst="rect">
            <a:avLst/>
          </a:prstGeom>
          <a:solidFill>
            <a:srgbClr val="ffff99">
              <a:alpha val="47000"/>
            </a:srgbClr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【译文】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公西华说：“仲由问‘听到了就去实践它吗’，您说‘有父兄活着’；冉求问‘听到了就去实践它吗’，您说‘听到就去实践它’。我有点糊涂，斗胆问问。”孔子说：“冉求平时做事退缩，所以我要推他一把；子路本事太大（容易冒失），所以我要让他退一步想想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 rot="984000">
            <a:off x="6857640" y="3962160"/>
            <a:ext cx="1914480" cy="243828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u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子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张问曰：“令尹子文三仕为令尹，无喜色；三已之，无愠色。旧令尹之政，必以告新令尹。何如？”子曰：“忠矣。”曰：“仁矣乎？”曰：“未知，焉得仁？“崔子弑齐君，陈文子有马十乘，弃而违之。至于他邦，则曰：‘犹吾大夫崔子也。’违之。之一邦，则又曰：‘犹吾大夫崔子也。’违之。何如？”子曰：“清矣。”曰：“仁矣乎？”曰：“未知，焉得仁？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0"/>
            <a:ext cx="1523880" cy="792000"/>
          </a:xfrm>
          <a:prstGeom prst="rect">
            <a:avLst/>
          </a:prstGeom>
          <a:solidFill>
            <a:srgbClr val="0000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选文</a:t>
            </a: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9480" y="3657600"/>
            <a:ext cx="8153640" cy="1047240"/>
          </a:xfrm>
          <a:prstGeom prst="rect">
            <a:avLst/>
          </a:prstGeom>
          <a:solidFill>
            <a:srgbClr val="ccffcc">
              <a:alpha val="33000"/>
            </a:srgbClr>
          </a:solidFill>
          <a:ln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【译文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子张问：“子文三次做宰相时，没感到高兴；三次被罢免时，没感到委屈。卸任前，总是认真地办理交接事宜，怎样？”孔子说：“算忠心了。”问：“算仁吗？”答：“不知道，哪来仁？”又问：“崔子杀了齐庄公，陈文子抛弃家产跑了。到了另一国，他说：‘这里的大夫同崔子一样。’又跑了。再到一国，再说：‘他们同崔子一样。’再跑了。怎样？”孔子说：“算清白了。”问：“算仁吗？”答：“不知道，哪来仁？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lu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2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609120" y="304560"/>
            <a:ext cx="8001000" cy="3276360"/>
          </a:xfrm>
          <a:prstGeom prst="rect">
            <a:avLst/>
          </a:prstGeom>
          <a:noFill/>
          <a:ln w="57240">
            <a:solidFill>
              <a:srgbClr val="cc33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【评析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学生问孔子答，这是论语中表现出的孔子主要的教学方式，但是从文中我们可以看出孔子的回答是很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谨慎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的，“未知，焉得仁？”一方面，说明“仁”的标准是很高的，第二我们也可以看出。孔子在弟子的面前是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不妄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609480" y="3886200"/>
            <a:ext cx="8153640" cy="266688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u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" dur="5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zmj</cp:lastModifiedBy>
  <dcterms:modified xsi:type="dcterms:W3CDTF">2012-03-03T12:08:41Z</dcterms:modified>
  <cp:revision>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