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E055-0167-4B5E-BAA8-3BD4FCA9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73C5-FA86-40CE-A7B3-53C891F6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FA6-5E6C-4183-8F39-591836A3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19AE-C5B2-4E1D-876E-EB7B40EF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A846-0EA9-4BCE-9F3E-85F63602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C10A-7834-431A-9735-4DE43A1B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029E-5053-45C6-A6E5-B4C6D4E2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0011-4E8E-4DA4-A96D-948CDA10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7952-FBA4-454B-9A68-D213EE32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AC9B-5559-45E6-8740-08AF3FC5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E51C-294D-4B76-90A2-9CAC56E2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0C5-BDE4-4D3D-A7E7-B2B9E54C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F77E-67B5-4AC4-8D4E-E06110CF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0F18-F3C3-44F0-ADD4-11ADFCE1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2CE2-4BB9-42DF-925E-605C09FA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D7C3-DF85-4FD8-9618-D1C9AD8B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3A5A-5515-4733-B4D3-D6B3C4AD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20FAA-CE88-44BA-84EB-8CC12A61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4EEAB-A03C-4D74-B9BB-1F010051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1C8E8-C958-4D8A-95A3-32C76167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57A98-9A3B-4E6E-8CEC-418A6403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61A6F-43E9-43DF-AA80-26D07D4F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9CFC-DC9F-44AA-8665-AF9BC921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674EF-4BA1-4AE6-9490-28D3C937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C28D5-22F5-4371-B60F-383170E9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18F93-441C-4855-9490-20CABADC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D4F8C-9DE3-4406-8278-11280D69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41C65-7F2A-4AF7-B3E5-99A052D0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D7CD5-2853-4B7B-9FEC-67C924D6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E621A-A3A8-4AF1-AA12-ACA53A71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46A5-DEDE-4DD2-8EFC-D160C02F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DB4E-CF65-485A-B554-DF3B7B2B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F7E-9960-4B14-B0A2-97A4454C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2D01-DB92-4B51-8030-EFF60638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77D7-F040-42E6-B900-FD7B3390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3DD2-76D7-4FDF-BBB0-EFBA29CB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C4DC-D4DE-4993-B061-201ECFF463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5FF2-3E1D-47C4-9CCF-53C2EB73A0D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5A1F-1109-4F9E-9086-0AFDEDC8292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4099"/>
          <p:cNvSpPr txBox="1"/>
          <p:nvPr/>
        </p:nvSpPr>
        <p:spPr>
          <a:xfrm>
            <a:off x="1981080" y="533520"/>
            <a:ext cx="6858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584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有教无类</a:t>
            </a:r>
            <a:endParaRPr b="1" lang="en-US" sz="6600" spc="1" strike="noStrike">
              <a:ln w="1584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800000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4" name="文本框 4100"/>
          <p:cNvSpPr/>
          <p:nvPr/>
        </p:nvSpPr>
        <p:spPr>
          <a:xfrm>
            <a:off x="307800" y="3749760"/>
            <a:ext cx="39625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孔子以卓有成效的实践，改变了教育对象限于统治阶层的历史传统，开创了平民教育的新纪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5639400" y="5875200"/>
            <a:ext cx="24559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朔城区一中       李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8000" y="95400"/>
            <a:ext cx="8980560" cy="667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 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问孔子的人，有学生，也有别人。问的问题，也主要是做官和做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易中天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教授统计了一下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论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书中，孔子回答得最多的问题，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政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包括做官、事君、为政）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次。其次是问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对某个人的评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次。再次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问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次。又再次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问礼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次；问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次；问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君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次；问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士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次。其余，如问友、问知、问明、问达、问行、问好恶、问做人也都可以归入问仁问孝一类。有人问过军事，孔子的回答是他不懂，没学过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论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卫灵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，也有人问过鬼神，孔子的回答是“未能事人，焉能事鬼”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论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先进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。这两个答案，都等于拒绝回答。拒绝回答当然也是回答。答案就是：这些问题我没兴趣。感兴趣的，只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政治学和伦理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其实即便是问文学，孔门师生也能扯到政治伦理上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21506"/>
          <p:cNvSpPr/>
          <p:nvPr/>
        </p:nvSpPr>
        <p:spPr>
          <a:xfrm>
            <a:off x="352440" y="695160"/>
            <a:ext cx="8577360" cy="26283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子曰：“不愤不启，不悱不发。举一隅不以三隅反，则不复也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注释】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类推。整句话省略了主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孔子说：“若非弟子努力想弄明白某个问题却又弄不明白，就不去开导他，若非弟子想表达某种意思却又表达不出来，就不去启发他。举一个墙角作例子给弟子讲清楚，而弟子不能触类旁通推知另外三个墙角的情况，就不再去教他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1507"/>
          <p:cNvSpPr/>
          <p:nvPr/>
        </p:nvSpPr>
        <p:spPr>
          <a:xfrm>
            <a:off x="0" y="0"/>
            <a:ext cx="1116000" cy="549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文本框 24577"/>
          <p:cNvSpPr/>
          <p:nvPr/>
        </p:nvSpPr>
        <p:spPr>
          <a:xfrm>
            <a:off x="539640" y="620640"/>
            <a:ext cx="7993080" cy="44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子曰：“吾尝终日不食，终夜不寝，以思，无益，不如学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注释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尝，曾经；以，来，用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译文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说：“我曾经整日不吃，整夜不睡，来思考，没有好处，还不如去学习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24578"/>
          <p:cNvSpPr/>
          <p:nvPr/>
        </p:nvSpPr>
        <p:spPr>
          <a:xfrm>
            <a:off x="0" y="0"/>
            <a:ext cx="3352680" cy="792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23640" y="1196640"/>
            <a:ext cx="8381880" cy="5181480"/>
          </a:xfrm>
          <a:prstGeom prst="rect">
            <a:avLst/>
          </a:prstGeom>
          <a:solidFill>
            <a:srgbClr val="ffffff">
              <a:alpha val="47000"/>
            </a:srgbClr>
          </a:soli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原文】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子曰：“学而不思则罔，思而不学则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说：“光读书而不思考就会上当受骗；光思考而不读书就会陷入危险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32770"/>
          <p:cNvSpPr/>
          <p:nvPr/>
        </p:nvSpPr>
        <p:spPr>
          <a:xfrm>
            <a:off x="0" y="0"/>
            <a:ext cx="3352680" cy="792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63520" y="507960"/>
            <a:ext cx="8616960" cy="5592960"/>
          </a:xfrm>
          <a:prstGeom prst="rect">
            <a:avLst/>
          </a:prstGeom>
          <a:solidFill>
            <a:srgbClr val="ffffff">
              <a:alpha val="39000"/>
            </a:srgbClr>
          </a:solidFill>
          <a:ln w="572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第一句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让我从中看到了一个深谙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教育心理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孔子，这个老师有点坏，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愤”“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两个字，仿佛让我看到他对着学生一脸悠然自得说：“很难吧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知道了吧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知道就再想一想啊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想不出来了吧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好吧，那就让我来告诉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就是说，一定是学生很想知道了，他才说，因为他知道这样的教学效果最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第二句话和第三句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可见孔子重视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思考和学习的关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这种关系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荀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论述过，他说的是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吾尝终日而思矣，不如须臾之所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”教学中不仅要教给学生，让他们记住，还得有时间让学生来回味。但是，很不幸的，大家生活在一个学都来不及的时代里，思的时间就更少了，所以没事多发呆，好好想想自己的人生，想想学过的知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23640" y="1196640"/>
            <a:ext cx="8381880" cy="5181480"/>
          </a:xfrm>
          <a:prstGeom prst="rect">
            <a:avLst/>
          </a:prstGeom>
          <a:solidFill>
            <a:srgbClr val="ffffff">
              <a:alpha val="47000"/>
            </a:srgbClr>
          </a:soli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原文】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子曰：“回也非助我者也，于吾言无所不说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说：“颜回不是帮助我的人啊，对我说的话没有一句不喜欢的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33794"/>
          <p:cNvSpPr/>
          <p:nvPr/>
        </p:nvSpPr>
        <p:spPr>
          <a:xfrm>
            <a:off x="0" y="0"/>
            <a:ext cx="3352680" cy="792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0520" y="793440"/>
            <a:ext cx="8458200" cy="2482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贡曰：“贫而无谄，富而无骄，何如？”子曰：“可也。未若贫而乐，富而好礼者也。”子贡曰：“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云：‘如切如磋，如琢如磨’，其斯之谓与？”子曰：“赐也，始可与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矣，告诸往而知来者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26626"/>
          <p:cNvSpPr/>
          <p:nvPr/>
        </p:nvSpPr>
        <p:spPr>
          <a:xfrm>
            <a:off x="0" y="0"/>
            <a:ext cx="1523880" cy="792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6627"/>
          <p:cNvSpPr/>
          <p:nvPr/>
        </p:nvSpPr>
        <p:spPr>
          <a:xfrm>
            <a:off x="380880" y="3276720"/>
            <a:ext cx="8458200" cy="11905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【译文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子贡说：“贫穷却不阿谀奉承，富贵却不狂妄自大，怎样？”孔子说：“可以。不如穷得有志气，富得有涵养的人。”子贡说：“修养的完善，如同玉器的加工：切了再磋，琢了再磨，对吧？”孔子说：“子贡啊，现在可以与你谈诗了。说到过去，你就知道未来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777760" y="228600"/>
            <a:ext cx="5985000" cy="5943600"/>
          </a:xfrm>
          <a:prstGeom prst="rect">
            <a:avLst/>
          </a:prstGeom>
          <a:solidFill>
            <a:srgbClr val="ffffff">
              <a:alpha val="44000"/>
            </a:srgbClr>
          </a:solidFill>
          <a:ln w="5724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【评析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这则故事，除了让我们看到孔子的教学方法在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启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之外，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“赐也，始可与言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诗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已矣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这一句中我们可以知道，孔子是在子贡弄明白前一个道理之后，才开始和他谈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诗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，这就是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循序渐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8198" descr=""/>
          <p:cNvPicPr/>
          <p:nvPr/>
        </p:nvPicPr>
        <p:blipFill>
          <a:blip r:embed="rId1"/>
          <a:stretch/>
        </p:blipFill>
        <p:spPr>
          <a:xfrm>
            <a:off x="87480" y="2079720"/>
            <a:ext cx="2246040" cy="4647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-360" y="791640"/>
            <a:ext cx="5715000" cy="2256120"/>
          </a:xfrm>
          <a:prstGeom prst="rect">
            <a:avLst/>
          </a:prstGeom>
          <a:solidFill>
            <a:srgbClr val="f7fd9d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夏问曰：“‘巧笑倩兮，美目盼兮，素以为绚兮’。何谓也？”子曰：“绘事后素。”曰：“礼后乎？”子曰：“启予者商也，始可与言诗已矣！”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30722"/>
          <p:cNvSpPr/>
          <p:nvPr/>
        </p:nvSpPr>
        <p:spPr>
          <a:xfrm>
            <a:off x="0" y="0"/>
            <a:ext cx="2286000" cy="792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图片 30723" descr="8cf56b628975121bab184cca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3171960"/>
          </a:xfrm>
          <a:prstGeom prst="rect">
            <a:avLst/>
          </a:prstGeom>
          <a:ln w="0">
            <a:noFill/>
          </a:ln>
        </p:spPr>
      </p:pic>
      <p:sp>
        <p:nvSpPr>
          <p:cNvPr id="163" name="文本框 30724"/>
          <p:cNvSpPr/>
          <p:nvPr/>
        </p:nvSpPr>
        <p:spPr>
          <a:xfrm>
            <a:off x="287280" y="3363840"/>
            <a:ext cx="8569440" cy="1636920"/>
          </a:xfrm>
          <a:prstGeom prst="rect">
            <a:avLst/>
          </a:prstGeom>
          <a:solidFill>
            <a:srgbClr val="ffff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夏问道：“美丽的笑容上面泛起一对酒窝，漂亮的眼睛闪闪转动，未染色的丝绸变成了艳丽的衣裳，这是说什么啊？”孔子说：“这是说绘画后于白色的底子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夏说：“礼后于人的本性吗（就是说礼是施于人的本性上面的吗）？”孔子说：“启发我的是卜商啊！从现在开始可以跟他讨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诗三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。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240" y="138240"/>
            <a:ext cx="8805960" cy="633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【评析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个意思很清楚，子夏为什么还要问？显然，他是要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举一反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。于是孔子回答“绘事后素”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绘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就是画画；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后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就是“后于素”。也就是说，画画，要先有白底子，然后才能画花纹。这就已经是由此及彼，说开去了。谁知子夏竟大受启发，高兴地问：“礼后乎？”什么叫“礼后乎”？就是说，礼，也像绘画的花纹一样，要放在打底子的后面吧？孔子一听，喜出望外地说：启发我的人就是你呀，我可以和你讨论诗了！孔子为什么会这样说？因为在孔子看来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礼乐也是要先打底子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拿什么打底子？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仁爱或者仁义，就是礼乐的底子。仁为礼乐之本，当然要先仁义而后礼乐。这就叫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礼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，或者说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仁先礼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523880" cy="792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5124"/>
          <p:cNvSpPr/>
          <p:nvPr/>
        </p:nvSpPr>
        <p:spPr>
          <a:xfrm>
            <a:off x="1730520" y="136440"/>
            <a:ext cx="37335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子曰：“有教无类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5126"/>
          <p:cNvSpPr/>
          <p:nvPr/>
        </p:nvSpPr>
        <p:spPr>
          <a:xfrm>
            <a:off x="111240" y="905040"/>
            <a:ext cx="8921520" cy="116928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【注释】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教育；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类别；名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【译文】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黑体"/>
              </a:rPr>
              <a:t>孔子说：“人人我都教育，没有区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5127"/>
          <p:cNvSpPr/>
          <p:nvPr/>
        </p:nvSpPr>
        <p:spPr>
          <a:xfrm>
            <a:off x="111240" y="2262240"/>
            <a:ext cx="8921520" cy="1839600"/>
          </a:xfrm>
          <a:prstGeom prst="rect">
            <a:avLst/>
          </a:prstGeom>
          <a:solidFill>
            <a:srgbClr val="ccffff">
              <a:alpha val="67000"/>
            </a:srgbClr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【评析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无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是指：一、不分身份、地位均要教育。二、不管品行、习性，对所有的人都平等地加以教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谓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有教无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是指对所有的人都进行教育而没有类的区别，即不因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贫富、贵践、智愚、善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原因把一些人人为排除在教育对象之外。孔子这么说，也这么做。他以卓有成效的实践，改变了教育对象限于统治阶层的历史传统，开创了平民教育的新纪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4000" y="19080"/>
            <a:ext cx="9021600" cy="681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过这样一来，“巧笑倩兮，美目盼兮，素以为绚兮”这句话的本意就变了，不再是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以本色为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，而是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以本色为底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。所以课本的翻译，虽未必是诗的原意，却符合孔子的想法。曲解诗意的，不是课本，倒是孔夫子。那么，是孔子不懂诗吗？不是。他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故意曲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也就是要借古人的话，说自己的事。原意不原意，曲解不曲解，严谨不严谨，他可不管。孔子的“曲解诗意”，其实是不怎么好批评的。环境不同，目的不同，想法也不同。孔子和子夏谈诗，并不是做研究，而是讲道理。子夏问，孔子答，目的都不在诗之中，而在诗之外。诗的本意，也就并不重要。只不过这个弯，也实在转得太大了一点，让我们看得一头雾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9217"/>
          <p:cNvSpPr/>
          <p:nvPr/>
        </p:nvSpPr>
        <p:spPr>
          <a:xfrm>
            <a:off x="2771640" y="2637000"/>
            <a:ext cx="568512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概括你从中得到的认识或启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9218"/>
          <p:cNvSpPr txBox="1"/>
          <p:nvPr/>
        </p:nvSpPr>
        <p:spPr>
          <a:xfrm rot="5400000">
            <a:off x="-647640" y="2744640"/>
            <a:ext cx="410364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00ff">
                        <a:alpha val="99215"/>
                      </a:srgbClr>
                    </a:gs>
                    <a:gs pos="100000">
                      <a:srgbClr val="760076"/>
                    </a:gs>
                  </a:gsLst>
                  <a:lin ang="0"/>
                </a:gradFill>
                <a:latin typeface="宋体"/>
              </a:rPr>
              <a:t>阅读与感悟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00ff">
                      <a:alpha val="99215"/>
                    </a:srgbClr>
                  </a:gs>
                  <a:gs pos="100000">
                    <a:srgbClr val="760076"/>
                  </a:gs>
                </a:gsLst>
                <a:lin ang="0"/>
              </a:gradFill>
              <a:latin typeface="宋体"/>
              <a:ea typeface="宋体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39680" y="792000"/>
            <a:ext cx="6261120" cy="1587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子曰：“中人以上，可以语上也；中人以下，不可以语上也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6147"/>
          <p:cNvSpPr/>
          <p:nvPr/>
        </p:nvSpPr>
        <p:spPr>
          <a:xfrm>
            <a:off x="0" y="0"/>
            <a:ext cx="1523880" cy="792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6151"/>
          <p:cNvSpPr/>
          <p:nvPr/>
        </p:nvSpPr>
        <p:spPr>
          <a:xfrm>
            <a:off x="304920" y="3276720"/>
            <a:ext cx="609588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孔子说：“中上等天赋的人，可以同他研究高深的学问；中下等天赋的人，不可以同他讨论高深的学问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6154" descr="0000000000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51920" y="152280"/>
            <a:ext cx="5791320" cy="6477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【评析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句孔子的自白，让后人看到，这位万世师表的人物他也是有想法的，什么样的人用什么样的教法。孔子重视学习和思考的关系，所以他说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学而不思则罔，思而不学则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”学生不聪明，自己又讲的太玄妙。学生会去想啊想，想不出来，就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了，殆是什么意思？危险。学生理解能力足够，就讲授适合他们学的东西，这就是孔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17413" descr="2feaf6dfba4e9973cdbf1ab8"/>
          <p:cNvPicPr/>
          <p:nvPr/>
        </p:nvPicPr>
        <p:blipFill>
          <a:blip r:embed="rId1"/>
          <a:stretch/>
        </p:blipFill>
        <p:spPr>
          <a:xfrm>
            <a:off x="6248520" y="152280"/>
            <a:ext cx="2770200" cy="4191120"/>
          </a:xfrm>
          <a:prstGeom prst="rect">
            <a:avLst/>
          </a:prstGeom>
          <a:ln w="0">
            <a:noFill/>
          </a:ln>
        </p:spPr>
      </p:pic>
      <p:sp>
        <p:nvSpPr>
          <p:cNvPr id="136" name="矩形 17414"/>
          <p:cNvSpPr txBox="1"/>
          <p:nvPr/>
        </p:nvSpPr>
        <p:spPr>
          <a:xfrm>
            <a:off x="6032520" y="4800600"/>
            <a:ext cx="2986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因材施教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p:transition spd="slow">
    <p:strips dir="l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文本框 17410"/>
          <p:cNvSpPr/>
          <p:nvPr/>
        </p:nvSpPr>
        <p:spPr>
          <a:xfrm>
            <a:off x="182520" y="96840"/>
            <a:ext cx="8945640" cy="38955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子路问：“闻斯行诸？”子曰：“有父兄在，如之何其闻斯行之？”冉有问：“闻斯行诸？”子曰：“闻斯行之！”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黑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注释】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副词，就；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诸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之乎；其，表反问语气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子路问道：“听到就去做吗？”孔子回答说：“有老父长兄健在，怎么能听到就去做呢？”冉有问道：“听到就去做吗？”孔子回答：“听到就去做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7412"/>
          <p:cNvSpPr/>
          <p:nvPr/>
        </p:nvSpPr>
        <p:spPr>
          <a:xfrm>
            <a:off x="0" y="0"/>
            <a:ext cx="1116000" cy="549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18434"/>
          <p:cNvSpPr/>
          <p:nvPr/>
        </p:nvSpPr>
        <p:spPr>
          <a:xfrm>
            <a:off x="236520" y="189000"/>
            <a:ext cx="8602560" cy="33116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公西华曰：“由也问‘闻斯行诸’，子曰：‘有父兄在’；求也问‘闻斯行诸’，子曰：‘闻斯行之’。赤也惑，敢问。”子曰：“求也退，故进之；由也兼人，故退之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【注释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，句中语气词；“进之”“退之”使动用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西华说：“仲由问‘听到了就去实践它吗’，您说‘有父兄活着’；冉求问‘听到了就去实践它吗’，您说‘听到就去实践它’。我有点糊涂，斗胆问问。”孔子说：“冉求平时做事退缩，所以我要推他一把；子路本事太大（容易冒失），所以我要让他退一步想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文本框 19458"/>
          <p:cNvSpPr/>
          <p:nvPr/>
        </p:nvSpPr>
        <p:spPr>
          <a:xfrm>
            <a:off x="192240" y="584280"/>
            <a:ext cx="8759520" cy="23115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子张问曰：“令尹子文三仕为令尹，无喜色；三已之，无愠色。旧令尹之政，必以告新令尹。何如？”子曰：“忠矣。”曰：“仁矣乎？”曰：“未知。焉得仁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【注释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旧，过往、过往；以告，应为“以之告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张问道：“令尹子文三次当令尹这个官，没有高兴的脸色；三次罢免了他，也没有生气的样子。先前任令尹时的政事，一定把它告诉继任的令尹。他怎么了？”孔子说：“（他）算得上忠了。”子张说：“（那）算得上仁吗？”孔子答：“不晓得。哪里算得上仁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9459"/>
          <p:cNvSpPr/>
          <p:nvPr/>
        </p:nvSpPr>
        <p:spPr>
          <a:xfrm>
            <a:off x="0" y="0"/>
            <a:ext cx="1116000" cy="549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框 20482"/>
          <p:cNvSpPr/>
          <p:nvPr/>
        </p:nvSpPr>
        <p:spPr>
          <a:xfrm>
            <a:off x="250920" y="260280"/>
            <a:ext cx="8642160" cy="22269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“崔子弑齐君，陈文子有马十乘，弃而违之。至于他邦，则曰：‘犹吾大夫崔子也。’违之。之一邦，则又曰：‘犹吾大夫崔子也。’违之。何如？”子曰：“清矣。”曰：“仁矣乎？”子曰：“未知。焉得仁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【注释】至于，去到；之，到；焉，哪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子张问）“崔子杀了齐国的国君，大夫陈文子有马四十匹，却抛下离开齐国。到另一个国家，就说：‘这里的大夫就像我们齐国的大夫崔子一样啊。’于是离开这个国家。到了另一个国家，就又说：‘这里的大夫就像我们齐国的大夫崔子一样啊。’于是又离开这个国家。（您认为他）怎么样啊？”孔子说：“算得上清白了。”子张问：“算得上仁吗？”孔子说：“不晓得。哪里算得上仁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09120" y="304560"/>
            <a:ext cx="8001000" cy="327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评析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学生问孔子答，这是论语中表现出的孔子主要的教学方式，但是从文中我们可以看出孔子的回答是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谨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，“未知，焉得仁？”一方面，说明“仁”的标准是很高的，第二我们也可以看出，孔子在弟子的面前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妄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11269" descr="4ad543cf1b4b6b15f9dc61f9"/>
          <p:cNvPicPr/>
          <p:nvPr/>
        </p:nvPicPr>
        <p:blipFill>
          <a:blip r:embed="rId1"/>
          <a:stretch/>
        </p:blipFill>
        <p:spPr>
          <a:xfrm>
            <a:off x="609480" y="3886200"/>
            <a:ext cx="815364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7:44:50Z</dcterms:created>
  <dc:creator>USER</dc:creator>
  <dc:description/>
  <dc:language>en-US</dc:language>
  <cp:lastModifiedBy>芬</cp:lastModifiedBy>
  <dcterms:modified xsi:type="dcterms:W3CDTF">2019-03-12T09:27:29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</Properties>
</file>