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E36-FFC6-4CBB-A502-E8C64F3B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202-2AEC-4D16-A64E-40A55FE6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AF3-378E-440D-8C9B-EA6AC6B3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147-68B1-42BC-B0FB-AA07FAD6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13E-6F97-4492-8D40-78D55CF0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134-D385-49BB-BEE4-BA530B71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80F-826D-4FD4-8D25-09414887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AD6-C266-4072-86D6-28A0EB12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30C-4306-49FB-8E4F-91A13ACD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BF9-7E12-481C-BA52-6A97AECF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F81-2D91-45F9-A6E9-0DF54423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3BF-5C68-4470-A079-A946E750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A016-56EC-4230-A354-B0B59E4DF7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rtist.zhuokearts.com/2/art_display.asp?base_id=211&amp;arts_id=55506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hiphotos.baidu.com/lmbelia/pic/item/80254d355f7a39255ab5f574.jpe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pnstar.com.cn/pub/international/2009/0227/112533.htm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kaifeng.com/bbs/dispbbs.asp?boardid=8&amp;Id=4409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149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0"/>
            <a:ext cx="4648320" cy="2873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80254d355f7a39255ab5f574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2819520"/>
            <a:ext cx="4648320" cy="4038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33200" y="1219320"/>
            <a:ext cx="35924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e1e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常记溪亭日暮  沉醉不知归路   兴尽晚回舟   误入藕花深处   争渡   争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惊起一滩鸥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33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887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u=2779850929,1714266863&amp;fm=0&amp;gp=42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535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0" y="0"/>
          <a:ext cx="914400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15360" y="2819520"/>
            <a:ext cx="153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e1e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将全词改写成情景连贯、意境优美的</a:t>
            </a:r>
            <a:r>
              <a:rPr b="1" lang="zh-CN" sz="2400" spc="-1" strike="noStrike">
                <a:solidFill>
                  <a:srgbClr val="3009f3"/>
                </a:solidFill>
                <a:latin typeface="华文新魏"/>
                <a:ea typeface="华文新魏"/>
              </a:rPr>
              <a:t>抒情散文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0840" y="428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2400" y="3352680"/>
            <a:ext cx="3198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粉红的荷花已经凋谢，铺着的竹席也生秋凉， 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轻轻解下丝绸披肩，独自登上木兰小舟。 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天边飞来队队鸿雁，是谁捎来了远方的佳音？ 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西楼洒满月光，思念的人啊也该早日归来。</a:t>
            </a:r>
            <a:r>
              <a:rPr b="0" lang="zh-CN" sz="1800" spc="-1" strike="noStrike">
                <a:solidFill>
                  <a:srgbClr val="1e1e1e"/>
                </a:solidFill>
                <a:latin typeface="宋体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69120" y="4114800"/>
            <a:ext cx="292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e1e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花儿自管飘落，水儿自管流淌， 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 彼此都在思念对方，却只能独自愁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各天一方。 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 这样的相思愁苦，哪儿有办法可以消除， 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 皱着的眉头方才展开，涩涩的味儿却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涌上心头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86868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39880" y="673200"/>
            <a:ext cx="3591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009f3"/>
                </a:solidFill>
                <a:latin typeface="Times New Roman"/>
                <a:ea typeface="华文行楷"/>
              </a:rPr>
              <a:t>试比较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如梦令》和《声声慢》</a:t>
            </a:r>
            <a:r>
              <a:rPr b="0" lang="zh-CN" sz="2800" spc="-1" strike="noStrike">
                <a:solidFill>
                  <a:srgbClr val="1e1e1e"/>
                </a:solidFill>
                <a:latin typeface="Times New Roman"/>
                <a:ea typeface="华文行楷"/>
              </a:rPr>
              <a:t>两首词在内容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1e1e"/>
                </a:solidFill>
                <a:latin typeface="Times New Roman"/>
                <a:ea typeface="华文行楷"/>
              </a:rPr>
              <a:t>                      </a:t>
            </a:r>
            <a:r>
              <a:rPr b="0" lang="zh-CN" sz="2800" spc="-1" strike="noStrike">
                <a:solidFill>
                  <a:srgbClr val="1e1e1e"/>
                </a:solidFill>
                <a:latin typeface="Times New Roman"/>
                <a:ea typeface="华文行楷"/>
              </a:rPr>
              <a:t>有哪些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70960" y="2760840"/>
            <a:ext cx="406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e1e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3009f3"/>
                </a:solidFill>
                <a:latin typeface="华文新魏"/>
                <a:ea typeface="华文新魏"/>
              </a:rPr>
              <a:t>景物时令</a:t>
            </a:r>
            <a:r>
              <a:rPr b="1" lang="zh-CN" sz="1800" spc="-1" strike="noStrike">
                <a:solidFill>
                  <a:srgbClr val="1e1e1e"/>
                </a:solidFill>
                <a:latin typeface="宋体"/>
              </a:rPr>
              <a:t>——前写夏景，后写秋景；</a:t>
            </a:r>
            <a:r>
              <a:rPr b="0" lang="zh-CN" sz="1800" spc="-1" strike="noStrike">
                <a:solidFill>
                  <a:srgbClr val="1e1e1e"/>
                </a:solidFill>
                <a:latin typeface="宋体"/>
              </a:rPr>
              <a:t> 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1e1e1e"/>
                </a:solidFill>
                <a:latin typeface="宋体"/>
              </a:rPr>
              <a:t>            </a:t>
            </a:r>
            <a:r>
              <a:rPr b="1" lang="zh-CN" sz="2400" spc="-1" strike="noStrike">
                <a:solidFill>
                  <a:srgbClr val="3009f3"/>
                </a:solidFill>
                <a:latin typeface="华文新魏"/>
                <a:ea typeface="华文新魏"/>
              </a:rPr>
              <a:t>作者年龄</a:t>
            </a:r>
            <a:r>
              <a:rPr b="1" lang="zh-CN" sz="1800" spc="-1" strike="noStrike">
                <a:solidFill>
                  <a:srgbClr val="1e1e1e"/>
                </a:solidFill>
                <a:latin typeface="宋体"/>
              </a:rPr>
              <a:t>——前为少女时期，后为少妇时期；</a:t>
            </a:r>
            <a:r>
              <a:rPr b="0" lang="zh-CN" sz="1800" spc="-1" strike="noStrike">
                <a:solidFill>
                  <a:srgbClr val="1e1e1e"/>
                </a:solidFill>
                <a:latin typeface="宋体"/>
              </a:rPr>
              <a:t> 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1e1e1e"/>
                </a:solidFill>
                <a:latin typeface="宋体"/>
              </a:rPr>
              <a:t>            </a:t>
            </a:r>
            <a:r>
              <a:rPr b="1" lang="zh-CN" sz="2400" spc="-1" strike="noStrike">
                <a:solidFill>
                  <a:srgbClr val="3009f3"/>
                </a:solidFill>
                <a:latin typeface="华文新魏"/>
                <a:ea typeface="华文新魏"/>
              </a:rPr>
              <a:t>感情基调</a:t>
            </a:r>
            <a:r>
              <a:rPr b="1" lang="zh-CN" sz="1800" spc="-1" strike="noStrike">
                <a:solidFill>
                  <a:srgbClr val="1e1e1e"/>
                </a:solidFill>
                <a:latin typeface="宋体"/>
              </a:rPr>
              <a:t>——前愉快开朗，后细腻深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200613111243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147960" y="0"/>
            <a:ext cx="7290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009f3"/>
                </a:solidFill>
                <a:latin typeface="Times New Roman"/>
                <a:ea typeface="楷体_GB2312"/>
              </a:rPr>
              <a:t>《声声慢》李清照</a:t>
            </a:r>
            <a:r>
              <a:rPr b="0" lang="zh-CN" sz="1800" spc="-1" strike="noStrike">
                <a:solidFill>
                  <a:srgbClr val="1e1e1e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1219320"/>
            <a:ext cx="52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e1e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1e1e1e"/>
                </a:solidFill>
                <a:latin typeface="Times New Roman"/>
                <a:ea typeface="华文新魏"/>
              </a:rPr>
              <a:t>寻寻觅觅，冷冷清清，凄凄惨惨戚戚。乍暖还寒时候，最难将息。三杯两盏淡酒，怎敌他、晚来风急？雁过也，正伤心，却是旧时相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32760" y="3429000"/>
            <a:ext cx="355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满地黄花堆积，憔悴损，如今有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堪摘？守着窗儿，独自怎生得黑？梧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更兼细雨，到黄昏，点点滴滴。这次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怎一个愁字了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243828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e1e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1e1e1e"/>
                </a:solidFill>
                <a:latin typeface="Times New Roman"/>
                <a:ea typeface="楷体_GB2312"/>
              </a:rPr>
              <a:t>《如梦令》《一剪梅》《声声慢》三首词从三个不同的时期即少女时期——少妇时期——晚年寡居，反映了不同的生活经历。这些经历在作者笔下得到形象逼真的再现。由此可见，生活是文学创作取之不尽的源泉。</a:t>
            </a:r>
            <a:r>
              <a:rPr b="0" lang="zh-CN" sz="2800" spc="-1" strike="noStrike">
                <a:solidFill>
                  <a:srgbClr val="1e1e1e"/>
                </a:solidFill>
                <a:latin typeface="Times New Roman"/>
                <a:ea typeface="楷体_GB2312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0680" y="10666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009f3"/>
                </a:solidFill>
                <a:latin typeface="Times New Roman"/>
                <a:ea typeface="隶书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55080" y="87480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09f3"/>
                </a:solidFill>
                <a:latin typeface="Times New Roman"/>
                <a:ea typeface="华文新魏"/>
              </a:rPr>
              <a:t>探讨婉约词风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96880" y="2514600"/>
            <a:ext cx="54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009f3"/>
                </a:solidFill>
                <a:latin typeface="Times New Roman"/>
                <a:ea typeface="楷体_GB2312"/>
              </a:rPr>
              <a:t>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009f3"/>
                </a:solidFill>
                <a:latin typeface="Times New Roman"/>
                <a:ea typeface="楷体_GB2312"/>
              </a:rPr>
              <a:t>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3009f3"/>
                </a:solidFill>
                <a:latin typeface="Times New Roman"/>
                <a:ea typeface="楷体_GB2312"/>
              </a:rPr>
              <a:t>题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7440" y="2514600"/>
            <a:ext cx="5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丽、含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婉转、缠绵 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较为狭窄（多写个人遭遇、男女恋情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520" y="533520"/>
            <a:ext cx="25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009f3"/>
                </a:solidFill>
                <a:latin typeface="Times New Roman"/>
                <a:ea typeface="华文新魏"/>
              </a:rPr>
              <a:t>作业</a:t>
            </a:r>
            <a:r>
              <a:rPr b="1" lang="zh-CN" sz="3600" spc="-1" strike="noStrike">
                <a:solidFill>
                  <a:srgbClr val="3009f3"/>
                </a:solidFill>
                <a:latin typeface="Times New Roman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外延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1320" y="3278160"/>
            <a:ext cx="4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接云涛连晓雾，星河欲转千帆舞。仿佛梦魂归帝所，闻天语，殷勤问我归何处。 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我报路长嗟日暮，学诗漫有惊人句。九万里风鹏正举，风休住，蓬舟吹取三山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74040" y="2111400"/>
            <a:ext cx="1579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渔家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记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——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李清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3098fd9bf60bd295c9eaf49a" descr=""/>
          <p:cNvPicPr/>
          <p:nvPr/>
        </p:nvPicPr>
        <p:blipFill>
          <a:blip r:embed="rId1"/>
          <a:stretch/>
        </p:blipFill>
        <p:spPr>
          <a:xfrm>
            <a:off x="1371600" y="1206360"/>
            <a:ext cx="6400800" cy="444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flipH="1">
            <a:off x="8610120" y="64008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 rot="5400000">
            <a:off x="5304240" y="1688040"/>
            <a:ext cx="3744720" cy="1320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240">
                  <a:solidFill>
                    <a:srgbClr val="cc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隶书"/>
              </a:rPr>
              <a:t>一剪梅花万样娇</a:t>
            </a:r>
            <a:endParaRPr b="1" lang="en-US" sz="1800" spc="1" strike="noStrike">
              <a:ln w="3240">
                <a:solidFill>
                  <a:srgbClr val="cc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007816103458996_2" descr=""/>
          <p:cNvPicPr/>
          <p:nvPr/>
        </p:nvPicPr>
        <p:blipFill>
          <a:blip r:embed="rId1"/>
          <a:stretch/>
        </p:blipFill>
        <p:spPr>
          <a:xfrm>
            <a:off x="-1143000" y="-690480"/>
            <a:ext cx="11430000" cy="8240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7621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隶书"/>
              </a:rPr>
              <a:t>一剪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2960" y="19843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李清照（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28600"/>
            <a:ext cx="480060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500" spc="-1" strike="noStrike">
                <a:solidFill>
                  <a:srgbClr val="009999"/>
                </a:solidFill>
                <a:latin typeface="Arial"/>
                <a:ea typeface="隶书"/>
              </a:rPr>
              <a:t>                 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李清照（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084-1155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），宋代著名女词人，号易安居士。李清照婚前婚后都生活在书香世家，其夫赵明诚是著名的金石考据家。李清照夫妇雅好词章，常相唱和。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127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年，靖康之乱，李清照随家颠簸南下，后来丈夫病死，李清照亡国继以亡家，余生孤苦，郁郁而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南渡之前，李清照多写闺情相思，明快妍丽；南渡之后，则多写国破家亡的离乱生活，沉哀入骨，词情凄黯。李词工于造语，善于创意出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婚后不久，赵明诚即远行，李清照便写下了这首《一剪梅》寄给丈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2009227113457439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762120"/>
            <a:ext cx="3962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57200"/>
            <a:ext cx="167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诵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295280"/>
            <a:ext cx="664848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结构特点：</a:t>
            </a:r>
            <a:r>
              <a:rPr b="0" lang="zh-CN" sz="2800" spc="-1" strike="noStrike">
                <a:solidFill>
                  <a:srgbClr val="1e1e1e"/>
                </a:solidFill>
                <a:latin typeface="华文行楷"/>
                <a:ea typeface="华文行楷"/>
              </a:rPr>
              <a:t>①本词为双调，每段四句，每句四拍，与七律相似，节奏整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1e1e"/>
                </a:solidFill>
                <a:latin typeface="华文行楷"/>
                <a:ea typeface="华文行楷"/>
              </a:rPr>
              <a:t>                        ②</a:t>
            </a:r>
            <a:r>
              <a:rPr b="0" lang="zh-CN" sz="2800" spc="-1" strike="noStrike">
                <a:solidFill>
                  <a:srgbClr val="1e1e1e"/>
                </a:solidFill>
                <a:latin typeface="华文行楷"/>
                <a:ea typeface="华文行楷"/>
              </a:rPr>
              <a:t>双数句分解为两小句，每小句四字。</a:t>
            </a:r>
            <a:r>
              <a:rPr b="0" lang="zh-CN" sz="2800" spc="-1" strike="noStrike">
                <a:solidFill>
                  <a:srgbClr val="1e1e1e"/>
                </a:solidFill>
                <a:latin typeface="宋体"/>
              </a:rPr>
              <a:t>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65640" y="3657600"/>
            <a:ext cx="66409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诵读节奏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藕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，轻解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裳，独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兰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中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寄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锦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？雁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时，月满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自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飘零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流，一种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思，两处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闲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情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计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除，才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眉头，却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044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具体赏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3640" y="8380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词的上片有哪些典型的意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640" y="1905120"/>
            <a:ext cx="99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009f3"/>
                </a:solidFill>
                <a:latin typeface="华文行楷"/>
                <a:ea typeface="华文行楷"/>
              </a:rPr>
              <a:t>红藕香残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009f3"/>
                </a:solidFill>
                <a:latin typeface="华文行楷"/>
                <a:ea typeface="华文行楷"/>
              </a:rPr>
              <a:t>独上兰舟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009f3"/>
                </a:solidFill>
                <a:latin typeface="华文行楷"/>
                <a:ea typeface="华文行楷"/>
              </a:rPr>
              <a:t>云中锦书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009f3"/>
                </a:solidFill>
                <a:latin typeface="华文行楷"/>
                <a:ea typeface="华文行楷"/>
              </a:rPr>
              <a:t>月满西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133720"/>
            <a:ext cx="63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楷体_GB2312"/>
              </a:rPr>
              <a:t>透露秋景的冷落、萧条。 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楷体_GB2312"/>
              </a:rPr>
              <a:t>如果能与丈夫一同划船该多好啊！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楷体_GB2312"/>
              </a:rPr>
              <a:t>孤独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楷体_GB2312"/>
              </a:rPr>
              <a:t>) 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楷体_GB2312"/>
              </a:rPr>
              <a:t>猜想丈夫的信该到家了。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思念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楷体_GB2312"/>
              </a:rPr>
              <a:t>) 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楷体_GB2312"/>
              </a:rPr>
              <a:t>仿佛身处西楼，望月计算着丈夫回家的日子。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思念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18760" y="47242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上片：写女词人独居生活——舟中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虚实结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98040" y="5638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念（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200811221623831109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4419720"/>
            <a:ext cx="3429000" cy="2438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781680" y="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235_32387" descr=""/>
          <p:cNvPicPr/>
          <p:nvPr/>
        </p:nvPicPr>
        <p:blipFill>
          <a:blip r:embed="rId5"/>
          <a:stretch/>
        </p:blipFill>
        <p:spPr>
          <a:xfrm>
            <a:off x="4419720" y="0"/>
            <a:ext cx="2361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5240" y="609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009f3"/>
                </a:solidFill>
                <a:latin typeface="楷体_GB2312"/>
                <a:ea typeface="楷体_GB2312"/>
              </a:rPr>
              <a:t>花飘水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7160" y="2590920"/>
            <a:ext cx="127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009f3"/>
                </a:solidFill>
                <a:latin typeface="楷体_GB2312"/>
                <a:ea typeface="楷体_GB2312"/>
              </a:rPr>
              <a:t>无计可消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e1e"/>
                </a:solidFill>
                <a:latin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5520" y="1600200"/>
            <a:ext cx="4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009f3"/>
                </a:solidFill>
                <a:latin typeface="Times New Roman"/>
                <a:ea typeface="楷体_GB2312"/>
              </a:rPr>
              <a:t>一种、两处</a:t>
            </a:r>
            <a:r>
              <a:rPr b="1" lang="zh-CN" sz="2400" spc="-1" strike="noStrike">
                <a:solidFill>
                  <a:srgbClr val="3009f3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60120" y="3505320"/>
            <a:ext cx="27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挥之不去，越来越浓，越来越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34440" y="685800"/>
            <a:ext cx="18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移情于物、借景抒情——韶光易逝青春难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41480" y="1676520"/>
            <a:ext cx="29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e1e1e"/>
                </a:solidFill>
                <a:latin typeface="Times New Roman"/>
              </a:rPr>
              <a:t>直抒胸臆——合写夫妻双方此刻望月思人的心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27480" y="2666880"/>
            <a:ext cx="178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e1e1e"/>
                </a:solidFill>
                <a:latin typeface="Times New Roman"/>
              </a:rPr>
              <a:t>             —— </a:t>
            </a:r>
            <a:r>
              <a:rPr b="1" lang="zh-CN" sz="2000" spc="-1" strike="noStrike">
                <a:solidFill>
                  <a:srgbClr val="1e1e1e"/>
                </a:solidFill>
                <a:latin typeface="Times New Roman"/>
              </a:rPr>
              <a:t>情之深、重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92000" y="3581280"/>
            <a:ext cx="3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009f3"/>
                </a:solidFill>
                <a:latin typeface="Times New Roman"/>
                <a:ea typeface="楷体_GB2312"/>
              </a:rPr>
              <a:t>才下眉头、却上心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83360" y="4191120"/>
            <a:ext cx="41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e1e1e"/>
                </a:solidFill>
                <a:latin typeface="Times New Roman"/>
              </a:rPr>
              <a:t>化无形为有形、由外到内、运动之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47120" y="1295280"/>
            <a:ext cx="149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32120" y="1600200"/>
            <a:ext cx="91188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009f3"/>
                </a:solidFill>
                <a:latin typeface="Times New Roman"/>
                <a:ea typeface="楷体_GB2312"/>
              </a:rPr>
              <a:t>揭示主旨（相思之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51400" y="5037120"/>
            <a:ext cx="2891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09f3"/>
                </a:solidFill>
                <a:latin typeface="隶书"/>
                <a:ea typeface="隶书"/>
              </a:rPr>
              <a:t>下片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女词人由想象回到现实</a:t>
            </a:r>
            <a:r>
              <a:rPr b="0" lang="zh-CN" sz="1800" spc="-1" strike="noStrike">
                <a:solidFill>
                  <a:srgbClr val="1e1e1e"/>
                </a:solidFill>
                <a:latin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44920" y="57150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愁更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8360" y="476280"/>
            <a:ext cx="64008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藕香残玉簟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轻解罗裳，独上兰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云中谁寄锦书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雁字回时，月满西楼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花自飘零水自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种相思，两处闲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情无计可消除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才下眉头，却上心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54936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4000" y="1197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2209680"/>
            <a:ext cx="914400" cy="4572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64000" y="350028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4292640"/>
            <a:ext cx="288720" cy="1523880"/>
          </a:xfrm>
          <a:custGeom>
            <a:avLst/>
            <a:gdLst>
              <a:gd name="textAreaLeft" fmla="*/ 0 w 288720"/>
              <a:gd name="textAreaRight" fmla="*/ 104040 w 2887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21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09f3"/>
                </a:solidFill>
                <a:latin typeface="Times New Roman"/>
                <a:ea typeface="隶书"/>
              </a:rPr>
              <a:t>勾勒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73760" y="105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09f3"/>
                </a:solidFill>
                <a:latin typeface="Times New Roman"/>
                <a:ea typeface="隶书"/>
              </a:rPr>
              <a:t>叙写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73760" y="21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09f3"/>
                </a:solidFill>
                <a:latin typeface="Times New Roman"/>
                <a:ea typeface="隶书"/>
              </a:rPr>
              <a:t>神驰遐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6840" y="335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09f3"/>
                </a:solidFill>
                <a:latin typeface="Times New Roman"/>
                <a:ea typeface="隶书"/>
              </a:rPr>
              <a:t>借景抒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70520" y="47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09f3"/>
                </a:solidFill>
                <a:latin typeface="Times New Roman"/>
                <a:ea typeface="隶书"/>
              </a:rPr>
              <a:t>直抒胸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9640" y="1125360"/>
            <a:ext cx="37512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上片主要写女词人的</a:t>
            </a:r>
            <a:r>
              <a:rPr b="1" lang="zh-CN" sz="3600" spc="-1" strike="noStrike">
                <a:solidFill>
                  <a:srgbClr val="3009f3"/>
                </a:solidFill>
                <a:latin typeface="Arial"/>
                <a:ea typeface="华文新魏"/>
              </a:rPr>
              <a:t>独居生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下片由以</a:t>
            </a:r>
            <a:r>
              <a:rPr b="1" lang="zh-CN" sz="3600" spc="-1" strike="noStrike">
                <a:solidFill>
                  <a:srgbClr val="3009f3"/>
                </a:solidFill>
                <a:latin typeface="Arial"/>
                <a:ea typeface="华文新魏"/>
              </a:rPr>
              <a:t>抒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为主，全词主要抒写作者的</a:t>
            </a:r>
            <a:r>
              <a:rPr b="0" lang="zh-CN" sz="3600" spc="-1" strike="noStrike">
                <a:solidFill>
                  <a:srgbClr val="3009f3"/>
                </a:solidFill>
                <a:latin typeface="Arial"/>
                <a:ea typeface="华文新魏"/>
              </a:rPr>
              <a:t>寂寞相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4:47:23Z</dcterms:created>
  <dc:creator>番茄花园</dc:creator>
  <dc:description/>
  <dc:language>en-US</dc:language>
  <cp:lastModifiedBy>yqc</cp:lastModifiedBy>
  <dcterms:modified xsi:type="dcterms:W3CDTF">2009-04-13T15:09:01Z</dcterms:modified>
  <cp:revision>31</cp:revision>
  <dc:subject/>
  <dc:title>一剪梅</dc:title>
</cp:coreProperties>
</file>