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gif" ContentType="image/gif"/>
  <Override PartName="/ppt/media/image2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9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3.png" ContentType="image/png"/>
  <Override PartName="/ppt/media/image20.gif" ContentType="image/gif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DBA-C912-4E00-B036-FEA9E078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091-C4CD-401D-8C72-83FD94E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E4D-B0F8-4CE0-BC6F-49EBBFF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568-958A-4D3A-AD7F-B1C34784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4DD5-069A-45F7-94D5-3C457D06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F00-F4DD-4550-84B9-3A9CDA5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7CB5-24EA-49DA-B3CC-DA90117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A4D6-0A56-4115-9BA7-63E8A82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3917-C201-4274-BC86-2915EFD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6C8-B476-407B-A81F-1095876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1F7B-D29F-4BF0-A5F3-7B224EA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1A0-AAED-43F9-A652-75C9210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8F01-2236-4630-9DAB-3A64816D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306-EBA7-45E6-96C4-8BF3BCA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FBA7-1F60-4DD0-AC99-530B79E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48A-6B25-4F35-92AE-849FACFC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9EC-CEE9-4C20-A467-E2C8A7F2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C620-3610-4B7A-9194-5D7705FD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D0CF-C359-44E3-B90D-49B60F5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1C58-F664-4A6E-B66D-ED5CCC92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204D-6883-4BE3-AFF0-EA5491C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6EF6-3B90-4E97-8164-D590364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EFB-A5BC-4F0D-92EB-B54F9B58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0C95-3FE3-41DD-8AEF-981166D8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BAA0-40B2-434D-8D0E-F176666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2B1D-0E86-4B76-BEFB-6F8463D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A4D7-15B5-439E-BBFF-912CA629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3C8D-1D7B-43F5-86DF-43367B5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869A-8968-46EC-B9E1-735A32FC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1623-BF35-4091-9191-9D3EBA53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D35-467E-431E-9218-33504134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6B1-292F-4C7B-ABAC-3BA3D61B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419-30F8-4022-BA83-7D8B977B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2CB-CA3A-404C-9613-DC3B17A4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AFD-65FB-4C28-8E62-DED417E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675-583D-415B-884F-8F4BBCB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B5E6-DFE9-4E4A-8D3D-33D896E2D9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F03-F476-46E7-969A-2868876DDC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4B3-0BBC-42A4-A3EB-D322D0FE57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6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7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9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0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7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229" name="Freeform 149"/>
            <p:cNvSpPr/>
            <p:nvPr/>
          </p:nvSpPr>
          <p:spPr>
            <a:xfrm>
              <a:off x="107892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0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1"/>
            <p:cNvSpPr/>
            <p:nvPr/>
          </p:nvSpPr>
          <p:spPr>
            <a:xfrm>
              <a:off x="1193760" y="36813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3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1270080" y="37256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5"/>
            <p:cNvSpPr/>
            <p:nvPr/>
          </p:nvSpPr>
          <p:spPr>
            <a:xfrm>
              <a:off x="1473120" y="36320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6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7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8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9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0"/>
            <p:cNvSpPr/>
            <p:nvPr/>
          </p:nvSpPr>
          <p:spPr>
            <a:xfrm>
              <a:off x="144936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1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43" name="Freeform 163"/>
            <p:cNvSpPr/>
            <p:nvPr/>
          </p:nvSpPr>
          <p:spPr>
            <a:xfrm>
              <a:off x="107892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4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5"/>
            <p:cNvSpPr/>
            <p:nvPr/>
          </p:nvSpPr>
          <p:spPr>
            <a:xfrm>
              <a:off x="1193760" y="47894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6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7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8"/>
            <p:cNvSpPr/>
            <p:nvPr/>
          </p:nvSpPr>
          <p:spPr>
            <a:xfrm>
              <a:off x="1270080" y="48337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9"/>
            <p:cNvSpPr/>
            <p:nvPr/>
          </p:nvSpPr>
          <p:spPr>
            <a:xfrm>
              <a:off x="1473120" y="47401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0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1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2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73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4"/>
            <p:cNvSpPr/>
            <p:nvPr/>
          </p:nvSpPr>
          <p:spPr>
            <a:xfrm>
              <a:off x="144936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5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57" name="Freeform 177"/>
            <p:cNvSpPr/>
            <p:nvPr/>
          </p:nvSpPr>
          <p:spPr>
            <a:xfrm>
              <a:off x="107892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8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9"/>
            <p:cNvSpPr/>
            <p:nvPr/>
          </p:nvSpPr>
          <p:spPr>
            <a:xfrm>
              <a:off x="1193760" y="57992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0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1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2"/>
            <p:cNvSpPr/>
            <p:nvPr/>
          </p:nvSpPr>
          <p:spPr>
            <a:xfrm>
              <a:off x="1270080" y="58435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83"/>
            <p:cNvSpPr/>
            <p:nvPr/>
          </p:nvSpPr>
          <p:spPr>
            <a:xfrm>
              <a:off x="1473120" y="57499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4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85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6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7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88"/>
            <p:cNvSpPr/>
            <p:nvPr/>
          </p:nvSpPr>
          <p:spPr>
            <a:xfrm>
              <a:off x="144936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71" name="Freeform 191"/>
            <p:cNvSpPr/>
            <p:nvPr/>
          </p:nvSpPr>
          <p:spPr>
            <a:xfrm>
              <a:off x="39312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507960" y="41990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6"/>
            <p:cNvSpPr/>
            <p:nvPr/>
          </p:nvSpPr>
          <p:spPr>
            <a:xfrm>
              <a:off x="584280" y="42433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7"/>
            <p:cNvSpPr/>
            <p:nvPr/>
          </p:nvSpPr>
          <p:spPr>
            <a:xfrm>
              <a:off x="787320" y="41497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8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9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0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1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2"/>
            <p:cNvSpPr/>
            <p:nvPr/>
          </p:nvSpPr>
          <p:spPr>
            <a:xfrm>
              <a:off x="76356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03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85" name="Freeform 205"/>
            <p:cNvSpPr/>
            <p:nvPr/>
          </p:nvSpPr>
          <p:spPr>
            <a:xfrm>
              <a:off x="39312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6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7"/>
            <p:cNvSpPr/>
            <p:nvPr/>
          </p:nvSpPr>
          <p:spPr>
            <a:xfrm>
              <a:off x="507960" y="530712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8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9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10"/>
            <p:cNvSpPr/>
            <p:nvPr/>
          </p:nvSpPr>
          <p:spPr>
            <a:xfrm>
              <a:off x="584280" y="535140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11"/>
            <p:cNvSpPr/>
            <p:nvPr/>
          </p:nvSpPr>
          <p:spPr>
            <a:xfrm>
              <a:off x="787320" y="525780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12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13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4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15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6"/>
            <p:cNvSpPr/>
            <p:nvPr/>
          </p:nvSpPr>
          <p:spPr>
            <a:xfrm>
              <a:off x="76356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7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99" name="Freeform 219"/>
            <p:cNvSpPr/>
            <p:nvPr/>
          </p:nvSpPr>
          <p:spPr>
            <a:xfrm>
              <a:off x="39312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0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21"/>
            <p:cNvSpPr/>
            <p:nvPr/>
          </p:nvSpPr>
          <p:spPr>
            <a:xfrm>
              <a:off x="507960" y="63579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22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23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4"/>
            <p:cNvSpPr/>
            <p:nvPr/>
          </p:nvSpPr>
          <p:spPr>
            <a:xfrm>
              <a:off x="584280" y="6402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5"/>
            <p:cNvSpPr/>
            <p:nvPr/>
          </p:nvSpPr>
          <p:spPr>
            <a:xfrm>
              <a:off x="787320" y="63086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6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7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8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9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0"/>
            <p:cNvSpPr/>
            <p:nvPr/>
          </p:nvSpPr>
          <p:spPr>
            <a:xfrm>
              <a:off x="76356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1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313" name="Freeform 233"/>
            <p:cNvSpPr/>
            <p:nvPr/>
          </p:nvSpPr>
          <p:spPr>
            <a:xfrm>
              <a:off x="7041600" y="-6480"/>
              <a:ext cx="2101680" cy="1912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315" name="Freeform 235"/>
              <p:cNvSpPr/>
              <p:nvPr/>
            </p:nvSpPr>
            <p:spPr>
              <a:xfrm>
                <a:off x="7045200" y="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36"/>
              <p:cNvSpPr/>
              <p:nvPr/>
            </p:nvSpPr>
            <p:spPr>
              <a:xfrm>
                <a:off x="6934320" y="0"/>
                <a:ext cx="2317680" cy="20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37"/>
              <p:cNvSpPr/>
              <p:nvPr/>
            </p:nvSpPr>
            <p:spPr>
              <a:xfrm>
                <a:off x="7485120" y="965880"/>
                <a:ext cx="185400" cy="21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8"/>
              <p:cNvSpPr/>
              <p:nvPr/>
            </p:nvSpPr>
            <p:spPr>
              <a:xfrm>
                <a:off x="7313400" y="1054800"/>
                <a:ext cx="16380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9"/>
              <p:cNvSpPr/>
              <p:nvPr/>
            </p:nvSpPr>
            <p:spPr>
              <a:xfrm>
                <a:off x="7212240" y="477360"/>
                <a:ext cx="534960" cy="24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0"/>
              <p:cNvSpPr/>
              <p:nvPr/>
            </p:nvSpPr>
            <p:spPr>
              <a:xfrm>
                <a:off x="7818120" y="1162080"/>
                <a:ext cx="38376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41"/>
              <p:cNvSpPr/>
              <p:nvPr/>
            </p:nvSpPr>
            <p:spPr>
              <a:xfrm>
                <a:off x="8701200" y="76608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2"/>
              <p:cNvSpPr/>
              <p:nvPr/>
            </p:nvSpPr>
            <p:spPr>
              <a:xfrm>
                <a:off x="8831160" y="750240"/>
                <a:ext cx="30168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4"/>
              <p:cNvSpPr/>
              <p:nvPr/>
            </p:nvSpPr>
            <p:spPr>
              <a:xfrm>
                <a:off x="8566200" y="103572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45"/>
              <p:cNvSpPr/>
              <p:nvPr/>
            </p:nvSpPr>
            <p:spPr>
              <a:xfrm>
                <a:off x="8626680" y="1159200"/>
                <a:ext cx="44244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46"/>
              <p:cNvSpPr/>
              <p:nvPr/>
            </p:nvSpPr>
            <p:spPr>
              <a:xfrm>
                <a:off x="8597880" y="1248120"/>
                <a:ext cx="455040" cy="36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47"/>
              <p:cNvSpPr/>
              <p:nvPr/>
            </p:nvSpPr>
            <p:spPr>
              <a:xfrm>
                <a:off x="8894520" y="1100520"/>
                <a:ext cx="258480" cy="65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25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942-F4CE-49F1-B72F-817387DD39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4" descr="6_29555_24997e29b07d743.jpg"/>
          <p:cNvPicPr/>
          <p:nvPr/>
        </p:nvPicPr>
        <p:blipFill>
          <a:blip r:embed="rId2"/>
          <a:stretch/>
        </p:blipFill>
        <p:spPr>
          <a:xfrm>
            <a:off x="1643040" y="785880"/>
            <a:ext cx="5929200" cy="40082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5000760" y="53578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件制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7" descr="3672.gif"/>
          <p:cNvPicPr/>
          <p:nvPr/>
        </p:nvPicPr>
        <p:blipFill>
          <a:blip r:embed="rId3"/>
          <a:stretch/>
        </p:blipFill>
        <p:spPr>
          <a:xfrm>
            <a:off x="285840" y="478620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072280" y="578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Administrator\Desktop\隶书.gif"/>
          <p:cNvPicPr/>
          <p:nvPr/>
        </p:nvPicPr>
        <p:blipFill>
          <a:blip r:embed="rId7"/>
          <a:stretch/>
        </p:blipFill>
        <p:spPr>
          <a:xfrm>
            <a:off x="7358040" y="5072040"/>
            <a:ext cx="10098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940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4191120" cy="6858000"/>
          </a:xfrm>
          <a:prstGeom prst="rect">
            <a:avLst/>
          </a:prstGeom>
          <a:solidFill>
            <a:srgbClr val="555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4267080" y="609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12952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李清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6" descr="3"/>
          <p:cNvPicPr/>
          <p:nvPr/>
        </p:nvPicPr>
        <p:blipFill>
          <a:blip r:embed="rId1"/>
          <a:stretch/>
        </p:blipFill>
        <p:spPr>
          <a:xfrm>
            <a:off x="533520" y="762120"/>
            <a:ext cx="3041640" cy="5257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8"/>
          <p:cNvSpPr/>
          <p:nvPr/>
        </p:nvSpPr>
        <p:spPr>
          <a:xfrm>
            <a:off x="4267080" y="1219320"/>
            <a:ext cx="4415040" cy="50450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以南渡为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华文中宋"/>
              </a:rPr>
              <a:t>前期词写天真烂漫的少女时代和极尽相思之苦的思妇情结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南渡之后国破家亡夫死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其词风大变，转为凄苦悲怆、哀婉动人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4724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7"/>
          <p:cNvSpPr/>
          <p:nvPr/>
        </p:nvSpPr>
        <p:spPr>
          <a:xfrm>
            <a:off x="957960" y="548640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  <a:ea typeface="华文行楷"/>
              </a:rPr>
              <a:t>（</a:t>
            </a:r>
            <a:r>
              <a:rPr b="1" lang="en-US" sz="1800" spc="-1" strike="noStrike">
                <a:solidFill>
                  <a:srgbClr val="e40000"/>
                </a:solidFill>
                <a:latin typeface="Arial"/>
                <a:ea typeface="华文行楷"/>
              </a:rPr>
              <a:t>1084-1155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  <a:ea typeface="华文行楷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F674-C741-46C1-86EB-481EC2DE2869}" type="slidenum">
              <a:t>10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2009042318000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1523880" y="380880"/>
            <a:ext cx="6172200" cy="114300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红藕香残玉簟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143160" y="1752480"/>
            <a:ext cx="569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白雨斋词话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中说：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易安佳句，如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一剪梅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起七字云：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‘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红藕香残玉簟秋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’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，精秀绝伦，真不食人间烟火者。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你能说出它好在哪里吗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img.pconline.com.cn/images/photoblog/8/5/0/2/8502054/20097/27/1248709695783_mthumb.jpg"/>
          <p:cNvPicPr/>
          <p:nvPr/>
        </p:nvPicPr>
        <p:blipFill>
          <a:blip r:embed="rId2"/>
          <a:stretch/>
        </p:blipFill>
        <p:spPr>
          <a:xfrm>
            <a:off x="357120" y="1643040"/>
            <a:ext cx="2928960" cy="487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222669335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6"/>
          <p:cNvSpPr/>
          <p:nvPr/>
        </p:nvSpPr>
        <p:spPr>
          <a:xfrm>
            <a:off x="4648320" y="1143000"/>
            <a:ext cx="4343400" cy="414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　是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华文中宋"/>
              </a:rPr>
              <a:t>以点代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的写法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华文中宋"/>
              </a:rPr>
              <a:t>点明了时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透露出秋景的冷落、萧条，而且渲染了环境气氛。对作者的孤独闲愁起到了衬托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　同时，秋天来了荷花凋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其实也暗含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华文中宋"/>
              </a:rPr>
              <a:t>青春易逝、红颜易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571500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红 藕 香 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玉簟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45432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cc"/>
              </a:buClr>
              <a:buSzPct val="25000"/>
              <a:buFont typeface="Wingdings" charset="2"/>
              <a:buChar char=""/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如果说“红藕香残”是从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客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景物（视觉、嗅觉）来表现秋的来到，那么“玉簟秋”就是作者的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直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感受（触觉）了，暑退秋来，竹席也凉了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止是说</a:t>
            </a:r>
            <a:r>
              <a:rPr b="1" lang="zh-CN" sz="2400" spc="-1" strike="noStrike">
                <a:solidFill>
                  <a:srgbClr val="e40000"/>
                </a:solidFill>
                <a:latin typeface="华文中宋"/>
                <a:ea typeface="华文中宋"/>
              </a:rPr>
              <a:t>天气变凉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含有“</a:t>
            </a:r>
            <a:r>
              <a:rPr b="1" lang="zh-CN" sz="2400" spc="-1" strike="noStrike">
                <a:solidFill>
                  <a:srgbClr val="e40000"/>
                </a:solidFill>
                <a:latin typeface="华文中宋"/>
                <a:ea typeface="华文中宋"/>
              </a:rPr>
              <a:t>人去席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之意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衬托出词人</a:t>
            </a:r>
            <a:r>
              <a:rPr b="1" lang="zh-CN" sz="2400" spc="-1" strike="noStrike">
                <a:solidFill>
                  <a:srgbClr val="e40000"/>
                </a:solidFill>
                <a:latin typeface="华文中宋"/>
                <a:ea typeface="华文中宋"/>
              </a:rPr>
              <a:t>冷清与孤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http://img.ph.126.net/wRx0r_NtIAdQIFZDyH7sLg==/2625317107797173785.jpg"/>
          <p:cNvPicPr/>
          <p:nvPr/>
        </p:nvPicPr>
        <p:blipFill>
          <a:blip r:embed="rId1"/>
          <a:stretch/>
        </p:blipFill>
        <p:spPr>
          <a:xfrm>
            <a:off x="5214960" y="1643040"/>
            <a:ext cx="3643200" cy="37130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4572000" y="542916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情景交融，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338616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3619800" y="609480"/>
            <a:ext cx="5301360" cy="82512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轻解罗裳，独上兰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5000760" y="33526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886200" y="4648320"/>
            <a:ext cx="44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抽刀断水水更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举杯销愁愁更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3809880" y="2009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她排遣掉寂寞了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从哪里看出来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一个关键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338616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619800" y="228600"/>
            <a:ext cx="5301360" cy="82512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轻解罗裳，独上兰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352680" y="1295280"/>
            <a:ext cx="5264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独：在孤寂中所想到的排遣寂寞的方法，其正面意思是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华文中宋"/>
              </a:rPr>
              <a:t>如果丈夫在家，夫妻一起去划船该多好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过去和夫君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华文中宋"/>
              </a:rPr>
              <a:t>双双泛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充满诗情画意，今天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华文中宋"/>
              </a:rPr>
              <a:t>独自击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眼前的情景只能勾起往事，怎能排遣得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511702_200411814153815194"/>
          <p:cNvPicPr/>
          <p:nvPr/>
        </p:nvPicPr>
        <p:blipFill>
          <a:blip r:embed="rId1"/>
          <a:stretch/>
        </p:blipFill>
        <p:spPr>
          <a:xfrm>
            <a:off x="3124080" y="0"/>
            <a:ext cx="5562720" cy="39862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5"/>
          <p:cNvSpPr/>
          <p:nvPr/>
        </p:nvSpPr>
        <p:spPr>
          <a:xfrm>
            <a:off x="457200" y="2057400"/>
            <a:ext cx="8375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云中谁寄锦书来，雁字回时，月满西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一句中哪些意象指向离别相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5494680" y="4495680"/>
            <a:ext cx="2619000" cy="7034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西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097520" y="4495680"/>
            <a:ext cx="2314440" cy="7034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846360" y="4495680"/>
            <a:ext cx="2619000" cy="7034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锦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2573280" y="4495680"/>
            <a:ext cx="2314440" cy="7034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1152fb8c409"/>
          <p:cNvPicPr/>
          <p:nvPr/>
        </p:nvPicPr>
        <p:blipFill>
          <a:blip r:embed="rId1"/>
          <a:stretch/>
        </p:blipFill>
        <p:spPr>
          <a:xfrm>
            <a:off x="4459320" y="0"/>
            <a:ext cx="468468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WordArt 6"/>
          <p:cNvSpPr/>
          <p:nvPr/>
        </p:nvSpPr>
        <p:spPr>
          <a:xfrm>
            <a:off x="304920" y="380880"/>
            <a:ext cx="3352680" cy="83844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7"/>
          <p:cNvSpPr/>
          <p:nvPr/>
        </p:nvSpPr>
        <p:spPr>
          <a:xfrm>
            <a:off x="990720" y="1600200"/>
            <a:ext cx="3368520" cy="380880"/>
          </a:xfrm>
          <a:custGeom>
            <a:avLst/>
            <a:gdLst>
              <a:gd name="textAreaLeft" fmla="*/ 0 w 3368520"/>
              <a:gd name="textAreaRight" fmla="*/ 3368880 w 3368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02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498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457200" y="4235400"/>
            <a:ext cx="3733920" cy="143460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雁过也，正伤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却是旧时相识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声声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457200" y="2514600"/>
            <a:ext cx="3657600" cy="162216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鱼肠雁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飞鸽传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53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云中谁寄锦书来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雁字回时，月满西楼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2593440"/>
            <a:ext cx="78552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buClr>
                <a:srgbClr val="0066cc"/>
              </a:buClr>
              <a:buSzPct val="25000"/>
              <a:buFont typeface="Wingdings" charset="2"/>
              <a:buChar char=""/>
            </a:pP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顺序：月满时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西楼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望云中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回雁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及谁寄锦书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buClr>
                <a:srgbClr val="0066cc"/>
              </a:buClr>
              <a:buSzPct val="25000"/>
              <a:buFont typeface="Wingdings" charset="2"/>
              <a:buChar char=""/>
            </a:pP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谁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赵明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buClr>
                <a:srgbClr val="0066cc"/>
              </a:buClr>
              <a:buSzPct val="25000"/>
              <a:buFont typeface="Wingdings" charset="2"/>
              <a:buChar char=""/>
            </a:pP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谁寄</a:t>
            </a:r>
            <a:r>
              <a:rPr b="1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300" spc="-1" strike="noStrike">
                <a:solidFill>
                  <a:srgbClr val="e40000"/>
                </a:solidFill>
                <a:latin typeface="华文中宋"/>
                <a:ea typeface="华文中宋"/>
              </a:rPr>
              <a:t>明月自满，人却未圆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</a:tabLst>
            </a:pPr>
            <a:r>
              <a:rPr b="1" lang="zh-CN" sz="3300" spc="-1" strike="noStrike">
                <a:solidFill>
                  <a:srgbClr val="e40000"/>
                </a:solidFill>
                <a:latin typeface="华文中宋"/>
                <a:ea typeface="华文中宋"/>
              </a:rPr>
              <a:t>　　　　　雁字空回，锦书无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</a:tabLst>
            </a:pPr>
            <a:r>
              <a:rPr b="1" lang="zh-CN" sz="3300" spc="-1" strike="noStrike">
                <a:solidFill>
                  <a:srgbClr val="e40000"/>
                </a:solidFill>
                <a:latin typeface="华文中宋"/>
                <a:ea typeface="华文中宋"/>
              </a:rPr>
              <a:t>　　　　　无边的月色正如无尽的相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图片2"/>
          <p:cNvPicPr/>
          <p:nvPr/>
        </p:nvPicPr>
        <p:blipFill>
          <a:blip r:embed="rId1"/>
          <a:stretch/>
        </p:blipFill>
        <p:spPr>
          <a:xfrm>
            <a:off x="6553080" y="3505320"/>
            <a:ext cx="2335320" cy="20174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609480" y="1905120"/>
            <a:ext cx="35816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倒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5"/>
          <p:cNvSpPr/>
          <p:nvPr/>
        </p:nvSpPr>
        <p:spPr>
          <a:xfrm>
            <a:off x="228600" y="228600"/>
            <a:ext cx="3352680" cy="83808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图片2"/>
          <p:cNvPicPr/>
          <p:nvPr/>
        </p:nvPicPr>
        <p:blipFill>
          <a:blip r:embed="rId1"/>
          <a:stretch/>
        </p:blipFill>
        <p:spPr>
          <a:xfrm>
            <a:off x="5562720" y="3763800"/>
            <a:ext cx="3581280" cy="30942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7"/>
          <p:cNvSpPr/>
          <p:nvPr/>
        </p:nvSpPr>
        <p:spPr>
          <a:xfrm>
            <a:off x="380880" y="2315880"/>
            <a:ext cx="8048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人有悲欢离合，月有阴晴圆缺，此事古难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愿人长久，千里共婵娟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苏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调歌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海上升明月，天涯共此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九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望月怀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11"/>
          <p:cNvSpPr/>
          <p:nvPr/>
        </p:nvSpPr>
        <p:spPr>
          <a:xfrm>
            <a:off x="1219320" y="1143000"/>
            <a:ext cx="6524640" cy="352440"/>
          </a:xfrm>
          <a:custGeom>
            <a:avLst/>
            <a:gdLst>
              <a:gd name="textAreaLeft" fmla="*/ 0 w 6524640"/>
              <a:gd name="textAreaRight" fmla="*/ 6525000 w 65246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炼字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过香积寺    </a:t>
            </a:r>
            <a:r>
              <a:rPr b="1" lang="zh-CN" sz="1800" spc="-1" strike="noStrike">
                <a:solidFill>
                  <a:srgbClr val="660066"/>
                </a:solidFill>
                <a:latin typeface="华文楷体"/>
                <a:ea typeface="华文楷体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不知香积寺，数里入云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古木无人径，深山何处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泉声咽危石，日色冷青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薄暮清潭影，安禅制毒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：毒龙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佛经用以比喻人的妄念、邪惑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诗歌中精炼传神的字被称为诗眼。你认为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首诗颈联的哪两个字是诗眼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http://img02.yeex.cn/WebUpFiles2011/Dests/2011-12/1112290439501.jpg"/>
          <p:cNvPicPr/>
          <p:nvPr/>
        </p:nvPicPr>
        <p:blipFill>
          <a:blip r:embed="rId1"/>
          <a:stretch/>
        </p:blipFill>
        <p:spPr>
          <a:xfrm>
            <a:off x="6000840" y="2357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377" name="流程图: 联系 6"/>
          <p:cNvSpPr/>
          <p:nvPr/>
        </p:nvSpPr>
        <p:spPr>
          <a:xfrm>
            <a:off x="1357200" y="3429000"/>
            <a:ext cx="500040" cy="500040"/>
          </a:xfrm>
          <a:prstGeom prst="flowChartConnector">
            <a:avLst/>
          </a:prstGeom>
          <a:noFill/>
          <a:ln w="255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流程图: 联系 7"/>
          <p:cNvSpPr/>
          <p:nvPr/>
        </p:nvSpPr>
        <p:spPr>
          <a:xfrm>
            <a:off x="3786120" y="3429000"/>
            <a:ext cx="500040" cy="500040"/>
          </a:xfrm>
          <a:prstGeom prst="flowChartConnector">
            <a:avLst/>
          </a:prstGeom>
          <a:noFill/>
          <a:ln w="255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黄花"/>
          <p:cNvPicPr/>
          <p:nvPr/>
        </p:nvPicPr>
        <p:blipFill>
          <a:blip r:embed="rId2"/>
          <a:stretch/>
        </p:blipFill>
        <p:spPr>
          <a:xfrm>
            <a:off x="3240" y="620640"/>
            <a:ext cx="9140760" cy="5616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990720" y="1981080"/>
            <a:ext cx="685800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0000"/>
                </a:solidFill>
                <a:latin typeface="楷体"/>
                <a:ea typeface="楷体"/>
              </a:rPr>
              <a:t>无言独上西楼，月如钩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0000"/>
                </a:solidFill>
                <a:latin typeface="楷体"/>
                <a:ea typeface="楷体"/>
              </a:rPr>
              <a:t>寂寞梧桐深院锁清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0000"/>
                </a:solidFill>
                <a:latin typeface="楷体_GB2312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方正中楷繁体"/>
                <a:ea typeface="方正中楷繁体"/>
              </a:rPr>
              <a:t>—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方正中楷繁体"/>
                <a:ea typeface="方正中楷繁体"/>
              </a:rPr>
              <a:t>李煜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方正中楷繁体"/>
                <a:ea typeface="方正中楷繁体"/>
              </a:rPr>
              <a:t>《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方正中楷繁体"/>
                <a:ea typeface="方正中楷繁体"/>
              </a:rPr>
              <a:t>相见欢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方正中楷繁体"/>
                <a:ea typeface="方正中楷繁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l_6a99390a392ac1de4cc0c099667b6af9"/>
          <p:cNvPicPr/>
          <p:nvPr/>
        </p:nvPicPr>
        <p:blipFill>
          <a:blip r:embed="rId1"/>
          <a:stretch/>
        </p:blipFill>
        <p:spPr>
          <a:xfrm>
            <a:off x="0" y="0"/>
            <a:ext cx="4591080" cy="7238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8"/>
          <p:cNvSpPr/>
          <p:nvPr/>
        </p:nvSpPr>
        <p:spPr>
          <a:xfrm>
            <a:off x="4601880" y="228600"/>
            <a:ext cx="4569840" cy="82512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花自飘零水自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4876920" y="1523880"/>
            <a:ext cx="4875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无可奈何花落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似曾相识燕归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晏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浣溪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流水落花春去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上人间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浪淘沙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649760" y="5029200"/>
            <a:ext cx="46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这句与前边哪两句相呼应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如何理解这句的深层意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2007042217220398894"/>
          <p:cNvPicPr/>
          <p:nvPr/>
        </p:nvPicPr>
        <p:blipFill>
          <a:blip r:embed="rId1"/>
          <a:stretch/>
        </p:blipFill>
        <p:spPr>
          <a:xfrm>
            <a:off x="-30312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914400" y="1981080"/>
            <a:ext cx="7238880" cy="72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花落水流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借景抒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––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韶光易逝，年华逝去，青春难再。体现词人的愁绪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914400" y="304920"/>
            <a:ext cx="7238880" cy="66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眼前之景，花落水流，与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红藕香残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独上兰舟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相照应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2359080" y="4267080"/>
            <a:ext cx="4255920" cy="66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流水落花不解人情，两个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自</a:t>
            </a:r>
            <a:r>
              <a:rPr b="1" lang="zh-CN" sz="2900" spc="-1" strike="noStrike">
                <a:solidFill>
                  <a:srgbClr val="0000ff"/>
                </a:solidFill>
                <a:latin typeface="华文中宋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更增愁绪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7a02e21e807ac6bb4aa86752519d6c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24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"/>
          <p:cNvSpPr/>
          <p:nvPr/>
        </p:nvSpPr>
        <p:spPr>
          <a:xfrm>
            <a:off x="914400" y="457200"/>
            <a:ext cx="7543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愁的描写极其形象，皱着的眉头方才舒展，而思绪又涌上心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思之情无法排遣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838080" y="2819520"/>
            <a:ext cx="75438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愁说成是一种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能够运动的有形之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这样的描写化无形为有形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云形标注 4"/>
          <p:cNvSpPr/>
          <p:nvPr/>
        </p:nvSpPr>
        <p:spPr>
          <a:xfrm>
            <a:off x="1714680" y="4714920"/>
            <a:ext cx="4286160" cy="1643040"/>
          </a:xfrm>
          <a:prstGeom prst="cloudCallout">
            <a:avLst>
              <a:gd name="adj1" fmla="val 83481"/>
              <a:gd name="adj2" fmla="val -41013"/>
            </a:avLst>
          </a:prstGeom>
          <a:solidFill>
            <a:srgbClr val="e1f4ff"/>
          </a:solidFill>
          <a:ln w="25560">
            <a:solidFill>
              <a:srgbClr val="a4b2b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恐双溪舴艋舟，载不动许多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5" descr="200932410483050179"/>
          <p:cNvPicPr/>
          <p:nvPr/>
        </p:nvPicPr>
        <p:blipFill>
          <a:blip r:embed="rId1"/>
          <a:stretch/>
        </p:blipFill>
        <p:spPr>
          <a:xfrm>
            <a:off x="-303120" y="-227160"/>
            <a:ext cx="9675720" cy="73137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6"/>
          <p:cNvSpPr/>
          <p:nvPr/>
        </p:nvSpPr>
        <p:spPr>
          <a:xfrm>
            <a:off x="304920" y="3429000"/>
            <a:ext cx="8540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　　一</a:t>
            </a: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上</a:t>
            </a: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一</a:t>
            </a: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下</a:t>
            </a: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，加上</a:t>
            </a:r>
            <a:r>
              <a:rPr b="1" lang="zh-CN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才</a:t>
            </a:r>
            <a:r>
              <a:rPr b="1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却</a:t>
            </a:r>
            <a:r>
              <a:rPr b="1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”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的句式，令人感到</a:t>
            </a:r>
            <a:r>
              <a:rPr b="1" lang="zh-CN" sz="2900" spc="-1" strike="noStrike">
                <a:solidFill>
                  <a:srgbClr val="0066cc"/>
                </a:solidFill>
                <a:latin typeface="Arial"/>
                <a:ea typeface="华文中宋"/>
              </a:rPr>
              <a:t>愁思转移之快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900" spc="-1" strike="noStrike">
                <a:solidFill>
                  <a:srgbClr val="0066cc"/>
                </a:solidFill>
                <a:latin typeface="Arial"/>
                <a:ea typeface="华文中宋"/>
              </a:rPr>
              <a:t>难于排解的无奈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中宋"/>
              </a:rPr>
              <a:t>。字眼平常之极，却给读者留下无止境的遐想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685800" y="533520"/>
            <a:ext cx="7391520" cy="1134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愁的描写极其形象，皱着的眉头方才舒展，而思绪又涌上心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思之情无法排遣。　把愁说成是一种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能够运动的有形之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这样的描写化无形为有形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李清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"/>
          <p:cNvSpPr/>
          <p:nvPr/>
        </p:nvSpPr>
        <p:spPr>
          <a:xfrm>
            <a:off x="468360" y="476280"/>
            <a:ext cx="64008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轻解罗裳，独上兰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雁字回时，月满西楼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自飘零水自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相思，两处闲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情无计可消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下眉头，却上心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5364000" y="54936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5364000" y="1197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5334120" y="2209680"/>
            <a:ext cx="914400" cy="4572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5364000" y="35002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651640" y="4292640"/>
            <a:ext cx="288720" cy="1523880"/>
          </a:xfrm>
          <a:custGeom>
            <a:avLst/>
            <a:gdLst>
              <a:gd name="textAreaLeft" fmla="*/ 0 w 288720"/>
              <a:gd name="textAreaRight" fmla="*/ 104040 w 2887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e1f4ff"/>
          </a:solidFill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5784840" y="40464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9fbf"/>
                </a:solidFill>
                <a:latin typeface="Times New Roman"/>
                <a:ea typeface="隶书"/>
              </a:rPr>
              <a:t>勾勒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5856120" y="105264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9fbf"/>
                </a:solidFill>
                <a:latin typeface="Times New Roman"/>
                <a:ea typeface="隶书"/>
              </a:rPr>
              <a:t>叙写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856120" y="213372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9fbf"/>
                </a:solidFill>
                <a:latin typeface="Times New Roman"/>
                <a:ea typeface="隶书"/>
              </a:rPr>
              <a:t>神驰遐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929200" y="335772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9fbf"/>
                </a:solidFill>
                <a:latin typeface="Times New Roman"/>
                <a:ea typeface="隶书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5856120" y="472428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9fbf"/>
                </a:solidFill>
                <a:latin typeface="Times New Roman"/>
                <a:ea typeface="隶书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6D68-EFEB-482E-82BF-C9E3C6E8CEE7}" type="slidenum">
              <a:t>26</a:t>
            </a:fld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63_11991357_03e01c32e1d4f1e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7"/>
          <p:cNvSpPr/>
          <p:nvPr/>
        </p:nvSpPr>
        <p:spPr>
          <a:xfrm>
            <a:off x="4114800" y="990720"/>
            <a:ext cx="4648320" cy="4647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　　词的上片主要写女词人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独居生活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华文新魏"/>
              </a:rPr>
              <a:t>借景抒情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，词的下片以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华文新魏"/>
              </a:rPr>
              <a:t>直接抒情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为主，全词主要抒写作者的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华文新魏"/>
              </a:rPr>
              <a:t>相思离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动作按钮: 影片 3"/>
          <p:cNvSpPr/>
          <p:nvPr/>
        </p:nvSpPr>
        <p:spPr>
          <a:xfrm>
            <a:off x="6072120" y="5429160"/>
            <a:ext cx="1500120" cy="857520"/>
          </a:xfrm>
          <a:custGeom>
            <a:avLst/>
            <a:gdLst>
              <a:gd name="textAreaLeft" fmla="*/ 53280 w 1500120"/>
              <a:gd name="textAreaRight" fmla="*/ 1446840 w 1500120"/>
              <a:gd name="textAreaTop" fmla="*/ 53280 h 857520"/>
              <a:gd name="textAreaBottom" fmla="*/ 804240 h 857520"/>
            </a:gdLst>
            <a:ahLst/>
            <a:rect l="textAreaLeft" t="textAreaTop" r="textAreaRight" b="textAreaBottom"/>
            <a:pathLst>
              <a:path w="37780" h="21600">
                <a:moveTo>
                  <a:pt x="0" y="0"/>
                </a:moveTo>
                <a:lnTo>
                  <a:pt x="37780" y="0"/>
                </a:lnTo>
                <a:lnTo>
                  <a:pt x="37780" y="21600"/>
                </a:lnTo>
                <a:lnTo>
                  <a:pt x="0" y="21600"/>
                </a:lnTo>
                <a:close/>
              </a:path>
              <a:path fill="lightenLess" w="37780" h="21600">
                <a:moveTo>
                  <a:pt x="0" y="0"/>
                </a:moveTo>
                <a:lnTo>
                  <a:pt x="37780" y="0"/>
                </a:lnTo>
                <a:lnTo>
                  <a:pt x="36430" y="1350"/>
                </a:lnTo>
                <a:lnTo>
                  <a:pt x="1350" y="1350"/>
                </a:lnTo>
                <a:close/>
              </a:path>
              <a:path fill="darken" w="37780" h="21600">
                <a:moveTo>
                  <a:pt x="37780" y="0"/>
                </a:moveTo>
                <a:lnTo>
                  <a:pt x="37780" y="21600"/>
                </a:lnTo>
                <a:lnTo>
                  <a:pt x="36430" y="20250"/>
                </a:lnTo>
                <a:lnTo>
                  <a:pt x="36430" y="1350"/>
                </a:lnTo>
                <a:close/>
              </a:path>
              <a:path fill="darkenLess" w="37780" h="21600">
                <a:moveTo>
                  <a:pt x="377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30" y="20250"/>
                </a:lnTo>
                <a:close/>
              </a:path>
              <a:path fill="lighten" w="377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80" h="21600">
                <a:moveTo>
                  <a:pt x="11846" y="7283"/>
                </a:moveTo>
                <a:lnTo>
                  <a:pt x="12765" y="7283"/>
                </a:lnTo>
                <a:lnTo>
                  <a:pt x="13150" y="7650"/>
                </a:lnTo>
                <a:lnTo>
                  <a:pt x="22407" y="7650"/>
                </a:lnTo>
                <a:lnTo>
                  <a:pt x="22967" y="8210"/>
                </a:lnTo>
                <a:lnTo>
                  <a:pt x="22967" y="8761"/>
                </a:lnTo>
                <a:lnTo>
                  <a:pt x="24822" y="8761"/>
                </a:lnTo>
                <a:lnTo>
                  <a:pt x="25190" y="8210"/>
                </a:lnTo>
                <a:lnTo>
                  <a:pt x="25934" y="8210"/>
                </a:lnTo>
                <a:lnTo>
                  <a:pt x="25934" y="13390"/>
                </a:lnTo>
                <a:lnTo>
                  <a:pt x="25190" y="13390"/>
                </a:lnTo>
                <a:lnTo>
                  <a:pt x="24822" y="12839"/>
                </a:lnTo>
                <a:lnTo>
                  <a:pt x="22967" y="12839"/>
                </a:lnTo>
                <a:lnTo>
                  <a:pt x="22967" y="14125"/>
                </a:lnTo>
                <a:lnTo>
                  <a:pt x="13334" y="14125"/>
                </a:lnTo>
                <a:lnTo>
                  <a:pt x="13334" y="9873"/>
                </a:lnTo>
                <a:lnTo>
                  <a:pt x="13150" y="9873"/>
                </a:lnTo>
                <a:lnTo>
                  <a:pt x="12765" y="10240"/>
                </a:lnTo>
                <a:lnTo>
                  <a:pt x="11846" y="10240"/>
                </a:lnTo>
                <a:close/>
              </a:path>
            </a:pathLst>
          </a:custGeom>
          <a:solidFill>
            <a:srgbClr val="e1f4ff"/>
          </a:solidFill>
          <a:ln w="25560">
            <a:solidFill>
              <a:srgbClr val="a4b2b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072120" y="6286680"/>
            <a:ext cx="1500120" cy="368280"/>
          </a:xfrm>
          <a:prstGeom prst="rect">
            <a:avLst/>
          </a:prstGeom>
          <a:solidFill>
            <a:srgbClr val="ff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满西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WordArt 5"/>
          <p:cNvSpPr/>
          <p:nvPr/>
        </p:nvSpPr>
        <p:spPr>
          <a:xfrm>
            <a:off x="-988920" y="228600"/>
            <a:ext cx="3598920" cy="100980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4952880" y="1600200"/>
            <a:ext cx="4038840" cy="3534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《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一剪梅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《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声声慢</a:t>
            </a:r>
            <a:r>
              <a:rPr b="0" lang="en-US" sz="36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词，两篇中都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绪，所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愁字别样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细品两词，体会两者之愁有何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8"/>
          <p:cNvSpPr/>
          <p:nvPr/>
        </p:nvSpPr>
        <p:spPr>
          <a:xfrm>
            <a:off x="3048120" y="609480"/>
            <a:ext cx="6095880" cy="609840"/>
          </a:xfrm>
          <a:custGeom>
            <a:avLst/>
            <a:gdLst>
              <a:gd name="textAreaLeft" fmla="*/ 0 w 6095880"/>
              <a:gd name="textAreaRight" fmla="*/ 6096240 w 60958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6" descr="2009042317590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7"/>
          <p:cNvSpPr/>
          <p:nvPr/>
        </p:nvSpPr>
        <p:spPr>
          <a:xfrm>
            <a:off x="457200" y="304920"/>
            <a:ext cx="8066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词中它们抒发的情感有何不同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380880" y="1295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剪梅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此情无计可消除，才下眉头，却上心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457200" y="327672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声声慢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次第，怎一个愁字了得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685800" y="2286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情：离愁别绪，难舍难分，这是一种相思之愁。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33520" y="4038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国之恨，丧夫之哀，孀居之苦，凝集心头，无法排遣，她和着血泪写下了千古绝唱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身经上述国破、家亡、夫死、遇人不淑等不幸遭遇，以及颠沛流离、孤苦无告的反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参考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c000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诗眼”分别是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咽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冷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。“咽”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呜咽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，“冷”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阴冷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的意思。</a:t>
            </a:r>
            <a:r>
              <a:rPr b="1" lang="zh-CN" sz="3200" spc="-1" strike="noStrike">
                <a:solidFill>
                  <a:srgbClr val="00b050"/>
                </a:solidFill>
                <a:latin typeface="黑体"/>
                <a:ea typeface="黑体"/>
              </a:rPr>
              <a:t>（释字义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山中的流泉由于岩石的阻拦，发出低吟，仿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呜咽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之声。照在青松上的日色，由于山林幽暗，似乎显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阴冷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。（</a:t>
            </a:r>
            <a:r>
              <a:rPr b="1" lang="zh-CN" sz="3200" spc="-1" strike="noStrike">
                <a:solidFill>
                  <a:srgbClr val="00b050"/>
                </a:solidFill>
                <a:latin typeface="黑体"/>
                <a:ea typeface="黑体"/>
              </a:rPr>
              <a:t>描图景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）“咽”、“冷”两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绘声绘色、精练传神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地渲染出山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幽静岑寂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的意境。（</a:t>
            </a:r>
            <a:r>
              <a:rPr b="1" lang="zh-CN" sz="3200" spc="-1" strike="noStrike">
                <a:solidFill>
                  <a:srgbClr val="00b050"/>
                </a:solidFill>
                <a:latin typeface="黑体"/>
                <a:ea typeface="黑体"/>
              </a:rPr>
              <a:t>析作用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图片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2"/>
          <p:cNvSpPr/>
          <p:nvPr/>
        </p:nvSpPr>
        <p:spPr>
          <a:xfrm>
            <a:off x="324000" y="56664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1828800" y="838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一剪梅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声声慢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虽然都是李清照写愁的名篇，然而我们从对比中可以发现，两者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内涵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不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1828800" y="2438280"/>
            <a:ext cx="7086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一剪梅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对丈夫的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相思之愁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其时词人锦衣玉食，而士人游学游宦也是社会习俗，故这愁来得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轻、浅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正如词人所言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闲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1981080" y="4267080"/>
            <a:ext cx="7162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声声慢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之愁绪却是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沉重、哀痛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乃至于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凄厉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，这是融合了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家国之思、孀居之悲、沦落之苦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泣血之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1981080" y="5715000"/>
            <a:ext cx="65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由此也可看出李清照前后期词风的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70c0"/>
              </a:buClr>
              <a:buSzPct val="25000"/>
              <a:buFont typeface="Arial"/>
              <a:buChar char="•"/>
            </a:pPr>
            <a:r>
              <a:rPr b="1" lang="zh-CN" sz="5400" spc="-1" strike="noStrike">
                <a:solidFill>
                  <a:srgbClr val="0070c0"/>
                </a:solidFill>
                <a:latin typeface="黑体"/>
                <a:ea typeface="黑体"/>
              </a:rPr>
              <a:t>炼字题所炼之字（词）一般为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动词</a:t>
            </a:r>
            <a:r>
              <a:rPr b="1" lang="zh-CN" sz="5400" spc="-1" strike="noStrike">
                <a:solidFill>
                  <a:srgbClr val="0070c0"/>
                </a:solidFill>
                <a:latin typeface="黑体"/>
                <a:ea typeface="黑体"/>
              </a:rPr>
              <a:t>或者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形容词</a:t>
            </a:r>
            <a:r>
              <a:rPr b="1" lang="zh-CN" sz="5400" spc="-1" strike="noStrike">
                <a:solidFill>
                  <a:srgbClr val="0070c0"/>
                </a:solidFill>
                <a:latin typeface="黑体"/>
                <a:ea typeface="黑体"/>
              </a:rPr>
              <a:t>，另外还有可能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5000760" y="3214800"/>
            <a:ext cx="28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楷体"/>
                <a:ea typeface="楷体"/>
              </a:rPr>
              <a:t>量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湖上影子，惟长堤一（   ）、湖心亭一（   ）、与余舟一（   ），舟中人两三（    ）而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414720" y="500040"/>
            <a:ext cx="547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2ed"/>
                </a:solidFill>
                <a:latin typeface="Calibri"/>
                <a:ea typeface="宋体"/>
              </a:rPr>
              <a:t>小游戏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宋体"/>
              </a:rPr>
              <a:t>量词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http://www.cuizimo.com/Article/UploadFiles/200806/20080611094258106.jpg"/>
          <p:cNvPicPr/>
          <p:nvPr/>
        </p:nvPicPr>
        <p:blipFill>
          <a:blip r:embed="rId2"/>
          <a:stretch/>
        </p:blipFill>
        <p:spPr>
          <a:xfrm>
            <a:off x="428760" y="1500120"/>
            <a:ext cx="4357440" cy="47865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5148360" y="4076640"/>
            <a:ext cx="3500280" cy="642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痕、点、芥、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3184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"/>
          <p:cNvSpPr/>
          <p:nvPr/>
        </p:nvSpPr>
        <p:spPr>
          <a:xfrm>
            <a:off x="-1042920" y="6858000"/>
            <a:ext cx="914400" cy="60948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4500720" y="4941720"/>
            <a:ext cx="3600360" cy="1008360"/>
          </a:xfrm>
          <a:prstGeom prst="wedgeRectCallout">
            <a:avLst>
              <a:gd name="adj1" fmla="val 47305"/>
              <a:gd name="adj2" fmla="val -677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微观中见宏观，以小写大，映衬出雪后天地的苍茫广阔，使整个画面犹如一幅水墨山水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图片 3" descr="s1pp3hwmlz0w.jpg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020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571680" y="19288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（  ）新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1500120" y="178596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1214280" y="292896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（  ）幽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8"/>
          <p:cNvSpPr/>
          <p:nvPr/>
        </p:nvSpPr>
        <p:spPr>
          <a:xfrm flipH="1">
            <a:off x="2071800" y="2786040"/>
            <a:ext cx="3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"/>
          <p:cNvSpPr/>
          <p:nvPr/>
        </p:nvSpPr>
        <p:spPr>
          <a:xfrm>
            <a:off x="2143080" y="42861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清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0"/>
          <p:cNvSpPr/>
          <p:nvPr/>
        </p:nvSpPr>
        <p:spPr>
          <a:xfrm>
            <a:off x="2256120" y="3643200"/>
            <a:ext cx="261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C:\Users\Administrator\Desktop\新建文件夹\296116_20130512004601183202_1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9007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4"/>
          <p:cNvSpPr/>
          <p:nvPr/>
        </p:nvSpPr>
        <p:spPr>
          <a:xfrm>
            <a:off x="1071720" y="1571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纤腰一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3000240" y="142884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3857760" y="450072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（  ）寒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4786200" y="43578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云形标注 8"/>
          <p:cNvSpPr/>
          <p:nvPr/>
        </p:nvSpPr>
        <p:spPr>
          <a:xfrm>
            <a:off x="4857840" y="1928880"/>
            <a:ext cx="4286160" cy="2214360"/>
          </a:xfrm>
          <a:prstGeom prst="cloudCallout">
            <a:avLst>
              <a:gd name="adj1" fmla="val -49277"/>
              <a:gd name="adj2" fmla="val 67375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梅花枝条柔软不易折取，所以古人常有剪刀将其剪断，放在花瓶中以供观赏，所以“剪”也就成了梅花的</a:t>
            </a:r>
            <a:r>
              <a:rPr b="0" i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量词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，是一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内容占位符 3" descr="5744622799688390166.jpg"/>
          <p:cNvPicPr/>
          <p:nvPr/>
        </p:nvPicPr>
        <p:blipFill>
          <a:blip r:embed="rId2"/>
          <a:stretch/>
        </p:blipFill>
        <p:spPr>
          <a:xfrm>
            <a:off x="0" y="476280"/>
            <a:ext cx="8001000" cy="585792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4" descr="C_182.png"/>
          <p:cNvPicPr/>
          <p:nvPr/>
        </p:nvPicPr>
        <p:blipFill>
          <a:blip r:embed="rId3"/>
          <a:stretch/>
        </p:blipFill>
        <p:spPr>
          <a:xfrm>
            <a:off x="7786800" y="3429000"/>
            <a:ext cx="1143000" cy="19303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4"/>
          <p:cNvSpPr/>
          <p:nvPr/>
        </p:nvSpPr>
        <p:spPr>
          <a:xfrm>
            <a:off x="826920" y="68580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851280" y="4005360"/>
            <a:ext cx="3097080" cy="1224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本词牌得名于周邦彦词中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一剪梅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花万样娇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2" descr="http://p1.s.hjfile.cn/thread/201212/2012121771555744_654_o.jpg"/>
          <p:cNvPicPr/>
          <p:nvPr/>
        </p:nvPicPr>
        <p:blipFill>
          <a:blip r:embed="rId2"/>
          <a:stretch/>
        </p:blipFill>
        <p:spPr>
          <a:xfrm>
            <a:off x="0" y="500040"/>
            <a:ext cx="9191520" cy="5857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Administrator\AppData\Roaming\Tencent\Users\304678743\QQ\WinTemp\RichOle\DE}1O66QEGB8R@JF4Q(4HL3.jpg"/>
          <p:cNvPicPr/>
          <p:nvPr/>
        </p:nvPicPr>
        <p:blipFill>
          <a:blip r:embed="rId3"/>
          <a:stretch/>
        </p:blipFill>
        <p:spPr>
          <a:xfrm>
            <a:off x="0" y="5214960"/>
            <a:ext cx="5500800" cy="1098360"/>
          </a:xfrm>
          <a:prstGeom prst="rect">
            <a:avLst/>
          </a:prstGeom>
          <a:ln w="0">
            <a:noFill/>
          </a:ln>
        </p:spPr>
      </p:pic>
      <p:sp>
        <p:nvSpPr>
          <p:cNvPr id="412" name="WordArt 6"/>
          <p:cNvSpPr/>
          <p:nvPr/>
        </p:nvSpPr>
        <p:spPr>
          <a:xfrm>
            <a:off x="250920" y="260280"/>
            <a:ext cx="1828800" cy="525600"/>
          </a:xfrm>
          <a:custGeom>
            <a:avLst/>
            <a:gdLst>
              <a:gd name="textAreaLeft" fmla="*/ 0 w 1828800"/>
              <a:gd name="textAreaRight" fmla="*/ 1829160 w 1828800"/>
              <a:gd name="textAreaTop" fmla="*/ 68040 h 525600"/>
              <a:gd name="textAreaBottom" fmla="*/ 4575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</a:path>
              <a:path w="21600" h="21600">
                <a:moveTo>
                  <a:pt x="0" y="20196"/>
                </a:moveTo>
                <a:cubicBezTo>
                  <a:pt x="3600" y="15222"/>
                  <a:pt x="7200" y="25170"/>
                  <a:pt x="10800" y="20196"/>
                </a:cubicBezTo>
                <a:cubicBezTo>
                  <a:pt x="14400" y="15222"/>
                  <a:pt x="18000" y="25170"/>
                  <a:pt x="21600" y="20196"/>
                </a:cubicBezTo>
              </a:path>
            </a:pathLst>
          </a:custGeom>
          <a:solidFill>
            <a:srgbClr val="33cc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13:24:00Z</dcterms:created>
  <dc:creator>admin</dc:creator>
  <dc:description/>
  <dc:language>en-US</dc:language>
  <cp:lastModifiedBy>User</cp:lastModifiedBy>
  <dcterms:modified xsi:type="dcterms:W3CDTF">2014-09-19T10:36:51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