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9D5-D3A0-426F-8391-16BD1FB4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8D4-B915-4CC2-B926-A15EFF43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28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321-111E-4226-9961-BC7F563D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82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06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82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06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D73-D5F1-4B4F-BDB6-EDB4460D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8F7E-C58F-40E6-BF4B-C7FB876A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C9E4-9F55-437F-BA06-09B43955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F7EC-FD24-484F-927B-E9F82A1F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1B5F-9BAC-4CFF-81C8-7C00BA20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1EB3-D348-4420-AF6A-87C9C345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7773-BDDF-491A-9268-49FCD363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0AB2-E497-477F-BB7F-6EB70219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6BF-CE94-481F-A1C8-FE806C8E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024F-4242-4308-8A74-B28155A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3057-2BE8-4712-B06D-C3B1FE7A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D8AA-E388-46E1-B908-79EEFB5C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35AD-6708-4AD9-9273-D5A40BF5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E8DE-0338-4E07-9708-A8BC8D3E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1857-BD28-4726-AC00-5D99AD49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8BE8-AFBE-4D84-B533-44F34D99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57B6-E9A0-4ECB-A66B-FAECA984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F3A5-F6A4-48D3-B52E-6F48A7A7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725B-6250-4801-8CCB-EC649EB2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EA1-B785-44DF-B65C-73E05F70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652DE-B784-4CC6-96A6-38A4D477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DBD2-CD15-48B7-A693-E0AF3002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28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4D84-DF6C-4AF6-B190-18730D85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3246-D8DA-420D-B32D-47D25021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AED7-5D3A-4D9E-8385-29D10D9A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28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0AF9-E3B6-482C-B9FE-B89C8BB6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682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06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682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06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D10F-BC1A-417E-85D8-285ED67F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3A87-B738-47FF-B21A-A3DBB965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85D2D-DBAE-40D9-B24A-51FE04CD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3883-34A6-428D-9F2D-36147EC9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9D8-F070-4E13-B553-A18D509E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4026-2820-4DE3-8DD8-4C854CC3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912B4-E485-4482-94D3-173ABBFC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B366-FD5F-44D0-8B9D-D7F5C63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4F38-2268-4C25-A7C3-C3B91E8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028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0E9B-1226-4AE4-9CCF-15D5042F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0753-075F-460E-A132-FE86EDD7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0056-E253-4A38-9AA2-865F9D29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028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B9CF-ECFD-4E4F-8D7B-E2D70109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682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06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682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06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F5D1C-8168-431E-8D5A-2A36AE7C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881-F267-468C-86D4-A5C8EE04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FE9-3FB4-4638-8AD5-C6D5233B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E13-CDB1-46D5-89F6-2DBACBC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28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57E-0AC4-4E5A-8AFF-827A3CA8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1FC-84E4-49F3-AD5B-5AB8B06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282C-64BC-4698-9B70-765A8BC77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D89C-08A0-40E8-887A-AF51E2D0A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C942-C2D8-4E32-8170-DF6DDFC12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1A38-0BB2-42B0-A762-3102C9C5D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00360" y="1917360"/>
            <a:ext cx="56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剪梅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32000" y="4724280"/>
            <a:ext cx="41036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肥二中 胡毅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08000" y="0"/>
            <a:ext cx="44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1123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景情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4945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如梦令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一剪梅》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213372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景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14400" y="98424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8720" y="2924280"/>
            <a:ext cx="115272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夏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8720" y="4653000"/>
            <a:ext cx="129708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秋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7640" y="3645000"/>
            <a:ext cx="259092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思？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6229440" y="2852640"/>
            <a:ext cx="259056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愉快  开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510080"/>
            <a:ext cx="237636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声声慢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21337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21080" y="3108240"/>
            <a:ext cx="7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440" y="4938840"/>
            <a:ext cx="2725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9440" y="4581360"/>
            <a:ext cx="259056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愁？家国、丧夫之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3789360"/>
            <a:ext cx="115272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秋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3780000" cy="6883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564000" y="112536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楷体_GB2312"/>
              </a:rPr>
              <a:t>知人论世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7080" y="2206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《如梦令》  《一剪梅》  《声声慢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16400" y="3349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女时期    少妇时期   晚年寡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97080" y="2739960"/>
            <a:ext cx="6095880" cy="2121840"/>
            <a:chOff x="2197080" y="2739960"/>
            <a:chExt cx="6095880" cy="2121840"/>
          </a:xfrm>
        </p:grpSpPr>
        <p:grpSp>
          <p:nvGrpSpPr>
            <p:cNvPr id="223" name=""/>
            <p:cNvGrpSpPr/>
            <p:nvPr/>
          </p:nvGrpSpPr>
          <p:grpSpPr>
            <a:xfrm>
              <a:off x="2197080" y="3375360"/>
              <a:ext cx="3962160" cy="1486440"/>
              <a:chOff x="2197080" y="3375360"/>
              <a:chExt cx="3962160" cy="1486440"/>
            </a:xfrm>
          </p:grpSpPr>
          <p:sp>
            <p:nvSpPr>
              <p:cNvPr id="224" name=""/>
              <p:cNvSpPr/>
              <p:nvPr/>
            </p:nvSpPr>
            <p:spPr>
              <a:xfrm>
                <a:off x="2197080" y="3375360"/>
                <a:ext cx="3962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3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不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时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24640" y="3585240"/>
                <a:ext cx="56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97080" y="4290120"/>
                <a:ext cx="19404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3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不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基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43640" y="4431240"/>
                <a:ext cx="64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873600" y="2739960"/>
              <a:ext cx="152280" cy="422640"/>
            </a:xfrm>
            <a:prstGeom prst="downArrow">
              <a:avLst>
                <a:gd name="adj1" fmla="val 50000"/>
                <a:gd name="adj2" fmla="val 69385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06960" y="2739960"/>
              <a:ext cx="152640" cy="422640"/>
            </a:xfrm>
            <a:prstGeom prst="downArrow">
              <a:avLst>
                <a:gd name="adj1" fmla="val 50000"/>
                <a:gd name="adj2" fmla="val 69222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40680" y="2739960"/>
              <a:ext cx="152280" cy="422640"/>
            </a:xfrm>
            <a:prstGeom prst="downArrow">
              <a:avLst>
                <a:gd name="adj1" fmla="val 50000"/>
                <a:gd name="adj2" fmla="val 69385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21080" y="40784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快开朗    细腻深婉   凄凉孤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月满西楼 伴奏" descr=""/>
          <p:cNvPicPr/>
          <p:nvPr/>
        </p:nvPicPr>
        <p:blipFill>
          <a:blip r:embed="rId3"/>
          <a:stretch/>
        </p:blipFill>
        <p:spPr>
          <a:xfrm>
            <a:off x="17928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25873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1484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剪梅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此情无计可消除，才下眉头，却上心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2492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情：离愁别绪，难舍难分，爱之愈深，思之愈切，这是一种甜蜜的相思之愁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（两处闲愁：可见两心如一，心心相印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2720" y="4006800"/>
            <a:ext cx="89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声声慢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这次第，怎一个愁字了得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1640" y="4726080"/>
            <a:ext cx="67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国之思、孀居之悲、沦落之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0" y="1989000"/>
            <a:ext cx="64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较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0" y="1052640"/>
            <a:ext cx="4191120" cy="1268280"/>
          </a:xfrm>
          <a:prstGeom prst="ellipse">
            <a:avLst/>
          </a:prstGeom>
          <a:solidFill>
            <a:srgbClr val="5a8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婉约派词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98440" y="36226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语言特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89840" y="36990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3030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清丽典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53708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艺术风格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99320" y="456264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婉转含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84720" y="2708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题材内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99320" y="2708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离愁别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Rectangle 3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5640" y="836640"/>
            <a:ext cx="29462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97440" y="261720"/>
            <a:ext cx="514800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6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66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6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3366"/>
                </a:solidFill>
                <a:latin typeface="Arial"/>
              </a:rPr>
              <a:t>布置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李清图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2695680" cy="5256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876920" y="159984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用以意逆志、知人论世的方法阅读其他诗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将这首词改写为现代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000" y="1844640"/>
            <a:ext cx="7923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诗之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67640" y="836640"/>
            <a:ext cx="10080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言有尽而意无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Rectangle 3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6048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567000" y="42840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清照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84-1155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600" y="1643040"/>
            <a:ext cx="80708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5c5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59"/>
                </a:solidFill>
                <a:latin typeface="华文中宋"/>
                <a:ea typeface="华文中宋"/>
              </a:rPr>
              <a:t>宋代著名女词人，号易安居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5c5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59"/>
                </a:solidFill>
                <a:latin typeface="华文中宋"/>
                <a:ea typeface="华文中宋"/>
              </a:rPr>
              <a:t>婚前婚后都生活在书香世家，其父李格非是苏轼的学生，其夫赵明诚是著名的金石考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59"/>
                </a:solidFill>
                <a:latin typeface="华文中宋"/>
                <a:ea typeface="华文中宋"/>
              </a:rPr>
              <a:t>　家。李清照夫妇雅好词章，常相唱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5c5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59"/>
                </a:solidFill>
                <a:latin typeface="华文中宋"/>
                <a:ea typeface="华文中宋"/>
              </a:rPr>
              <a:t>1127</a:t>
            </a:r>
            <a:r>
              <a:rPr b="1" lang="zh-CN" sz="2800" spc="-1" strike="noStrike">
                <a:solidFill>
                  <a:srgbClr val="005c59"/>
                </a:solidFill>
                <a:latin typeface="华文中宋"/>
                <a:ea typeface="华文中宋"/>
              </a:rPr>
              <a:t>年，靖康之乱，李清照随家颠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59"/>
                </a:solidFill>
                <a:latin typeface="华文中宋"/>
                <a:ea typeface="华文中宋"/>
              </a:rPr>
              <a:t>　南下，后来丈夫病死，李亡国继以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59"/>
                </a:solidFill>
                <a:latin typeface="华文中宋"/>
                <a:ea typeface="华文中宋"/>
              </a:rPr>
              <a:t>　家，余生孤苦，郁郁而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035"/>
          <p:cNvPicPr/>
          <p:nvPr/>
        </p:nvPicPr>
        <p:blipFill>
          <a:blip r:embed="rId2"/>
          <a:srcRect l="19290" t="0" r="12986" b="0"/>
          <a:stretch/>
        </p:blipFill>
        <p:spPr>
          <a:xfrm>
            <a:off x="7308720" y="3213000"/>
            <a:ext cx="123840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8404200" cy="5259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3640" y="765000"/>
            <a:ext cx="38894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常记溪亭日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沉醉不知归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兴尽晚回舟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误入藕花深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争渡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争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惊起一滩鸥鹭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87280" y="909720"/>
            <a:ext cx="78487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寻寻觅觅，冷冷清清，凄凄惨惨戚戚。乍暖还寒时候，最难将息。三杯两盏淡酒，怎敌他、晚来风急。雁过也，正伤心，却是旧时相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地黄花堆积，憔悴损，如今有谁堪摘？守着窗儿，独自怎生得黑！梧桐更兼细雨，到黄昏点点滴滴。这次第，怎一个愁字了得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41300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413000"/>
            <a:ext cx="4572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13440" y="1773360"/>
            <a:ext cx="7898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声声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2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深情吟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Rectangle 3" descr=""/>
          <p:cNvPicPr/>
          <p:nvPr/>
        </p:nvPicPr>
        <p:blipFill>
          <a:blip r:embed="rId2"/>
          <a:stretch/>
        </p:blipFill>
        <p:spPr>
          <a:xfrm>
            <a:off x="3419640" y="765000"/>
            <a:ext cx="5697360" cy="532800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3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755640" y="765000"/>
            <a:ext cx="2978280" cy="5315040"/>
          </a:xfrm>
          <a:prstGeom prst="rect">
            <a:avLst/>
          </a:prstGeom>
          <a:ln w="0">
            <a:noFill/>
          </a:ln>
        </p:spPr>
      </p:pic>
      <p:pic>
        <p:nvPicPr>
          <p:cNvPr id="178" name="安雯-月满西楼(伴奏)" descr=""/>
          <p:cNvPicPr/>
          <p:nvPr/>
        </p:nvPicPr>
        <p:blipFill>
          <a:blip r:embed="rId4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安雯-月满西楼(伴奏)_" descr=""/>
          <p:cNvPicPr/>
          <p:nvPr/>
        </p:nvPicPr>
        <p:blipFill>
          <a:blip r:embed="rId5"/>
          <a:stretch/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67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《一剪梅》朗读节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8565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香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玉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轻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罗裳，独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锦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？雁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时，月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飘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思，两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除，才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眉头，却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月满西楼 伴奏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5873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研读课文，赏析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上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1558800"/>
            <a:ext cx="683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红藕香残玉簟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时令、季节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视觉、嗅觉、触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6720" y="27097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轻解罗裳，独上兰舟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孤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342900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云中谁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锦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来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字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时，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西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顺序：月满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上西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望云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见回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思及谁寄锦书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谁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明月自满，人却未圆；雁字空回，锦书无有，无边的月色正如无尽的相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研读课文，赏析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下片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花自飘零水自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花飘水流，是物的自在之态，女词人见此景象，极为伤怀，但花和水却不理会她的情怀，依旧不停地飘落，不停地流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06064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c59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26478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种相思，两处闲愁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、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3813120"/>
            <a:ext cx="74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此情无计可消除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才下眉头，却上心头。（无可消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468360" y="476280"/>
            <a:ext cx="64008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</a:rPr>
              <a:t>红藕香残玉簟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</a:rPr>
              <a:t>轻解罗裳，独上兰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</a:rPr>
              <a:t>云中谁寄锦书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</a:rPr>
              <a:t>雁字回时，月满西楼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</a:rPr>
              <a:t>花自飘零水自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</a:rPr>
              <a:t>一种相思，两处闲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</a:rPr>
              <a:t>此情无计可消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</a:rPr>
              <a:t>才下眉头，却上心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5364000" y="54936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7021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勾勒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5364000" y="1197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77376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叙写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5364000" y="2205000"/>
            <a:ext cx="914400" cy="4572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677376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神驰遐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5364000" y="35002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846840" y="335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借景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5651640" y="4292640"/>
            <a:ext cx="288720" cy="1523880"/>
          </a:xfrm>
          <a:custGeom>
            <a:avLst/>
            <a:gdLst>
              <a:gd name="textAreaLeft" fmla="*/ 0 w 288720"/>
              <a:gd name="textAreaRight" fmla="*/ 104040 w 2887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6773760" y="47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直抒胸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25:39Z</dcterms:created>
  <dc:creator>李岩</dc:creator>
  <dc:description/>
  <dc:language>en-US</dc:language>
  <cp:lastModifiedBy>微软用户</cp:lastModifiedBy>
  <dcterms:modified xsi:type="dcterms:W3CDTF">2014-12-04T02:24:2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