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chimes.wav" ContentType="audio/x-wav"/>
  <Override PartName="/ppt/media/image1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A00-B31F-408D-8082-47DDE52E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538-D2CF-48F4-A566-15CBD4A7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41C-5B30-411A-9188-DCE61E3F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4CEA-8272-4575-A9D8-745BAD16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F8B5-7750-4130-8E1E-66E7023B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7538-FB75-4383-9D26-897FF091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C900-9EAA-47CB-A875-AA65D7A6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B0E8-0BDF-452B-B183-BA2041B3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5BBF-4FBC-4DA1-9868-0F15326F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6391-C644-4418-8E5A-735C365C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B9CD-F6EC-4C60-AC8D-94DDF2BA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54D-24DE-4B54-9CB0-CB71807C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F965-5FF8-4D7C-B0EC-8D908F3E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64FA-4AA0-41ED-9455-7B588404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85CB-85A6-4B99-895F-784B3F39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5467-A6C6-4C1B-B4F4-887BF2E0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C0E7-0F4C-49DF-B220-60C66932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ECB95-FB99-4B04-9CEE-7F693260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C4C98-4F3D-4782-AD91-40ADF5F0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20068-E40C-433E-96AA-E5FA41E1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966E-6716-4DD7-B2C0-99C4B192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18C29-2516-41C4-AD34-CA64A3BD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9A9-CC43-4685-AB65-01F4E070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5CE85-0409-413A-ADA3-47A97E43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27139-6E80-4200-A6AD-0CD3B684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72E47-AA2D-4E53-B27E-D60D990F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5150C-73D8-485A-9B2D-ED82B222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4A349-5779-4509-8E80-E121E461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A8176-2A8B-4DDD-8165-CF32E430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20DBF-7008-42BD-9FFB-4A300E49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CB4-6D6D-414E-A3B4-BB330F95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B312-F0D8-4ACB-BDE2-BDCB05DF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024-3C61-42B4-9B28-B30ABF39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EE6-64B9-4E4D-ABF9-A62FF440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ED4-97B0-47EC-B43A-D21A85CD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64E-B76A-49B4-A34A-CC66EC8A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0DFB-4911-4926-9882-30C6B9CCE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E08F-66EF-4559-9C3D-B87591DC89EE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58DF-09E6-4701-9939-F2E8EADB5DED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file:///tmp/home/.config/libreoffice/4/user/gallery/chimes.wav" TargetMode="External"/><Relationship Id="rId4" Type="http://schemas.microsoft.com/office/2007/relationships/media" Target="file:///tmp/home/.config/libreoffice/4/user/gallery/chimes.wav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5913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8000" y="549360"/>
            <a:ext cx="2663640" cy="642600"/>
          </a:xfrm>
          <a:prstGeom prst="rect">
            <a:avLst/>
          </a:prstGeom>
          <a:solidFill>
            <a:srgbClr val="dc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66"/>
                </a:solidFill>
                <a:latin typeface="Arial"/>
                <a:ea typeface="华文行楷"/>
              </a:rPr>
              <a:t>诗词欣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32846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66"/>
                </a:solidFill>
                <a:latin typeface="Arial"/>
                <a:ea typeface="华文行楷"/>
              </a:rPr>
              <a:t>赵婧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  <a:ea typeface="楷体_GB2312"/>
              </a:rPr>
              <a:t>红藕香残玉簟秋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2552400"/>
            <a:ext cx="854064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2b0a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42b0a"/>
                </a:solidFill>
                <a:latin typeface="Arial"/>
                <a:ea typeface="楷体_GB2312"/>
              </a:rPr>
              <a:t>红藕”“玉簟”不仅表明秋天已至，进一步发掘，它的深刻意蕴是什么呢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  <a:ea typeface="楷体_GB2312"/>
              </a:rPr>
              <a:t>红藕</a:t>
            </a:r>
            <a:r>
              <a:rPr b="1" lang="en-US" sz="4800" spc="-1" strike="noStrike">
                <a:solidFill>
                  <a:srgbClr val="ffff66"/>
                </a:solidFill>
                <a:latin typeface="Arial"/>
                <a:ea typeface="楷体_GB2312"/>
              </a:rPr>
              <a:t>---</a:t>
            </a:r>
            <a:r>
              <a:rPr b="1" lang="zh-CN" sz="4800" spc="-1" strike="noStrike">
                <a:solidFill>
                  <a:srgbClr val="ffff66"/>
                </a:solidFill>
                <a:latin typeface="Arial"/>
                <a:ea typeface="楷体_GB2312"/>
              </a:rPr>
              <a:t>香残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7280" y="1566720"/>
            <a:ext cx="85327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42b0a"/>
                </a:solidFill>
                <a:latin typeface="Arial"/>
                <a:ea typeface="楷体_GB2312"/>
              </a:rPr>
              <a:t>荷花既已凋谢，其他草木之花就更难见到。点明了时节，透露出秋景的冷落、萧条，而且渲染了环境气氛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42b0a"/>
                </a:solidFill>
                <a:latin typeface="Arial"/>
                <a:ea typeface="楷体_GB2312"/>
              </a:rPr>
              <a:t>季节的变迁，还会使女词人产生丈夫离家日久的感觉使她觉得孤单寂寞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42b0a"/>
                </a:solidFill>
                <a:latin typeface="Arial"/>
                <a:ea typeface="楷体_GB2312"/>
              </a:rPr>
              <a:t>秋天来了荷花凋谢，其实也含有青春易逝、红颜易老之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  <a:ea typeface="华文楷体"/>
              </a:rPr>
              <a:t>玉簟秋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7080" y="3501720"/>
            <a:ext cx="8675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    </a:t>
            </a:r>
            <a:r>
              <a:rPr b="1" lang="zh-CN" sz="8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　</a:t>
            </a:r>
            <a:r>
              <a:rPr b="1" lang="zh-CN" sz="3200" spc="-1" strike="noStrike">
                <a:solidFill>
                  <a:srgbClr val="cc3300"/>
                </a:solidFill>
                <a:latin typeface="华文中宋"/>
                <a:ea typeface="华文中宋"/>
              </a:rPr>
              <a:t>暑退秋来，竹席也凉了</a:t>
            </a:r>
            <a:r>
              <a:rPr b="1" lang="en-US" sz="3200" spc="-1" strike="noStrike">
                <a:solidFill>
                  <a:srgbClr val="cc3300"/>
                </a:solidFill>
                <a:latin typeface="华文中宋"/>
                <a:ea typeface="华文中宋"/>
              </a:rPr>
              <a:t>, </a:t>
            </a:r>
            <a:r>
              <a:rPr b="1" lang="zh-CN" sz="3200" spc="-1" strike="noStrike">
                <a:solidFill>
                  <a:srgbClr val="cc3300"/>
                </a:solidFill>
                <a:latin typeface="华文中宋"/>
                <a:ea typeface="华文中宋"/>
              </a:rPr>
              <a:t>不止是说天气变凉，其实，也含有“人去席冷”之意，跟她独守空房关系倒更为密切，衬托出词人冷清与孤寂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64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Arial"/>
                <a:ea typeface="华文楷体"/>
              </a:rPr>
              <a:t>红藕香残玉簟秋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64000" y="1341360"/>
            <a:ext cx="3492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华文中宋"/>
                <a:ea typeface="华文中宋"/>
              </a:rPr>
              <a:t>如果说“红藕香残”是从客观景物（视觉、嗅觉）来表现秋的到来，那么“玉簟秋”就是通过词人的主观感受（触觉）来表达秋的到来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华文中宋"/>
                <a:ea typeface="华文中宋"/>
              </a:rPr>
              <a:t>这样一句话，把客观和主观，景和情都融化在一起了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5000" y="0"/>
            <a:ext cx="88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7a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华文楷体"/>
              </a:rPr>
              <a:t>轻解罗裳，独上兰舟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711440"/>
            <a:ext cx="453708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d7d3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7d7d37"/>
                </a:solidFill>
                <a:latin typeface="Arial"/>
                <a:ea typeface="楷体_GB2312"/>
              </a:rPr>
              <a:t>轻解罗裳，独上兰舟”</a:t>
            </a:r>
            <a:r>
              <a:rPr b="1" lang="en-US" sz="3600" spc="-1" strike="noStrike">
                <a:solidFill>
                  <a:srgbClr val="7d7d37"/>
                </a:solidFill>
                <a:latin typeface="Arial"/>
                <a:ea typeface="楷体_GB2312"/>
              </a:rPr>
              <a:t>----</a:t>
            </a:r>
            <a:r>
              <a:rPr b="1" lang="zh-CN" sz="3600" spc="-1" strike="noStrike">
                <a:solidFill>
                  <a:srgbClr val="7d7d37"/>
                </a:solidFill>
                <a:latin typeface="Arial"/>
                <a:ea typeface="楷体_GB2312"/>
              </a:rPr>
              <a:t>是作者在孤寂中所想到的排遣寂寞的方法。她排遣掉寂寞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983120" y="1557360"/>
            <a:ext cx="38368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55640" y="620280"/>
            <a:ext cx="4392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d7d37"/>
                </a:solidFill>
                <a:latin typeface="Arial"/>
                <a:ea typeface="楷体_GB2312"/>
              </a:rPr>
              <a:t>兰舟：据《述异》记载，鲁班曾刻木兰树为舟。后用作船的美称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d7d37"/>
                </a:solidFill>
                <a:latin typeface="Arial"/>
                <a:ea typeface="楷体_GB2312"/>
              </a:rPr>
              <a:t>独：为了排遣心中的冷漠孤寂，我换上秋装，独自荡舟水上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d7d37"/>
                </a:solidFill>
                <a:latin typeface="Arial"/>
                <a:ea typeface="楷体_GB2312"/>
              </a:rPr>
              <a:t>一个“独”字用的好，一个人的世界，牵挂的是远方。在孤寂中所想到的排遣寂寞的方法。其正面意思是，如果丈夫在家，夫妻一起去划船该多好啊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d7d37"/>
                </a:solidFill>
                <a:latin typeface="Arial"/>
                <a:ea typeface="楷体_GB2312"/>
              </a:rPr>
              <a:t>过去和丈夫双双泛舟，充满诗情画意，今天独自击楫，眼前的情景只能勾起往事，怎能排遣得了呢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796000" y="765000"/>
            <a:ext cx="323388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  <p:sndAc>
      <p:stSnd>
        <p:snd r:embed="rId3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7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7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7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7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4360" y="981000"/>
            <a:ext cx="784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云中：我国古代有鸿雁传书的说法，鸿雁从空中飞来，故称“云中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锦书：写在锦帛上的信。据《晋书》记载，窦滔妻苏氏曾织锦为《回文璇玑图诗》，寄给他的丈夫，后来用“锦书”指代妻子给在外丈夫的信。这里是反其意而用之，指在外的丈夫给妻子的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华文行楷"/>
                <a:ea typeface="华文行楷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16040" y="333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云中谁寄锦书来？雁字回时，月满西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u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876240"/>
            <a:ext cx="889308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26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99"/>
                </a:solidFill>
                <a:latin typeface="华文中宋"/>
                <a:ea typeface="华文中宋"/>
              </a:rPr>
              <a:t>是一个倒装句</a:t>
            </a:r>
            <a:endParaRPr b="0" lang="en-US" sz="29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26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99"/>
                </a:solidFill>
                <a:latin typeface="华文中宋"/>
                <a:ea typeface="华文中宋"/>
              </a:rPr>
              <a:t>顺序：月满时——上西楼——望云中——见回雁——思及谁寄锦书来</a:t>
            </a:r>
            <a:endParaRPr b="0" lang="en-US" sz="29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26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99"/>
                </a:solidFill>
                <a:latin typeface="华文中宋"/>
                <a:ea typeface="华文中宋"/>
              </a:rPr>
              <a:t>谁——赵明诚</a:t>
            </a:r>
            <a:endParaRPr b="0" lang="en-US" sz="29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26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99"/>
                </a:solidFill>
                <a:latin typeface="华文中宋"/>
                <a:ea typeface="华文中宋"/>
              </a:rPr>
              <a:t>明月自满，人却未圆；</a:t>
            </a:r>
            <a:endParaRPr b="0" lang="en-US" sz="29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99"/>
                </a:solidFill>
                <a:latin typeface="华文中宋"/>
                <a:ea typeface="华文中宋"/>
              </a:rPr>
              <a:t>　雁字空回，锦书无有</a:t>
            </a:r>
            <a:endParaRPr b="0" lang="en-US" sz="29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99"/>
                </a:solidFill>
                <a:latin typeface="华文中宋"/>
                <a:ea typeface="华文中宋"/>
              </a:rPr>
              <a:t>　无边的月色正如无尽的相思</a:t>
            </a:r>
            <a:endParaRPr b="0" lang="en-US" sz="29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16040" y="1857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云中谁寄锦书来？雁字回时，月满西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  <p:sndAc>
      <p:stSnd>
        <p:snd r:embed="rId2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502920"/>
            <a:ext cx="48243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42b0a"/>
                </a:solidFill>
                <a:latin typeface="Arial"/>
                <a:ea typeface="楷体_GB2312"/>
              </a:rPr>
              <a:t>词人因惦念丈夫行踪，盼望锦书到达，遂从遥望云空引出鸿雁传书的遐想。不管白日月夜，无论舟上楼中，萦绕于词人心头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>
            <a:grayscl/>
            <a:lum bright="-18000"/>
          </a:blip>
          <a:stretch/>
        </p:blipFill>
        <p:spPr>
          <a:xfrm>
            <a:off x="4932360" y="0"/>
            <a:ext cx="42958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  <p:sndAc>
      <p:stSnd>
        <p:snd r:embed="rId3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919240" y="3246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华文隶书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57960" y="2914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981000"/>
            <a:ext cx="50400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隶书"/>
              </a:rPr>
              <a:t> 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下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  <a:ea typeface="华文楷体"/>
              </a:rPr>
              <a:t>花自飘零水自流，一种相思，两处闲愁。此情无计可消除，才下眉头，却上心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540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词牌“一剪梅”的由来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60360" y="1889280"/>
            <a:ext cx="457200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d7d37"/>
                </a:solidFill>
                <a:latin typeface="Arial"/>
              </a:rPr>
              <a:t>一剪梅，词牌名，得名于周邦彦词中的“一剪梅花万样娇”。乃取前三字为调名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d7d37"/>
                </a:solidFill>
                <a:latin typeface="Arial"/>
              </a:rPr>
              <a:t>又韩淲词有“一朵梅花百和香”句，故又名《腊梅香》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d7d37"/>
                </a:solidFill>
                <a:latin typeface="Arial"/>
              </a:rPr>
              <a:t>李清照词有“红藕香残玉簟秋”句，故又名《玉簟秋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》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508720" y="1628640"/>
            <a:ext cx="3087720" cy="44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708000" y="980640"/>
            <a:ext cx="5111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写眼前之景，花落水流，与“红藕香残”、“独上兰舟”相拍合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花飘水流，是物的自在之态，女词人见此景象，极为伤怀，但花和水却不理会她的情怀，依旧不停地飘落，不停地流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比喻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人生、年华、爱情、离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890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42b0a"/>
                </a:solidFill>
                <a:latin typeface="Arial"/>
                <a:ea typeface="楷体_GB2312"/>
              </a:rPr>
              <a:t>花自飘零水自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  <p:sndAc>
      <p:stSnd>
        <p:snd r:embed="rId2" name="chimes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634920" y="1412640"/>
            <a:ext cx="5040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中宋"/>
              </a:rPr>
              <a:t>人居两地，情发一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中宋"/>
              </a:rPr>
              <a:t>写自己相思之苦、闲愁之深的同时，由己身推及到对方，深知这种相思与闲愁不是单方面的，而是双方的，足见两心相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189000"/>
            <a:ext cx="68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42b0a"/>
                </a:solidFill>
                <a:latin typeface="Arial"/>
                <a:ea typeface="华文楷体"/>
              </a:rPr>
              <a:t>一种相思，两处闲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  <p:sndAc>
      <p:stSnd>
        <p:snd r:embed="rId2" name="chimes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1066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419640" y="836640"/>
            <a:ext cx="547344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华文中宋"/>
              </a:rPr>
              <a:t>情”要用“计”消除，可知其重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华文中宋"/>
              </a:rPr>
              <a:t>无计可消除”，可知其深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华文中宋"/>
              </a:rPr>
              <a:t>对愁的描写极其形象。把愁说成是一种能够运动的有形之物，更为出奇的是它的运动方式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皱着的眉头方才舒展，而思绪又涌上心头——相思之情无法排遣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“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才——却——”有连接关系，表现“愁”运动之速，而愁从可见的眉间藏到心头，更使人领略到女词人的万千愁绪，诗人感情的变幻起伏，真实形象，给人以遐想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1680" y="-88920"/>
            <a:ext cx="854064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2b0a"/>
                </a:solidFill>
                <a:latin typeface="Arial"/>
                <a:ea typeface="华文楷体"/>
              </a:rPr>
              <a:t>此情无计可消除，才下眉头，却上心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  <p:sndAc>
      <p:stSnd>
        <p:snd r:embed="rId2" name="chimes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476280"/>
            <a:ext cx="640080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红藕香残玉簟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轻解罗裳，独上兰舟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云中谁寄锦书来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雁字回时，月满西楼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花自飘零水自流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一种相思，两处闲愁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此情无计可消除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才下眉头，却上心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64000" y="54936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21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勾勒环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64000" y="1197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73760" y="105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叙写情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64000" y="2205000"/>
            <a:ext cx="914400" cy="4572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73760" y="21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神驰遐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64000" y="350028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46840" y="335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借景抒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51640" y="4292640"/>
            <a:ext cx="288720" cy="1523880"/>
          </a:xfrm>
          <a:custGeom>
            <a:avLst/>
            <a:gdLst>
              <a:gd name="textAreaLeft" fmla="*/ 0 w 288720"/>
              <a:gd name="textAreaRight" fmla="*/ 104040 w 2887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ebf7ff"/>
          </a:solidFill>
          <a:ln w="507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73760" y="47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直抒胸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  <p:sndAc>
      <p:stSnd>
        <p:snd r:embed="rId2" name="chimes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284720" y="115920"/>
            <a:ext cx="4859280" cy="6481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1125360"/>
            <a:ext cx="414036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上阙主要写女词人的独居生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下阙以抒情为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全词主要抒写作者的寂寞相思之情</a:t>
            </a:r>
            <a:r>
              <a:rPr b="1" lang="zh-CN" sz="3600" spc="-1" strike="noStrike">
                <a:solidFill>
                  <a:srgbClr val="7d7d37"/>
                </a:solidFill>
                <a:latin typeface="Arial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3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此词特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2828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特点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所表现的爱情是旖旎的、纯洁的、心心相印的，和一般的单纯思夫或怨其不返，大异其趣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大胆歌颂自己的爱情，象蜜甜、象水清，磊落大方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浅俗清新，明白如话，也多用偶句，琅琅上口，声韵和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440"/>
            <a:ext cx="9144000" cy="69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朗诵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f7ff"/>
                </a:solidFill>
                <a:latin typeface="Times New Roman"/>
                <a:ea typeface="隶书"/>
              </a:rPr>
              <a:t>                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一剪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                                 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李清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结构特点：①本词为双调，每段四句，每句四拍，与七律相似，节奏整齐。②双数句分解为两小句，每小句四字。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诵读节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         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红藕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香残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玉簟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秋，轻解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罗裳，独上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兰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         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云中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谁寄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锦书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来？雁字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回时，月满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西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         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花自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飘零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水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自流，一种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相思，两处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闲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         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此情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无计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可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消除，才下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眉头，却上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心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d7d37"/>
                </a:solidFill>
                <a:latin typeface="Times New Roman"/>
                <a:ea typeface="隶书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419280" cy="4608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851280" y="836640"/>
            <a:ext cx="511344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粉红的荷花已经凋谢，铺着的竹席也生秋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  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轻轻解下丝绸披肩，独自登上木兰小舟。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  天边飞来队队鸿雁，是谁捎来了远方的佳音？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  西楼洒满月光，思念的人啊也该早日归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花儿自管飘落，水儿自管流淌。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  彼此都在思念对方，却只能独自愁闷，天各一方。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  这样的相思愁苦，哪儿有办法可以消除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  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皱着的眉头方才展开，涩涩的味儿却又涌上心头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83120" y="401760"/>
            <a:ext cx="25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66"/>
                </a:solidFill>
                <a:latin typeface="Arial"/>
                <a:ea typeface="华文行楷"/>
              </a:rPr>
              <a:t>抒情散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8137440" cy="5537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621240" y="4076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42b0a"/>
                </a:solidFill>
                <a:latin typeface="Arial"/>
                <a:ea typeface="楷体_GB2312"/>
              </a:rPr>
              <a:t>月满西楼歌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5724360" y="422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928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7704000" cy="5759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82240" y="69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认识李清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704000" cy="58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03280" y="357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7d37"/>
                </a:solidFill>
                <a:latin typeface="Arial"/>
                <a:ea typeface="华文隶书"/>
              </a:rPr>
              <a:t>      </a:t>
            </a:r>
            <a:r>
              <a:rPr b="1" lang="zh-CN" sz="2400" spc="-1" strike="noStrike">
                <a:solidFill>
                  <a:srgbClr val="7d7d37"/>
                </a:solidFill>
                <a:latin typeface="Times New Roman"/>
                <a:ea typeface="楷体_GB2312"/>
              </a:rPr>
              <a:t>李清照生活在书香世家，父亲是当时著名的学者。丈夫赵明诚是著名的金石考据家，他俩是一对恩爱夫妻。他们结婚后曾在青州居住十几年，其间李清照创作大量文学作品，而赵明诚也在妻子的帮助下完成了《金石录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67120" y="31082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4941720"/>
            <a:ext cx="82072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Times New Roman"/>
                <a:ea typeface="隶书"/>
              </a:rPr>
              <a:t>    </a:t>
            </a:r>
            <a:r>
              <a:rPr b="1" lang="en-US" sz="2400" spc="-1" strike="noStrike">
                <a:solidFill>
                  <a:srgbClr val="7d7d37"/>
                </a:solidFill>
                <a:latin typeface="楷体_GB2312"/>
                <a:ea typeface="楷体_GB2312"/>
              </a:rPr>
              <a:t>1129</a:t>
            </a:r>
            <a:r>
              <a:rPr b="1" lang="zh-CN" sz="2400" spc="-1" strike="noStrike">
                <a:solidFill>
                  <a:srgbClr val="7d7d37"/>
                </a:solidFill>
                <a:latin typeface="楷体_GB2312"/>
                <a:ea typeface="楷体_GB2312"/>
              </a:rPr>
              <a:t>年赵明城在赴外地途中染病，不幸病逝。自此以后李清照写了大量的诗歌怀念自己的丈夫。这些诗歌都很伤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d7d37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7d7d37"/>
                </a:solidFill>
                <a:latin typeface="楷体_GB2312"/>
                <a:ea typeface="楷体_GB2312"/>
              </a:rPr>
              <a:t>丈夫死时李清照才</a:t>
            </a:r>
            <a:r>
              <a:rPr b="1" lang="en-US" sz="2400" spc="-1" strike="noStrike">
                <a:solidFill>
                  <a:srgbClr val="7d7d37"/>
                </a:solidFill>
                <a:latin typeface="楷体_GB2312"/>
                <a:ea typeface="楷体_GB2312"/>
              </a:rPr>
              <a:t>35</a:t>
            </a:r>
            <a:r>
              <a:rPr b="1" lang="zh-CN" sz="2400" spc="-1" strike="noStrike">
                <a:solidFill>
                  <a:srgbClr val="7d7d37"/>
                </a:solidFill>
                <a:latin typeface="楷体_GB2312"/>
                <a:ea typeface="楷体_GB2312"/>
              </a:rPr>
              <a:t>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0" t="0" r="-936" b="47526"/>
          <a:stretch/>
        </p:blipFill>
        <p:spPr>
          <a:xfrm>
            <a:off x="685800" y="530280"/>
            <a:ext cx="7846920" cy="30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78000" y="1295280"/>
            <a:ext cx="77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李清照为什么要写这首词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2446200"/>
            <a:ext cx="4183200" cy="4411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1280" y="260280"/>
            <a:ext cx="54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读懂《一剪梅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76212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f7ff"/>
                </a:solidFill>
                <a:latin typeface="Times New Roman"/>
                <a:ea typeface="隶书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17520" y="83664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这是李清照早期的一首诗作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这是一首闺情词。结婚不久，赵明诚就到远处去上学，李清照“殊不忍别，觅锦帛，书《一剪梅》以送之。”（引自元人伊世珍《嫏环记》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45720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79280" y="539640"/>
            <a:ext cx="8777520" cy="57531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7T01:27:03Z</dcterms:created>
  <dc:creator>aaaaaa</dc:creator>
  <dc:description/>
  <dc:language>en-US</dc:language>
  <cp:lastModifiedBy>USER</cp:lastModifiedBy>
  <dcterms:modified xsi:type="dcterms:W3CDTF">2014-04-14T07:20:00Z</dcterms:modified>
  <cp:revision>8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