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D48-6F3D-4B02-8C71-5854FE02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E56-D2B3-4C2D-8E99-F8BC16E9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BCF-09F5-4873-91B2-4EEAFCBD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218-04A7-46FC-8AD7-0694866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189B-A22B-4C8A-A67A-3911970E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67D2-FFCF-4D21-8202-6353A17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584E-543B-4CB2-877E-A042C568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46F-49B8-4275-812A-1708C7A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D74E-56AD-45EA-B138-6DCD99FC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61F-A787-40BF-B43F-D9B6A21C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03E5-1AFD-4311-802D-CBC73FC1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940-E9BF-4240-A34B-8CCA601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E7D9-1E81-44BE-9864-B37FD31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1D6-143D-4B28-9022-109F1B1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3E4E-F271-42D6-AED6-1B6FD3C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2938-04FC-4E14-A06D-F68B3725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914-2333-46E2-BAA1-124BD7F6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3266-7CC9-4EEC-9A2E-5D49CD13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DAD8-8ACD-42DD-BA3C-E15AF25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3635-78FE-4F77-828C-A25318F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2202-74AC-4734-8988-290F042B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0754-46BA-46C8-B950-06C5B87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2D3-9CCB-44A8-BD45-71245A96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54C3-8D5F-4711-853D-F4A7370F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611F-156E-4152-863A-CD5A176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43C9-03DC-4C5B-8014-9831B1CC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023B-DAE4-40A6-9C13-8047FE8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E258-4227-41AD-900D-875DA7F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2E4F-BDC5-48B5-B69A-A5B5DE77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1BEE5-9C73-49F9-A335-95A9C058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7661-7402-4194-AEFB-93F1DE64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768C-0F4C-4CB1-8715-1ADEEF98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B2E3-4E7E-4F5D-A787-E0B7698A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73D-A608-4575-AC38-5833B1F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6F9B-D432-4D7C-85ED-C301A18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536B-038E-429E-BF23-CD7388E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C94A-842A-46DD-9B03-F734721C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34AA2-952D-4FF3-862B-2532AB5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31A5-6AFB-4F39-8D10-712583D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4742-E6E6-43C8-AE64-35380C2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04E7-B821-40AF-BA78-E6AA81DF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2A03-4DE7-4698-B646-137AB9BD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B909-A2CE-4F52-ACE2-77B68E42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08A-8553-4BB0-98BC-DE125A82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A25-E95A-4581-867C-F3AD523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852-0329-4C63-A324-37126545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023-9BE2-4C5F-A2DC-299D3158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8D2-3244-4CA7-B3CF-BCAB540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B2B-828F-4B60-9729-2B57BC218C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BF56-A160-430D-907C-39F2FCCFE2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2" descr=""/>
          <p:cNvPicPr/>
          <p:nvPr/>
        </p:nvPicPr>
        <p:blipFill>
          <a:blip r:embed="rId2"/>
          <a:stretch/>
        </p:blipFill>
        <p:spPr>
          <a:xfrm>
            <a:off x="7377120" y="-15840"/>
            <a:ext cx="2130480" cy="6889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" descr=""/>
          <p:cNvPicPr/>
          <p:nvPr/>
        </p:nvPicPr>
        <p:blipFill>
          <a:blip r:embed="rId3"/>
          <a:stretch/>
        </p:blipFill>
        <p:spPr>
          <a:xfrm>
            <a:off x="7791480" y="-30240"/>
            <a:ext cx="4400640" cy="6921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4"/>
          <a:stretch/>
        </p:blipFill>
        <p:spPr>
          <a:xfrm>
            <a:off x="0" y="-33480"/>
            <a:ext cx="8147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43D-D9B6-40A6-ABA5-FD16454C37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82E-E947-4223-85ED-03F93F783A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4" descr=""/>
          <p:cNvPicPr/>
          <p:nvPr/>
        </p:nvPicPr>
        <p:blipFill>
          <a:blip r:embed="rId2"/>
          <a:stretch/>
        </p:blipFill>
        <p:spPr>
          <a:xfrm rot="10800000">
            <a:off x="0" y="-113040"/>
            <a:ext cx="12149280" cy="3763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3"/>
          <a:srcRect l="1679" t="0" r="1867" b="60120"/>
          <a:stretch/>
        </p:blipFill>
        <p:spPr>
          <a:xfrm rot="10800000">
            <a:off x="-19080" y="0"/>
            <a:ext cx="1221120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"/>
          <p:cNvPicPr/>
          <p:nvPr/>
        </p:nvPicPr>
        <p:blipFill>
          <a:blip r:embed="rId4"/>
          <a:srcRect l="0" t="73717" r="0" b="0"/>
          <a:stretch/>
        </p:blipFill>
        <p:spPr>
          <a:xfrm rot="10800000">
            <a:off x="-19080" y="2266200"/>
            <a:ext cx="12228480" cy="459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134E-86A0-4C3B-8225-89DD7B035A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ED7-A5AD-4069-87D9-73DA0D5FC0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32" descr=""/>
          <p:cNvPicPr/>
          <p:nvPr/>
        </p:nvPicPr>
        <p:blipFill>
          <a:blip r:embed="rId2"/>
          <a:stretch/>
        </p:blipFill>
        <p:spPr>
          <a:xfrm>
            <a:off x="7377120" y="-15840"/>
            <a:ext cx="2130480" cy="6889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" descr=""/>
          <p:cNvPicPr/>
          <p:nvPr/>
        </p:nvPicPr>
        <p:blipFill>
          <a:blip r:embed="rId3"/>
          <a:stretch/>
        </p:blipFill>
        <p:spPr>
          <a:xfrm>
            <a:off x="7791480" y="-30240"/>
            <a:ext cx="4400640" cy="69217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"/>
          <p:cNvPicPr/>
          <p:nvPr/>
        </p:nvPicPr>
        <p:blipFill>
          <a:blip r:embed="rId4"/>
          <a:stretch/>
        </p:blipFill>
        <p:spPr>
          <a:xfrm>
            <a:off x="-46080" y="0"/>
            <a:ext cx="81471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8266-4405-4A69-9AD5-7D6D58948D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357-8364-4A78-9ED7-04F2F0B81F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8120" y="2000160"/>
            <a:ext cx="778356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永久的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8120" y="2877840"/>
            <a:ext cx="65898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文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当堂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下列句子中加点的词语运用不恰当的一项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学校定期开展的安全教育活动，让广大师生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受益匪浅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谈论西青旅游及其影响力，我们既不能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妄自菲薄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，也不要盲目乐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同学们都在争分夺秒地复习，他却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苦心孤诣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地沉迷于游戏，他的父母为此心急如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如果学生对影视明星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顶礼膜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，就会影响正常的学习和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"/>
          <p:cNvSpPr/>
          <p:nvPr/>
        </p:nvSpPr>
        <p:spPr>
          <a:xfrm>
            <a:off x="8518680" y="1825560"/>
            <a:ext cx="103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当堂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8080" y="1324080"/>
            <a:ext cx="10515600" cy="48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下列句子中，没有语病的一项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随着京剧表演及脸谱制作等活动引入课堂，让更多学生受到了收到了传统文化的熏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中国体育健儿正在积极备战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2020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奥运会，他们将在赛场上努力拼搏，争创佳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读者深受喜爱的杨绛先生，不平凡的一生中，留下了大量文风质朴、寓意深刻的作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D.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中国成语大会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节目受到中小学生喜爱，是因为其形式新颖，有文化内涵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"/>
          <p:cNvSpPr/>
          <p:nvPr/>
        </p:nvSpPr>
        <p:spPr>
          <a:xfrm>
            <a:off x="6675480" y="1093680"/>
            <a:ext cx="103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当堂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依次填入下面文字横线处的句子，与上下文衔接最恰当的一项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培养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静能量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，还要学会享受安静，于安静中汲取养分。当你烦躁不安时，不妨静下心来，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；当你心灰意冷时，不妨静下心来，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；当你志得意满时，不妨静下心来，</a:t>
            </a:r>
            <a:r>
              <a:rPr b="0" lang="zh-CN" sz="2800" spc="-1" strike="noStrike" u="sng">
                <a:solidFill>
                  <a:srgbClr val="595959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想想自己到底想要什么②想想自己究竟做错了什么③想想自己的初衷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①②③   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②①③   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①③②   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③②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1387440" y="228276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情境导入，生成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Arial"/>
              </a:rPr>
              <a:t>有人说，生命，伟大而神秘，丰富而奇妙，永久而不朽；也有人说，世上没有永恒的春天，亦没有永久的生命。生命到底是怎样的呢？下面让我们来听听作者严文井的答案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595959"/>
                </a:solidFill>
                <a:latin typeface="Arial"/>
              </a:rPr>
              <a:t>反复朗读课文，理清行文思路，理解文章主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595959"/>
                </a:solidFill>
                <a:latin typeface="Arial"/>
              </a:rPr>
              <a:t>理解作者对生命本质的认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595959"/>
                </a:solidFill>
                <a:latin typeface="Arial"/>
              </a:rPr>
              <a:t>认识个体的生命是短暂的，人类的生命是永久的，要用短暂的生命去创造永久的价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自我研读 生成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8080" y="1520640"/>
            <a:ext cx="10515600" cy="46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字难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臼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齿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jiù)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茸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毛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róng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延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màn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凋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谢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diāo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洗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涤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dí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俯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瞰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kàn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遏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制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è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音辨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口号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hào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           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颤栗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zhà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号                                                  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呼号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h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o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           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颤抖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chà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似辨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点缀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zhuì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          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濒临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bī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啜泣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chuò)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                  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频率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(pí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 2050"/>
          <p:cNvSpPr/>
          <p:nvPr/>
        </p:nvSpPr>
        <p:spPr>
          <a:xfrm flipH="1">
            <a:off x="1247040" y="3005280"/>
            <a:ext cx="298440" cy="130644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 2050"/>
          <p:cNvSpPr/>
          <p:nvPr/>
        </p:nvSpPr>
        <p:spPr>
          <a:xfrm flipH="1">
            <a:off x="5088960" y="3005280"/>
            <a:ext cx="298440" cy="130644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 2050"/>
          <p:cNvSpPr/>
          <p:nvPr/>
        </p:nvSpPr>
        <p:spPr>
          <a:xfrm flipH="1">
            <a:off x="1247040" y="4857840"/>
            <a:ext cx="298440" cy="91584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 2050"/>
          <p:cNvSpPr/>
          <p:nvPr/>
        </p:nvSpPr>
        <p:spPr>
          <a:xfrm flipH="1">
            <a:off x="5088960" y="4857840"/>
            <a:ext cx="298440" cy="91584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内容占位符 3" descr=""/>
          <p:cNvPicPr/>
          <p:nvPr/>
        </p:nvPicPr>
        <p:blipFill>
          <a:blip r:embed="rId1"/>
          <a:stretch/>
        </p:blipFill>
        <p:spPr>
          <a:xfrm>
            <a:off x="1081080" y="1805040"/>
            <a:ext cx="2571840" cy="285732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4"/>
          <p:cNvSpPr/>
          <p:nvPr/>
        </p:nvSpPr>
        <p:spPr>
          <a:xfrm>
            <a:off x="4327560" y="12733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严文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1915--2005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原名严文锦。湖北武昌人。当代作家、散文家、著名儿童文学家。著有《南南和胡子伯伯》、《丁丁的一次奇怪旅行》等。中共党员，《人民文学》主编，人民文学出版社社长、总编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合作探究 生成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初读课文，理清文章论述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第一层：（第一自然段）谈生命的易逝，表现出人对生命的无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第二层（第二至四自然段）通过小草和牛犊具体表现生命永久不朽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第三层（第五自然段）了解生命的真实意义，联系现实生活，高唱生命的凯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再读课文，理解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42800" y="1172880"/>
            <a:ext cx="11398320" cy="50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第一段末尾写道：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在这件事上我们都是这样可怜！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为什么这样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因为过去了的日子永不会再回来，你的力量是那样小，对于生命上的事你丝毫不能做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第二段文章用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地面上的小草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比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生命自身的伟大：生命能够不绝地创造新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最后一段说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我们了解了生命的真实意义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，你觉得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生命的真实意义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生命是永久的、不朽的，它能永远给世界以色彩、永远给世界以芬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作者对生命本质有怎样的认识？谈谈你的理解，学生自己探索，自由发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39720" y="1825200"/>
            <a:ext cx="109728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每一个人的生命虽然是卑微、柔软的，但整个人类的生命却是无穷无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生命的道路是曲折的，要经历种种磨难。但它是强大的，永久不朽，不能被任何的艰难困苦所阻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我们每个人的生命是有限的，要用有限的生命去创造无限的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我们都应该以积极的态度去面对人生，去创造美好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珍惜时间，珍爱生命，做有意义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868f"/>
                </a:solidFill>
                <a:latin typeface="Arial"/>
              </a:rPr>
              <a:t>当堂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下列加点字注音完全正确的一项是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写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意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xiě)       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倘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tǎ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飓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风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jiù)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遏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制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è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松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懈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xiè)       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俯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瞰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k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频临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pīn)      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</a:rPr>
              <a:t>震颤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(chà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"/>
          <p:cNvSpPr/>
          <p:nvPr/>
        </p:nvSpPr>
        <p:spPr>
          <a:xfrm>
            <a:off x="7985160" y="2263680"/>
            <a:ext cx="103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4T11:36:27Z</dcterms:created>
  <dc:creator>admin</dc:creator>
  <dc:description/>
  <dc:language>en-US</dc:language>
  <cp:lastModifiedBy>admin</cp:lastModifiedBy>
  <dcterms:modified xsi:type="dcterms:W3CDTF">2017-07-24T14:44:30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