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292-3E24-4966-BB48-0A2BCB5D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424116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DC9-0587-40D8-BF81-F536E68A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F28-3D7A-4024-81FE-730B22A8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252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252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CA5-B297-4B2A-9C4F-9455FACA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7CE9-31CE-4CAE-8621-CF4A6820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76CB-2852-462D-9792-7F97CA1D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937-55D4-4EE5-AA8A-AFCFE22B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6228-CDE1-4FE8-B85F-8F42DC8F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224A-740A-46CC-8318-0485F8BC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2200" y="68544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C271-D5A6-4B80-9D82-DCBDCFF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36A-5094-4466-BF8C-40F3BB80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0D9-89D5-4B72-B61B-D6108128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3E69-6A6A-4EF0-81D3-B4DFF5BF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F89A-D0C0-4B6E-B636-82A8AACC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4360" y="424116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A7F1-E1E2-4726-961E-CFF89964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B9B-08EC-4955-866B-1D8B21CF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2520" y="198072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436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44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2520" y="4241160"/>
            <a:ext cx="25034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A938-189D-4E92-A73C-EDD6829B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16F-CAD4-4113-ACE3-74B6E020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815-2DAA-4EC9-9FEC-74FF1ACF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DF5-A08F-49A4-B8E6-3893FBCD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200" y="685440"/>
            <a:ext cx="7777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16F-5D8F-4109-BD49-21DECD21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7DF-9893-47CD-B182-26B17DA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116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B149-F8A7-415A-8881-4C1646DB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404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4241160"/>
            <a:ext cx="777528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88FC-C6F6-4B47-903E-FA64C0F8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16680" indent="-237240">
              <a:lnSpc>
                <a:spcPct val="130000"/>
              </a:lnSpc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948600" indent="-18972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328040" indent="-189720">
              <a:lnSpc>
                <a:spcPct val="130000"/>
              </a:lnSpc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707480" indent="-18972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707480" indent="-189720">
              <a:lnSpc>
                <a:spcPct val="130000"/>
              </a:lnSpc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707480" indent="-189720">
              <a:lnSpc>
                <a:spcPct val="130000"/>
              </a:lnSpc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5E4D-E68B-4B1F-9F55-ED8E0D4A8DA9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8B73-A599-4409-A8C9-DBD33A9CAD6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4582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9685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V="1">
            <a:off x="2050920" y="622080"/>
            <a:ext cx="42498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ts val="3498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410080"/>
            <a:ext cx="55623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421000"/>
            <a:ext cx="45356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2133720"/>
            <a:ext cx="4032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季羡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404640"/>
            <a:ext cx="50162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498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ts val="3498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357720"/>
            <a:ext cx="7775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让我们静下心来，敞开胸怀，尽情地与古今中外的名人对话，体悟他们深邃的思想和伟大的情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18600" y="6922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幽径悲剧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1989000"/>
            <a:ext cx="205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愚   氓　　　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世   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燕园中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2276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3213000"/>
            <a:ext cx="792360" cy="144720"/>
          </a:xfrm>
          <a:prstGeom prst="rightArrow">
            <a:avLst>
              <a:gd name="adj1" fmla="val 50000"/>
              <a:gd name="adj2" fmla="val 13687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24000" y="47242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948360" y="2276640"/>
            <a:ext cx="287640" cy="2665080"/>
          </a:xfrm>
          <a:custGeom>
            <a:avLst/>
            <a:gdLst>
              <a:gd name="textAreaLeft" fmla="*/ 0 w 287640"/>
              <a:gd name="textAreaRight" fmla="*/ 103680 w 287640"/>
              <a:gd name="textAreaTop" fmla="*/ 69480 h 2665080"/>
              <a:gd name="textAreaBottom" fmla="*/ 2595600 h 26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146160" y="6095880"/>
            <a:ext cx="929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更是时代悲剧、民族悲剧、人性悲剧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藤萝的悲剧，让作者心生悲痛，难道他仅仅是为这一棵藤萝而悲伤吗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3357720"/>
            <a:ext cx="360360" cy="2592360"/>
          </a:xfrm>
          <a:custGeom>
            <a:avLst/>
            <a:gdLst>
              <a:gd name="textAreaLeft" fmla="*/ 0 w 360360"/>
              <a:gd name="textAreaRight" fmla="*/ 129960 w 36036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24360" y="4005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美忽视否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43280" y="2060640"/>
            <a:ext cx="2739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毁灭藤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争名于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争利于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决不会注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决不会关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决不会伤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70028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美毁灭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16360" y="2276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2060640"/>
            <a:ext cx="147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这不仅是藤萝的悲剧，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11280" y="476280"/>
            <a:ext cx="324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鲁迅先生说：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280" y="2276640"/>
            <a:ext cx="820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悲剧”就是美的毁灭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2276640"/>
            <a:ext cx="1081080" cy="18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04000" y="2133720"/>
            <a:ext cx="1871640" cy="20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58920" y="4581360"/>
            <a:ext cx="691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越美的东西被毁灭，</a:t>
            </a:r>
            <a:endParaRPr b="1" lang="en-US" sz="24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其悲剧性就越强烈。</a:t>
            </a:r>
            <a:endParaRPr b="1" lang="en-US" sz="24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68360" y="62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走进大师心灵深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2924280"/>
            <a:ext cx="777564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俗话说“男儿有泪不轻弹”，身为北大教授的季老却常常为一些小动植物而落泪，你怎样看待其人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32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“我自己的性格制造的这样一个十字架，只有我自己来背了。奈何奈何！”“但是，我愿意把这个十字架背下去，永远永远地背下去。”这里的“十字架”是什么呢？为什么作者要背下去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133720"/>
            <a:ext cx="8642160" cy="13129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这里的十字架指的是“揭露悲剧、维护真善美的责任”，作者深感到社会对于“愚氓”毁灭美丽的现象还没有引起起码的重视，呼唤社会群体爱美护美意识的提高，自己愿意承担起呼唤人们重视美，保护美的责任，表现了作者矢志维护真、善、美的决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781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40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走进大师心灵深处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773360"/>
            <a:ext cx="6265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谴责愚氓灭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关爱生命、敬畏生命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实际行动爱美、护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8360" y="4329000"/>
            <a:ext cx="8459640" cy="2531880"/>
          </a:xfrm>
          <a:prstGeom prst="rect">
            <a:avLst/>
          </a:prstGeom>
          <a:gradFill rotWithShape="0">
            <a:gsLst>
              <a:gs pos="0">
                <a:srgbClr val="ffffff">
                  <a:alpha val="44313"/>
                </a:srgbClr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自己</a:t>
            </a:r>
            <a:r>
              <a:rPr b="1" lang="zh-CN" sz="44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丰富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才能感知世界的丰富，自己</a:t>
            </a:r>
            <a:r>
              <a:rPr b="1" lang="zh-CN" sz="44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善良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才能感知世界的美好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隶书"/>
                <a:ea typeface="隶书"/>
              </a:rPr>
              <a:t>　　　　　　　　</a:t>
            </a:r>
            <a:r>
              <a:rPr b="0" lang="en-US" sz="3600" spc="-1" strike="noStrike">
                <a:solidFill>
                  <a:srgbClr val="0033cc"/>
                </a:solidFill>
                <a:latin typeface="隶书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王蒙</a:t>
            </a:r>
            <a:r>
              <a:rPr b="1" lang="zh-CN" sz="7200" spc="-1" strike="noStrike">
                <a:solidFill>
                  <a:srgbClr val="0033cc"/>
                </a:solidFill>
                <a:latin typeface="隶书"/>
                <a:ea typeface="隶书"/>
              </a:rPr>
              <a:t>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2310480"/>
            <a:ext cx="9158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【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颁奖词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】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智者乐，仁者寿，长者随心所欲。曾经的红衣少年，如今的白发先生，留得十年寒窗苦，牛棚杂忆密辛多。心有良知璞玉，笔下道德文章。一介布衣，言有物，行有格，贫贱不移，宠辱不惊。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0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感动中国十大人物之一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63640" y="692280"/>
            <a:ext cx="50259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Times New Roman"/>
                <a:ea typeface="隶书"/>
              </a:rPr>
              <a:t>课堂小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346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本文描绘了幽径藤萝之美和置身其中的情味，揭露了令人无比痛心的愚氓灭美的现实，抒发作者了矢志维护真、善、美的决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581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悲剧反思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56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同学们想想在我们生活的周围是不是也有类似的悲剧发生呢？（试举两例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765000"/>
            <a:ext cx="7489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这里曾经一碧万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碧波荡漾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838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0920" y="549360"/>
            <a:ext cx="70578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而如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湖水混浊，鱼儿死去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90792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季羡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1911- 2009)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山东清平县人。北京大学教授、中科院院士、中国语言学家、文学翻译家，世人称其为“学界泰斗”、“一代宗师”，是国内外公认的“东方学大师”，梵文、巴利文专家。他精通英语、德语、梵语、巴利语、吐火罗语，还能阅读法语、俄语书籍。在语言学、文化学、历史学、佛教学、印度学和比较文学等方面卓有建树。他曾长期致力于梵文的研究和翻译，还创作了许多散文作品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　　他是“学界泰斗”、“一代宗师”，是国内外公认的“东方学大师”，梵文、巴利文专家，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12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1280" y="333360"/>
            <a:ext cx="6048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这里曾经绿草如茵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牛儿满坡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68360" y="76500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而如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戈壁荒滩，枯木无语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4653000"/>
            <a:ext cx="6769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这里曾经林木遮天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生意盎然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2200" y="68544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77528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549360"/>
            <a:ext cx="84596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而如今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浓烟滚滚，满山荒芜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4360" y="148392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任何一株草的死亡都是人的死亡。    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任何一棵树的夭折都是人的夭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任何一只虫的鸣叫也是人的鸣叫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                                  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刘亮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5072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黑体"/>
              </a:rPr>
              <a:t>重点字词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270080"/>
            <a:ext cx="475308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蜿蜒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潋滟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抖擞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猬集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惆怅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荆棘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虬干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	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摇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悚然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愚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66000" y="162864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ā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á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97800" y="1628640"/>
            <a:ext cx="18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ià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àn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87960" y="24922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dǒu sǒu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1080" y="256536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wèi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3600" y="3357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óu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hàng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1440" y="3357720"/>
            <a:ext cx="11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īng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jí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6160" y="414972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qi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70160" y="42210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y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3080" y="4941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ǒ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9600" y="49417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éng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9280" y="4221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在北大燕园内，作者自家住处附近一条幽径上的一株古藤萝被毁灭的悲剧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77336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12"/>
                </a:solidFill>
                <a:latin typeface="Arial"/>
              </a:rPr>
              <a:t>用最简洁的语言概括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12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c0c12"/>
                </a:solidFill>
                <a:latin typeface="Arial"/>
              </a:rPr>
              <a:t>在北大校园的</a:t>
            </a:r>
            <a:r>
              <a:rPr b="1" lang="zh-CN" sz="4400" spc="-1" strike="noStrike" u="sng">
                <a:solidFill>
                  <a:srgbClr val="0c0c12"/>
                </a:solidFill>
                <a:uFillTx/>
                <a:latin typeface="Arial"/>
              </a:rPr>
              <a:t>幽径</a:t>
            </a:r>
            <a:r>
              <a:rPr b="1" lang="zh-CN" sz="4400" spc="-1" strike="noStrike">
                <a:solidFill>
                  <a:srgbClr val="0c0c12"/>
                </a:solidFill>
                <a:latin typeface="Arial"/>
              </a:rPr>
              <a:t>上，究竟发生了什么</a:t>
            </a:r>
            <a:r>
              <a:rPr b="1" lang="zh-CN" sz="4400" spc="-1" strike="noStrike" u="sng">
                <a:solidFill>
                  <a:srgbClr val="0c0c12"/>
                </a:solidFill>
                <a:uFillTx/>
                <a:latin typeface="Arial"/>
              </a:rPr>
              <a:t>悲剧</a:t>
            </a:r>
            <a:r>
              <a:rPr b="1" lang="zh-CN" sz="4400" spc="-1" strike="noStrike">
                <a:solidFill>
                  <a:srgbClr val="0c0c12"/>
                </a:solidFill>
                <a:latin typeface="Arial"/>
              </a:rPr>
              <a:t>？</a:t>
            </a:r>
            <a:r>
              <a:rPr b="0" lang="zh-CN" sz="4400" spc="-1" strike="noStrike">
                <a:solidFill>
                  <a:srgbClr val="0c0c1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0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整体感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2781360"/>
            <a:ext cx="14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  <a:ea typeface="楷体_GB2312"/>
              </a:rPr>
              <a:t>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170028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形：盘曲而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香：“蓦地”扑鼻之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声：“袭入耳内”的蜜蜂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色：万绿丛中一点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292640"/>
            <a:ext cx="48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：与大树和睦相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善：阅尽沧桑，幸免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难，从无害人之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773360"/>
            <a:ext cx="288720" cy="1873080"/>
          </a:xfrm>
          <a:custGeom>
            <a:avLst/>
            <a:gdLst>
              <a:gd name="textAreaLeft" fmla="*/ 0 w 288720"/>
              <a:gd name="textAreaRight" fmla="*/ 104040 w 288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1557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楷体_GB2312"/>
              </a:rPr>
              <a:t>作者的感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52040" y="2276640"/>
            <a:ext cx="1155240" cy="45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顾而乐之  安慰   留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4437000"/>
            <a:ext cx="288720" cy="1368360"/>
          </a:xfrm>
          <a:custGeom>
            <a:avLst/>
            <a:gdLst>
              <a:gd name="textAreaLeft" fmla="*/ 0 w 288720"/>
              <a:gd name="textAreaRight" fmla="*/ 104040 w 288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83800" y="2133720"/>
            <a:ext cx="11552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外在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83800" y="4365720"/>
            <a:ext cx="11552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内在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609588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藤萝就是真善美的化身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280" y="0"/>
            <a:ext cx="536436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毁前的藤萝，美在哪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对它的情感是怎样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24000" y="1916280"/>
            <a:ext cx="647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58920" y="3284640"/>
            <a:ext cx="504720" cy="1800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515772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楷体_GB2312"/>
              </a:rPr>
              <a:t>作者的感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4797360"/>
            <a:ext cx="2771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惹起了万斛闲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痛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悲哀至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0"/>
            <a:ext cx="86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藤萝被毁后又是怎样的惨状？找出描写的语言</a:t>
            </a:r>
            <a:r>
              <a:rPr b="1" lang="en-US" sz="4400" spc="-1" strike="noStrike">
                <a:solidFill>
                  <a:srgbClr val="0033cc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0033cc"/>
                </a:solidFill>
                <a:latin typeface="隶书"/>
                <a:ea typeface="隶书"/>
              </a:rPr>
              <a:t>并体会作者的情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2421000"/>
            <a:ext cx="79236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2951280"/>
            <a:ext cx="720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声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527280"/>
            <a:ext cx="208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情：（花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410364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情：（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1080" y="2519280"/>
            <a:ext cx="287280" cy="1944720"/>
          </a:xfrm>
          <a:custGeom>
            <a:avLst/>
            <a:gdLst>
              <a:gd name="textAreaLeft" fmla="*/ 0 w 287280"/>
              <a:gd name="textAreaRight" fmla="*/ 103680 w 287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9080" y="2519280"/>
            <a:ext cx="216000" cy="2016360"/>
          </a:xfrm>
          <a:custGeom>
            <a:avLst/>
            <a:gdLst>
              <a:gd name="textAreaLeft" fmla="*/ 63360 w 216000"/>
              <a:gd name="textAreaRight" fmla="*/ 216360 w 216000"/>
              <a:gd name="textAreaTop" fmla="*/ 159840 h 2016360"/>
              <a:gd name="textAreaBottom" fmla="*/ 185652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17080" y="2708280"/>
            <a:ext cx="3603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催人泪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47760" y="2359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花朵－－孤儿、吊死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2924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哭泣、哭泣、哭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62320" y="3527280"/>
            <a:ext cx="36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万分委屈、投诉无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103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极度痛苦、悲哀至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93080" y="306864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藤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悲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6000" y="5013360"/>
            <a:ext cx="73080" cy="1466640"/>
          </a:xfrm>
          <a:custGeom>
            <a:avLst/>
            <a:gdLst>
              <a:gd name="textAreaLeft" fmla="*/ 21240 w 73080"/>
              <a:gd name="textAreaRight" fmla="*/ 73440 w 73080"/>
              <a:gd name="textAreaTop" fmla="*/ 116280 h 1466640"/>
              <a:gd name="textAreaBottom" fmla="*/ 1350360 h 146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88000" y="2852640"/>
            <a:ext cx="4356000" cy="400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4076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716360" y="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66"/>
                </a:solidFill>
                <a:latin typeface="Arial"/>
                <a:ea typeface="华文新魏"/>
              </a:rPr>
              <a:t>对比突出其悲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88000" y="1197000"/>
            <a:ext cx="43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这里曾经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2060640"/>
            <a:ext cx="4248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小园香径独徘徊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4508640"/>
            <a:ext cx="2952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而如今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  <a:ea typeface="华文新魏"/>
              </a:rPr>
              <a:t>…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37372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华文新魏"/>
              </a:rPr>
              <a:t>断根残枝空悲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133720"/>
            <a:ext cx="72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华文新魏"/>
                <a:ea typeface="华文新魏"/>
              </a:rPr>
              <a:t>幽径之美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773360"/>
            <a:ext cx="73080" cy="3960720"/>
          </a:xfrm>
          <a:custGeom>
            <a:avLst/>
            <a:gdLst>
              <a:gd name="textAreaLeft" fmla="*/ 46800 w 73080"/>
              <a:gd name="textAreaRight" fmla="*/ 73440 w 7308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2565360"/>
            <a:ext cx="71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湖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24000" y="1700280"/>
            <a:ext cx="49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"/>
                <a:ea typeface="华文楷体"/>
              </a:rPr>
              <a:t>春：小花生命灿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"/>
                <a:ea typeface="华文楷体"/>
              </a:rPr>
              <a:t>夏：绿阴浓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"/>
                <a:ea typeface="华文楷体"/>
              </a:rPr>
              <a:t>秋：枫叶变红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"/>
                <a:ea typeface="华文楷体"/>
              </a:rPr>
              <a:t>　松柏相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544500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－－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楷体"/>
              </a:rPr>
              <a:t>夏：绿叶红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3284640"/>
            <a:ext cx="259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华文楷体"/>
                <a:ea typeface="华文楷体"/>
              </a:rPr>
              <a:t>白雪覆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冬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7572"/>
                </a:solidFill>
                <a:latin typeface="华文楷体"/>
                <a:ea typeface="华文楷体"/>
              </a:rPr>
              <a:t>绿色更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1916280"/>
            <a:ext cx="142920" cy="2089080"/>
          </a:xfrm>
          <a:custGeom>
            <a:avLst/>
            <a:gdLst>
              <a:gd name="textAreaLeft" fmla="*/ 91440 w 142920"/>
              <a:gd name="textAreaRight" fmla="*/ 143280 w 14292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00720" y="2852640"/>
            <a:ext cx="2592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突出“绿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重在表现浓烈勃发的生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6000" y="1916280"/>
            <a:ext cx="431640" cy="3887640"/>
          </a:xfrm>
          <a:custGeom>
            <a:avLst/>
            <a:gdLst>
              <a:gd name="textAreaLeft" fmla="*/ 0 w 431640"/>
              <a:gd name="textAreaRight" fmla="*/ 155880 w 43164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6095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目的：用幽径四季之美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隶书"/>
              </a:rPr>
              <a:t>衬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藤萝的美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文章在写这一株古藤萝之前还有大量的篇幅在写什么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作者写这些内容的目的何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4000" y="1995480"/>
            <a:ext cx="718920" cy="28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Times New Roman"/>
              </a:rPr>
              <a:t>幽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Times New Roman"/>
              </a:rPr>
              <a:t>径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Times New Roman"/>
              </a:rPr>
              <a:t>悲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33cc"/>
                </a:solidFill>
                <a:latin typeface="Times New Roman"/>
              </a:rPr>
              <a:t>剧</a:t>
            </a:r>
            <a:endParaRPr b="0" lang="en-US" sz="37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125360"/>
            <a:ext cx="576360" cy="4032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6000" y="620640"/>
            <a:ext cx="144360" cy="792360"/>
          </a:xfrm>
          <a:custGeom>
            <a:avLst/>
            <a:gdLst>
              <a:gd name="textAreaLeft" fmla="*/ 42480 w 144360"/>
              <a:gd name="textAreaRight" fmla="*/ 144360 w 144360"/>
              <a:gd name="textAreaTop" fmla="*/ 62640 h 792360"/>
              <a:gd name="textAreaBottom" fmla="*/ 72972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170028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形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2349360"/>
            <a:ext cx="165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香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170028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色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2349360"/>
            <a:ext cx="93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声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1917720"/>
            <a:ext cx="216000" cy="201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159840 h 2016000"/>
              <a:gd name="textAreaBottom" fmla="*/ 185616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80360" y="620640"/>
            <a:ext cx="36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为　悲　剧　蓄　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77080" y="693720"/>
            <a:ext cx="360360" cy="3240000"/>
          </a:xfrm>
          <a:custGeom>
            <a:avLst/>
            <a:gdLst>
              <a:gd name="textAreaLeft" fmla="*/ 0 w 360360"/>
              <a:gd name="textAreaRight" fmla="*/ 129960 w 3603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4267080"/>
            <a:ext cx="79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4797360"/>
            <a:ext cx="72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声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5373720"/>
            <a:ext cx="208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情：（花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5950080"/>
            <a:ext cx="216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情：（人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956720" y="4365720"/>
            <a:ext cx="287280" cy="1944720"/>
          </a:xfrm>
          <a:custGeom>
            <a:avLst/>
            <a:gdLst>
              <a:gd name="textAreaLeft" fmla="*/ 0 w 287280"/>
              <a:gd name="textAreaRight" fmla="*/ 103680 w 287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4365720"/>
            <a:ext cx="216000" cy="2016000"/>
          </a:xfrm>
          <a:custGeom>
            <a:avLst/>
            <a:gdLst>
              <a:gd name="textAreaLeft" fmla="*/ 63360 w 216000"/>
              <a:gd name="textAreaRight" fmla="*/ 216360 w 216000"/>
              <a:gd name="textAreaTop" fmla="*/ 159840 h 2016000"/>
              <a:gd name="textAreaBottom" fmla="*/ 185616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8360" y="4481640"/>
            <a:ext cx="3603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揭示主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32960" y="47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幽径不可等闲视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80000" y="105264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幽径的四季之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50960" y="42051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花朵－－孤儿、吊死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4869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哭泣、哭泣、哭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57600" y="5373720"/>
            <a:ext cx="36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万分委屈、投诉无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595008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极度痛苦、悲哀至极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333360"/>
            <a:ext cx="12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幽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之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565360"/>
            <a:ext cx="113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藤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之美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49417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藤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悲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48000" y="285264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和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善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…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20606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外在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3284640"/>
            <a:ext cx="13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内在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844640"/>
            <a:ext cx="144360" cy="792360"/>
          </a:xfrm>
          <a:custGeom>
            <a:avLst/>
            <a:gdLst>
              <a:gd name="textAreaLeft" fmla="*/ 42480 w 144360"/>
              <a:gd name="textAreaRight" fmla="*/ 144360 w 144360"/>
              <a:gd name="textAreaTop" fmla="*/ 62640 h 792360"/>
              <a:gd name="textAreaBottom" fmla="*/ 72972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3068640"/>
            <a:ext cx="144360" cy="792000"/>
          </a:xfrm>
          <a:custGeom>
            <a:avLst/>
            <a:gdLst>
              <a:gd name="textAreaLeft" fmla="*/ 42480 w 144360"/>
              <a:gd name="textAreaRight" fmla="*/ 144360 w 144360"/>
              <a:gd name="textAreaTop" fmla="*/ 62640 h 792000"/>
              <a:gd name="textAreaBottom" fmla="*/ 7293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713"/>
                  <a:pt x="0" y="3426"/>
                </a:cubicBezTo>
                <a:lnTo>
                  <a:pt x="0" y="18174"/>
                </a:lnTo>
                <a:cubicBezTo>
                  <a:pt x="0" y="19887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14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结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7:19:45Z</dcterms:created>
  <dc:creator>zyy</dc:creator>
  <dc:description/>
  <dc:language>en-US</dc:language>
  <cp:lastModifiedBy>User</cp:lastModifiedBy>
  <dcterms:modified xsi:type="dcterms:W3CDTF">2013-11-20T23:15:43Z</dcterms:modified>
  <cp:revision>147</cp:revision>
  <dc:subject/>
  <dc:title>第二章  鲁迅及其小说</dc:title>
</cp:coreProperties>
</file>