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3F35-7A50-48F7-87DE-A2E5D787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D96-5EF5-4D05-906E-66B3CC5B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ECF50-4FB3-4D18-AB17-A795ACF8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78044-6AEF-4B9E-9B19-6315A6D7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EDE3F-42D2-474B-8770-DB52FEDB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523B9-17C0-4161-8318-561A673C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AFE11-6117-405C-BA31-116B7945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F9E06-4432-46F5-B04B-0B7684FE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7A241-1289-4406-B341-EF038634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FC25A-C449-4E5F-957B-2D4CEACF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B3FA9-E653-4A2E-8587-0489391D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67D61B-7B58-4A5D-86D8-5FAE2410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FB59-3EB4-4CE6-A7D8-9362DA0F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0CD89B-ECCE-450C-BA65-01B88F18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C954A1-F7BD-46DA-8987-3770670F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553349-3E82-4CD5-B62E-C41C53C6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37FE76-540A-494D-A4F1-18BDEC7A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3FA943-FE9B-45F3-A4BB-359C20C5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3FCB0B-B417-4202-AA6E-24628C15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21F130-06E2-4C15-A6E6-46D2E971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CDC361-F3A7-41A8-A3EB-3DCFFEEE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4D0D64-BCE9-46CE-A266-D94A41C9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6599EB-2DE8-4769-B139-E9B1508D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A3ED-9A2A-4CA6-9D6E-A945B007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4457E1-B9EE-4167-8304-36037B32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074E9-B3A9-485C-A069-22EF490A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C95C5-53F8-4D6E-A5DF-10BA38B0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F42E5-4B35-496C-BE00-2EA54476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D16AE-CC99-4BAB-9A7B-0B489EDB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3C8F0-FDC7-4B7C-8F91-6BA7D4D1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64408-A775-48F3-ACB8-CDDAEC53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B5EF0-5ED7-4427-A339-DE6B3615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02018-465D-47BB-917D-CCC55C1A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69A1D-E5DC-4FB1-A72A-B67D721C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F220E-B0CB-49E1-BB57-39EF3A17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25C6C-E273-4A3A-A395-647B2871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18FE0-3480-48E2-A5D9-24B07BAF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7BDAF-73FF-4CCD-A1DF-F22236FB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7831C5-592F-42CD-9A26-0EC5EC6E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571D8C-B9B2-4DE6-88FF-B411963D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3CF4F3-5BC0-4DD0-B693-0B4ABDCD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25F697-6AC6-46ED-9C91-C95E6D0D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EBF785-9174-4D74-ADEB-607AB1C7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098C31-0124-47D7-9DC0-46C1169D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3B14AA-0DC5-4EE5-9890-EDB03DB8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DFD56-424A-4C69-8748-2512BE05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EB1E88-2BF9-4287-95B1-B5387034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07F2DE-3973-43F7-A2C3-7D84CD6B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B7A4A3-61BC-4725-9B66-6628BDE0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E1F96E-CCF8-4992-BE59-9E4EE38F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E9DF1C8-A00F-4AED-9EAA-728C3AB1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9AC96-1F99-42A0-BBC9-398263E6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5AA40-49DB-4314-B2D2-BCB83F78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0C369-5D15-4390-B571-19EE1D54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902AE-EF7D-4EC2-9CB1-66613527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4CA53-2621-4CF3-B9D0-CC75CCEB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BF98-F0C7-49DC-8FDD-63E1947D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7BFB3-7DD3-45A3-A341-E46B0FCC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83C52-E4D5-4871-BF4C-A3C23E8C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8FB49-1CC1-4AF9-8D6A-A0402D0D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4DADD-D779-4415-A9F9-3E80260D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D5EAD-7229-406E-82FE-A6FADACD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0EED3-63AA-4F8E-9E5B-C40741AE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36C25-8A56-4AA1-8A5A-92253390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7603A-D4B1-4A22-AAD1-67410E5B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C76B2-C6DF-45A8-82BC-38A81AF4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19318-9C70-4013-8FAE-81B44654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2CA8-13A5-424F-BAA9-B99A047A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E937F-7ED5-40C4-90BF-7780EAE9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A5C70-3BF9-4975-B55C-B8952F21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A7DF1-D2AA-4358-8151-975172C3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51D7AF-5397-463B-AD1B-2B487BE7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268D7-614F-4E1C-8119-21D26703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D8B14-A132-4B06-808A-EE383D9A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6CF91-9F04-4454-86BF-0BF85EEE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E5A15-5874-4C5C-AE9D-2E348940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D4ED0-C14B-401C-89FA-164C14AD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FF37D-EBAC-4EE4-91DA-1FC6FFC5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DD2-536B-463D-9013-9B7015A6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5E366-0D4A-44C8-8D10-AAD34986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1960F-7055-41D7-86DC-002FAC67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5B4E7-92F9-401D-AB6B-9F89F285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2F142-3148-4C0F-8611-7FAC3AC8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A93D0-2952-445E-9FB2-99FA231B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37038-93DE-44D1-923B-ECD43B1F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09521-BC02-4A2E-B011-48A057DE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CC48F-24CB-4A92-8D45-D4477F6D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ECECD-24C4-44FE-8E55-B5E2B0E3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4F0AB-E9EB-44E9-884B-6663527B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120-D547-4328-B1F1-AB62008B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670ED-3520-416D-8718-B838E5CD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41CB9-5AB2-4686-BD45-6B773C28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FE2C6-F586-42C9-AF18-8F7876F1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110A3-9A54-4CC7-8CB7-E44F4F7C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75311-C496-4F88-83B5-15D3E514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7ED2D-A476-4688-A884-D029714E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4E518-B16F-426C-8B6B-10F85CCE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E0661-B6F1-432F-A6D1-0B08922F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7D777-C53C-42D5-A2D6-DF37455F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F82A8-4860-46DF-AEE2-46787B1F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4FE-20E7-45B7-98AD-4216232A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5DC5B-E13A-48C5-94EB-0C02D49F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7EDE7-FDF5-47E0-BD34-5BB08851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A2C8C-6C41-4F17-BB4A-5D54F1D7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37FC1-C7F1-4159-B0BD-B24503AD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13B15-E64D-4FCA-BA45-A5E58C05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2E4B9-1768-42E0-B5D1-37870047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ADC43-F741-4C02-961A-416BB3A8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ECA4B-E0D8-450E-9500-E09AC6A3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DBF68-5A3E-4C1A-B50F-D504160E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AF6C9-E32E-4CA3-AF9C-C974E5A2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5531-42AA-4737-B7ED-58861BE0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C8859-220F-4166-BE94-ABF43361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891A6-D2A6-4015-AC95-0ABB1FD2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2B9EB-8167-4A47-B474-EFD26A3A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BC295-F681-4F08-A7F1-40716B36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D63F5-ACF2-4374-8C2A-E2FB52CD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8B32E-CC3C-4A14-B116-C2D634C1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1F46D-CD80-4A4C-93A2-5AE49F29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5F5F1-4732-471D-BE1C-0F62777B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D6441-0613-4EFA-A334-E7B23931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006FB-3156-4F46-AE10-DFC17163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21CA-96E5-4775-AD3B-7F9D7D05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B1EEB-7D20-4088-B7F9-9646CCCB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97C70-114E-43E4-8305-BF905282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E3C71-5D95-461F-8858-8BCF81EB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8A4BB-02EB-4400-92D4-8B493269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4CADB-9CBC-46F9-B92B-FFB1F487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CC46C-AC76-4497-A2C2-756C0A12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38D7C-4568-4692-8B60-BB4D1400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B194A-58D9-4729-ABD2-672F40DA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C27F0-7B59-44C4-AF20-9E7A9C31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DE456-CAFA-496A-81EE-B5DF5BFA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6177-A30C-4107-B6F1-252427DD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9C42D-EBA6-4E3A-A07D-A9237ADF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ECA95-516F-4FEA-93B6-B864375A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43652-1909-4CBB-9C14-41B66BCB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36CF3-448D-4E34-ABFB-17A535D5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8053D-09E5-47B7-BBCD-D83A675F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EED80-E9FC-45FB-AC81-32C0CD1B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610AF-52E3-4BA6-BD61-65AEAFC7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80973-C04D-426D-989D-F402ED3B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90D8E-7728-4A96-9809-3B6ABD95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2AFD6-3EA2-4BAF-9A1C-6C818160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5EF7-F6CB-4ABA-B3CA-7C653A36F5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753E-BD8C-4B5E-BA04-E69BD722F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921D-45E6-4B21-B865-736043B45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BD5E-4A49-4132-B2E1-2032A939E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9A1C-CA0A-4E49-B913-4484522695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C3AA-C8F1-45ED-8CC7-DED4433D24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C4F0-C53B-43BA-9FE8-A4B4A75593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E9E5-57CD-4806-A115-2CB15360B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09B2-11FA-4846-A76A-DE0B26F3E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FB9A-AB91-4872-B41D-84BCF84856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EA8C-6A92-4F26-9449-0D57821FB8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6752-0CC3-492E-B7C6-81BC1CED5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xdczx.com.cn/ycjy/czpd/kczy/shang/yw/2/12/sj-kebiao/1/jasl.htm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2.xml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lub.chinaren.com/wrapper.html?msgid=156695470&amp;url=http://clubpic3.chinaren.com/uploadfile/200911/660/RZkYoGMk.jpg" TargetMode="External"/><Relationship Id="rId3" Type="http://schemas.openxmlformats.org/officeDocument/2006/relationships/image" Target="../media/image19.jpeg"/><Relationship Id="rId4" Type="http://schemas.openxmlformats.org/officeDocument/2006/relationships/hyperlink" Target="http://club.chinaren.com/wrapper.html?msgid=156695470&amp;url=http://clubpic3.chinaren.com/uploadfile/200911/327/DckYoVJk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club.chinaren.com/wrapper.html?msgid=156695470&amp;url=http://clubpic3.chinaren.com/uploadfile/200911/660/RvkYoGMk.jpg" TargetMode="External"/><Relationship Id="rId7" Type="http://schemas.openxmlformats.org/officeDocument/2006/relationships/image" Target="../media/image21.jpeg"/><Relationship Id="rId8" Type="http://schemas.openxmlformats.org/officeDocument/2006/relationships/hyperlink" Target="http://club.chinaren.com/wrapper.html?msgid=156695470&amp;url=http://clubpic3.chinaren.com/uploadfile/200911/495/WukYoGFx.jpg" TargetMode="External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5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5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5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5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zbauto.com.cn/Pic/2006-08-08/TT_14385_1.htm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0" name="01300000325139122931441771733[1]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3" name="bb5b561c54706c968839ed0524aef04c[1]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image01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860436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8537040" y="765000"/>
            <a:ext cx="6069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吊　　　死　　　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8" name="图片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626920" y="333360"/>
            <a:ext cx="4319640" cy="103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318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ff"/>
                </a:solidFill>
                <a:latin typeface="Verdana"/>
              </a:rPr>
              <a:t>悲剧梗概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"/>
          <p:cNvSpPr/>
          <p:nvPr/>
        </p:nvSpPr>
        <p:spPr>
          <a:xfrm>
            <a:off x="179280" y="422100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在北大燕园内，作者自家住处附近一条幽径上的一株古藤萝的悲剧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24000" y="1773360"/>
            <a:ext cx="84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0c12"/>
                </a:solidFill>
                <a:latin typeface="Arial"/>
              </a:rPr>
              <a:t>用最简洁的语言概括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c0c12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c0c12"/>
                </a:solidFill>
                <a:latin typeface="Arial"/>
              </a:rPr>
              <a:t>在北大校园的</a:t>
            </a:r>
            <a:r>
              <a:rPr b="1" lang="en-US" sz="4400" spc="-1" strike="noStrike" u="sng">
                <a:solidFill>
                  <a:srgbClr val="0c0c12"/>
                </a:solidFill>
                <a:uFillTx/>
                <a:latin typeface="Arial"/>
              </a:rPr>
              <a:t>幽径</a:t>
            </a:r>
            <a:r>
              <a:rPr b="1" lang="en-US" sz="4400" spc="-1" strike="noStrike">
                <a:solidFill>
                  <a:srgbClr val="0c0c12"/>
                </a:solidFill>
                <a:latin typeface="Arial"/>
              </a:rPr>
              <a:t>上，究竟发生了什么</a:t>
            </a:r>
            <a:r>
              <a:rPr b="1" lang="en-US" sz="4400" spc="-1" strike="noStrike" u="sng">
                <a:solidFill>
                  <a:srgbClr val="0c0c12"/>
                </a:solidFill>
                <a:uFillTx/>
                <a:latin typeface="Arial"/>
              </a:rPr>
              <a:t>悲剧</a:t>
            </a:r>
            <a:r>
              <a:rPr b="1" lang="en-US" sz="4400" spc="-1" strike="noStrike">
                <a:solidFill>
                  <a:srgbClr val="0c0c12"/>
                </a:solidFill>
                <a:latin typeface="Arial"/>
              </a:rPr>
              <a:t>？</a:t>
            </a:r>
            <a:r>
              <a:rPr b="0" lang="en-US" sz="4400" spc="-1" strike="noStrike">
                <a:solidFill>
                  <a:srgbClr val="0c0c1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【第一幕】赏藤萝之美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755640" y="2708280"/>
            <a:ext cx="7632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课文从哪些方面描写藤萝之美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5877000"/>
            <a:ext cx="90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5" name="top1" descr=""/>
          <p:cNvPicPr/>
          <p:nvPr/>
        </p:nvPicPr>
        <p:blipFill>
          <a:blip r:embed="rId2"/>
          <a:stretch/>
        </p:blipFill>
        <p:spPr>
          <a:xfrm>
            <a:off x="0" y="5695920"/>
            <a:ext cx="9144000" cy="116208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179280" y="189000"/>
            <a:ext cx="896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18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8" name="Untitled-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395280" y="184392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9-10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两段文字，探究：作者为什么对这株藤萝情有独钟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523880" y="3643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826920" y="3429000"/>
            <a:ext cx="7129800" cy="103356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答：唯一的精神寄托和安慰．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92" name="">
            <a:hlinkClick r:id="rId2" action="ppaction://hlinksldjump"/>
          </p:cNvPr>
          <p:cNvSpPr/>
          <p:nvPr/>
        </p:nvSpPr>
        <p:spPr>
          <a:xfrm>
            <a:off x="8604360" y="5013360"/>
            <a:ext cx="539640" cy="684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84000"/>
              <a:gd name="textAreaBottom" fmla="*/ 649080 h 684000"/>
            </a:gdLst>
            <a:ahLst/>
            <a:rect l="textAreaLeft" t="textAreaTop" r="textAreaRight" b="textAreaBottom"/>
            <a:pathLst>
              <a:path w="21600" h="27374">
                <a:moveTo>
                  <a:pt x="0" y="0"/>
                </a:moveTo>
                <a:lnTo>
                  <a:pt x="21600" y="0"/>
                </a:lnTo>
                <a:lnTo>
                  <a:pt x="21600" y="27374"/>
                </a:lnTo>
                <a:lnTo>
                  <a:pt x="0" y="27374"/>
                </a:lnTo>
                <a:close/>
              </a:path>
              <a:path fill="lightenLess" w="21600" h="273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374">
                <a:moveTo>
                  <a:pt x="21600" y="0"/>
                </a:moveTo>
                <a:lnTo>
                  <a:pt x="21600" y="27374"/>
                </a:lnTo>
                <a:lnTo>
                  <a:pt x="20200" y="25974"/>
                </a:lnTo>
                <a:lnTo>
                  <a:pt x="20200" y="1400"/>
                </a:lnTo>
                <a:close/>
              </a:path>
              <a:path fill="darkenLess" w="21600" h="27374">
                <a:moveTo>
                  <a:pt x="21600" y="27374"/>
                </a:moveTo>
                <a:lnTo>
                  <a:pt x="0" y="27374"/>
                </a:lnTo>
                <a:lnTo>
                  <a:pt x="1400" y="25974"/>
                </a:lnTo>
                <a:lnTo>
                  <a:pt x="20200" y="25974"/>
                </a:lnTo>
                <a:close/>
              </a:path>
              <a:path fill="lighten" w="21600" h="27374">
                <a:moveTo>
                  <a:pt x="0" y="273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974"/>
                </a:lnTo>
                <a:close/>
              </a:path>
              <a:path fill="darken" w="21600" h="27374">
                <a:moveTo>
                  <a:pt x="3794" y="11294"/>
                </a:moveTo>
                <a:lnTo>
                  <a:pt x="8224" y="11294"/>
                </a:lnTo>
                <a:lnTo>
                  <a:pt x="12645" y="6681"/>
                </a:lnTo>
                <a:lnTo>
                  <a:pt x="12645" y="20694"/>
                </a:lnTo>
                <a:lnTo>
                  <a:pt x="8224" y="16081"/>
                </a:lnTo>
                <a:lnTo>
                  <a:pt x="3794" y="16081"/>
                </a:lnTo>
                <a:close/>
              </a:path>
              <a:path fill="darken" w="21600" h="27374">
                <a:moveTo>
                  <a:pt x="14299" y="13687"/>
                </a:moveTo>
                <a:lnTo>
                  <a:pt x="17806" y="13687"/>
                </a:lnTo>
              </a:path>
              <a:path fill="darken" w="21600" h="27374">
                <a:moveTo>
                  <a:pt x="14299" y="11294"/>
                </a:moveTo>
                <a:lnTo>
                  <a:pt x="17806" y="8526"/>
                </a:lnTo>
              </a:path>
              <a:path fill="darken" w="21600" h="27374">
                <a:moveTo>
                  <a:pt x="14299" y="16081"/>
                </a:moveTo>
                <a:lnTo>
                  <a:pt x="17806" y="18848"/>
                </a:lnTo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18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Untitled-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108000" y="5877000"/>
            <a:ext cx="90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top1" descr=""/>
          <p:cNvPicPr/>
          <p:nvPr/>
        </p:nvPicPr>
        <p:blipFill>
          <a:blip r:embed="rId4"/>
          <a:stretch/>
        </p:blipFill>
        <p:spPr>
          <a:xfrm>
            <a:off x="0" y="5695920"/>
            <a:ext cx="9144000" cy="116208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900000" y="404640"/>
            <a:ext cx="27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方正舒体"/>
              </a:rPr>
              <a:t>困惑共解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24000" y="907920"/>
            <a:ext cx="93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星星5" descr=""/>
          <p:cNvPicPr/>
          <p:nvPr/>
        </p:nvPicPr>
        <p:blipFill>
          <a:blip r:embed="rId5"/>
          <a:stretch/>
        </p:blipFill>
        <p:spPr>
          <a:xfrm>
            <a:off x="250920" y="47628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图片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755640" y="105264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藤萝被毁前，这原本是一株怎样的藤萝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盘曲而上   成了吊死鬼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红绿相映   成了失掉了母亲的孤儿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淡淡幽香   万分委屈、投诉无门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嘤嘤嗡嗡   哭泣，哭泣，哭泣……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被毁之前   被毁之后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167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黑体"/>
              </a:rPr>
              <a:t>真相调查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632720" cy="49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Arial"/>
                <a:ea typeface="黑体"/>
              </a:rPr>
              <a:t>被杀原因</a:t>
            </a:r>
            <a:endParaRPr b="0" lang="en-US" sz="10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Arial"/>
                <a:ea typeface="黑体"/>
              </a:rPr>
              <a:t>凶手姓名</a:t>
            </a:r>
            <a:endParaRPr b="0" lang="en-US" sz="10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971640" y="549360"/>
            <a:ext cx="3240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鲁迅先生说：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95280" y="2276640"/>
            <a:ext cx="8209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悲剧”就是美的毁灭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51" name=""/>
          <p:cNvSpPr/>
          <p:nvPr/>
        </p:nvSpPr>
        <p:spPr>
          <a:xfrm>
            <a:off x="5003640" y="2276640"/>
            <a:ext cx="1081080" cy="1800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804000" y="2133720"/>
            <a:ext cx="1871640" cy="201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258920" y="4581360"/>
            <a:ext cx="69134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80808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越美的东西被毁灭，</a:t>
            </a:r>
            <a:endParaRPr b="1" lang="en-US" sz="1800" spc="1" strike="noStrike">
              <a:ln w="19080">
                <a:solidFill>
                  <a:srgbClr val="080808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80808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其悲剧性就越强烈。</a:t>
            </a:r>
            <a:endParaRPr b="1" lang="en-US" sz="1800" spc="1" strike="noStrike">
              <a:ln w="19080">
                <a:solidFill>
                  <a:srgbClr val="080808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黑体"/>
                <a:ea typeface="黑体"/>
              </a:rPr>
              <a:t>    “</a:t>
            </a:r>
            <a:r>
              <a:rPr b="1" lang="en-US" sz="5400" spc="-1" strike="noStrike">
                <a:solidFill>
                  <a:srgbClr val="ffffff"/>
                </a:solidFill>
                <a:latin typeface="黑体"/>
                <a:ea typeface="黑体"/>
              </a:rPr>
              <a:t>它在这里已经呆了二三百年，同它所依附的大树一向和睦相处。”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    “</a:t>
            </a:r>
            <a:r>
              <a:rPr b="1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它虽阅尽人间沧桑，却从无害人之意。”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2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黑体"/>
                <a:ea typeface="黑体"/>
              </a:rPr>
              <a:t>    “</a:t>
            </a:r>
            <a:r>
              <a:rPr b="1" lang="en-US" sz="6600" spc="-1" strike="noStrike">
                <a:solidFill>
                  <a:srgbClr val="ffffff"/>
                </a:solidFill>
                <a:latin typeface="黑体"/>
                <a:ea typeface="黑体"/>
              </a:rPr>
              <a:t>每年春天，它就以自己的花朵为人间增添美丽。” 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1700" spc="-1" strike="noStrike">
                <a:solidFill>
                  <a:srgbClr val="ffffff"/>
                </a:solidFill>
                <a:latin typeface="黑体"/>
                <a:ea typeface="黑体"/>
              </a:rPr>
              <a:t>谁是凶手？</a:t>
            </a:r>
            <a:endParaRPr b="0" lang="en-US" sz="11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en-US" sz="11700" spc="-1" strike="noStrike">
                <a:solidFill>
                  <a:srgbClr val="ffffff"/>
                </a:solidFill>
                <a:latin typeface="黑体"/>
                <a:ea typeface="黑体"/>
              </a:rPr>
              <a:t>愚 氓！</a:t>
            </a:r>
            <a:endParaRPr b="0" lang="en-US" sz="117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0" y="189000"/>
            <a:ext cx="9144000" cy="643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03280" y="103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692360" y="907920"/>
            <a:ext cx="597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【第二幕】悲藤萝之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484360" y="3141720"/>
            <a:ext cx="201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484360" y="3789360"/>
            <a:ext cx="25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308720" y="472428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900000" y="2060640"/>
            <a:ext cx="7272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请同学们阅读第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段至文末，先找出最能表现藤萝被毁后惨状的词句，然后用这株古藤萝的口吻自述悲惨经历。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56000" y="1628640"/>
            <a:ext cx="43214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被杀原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黑体"/>
              </a:rPr>
              <a:t>凶手姓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971640" y="1844640"/>
            <a:ext cx="33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黑体"/>
              </a:rPr>
              <a:t>真相调查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250920" y="1989000"/>
            <a:ext cx="79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华文新魏"/>
              </a:rPr>
              <a:t>藤萝之美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2771640" y="476280"/>
            <a:ext cx="3816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师生合作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23" name=""/>
          <p:cNvSpPr/>
          <p:nvPr/>
        </p:nvSpPr>
        <p:spPr>
          <a:xfrm>
            <a:off x="653400" y="1844640"/>
            <a:ext cx="13993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外在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050920" y="1844640"/>
            <a:ext cx="73080" cy="1657440"/>
          </a:xfrm>
          <a:custGeom>
            <a:avLst/>
            <a:gdLst>
              <a:gd name="textAreaLeft" fmla="*/ 46800 w 73080"/>
              <a:gd name="textAreaRight" fmla="*/ 73440 w 7308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195640" y="4437000"/>
            <a:ext cx="71280" cy="1251000"/>
          </a:xfrm>
          <a:custGeom>
            <a:avLst/>
            <a:gdLst>
              <a:gd name="textAreaLeft" fmla="*/ 45720 w 71280"/>
              <a:gd name="textAreaRight" fmla="*/ 71640 w 71280"/>
              <a:gd name="textAreaTop" fmla="*/ 32400 h 1251000"/>
              <a:gd name="textAreaBottom" fmla="*/ 1218600 h 125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187280" y="1989000"/>
            <a:ext cx="73080" cy="3386160"/>
          </a:xfrm>
          <a:custGeom>
            <a:avLst/>
            <a:gdLst>
              <a:gd name="textAreaLeft" fmla="*/ 46800 w 73080"/>
              <a:gd name="textAreaRight" fmla="*/ 73440 w 73080"/>
              <a:gd name="textAreaTop" fmla="*/ 88200 h 3386160"/>
              <a:gd name="textAreaBottom" fmla="*/ 3297960 h 338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403280" y="4221000"/>
            <a:ext cx="80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124000" y="141300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形：“ 盘曲而上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124000" y="213372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色：“苍黑”，“万绿丛中一点红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195640" y="270828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香：“一股幽香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411280" y="4076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和：与大树和睦相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124000" y="3213000"/>
            <a:ext cx="56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声：“嗡嗡的蜜蜂声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11480" y="4946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327480" y="5162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668040" y="53737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善：阅尽沧桑，从无害人之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c0c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0" y="0"/>
            <a:ext cx="33526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黑体"/>
              </a:rPr>
              <a:t>探讨悲剧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黑体"/>
              <a:ea typeface="黑体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87850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0c12"/>
                </a:solidFill>
                <a:latin typeface="宋体"/>
              </a:rPr>
              <a:t>　　　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、“藤萝毁于愚氓之手”的悲剧，让作者心生悲痛，难道他仅仅是为这一棵藤萝而悲伤吗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179280" y="1989000"/>
            <a:ext cx="8964720" cy="6699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c0c12"/>
                </a:solidFill>
                <a:latin typeface="宋体"/>
              </a:rPr>
              <a:t>　   </a:t>
            </a:r>
            <a:r>
              <a:rPr b="1" lang="en-US" sz="4200" spc="-1" strike="noStrike">
                <a:solidFill>
                  <a:srgbClr val="ffffff"/>
                </a:solidFill>
                <a:latin typeface="宋体"/>
              </a:rPr>
              <a:t>这里的藤萝是真善美的象征，愚氓是美的毁灭者的象征。藤萝被毁灭的悲剧其实就是世人对美的忽视，对美的否定，对美的毁灭，所以说古藤萝的悲剧，其实是在说人的悲剧，人们亲手一个一个地消灭身边的美，这是让作者最为心痛的，而且这样的悲剧每天还在上演着。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楷体_GB2312"/>
              </a:rPr>
              <a:t>俗话说“男儿有泪不轻弹”，身为北大教授的季老却常常为一些小动植物而落泪，你怎样看待其人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我自己的性格制造的这一个十字架，只有我自己来背了。奈何！奈何！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但是，我愿意把这个十字架背下去，永远永远地背下去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en-US" sz="6600" spc="-1" strike="noStrike">
                <a:solidFill>
                  <a:srgbClr val="ff00ff"/>
                </a:solidFill>
                <a:latin typeface="黑体"/>
                <a:ea typeface="黑体"/>
              </a:rPr>
              <a:t>良知、责任与勇气</a:t>
            </a:r>
            <a:r>
              <a:rPr b="1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040727143a_3" descr="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4859280" y="404640"/>
            <a:ext cx="4033800" cy="22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　　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  <a:ea typeface="黑体"/>
              </a:rPr>
              <a:t>季羡林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北京大学教授、中国文化书院院务委员会主席、中科院院士、中国语言学家、文学翻译家，梵文、巴利文专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　被称为“东方学　　大师”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c0c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-181440" y="-360"/>
            <a:ext cx="9325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12"/>
                </a:solidFill>
                <a:latin typeface="宋体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、“我自己的性格制造的这样一个十字架，只有我自己来背了。奈何奈何！”“但是，我愿意把这个十字架背下去，永远永远地背下去。”这里的“十字架”是什么呢？为什么作者要背下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324000" y="2133720"/>
            <a:ext cx="8642160" cy="19224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c0c12"/>
                </a:solidFill>
                <a:latin typeface="宋体"/>
              </a:rPr>
              <a:t>　　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这里的十字架指的是“揭露悲剧、维护真善美的责任”，作者深感到社会对于“愚氓”毁灭美丽的现象还没有引起起码的重视，呼唤社会群体爱美护美意识的提高，自己愿意承担起呼唤人们重视美，保护美的责任，表现了作者矢志维护真、善、美的决心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c0c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179280" y="-1080"/>
            <a:ext cx="896472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悲剧的制造者是愚氓，悲剧发生在什么地点？什么时间？愚氓灭美现实告诉我们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031840" y="3068640"/>
            <a:ext cx="462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79280" y="1052640"/>
            <a:ext cx="8964720" cy="100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人们的愚昧无知把人类赖以生存的自然环境逐渐毁灭。人们的愚昧与贪婪把民族传统的道德文化遗弃（传统道德文化的内涵是真善美）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黑体"/>
                <a:ea typeface="黑体"/>
              </a:rPr>
              <a:t>       </a:t>
            </a:r>
            <a:r>
              <a:rPr b="1" lang="en-US" sz="6000" spc="-1" strike="noStrike">
                <a:solidFill>
                  <a:srgbClr val="ffff00"/>
                </a:solidFill>
                <a:latin typeface="黑体"/>
                <a:ea typeface="黑体"/>
              </a:rPr>
              <a:t>悲剧主题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7a77"/>
                </a:solidFill>
                <a:latin typeface="黑体"/>
                <a:ea typeface="黑体"/>
              </a:rPr>
              <a:t>   </a:t>
            </a:r>
            <a:r>
              <a:rPr b="1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这悲剧不仅仅是一株藤萝的悲剧，不仅仅是幽径悲剧，而且还是整个燕园的悲剧，整个时代的悲剧，整个民族的悲剧，甚至是整个人性的悲剧！</a:t>
            </a:r>
            <a:r>
              <a:rPr b="1" lang="en-US" sz="6000" spc="-1" strike="noStrike">
                <a:solidFill>
                  <a:srgbClr val="007a77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403280" y="1700280"/>
            <a:ext cx="589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时代悲剧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851280" y="5013360"/>
            <a:ext cx="52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人性悲剧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27280" y="342900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民族悲剧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040200" y="98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4000" y="0"/>
            <a:ext cx="645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燕园悲剧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340000" y="0"/>
            <a:ext cx="3657600" cy="8366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悲剧反思</a:t>
            </a:r>
            <a:r>
              <a:rPr b="0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任何一株草的死亡都是人的死亡。       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任何一棵树的夭折都是人的夭折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任何一只虫的鸣叫也是人的鸣叫。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                  ——</a:t>
            </a: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刘亮程《一个人村庄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474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  <a:ea typeface="华文楷体"/>
              </a:rPr>
              <a:t>拓展训练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8360" y="1773360"/>
            <a:ext cx="82803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我们的身边是否还有“愚氓之手”，“愚氓灭美”的现象？请以“悲剧还在延续”为话题，说说身边的“悲剧”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323640" y="6103800"/>
            <a:ext cx="813276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84360" y="3141720"/>
            <a:ext cx="4248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859280" y="2997360"/>
            <a:ext cx="320040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66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被毁前的圆明园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66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659" name="RZkYoGMk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427640" cy="3156120"/>
          </a:xfrm>
          <a:prstGeom prst="rect">
            <a:avLst/>
          </a:prstGeom>
          <a:ln w="0">
            <a:noFill/>
          </a:ln>
        </p:spPr>
      </p:pic>
      <p:pic>
        <p:nvPicPr>
          <p:cNvPr id="660" name="DckYoVJk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56000" y="0"/>
            <a:ext cx="4788000" cy="3130560"/>
          </a:xfrm>
          <a:prstGeom prst="rect">
            <a:avLst/>
          </a:prstGeom>
          <a:ln w="0">
            <a:noFill/>
          </a:ln>
        </p:spPr>
      </p:pic>
      <p:pic>
        <p:nvPicPr>
          <p:cNvPr id="661" name="RvkYoGMk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427640" y="3141720"/>
            <a:ext cx="4716360" cy="371628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 txBox="1"/>
          <p:nvPr/>
        </p:nvSpPr>
        <p:spPr>
          <a:xfrm>
            <a:off x="4643280" y="3068640"/>
            <a:ext cx="32004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66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被毁前的圆明园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66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663" name="WukYoGFx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3141720"/>
            <a:ext cx="44276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395280" y="4076640"/>
            <a:ext cx="352908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 rot="21206400">
            <a:off x="5363640" y="4149720"/>
            <a:ext cx="2727360" cy="309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被毁的圆明园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66" name="WCkYoGFx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4149720"/>
          </a:xfrm>
          <a:prstGeom prst="rect">
            <a:avLst/>
          </a:prstGeom>
          <a:ln w="0">
            <a:noFill/>
          </a:ln>
        </p:spPr>
      </p:pic>
      <p:pic>
        <p:nvPicPr>
          <p:cNvPr id="667" name="WGkYoGFx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68" name="UWkYoVJm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70" name="dae5b753f18097230cf3e380" descr=""/>
          <p:cNvPicPr/>
          <p:nvPr/>
        </p:nvPicPr>
        <p:blipFill>
          <a:blip r:embed="rId2"/>
          <a:stretch/>
        </p:blipFill>
        <p:spPr>
          <a:xfrm>
            <a:off x="0" y="-379440"/>
            <a:ext cx="9144000" cy="72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72" name="61e964170411906720a4e9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91440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　　　感动印象：智者永，仁者寿，长者随心所欲，曾经的红衣少年，如今的白发先生，留德十年寒窗苦，牛棚杂忆密辛多，心有良知璞玉，笔下道德文章。一介布衣，言有物，行有格，贫贱不移，荣辱不惊。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　　颁奖词：学问铸成大地的风景，他把心汇入传说，把心留在东方。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　　　　　－－“感动中国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006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评委会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250920" y="0"/>
            <a:ext cx="3352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黑体"/>
              </a:rPr>
              <a:t>走近作者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黑体"/>
              <a:ea typeface="黑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74" name="wl2_22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76" name="2006-01-2011271985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7" name="ccd4781c767abb9187d6b6f3" descr=""/>
          <p:cNvPicPr/>
          <p:nvPr/>
        </p:nvPicPr>
        <p:blipFill>
          <a:blip r:embed="rId3"/>
          <a:stretch/>
        </p:blipFill>
        <p:spPr>
          <a:xfrm>
            <a:off x="6443640" y="0"/>
            <a:ext cx="2700360" cy="31417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0" y="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明天还有树吗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195640" y="0"/>
            <a:ext cx="4680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黑体"/>
              </a:rPr>
              <a:t>明天还有树吗？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80" name="40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7848720" cy="4724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763280" y="693720"/>
            <a:ext cx="554508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黑体"/>
              </a:rPr>
              <a:t>让人窒息的垃圾山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82" name="66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775280" cy="5013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771280" y="549000"/>
            <a:ext cx="2737080" cy="3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  <a:ea typeface="黑体"/>
              </a:rPr>
              <a:t>这是鲸鱼？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84" name="62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136000" cy="5805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532-1" descr=""/>
          <p:cNvPicPr/>
          <p:nvPr/>
        </p:nvPicPr>
        <p:blipFill>
          <a:blip r:embed="rId2"/>
          <a:stretch/>
        </p:blipFill>
        <p:spPr>
          <a:xfrm>
            <a:off x="0" y="0"/>
            <a:ext cx="6732720" cy="685800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6703200" y="692280"/>
            <a:ext cx="139932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黑体"/>
              </a:rPr>
              <a:t>啊，救救我吧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2296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　　　</a:t>
            </a:r>
            <a:r>
              <a:rPr b="1" lang="en-US" sz="4400" spc="-1" strike="noStrike">
                <a:solidFill>
                  <a:srgbClr val="ff00ff"/>
                </a:solidFill>
                <a:latin typeface="宋体"/>
              </a:rPr>
              <a:t>你认为可以通过哪些措施来制止这样的事情的发生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250920" y="2060640"/>
            <a:ext cx="8424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c0c12"/>
                </a:solidFill>
                <a:latin typeface="宋体"/>
              </a:rPr>
              <a:t>   </a:t>
            </a:r>
            <a:r>
              <a:rPr b="1" lang="en-US" sz="7200" spc="-1" strike="noStrike">
                <a:solidFill>
                  <a:srgbClr val="0c0c12"/>
                </a:solidFill>
                <a:latin typeface="宋体"/>
              </a:rPr>
              <a:t>提高国民素质、制定相应制度、规范和处罚条例、加大宣传力度</a:t>
            </a:r>
            <a:r>
              <a:rPr b="1" lang="en-US" sz="7200" spc="-1" strike="noStrike">
                <a:solidFill>
                  <a:srgbClr val="0c0c12"/>
                </a:solidFill>
                <a:latin typeface="Arial"/>
              </a:rPr>
              <a:t>……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971640" y="0"/>
            <a:ext cx="5543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教师寄语</a:t>
            </a:r>
            <a:endParaRPr b="1" lang="en-US" sz="96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Arial"/>
                <a:ea typeface="华文琥珀"/>
              </a:rPr>
              <a:t>智慧的人们创造出美好的世界；</a:t>
            </a:r>
            <a:endParaRPr b="0" lang="en-US" sz="49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Arial"/>
                <a:ea typeface="华文琥珀"/>
              </a:rPr>
              <a:t>愚昧的人们制造着一幕幕悲剧；</a:t>
            </a:r>
            <a:endParaRPr b="0" lang="en-US" sz="49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Arial"/>
                <a:ea typeface="华文琥珀"/>
              </a:rPr>
              <a:t>珍爱环境，善待自然；</a:t>
            </a:r>
            <a:endParaRPr b="0" lang="en-US" sz="49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Arial"/>
                <a:ea typeface="华文琥珀"/>
              </a:rPr>
              <a:t>共同生存，共同发展！</a:t>
            </a:r>
            <a:endParaRPr b="0" lang="en-US" sz="49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Arial"/>
                <a:ea typeface="华文琥珀"/>
              </a:rPr>
              <a:t>让悲剧不要在我们手中重现！</a:t>
            </a:r>
            <a:endParaRPr b="0" lang="en-US" sz="49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93" name="4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96" name="5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一生无数头衔，唯独喜欢“教授”这一称号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一生精通英、德、印等多种语言，唯独热爱着祖国的文字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出生山东清平县，家境也十分清贫，唯独满腹诗书之足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就读清华，博得“四剑客”之一的美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留学德国，二战的烽烟造就他成为东方语言大师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99" name="4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02" name="6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05" name="7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5184720" cy="58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假如与季羡林老先生有一分钟的面对面的时间，你想对他说点什么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07" name="13" descr=""/>
          <p:cNvPicPr/>
          <p:nvPr/>
        </p:nvPicPr>
        <p:blipFill>
          <a:blip r:embed="rId1"/>
          <a:stretch/>
        </p:blipFill>
        <p:spPr>
          <a:xfrm>
            <a:off x="5940360" y="1125360"/>
            <a:ext cx="2743200" cy="4505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981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  <a:ea typeface="黑体"/>
              </a:rPr>
              <a:t>课后学习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7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4700" spc="-1" strike="noStrike">
                <a:solidFill>
                  <a:srgbClr val="ffffff"/>
                </a:solidFill>
                <a:latin typeface="黑体"/>
                <a:ea typeface="黑体"/>
              </a:rPr>
              <a:t>在生活中，你曾为一株草、一朵花的折损而伤心过吗？你曾为一只猫、一条狗的病痛流过泪吗？如果有，请你将这段感情经历写下来。 </a:t>
            </a:r>
            <a:endParaRPr b="0" lang="en-US" sz="47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 rot="5400000">
            <a:off x="1582920" y="2311920"/>
            <a:ext cx="5327640" cy="237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谢谢</a:t>
            </a:r>
            <a:endParaRPr b="0" i="1" lang="en-US" sz="6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回归祖国，执教北大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文革间挨斗受批受尽凌辱，可从未放弃救世治学之道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十年磨一剑，译成了印度人都惧怕的《罗摩衍那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是他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-------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大力的沟通了东西方文化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是他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-------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推动了东方文化的前进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他就是一代宗师——季羡林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2006080818240561104" descr="">
            <a:hlinkClick r:id="rId2"/>
          </p:cNvPr>
          <p:cNvPicPr/>
          <p:nvPr/>
        </p:nvPicPr>
        <p:blipFill>
          <a:blip r:embed="rId3"/>
          <a:srcRect l="0" t="0" r="0" b="10670"/>
          <a:stretch/>
        </p:blipFill>
        <p:spPr>
          <a:xfrm>
            <a:off x="0" y="2033640"/>
            <a:ext cx="9144000" cy="482436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324000" y="189000"/>
            <a:ext cx="86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  <a:ea typeface="黑体"/>
              </a:rPr>
              <a:t>　　　在季羡林先生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  <a:ea typeface="黑体"/>
              </a:rPr>
              <a:t>95</a:t>
            </a:r>
            <a:r>
              <a:rPr b="1" lang="en-US" sz="2800" spc="-1" strike="noStrike">
                <a:solidFill>
                  <a:srgbClr val="6600ff"/>
                </a:solidFill>
                <a:latin typeface="Arial"/>
                <a:ea typeface="黑体"/>
              </a:rPr>
              <a:t>岁生日那天，国务院总理温家宝送来一盆枝繁叶茂的君子兰，向这位学贯中西、笔耕一生、在海内外享有盛誉的学者表示敬意。并风趣地对季老说：“您现在是红衣少年！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64" name="35296_1243308308d6bh[1]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67" name="200641813515489360[1]" descr=""/>
          <p:cNvPicPr/>
          <p:nvPr/>
        </p:nvPicPr>
        <p:blipFill>
          <a:blip r:embed="rId2"/>
          <a:stretch/>
        </p:blipFill>
        <p:spPr>
          <a:xfrm>
            <a:off x="179280" y="135000"/>
            <a:ext cx="89647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1:06:27Z</dcterms:created>
  <dc:creator>微软用户</dc:creator>
  <dc:description/>
  <dc:language>en-US</dc:language>
  <cp:lastModifiedBy>zmj</cp:lastModifiedBy>
  <dcterms:modified xsi:type="dcterms:W3CDTF">2012-12-19T04:48:48Z</dcterms:modified>
  <cp:revision>111</cp:revision>
  <dc:subject/>
  <dc:title>幻灯片 1</dc:title>
</cp:coreProperties>
</file>