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gif" ContentType="image/gif"/>
  <Override PartName="/ppt/media/image4.jpeg" ContentType="image/jpeg"/>
  <Override PartName="/ppt/media/image31.jpeg" ContentType="image/jpeg"/>
  <Override PartName="/ppt/media/image25.jpeg" ContentType="image/jpeg"/>
  <Override PartName="/ppt/media/image12.jpeg" ContentType="image/jpeg"/>
  <Override PartName="/ppt/media/image10.gif" ContentType="image/gif"/>
  <Override PartName="/ppt/media/image14.jpeg" ContentType="image/jpeg"/>
  <Override PartName="/ppt/media/image5.gif" ContentType="image/gif"/>
  <Override PartName="/ppt/media/image8.png" ContentType="image/png"/>
  <Override PartName="/ppt/media/image30.gif" ContentType="image/gif"/>
  <Override PartName="/ppt/media/image6.jpeg" ContentType="image/jpeg"/>
  <Override PartName="/ppt/media/image26.jpeg" ContentType="image/jpeg"/>
  <Override PartName="/ppt/media/image20.gif" ContentType="image/gif"/>
  <Override PartName="/ppt/media/image18.gif" ContentType="image/gif"/>
  <Override PartName="/ppt/media/image13.jpeg" ContentType="image/jpeg"/>
  <Override PartName="/ppt/media/image3.png" ContentType="image/png"/>
  <Override PartName="/ppt/media/image17.jpeg" ContentType="image/jpeg"/>
  <Override PartName="/ppt/media/image23.gif" ContentType="image/gif"/>
  <Override PartName="/ppt/media/image7.gif" ContentType="image/gif"/>
  <Override PartName="/ppt/media/image29.jpeg" ContentType="image/jpeg"/>
  <Override PartName="/ppt/media/image11.jpeg" ContentType="image/jpeg"/>
  <Override PartName="/ppt/media/image1.gif" ContentType="image/gif"/>
  <Override PartName="/ppt/media/image15.jpeg" ContentType="image/jpeg"/>
  <Override PartName="/ppt/media/image9.gif" ContentType="image/gif"/>
  <Override PartName="/ppt/media/image16.jpeg" ContentType="image/jpeg"/>
  <Override PartName="/ppt/media/image2.gif" ContentType="image/gif"/>
  <Override PartName="/ppt/media/image19.jpeg" ContentType="image/jpeg"/>
  <Override PartName="/ppt/media/image21.jpeg" ContentType="image/jpeg"/>
  <Override PartName="/ppt/media/image22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4056-0F92-4128-8244-9A9D77BC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07F4-7ABE-4338-815F-19C885A4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281D-BD0E-471F-BC00-27DC63251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B85F-CAEB-4725-8408-97C7D20C2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B3EE-957C-4DB5-9110-9BA51FF9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1BA1-C897-4B73-A2BA-42568C97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5E14-250E-49D8-BF67-8C82F5DA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5403-723B-4D3C-9D51-3CA5B44C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AFC1-DAD9-467B-B0AA-000A38BD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5A78-F411-4F57-8BB3-BF44B169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5861-1586-482C-8322-9072E842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4441-0B05-4DD5-B18E-74FE996D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6B8E-74D3-45C8-9377-6EEC047590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导入新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诗是陶渊明的组诗《饮酒诗二十首》中的第五首，陶渊明的《饮酒》诗二十首，并有一段序文，是他“闲居寡欢”“既醉之后”的作品，不是一次完成的。大约作于晋安帝十二三年间，是陶渊明的重要代表作。本诗通过对田园生活中自然景色的悠闲欣赏。反映出作者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厌恶官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腐败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决心归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洁的人生追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172360" y="5589720"/>
            <a:ext cx="971640" cy="1268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1640" cy="1197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788000" y="5589720"/>
            <a:ext cx="971280" cy="1268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分析诗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①②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句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喜爱田园，厌倦官场。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③④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句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问自答，追求脱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⑤⑥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句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静穆超然，悠然自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⑦⑧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句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飞鸟还林，意欲归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⑨⑩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句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揭示主旨，人生意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分析诗歌的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华文新魏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华文新魏"/>
              </a:rPr>
              <a:t>第一层（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①——④句）：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华文新魏"/>
              </a:rPr>
              <a:t>讲作者因为能够超脱现实纷扰，有高尚的精神境界，所以觉得所在的地方也偏僻幽静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华文新魏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华文新魏"/>
              </a:rPr>
              <a:t>第二层（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⑤ ——⑩句）：说明欣赏美丽的自然景物，能获得无限的意趣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92360" y="5084640"/>
            <a:ext cx="6551640" cy="1773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1197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0" y="5661000"/>
            <a:ext cx="1403280" cy="1197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问题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诗人居住在喧嚣的尘世，为什么生活是如此的平静、心灵是如此的安宁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因为“心”能远远摆脱世俗的束缚，所以虽身处闹境，也如同居于偏僻地区。生活是如此的平静、心灵是如此的安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003640" y="5229360"/>
            <a:ext cx="4140360" cy="1628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小蜜蜂"/>
          <p:cNvPicPr/>
          <p:nvPr/>
        </p:nvPicPr>
        <p:blipFill>
          <a:blip r:embed="rId2"/>
          <a:stretch/>
        </p:blipFill>
        <p:spPr>
          <a:xfrm>
            <a:off x="250920" y="260280"/>
            <a:ext cx="1008000" cy="631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小蜜蜂"/>
          <p:cNvPicPr/>
          <p:nvPr/>
        </p:nvPicPr>
        <p:blipFill>
          <a:blip r:embed="rId3"/>
          <a:stretch/>
        </p:blipFill>
        <p:spPr>
          <a:xfrm>
            <a:off x="6877080" y="2205000"/>
            <a:ext cx="1008000" cy="631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小蜜蜂"/>
          <p:cNvPicPr/>
          <p:nvPr/>
        </p:nvPicPr>
        <p:blipFill>
          <a:blip r:embed="rId4"/>
          <a:stretch/>
        </p:blipFill>
        <p:spPr>
          <a:xfrm>
            <a:off x="3492360" y="5950080"/>
            <a:ext cx="1008360" cy="631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小蜜蜂"/>
          <p:cNvPicPr/>
          <p:nvPr/>
        </p:nvPicPr>
        <p:blipFill>
          <a:blip r:embed="rId5"/>
          <a:stretch/>
        </p:blipFill>
        <p:spPr>
          <a:xfrm>
            <a:off x="1116000" y="5950080"/>
            <a:ext cx="1008000" cy="6318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“采菊东篱下，悠然见南山。”“悠然”写出了作者怎样的心情？如果把“见”改成“望”好不好？为什么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① 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悠然”写出了作者那种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恬淡、悠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对生活无所求的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心情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改成“望”不好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③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见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现出诗人看到山不是有意为之，而是在采菊之间无意中山的形象映入眼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236000" y="3284640"/>
            <a:ext cx="1908000" cy="1368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诗中借优美的山水田园风光，抒发作者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恬淡高远心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诗句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哪两句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诗歌中表达作者对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理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追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歌咏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人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渴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诗句是哪两句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324000" y="4221000"/>
            <a:ext cx="136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407664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3933720"/>
            <a:ext cx="72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采菊东篱下，悠然见南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5157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此中有真意，欲辨已忘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17080" y="3429000"/>
            <a:ext cx="826920" cy="3429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4508640"/>
            <a:ext cx="826920" cy="2349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山气日夕佳，飞鸟相与还”这两句是什么描写？有何深刻意义？跟前两句的人物描写有何关系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景物描写；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渲染隐居之所的宁静和诗人悠然的心境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这时我们隐隐可知诗人不光在勉励自己“还”，还在规劝其他人，不妨也“还”吧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724360" y="1989000"/>
            <a:ext cx="3419640" cy="1152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名句赏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采菊东篱下，悠然见南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这两句诗是陶诗中的神来之笔。它描写自己采菊东篱时无意之中偶见南山，南山静穆超然的胜景与自己悠然自得的心情交感融合，表现了一种超凡脱俗的天真自然的意趣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5084640"/>
            <a:ext cx="9144000" cy="1773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此中有真意，欲辩已忘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此中”指此时此地的情和境，也就是隐居生活。“真意”指诗人从自然与人的和谐的景象中所领悟到的自然意趣，它包含着大自然淡然闲逸、自由适性、各有所归的意趣，也包含了物我合一、人与自然融汇于一体的意趣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0" y="5013360"/>
            <a:ext cx="4572000" cy="1844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5578560"/>
            <a:ext cx="2771640" cy="12794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拓展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结合诗作的学习，我们评评陶渊明是一个什么样的人？他的思想在当时有什么积极意义和消极意义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陶渊明弃官归隐，洁身自好，追求恬静的田园生活，完善独立的人格，渴望自由，总的特点是“淡泊”，“独善其身”。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516720" y="5661000"/>
            <a:ext cx="2627280" cy="1197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②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弃官归隐，洁身自好，独善其身，在当时来说，是对黑暗官场的一种反叛，因此，有其积极意义。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③但是，要改造社会，要清除污秽，不能单靠“归隐”与“独善”，应该兼济天下，积极地参加社会活动。从这点来说，陶渊明的退隐思想也有其消极的一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95880" y="5013360"/>
            <a:ext cx="3048120" cy="1844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5661000"/>
            <a:ext cx="5867280" cy="1197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7" descr="2592_2"/>
          <p:cNvPicPr/>
          <p:nvPr/>
        </p:nvPicPr>
        <p:blipFill>
          <a:blip r:embed="rId1"/>
          <a:stretch/>
        </p:blipFill>
        <p:spPr>
          <a:xfrm>
            <a:off x="6372360" y="260280"/>
            <a:ext cx="1728720" cy="1811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front_252"/>
          <p:cNvPicPr/>
          <p:nvPr/>
        </p:nvPicPr>
        <p:blipFill>
          <a:blip r:embed="rId2"/>
          <a:stretch/>
        </p:blipFill>
        <p:spPr>
          <a:xfrm>
            <a:off x="6372360" y="3860640"/>
            <a:ext cx="2771640" cy="2997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27280" y="476280"/>
            <a:ext cx="2737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vert="eaVer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行楷"/>
              </a:rPr>
              <a:t>《饮酒》</a:t>
            </a:r>
            <a:br>
              <a:rPr sz="4800"/>
            </a:br>
            <a:r>
              <a:rPr b="0" lang="zh-CN" sz="11700" spc="-1" strike="noStrike">
                <a:solidFill>
                  <a:srgbClr val="660066"/>
                </a:solidFill>
                <a:latin typeface="Arial"/>
                <a:ea typeface="华文行楷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陶渊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1" descr="陶渊明"/>
          <p:cNvPicPr/>
          <p:nvPr/>
        </p:nvPicPr>
        <p:blipFill>
          <a:blip r:embed="rId3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主题思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86868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这首诗通过对田园生活中自然景色的悠闲欣赏，表现了作者厌倦官场腐败，决心归隐自洁，超脱世俗的人生追求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914400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复习有关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陶渊明的文学常识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析诗歌的意境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理解诗歌的主题思想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背诵、默写古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724280"/>
            <a:ext cx="914400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7280" y="-360"/>
            <a:ext cx="46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24000" cy="666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2195640" y="549360"/>
            <a:ext cx="6948360" cy="26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陶渊明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6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2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，一名潜，字元亮，世号靖节先生。自号“五柳先生”。东晋文学家。是田园诗派的开创者。主要作品有《归去来辞》、《桃花源记》、《归园田居》、《饮酒》等。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651640" y="4581360"/>
            <a:ext cx="3492360" cy="2276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饮    酒（其五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渊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结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人境，而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车马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喧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问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何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尔，心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采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东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下，悠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南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山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日夕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佳，飞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相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此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真意，欲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已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忘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576000" cy="1079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5805360"/>
            <a:ext cx="9144000" cy="1052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395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读准字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结庐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lú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人境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jì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车马喧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xuān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何能尔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ě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地自偏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piān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采菊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j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东篱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lí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ō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然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日夕佳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ji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相与还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huá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欲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yù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辨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biàn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已忘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wàng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780000" y="880920"/>
            <a:ext cx="1145880" cy="5977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0" y="5877000"/>
            <a:ext cx="4572000" cy="981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5877000"/>
            <a:ext cx="4211640" cy="981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重点字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结庐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构室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人境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世间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而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却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车马喧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喻世俗交往的打扰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君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诗人自称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尔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样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悠然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悠闲自在的样子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南山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庐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2690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山气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南山的气象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日夕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傍晚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相与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伴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还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飞回巢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此中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此地此时的情景，总指隐逸的田园生活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真意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包括自然情趣和人生真谛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辨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辨别，说明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忘言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知怎样用言语表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2492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翻译诗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的房屋建在众人聚居的地方，门前却没有车马的喧嚣。你问我怎么能这样，心远离尘俗就觉得地幽偏。在东篱附近采摘野菊，悠闲自得地欣赏庐山。庐山最美的景色在傍晚，山间飞鸟结伴回还。这里边有人生的意义，想辨别出来，却忘了怎样用语言表达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16000" cy="1484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804000" y="5445000"/>
            <a:ext cx="2340000" cy="141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1T16:15:10Z</dcterms:created>
  <dc:creator>雨林木风</dc:creator>
  <dc:description/>
  <dc:language>en-US</dc:language>
  <cp:lastModifiedBy>未知用户</cp:lastModifiedBy>
  <dcterms:modified xsi:type="dcterms:W3CDTF">2015-04-17T10:25:41Z</dcterms:modified>
  <cp:revision>23</cp:revision>
  <dc:subject/>
  <dc:title>幻灯片 1</dc:title>
</cp:coreProperties>
</file>