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9.gif" ContentType="image/gif"/>
  <Override PartName="/ppt/media/image1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DF4B-2BB8-41DF-A80F-414F701C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F5B7-1F07-4905-B2BB-8000A59A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7942-F01C-47D3-A744-49347567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1C46-049D-41B9-8E91-539E2543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8BF4-0638-40A8-93C6-C13A6D0F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4943-AC41-4EE9-B994-50844D14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6716-10AC-4440-8C26-91A0538D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ACA0-E24C-4137-9D3D-A570AF8A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CC59-D8A3-46CF-A16C-F42FE623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B40A-65BD-4D84-B44B-4C997B20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DD9C-135C-4128-86B3-A4680E61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4640-09D7-4E07-98EF-9F56FAAE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3D5E-EC55-4D43-9864-37613E3BD4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592_2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1728720" cy="1811520"/>
          </a:xfrm>
          <a:prstGeom prst="rect">
            <a:avLst/>
          </a:prstGeom>
          <a:ln w="0">
            <a:noFill/>
          </a:ln>
        </p:spPr>
      </p:pic>
      <p:pic>
        <p:nvPicPr>
          <p:cNvPr id="42" name="front_252" descr=""/>
          <p:cNvPicPr/>
          <p:nvPr/>
        </p:nvPicPr>
        <p:blipFill>
          <a:blip r:embed="rId2"/>
          <a:stretch/>
        </p:blipFill>
        <p:spPr>
          <a:xfrm>
            <a:off x="6372360" y="3860640"/>
            <a:ext cx="2771640" cy="2997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0" y="609480"/>
            <a:ext cx="2736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660066"/>
                </a:solidFill>
                <a:latin typeface="Arial"/>
                <a:ea typeface="华文行楷"/>
              </a:rPr>
              <a:t>《饮酒》</a:t>
            </a:r>
            <a:br>
              <a:rPr sz="11700"/>
            </a:br>
            <a:r>
              <a:rPr b="0" lang="zh-CN" sz="11700" spc="-1" strike="noStrike">
                <a:solidFill>
                  <a:srgbClr val="660066"/>
                </a:solidFill>
                <a:latin typeface="Arial"/>
                <a:ea typeface="华文行楷"/>
              </a:rPr>
              <a:t>  </a:t>
            </a:r>
            <a:r>
              <a:rPr b="0" lang="zh-CN" sz="6600" spc="-1" strike="noStrike">
                <a:solidFill>
                  <a:srgbClr val="660066"/>
                </a:solidFill>
                <a:latin typeface="Arial"/>
                <a:ea typeface="华文行楷"/>
              </a:rPr>
              <a:t>陶渊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28600" y="0"/>
            <a:ext cx="380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19160" cy="6248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62520" y="260280"/>
            <a:ext cx="4952880" cy="63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    </a:t>
            </a:r>
            <a:r>
              <a:rPr b="1" lang="zh-CN" sz="4800" spc="-1" strike="noStrike">
                <a:solidFill>
                  <a:srgbClr val="0000cc"/>
                </a:solidFill>
                <a:latin typeface="华文新魏"/>
                <a:ea typeface="华文新魏"/>
              </a:rPr>
              <a:t>1</a:t>
            </a:r>
            <a:r>
              <a:rPr b="1" lang="zh-CN" sz="4800" spc="-1" strike="noStrike">
                <a:solidFill>
                  <a:srgbClr val="0000cc"/>
                </a:solidFill>
                <a:latin typeface="华文新魏"/>
                <a:ea typeface="华文新魏"/>
              </a:rPr>
              <a:t>至</a:t>
            </a:r>
            <a:r>
              <a:rPr b="1" lang="zh-CN" sz="4800" spc="-1" strike="noStrike">
                <a:solidFill>
                  <a:srgbClr val="0000cc"/>
                </a:solidFill>
                <a:latin typeface="华文新魏"/>
                <a:ea typeface="华文新魏"/>
              </a:rPr>
              <a:t>4</a:t>
            </a:r>
            <a:r>
              <a:rPr b="1" lang="zh-CN" sz="4800" spc="-1" strike="noStrike">
                <a:solidFill>
                  <a:srgbClr val="0000cc"/>
                </a:solidFill>
                <a:latin typeface="华文新魏"/>
                <a:ea typeface="华文新魏"/>
              </a:rPr>
              <a:t>句为第一层， 作者因为能够超脱现实纷扰，有高尚的精神境界，所以觉得所在的地方也偏僻幽静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叙结庐之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9640" y="765000"/>
            <a:ext cx="36356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 </a:t>
            </a:r>
            <a:r>
              <a:rPr b="1" lang="zh-CN" sz="4800" spc="-1" strike="noStrike">
                <a:solidFill>
                  <a:srgbClr val="0000cc"/>
                </a:solidFill>
                <a:latin typeface="华文新魏"/>
                <a:ea typeface="华文新魏"/>
              </a:rPr>
              <a:t>5</a:t>
            </a:r>
            <a:r>
              <a:rPr b="1" lang="zh-CN" sz="4800" spc="-1" strike="noStrike">
                <a:solidFill>
                  <a:srgbClr val="0000cc"/>
                </a:solidFill>
                <a:latin typeface="华文新魏"/>
                <a:ea typeface="华文新魏"/>
              </a:rPr>
              <a:t>至</a:t>
            </a:r>
            <a:r>
              <a:rPr b="1" lang="zh-CN" sz="4800" spc="-1" strike="noStrike">
                <a:solidFill>
                  <a:srgbClr val="0000cc"/>
                </a:solidFill>
                <a:latin typeface="华文新魏"/>
                <a:ea typeface="华文新魏"/>
              </a:rPr>
              <a:t>8</a:t>
            </a:r>
            <a:r>
              <a:rPr b="1" lang="zh-CN" sz="4800" spc="-1" strike="noStrike">
                <a:solidFill>
                  <a:srgbClr val="0000cc"/>
                </a:solidFill>
                <a:latin typeface="华文新魏"/>
                <a:ea typeface="华文新魏"/>
              </a:rPr>
              <a:t>句为第二层， 欣赏美丽的自然景物，能获得无限的意趣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描田园之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y8-2" descr=""/>
          <p:cNvPicPr/>
          <p:nvPr/>
        </p:nvPicPr>
        <p:blipFill>
          <a:blip r:embed="rId1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4065480" cy="5867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715000" y="15238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304920"/>
            <a:ext cx="36352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 </a:t>
            </a:r>
            <a:r>
              <a:rPr b="1" lang="zh-CN" sz="4800" spc="-1" strike="noStrike">
                <a:solidFill>
                  <a:srgbClr val="0000cc"/>
                </a:solidFill>
                <a:latin typeface="华文新魏"/>
                <a:ea typeface="华文新魏"/>
              </a:rPr>
              <a:t>9</a:t>
            </a:r>
            <a:r>
              <a:rPr b="1" lang="zh-CN" sz="4800" spc="-1" strike="noStrike">
                <a:solidFill>
                  <a:srgbClr val="0000cc"/>
                </a:solidFill>
                <a:latin typeface="华文新魏"/>
                <a:ea typeface="华文新魏"/>
              </a:rPr>
              <a:t>至</a:t>
            </a:r>
            <a:r>
              <a:rPr b="1" lang="zh-CN" sz="4800" spc="-1" strike="noStrike">
                <a:solidFill>
                  <a:srgbClr val="0000cc"/>
                </a:solidFill>
                <a:latin typeface="华文新魏"/>
                <a:ea typeface="华文新魏"/>
              </a:rPr>
              <a:t>10</a:t>
            </a:r>
            <a:r>
              <a:rPr b="1" lang="zh-CN" sz="4800" spc="-1" strike="noStrike">
                <a:solidFill>
                  <a:srgbClr val="0000cc"/>
                </a:solidFill>
                <a:latin typeface="华文新魏"/>
                <a:ea typeface="华文新魏"/>
              </a:rPr>
              <a:t>句为第三层， 点明主旨，作者以为隐居生活有人生真正的意趣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抒隐居之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5268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85840" y="761760"/>
            <a:ext cx="480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Arial"/>
              </a:rPr>
              <a:t>心远地自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心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指心远离世俗，远离官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哲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一切自然的乐趣都是由于心灵的超凡脱俗才能感受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343400" y="1447920"/>
            <a:ext cx="4267080" cy="5105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286000" y="304920"/>
            <a:ext cx="45356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2844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仿宋_GB2312"/>
              </a:rPr>
              <a:t>超凡脱俗 不求名利</a:t>
            </a:r>
            <a:endParaRPr b="1" lang="en-US" sz="6000" spc="1" strike="noStrike">
              <a:ln w="2844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仿宋_GB2312"/>
              <a:ea typeface="仿宋_GB2312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1279440"/>
            <a:ext cx="457200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黑体"/>
              </a:rPr>
              <a:t>原来是自己保留着一颗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远离俗世的心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黑体"/>
              </a:rPr>
              <a:t>。这几句语言朴实，却道出了他自己的心境和生活的真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处闹市若幽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大隐隐于市，小隐隐于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品味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与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字哪个更贴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悠然见南山中“见”，有本子作“望”。苏轼说：“因采菊而见山，境与意会，此句最有妙处。近岁俗本皆作‘望南山’，则一篇神气都索然矣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语天然万古新，豪华落尽见真淳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元好问《论诗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00000" y="4221000"/>
            <a:ext cx="2808360" cy="2016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19160" cy="6248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86200" y="457200"/>
            <a:ext cx="44956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3399"/>
                </a:solidFill>
                <a:latin typeface="Arial"/>
              </a:rPr>
              <a:t>  “</a:t>
            </a:r>
            <a:r>
              <a:rPr b="1" lang="zh-CN" sz="4300" spc="-1" strike="noStrike">
                <a:solidFill>
                  <a:srgbClr val="003399"/>
                </a:solidFill>
                <a:latin typeface="Arial"/>
              </a:rPr>
              <a:t>见”写出了诗人看到南山美景的</a:t>
            </a:r>
            <a:r>
              <a:rPr b="1" lang="zh-CN" sz="4300" spc="-1" strike="noStrike">
                <a:solidFill>
                  <a:srgbClr val="ff0000"/>
                </a:solidFill>
                <a:latin typeface="Arial"/>
              </a:rPr>
              <a:t>随意自然</a:t>
            </a:r>
            <a:r>
              <a:rPr b="1" lang="zh-CN" sz="4300" spc="-1" strike="noStrike">
                <a:solidFill>
                  <a:srgbClr val="003399"/>
                </a:solidFill>
                <a:latin typeface="Arial"/>
              </a:rPr>
              <a:t>，体现作者心灵的</a:t>
            </a:r>
            <a:r>
              <a:rPr b="1" lang="zh-CN" sz="4300" spc="-1" strike="noStrike">
                <a:solidFill>
                  <a:srgbClr val="ff0000"/>
                </a:solidFill>
                <a:latin typeface="Arial"/>
              </a:rPr>
              <a:t>自由和惬意</a:t>
            </a:r>
            <a:r>
              <a:rPr b="1" lang="zh-CN" sz="4300" spc="-1" strike="noStrike">
                <a:solidFill>
                  <a:srgbClr val="003399"/>
                </a:solidFill>
                <a:latin typeface="Arial"/>
              </a:rPr>
              <a:t>。而“看”“望”是有意而为之，与恬淡闲适的心境不符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19160" cy="6248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733920" y="533520"/>
            <a:ext cx="518148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自家的菊园里采菊 ，悠然闲适的抬头来欣赏南山美丽的景色。显示出了诗人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超然物外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闲适恬淡生活 ，与那些官场中人孜孜以求名利不可同日而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508720" y="0"/>
            <a:ext cx="3635280" cy="22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Times New Roman"/>
                <a:ea typeface="黑体"/>
              </a:rPr>
              <a:t>山中的落日，回巢的飞鸟，都显得那样美妙，诗人从中体会乐趣。表现诗人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辞官归隐后的自在心境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37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山气日夕佳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飞鸟相与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68360" y="1413000"/>
            <a:ext cx="1440000" cy="534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132000" y="1484280"/>
            <a:ext cx="1368720" cy="1158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763640" y="1268280"/>
            <a:ext cx="714600" cy="476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1213800">
            <a:off x="0" y="5735160"/>
            <a:ext cx="1550880" cy="1121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0" y="2895480"/>
            <a:ext cx="5486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19160" cy="6248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29000" y="304920"/>
            <a:ext cx="50292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4300" spc="-1" strike="noStrike">
                <a:solidFill>
                  <a:srgbClr val="003399"/>
                </a:solidFill>
                <a:latin typeface="Arial"/>
              </a:rPr>
              <a:t>由山中之景领会到人生真谛，但诗人并未明辨。</a:t>
            </a:r>
            <a:r>
              <a:rPr b="1" lang="zh-CN" sz="4300" spc="-1" strike="noStrike">
                <a:solidFill>
                  <a:srgbClr val="ff0000"/>
                </a:solidFill>
                <a:latin typeface="Arial"/>
              </a:rPr>
              <a:t>世界上美好的东西往往是无法用语言表达的，只能用心灵去感受它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3399"/>
                </a:solidFill>
                <a:latin typeface="Arial"/>
              </a:rPr>
              <a:t>真意指</a:t>
            </a:r>
            <a:r>
              <a:rPr b="1" lang="zh-CN" sz="4300" spc="-1" strike="noStrike">
                <a:solidFill>
                  <a:srgbClr val="ff0000"/>
                </a:solidFill>
                <a:latin typeface="Arial"/>
              </a:rPr>
              <a:t>自然之趣人生真谛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708360" y="1267920"/>
            <a:ext cx="518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陶渊明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6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2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，字元亮，私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靖节。东晋时期著名诗人，散文家，辞赋家。出身没落的官宦家庭。青壮年时做过祭酒，参军一类的小官。因不满官场黑暗，又不肯迎合权势，弃官归田。开创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山水田园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并将其推向高峰。后世称其“百世田园之主，千古隐逸之宗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3024000" cy="396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隶书"/>
              </a:rPr>
              <a:t>检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30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2286000" cy="6337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317080" y="5084640"/>
            <a:ext cx="826920" cy="1459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895480" y="304920"/>
            <a:ext cx="571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一、背诵默写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、诗中借优美的山水田园风光，抒发作者恬淡高远心境的诗句是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、诗歌中表达作者对理想的追求 诗句是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2286000" cy="6337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317080" y="5084640"/>
            <a:ext cx="826920" cy="1459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14600" y="228600"/>
            <a:ext cx="6095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二、下面的赏析不正确的一项是（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.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结庐在人境，而无车马喧”一叙一转，写出了一种闹中取静的闲适之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.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问君何能尔，心远地自偏”一问一答，写出了一种超尘脱俗的操守之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.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采菊东篱下，悠然见南山”一实一虚，写出了一种超越时空的空灵之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 .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山气日夕佳，飞鸟相与还”一静一动，写出了一种暮鸟飞还的温馨之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三、请从这首诗中选出你最喜欢的诗句写下来，并简要分析诗句所表达的思想感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分，分析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分，情感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分）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答案示例：①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结庐在人境，而无车马喧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。诗人虽身居闹市，却听不到车马的喧闹声，表达了诗人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内心宁静，脱离尘俗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的思想感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②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问君何能尔？心远地自偏。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采用自问自答的形式，表达了诗人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超凡脱俗、毫无名利之念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的思想情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③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采菊东篱下，悠然见南山。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诗人东篱采菊，抬头见山，表现了他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悠然自得，物我两忘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的思想境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④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山气日夕佳，飞鸟相与还。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诗人通过黄昏中飞鸟结伴归林的美好景色，表达了诗人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摆脱束缚，自由自在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的思想情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⑤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此中有真意，欲辨已忘言。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诗人从大自然中悟到了无法言说的人生真谛，表达了诗人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陶醉其中，悠然忘我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的境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17080" y="5084640"/>
            <a:ext cx="826920" cy="1459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1459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8317080" y="0"/>
            <a:ext cx="826920" cy="1459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5181480"/>
            <a:ext cx="82692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front_252" descr=""/>
          <p:cNvPicPr/>
          <p:nvPr/>
        </p:nvPicPr>
        <p:blipFill>
          <a:blip r:embed="rId1"/>
          <a:stretch/>
        </p:blipFill>
        <p:spPr>
          <a:xfrm>
            <a:off x="4284720" y="3173400"/>
            <a:ext cx="4859280" cy="3684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我们学过陶渊明的哪些作品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67652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黑体"/>
              </a:rPr>
              <a:t>、《桃花源记》      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黑体"/>
              </a:rPr>
              <a:t>(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黑体"/>
              </a:rPr>
              <a:t>散文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7640" y="3809880"/>
            <a:ext cx="61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黑体"/>
              </a:rPr>
              <a:t>、《归园田居》  （田园诗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29718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y8-2" descr="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是东晋开国元勋陶侃的后代，他三次出仕，三次退隐最后下决心走上归田之路。在东晋末年，玄学盛行的背景中，他的诗表现出一种新的人生观与自然观，反对用对立的态度看待人与自然的关系，强调人与自然的一体性，追求人与自然的和谐。他共写《饮酒》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首 是其中的第五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饮酒（序文）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余闲居寡欢，兼比夜已长，偶有名酒，无夕不饮。顾影独尽，忽焉复醉。既醉之后，辄题数句自娱。纸墨遂多，辞无诠次。聊命故人书之，以为欢笑尔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191120" y="3809880"/>
            <a:ext cx="46958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19112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952880" y="1143000"/>
            <a:ext cx="358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152280"/>
            <a:ext cx="3124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饮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陶渊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境，而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车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何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尔，心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采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东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，悠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南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夕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佳，飞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真意，欲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东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早凉生北槛，残照下东篱 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——白居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东篱把酒黄昏后，有暗香盈袖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——李清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欲讯秋情众莫知，喃喃负手扣东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——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红楼梦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3959280" cy="4967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317080" y="5084640"/>
            <a:ext cx="826920" cy="1459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菊的意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荷尽已无擎雨盖，菊残犹有傲霜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宁可枝头抱香死， 何曾吹落北风中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3672000" cy="2232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743200" y="3962520"/>
            <a:ext cx="381636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979720" cy="6400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62520" y="68580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、想想这首诗讲了几层意思，分别写的是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、居住在喧嚣的尘世，为什么生活是如此的平静、心灵是如此的安宁呢？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、选出你喜欢的诗句读一读，谈谈你喜欢的原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11-25T11:19:2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