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gif" ContentType="image/gif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0" y="4486320"/>
            <a:ext cx="3203640" cy="2398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79280" y="476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八年级下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·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诗五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/>
          <p:nvPr/>
        </p:nvSpPr>
        <p:spPr>
          <a:xfrm>
            <a:off x="324000" y="26028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诗五首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·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饮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39278;&#37202;--.mp3" TargetMode="External"/><Relationship Id="rId2" Type="http://schemas.openxmlformats.org/officeDocument/2006/relationships/hyperlink" Target="file:///&#39278;&#37202;--.mp3" TargetMode="External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443640" y="3854520"/>
            <a:ext cx="19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43640" y="428616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95640" y="1125360"/>
            <a:ext cx="640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508720" y="3573360"/>
            <a:ext cx="3449520" cy="3070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531800" y="1413000"/>
            <a:ext cx="11858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饮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59240" y="2565360"/>
            <a:ext cx="8506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陶渊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2448000" cy="4608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84720" y="1341360"/>
            <a:ext cx="2590920" cy="4608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132000" y="1197000"/>
            <a:ext cx="280836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质而绮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且纯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自可传之千古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樽中酒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篱下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岂甘了此一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淡泊名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孤标傲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后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背诵古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加入一定的想象将《饮酒》这首诗改写成一篇散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948360" y="4365720"/>
            <a:ext cx="1478160" cy="1620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7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97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97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443640" y="3854520"/>
            <a:ext cx="19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87280" y="1916280"/>
            <a:ext cx="6409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楷体_GB2312"/>
              </a:rPr>
              <a:t>谢谢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东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早凉生北槛，残照下东篱  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——白居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东篱把酒黄昏后，有暗香盈袖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——李清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欲讯秋情众莫知，喃喃负手扣东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 ——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红楼梦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3384360" cy="4032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8317080" y="5084640"/>
            <a:ext cx="826920" cy="1459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99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799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799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99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60020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708360" y="1267920"/>
            <a:ext cx="5184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陶渊明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6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42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），字元亮，私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靖节。东晋时期著名诗人，散文家，辞赋家。出身没落的官宦家庭。青壮年时做过祭酒，参军一类的小官。因不满官场黑暗，又不肯迎合权势弃官归田。开创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山水田园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并将其推向高峰。后世称其“百世田园之主，千古隐逸之宗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3024000" cy="396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按节奏诵读诗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饮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陶渊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结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\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在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\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人境，而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\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车马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\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问君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\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何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\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能尔，心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\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地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\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自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采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\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东篱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\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下，悠然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\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\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南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山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\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日夕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\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佳，飞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\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相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\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此中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\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\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真意，欲辨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\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已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\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忘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\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"/>
              </a:rPr>
              <a:t>饮酒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/>
              </a:rPr>
              <a:t>--.mp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诗的题目与内容之间存在什  么问题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饮酒（序文）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余闲居寡欢，兼比夜已长，偶有名酒，无夕不饮。顾影独尽，忽焉复醉。既醉之后，辄题数句自娱。纸墨遂多，辞无诠次。聊命故人书之，以为欢笑尔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796000" y="4221000"/>
            <a:ext cx="30909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心远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地自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处闹市若幽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大隐隐于市，小隐隐于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3953160" cy="3933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2268360" y="549360"/>
            <a:ext cx="45356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2844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仿宋_GB2312"/>
              </a:rPr>
              <a:t>超凡脱俗 不求名利</a:t>
            </a:r>
            <a:endParaRPr b="1" lang="en-US" sz="6000" spc="1" strike="noStrike">
              <a:ln w="2844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仿宋_GB2312"/>
              <a:ea typeface="仿宋_GB2312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菊的意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荷尽已无擎雨盖，菊残犹有傲霜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宁可枝头抱香死， 何曾吹落北风中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3672000" cy="2232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419640" y="3933720"/>
            <a:ext cx="3816360" cy="230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品味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与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字哪个更贴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悠然见南山中“见”，有本子作“望”。苏轼说：“因采菊而见山，境与意会，此句最有妙处。近岁俗本皆作‘望南山’，则一篇神气都索然矣。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一语天然万古新，豪华落尽见真淳。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元好问《论诗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00000" y="4221000"/>
            <a:ext cx="2808360" cy="2016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飞鸟相与还的“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真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山气日夕佳，飞鸟相与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羁鸟恋旧林，池鱼思故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68360" y="2565360"/>
            <a:ext cx="5029200" cy="12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cc66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仿宋_GB2312"/>
              </a:rPr>
              <a:t>此中有真意！</a:t>
            </a:r>
            <a:endParaRPr b="1" lang="en-US" sz="6600" spc="1" strike="noStrike">
              <a:ln w="12600">
                <a:solidFill>
                  <a:srgbClr val="cc66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仿宋_GB2312"/>
              <a:ea typeface="仿宋_GB2312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867280" y="1557360"/>
            <a:ext cx="291636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07:11:28Z</dcterms:created>
  <dc:creator>liaoqiuxia</dc:creator>
  <dc:description/>
  <dc:language>en-US</dc:language>
  <cp:lastModifiedBy>微软用户</cp:lastModifiedBy>
  <dcterms:modified xsi:type="dcterms:W3CDTF">2013-05-15T11:10:56Z</dcterms:modified>
  <cp:revision>19</cp:revision>
  <dc:subject/>
  <dc:title>幻灯片 1</dc:title>
</cp:coreProperties>
</file>