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wmf" ContentType="image/x-wmf"/>
  <Override PartName="/ppt/media/image21.png" ContentType="image/png"/>
  <Override PartName="/ppt/media/image19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3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28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chimes.wav" ContentType="audio/x-wav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73F-BFE3-4A0A-B6C2-CE50C22D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FD2-461C-41D4-A1C5-607137B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1DB-A055-4D25-AFEB-D57F63E2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6ED-B1BD-4154-B403-98D26CE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A07-3F40-40FE-9553-F188ED0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885F-2EB3-4291-B82D-EE6ECCE3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98B6-5402-45DF-B4B7-183BB1E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669-DCDE-4D21-9E69-6C54E88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3B9-8D2B-4EF1-8517-2712A7EF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383B-8A80-4D6C-A8F1-B4C9307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1F5-4FAC-4AE5-B353-D8E4851F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38E0-460A-4296-B7A4-7A75B9A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DBB0-97B7-43F5-B31D-5713A79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0122-CD09-4485-A98B-0E55733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36EC-1D11-4FC3-97F7-B0C186C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237-3C63-4B99-941A-B8CACD5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A173-4242-4FB8-B711-B6C60006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12F5-0ED1-4B1B-B478-E2E8D9C1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C4C3-9ECD-44DF-BD2B-94A1875C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BBDB-E464-4708-846F-B7AA7C83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F2EF-A597-478A-A95F-4DA46A64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27B-455A-42A3-A73B-B09C4DA5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CD30-ED8C-43D2-86AC-8BA460B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23D2-AE83-44B2-A318-8EDFF45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DAB3-4ED2-4760-9743-EAB25F53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365F-04B1-4F17-8F41-0ED8903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5742-E5C6-40C3-8B86-81F56DF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9FB6-9D20-4B6C-9137-802F33A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C840-F0EA-42F5-880C-0C20F38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2C64-6470-40CF-B65A-1AA1EA98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DE22-3C39-4DAE-8CFD-F328264D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FAB9-36B7-4A14-93ED-7CE4D4D3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0DF-9B13-44A8-BAF0-0DAC7596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AB73-9F7E-45F0-B732-DC34C617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9967-053F-4B74-8FFE-E704A63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BBCC-9FB2-44DE-B331-9A7F72E3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EFAE-4DE0-448B-8FF1-166339CD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A119-D483-44F3-A346-2EB51EAF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51FB-49A3-4623-9258-5D49092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AF0D6-0208-4CD1-8495-F69125E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34FD-F5F7-433F-BB18-27921C1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82A9-EFA3-4CBB-93F0-F71B0FE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C3C5-23BA-4952-9674-A47C491E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F92-7C72-459F-8A56-3BC3479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2FDB-280D-4815-BA63-F30A898F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8551-0B6D-4DD6-977B-B26395AC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7529-233C-4A8B-B523-9855BF7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E38F-006D-428D-A87F-D4026B6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C223B-FA07-4D82-BA40-8F2E34FF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14FF-0844-46D3-A86A-53C8F272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285B-2468-40AD-93CC-DE1C62F9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FA02-C1A1-45F5-B1BA-983FB4A8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680F-20AA-4FC6-95A3-0CCA2A8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6D376-85EF-4893-B51A-7D2063E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628-FB13-4DF7-B10F-35E4633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C494-9B74-455E-A737-F77509D1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434C5-8694-4D87-8EE5-A144AC81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2641A-2820-4D0C-804E-43AC07B5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8A335-F27D-472D-A622-59F6E569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78311-EDC7-4FEF-9B18-2B3D248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CD2A6-8C99-450B-AA7B-5A8349C1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2FD80-C3FA-4FA7-BE45-85B1FEA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C2277-9894-425D-8BA3-C7C3DC3F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BB375-9173-4441-A440-B94B9FF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5A7A0-AE60-4C79-8FA8-5CAF9A5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20D-F5FF-4596-9600-946ABE1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99A76-0F7C-42F9-9DA0-0AC94BE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29A26-37C3-4952-A44B-90B5A6C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74EE4-4D48-4518-9038-6F34F6B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80E89-B243-45A8-9FE3-9A44F619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98330-312F-40C7-B0C7-779686DE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3F4-15FE-432B-AB14-E6FC55B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F5C3-5601-4A72-912A-6B66C6303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41E-7F5F-4B87-B797-1681E7DD1F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DA35-45A1-45C0-9CD1-D47B4F297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1A6-E560-4B9A-9075-0BB9E2581A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2E4-E74F-4732-99FB-60D76A798F4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8634-0925-4A27-87D5-DA98F828DA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3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41720" y="34596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zh-CN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</a:t>
            </a:r>
            <a:r>
              <a:rPr b="1" lang="en-US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5</a:t>
            </a:r>
            <a:r>
              <a:rPr b="1" lang="zh-CN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咏华山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78520" y="83664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hu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in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555640" y="-311040"/>
            <a:ext cx="633708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代   寇准   七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艰难  山腰间  山顶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不自禁  吟诵  称赞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76040" y="1857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640" y="189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84840" y="191628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iān   n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1916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80360" y="177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47880" y="36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35640" y="364500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ín s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33400" y="35002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56000" y="-237960"/>
            <a:ext cx="633708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代   寇准   七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艰难  山腰间  山顶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不自禁  吟诵  称赞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9280" y="612720"/>
            <a:ext cx="8801280" cy="5985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635280" y="22766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635280" y="1557360"/>
            <a:ext cx="1584360" cy="719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52720" y="220500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219640" y="1557360"/>
            <a:ext cx="1584360" cy="719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7080" y="220500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2050920" y="22766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050920" y="1557360"/>
            <a:ext cx="1584360" cy="719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220500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3635280" y="45626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635280" y="3843360"/>
            <a:ext cx="1584360" cy="719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449100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5219640" y="45626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219640" y="3843360"/>
            <a:ext cx="1584360" cy="719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37080" y="449100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2050920" y="45626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50920" y="3843360"/>
            <a:ext cx="1584360" cy="719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68360" y="449100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348000" y="907920"/>
            <a:ext cx="216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认一认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79280" y="612720"/>
            <a:ext cx="8801280" cy="5985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11280" y="33368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11280" y="2617920"/>
            <a:ext cx="1584360" cy="718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8720" y="326556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195640" y="33368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195640" y="2617920"/>
            <a:ext cx="1584360" cy="718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ò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13080" y="326556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780000" y="3336840"/>
            <a:ext cx="1584000" cy="1387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780000" y="2617920"/>
            <a:ext cx="1584000" cy="718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3265560"/>
            <a:ext cx="12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5364000" y="33368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364000" y="2617920"/>
            <a:ext cx="1584360" cy="718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ò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81800" y="3265560"/>
            <a:ext cx="12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6948360" y="3336840"/>
            <a:ext cx="1584360" cy="1387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948360" y="2617920"/>
            <a:ext cx="1584360" cy="718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5800" y="326556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9280" y="612720"/>
            <a:ext cx="8801280" cy="5985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050920" y="321300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37814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506920" y="321300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50920" y="2421000"/>
            <a:ext cx="172908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78200" y="2421000"/>
            <a:ext cx="172872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06920" y="2421000"/>
            <a:ext cx="172908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92480" y="3139920"/>
            <a:ext cx="126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95640" y="313992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22920" y="3139920"/>
            <a:ext cx="127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4683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华山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78200" y="468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中间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0000" y="46530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与其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79280" y="612720"/>
            <a:ext cx="8801280" cy="5985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1187280" y="321300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91780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4643280" y="321300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87280" y="2421000"/>
            <a:ext cx="172908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14560" y="2421000"/>
            <a:ext cx="172872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43280" y="2421000"/>
            <a:ext cx="172908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28840" y="3139920"/>
            <a:ext cx="127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313992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139920"/>
            <a:ext cx="127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16000" y="475452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一齐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43280" y="4754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称赞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5080" y="4724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年代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637236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372360" y="2421000"/>
            <a:ext cx="1728720" cy="792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8000" y="3139920"/>
            <a:ext cx="127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2360" y="4724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岁月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79280" y="612720"/>
            <a:ext cx="8801280" cy="59850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324000" y="620640"/>
            <a:ext cx="2233440" cy="1584360"/>
            <a:chOff x="324000" y="620640"/>
            <a:chExt cx="2233440" cy="1584360"/>
          </a:xfrm>
        </p:grpSpPr>
        <p:grpSp>
          <p:nvGrpSpPr>
            <p:cNvPr id="390" name=""/>
            <p:cNvGrpSpPr/>
            <p:nvPr/>
          </p:nvGrpSpPr>
          <p:grpSpPr>
            <a:xfrm>
              <a:off x="324000" y="620640"/>
              <a:ext cx="2233440" cy="1584360"/>
              <a:chOff x="324000" y="620640"/>
              <a:chExt cx="2233440" cy="1584360"/>
            </a:xfrm>
          </p:grpSpPr>
          <p:pic>
            <p:nvPicPr>
              <p:cNvPr id="3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620640"/>
                <a:ext cx="22334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671760" y="1064520"/>
                <a:ext cx="160488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 txBox="1"/>
            <p:nvPr/>
          </p:nvSpPr>
          <p:spPr>
            <a:xfrm>
              <a:off x="684360" y="90972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写一写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47640" y="2205000"/>
            <a:ext cx="4285080" cy="1440000"/>
            <a:chOff x="2447640" y="2205000"/>
            <a:chExt cx="4285080" cy="1440000"/>
          </a:xfrm>
        </p:grpSpPr>
        <p:grpSp>
          <p:nvGrpSpPr>
            <p:cNvPr id="395" name=""/>
            <p:cNvGrpSpPr/>
            <p:nvPr/>
          </p:nvGrpSpPr>
          <p:grpSpPr>
            <a:xfrm>
              <a:off x="3876840" y="2246400"/>
              <a:ext cx="1427040" cy="1398600"/>
              <a:chOff x="3876840" y="2246400"/>
              <a:chExt cx="1427040" cy="139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3876840" y="2246400"/>
                <a:ext cx="14270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876840" y="2945880"/>
                <a:ext cx="14270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590720" y="228096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47640" y="2246400"/>
              <a:ext cx="1429200" cy="1398600"/>
              <a:chOff x="2447640" y="2246400"/>
              <a:chExt cx="1429200" cy="1398600"/>
            </a:xfrm>
          </p:grpSpPr>
          <p:sp>
            <p:nvSpPr>
              <p:cNvPr id="400" name=""/>
              <p:cNvSpPr/>
              <p:nvPr/>
            </p:nvSpPr>
            <p:spPr>
              <a:xfrm>
                <a:off x="2448000" y="2246400"/>
                <a:ext cx="14288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447640" y="2945880"/>
                <a:ext cx="14288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62600" y="228096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303520" y="2246400"/>
              <a:ext cx="1429200" cy="1398600"/>
              <a:chOff x="5303520" y="2246400"/>
              <a:chExt cx="1429200" cy="1398600"/>
            </a:xfrm>
          </p:grpSpPr>
          <p:sp>
            <p:nvSpPr>
              <p:cNvPr id="404" name=""/>
              <p:cNvSpPr/>
              <p:nvPr/>
            </p:nvSpPr>
            <p:spPr>
              <a:xfrm>
                <a:off x="5303880" y="2246400"/>
                <a:ext cx="14288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303520" y="2945880"/>
                <a:ext cx="14288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18480" y="228096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532240" y="2205000"/>
              <a:ext cx="418788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与代岁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739520" y="3789360"/>
            <a:ext cx="5712120" cy="1440000"/>
            <a:chOff x="1739520" y="3789360"/>
            <a:chExt cx="5712120" cy="1440000"/>
          </a:xfrm>
        </p:grpSpPr>
        <p:grpSp>
          <p:nvGrpSpPr>
            <p:cNvPr id="409" name=""/>
            <p:cNvGrpSpPr/>
            <p:nvPr/>
          </p:nvGrpSpPr>
          <p:grpSpPr>
            <a:xfrm>
              <a:off x="3168720" y="3830760"/>
              <a:ext cx="1427040" cy="1398600"/>
              <a:chOff x="3168720" y="3830760"/>
              <a:chExt cx="1427040" cy="1398600"/>
            </a:xfrm>
          </p:grpSpPr>
          <p:sp>
            <p:nvSpPr>
              <p:cNvPr id="410" name=""/>
              <p:cNvSpPr/>
              <p:nvPr/>
            </p:nvSpPr>
            <p:spPr>
              <a:xfrm>
                <a:off x="3168720" y="3830760"/>
                <a:ext cx="14270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168720" y="4530240"/>
                <a:ext cx="14270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82600" y="386532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39520" y="3830760"/>
              <a:ext cx="1429200" cy="1398600"/>
              <a:chOff x="1739520" y="3830760"/>
              <a:chExt cx="1429200" cy="1398600"/>
            </a:xfrm>
          </p:grpSpPr>
          <p:sp>
            <p:nvSpPr>
              <p:cNvPr id="414" name=""/>
              <p:cNvSpPr/>
              <p:nvPr/>
            </p:nvSpPr>
            <p:spPr>
              <a:xfrm>
                <a:off x="1739880" y="3830760"/>
                <a:ext cx="14288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1739520" y="4530240"/>
                <a:ext cx="14288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454480" y="386532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595400" y="3830760"/>
              <a:ext cx="1429200" cy="1398600"/>
              <a:chOff x="4595400" y="3830760"/>
              <a:chExt cx="1429200" cy="1398600"/>
            </a:xfrm>
          </p:grpSpPr>
          <p:sp>
            <p:nvSpPr>
              <p:cNvPr id="418" name=""/>
              <p:cNvSpPr/>
              <p:nvPr/>
            </p:nvSpPr>
            <p:spPr>
              <a:xfrm>
                <a:off x="4595760" y="3830760"/>
                <a:ext cx="14288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4595400" y="4530240"/>
                <a:ext cx="14288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10360" y="386532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024600" y="3830760"/>
              <a:ext cx="1427040" cy="1398600"/>
              <a:chOff x="6024600" y="3830760"/>
              <a:chExt cx="1427040" cy="1398600"/>
            </a:xfrm>
          </p:grpSpPr>
          <p:sp>
            <p:nvSpPr>
              <p:cNvPr id="422" name=""/>
              <p:cNvSpPr/>
              <p:nvPr/>
            </p:nvSpPr>
            <p:spPr>
              <a:xfrm>
                <a:off x="6024600" y="3830760"/>
                <a:ext cx="1427040" cy="1398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024600" y="4530240"/>
                <a:ext cx="14270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38480" y="3865320"/>
                <a:ext cx="0" cy="1364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824120" y="3789360"/>
              <a:ext cx="560520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华齐间称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2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547640" y="-1396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hu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0840" y="112392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华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1219320"/>
            <a:ext cx="38336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华山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姓华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huá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中华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华丽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629080" y="3213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740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4920" y="800280"/>
            <a:ext cx="907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永靖中心学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一年级（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黑体"/>
              </a:rPr>
              <a:t>庆祝六一儿童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3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547640" y="-1396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jiā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06640" y="112536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间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62720" y="1219320"/>
            <a:ext cx="3833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中间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民间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乡间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629080" y="3213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4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547640" y="-1396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9600" spc="-1" strike="noStrike">
                <a:solidFill>
                  <a:srgbClr val="ff0066"/>
                </a:solidFill>
                <a:latin typeface="新宋体"/>
              </a:rPr>
              <a:t>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22640" y="127008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1219320"/>
            <a:ext cx="3833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参与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与共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不与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给与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997440" y="314172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5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547640" y="-1396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q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20840" y="112392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齐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1219320"/>
            <a:ext cx="3833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齐天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整齐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不齐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齐心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629080" y="3213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6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547640" y="-13968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chē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20840" y="112392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1219320"/>
            <a:ext cx="3833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称赞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称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名称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629080" y="3213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7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7640" y="-1396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dà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20840" y="112392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代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62720" y="1219320"/>
            <a:ext cx="3833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时代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世代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交代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古代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629080" y="3213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1341360"/>
            <a:ext cx="5292720" cy="5516640"/>
            <a:chOff x="0" y="1341360"/>
            <a:chExt cx="5292720" cy="5516640"/>
          </a:xfrm>
        </p:grpSpPr>
        <p:grpSp>
          <p:nvGrpSpPr>
            <p:cNvPr id="487" name=""/>
            <p:cNvGrpSpPr/>
            <p:nvPr/>
          </p:nvGrpSpPr>
          <p:grpSpPr>
            <a:xfrm>
              <a:off x="0" y="1341360"/>
              <a:ext cx="5292720" cy="5516640"/>
              <a:chOff x="0" y="1341360"/>
              <a:chExt cx="5292720" cy="551664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1341360"/>
                <a:ext cx="5292720" cy="55166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4076640"/>
                <a:ext cx="5292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27280" y="1341360"/>
                <a:ext cx="0" cy="5516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755640" y="1484280"/>
              <a:ext cx="4248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47640" y="-1396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su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1000" y="119700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383364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七岁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岁月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压岁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万岁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629080" y="3213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785080" cy="59054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92000" y="2204640"/>
            <a:ext cx="61945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5</a:t>
            </a:r>
            <a:r>
              <a:rPr b="1" lang="zh-CN" sz="8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咏华山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98100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hu</a:t>
            </a:r>
            <a:r>
              <a:rPr b="1" lang="en-US" sz="8800" spc="-1" strike="noStrike">
                <a:solidFill>
                  <a:srgbClr val="ff5050"/>
                </a:solidFill>
                <a:latin typeface="宋体"/>
              </a:rPr>
              <a:t>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3647880" cy="39146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413080" y="-598320"/>
            <a:ext cx="3454200" cy="25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kòu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寇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97080" y="4581360"/>
            <a:ext cx="731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古时候，有个小孩儿跟先生去登华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24000" y="5589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沿着山路艰难地爬上山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99000" y="5589720"/>
            <a:ext cx="152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艰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427640" y="76500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zh-CN" sz="8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4160" y="112536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hu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19360" y="1901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933840" y="2643120"/>
            <a:ext cx="354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啊</a:t>
            </a:r>
            <a:r>
              <a:rPr b="1" lang="en-US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华山真高哇</a:t>
            </a:r>
            <a:r>
              <a:rPr b="1" lang="en-US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896760" y="115920"/>
            <a:ext cx="70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除了蓝天，远远近近的山都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自己的脚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280360" cy="5896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050840" cy="1044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55640" y="189000"/>
            <a:ext cx="79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太阳显得那么近，山腰间飘着朵朵白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8836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244000" cy="59054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06440" y="1089000"/>
            <a:ext cx="46054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啊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华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真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！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除了蓝天，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远近近的山都在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己的脚下。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太阳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得那么近，山腰间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着朵朵白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03280" y="4221000"/>
            <a:ext cx="73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只有天在上，更无山与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举头红日近，回首白云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39640" y="-527040"/>
            <a:ext cx="50403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只有天在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更无山与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76720" y="1125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除了蓝天远远近近的山都在自己的脚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19640" y="4029120"/>
            <a:ext cx="34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太阳显得那么近，山腰间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着朵朵白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860640"/>
            <a:ext cx="45720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举头红日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回首白云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06440" y="995400"/>
            <a:ext cx="701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 </a:t>
            </a:r>
            <a:r>
              <a:rPr b="1" lang="en-US" sz="6600" spc="-1" strike="noStrike">
                <a:solidFill>
                  <a:srgbClr val="ff5050"/>
                </a:solidFill>
                <a:latin typeface="宋体"/>
              </a:rPr>
              <a:t>huà</a:t>
            </a:r>
            <a:br>
              <a:rPr sz="8800"/>
            </a:br>
            <a:r>
              <a:rPr b="1" lang="en-US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</a:t>
            </a:r>
            <a:r>
              <a:rPr b="1" lang="zh-CN" sz="8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咏华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10147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9"/>
                </p:tgtEl>
              </p:cMediaNode>
            </p:audio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103640" cy="59054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076720" y="1268280"/>
            <a:ext cx="347688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望庐山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照香炉生紫烟，遥看瀑布挂前川。 飞流直下三千尺，疑是银河落九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4360" y="2349360"/>
            <a:ext cx="36003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题西林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北宋</a:t>
            </a:r>
            <a:r>
              <a:rPr b="0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苏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远近高低各不同。 不识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缘身在此山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751280" cy="58323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292720" y="1052640"/>
            <a:ext cx="360036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望天门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门中断楚江开，碧水东流至此回。 两岸青山相对出，孤帆一片日边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569080" cy="50497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17680" y="1905120"/>
            <a:ext cx="78674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好诗！好诗！”先生连连点头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称赞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68560" y="4005360"/>
            <a:ext cx="123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c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9640" y="31417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小孩儿就是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寇准，那年才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七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826920" y="4524480"/>
            <a:ext cx="1656000" cy="1511280"/>
            <a:chOff x="826920" y="4524480"/>
            <a:chExt cx="1656000" cy="1511280"/>
          </a:xfrm>
        </p:grpSpPr>
        <p:sp>
          <p:nvSpPr>
            <p:cNvPr id="538" name=""/>
            <p:cNvSpPr/>
            <p:nvPr/>
          </p:nvSpPr>
          <p:spPr>
            <a:xfrm>
              <a:off x="826920" y="4524480"/>
              <a:ext cx="1656000" cy="1511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6920" y="5288040"/>
              <a:ext cx="1656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61760" y="4524480"/>
              <a:ext cx="0" cy="1511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971640" y="4467240"/>
            <a:ext cx="14572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39640" y="476280"/>
            <a:ext cx="2519280" cy="1506600"/>
            <a:chOff x="539640" y="476280"/>
            <a:chExt cx="2519280" cy="1506600"/>
          </a:xfrm>
        </p:grpSpPr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>
              <a:off x="539640" y="476280"/>
              <a:ext cx="179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828360" y="619200"/>
              <a:ext cx="223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读句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276720" y="4508640"/>
            <a:ext cx="1657080" cy="1512720"/>
            <a:chOff x="3276720" y="4508640"/>
            <a:chExt cx="1657080" cy="1512720"/>
          </a:xfrm>
        </p:grpSpPr>
        <p:sp>
          <p:nvSpPr>
            <p:cNvPr id="546" name=""/>
            <p:cNvSpPr/>
            <p:nvPr/>
          </p:nvSpPr>
          <p:spPr>
            <a:xfrm>
              <a:off x="3276720" y="4508640"/>
              <a:ext cx="1657080" cy="1512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6720" y="5272920"/>
              <a:ext cx="16570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12280" y="4508640"/>
              <a:ext cx="0" cy="1512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0360" y="4508640"/>
            <a:ext cx="1656000" cy="1512720"/>
            <a:chOff x="5940360" y="4508640"/>
            <a:chExt cx="1656000" cy="1512720"/>
          </a:xfrm>
        </p:grpSpPr>
        <p:sp>
          <p:nvSpPr>
            <p:cNvPr id="550" name=""/>
            <p:cNvSpPr/>
            <p:nvPr/>
          </p:nvSpPr>
          <p:spPr>
            <a:xfrm>
              <a:off x="5940360" y="4508640"/>
              <a:ext cx="1656000" cy="1512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40360" y="5272920"/>
              <a:ext cx="1656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75200" y="4508640"/>
              <a:ext cx="0" cy="1512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419640" y="4538520"/>
            <a:ext cx="1522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4538520"/>
            <a:ext cx="1522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80000" y="4005360"/>
            <a:ext cx="12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432480" y="400536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7236000" y="333360"/>
            <a:ext cx="1679400" cy="18716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443640" y="23922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99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84720" y="3573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99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54920" y="3573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99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17:13Z</dcterms:created>
  <dc:creator>王永生</dc:creator>
  <dc:description/>
  <cp:keywords/>
  <dc:language>en-US</dc:language>
  <cp:lastModifiedBy>微软用户</cp:lastModifiedBy>
  <dcterms:modified xsi:type="dcterms:W3CDTF">2017-02-23T03:42:47Z</dcterms:modified>
  <cp:revision>43</cp:revision>
  <dc:subject/>
  <dc:title>     huà 22.咏华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