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8280400" cy="7923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E6F-AA30-4A45-8991-ACC38A46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000" y="317520"/>
            <a:ext cx="7451640" cy="1319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847520"/>
            <a:ext cx="745164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000" y="4578120"/>
            <a:ext cx="745164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DFF-0BDC-454B-9FE4-729F70C1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000" y="317520"/>
            <a:ext cx="7451640" cy="1319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847520"/>
            <a:ext cx="363636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2520" y="1847520"/>
            <a:ext cx="363636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000" y="4578120"/>
            <a:ext cx="363636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2520" y="4578120"/>
            <a:ext cx="363636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BA4-C7CA-457E-BC9E-A754B447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000" y="317520"/>
            <a:ext cx="7451640" cy="1319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847520"/>
            <a:ext cx="239904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3280" y="1847520"/>
            <a:ext cx="239904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52920" y="1847520"/>
            <a:ext cx="239904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000" y="4578120"/>
            <a:ext cx="239904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3280" y="4578120"/>
            <a:ext cx="239904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52920" y="4578120"/>
            <a:ext cx="239904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D99-3EC3-4D55-8E3E-9CFC5555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000" y="317520"/>
            <a:ext cx="7451640" cy="1319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000" y="1847520"/>
            <a:ext cx="745164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95B-65F7-4C90-86B2-B55C36FE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000" y="317520"/>
            <a:ext cx="7451640" cy="1319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000" y="1847520"/>
            <a:ext cx="7451640" cy="52275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574-F042-4EB0-9A66-8334B608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000" y="317520"/>
            <a:ext cx="7451640" cy="1319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000" y="1847520"/>
            <a:ext cx="3636360" cy="52275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2520" y="1847520"/>
            <a:ext cx="3636360" cy="52275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239-397B-41A2-8C39-CA1C3352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000" y="317520"/>
            <a:ext cx="7451640" cy="1319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465-F0DA-41DD-8CA5-AEA25500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000" y="317520"/>
            <a:ext cx="7451640" cy="61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EAA-36C5-4B3D-A382-660AFA72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000" y="317520"/>
            <a:ext cx="7451640" cy="1319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847520"/>
            <a:ext cx="363636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2520" y="1847520"/>
            <a:ext cx="3636360" cy="52275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000" y="4578120"/>
            <a:ext cx="363636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58C-BC4F-4921-9A4A-BD9FABB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000" y="317520"/>
            <a:ext cx="7451640" cy="1319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847520"/>
            <a:ext cx="3636360" cy="52275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2520" y="1847520"/>
            <a:ext cx="363636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2520" y="4578120"/>
            <a:ext cx="363636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54D-F233-4EA0-9E01-97D722CE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000" y="317520"/>
            <a:ext cx="7451640" cy="1319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847520"/>
            <a:ext cx="363636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2520" y="1847520"/>
            <a:ext cx="363636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000" y="4578120"/>
            <a:ext cx="7451640" cy="2493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8A4-8D22-4095-B4FC-7CBA2B6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000" y="317520"/>
            <a:ext cx="7451640" cy="1319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000" y="1847520"/>
            <a:ext cx="7451640" cy="52275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rmAutofit/>
          </a:bodyPr>
          <a:p>
            <a:pPr marL="328680" indent="-328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32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368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31800" indent="-2188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9920" indent="-2188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9920" indent="-2188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9920" indent="-2188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7213680"/>
            <a:ext cx="1932120" cy="550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lstStyle>
            <a:lvl1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8520" y="7213680"/>
            <a:ext cx="2622600" cy="550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lstStyle>
            <a:lvl1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934240" y="7213680"/>
            <a:ext cx="1931760" cy="550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D73727DB-60B6-4CA2-9DCA-7D2FA2DD818B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0" y="0"/>
            <a:ext cx="10557000" cy="792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1152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苏教版小学语文第二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2666880"/>
            <a:ext cx="28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咏华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53290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咸阳市渭城区道北铁小　胡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86320" cy="792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12106440" cy="7921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1862280"/>
            <a:ext cx="820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除了蓝天，远远近近的山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自己的脚下。太阳显得那么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山腰间飘着朵朵白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61680" cy="792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524720" y="7273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872640" cy="792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p:transition spd="slow" advTm="8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63120" cy="792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p:transition spd="slow" advTm="8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072200" cy="792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p:transition spd="slow" advTm="8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63120" cy="792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p:transition spd="slow" advTm="8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39440" cy="792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46080" cy="7921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56000" y="1119240"/>
            <a:ext cx="4105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咏华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只有天在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更无山与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举头红日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回首白云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46080" cy="7921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4360" y="1119240"/>
            <a:ext cx="5184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咏华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只有</a:t>
            </a:r>
            <a:r>
              <a:rPr b="0" i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在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更无</a:t>
            </a:r>
            <a:r>
              <a:rPr b="0" i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山与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举头</a:t>
            </a:r>
            <a:r>
              <a:rPr b="0" i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红日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回首</a:t>
            </a:r>
            <a:r>
              <a:rPr b="0" i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白云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63120" cy="792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46080" cy="792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56000" y="1119240"/>
            <a:ext cx="4105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咏华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只有天在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更无山与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举头红日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回首白云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812000" y="761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046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63120" cy="792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8880" cy="7921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60360" y="1440000"/>
            <a:ext cx="3889440" cy="1363680"/>
          </a:xfrm>
          <a:prstGeom prst="cloudCallout">
            <a:avLst>
              <a:gd name="adj1" fmla="val -34245"/>
              <a:gd name="adj2" fmla="val 2566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18795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出发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6219720"/>
            <a:ext cx="2774880" cy="17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65 -0.10597 C 0.13523 -0.13963 0.22482 -0.31811 0.27815 -0.30769 C 0.33147 -0.29728 0.32419 0.00921 0.42681 -0.04287 C 0.52944 -0.09495 0.81603 -0.52344 0.89411 -0.61959 E">
                                      <p:cBhvr>
                                        <p:cTn id="6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38920" cy="792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26800" cy="7921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14320" y="1152360"/>
            <a:ext cx="7466040" cy="6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沿着     艰难  　　称赞     宋代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79480" y="2733840"/>
            <a:ext cx="6932520" cy="6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顶 　吟诵　　 寇准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七岁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琥珀"/>
              </a:rPr>
              <a:t> 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9280" y="4392720"/>
            <a:ext cx="745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不自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7440" y="23018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7010640" cy="7921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16000"/>
            <a:ext cx="5003640" cy="1579320"/>
          </a:xfrm>
          <a:prstGeom prst="cloudCallout">
            <a:avLst>
              <a:gd name="adj1" fmla="val -39722"/>
              <a:gd name="adj2" fmla="val 205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040" y="7223040"/>
            <a:ext cx="144468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沿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20760" y="6624720"/>
            <a:ext cx="155088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艰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08200" y="5465880"/>
            <a:ext cx="163980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山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4702320"/>
            <a:ext cx="151272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吟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3886200"/>
            <a:ext cx="165888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称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24360" y="3129120"/>
            <a:ext cx="160488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宋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2216160"/>
            <a:ext cx="146844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寇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1390680"/>
            <a:ext cx="125568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七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382680"/>
            <a:ext cx="248436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情不自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800" y="549360"/>
            <a:ext cx="4435560" cy="6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楷体"/>
              </a:rPr>
              <a:t>我是登山小高手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06440" cy="792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36680" y="2050920"/>
            <a:ext cx="599904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Arial"/>
                <a:ea typeface="楷体_GB2312"/>
              </a:rPr>
              <a:t>啊！华山真高哇！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2880" cy="7921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27640" y="598320"/>
            <a:ext cx="432108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啊！华山真高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0" y="0"/>
            <a:ext cx="5940360" cy="792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74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8:35:24Z</dcterms:created>
  <dc:creator>00</dc:creator>
  <dc:description/>
  <dc:language>en-US</dc:language>
  <cp:lastModifiedBy>微软用户</cp:lastModifiedBy>
  <dcterms:modified xsi:type="dcterms:W3CDTF">2017-02-23T03:43:11Z</dcterms:modified>
  <cp:revision>36</cp:revision>
  <dc:subject/>
  <dc:title>幻灯片 1</dc:title>
</cp:coreProperties>
</file>