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type.wav" ContentType="audio/x-wav"/>
  <Override PartName="/ppt/media/image6.jpeg" ContentType="image/jpeg"/>
  <Override PartName="/ppt/media/image27.jpeg" ContentType="image/jpeg"/>
  <Override PartName="/ppt/media/image1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6AE-D39A-4B7B-A341-F440F2C2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687-8C0C-4D25-82CC-3224360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75A-F6AC-4DA4-9D0D-2925E015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88B-A1A6-4326-8943-C10A7741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A6D-C371-47E9-8395-C93B320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E54-6E4E-401D-9F7B-CE481543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C8F-B0BD-4498-BE9C-A511C2B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270-3F8C-4C5E-B555-AC09D5CF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E66-6262-4955-BB2D-EFA5E03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A02-BB40-4C71-A692-9B6DE39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0AD-D175-4609-A44A-B1ED0CF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3A9-6957-400A-A401-761C121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4948-8C07-4F2E-9687-7D83E2DA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4952880"/>
            <a:ext cx="4114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制作人：丹阳中学 孙振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371600"/>
            <a:ext cx="7010280" cy="26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Times New Roman"/>
              </a:rPr>
              <a:t>游恒山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Times New Roman"/>
              </a:rPr>
              <a:t>徐霞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松树：松如筛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195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北岳殿：上负绝壁，下临官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　　　殿下云级插天，庑门上下，穹碑森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267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会仙台：台中像群仙，环列无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762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略写的景物各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如何写登上绝顶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9144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１、写决心：余时欲跻危崖，登绝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002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２、写山的险峻：“望两崖断处，中垂草莽者千尺，为登顶间道”、“出危崖上，仰眺绝顶，犹杰然天半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4290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３、写其难攀：满山短树蒙密，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枯竹，但能钩衣刺服，攀践辄断折，用力虽勤，若堕洪涛，汩汩不能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990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面对如此难以攀缘的绝顶，作者是如何面对的？表现了作者什么样的精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3526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－－余益鼓勇上，久之棘尽，始登其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8006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－－不畏艰险、不怕辛苦、勇于踏勘实践的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如何写登顶眺望的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4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用定点观察发法，以山顶为基点俯视四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山北－－崩崖乱坠，杂树密翳。隔山一重，苍茫无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581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山南－－龙泉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343400"/>
            <a:ext cx="4114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山西－－五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0292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近处－－龙山西亘，支峰东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　　　若比肩连袂下扼沙漠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1430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下山时写到松树，有何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429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同样的事物从不同的角度观察，所见的景致也不同。通过对比，反衬出恒山的高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9144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　本文写作很有特色。试着作简单的分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－－叙述或描写详略得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886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－－定点观察法，清楚地介绍了恒山的地理位置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恒山　　悬空寺6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046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恒山　悬空寺0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030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129528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五岳归来不看山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黄山归来不看岳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恒山　　悬空寺4" descr=""/>
          <p:cNvPicPr/>
          <p:nvPr/>
        </p:nvPicPr>
        <p:blipFill>
          <a:blip r:embed="rId2"/>
          <a:stretch/>
        </p:blipFill>
        <p:spPr>
          <a:xfrm>
            <a:off x="2286000" y="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恒山　　悬空寺2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03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5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035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恒山　悬空寺3" descr=""/>
          <p:cNvPicPr/>
          <p:nvPr/>
        </p:nvPicPr>
        <p:blipFill>
          <a:blip r:embed="rId2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恒山　　悬空寺13" descr=""/>
          <p:cNvPicPr/>
          <p:nvPr/>
        </p:nvPicPr>
        <p:blipFill>
          <a:blip r:embed="rId2"/>
          <a:stretch/>
        </p:blipFill>
        <p:spPr>
          <a:xfrm>
            <a:off x="0" y="114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恒山　　悬空寺11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恒山　　悬空寺12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041" descr=""/>
          <p:cNvPicPr/>
          <p:nvPr/>
        </p:nvPicPr>
        <p:blipFill>
          <a:blip r:embed="rId2"/>
          <a:stretch/>
        </p:blipFill>
        <p:spPr>
          <a:xfrm>
            <a:off x="0" y="0"/>
            <a:ext cx="602460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恒山1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悬空寺　悬空绝境" descr=""/>
          <p:cNvPicPr/>
          <p:nvPr/>
        </p:nvPicPr>
        <p:blipFill>
          <a:blip r:embed="rId2"/>
          <a:stretch/>
        </p:blipFill>
        <p:spPr>
          <a:xfrm>
            <a:off x="571680" y="754200"/>
            <a:ext cx="80010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1219320"/>
            <a:ext cx="9448560" cy="5437800"/>
            <a:chOff x="0" y="1219320"/>
            <a:chExt cx="9448560" cy="5437800"/>
          </a:xfrm>
        </p:grpSpPr>
        <p:sp>
          <p:nvSpPr>
            <p:cNvPr id="45" name=""/>
            <p:cNvSpPr/>
            <p:nvPr/>
          </p:nvSpPr>
          <p:spPr>
            <a:xfrm>
              <a:off x="0" y="1219320"/>
              <a:ext cx="2449080" cy="34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449080" y="1219320"/>
              <a:ext cx="6466320" cy="2882520"/>
              <a:chOff x="2449080" y="1219320"/>
              <a:chExt cx="6466320" cy="2882520"/>
            </a:xfrm>
          </p:grpSpPr>
          <p:sp>
            <p:nvSpPr>
              <p:cNvPr id="47" name=""/>
              <p:cNvSpPr/>
              <p:nvPr/>
            </p:nvSpPr>
            <p:spPr>
              <a:xfrm>
                <a:off x="2449080" y="1219320"/>
                <a:ext cx="6466320" cy="28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100"/>
                </a:b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　　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　　　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徐霞客是我国明代杰出的地理学家、旅行探险家、游记文学家和伟大的爱国主义者，江苏江阴马镇人，生于公元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87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日，卒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64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年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月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日。他不慕功名，不求富贵，从二十二岁开始，三十四年间，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老布衣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身份，步行十万余里，遍游祖国相当于现今十九个省市自治区。徐霞客具有丰富的博物知识，以忧国忧民的责任感、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迫感和征事考实的治学态度，为祖国地理地质考察和游记文学事业奉献了一生。他在旅行沿途遇到种种为人们难以想象的危境困境，却始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鼓勇而前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并以惊人的毅力，随时随地坚持著述。他的著作包括日记、专论、诗词、书信，由后人汇编为《徐霞客游记》，被誉为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"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世间真文字、大文字、奇文字。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"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《 游记》约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多万字，是一部多学科的珍贵的科学文献，也是别具一格的游记文学巨著。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49080" y="1219320"/>
                <a:ext cx="646632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　　　　　　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4651920"/>
              <a:ext cx="9448560" cy="20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xxk-image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819440" cy="259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86200" y="53352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徐 霞 客 简 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悬空寺000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恒山　下望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8380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文章的主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　　文章描写和叙述了作者游恒山登顶的经过，表现了他不畏艰险、不怕辛劳、勇于踏勘实践的精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徐霞客　　人0" descr=""/>
          <p:cNvPicPr/>
          <p:nvPr/>
        </p:nvPicPr>
        <p:blipFill>
          <a:blip r:embed="rId2"/>
          <a:stretch/>
        </p:blipFill>
        <p:spPr>
          <a:xfrm>
            <a:off x="5689440" y="426708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徐霞客　　晚年" descr=""/>
          <p:cNvPicPr/>
          <p:nvPr/>
        </p:nvPicPr>
        <p:blipFill>
          <a:blip r:embed="rId3"/>
          <a:stretch/>
        </p:blipFill>
        <p:spPr>
          <a:xfrm>
            <a:off x="0" y="0"/>
            <a:ext cx="632448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徐霞客　　在鲜花簇拥中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051" descr=""/>
          <p:cNvPicPr/>
          <p:nvPr/>
        </p:nvPicPr>
        <p:blipFill>
          <a:blip r:embed="rId2"/>
          <a:stretch/>
        </p:blipFill>
        <p:spPr>
          <a:xfrm>
            <a:off x="0" y="-4851360"/>
            <a:ext cx="9121680" cy="1216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1696800">
            <a:off x="-838080" y="1828800"/>
            <a:ext cx="10287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</a:rPr>
              <a:t>路漫漫其修远兮，吾将上下而求索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徐霞客　昂首挺胸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徐霞客　　游记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09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ongsi" descr="北岳恒山"/>
          <p:cNvPicPr/>
          <p:nvPr/>
        </p:nvPicPr>
        <p:blipFill>
          <a:blip r:embed="rId2"/>
          <a:stretch/>
        </p:blipFill>
        <p:spPr>
          <a:xfrm>
            <a:off x="0" y="0"/>
            <a:ext cx="2124000" cy="1666800"/>
          </a:xfrm>
          <a:prstGeom prst="rect">
            <a:avLst/>
          </a:prstGeom>
          <a:ln w="0">
            <a:noFill/>
          </a:ln>
        </p:spPr>
      </p:pic>
      <p:pic>
        <p:nvPicPr>
          <p:cNvPr id="55" name="7heshan" descr="北岳恒山"/>
          <p:cNvPicPr/>
          <p:nvPr/>
        </p:nvPicPr>
        <p:blipFill>
          <a:blip r:embed="rId3"/>
          <a:stretch/>
        </p:blipFill>
        <p:spPr>
          <a:xfrm>
            <a:off x="6762600" y="5486400"/>
            <a:ext cx="238140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219320"/>
            <a:ext cx="8915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　　　　　　　　　　　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文鼎粗圆简"/>
              </a:rPr>
              <a:t>北岳恒山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_x000b__x000c_"/>
              </a:rPr>
              <a:t>　　　　</a:t>
            </a:r>
            <a:r>
              <a:rPr b="0" lang="en-US" sz="1800" spc="-1" strike="noStrike">
                <a:solidFill>
                  <a:srgbClr val="000000"/>
                </a:solidFill>
                <a:latin typeface="_x000b__x000c_"/>
              </a:rPr>
              <a:t>素有“寨北第一名山”美称的恒山位于山西省浑源县城南５千米处，亦名太恒山，又名元岳，常山，相传４千年前舜帝巡狩至此，因见其山势雄伟，遂封为北岳。恒山分为东、西南峰，最高峰东峰天峰岭，海拔２１９０米，其中西峰名为翠屏山，两峰对峙，以金龙峡分开，地势险要，自古为兵家必争之地，相传为古杨家将征战之处。 恒山风景以地险，山雄、寺奇、泉绝称著。天峰、翠屏两山怪石争奇，古树参天，苍松翠柏间散布着楼台殿宇。古有恒山十八胜景，今尚存朝殿，会仙府，九天宫，悬空寺等十多处，另有琴棋台，出云洞，紫芝峪等自然景区。在悬崖峭壁上面，还留有很多名人题咏，岳顶松涛，夕阳返照，金鸡报晓，玉羊游云等景观更令人神往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_x000b__x000c_"/>
              </a:rPr>
              <a:t>　　恒山第一胜景为悬空寺，位于恒山金龙悬西崖峭壁上，出悬空寺南行不远为恒山水库，坝顶有虎风口，此处风力较大，如虎啼山岗，故名。此北方为果老岭，相传为八仙之一的张果老倒骑毛驴上天处，此东为夕陌崖，值日没时，金辉普照，满峪参差尽收眼底，如临仙境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_x000b__x000c_"/>
              </a:rPr>
              <a:t>　　过果老岭即到朝殿，朝殿两旁配青龙白虎二殿，此处还有一苦一甜二井，苦井已封，甜井尚存，朝殿前廊有康熙二十四年重修恒山庙碑记等，过朝殿上行，走一两个小时达主峰，置身于山巅，俯视千里朔方，万种景象尽收眼底，北岳之雄令人赞叹不已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第二段详写上山登顶的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　第一段略写出发的时间和天气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44956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第三段写登顶后远眺所见之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第四段写从西峰下山至飞石窟的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读课文，概括各段的大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5335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读课文理清作者的线索－－游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面东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905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转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煤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一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望仙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三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虎风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2971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三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朔方第一山”牌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057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坊右东拾级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寝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飞石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北岳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114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右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会仙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跻危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绝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寻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飞石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21932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第二段在写法上有何特点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详略得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4:53:44Z</dcterms:created>
  <dc:creator>孙振坤</dc:creator>
  <dc:description/>
  <dc:language>en-US</dc:language>
  <cp:lastModifiedBy>zmj</cp:lastModifiedBy>
  <dcterms:modified xsi:type="dcterms:W3CDTF">2011-11-25T12:22:11Z</dcterms:modified>
  <cp:revision>111</cp:revision>
  <dc:subject/>
  <dc:title>PowerPoint 演示文稿</dc:title>
</cp:coreProperties>
</file>