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5.jpeg" ContentType="image/jpeg"/>
  <Override PartName="/ppt/media/image6.png" ContentType="image/png"/>
  <Override PartName="/ppt/media/image42.jpeg" ContentType="image/jpeg"/>
  <Override PartName="/ppt/media/image19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cashreg.wav" ContentType="audio/x-wav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image26.jpeg" ContentType="image/jpeg"/>
  <Override PartName="/ppt/media/image24.jpeg" ContentType="image/jpeg"/>
  <Override PartName="/ppt/media/projctor.wav" ContentType="audio/x-wav"/>
  <Override PartName="/ppt/media/image21.jpeg" ContentType="image/jpeg"/>
  <Override PartName="/ppt/media/image17.jpeg" ContentType="image/jpeg"/>
  <Override PartName="/ppt/media/chimes.wav" ContentType="audio/x-wav"/>
  <Override PartName="/ppt/media/laser.wav" ContentType="audio/x-wav"/>
  <Override PartName="/ppt/media/image2.wmf" ContentType="image/x-wmf"/>
  <Override PartName="/ppt/media/image2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type.wav" ContentType="audio/x-wav"/>
  <Override PartName="/ppt/media/image36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png" ContentType="image/png"/>
  <Override PartName="/ppt/media/image5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886-94CD-4416-92EB-943885F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DF6-13AC-4DE9-821E-68F8C6E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AB56F-62C7-4A5A-8EF4-E5F2CF49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FF1C1-5136-4526-A34B-A020B8DA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B70A-A9F8-4ABA-BCF1-AEA29CE4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D730E-9CC6-4352-95E5-C87579C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62159-8EDD-4668-B4C9-2E3BDB4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00D6-C832-48E2-87CB-ACBC179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58B7B-B776-4124-A0AA-6557A49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FE97A-5AF1-47B7-9F01-88979C67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E8859-E8E6-4557-AC0F-0272CD42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B7A1-6652-475C-A090-A9973599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4C1-4F6C-496F-A8C5-4E427E26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113C-1880-4101-89AF-AF30214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471CB-716C-4501-B4E0-FF84D006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B2F2E-7CE8-4582-9E6D-263BCF1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F0B39-DD9C-4E19-92AC-884EA69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5CD9A-EB13-4F47-BF58-7E84F2EC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01AC-030E-4083-882C-C7BB474F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58758-9D9C-4781-B2C1-40AC98C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88A48-3294-431E-81E2-A7B9F0E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F12E8-9536-4DDD-81A4-866D3F4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D0015-43B8-4646-9D1D-DD5AE626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95C-1A5B-449D-8D6D-CE9A21B5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98C1-E25E-4BDE-8CF2-646F3B5E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E17B3-B413-4B9F-81B2-CB40B73B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4222-A224-4A15-90EC-BBDC770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18158-7C9A-424A-996A-12637C5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3A5D-549F-4858-8E19-105E9347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D49A9-EA60-48FC-A38C-11EF9B7E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C560-CAA4-469F-9479-0B0630B5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93976-41E6-4DD6-B55F-6B7C7B9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5C01-92C5-442B-93CE-A3C5090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98BA-D9EF-464C-9587-8D6309B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F592-28D0-47E8-A9AD-DE9D4C2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CE3E-4F41-429D-A54A-1AC66C88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7AC61-5978-4089-A88C-F0D1BA2E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B0443-38E3-491D-8F94-C949F9C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A5043-036A-4954-B42E-90DCA152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94BFD-ED6D-4D32-9281-C38806D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3E66A-1762-47C1-85B8-B807585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FBD50-B53C-4F58-8A84-2F12550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D7AC-5171-47BF-B513-8286C449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1D820-4D1D-44C2-8ED7-3D62075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70354-4773-4DB1-99AD-BE5C0B1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952-0026-4F38-A428-125261E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C7DD9-8BD3-4C04-8E63-9D3964A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611B7-A47C-42D0-893E-D9B598F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FAECE-09BD-47B5-AA22-AA51141E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F19B6-76D2-4928-873B-D56BF764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A793B-FC6C-49FC-BEA1-18E0BF90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EE7B-2E24-49CD-86BC-4DE6893A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F23A-516B-42E4-A5E9-CE0C61EE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F483-1F60-49CA-967F-B3B6A05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8B23-34FE-4EFD-A1FD-57F7BE80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2AB-F6C7-4F71-8782-34A1736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EDF-C920-4D9B-AA9D-5C124174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CD1C-11D2-49B9-80A4-C21A1BD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320-963E-4DDA-8AAB-2A5FECA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DB9-164C-49B4-9CBE-D42ECFAA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7A4E-5BDA-42E1-9041-2EA8D036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380-81A6-4289-9E47-E92AA1CC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50FC-9484-48B5-B0E5-FF02628C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670F-D45B-4DA2-B652-3CA32D6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8832-6F85-4E8A-A151-40161A7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7BF6-462D-49CF-B3A0-A9BAD7E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BC18-150D-47F5-BCBF-B1D388E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119-598A-4072-8529-2FD50A88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023F-D8EB-4523-975A-363AC28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E182-789D-4207-93A8-8F2F944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9FFA-ABD8-4DF6-A8CF-E089C4E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1286-84FA-4C7C-BDAE-F0C157C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A806-AE20-42C6-B64D-0607D39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22EB-3F9D-4C44-888A-114641E4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8462-24B0-48A9-A9E0-D4277ED4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2ABDB-A43C-4535-815B-5C5F6220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6F516-7201-4F73-8D99-C88350E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38350-70FE-4600-959A-B33E84A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8D8-F97B-4FF5-B285-9AA38FA2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EF8E9-8B97-49FC-9525-66AA83E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81E60-4D3E-4C3D-BAEF-8B7E515E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8D05A-7623-4FB9-8A72-6AA127B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475C0-C4B2-4253-9F0C-3A4C05D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5C9D6-545F-4519-A2CA-8DEA70A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5DAF9-BFF6-403F-AD2F-6E58D5E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311BB-2940-49BF-B7B5-A961CD0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07F0D-360C-4BD2-9CBA-7E2879D8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2DF6-F6A6-478C-91E2-EE4F2B19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3A57-F89D-40E8-B0A3-4D7A3819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A63-EE32-4467-A753-2E14AA98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4FA4-149A-470D-839E-01659D0E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3B4F-1FFE-485B-87F4-FB89A8B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3673-96FA-4AD7-B25E-5E9FDBB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3422-F55A-4688-A6F2-1FD9172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28D4-616A-470E-90DE-2A08072E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AD28-D853-4336-AC8D-DF83337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22CA-5896-400B-8CD2-0E7FC8B3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15F1-5B05-4F8A-B81A-805677C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56D0D-91D9-4DE2-97A3-0099BA1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3A64-84C8-4EDE-AE23-5675CC91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9F1-37EC-4EA3-BEAB-7D1F6F61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5FA82-1986-4D13-B784-1C6C2941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A4699-EFE0-4521-8382-49AD2C17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BF587-EAAC-4154-9658-6CC12C6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83A14-4B46-4639-A521-0864B3F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EC95B-2AC7-4CBA-9C71-7BA3EF2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84A2C-E08E-426A-9AEE-628EE5EC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2FF29-5D83-4F4B-9043-2A92D22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BE4E9-4727-4ADD-A649-61432AA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741D9-DA1F-4687-8095-7989667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1A2C7-ABB2-4F84-886D-AE6C416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41B-BA09-430E-A254-5DD395F8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0F2A5-03D2-4145-B0EA-462C0B5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61484-1496-4385-9287-002CB92E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C79DD-00E7-4D2A-8341-18EBCD1C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05106-6BB7-4060-8E75-345F503B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4843F-D68D-4EA3-B89A-DF62F2F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82D74-34D4-4FB2-B73A-C8B8C4E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261F1-89F2-437E-B139-EF50B480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4D5C9-2E97-4733-BF25-4C155D8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F2801-3428-4FC5-818B-CE969139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B60A7-99EF-46B0-A8EC-3F9453F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BE9-3C65-40DC-AFFE-A35118B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09BB9-0DD7-4FF7-B7A5-F53C3F4F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8C5D1-84EA-463A-ABA2-911AD1F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8A653-040B-401F-8E86-31D1B78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785BD-9913-45D9-A0BC-548709B0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40A7F-7959-48EE-BF52-A1D5C0C4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D976-67E3-4B5A-9174-3829FDB9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27C2-76AF-463C-88B7-453FFE4C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86C71-F490-421C-911A-EF285A8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F1C13-5A8D-482B-AEA8-E472208C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D858-7811-4238-9483-5019B98A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1A0-584F-4949-81EF-E376432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D805-0B74-4581-A270-3A5A069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CBD0-1465-4CB8-9CE3-3C038C6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36D80-F196-4283-A52D-0A0E6B3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3D43-D238-4412-89FD-543E5211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B54B-99F1-49B3-8D54-42CEBB2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04E6B-8620-4D0D-AE69-44742388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632A-12FF-442E-B8AC-6528B2C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0950F-B6FB-4797-8BC2-1DAB14F4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16C77-9BBA-47AA-AAC5-CACAF18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7D672-4234-4B5D-9B82-EC9F2276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5C1-B896-418E-8E9B-F74E1FA46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BF72-3667-4DAE-AB26-D6DA5BAFA9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7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3FD-C12A-4219-8561-E1B3F0AC8AA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8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EAA-1A84-40D7-AA76-5900870727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897-C4EA-46E2-820B-26C157CF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ACF-A217-49FE-8E1E-5125B552BC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7C89-819E-4E0C-95EA-7A2C6252A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DD9-E1A2-4789-9A6D-9D984958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2E0-0D02-495D-8FC4-83DE7F92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D5B-B6E4-4903-90B7-75CEF86713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31E-4FF3-424A-BDB4-4BF46F9A9B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AFF-320B-4F2C-9515-3436E13BF2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0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slideLayout" Target="../slideLayouts/slideLayout7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9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image" Target="../media/image54.jpeg"/><Relationship Id="rId11" Type="http://schemas.openxmlformats.org/officeDocument/2006/relationships/image" Target="../media/image54.jpeg"/><Relationship Id="rId12" Type="http://schemas.openxmlformats.org/officeDocument/2006/relationships/image" Target="../media/image54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4.jpeg"/><Relationship Id="rId16" Type="http://schemas.openxmlformats.org/officeDocument/2006/relationships/image" Target="../media/image54.jpeg"/><Relationship Id="rId17" Type="http://schemas.openxmlformats.org/officeDocument/2006/relationships/image" Target="../media/image54.jpeg"/><Relationship Id="rId18" Type="http://schemas.openxmlformats.org/officeDocument/2006/relationships/image" Target="../media/image54.jpeg"/><Relationship Id="rId19" Type="http://schemas.openxmlformats.org/officeDocument/2006/relationships/image" Target="../media/image54.jpeg"/><Relationship Id="rId20" Type="http://schemas.openxmlformats.org/officeDocument/2006/relationships/image" Target="../media/image54.jpeg"/><Relationship Id="rId21" Type="http://schemas.openxmlformats.org/officeDocument/2006/relationships/image" Target="../media/image54.jpeg"/><Relationship Id="rId22" Type="http://schemas.openxmlformats.org/officeDocument/2006/relationships/image" Target="../media/image54.jpeg"/><Relationship Id="rId23" Type="http://schemas.openxmlformats.org/officeDocument/2006/relationships/image" Target="../media/image54.jpeg"/><Relationship Id="rId24" Type="http://schemas.openxmlformats.org/officeDocument/2006/relationships/image" Target="../media/image54.jpeg"/><Relationship Id="rId25" Type="http://schemas.openxmlformats.org/officeDocument/2006/relationships/image" Target="../media/image54.jpeg"/><Relationship Id="rId26" Type="http://schemas.openxmlformats.org/officeDocument/2006/relationships/image" Target="../media/image54.jpeg"/><Relationship Id="rId27" Type="http://schemas.openxmlformats.org/officeDocument/2006/relationships/image" Target="../media/image54.jpeg"/><Relationship Id="rId28" Type="http://schemas.openxmlformats.org/officeDocument/2006/relationships/image" Target="../media/image54.jpeg"/><Relationship Id="rId29" Type="http://schemas.openxmlformats.org/officeDocument/2006/relationships/image" Target="../media/image54.jpeg"/><Relationship Id="rId30" Type="http://schemas.openxmlformats.org/officeDocument/2006/relationships/image" Target="../media/image54.jpeg"/><Relationship Id="rId31" Type="http://schemas.openxmlformats.org/officeDocument/2006/relationships/image" Target="../media/image54.jpeg"/><Relationship Id="rId32" Type="http://schemas.openxmlformats.org/officeDocument/2006/relationships/image" Target="../media/image54.jpeg"/><Relationship Id="rId33" Type="http://schemas.openxmlformats.org/officeDocument/2006/relationships/image" Target="../media/image54.jpeg"/><Relationship Id="rId34" Type="http://schemas.openxmlformats.org/officeDocument/2006/relationships/image" Target="../media/image54.jpeg"/><Relationship Id="rId35" Type="http://schemas.openxmlformats.org/officeDocument/2006/relationships/slideLayout" Target="../slideLayouts/slideLayout12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2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216520" y="98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游恒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05800" y="105732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游 恒 山 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43280" y="3357720"/>
            <a:ext cx="34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明   徐霞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4" descr=""/>
          <p:cNvPicPr/>
          <p:nvPr/>
        </p:nvPicPr>
        <p:blipFill>
          <a:blip r:embed="rId1"/>
          <a:stretch/>
        </p:blipFill>
        <p:spPr>
          <a:xfrm>
            <a:off x="314280" y="819000"/>
            <a:ext cx="8515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592200"/>
            <a:ext cx="9144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十一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风翳净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澄碧如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策杖登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面东而上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土冈浅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无攀登跻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一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转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山皆煤碳，不深凿即习得。又一里，则土石皆赤。有虬松离立道旁，亭曰望仙。又三里，则崖石渐起，松影筛钧，是名虎风口。于是石路萦回，始循崖乘峭而上。三里，有杰坊曰“朔方第一功”，内则官廨厨冉俱备，坊右东白拾级上，崖半为寝宫，宫北为飞石窟，再上则北岳殿也。上负绝壁，下临宫廨，殿下云级插天，庑门上下，穹碑森立。从殿右上，有石窟，倚而室之，日会仙台。台中像群仙，环列无隙。余时欲跻危崖、登绝顶。还过岳殿东，望两岸断处，中垂草莽者千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为登顶间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遂解衣攀蹑而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二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出危崖上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仰眺绝顶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犹杰然天半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而满山短树蒙密，槎桠枯竹，但能钩衣刺领，攀践辄断折，用力虽勤，若堕洪涛，汩汩不能出。余益鼓勇上，久之棘尽，始登其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时日色澄丽，俯瞰山北，崩崖乱坠，杂树密翳。是山土山无树，石山则有。北向俱石，故树皆在北。浑源州城一方，即在山麓。北瞰隔山一重，苍茫无际。南惟龙泉，西惟五台山，青青与作伍。近则龙山西亘，支峰东连，若比肩连袂下疮沙漠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既而下西峰，寻前入峡危崖，俯瞰茫茫，不敢下。忽回首东顾，有一人飘摇于上，因复上其处问之，指、东南松柏间，望而趋，乃上时寝宫后危崖顶。未仓，果得径。南经松柏林，先从顶上望松柏葱青，如蒜叶草茎，至此则合抱参天，虎风口之松柏，不啻百倍之也。从崖隙直尺，恰在寝宫之后，即飞石窟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01240" y="17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游恒山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3505320" y="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游恒山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533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十一日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天空无云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风也停了，澄碧的天像水洗过一样。我拄着拐杖开始攀登恒山，向东上山，（一路净是）低矮的土山，没有爬山的辛劳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走了一里，转向北再走，所见之山都是煤炭，不需要深挖就可得到。又走了一里，山上的土石都呈红色。有盘曲的松树并列路旁，有一座亭叫望仙亭。又走了三里，山崖渐渐高起来，阳光透过松树像过筛一样投下阴影，这里名叫虎风口。从此石路萦绕盘旋，开始了顺着山崖爬上峭壁的向上攀登。攀了三里，有一座高大的碑坊刻着“朔方第一山”，里面有一间官房，有厨房，有井水。从碑坊的右边向东顺着石阶而上，崖的半腰是寝宫，寝宫的北边是飞石窟，再向上就是北岳殿了。（北岳殿）上面是绝壁，下面挨着官房，殿下很高的石阶插向云天，廊屋上下，高大的石碑密集地竖着。从殿的右面上去，有石窟，靠着北岳殿构成一间屋子，叫会仙台。台中塑着群仙，四周排列紧密没有空隙。我这时想着从高崖攀援登上绝顶。转过北岳殿东，望见高崖裂开的地方，中间悬垂千尺草莽，是登顶的小路，于是解开衣服拉着踩 着往上登。行了二里，出了高崖，抬头远看山顶，还突出地悬在半空里，然而满山的荆刺茂密，参差的树枝和枯竹，只是钩刺衣服，抓住攀踏立即折断，不断地努力，却好像坠入洪流中，没在急流里不能出来。我更加鼓足勇气攀登，许久才钻出荆刺，登上峰顶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这时阳光明亮绚丽，向下看山的北面，山崖崩裂的石块纷纷堕落，各种树浓阴遮蔽。这山的土山没有树，而石山才有树。北边的山坡都是石山，所以树都长在北边。西边是五台山，一片青葱和恒山为伴。近处是向西延伸的龙山，（龙山的）支峰从东边与它相连，好像肩并肩、袖接袖地阻挡着沙漠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过了一会儿，从峰西下山，寻找先前进入山峡的高崖，俯身看一片茫茫，不敢往下走。忽然回头向东看，（见）有一人在上面飘摇，因而又上到那里问他，（他）指着东南松柏之间，朝着那个方向走，就是上山时所见到的寝宫后后面的高崖顶。不一会儿，果然有一条路。向南经过松柏林，先前从山顶望松柏是一片葱青，好像是蒜叶草茎，到了这里一看却是合抱的参天大树，比虎风口的松柏大不止百倍啊。从山崖隙缝直下，恰好到寝宫的右边，就是飞石窟了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自读课文，解决生字生词：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6215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翳        阜        虬         跻        廨         拾        庑         汩        槎          枒           袂            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还         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42920" y="1916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547640" y="22050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q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x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             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h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      j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我要再读课文，我能理解课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可以先自己解决，若不能解决的可以和同学之间探究完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十一日，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净尽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澄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碧             如    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十一日，风平云散，清而明净的天空像水洗过一样，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策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杖           登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岳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面东而上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我拄着拐杖开始攀登恒山，向东而上，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土冈浅阜，        无   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跻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路上都是低矮的土山，没有爬山的劳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56000" y="0"/>
            <a:ext cx="1079280" cy="549360"/>
          </a:xfrm>
          <a:prstGeom prst="cloudCallout">
            <a:avLst>
              <a:gd name="adj1" fmla="val -14115"/>
              <a:gd name="adj2" fmla="val 841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云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86200" y="0"/>
            <a:ext cx="2519640" cy="619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清而明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2565360"/>
            <a:ext cx="2195640" cy="503280"/>
          </a:xfrm>
          <a:prstGeom prst="cloudCallout">
            <a:avLst>
              <a:gd name="adj1" fmla="val -18041"/>
              <a:gd name="adj2" fmla="val 872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拄着，扶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2133720"/>
            <a:ext cx="2303280" cy="790560"/>
          </a:xfrm>
          <a:prstGeom prst="cloudCallout">
            <a:avLst>
              <a:gd name="adj1" fmla="val -33666"/>
              <a:gd name="adj2" fmla="val 805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这里指恒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56360" y="4581360"/>
            <a:ext cx="1295280" cy="6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一里，转   北，   山  皆   煤炭，不    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走了一里，转向北，山上都是煤炭，不需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可得，    又      一里，则                   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凿就可得到，又走了一里，就看到山上的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石    皆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赤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。      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虬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松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离立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道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和石头都是红色的。有盘曲的松树并立路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95640" y="4149720"/>
            <a:ext cx="1655640" cy="431640"/>
          </a:xfrm>
          <a:prstGeom prst="cloudCallout">
            <a:avLst>
              <a:gd name="adj1" fmla="val -17115"/>
              <a:gd name="adj2" fmla="val 786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红色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11280" y="2133720"/>
            <a:ext cx="1224000" cy="35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859280" y="4005360"/>
            <a:ext cx="1008000" cy="57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盘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380360" y="4149720"/>
            <a:ext cx="1079280" cy="431640"/>
          </a:xfrm>
          <a:prstGeom prst="cloudCallout">
            <a:avLst>
              <a:gd name="adj1" fmla="val -45884"/>
              <a:gd name="adj2" fmla="val 698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并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春洒恒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352680" y="6095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春洒恒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恒山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133720" y="5943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恒山云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北岳殿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4191120" y="0"/>
            <a:ext cx="23619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Times New Roman"/>
                <a:ea typeface="黑体"/>
              </a:rPr>
              <a:t>北岳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华文新魏"/>
              </a:rPr>
              <a:t>谁来说说五岳指哪五座山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东岳泰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西岳华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南岳衡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中岳嵩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北岳恒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会仙台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238880" y="0"/>
            <a:ext cx="19051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会仙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恒山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96252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高大的牌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悬空寺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7238880" y="5791320"/>
            <a:ext cx="19051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悬空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5" descr=""/>
          <p:cNvPicPr/>
          <p:nvPr/>
        </p:nvPicPr>
        <p:blipFill>
          <a:blip r:embed="rId1"/>
          <a:stretch/>
        </p:blipFill>
        <p:spPr>
          <a:xfrm>
            <a:off x="419040" y="399960"/>
            <a:ext cx="83059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6" descr=""/>
          <p:cNvPicPr/>
          <p:nvPr/>
        </p:nvPicPr>
        <p:blipFill>
          <a:blip r:embed="rId1"/>
          <a:stretch/>
        </p:blipFill>
        <p:spPr>
          <a:xfrm>
            <a:off x="482760" y="517680"/>
            <a:ext cx="817848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8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曰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望仙，    又      三里，则崖石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有一座亭叫望仙亭，又走了三里，山崖渐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起                        松影     筛阴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高起来，阳光透过松树像过筛子一样投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阴影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名    虎风口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于是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石路萦     回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这里名叫虎风口。从此石路萦绕盘旋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95640" y="0"/>
            <a:ext cx="100800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9280" y="4797360"/>
            <a:ext cx="1152720" cy="4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这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067280" y="4508640"/>
            <a:ext cx="1225440" cy="649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从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始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循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崖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乘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峭而上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开始顺着山崖，借着峭壁向上攀登。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三里， 有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杰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 坊      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攀登了三里，有一座高大的牌坊上刻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朔方第一山”，内   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廨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厨     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朔方第一山”，里面官署以及厨房水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39640" y="0"/>
            <a:ext cx="2160720" cy="692280"/>
          </a:xfrm>
          <a:prstGeom prst="cloudCallout">
            <a:avLst>
              <a:gd name="adj1" fmla="val -18773"/>
              <a:gd name="adj2" fmla="val 699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顺差，沿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924360" y="0"/>
            <a:ext cx="143964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凭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11640" y="2276640"/>
            <a:ext cx="2232000" cy="431640"/>
          </a:xfrm>
          <a:prstGeom prst="cloudCallout">
            <a:avLst>
              <a:gd name="adj1" fmla="val -9319"/>
              <a:gd name="adj2" fmla="val 1091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高大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4365720"/>
            <a:ext cx="3384720" cy="647640"/>
          </a:xfrm>
          <a:prstGeom prst="cloudCallout">
            <a:avLst>
              <a:gd name="adj1" fmla="val -9615"/>
              <a:gd name="adj2" fmla="val 8039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官署，旧时官吏办公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7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7" descr=""/>
          <p:cNvPicPr/>
          <p:nvPr/>
        </p:nvPicPr>
        <p:blipFill>
          <a:blip r:embed="rId1"/>
          <a:stretch/>
        </p:blipFill>
        <p:spPr>
          <a:xfrm>
            <a:off x="436680" y="363600"/>
            <a:ext cx="827064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俱备，        坊    右东向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拾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级    上，  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都齐全，从牌坊右边向东顺着石阶而上，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半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寝宫，宫        北  为飞石窟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崖的半山腰是寝宫，寝宫的北边是飞石窟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再上    则    北岳殿。                    上负绝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再向上就是北岳殿了。（北岳殿）上是绝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11640" y="0"/>
            <a:ext cx="3024360" cy="549360"/>
          </a:xfrm>
          <a:prstGeom prst="cloudCallout">
            <a:avLst>
              <a:gd name="adj1" fmla="val -7740"/>
              <a:gd name="adj2" fmla="val 8121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放轻脚步往上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56000" y="2205000"/>
            <a:ext cx="1008000" cy="358920"/>
          </a:xfrm>
          <a:prstGeom prst="cloudCallout">
            <a:avLst>
              <a:gd name="adj1" fmla="val -35356"/>
              <a:gd name="adj2" fmla="val 7699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9" dur="1" fill="hold"/>
                                  <p:tgtEl>
                                    <p:spTgt spid="8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8" descr=""/>
          <p:cNvPicPr/>
          <p:nvPr/>
        </p:nvPicPr>
        <p:blipFill>
          <a:blip r:embed="rId1"/>
          <a:stretch/>
        </p:blipFill>
        <p:spPr>
          <a:xfrm>
            <a:off x="387360" y="361800"/>
            <a:ext cx="8367840" cy="61326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364000" y="69228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飞石窟远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94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徐霞客简介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708360" y="188640"/>
            <a:ext cx="5183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徐霞客，名弘祖，字振之，霞客是他的别号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明代杰出的地理学家、旅行探险家、游记文学家和伟大的爱国主义者，江苏江阴马镇人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生于公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日，卒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4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日。他不慕功名，不求富贵，从二十二岁开始，三十四年间，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老布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身份，步行十万余里，遍游祖国相当于现今十九个省市自治区。徐霞客具有丰富的博物知识，以忧国忧民的责任感、紧迫感和征事考实的治学态度，为祖国地理地质考察和游记文学事业奉献了一生。他在旅行沿途遇到种种为人们难以想象的危境困境，却始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鼓勇而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，并以惊人的毅力，随时随地坚持著述。他的著作包括日记、专论、诗词、书信，由后人汇编为《徐霞客游记》，被誉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世间真文字、大文字、奇文字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 游记》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多万字，是一部多学科的珍贵的科学文献，也是别具一格的游记文学巨著。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图片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400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下    临   官廨，殿下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云    级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插       天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下面挨着官署，殿下很高的台阶插向云天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庑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门上下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穹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碑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森        立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 从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廊屋上下，高大的石碑密集地竖立着，从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右     上，  有石窟，倚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室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的右面上去，有石窟，就着改成一间屋子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11640" y="0"/>
            <a:ext cx="2303640" cy="476280"/>
          </a:xfrm>
          <a:prstGeom prst="cloudCallout">
            <a:avLst>
              <a:gd name="adj1" fmla="val -5203"/>
              <a:gd name="adj2" fmla="val 10766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很高的台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16360" y="2133720"/>
            <a:ext cx="1008000" cy="576000"/>
          </a:xfrm>
          <a:prstGeom prst="cloudCallout">
            <a:avLst>
              <a:gd name="adj1" fmla="val -72361"/>
              <a:gd name="adj2" fmla="val 574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435640" y="1989000"/>
            <a:ext cx="194472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形容密集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219640" y="4076640"/>
            <a:ext cx="3600360" cy="432000"/>
          </a:xfrm>
          <a:prstGeom prst="cloudCallout">
            <a:avLst>
              <a:gd name="adj1" fmla="val -27824"/>
              <a:gd name="adj2" fmla="val 84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把……作为房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-468360" y="1844640"/>
            <a:ext cx="3600360" cy="720720"/>
          </a:xfrm>
          <a:prstGeom prst="cloudCallout">
            <a:avLst>
              <a:gd name="adj1" fmla="val -25351"/>
              <a:gd name="adj2" fmla="val 658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正房对面和两侧和小屋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9" descr=""/>
          <p:cNvPicPr/>
          <p:nvPr/>
        </p:nvPicPr>
        <p:blipFill>
          <a:blip r:embed="rId1"/>
          <a:stretch/>
        </p:blipFill>
        <p:spPr>
          <a:xfrm>
            <a:off x="284040" y="468360"/>
            <a:ext cx="857592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图片10" descr=""/>
          <p:cNvPicPr/>
          <p:nvPr/>
        </p:nvPicPr>
        <p:blipFill>
          <a:blip r:embed="rId1"/>
          <a:stretch/>
        </p:blipFill>
        <p:spPr>
          <a:xfrm>
            <a:off x="498600" y="365040"/>
            <a:ext cx="814680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11" descr=""/>
          <p:cNvPicPr/>
          <p:nvPr/>
        </p:nvPicPr>
        <p:blipFill>
          <a:blip r:embed="rId1"/>
          <a:stretch/>
        </p:blipFill>
        <p:spPr>
          <a:xfrm>
            <a:off x="538200" y="403200"/>
            <a:ext cx="80676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12" descr=""/>
          <p:cNvPicPr/>
          <p:nvPr/>
        </p:nvPicPr>
        <p:blipFill>
          <a:blip r:embed="rId1"/>
          <a:stretch/>
        </p:blipFill>
        <p:spPr>
          <a:xfrm>
            <a:off x="393840" y="654120"/>
            <a:ext cx="8354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8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曰会仙台，台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群仙，环     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叫会仙台，台中雕塑着群仙，四周排列紧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无    隙，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余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时    欲 跻   危崖，登    绝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没有空隙，我这时候想攀上高崖，登上绝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还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过岳殿东，   望    两     崖  断        处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转过北岳殿东，望见两座高崖裂开的地方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700360" y="260280"/>
            <a:ext cx="2303280" cy="360360"/>
          </a:xfrm>
          <a:prstGeom prst="cloudCallout">
            <a:avLst>
              <a:gd name="adj1" fmla="val -15611"/>
              <a:gd name="adj2" fmla="val 931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动词，塑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4000" y="4005360"/>
            <a:ext cx="2160360" cy="503280"/>
          </a:xfrm>
          <a:prstGeom prst="cloudCallout">
            <a:avLst>
              <a:gd name="adj1" fmla="val -46032"/>
              <a:gd name="adj2" fmla="val 698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同“环”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27280" y="2133720"/>
            <a:ext cx="1081080" cy="43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会仙府" descr=""/>
          <p:cNvPicPr/>
          <p:nvPr/>
        </p:nvPicPr>
        <p:blipFill>
          <a:blip r:embed="rId1"/>
          <a:stretch/>
        </p:blipFill>
        <p:spPr>
          <a:xfrm>
            <a:off x="179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469520" y="46234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会仙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中    垂草莽者千尺，       为登顶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间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道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中间悬垂着千尺草莽，这是登顶的小路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遂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解    衣   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蹑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而登。       二里，出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于是解下衣服攀登而上。登了二里，出了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崖上，仰眺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绝顶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犹杰然           天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崖，抬头眺望山顶，还突出地悬在半空中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164360" y="0"/>
            <a:ext cx="1584360" cy="69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偏僻的小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79280" y="2060640"/>
            <a:ext cx="1297080" cy="43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于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564000" y="2060640"/>
            <a:ext cx="1008000" cy="50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17080" y="1989000"/>
            <a:ext cx="647640" cy="503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059280" y="4076640"/>
            <a:ext cx="1368360" cy="4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最高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灌木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而    满山短树   蒙密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槎 桠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然而满山的荆棘茂密，参差不齐的树技和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竹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能钩衣刺领，攀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践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即    断折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枝，只是能钩刺衣服，抓住踩踏立即折断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用力虽勤，               若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堕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洪涛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汩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虽然不断地努力，却好像落入洪流中，水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76720" y="0"/>
            <a:ext cx="316728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参差不齐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67280" y="2133720"/>
            <a:ext cx="865440" cy="503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659640" y="3933720"/>
            <a:ext cx="2952720" cy="574920"/>
          </a:xfrm>
          <a:prstGeom prst="cloudCallout">
            <a:avLst>
              <a:gd name="adj1" fmla="val -6236"/>
              <a:gd name="adj2" fmla="val 85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水流急的样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16000" y="2060640"/>
            <a:ext cx="1008000" cy="504720"/>
          </a:xfrm>
          <a:prstGeom prst="cloudCallout">
            <a:avLst>
              <a:gd name="adj1" fmla="val -23541"/>
              <a:gd name="adj2" fmla="val 908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4005360"/>
            <a:ext cx="718920" cy="57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50920" y="620640"/>
            <a:ext cx="4465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从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1607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年起，他做过十多次旅行，时间先后延续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30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多年，在旅途中，他把每天的经历和考察所得用日记的形式记载了下来，写成了一部对地理学有重大贡献的著作《徐霞客游记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图片3" descr=""/>
          <p:cNvPicPr/>
          <p:nvPr/>
        </p:nvPicPr>
        <p:blipFill>
          <a:blip r:embed="rId1"/>
          <a:stretch/>
        </p:blipFill>
        <p:spPr>
          <a:xfrm>
            <a:off x="5003640" y="385920"/>
            <a:ext cx="38624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14" descr=""/>
          <p:cNvPicPr/>
          <p:nvPr/>
        </p:nvPicPr>
        <p:blipFill>
          <a:blip r:embed="rId1"/>
          <a:stretch/>
        </p:blipFill>
        <p:spPr>
          <a:xfrm>
            <a:off x="482760" y="425520"/>
            <a:ext cx="81784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不能出。           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益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鼓   勇       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很急而不能出来一样。我更加鼓足勇气向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久之   棘尽，           始登   其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攀登，许久才钻出荆棘丛，才登上峰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364000" y="0"/>
            <a:ext cx="1368720" cy="69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更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15" descr=""/>
          <p:cNvPicPr/>
          <p:nvPr/>
        </p:nvPicPr>
        <p:blipFill>
          <a:blip r:embed="rId1"/>
          <a:stretch/>
        </p:blipFill>
        <p:spPr>
          <a:xfrm>
            <a:off x="457200" y="452520"/>
            <a:ext cx="82296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时    日色澄     丽，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俯瞰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山     北，   崩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这时阳光明亮绚丽，向下看山的北面，山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乱      坠，   杂  树密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。   是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崩裂石块纷纷坠落，各种树浓阴遮蔽。这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土山      无 树，石山则有。       北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的土山没有树，石山却有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树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。 北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俱  石，     故    树皆在北。    浑源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都是石头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所以树都长在北边。 浑源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0"/>
            <a:ext cx="1368360" cy="620640"/>
          </a:xfrm>
          <a:prstGeom prst="cloudCallout">
            <a:avLst>
              <a:gd name="adj1" fmla="val -39907"/>
              <a:gd name="adj2" fmla="val 7557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俯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56400" y="2133720"/>
            <a:ext cx="1366920" cy="43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遮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8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8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8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城一方，即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山麓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。北瞰            隔山一重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城，        就在山脚。向北俯视，隔着一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苍茫  无际。         南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惟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龙泉，   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山，苍茫看不到边际。南面是龙泉山，西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惟五台，    青青                     与此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作伍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是五台山，呈现出一派青色，跟恒山作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057480" y="0"/>
            <a:ext cx="1227240" cy="619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山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08720" y="2060640"/>
            <a:ext cx="71892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885080" y="4076640"/>
            <a:ext cx="1008000" cy="4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作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近则    龙山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亘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      支峰东连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近处是向西延伸的龙山，东面是它的支峰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肩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袂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下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扼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沙漠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好像肩并肩袖连袖地阻挡着沙漠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059280" y="0"/>
            <a:ext cx="2304720" cy="549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延缓不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763640" y="2060640"/>
            <a:ext cx="57636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87640" y="2060640"/>
            <a:ext cx="1368360" cy="504720"/>
          </a:xfrm>
          <a:prstGeom prst="cloudCallout">
            <a:avLst>
              <a:gd name="adj1" fmla="val -27958"/>
              <a:gd name="adj2" fmla="val 701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衣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00720" y="2133720"/>
            <a:ext cx="1079280" cy="503280"/>
          </a:xfrm>
          <a:prstGeom prst="cloudCallout">
            <a:avLst>
              <a:gd name="adj1" fmla="val -18824"/>
              <a:gd name="adj2" fmla="val 698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阻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8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既而          下西峰，      寻  前     入     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一会儿，从西峰下来，寻找先前进入山峡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危崖，俯瞰              茫茫，不敢下，忽    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高崖，俯身下看一片茫然，不敢下，忽然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首   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 有一人飘摇于上，       因   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头向东看，见有一个人在上面飘摇，于是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47640" y="4005360"/>
            <a:ext cx="1152720" cy="43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上其处问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      指东南松柏         间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上到那里问那个人，他指着东南的松柏之间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望而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趋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，      乃    上  时           寝宫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朝那个方向走，就是上山时所见的寝宫后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危崖顶。未几，       果     得          径。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高崖顶。不一会儿，果然找到一条路。往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700360" y="0"/>
            <a:ext cx="136692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指那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116000" y="1989000"/>
            <a:ext cx="2808360" cy="576360"/>
          </a:xfrm>
          <a:prstGeom prst="cloudCallout">
            <a:avLst>
              <a:gd name="adj1" fmla="val -21509"/>
              <a:gd name="adj2" fmla="val 7011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向……方向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8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经   松柏林，先从       顶上望松柏          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经过松柏林，先前从山顶上望松柏是一片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青，如      蒜叶   草茎，       至    此        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葱，好像是蒜苗小草一样，到了这里一看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合抱    参天，          虎风口之松柏，不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是合抱的参天大树，比虎风口的松柏不止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885080" y="4076640"/>
            <a:ext cx="125892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不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百倍之也。从崖        隙        直   下，   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一百倍啊。从山崖的缝隙间直接下来，恰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在寝宫之右，   即    飞石窟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到寝宫的右边，就是飞石窟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91440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作者简介—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徐霞客，霞客是他的别号。小时候对八股文、经书等不感兴趣，常读一些山经地质之类的书，立下了壮游山河的志向。他的母亲大力支持他，鼓励他“志在四方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徐霞客的旅游勘察大致可分为两个阶段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第一阶段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607—163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因母健在，不宜远游，这一时期出游的时间较短，所游之处也是交通较方便的地方，出游目的偏重于游览名山大川，带有“访胜”的性质。游恒山就在这个时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905120" y="1676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从徐霞客登恒山的经过中，我们可以了解到他不畏艰险、不怕辛劳、勇于实践的精神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16" descr=""/>
          <p:cNvPicPr/>
          <p:nvPr/>
        </p:nvPicPr>
        <p:blipFill>
          <a:blip r:embed="rId1"/>
          <a:stretch/>
        </p:blipFill>
        <p:spPr>
          <a:xfrm>
            <a:off x="855720" y="587520"/>
            <a:ext cx="743256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恒山　　悬空寺6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恒山　悬空寺0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030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恒山　　悬空寺4" descr=""/>
          <p:cNvPicPr/>
          <p:nvPr/>
        </p:nvPicPr>
        <p:blipFill>
          <a:blip r:embed="rId1"/>
          <a:stretch/>
        </p:blipFill>
        <p:spPr>
          <a:xfrm>
            <a:off x="2286000" y="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恒山　　悬空寺2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035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-17136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游天台山日记        游雁宕山日记      游白岳山日记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游黄山日记           游武彝山日记       游庐山日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游黄山日记后       游九鲤湖日记        游嵩山日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游太华山日记        游太和山日记        闽游日记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闽游日记后     游天台山日记后    游雁宕山日记后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游五台山日记        游恒山日记              浙游日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江右游日记                楚游日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粤西游日记一             粤西游日记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18" descr=""/>
          <p:cNvPicPr/>
          <p:nvPr/>
        </p:nvPicPr>
        <p:blipFill>
          <a:blip r:embed="rId1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21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20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22" descr=""/>
          <p:cNvPicPr/>
          <p:nvPr/>
        </p:nvPicPr>
        <p:blipFill>
          <a:blip r:embed="rId1"/>
          <a:stretch/>
        </p:blipFill>
        <p:spPr>
          <a:xfrm>
            <a:off x="0" y="0"/>
            <a:ext cx="5919840" cy="78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2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图片24" descr=""/>
          <p:cNvPicPr/>
          <p:nvPr/>
        </p:nvPicPr>
        <p:blipFill>
          <a:blip r:embed="rId1"/>
          <a:stretch/>
        </p:blipFill>
        <p:spPr>
          <a:xfrm>
            <a:off x="571680" y="754200"/>
            <a:ext cx="80010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2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图片26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8380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文章的主旨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　　文章描写和叙述了作者游恒山登顶的经过，表现了他不畏艰险、不怕辛劳、勇于踏勘实践的精神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徐霞客　　人0" descr=""/>
          <p:cNvPicPr/>
          <p:nvPr/>
        </p:nvPicPr>
        <p:blipFill>
          <a:blip r:embed="rId1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27" descr=""/>
          <p:cNvPicPr/>
          <p:nvPr/>
        </p:nvPicPr>
        <p:blipFill>
          <a:blip r:embed="rId2"/>
          <a:stretch/>
        </p:blipFill>
        <p:spPr>
          <a:xfrm>
            <a:off x="0" y="0"/>
            <a:ext cx="6326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762120" y="30492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第二阶段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636—164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这是他长途跋涉艰苦旅行的时期，足迹由浙、赣、湘、桂的平原、丘陵、山区，直到云贵高原的深山峻谷、人迹罕至的荒僻地区。他不畏艰险，不怕牺牲，志在探索自然奥秘。这一阶段有了更多的科学考察因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徐霞客游记》是他三十多年旅游勘察的记录，虽有所失散，现整理出版的仍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余万字。它是一部著名的古代游记，也是一部我国古代地理学名著，在地理学史上有着重要的地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2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051" descr=""/>
          <p:cNvPicPr/>
          <p:nvPr/>
        </p:nvPicPr>
        <p:blipFill>
          <a:blip r:embed="rId1"/>
          <a:stretch/>
        </p:blipFill>
        <p:spPr>
          <a:xfrm>
            <a:off x="0" y="-4851360"/>
            <a:ext cx="9121680" cy="12168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 txBox="1"/>
          <p:nvPr/>
        </p:nvSpPr>
        <p:spPr>
          <a:xfrm rot="1696800">
            <a:off x="-838080" y="1828800"/>
            <a:ext cx="10287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</a:rPr>
              <a:t>路漫漫其修远兮，吾将上下而求索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29" descr=""/>
          <p:cNvPicPr/>
          <p:nvPr/>
        </p:nvPicPr>
        <p:blipFill>
          <a:blip r:embed="rId1"/>
          <a:stretch/>
        </p:blipFill>
        <p:spPr>
          <a:xfrm>
            <a:off x="620640" y="325440"/>
            <a:ext cx="7900920" cy="62071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2700360" y="25653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二课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读课文，概括各段的大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第一段略写出发的时间和天气情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第二段详写上山登顶的经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第三段写登顶后远眺所见之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第四段写从西峰下山至飞石窟的情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4762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再次复习课文内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探究课文内容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一、     作者上山经过了哪些地方？在山顶上看见了哪些景物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答：经过了望仙亭、虎风口、“朔方第一山”牌坊、寝宫一、飞石窟、北岳殿、会仙台等地方，在山顶上看见了山北“崩崖乱坠，杂树阴翳”，还有浑源州城，南边有龙泉山，西边有五台山，近处还有龙山。这些山都相互连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533520" y="533520"/>
            <a:ext cx="598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二    读课文理清作者的线索－－游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面东而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7400" y="1905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2860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一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92360" y="1628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转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343400" y="1905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100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煤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48520" y="1905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324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一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望仙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80880" y="2895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三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虎风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95480" y="29718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481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三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434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朔方第一山”牌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934320" y="2971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10280" y="2057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坊右东拾级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寝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4114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4479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飞石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505320" y="4114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581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北岳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638680" y="4114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715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右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580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会仙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09480" y="5181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94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跻危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3372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绝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71800" y="51814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寻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4197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飞石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5335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松树：松如筛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33520" y="28195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北岳殿：上负绝壁，下临官廨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　　　　殿下云级插天，庑门上下，穹碑森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4267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会仙台：台中像群仙，环列无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33520" y="762120"/>
            <a:ext cx="48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略写的景物各有什么特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4920" y="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如何写登上绝顶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920" y="9144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１、写决心：余时欲跻危崖，登绝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920" y="16002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２、写山的险峻：“望两崖断处，中垂草莽者千尺，为登顶间道”、“出危崖上，仰眺绝顶，犹杰然天半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52280" y="34290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３、写其难攀：满山短树蒙密，槎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枯竹，但能钩衣刺服，攀践辄断折，用力虽勤，若堕洪涛，汩汩不能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609480" y="990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面对如此难以攀缘的绝顶，作者是如何面对的？表现了作者什么样的精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90720" y="33526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－－余益鼓勇上，久之棘尽，始登其顶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90720" y="48006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－不畏艰险、不怕辛苦、勇于踏勘实践的精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80880" y="11430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山时写到松树，有何作用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" y="3429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样的事物从不同的角度观察，所见的景致也不同。通过对比，反衬出恒山的高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39640" y="1052640"/>
            <a:ext cx="8371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素有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华文新魏"/>
              </a:rPr>
              <a:t>“塞北第一名山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美称的恒山位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山西省浑源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城南５千米处，亦名太恒山，又名元岳，常山，相传４千年前舜帝巡狩至此，因见其山势雄伟，遂封为北岳。恒山分为东、西南峰，最高峰东峰天峰岭，海拔２１９０米，其中西峰名为翠屏山，两峰对峙，以金龙峡分开，地势险要，自古为兵家必争之地，相传为古杨家将征战之处。 恒山风景以地险，山雄、寺奇、泉绝称著。天峰、翠屏两山怪石争奇，古树参天，苍松翠柏间散布着楼台殿宇。古有恒山十八胜景，今尚存朝殿，会仙府，九天宫，悬空寺等十多处，另有琴棋台，出云洞，紫芝峪等自然景区。在悬崖峭壁上面，还留有很多名人题咏，岳顶松涛，夕阳返照，金鸡报晓，玉羊游云等景观更令人神往。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　　恒山第一胜景为悬空寺，位于恒山金龙悬西崖峭壁上，出悬空寺南行不远为恒山水库，坝顶有虎风口，此处风力较大，如虎啼山岗，故名。此北方为果老岭，相传为八仙之一的张果老倒骑毛驴上天处，此东为夕陌崖，值日没时，金辉普照，满峪参差尽收眼底，如临仙境。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　　过果老岭即到朝殿，朝殿两旁配青龙白虎二殿，此处还有一苦一甜二井，苦井已封，甜井尚存，朝殿前廊有康熙二十四年重修恒山庙碑记等，过朝殿上行，走一两个小时达主峰，置身于山巅，俯视千里朔方，万种景象尽收眼底，北岳之雄令人赞叹不已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556000" y="260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恒山简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2120" y="9144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　　本文写作很有特色。试着作简单的分析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－－叙述或描写详略得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3886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－－定点观察法，清楚地介绍了恒山的地理位置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481640" y="3048120"/>
            <a:ext cx="18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81640" y="3048120"/>
            <a:ext cx="18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222120" y="295200"/>
            <a:ext cx="1409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一词多义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22120" y="3876840"/>
            <a:ext cx="4096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因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222120" y="5857920"/>
            <a:ext cx="409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间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65520" y="1362240"/>
            <a:ext cx="4096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是</a:t>
            </a:r>
            <a:endParaRPr b="0" lang="en-US" sz="32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643280" y="3716280"/>
            <a:ext cx="409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于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859280" y="5373720"/>
            <a:ext cx="4096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之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755640" y="905040"/>
            <a:ext cx="387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始循崖乘峭而上（开始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831960" y="1666800"/>
            <a:ext cx="3524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始登其顶（终于，才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55640" y="2276640"/>
            <a:ext cx="387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有杰坊曰（高大的样子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55640" y="2886120"/>
            <a:ext cx="5991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非俊疑杰，固庸态也（才能出众的人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55640" y="3495600"/>
            <a:ext cx="387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因复上其处问之（于是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55640" y="4257720"/>
            <a:ext cx="49338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因人之力而蔽直（依靠，凭借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611280" y="5300640"/>
            <a:ext cx="42289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为登顶间道（偏僻的小路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4360" y="6308640"/>
            <a:ext cx="4581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指东南松柏间（间隙，夹缝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099040" y="1590840"/>
            <a:ext cx="35244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觉今是而昨非（正确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175360" y="3419640"/>
            <a:ext cx="3171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于是石路萦回（从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5099040" y="3876840"/>
            <a:ext cx="35244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有一人飘摇于上（上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5384880" y="5095800"/>
            <a:ext cx="3524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因复上起处问之（他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5403960" y="5705640"/>
            <a:ext cx="3171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虎风口之松柏（的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79280" y="1197000"/>
            <a:ext cx="480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始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50920" y="2514600"/>
            <a:ext cx="539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杰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915080" y="836640"/>
            <a:ext cx="4228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于是石路萦回（此，这个）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762120" y="1219320"/>
            <a:ext cx="7315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1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洗：动词用作形容词，洗过一样。例：“澄碧如洗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85800" y="1600200"/>
            <a:ext cx="7315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2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浅阜：低矮的土山。例：“土冈浅阜，无攀跻劳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762120" y="1981080"/>
            <a:ext cx="7619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3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宋体"/>
              </a:rPr>
              <a:t>攀跻：登山。跻：升。例：“土冈浅阜，无攀跻劳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2362320"/>
            <a:ext cx="6705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宋体"/>
              </a:rPr>
              <a:t>4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宋体"/>
              </a:rPr>
              <a:t>虬松：盘曲的松树。例：“有虬松离立道旁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85800" y="2819520"/>
            <a:ext cx="5791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5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宋体"/>
              </a:rPr>
              <a:t>离立：并立。例：“有虬松离立道旁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685800" y="3200400"/>
            <a:ext cx="6705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宋体"/>
              </a:rPr>
              <a:t>6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宋体"/>
              </a:rPr>
              <a:t>松影筛阴：阳光透过松树像过筛一样投下阴影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宋体"/>
              </a:rPr>
              <a:t>筛：动词用作形容词，像过筛一样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62120" y="3886200"/>
            <a:ext cx="79246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宋体"/>
              </a:rPr>
              <a:t>7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宋体"/>
              </a:rPr>
              <a:t>穹碑森立：高大的石碑密集地竖立着。穹：高。森立：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宋体"/>
              </a:rPr>
              <a:t>容密集的样子。例：“天似穹庐，笼盖四野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4572000"/>
            <a:ext cx="6095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宋体"/>
              </a:rPr>
              <a:t>8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tile tx="0" ty="0" sx="100000" sy="100000" algn="ctr"/>
                </a:blipFill>
                <a:latin typeface="宋体"/>
              </a:rPr>
              <a:t>间道：偏僻的小路》例：“为登山间道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85800" y="5029200"/>
            <a:ext cx="6095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latin typeface="宋体"/>
              </a:rPr>
              <a:t>9.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宋体"/>
              </a:rPr>
              <a:t>槎桠：参差不齐的样子。例：“槎桠枯竹”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09480" y="5410080"/>
            <a:ext cx="8534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宋体"/>
              </a:rPr>
              <a:t>10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tile tx="0" ty="0" sx="100000" sy="100000" algn="ctr"/>
                </a:blipFill>
                <a:latin typeface="宋体"/>
              </a:rPr>
              <a:t>。汩汩：形容水流急的样子。例：“若堕洪涛，汩汩不能出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75" name=""/>
          <p:cNvSpPr/>
          <p:nvPr/>
        </p:nvSpPr>
        <p:spPr>
          <a:xfrm>
            <a:off x="468360" y="26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重点字词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132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实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翳：遮蔽。这里指云雾。面：面朝，面向。跻：升，登。虬：盘曲的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离立：并立。筛：动词用作形容词，像过筛一样。 萦回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缠绕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曲折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高大的样子。 拾级：逐步登阶。 负：背靠着。 穹：高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室：名词用作动词。构成一间屋子。 像：名词用作动词，塑造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还：通“环”，转，绕。 间：偏僻而小。 攀登：登踩。 堕：坠入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汩汩：形容水流急的样子。澄丽：明亮绚丽。亘：横贯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比肩连袂：肩靠肩，衣袖连衣袖。形容靠得很紧的样子，比，并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袂，衣袖。扼：扼制，控制。趋：趋向，奔向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虚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净：副词，全部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皆：副词，都，全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是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代词，这。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正确。俱：副词，全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于是：从此，从这里。余：代词，我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犹：副词，仍然，还是。遂：连词，于是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辄：连词，就。益：副词，只有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始：连词，才。惟：副词，只有。则：连词，却。既而：副词，一会儿。因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于是；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依靠。于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从；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在。未几：副词，不一会儿。不啻：不止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2305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249640" y="1936800"/>
            <a:ext cx="21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95280" y="90792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判断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例句：即飞石窟也。“……也”，是判断句式的标志，加上“即”，加强语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  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倒装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①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宾语前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例句：虎风口之松柏，不啻百倍之也。宾语“虎风口之松柏”前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②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状语后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例句：有一人飘摇于上。状语“于上”后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③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定语后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例句：北瞰隔山一重。“山”的定语“一重”后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08400" y="35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词类活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095280" y="4307040"/>
            <a:ext cx="157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形容词用作名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峭：陡峭，这里是峭壁的意思。例句：循崖乘峭而上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  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名词用作动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室：屋子，这里是改成一间屋子的意思。例句：倚而似之，曰会仙台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像：雕像，这里是塑造的意思。例句：台中像群仙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翻译重点字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阅读复述课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完成两本家庭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UF441608" descr=""/>
          <p:cNvPicPr/>
          <p:nvPr/>
        </p:nvPicPr>
        <p:blipFill>
          <a:blip r:embed="rId1"/>
          <a:srcRect l="-11315" t="-20992" r="-18697" b="-13772"/>
          <a:stretch/>
        </p:blipFill>
        <p:spPr>
          <a:xfrm>
            <a:off x="0" y="260280"/>
            <a:ext cx="9512280" cy="739296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 txBox="1"/>
          <p:nvPr/>
        </p:nvSpPr>
        <p:spPr>
          <a:xfrm>
            <a:off x="3886200" y="3284640"/>
            <a:ext cx="203832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6476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恒山文物古迹，星罗棋布。恒山风景名胜区保留了众多珍贵的文物古迹。从亿万年前的动植物化石，到新石器时代的彩陶文化遗址；从春秋时代的青铜器遗址，到近现代革命文物，种类多样，数量可观。许多文物古迹的结构、造型、装饰、雕刻、彩画等方面在中国古建筑史上都有着重要地位和文物价值，许多文物均有极高的科研价值和艺术观赏价值。特别是罕见的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北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高空古建筑，国内少有的佛、道、儒三教合一的独特寺院，国之瑰宝、举世闻名的悬空寺，“危岩缀虚空，石阁轻如纸”，镶嵌在万仞峭壁之间，鸟道一系没云中，奇绝险绝亦巧绝，蔚为壮观，令古今中外的游人叹为观止。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恒山，不仅是我国的一座名山，也是我国古代艺术的宝库。来此一游，凭吊历史，欣赏奇观，丰富知识，增长见识，陶冶情操，开扩胸襟，增强体魄，回归自然，其情趣感受正如古人所说：“灵山瞻礼罢，登览意无穷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8:46:06Z</dcterms:created>
  <dc:creator>刘</dc:creator>
  <dc:description/>
  <dc:language>en-US</dc:language>
  <cp:lastModifiedBy>zmj</cp:lastModifiedBy>
  <dcterms:modified xsi:type="dcterms:W3CDTF">2011-10-18T04:11:29Z</dcterms:modified>
  <cp:revision>23</cp:revision>
  <dc:subject/>
  <dc:title>游恒山记</dc:title>
</cp:coreProperties>
</file>