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B91-1BDC-4FA1-AAC8-9B619F00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B2E-EBA1-4396-83C0-232509E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413-6AB1-4A8A-B160-8BFB2079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967-6FF0-49CD-955C-3B7C335A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75C-BE71-4E18-A6C0-9EFE560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D0D-49A6-4987-9381-3D731F6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CD3-82A7-4090-8C28-5994D54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7D8-6291-4F73-A7B4-1ED7130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190-2658-493E-B90F-85E60B5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B3A-F6BD-4634-9451-CBD920F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114-AB6D-4E65-9D54-FC95B24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CC3-6939-4F91-B5A8-F734674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1D8-1203-4415-BB6F-732420903A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8676-88A0-4040-BDC9-D116BFB653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co.nefu.edu.cn/person/ljz/pic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4" descr=""/>
          <p:cNvPicPr/>
          <p:nvPr/>
        </p:nvPicPr>
        <p:blipFill>
          <a:blip r:embed="rId1"/>
          <a:stretch/>
        </p:blipFill>
        <p:spPr>
          <a:xfrm>
            <a:off x="1440" y="839880"/>
            <a:ext cx="12201840" cy="12040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4211640" y="1832040"/>
            <a:ext cx="4164120" cy="1344240"/>
            <a:chOff x="4211640" y="1832040"/>
            <a:chExt cx="4164120" cy="1344240"/>
          </a:xfrm>
        </p:grpSpPr>
        <p:sp>
          <p:nvSpPr>
            <p:cNvPr id="43" name="矩形 8"/>
            <p:cNvSpPr/>
            <p:nvPr/>
          </p:nvSpPr>
          <p:spPr>
            <a:xfrm>
              <a:off x="4736880" y="1832040"/>
              <a:ext cx="2497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单元 </a:t>
              </a:r>
              <a:r>
                <a:rPr b="1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 </a:t>
              </a: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阅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2"/>
            <p:cNvSpPr/>
            <p:nvPr/>
          </p:nvSpPr>
          <p:spPr>
            <a:xfrm>
              <a:off x="4211640" y="2351160"/>
              <a:ext cx="416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咏怀古迹</a:t>
              </a:r>
              <a:r>
                <a:rPr b="1" lang="zh-CN" sz="3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（其三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03320"/>
            <a:ext cx="115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人评此诗时说杜甫是“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悲昭君以自悲也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 。（结合背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15920" y="2514600"/>
            <a:ext cx="1066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117440" y="2514600"/>
            <a:ext cx="10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158920" y="580536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u8"/>
          <p:cNvPicPr/>
          <p:nvPr/>
        </p:nvPicPr>
        <p:blipFill>
          <a:blip r:embed="rId1"/>
          <a:stretch/>
        </p:blipFill>
        <p:spPr>
          <a:xfrm>
            <a:off x="4359240" y="1996920"/>
            <a:ext cx="3890880" cy="449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25112I1IX_small"/>
          <p:cNvPicPr/>
          <p:nvPr/>
        </p:nvPicPr>
        <p:blipFill>
          <a:blip r:embed="rId2"/>
          <a:stretch/>
        </p:blipFill>
        <p:spPr>
          <a:xfrm>
            <a:off x="8148600" y="1984320"/>
            <a:ext cx="4043520" cy="4538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274680" y="1859040"/>
            <a:ext cx="38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玄宗天宝五年，作者西入长安，羁留十年，才做了个看管兵甲器杖的小官。安史之乱爆发后，他前往灵武投奔唐肃宗，任右拾遗。作者因上疏救宰相房琯触怒唐肃宗而受排挤，被贬为华州司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图片13"/>
          <p:cNvPicPr/>
          <p:nvPr/>
        </p:nvPicPr>
        <p:blipFill>
          <a:blip r:embed="rId1"/>
          <a:stretch/>
        </p:blipFill>
        <p:spPr>
          <a:xfrm>
            <a:off x="0" y="762120"/>
            <a:ext cx="1219212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0" y="1568520"/>
            <a:ext cx="10847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昭君                             诗人                         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绝代佳人，入宫见妒          才华横溢，入朝见妒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画图省识，远离汉宫　　　 不分忠佞，无辜遭贬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身死异国，环珮空归            漂泊西南，思乡难归 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千载之怨）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         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深沉怨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117440" y="1201680"/>
            <a:ext cx="82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悲昭君以自悲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LSY\Desktop\20110322154344379501[1].jpg"/>
          <p:cNvPicPr/>
          <p:nvPr/>
        </p:nvPicPr>
        <p:blipFill>
          <a:blip r:embed="rId1"/>
          <a:stretch/>
        </p:blipFill>
        <p:spPr>
          <a:xfrm>
            <a:off x="334800" y="2997360"/>
            <a:ext cx="11425320" cy="3573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1778400" y="765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669960" y="1992240"/>
            <a:ext cx="1123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就你体会较深的诗句或词语，谈谈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12800" y="108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82720" y="1053720"/>
            <a:ext cx="10818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业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3880" y="1916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以“我心中的王昭君”为题，写一篇不少于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的文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0120" y="1069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50600" y="1947600"/>
            <a:ext cx="1054116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相关表现手法鉴赏诗歌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把握王昭君的形象，感悟杜甫所咏之怀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5424840" y="981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4466520" y="11653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6951600" y="2100240"/>
            <a:ext cx="609624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正飘飘 马正潇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漠从容雁飞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也渺渺 魂也渺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曲琵琶千古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儿出塞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蹄踏芳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姿熄灭了烽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色软化了钢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汉宫缘未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园情未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问几时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时还 几时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儿遥遥 路儿迢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求一统山河明月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求一统山河明月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085160" y="1042920"/>
            <a:ext cx="441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昭君出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LSY\Desktop\200811618825681[1].jpg"/>
          <p:cNvPicPr/>
          <p:nvPr/>
        </p:nvPicPr>
        <p:blipFill>
          <a:blip r:embed="rId1"/>
          <a:stretch/>
        </p:blipFill>
        <p:spPr>
          <a:xfrm>
            <a:off x="0" y="1341360"/>
            <a:ext cx="6769080" cy="5516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441360" y="762120"/>
            <a:ext cx="12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Users\LSY\Desktop\775007-2[1].jpg"/>
          <p:cNvPicPr/>
          <p:nvPr/>
        </p:nvPicPr>
        <p:blipFill>
          <a:blip r:embed="rId1"/>
          <a:stretch/>
        </p:blipFill>
        <p:spPr>
          <a:xfrm>
            <a:off x="66722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297080" y="620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0" y="855720"/>
            <a:ext cx="6540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昭君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昭君出生于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长江三峡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一个普通的民家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“汉元帝后宫既多，不得常见，乃使画工图其形，案图召幸。诸宫人皆赂画工，多者十万，少者亦不减五万。独王嫱不肯，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遂不得见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王昭君的历史功绩，不仅仅是她主动出塞和亲，更主要的是她出塞之后，汉匈两族团结和睦， 边塞的烽烟熄灭了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国泰民安。绝代佳人王昭君去世后，厚葬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于今呼和浩特市南郊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墓依大青山、傍黄河水。后人称之为“青冢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Picture 3" descr="200992816242207"/>
          <p:cNvPicPr/>
          <p:nvPr/>
        </p:nvPicPr>
        <p:blipFill>
          <a:blip r:embed="rId1"/>
          <a:stretch/>
        </p:blipFill>
        <p:spPr>
          <a:xfrm>
            <a:off x="0" y="-316080"/>
            <a:ext cx="12192120" cy="6237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34800" y="476280"/>
            <a:ext cx="28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青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23880" y="5950080"/>
            <a:ext cx="115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呼和浩特市南郊，墓依大青山，傍黄河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795240"/>
            <a:ext cx="1219212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杜甫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1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0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字子美，生于河南巩县，唐代伟大的现实主义诗人。杜甫的诗歌被公认为“诗史”，他本人被誉为“诗圣”。杜甫一生时刻不忘济世报国，然而他报国无门，满腹忧国忧民之情只能寄予诗歌。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宝五年，他到长安，进取无门，困顿了十年，才获得右卫率府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òu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曹参军的小官。安史乱起，他流亡颠沛，竟为叛军所俘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fú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脱险后，授官左拾遗，不久又贬为华州司功参军。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永泰元年，他打算离蜀东去，途中留滞夔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kuí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州二年。本诗正作于滞留夔州时。杜甫“飘泊西南天地间”， 家乡洛阳对他来说，仍然是可望不可即的地方。大历三年，携家出峡，漂泊鄂、湘一带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死于赴郴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ēn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州途中。有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杜少陵集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怀古2"/>
          <p:cNvPicPr/>
          <p:nvPr/>
        </p:nvPicPr>
        <p:blipFill>
          <a:blip r:embed="rId1"/>
          <a:stretch/>
        </p:blipFill>
        <p:spPr>
          <a:xfrm>
            <a:off x="6141960" y="0"/>
            <a:ext cx="6050160" cy="6165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9040" y="755280"/>
            <a:ext cx="31701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咏怀古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60680" y="1267920"/>
            <a:ext cx="4146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门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shu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漠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ǒ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ǐ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ng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琵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怨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。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10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128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20760" y="2657520"/>
            <a:ext cx="65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朗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778400" y="765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698400" y="2284560"/>
            <a:ext cx="1084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人胡震亨评注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杜诗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群山万壑赴荆门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当似生长英雄起句，此未为合作。”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此你是否同意？谈谈你的见解。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831600" y="958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诵读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LSY\Desktop\20110322154344379501[1].jpg"/>
          <p:cNvPicPr/>
          <p:nvPr/>
        </p:nvPicPr>
        <p:blipFill>
          <a:blip r:embed="rId1"/>
          <a:stretch/>
        </p:blipFill>
        <p:spPr>
          <a:xfrm>
            <a:off x="431640" y="2708280"/>
            <a:ext cx="11425320" cy="39607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1778400" y="765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4360" y="1557360"/>
            <a:ext cx="12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寄寓了怎样的情感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004760" y="1073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读品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/>
  <dc:description/>
  <dc:language>en-US</dc:language>
  <cp:lastModifiedBy/>
  <dcterms:modified xsi:type="dcterms:W3CDTF">2018-02-17T06:15:01Z</dcterms:modified>
  <cp:revision>3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