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A37-2301-4894-B165-1CFC0F2D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6DE-D328-44A1-BEF9-D0A5DBF3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7C4-C04E-46B5-AC85-AFCEB096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8C8-FF33-4066-9B8A-FF56B9C4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B8B4-CADE-4C21-B081-A12B9F49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AB3D-E5F6-4F74-BF50-C5D7B71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07A4-D359-4A0A-AD67-CEABBF60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D04-5D82-47F1-8923-6E53A5E6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216-03C4-4BC5-929C-6A54EB71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2DC9-1187-4156-B17D-40BBD450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BFD4-24F2-486A-87C3-A51A471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87D-B8B7-44AC-8359-A75C912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DFF-BBD3-468C-B310-48A8015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237-A268-4C2D-BCDE-2615BB31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B96-8FA7-4D57-B605-96E2210E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C76D-2CF8-4296-84DB-2B1D435B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914-7D7C-4F33-A435-C3975B78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7D-C82A-42D7-B6AE-FC9A137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852-E55D-4292-9896-9A2B3D1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529-9E1F-4662-9A18-536BEA4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5BD-2B1A-4199-B8E4-C329F1A2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BCB-D64F-4F27-B067-34C9042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8BE-98CA-4053-9FE8-E1C74A1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A31-0E3D-449A-A750-A8AC216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8D7-2D99-41B5-AEBF-6BD0A828E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9D0-CAD4-49C7-B4DE-A2BB78D6EC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65246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24000" y="2349360"/>
            <a:ext cx="467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咏怀古迹（其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640" y="508464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湖南娄底外国语学校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   王也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24000" y="3212640"/>
            <a:ext cx="8153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语“怨恨”二字，乃一诗归宿处．“一去”，怨恨之始也，“独留”，怨恨所结也．“画图识面”，生前失宠之‘怨恨’可知；“环佩归魂”，死后无依之‘怨恨’何极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蒲起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载琵琶作胡语，分明</a:t>
            </a:r>
            <a:r>
              <a:rPr b="1" lang="zh-CN" sz="4800" spc="-1" strike="noStrike">
                <a:solidFill>
                  <a:srgbClr val="e40000"/>
                </a:solidFill>
                <a:latin typeface="华文新魏"/>
                <a:ea typeface="华文新魏"/>
              </a:rPr>
              <a:t>怨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中论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981000"/>
            <a:ext cx="815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一怨：远嫁朔漠，故乡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4000" y="1628640"/>
            <a:ext cx="66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二怨：死葬胡沙，魂魄空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220500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三怨：元帝昏庸，终身遗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6524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79280" y="6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昭君不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692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人不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206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帝不辨美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32000" y="206064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唐皇不分忠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68360" y="1052640"/>
            <a:ext cx="935280" cy="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87280" y="1341360"/>
            <a:ext cx="0" cy="64764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285264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咏明妃，为千古负才不偶者十分痛惜—金圣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40053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昭有国色，而入宫见妒；公亦国士，而入朝见嫉正相似也，悲昭以自悲也—王嗣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0" y="0"/>
            <a:ext cx="8532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昭君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０４高考作文：快乐幸福与思维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呆呆地坐在车中，望着窗外缓缓退后的一棵棵白杨，不知远处的草原此时是一幅什么景象。我的身后，是夕阳下的古道，古道那头的宫城，离我越来越远，我，还能回来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马蹄声声，我心悠悠。回首望去，我第一次发现那夕阳下的宫殿竟那么美，可是现在，我已不属于那座宫殿，那里的一切快乐与幸福也不再属于我了。那里的一殿一宇都那么的宏伟，那里的一花一木都那么的妩媚，那里的一歌一曲都那么的悦耳……我曾和姐妹们乘着一叶扁舟在太液池如镜的湖面上临风赏月，弹琴唱歌。那时的我，多么的快乐！而现在却只有怀中的琵琶伴我走向那蛮荒的漠北，长安城中的快乐的歌舞中再也不会有我的身影了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泪，从我的眼眶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呆呆地望着车窗外，那古道边的蒿草在风中不住地弯腰，它们也在为我难过。天边飞来两只小鸟，在我的车边落下又飞去，叽叽喳喳似在说着什么，它们在对我说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蹄声声，我心悠悠。那鸟儿一定在安慰我，望着薄暮中的宫殿，我竟发现它有些衰败，有些龌龊。我清楚地记得，在宫中，我的每一夜都独自在冰冷的玉枕上度过，每一日都在猜忌与妒忌中度过，锦衣玉食，丝竹管弦之后，我面对的是毛延寿们的贪婪和盘剥，姐妹们孤独的泪水。我曾希望皇帝可以垂青于我，但我又怎能向毛延寿弯腰低头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也许在广阔无边的草原上，我可以不再以青灯为伴，不再与孤独为伍，不再面对伪善，不再独忍忧伤。在那里，辽阔的天地可以任我驰骋，淳朴的民风可以给我慰藉。我有豪爽的单于丈夫，还会有可爱的儿女，天伦之乐难道不是最大的幸福吗？远处，似乎传来了牧人粗犷的牧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我笑了，是由心底涌出的喜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边的晚霞一片绚烂，长安城早已没有了踪影。风，拂过我的脸颊，这风是从北边吹来的，它带来草原对我的呼唤。我笑了，那是快乐的笑，幸福的笑，因为我懂得了，忧伤能变为快乐。苦难也能变为幸福———全看你怎么想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00720" y="-360"/>
            <a:ext cx="43192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昭君故里即是今天的湖北省宜昌市兴山县宝坪村，原名烟墩坪，又名王家湾。它面临香溪水，背靠纱帽山，群峰林立，崖壑含翠，橘林丰茂，山明水秀，极富诗情画意。村内有楠木井、娘娘井、梳妆台、望月楼等遗迹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沉鱼落雁闭月羞花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秋战国时期，越国有一个叫西施的，是个浣纱的女子，五官精致，粉面桃花，相貌过人。她在河边浣纱时，清澈的河水映照她俊俏的身影，使她显得更加美丽。这时，鱼儿看见她的倒影，忘记了游水，渐渐地沉到河底。从此，‘沉鱼’这个西施的代称，流传开来。——西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13000"/>
            <a:ext cx="8153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汉元帝在位期间，南北交兵，边界不得安静。汉元帝为安抚北匈奴，选昭君与单于结成姻缘，以保两国永远和好。在一个秋高气爽的日子里，昭君告别了故土，登程北去。一路上，马嘶雁鸣，撕裂她的心肝；悲切之感，使她心绪难平。她在坐骑之上，拨动琴弦，奏起悲壮的离别之曲。南飞的大雁听到这悦耳的琴声，看到骑在马上的这个美丽女子，忘记摆动翅膀，跌落地面。从此，昭君就得了‘落雁’的代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1413000"/>
            <a:ext cx="82976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汉末年，汉献帝的大臣司徒王允有个歌妓貂婵。她在后花园拜月时，忽然轻风吹来，一块浮云将那皎洁的明月遮住。这时正好王允瞧见。王允为宣扬貂婵长得漂亮，逢人就说，她和月亮比美，月亮比不过，赶紧躲在云彩后面，因此，貂婵也就被人们称为‘闭月’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4000" y="1413000"/>
            <a:ext cx="82976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朝开元年间，有一美貌女子杨玉环被选进宫来。杨玉环进宫后，常思念家乡。一天，她到花园赏花散心，看见盛开的牡丹、月季……想自己被关在宫内，虚度青春，不胜叹息，对着盛开的花说：‘花呀，花呀！你年年岁岁还有盛开之时，我什么时候才有出头之日？’声泪俱下。她刚一摸花，花瓣立即收缩，绿叶卷起低下。哪想到，她摸的是含羞草。这时，被一宫娥看见。宫娥到处说，杨玉环和花比美，花儿都含羞低下了头。这就是‘羞花’称号的由来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昭君和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帝后宫既多，不得常见，乃使画工图形，案图召幸之。诸宫人皆赂画工，多者十万，少者亦不减五万。独王嫱不肯，遂不得见。匈奴入朝，求美人为阏氏。于是上案图以昭君行。及去，召见，貌为后宫第一，善应付，举止闲雅。帝悔之，而名籍已定。帝重信于外国，故不复更人。乃穷案其事，画工皆弃市，籍其家资，皆巨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群山万壑赴荆门，生长明妃尚有村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去紫台连朔漠，独留青冢向黄昏。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图省识春风面，环佩空归月夜魂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载琵琶作胡语，分明怨恨曲中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400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赴：万山若奔，姿态生动，很有气势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似在迎接某位英雄人物出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77200" y="2780280"/>
            <a:ext cx="40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去”，生不能归；“独留”，永葬漠北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去一留，一生一死，对比强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30560" y="4580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委婉的讽刺，悲凄的想象，无限的伤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37680" y="5875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虽为附会之语，却是至情之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587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此恨绵绵无绝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山万壑赴荆门，生长明妃尚有村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去紫台连朔漠，独留青冢向黄昏。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省识春风面，环佩空归月夜魂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载琵琶作胡语，分明怨恨曲中论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20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山峦连着山峦，幽谷连着幽谷，好象是一起奔赴荆门。这里有个地方至今遗存着昭君生长的乡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060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昭君一离开宫室便走向北方遥远的沙漠，与匈奴结亲，谁知她一去不返身死异域，只留下了一座长满青草的孤坟，面对着大漠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860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想当年皇上只从画图中粗心地辨认她的美丽姿容，致使她含恨终生，死后仍思念故土，成为一缕身披环佩、月夜归来的游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57913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而今她用的琵琶仍旧弹奏着胡曲，千百年来，它分明在诉说着她不尽的乡情、无穷的怨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6:03:48Z</dcterms:created>
  <dc:creator>微软用户</dc:creator>
  <dc:description/>
  <dc:language>en-US</dc:language>
  <cp:lastModifiedBy>番茄花园</cp:lastModifiedBy>
  <dcterms:modified xsi:type="dcterms:W3CDTF">2008-03-26T08:30:24Z</dcterms:modified>
  <cp:revision>70</cp:revision>
  <dc:subject/>
  <dc:title>幻灯片 1</dc:title>
</cp:coreProperties>
</file>