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B68-F186-4A69-80F8-FBCFCE3C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4ED-B50B-4C27-BD2E-592C1031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287-BC3F-40DB-BA1F-75F33809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4DA-714A-49E7-B596-5C611475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9D33-0F96-40CE-9EF5-154CF4CB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3378-2AFF-4D20-BC61-7484D183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3601-467A-482C-AE5A-A727B9A3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6187-79DA-4D45-B5D7-159220E4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F496-D912-425E-ABA4-A6508E9E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79CB-C655-4CAD-8F53-AF0A5374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7A0B-58D6-4F81-AAC3-075BDB0E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294-457B-49B7-A043-7B447F92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338C-86DC-40C6-8A60-DB8C64A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3E16-2E9D-42FA-BD6A-55F3275B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811D-6D3D-42F2-98C0-7817828C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FC9B-1FD5-4BB3-BAF9-B8D45413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94FD-054E-42CA-ABD2-DF545D0A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D18CB-6F15-497E-8A6D-F6B14DA6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BABFC-B3DF-4FD6-AAF2-DDCFA1A6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05CD1-B308-49E3-B7F2-41B9F9C5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A6C09-B0E8-4C20-ACB0-42FDC7C2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0E066-A8C1-4281-9182-3CD7D46C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D91-6D67-4D70-B579-9E9CD375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5FAF7-0E8B-48C4-9A22-95D7CCB7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7D239-0E0F-4C7D-8656-8B72FD91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75DCC-BE18-4E9A-8820-60D95074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06C68-C7DA-4350-9375-584C0D9A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F4E99-5E62-4FC0-81D9-8E8F8464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B80CE-1D9E-4BCC-93BD-9C17C6F6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85C56-483F-40D0-B359-5BCD6E65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B0E6-72B0-4E70-9036-997C5177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8D06-FD67-4E8A-85CA-8417648D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A7D8-4CA3-422A-B84D-9086EE25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7E5-D1BA-4DDA-B516-BB70865A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AB0A-1DB0-4480-B854-524DE8D1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348B9-47ED-4F00-9256-8CA7929D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8234-A917-42E3-A655-43F57C92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C0D3D-6251-4244-86D2-F0972A7E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C5476-CCD2-46CA-8937-6CABE82E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CBFE1-B1CE-445B-9CA5-EB32F06F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BA9F6-6099-4E4A-BE54-22BB29D1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8C985-49E9-4824-830E-12D4B788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37AA-5339-4AFF-84FE-41F6D147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D56-5A46-48F6-AA67-C09C3519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690-E5B9-481E-8D8F-04BDDDCD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513-92D3-4520-9314-E9A8CF98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D32-07E9-4CD9-A339-ED78CFD7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E61-F3B9-4495-9BDC-EBCEE90E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6747-AD88-4AB3-B39B-EDD1672766B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2A96-7A75-4D1F-AC6F-D4782E31F61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7C51-BDAF-4303-8AD5-890E988C772F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77C2-A6B6-4477-80A9-2E7E1538F761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11280" y="1197000"/>
            <a:ext cx="8137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追溯历史的踪迹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620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一去紫台连朔漠，独留青冢向黄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9640" y="299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远嫁异邦，远葬他乡，月魂空归，  思念故乡的幽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176220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环珮空归月夜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8101080" y="6237360"/>
            <a:ext cx="503280" cy="620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20640"/>
              <a:gd name="textAreaBottom" fmla="*/ 588240 h 620640"/>
            </a:gdLst>
            <a:ahLst/>
            <a:rect l="textAreaLeft" t="textAreaTop" r="textAreaRight" b="textAreaBottom"/>
            <a:pathLst>
              <a:path w="21600" h="26633">
                <a:moveTo>
                  <a:pt x="0" y="0"/>
                </a:moveTo>
                <a:lnTo>
                  <a:pt x="21600" y="0"/>
                </a:lnTo>
                <a:lnTo>
                  <a:pt x="21600" y="26633"/>
                </a:lnTo>
                <a:lnTo>
                  <a:pt x="0" y="26633"/>
                </a:lnTo>
                <a:close/>
              </a:path>
              <a:path fill="lightenLess" w="21600" h="26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33">
                <a:moveTo>
                  <a:pt x="21600" y="0"/>
                </a:moveTo>
                <a:lnTo>
                  <a:pt x="21600" y="26633"/>
                </a:lnTo>
                <a:lnTo>
                  <a:pt x="20200" y="25233"/>
                </a:lnTo>
                <a:lnTo>
                  <a:pt x="20200" y="1400"/>
                </a:lnTo>
                <a:close/>
              </a:path>
              <a:path fill="darkenLess" w="21600" h="26633">
                <a:moveTo>
                  <a:pt x="21600" y="26633"/>
                </a:moveTo>
                <a:lnTo>
                  <a:pt x="0" y="26633"/>
                </a:lnTo>
                <a:lnTo>
                  <a:pt x="1400" y="25233"/>
                </a:lnTo>
                <a:lnTo>
                  <a:pt x="20200" y="25233"/>
                </a:lnTo>
                <a:close/>
              </a:path>
              <a:path fill="lighten" w="21600" h="26633">
                <a:moveTo>
                  <a:pt x="0" y="26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33"/>
                </a:lnTo>
                <a:close/>
              </a:path>
              <a:path fill="darken" w="21600" h="26633">
                <a:moveTo>
                  <a:pt x="3794" y="10009"/>
                </a:moveTo>
                <a:lnTo>
                  <a:pt x="7301" y="10009"/>
                </a:lnTo>
                <a:lnTo>
                  <a:pt x="7301" y="15345"/>
                </a:lnTo>
                <a:cubicBezTo>
                  <a:pt x="7301" y="16267"/>
                  <a:pt x="8102" y="16998"/>
                  <a:pt x="9138" y="16998"/>
                </a:cubicBezTo>
                <a:lnTo>
                  <a:pt x="10800" y="16998"/>
                </a:lnTo>
                <a:cubicBezTo>
                  <a:pt x="11836" y="16998"/>
                  <a:pt x="12636" y="16267"/>
                  <a:pt x="12636" y="15345"/>
                </a:cubicBezTo>
                <a:lnTo>
                  <a:pt x="12636" y="10009"/>
                </a:lnTo>
                <a:lnTo>
                  <a:pt x="10800" y="10009"/>
                </a:lnTo>
                <a:lnTo>
                  <a:pt x="14308" y="6502"/>
                </a:lnTo>
                <a:lnTo>
                  <a:pt x="17981" y="10009"/>
                </a:lnTo>
                <a:lnTo>
                  <a:pt x="16144" y="10009"/>
                </a:lnTo>
                <a:lnTo>
                  <a:pt x="16144" y="15345"/>
                </a:lnTo>
                <a:cubicBezTo>
                  <a:pt x="16144" y="18112"/>
                  <a:pt x="13568" y="20671"/>
                  <a:pt x="10800" y="20671"/>
                </a:cubicBezTo>
                <a:lnTo>
                  <a:pt x="9138" y="20671"/>
                </a:lnTo>
                <a:cubicBezTo>
                  <a:pt x="6370" y="20671"/>
                  <a:pt x="3794" y="18112"/>
                  <a:pt x="3794" y="15345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755640" y="54936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黑体"/>
              </a:rPr>
              <a:t>画图省识春风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5640" y="249228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对画师的无耻行为怨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8172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7493"/>
                </a:moveTo>
                <a:lnTo>
                  <a:pt x="9961" y="7493"/>
                </a:lnTo>
                <a:lnTo>
                  <a:pt x="9961" y="12828"/>
                </a:lnTo>
                <a:cubicBezTo>
                  <a:pt x="9961" y="13751"/>
                  <a:pt x="10762" y="14482"/>
                  <a:pt x="11797" y="14482"/>
                </a:cubicBezTo>
                <a:lnTo>
                  <a:pt x="13460" y="14482"/>
                </a:lnTo>
                <a:cubicBezTo>
                  <a:pt x="14495" y="14482"/>
                  <a:pt x="15296" y="13751"/>
                  <a:pt x="15296" y="12828"/>
                </a:cubicBezTo>
                <a:lnTo>
                  <a:pt x="15296" y="7493"/>
                </a:lnTo>
                <a:lnTo>
                  <a:pt x="13460" y="7493"/>
                </a:lnTo>
                <a:lnTo>
                  <a:pt x="16967" y="3985"/>
                </a:lnTo>
                <a:lnTo>
                  <a:pt x="20640" y="7493"/>
                </a:lnTo>
                <a:lnTo>
                  <a:pt x="18804" y="7493"/>
                </a:lnTo>
                <a:lnTo>
                  <a:pt x="18804" y="12828"/>
                </a:lnTo>
                <a:cubicBezTo>
                  <a:pt x="18804" y="15596"/>
                  <a:pt x="16227" y="18155"/>
                  <a:pt x="13460" y="18155"/>
                </a:cubicBezTo>
                <a:lnTo>
                  <a:pt x="11797" y="18155"/>
                </a:lnTo>
                <a:cubicBezTo>
                  <a:pt x="9030" y="18155"/>
                  <a:pt x="6453" y="15596"/>
                  <a:pt x="6453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80880" y="260280"/>
            <a:ext cx="8534520" cy="1008360"/>
          </a:xfrm>
          <a:prstGeom prst="rect">
            <a:avLst/>
          </a:prstGeom>
          <a:solidFill>
            <a:srgbClr val="ccff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昭君远嫁对她个人来说，毕竟是一种不幸。这种不幸又是怎样造成的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4005360"/>
            <a:ext cx="8497800" cy="1008360"/>
          </a:xfrm>
          <a:prstGeom prst="rect">
            <a:avLst/>
          </a:prstGeom>
          <a:solidFill>
            <a:srgbClr val="cc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最根本的原因还是统治者的昏庸造成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200" y="1125360"/>
            <a:ext cx="8305920" cy="764280"/>
          </a:xfrm>
          <a:prstGeom prst="rect">
            <a:avLst/>
          </a:prstGeom>
          <a:solidFill>
            <a:srgbClr val="cc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千载琵琶作胡语，分明怨恨曲中论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80880" y="685800"/>
            <a:ext cx="8534520" cy="2714400"/>
          </a:xfrm>
          <a:prstGeom prst="rect">
            <a:avLst/>
          </a:prstGeom>
          <a:solidFill>
            <a:srgbClr val="ccffcc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怨恨”两字点明全篇主旨。千百年来，琵琶所演奏的总是从匈奴传来的撩人愁思的胡乐，正是昭君在诉说着她的怨恨！这两句从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侧面烘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昭君的形象，既有对她的赞扬，又有对她的同情。读到这里，我们的耳边好像又响起了那深沉、幽怨的琵琶声！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60948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《咏怀古迹（其三）》题为咏怀，可里面只写了昭君的怨恨，并无作者个人的情怀，这是不是与标题“咏怀”二字不符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-100080"/>
            <a:ext cx="9144000" cy="703440"/>
          </a:xfrm>
          <a:prstGeom prst="rect">
            <a:avLst/>
          </a:prstGeom>
          <a:solidFill>
            <a:srgbClr val="cc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背景：唐玄宗天宝五年，作者西入长安，羁留十年，才做了个看管兵甲器杖的小官。安史之乱爆发后，他前往灵武投奔唐肃宗，任右拾遗。作者因上疏救宰相房琯触怒唐肃宗而受排挤，被贬为华州司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2924280"/>
            <a:ext cx="9036000" cy="3547800"/>
          </a:xfrm>
          <a:prstGeom prst="rect">
            <a:avLst/>
          </a:prstGeom>
          <a:solidFill>
            <a:srgbClr val="0000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昭君                                　诗人                    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绝代佳人，入宫见妒            才华横溢，入朝见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画图省识，远离汉宫　　　不分忠佞，无辜遭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身死异国，环珮空归            漂泊西南，有家难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千载之怨）                    （深沉怨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32846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c98"/>
                </a:solidFill>
                <a:latin typeface="Times New Roman"/>
                <a:ea typeface="黑体"/>
              </a:rPr>
              <a:t>前人评此诗时说杜甫是“悲昭君以自悲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836640"/>
            <a:ext cx="7767720" cy="2160720"/>
          </a:xfrm>
          <a:prstGeom prst="rect">
            <a:avLst/>
          </a:prstGeom>
          <a:solidFill>
            <a:srgbClr val="ccffc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所以作者在咏叹王昭君不幸的同时也在感慨自己的不幸，在表达王昭君千载之怨的同时也在暗中表达自己的深沉怨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333360"/>
            <a:ext cx="9144000" cy="2991600"/>
          </a:xfrm>
          <a:prstGeom prst="rect">
            <a:avLst/>
          </a:prstGeom>
          <a:solidFill>
            <a:srgbClr val="cc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这首诗写的是昭君的怨恨，但首联一开始并没有写她的怨恨，那写的是什么？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04920" y="2276640"/>
            <a:ext cx="8534160" cy="703440"/>
          </a:xfrm>
          <a:prstGeom prst="rect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山是群山起伏，连绵不绝；水是万壑争流，奔腾不息，直赴荆门山。其中的“赴”字用了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拟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手法，把迤逦不绝的千山万壑陡然间写活了，既有飞动之势，又有变幻之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71640" y="836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群山万壑赴荆门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742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0920" y="54936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ff0000"/>
                </a:solidFill>
                <a:latin typeface="Times New Roman"/>
                <a:ea typeface="隶书"/>
              </a:rPr>
              <a:t>杜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57200" y="1523880"/>
            <a:ext cx="8381880" cy="23990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篇不写昭君，却描绘了这样一幅图画，目的何在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28600" y="457200"/>
            <a:ext cx="8915400" cy="825120"/>
          </a:xfrm>
          <a:prstGeom prst="rect">
            <a:avLst/>
          </a:prstGeom>
          <a:solidFill>
            <a:srgbClr val="ccff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从侧面烘托昭君的形象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青年女子远离父母之邦，嫁到异域，并在那里度过一生，确实需要巨大的勇气和毅力，而这雄伟的山川简直就是她那坚强的性格的象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69228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一去紫台连朔漠，独留青冢向黄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2060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试分析该联中“独”的表达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3429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独”实写青冢，虚写昭君远离故土的境遇，更写出了昭君远离故土后心灵的孤独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4762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环珮空归月夜魂”中的“空”如何理解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2133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从字面上看，作者认为，既然葬于塞外，不能归汉，你的魂灵归来也是徒然的。深入一想，昭君虽骨留青冢，但魂灵早已在月明之夜回到生她养她的故乡，可见其怀念故土之心是多么强烈啊！一个“空”字，将诗人的悲愤之情、伤悼之意传达得淋漓尽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4000" y="333360"/>
            <a:ext cx="7848360" cy="26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诗歌的主旨虽写的是昭君的“怨恨”，但一开始并未直接写，而是从咏江山之奇绝引出咏佳人之奇美，接着写昭君的悲剧及其根源，为点明“怨恨”做铺垫，最后才明确点出昭君之怨，将感情推向高潮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393372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诗人漂泊异地，远离故乡，处境和昭君相似，寄寓思乡之情，也借昭君遗恨绝域，曲折表达自己失遇无路，才不得用的感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63960" y="151920"/>
            <a:ext cx="817560" cy="53341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鉴赏咏史诗三步骤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0"/>
            <a:ext cx="7569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描写的古人、往事是怎样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弄清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黑体"/>
              </a:rPr>
              <a:t>史实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什么要写这个古人这段往事 ？诗人在诗中表现出什么态度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（体悟感情</a:t>
            </a:r>
            <a:r>
              <a:rPr b="1" lang="zh-CN" sz="4000" spc="-1" strike="noStrike">
                <a:solidFill>
                  <a:srgbClr val="99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70605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种态度运用什么方法表达</a:t>
            </a:r>
            <a:r>
              <a:rPr b="0" lang="zh-CN" sz="4000" spc="-1" strike="noStrike">
                <a:solidFill>
                  <a:srgbClr val="070605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Comic Sans MS"/>
                <a:ea typeface="黑体"/>
              </a:rPr>
              <a:t>（分析技巧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08000" y="1030320"/>
            <a:ext cx="8893080" cy="4725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题乌江亭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杜牧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胜败兵家事不期，包羞忍辱是男儿。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江东子弟多才俊，卷土重来未可知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         乌江亭  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王安石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百战疲劳壮士哀，中原一败势难回。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江东子弟今虽在，肯为君主卷土来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8000" y="5373720"/>
            <a:ext cx="8856720" cy="703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黑体"/>
              </a:rPr>
              <a:t>请简要分析作品的思想内容和艺术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170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项羽垓下战败，逃至此地，乌江亭长驾船请他渡过江东。项羽说：“我当年与江东八千子弟渡江而西，今无一人还，纵江东父老怜而王我，我何面目见之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?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乃自刎。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47628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弄清史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体悟感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013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杜诗认为项羽还可能卷土重来的原因是什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王诗认为项羽不可能卷土重来的根据是什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2852640"/>
            <a:ext cx="864216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杜诗认为胜败乃兵家常事，只要不灰心，重整旗鼓，再争取胜利也是可能的。王诗却认为项羽已经众叛亲离，丧尽人心，江东子弟不可能再为他卖力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755640" y="1574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首诗有何不同之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4360" y="23716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杜牧诗一开始就提出自己的观点，再用江东子弟卷土重来的设想做证据宣扬了百折不挠的精神，颇有积极意义；王安石的诗先分析项羽面临的形势，再针对杜诗的说法，说明项羽人心丧尽，不可能卷土重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4360" y="404640"/>
            <a:ext cx="2303280" cy="503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分析技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333360"/>
            <a:ext cx="4392720" cy="22269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☆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字子美，自号少陵野老，曾任检校工部员外郎，世称杜工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☆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伟大的现实主义诗人，人称诗圣；其诗直接反映了唐朝“安史之乱”时期的社会现实，显示了唐代由盛转衰的历史过程，人称“诗史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☆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古诗、律诗见长，风格多样，而以沉郁为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☆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《杜工部集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533760" cy="4248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826920" y="220500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杜牧诗用不大肯定的语气来表述，表示推测，实际上是借题发挥。王诗使用反问句式，语气冷峻，强调了历史之必然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0792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112392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00000" y="1052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两诗末句表达方式有何不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39640" y="-27000"/>
            <a:ext cx="77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　　　　　　　　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西施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崔道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宰嚭亡吴国， 西施陷恶名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浣纱春水急， 似有不平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西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罗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国兴亡自有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吴人何苦怨西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西施若解倾吴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越国亡来又是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4653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黑体"/>
              </a:rPr>
              <a:t>注：据《史记》载，越王勾践被吴王夫差打败后，困于会稽，派大夫文种贿赂吴国太宰伯嚭，送宝器，美女（西施在其中）到吴国求和，从此越王勾践获得了休养生息的机会，其后终于灭掉了吴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1731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学以致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95280" y="990720"/>
            <a:ext cx="7705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１、两首诗都针对“红颜祸水”这一传统的历史观念，为西施反案，但立意有深浅之别。请作简要分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２、两首诗的作者在表达自己的观点态度时，所用的手法各有特色，请结合两首诗的三、四句作简要赏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39640" y="692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两首诗都针对“红颜祸水”这一传统的历史观念，为西施反案，但立意有深浅之别。请作简要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2997360"/>
            <a:ext cx="777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崔道融的诗同情西施，为西施个人鸣不平，立意较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罗隐的诗写出了“家国兴亡自有时”的自然规律，立意较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68360" y="404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两首诗的作者在表达自己的观点态度时，所用的手法各有特色，请结合两首诗的三、四句作简要赏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26920" y="328464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8360" y="2205000"/>
            <a:ext cx="8675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崔诗“浣纱春水急， 似有不平声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刘诗“西施若解倾吴国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越国亡来又是谁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71640" y="429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借景抒情、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76720" y="422100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对比、反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《咏怀古迹》是一组结构严密的七言律诗，共五首，每首各咏一古迹，依次是庾信故居、宋玉故居、昭君村、先主庙、武侯庙，都是借古迹抒发诗人的身世之感。关于它的整体结构，明人王嗣奭在《杜臆》中有很好的解释：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“怀庾信、宋玉，以斯文为己任也；怀先主、武侯，叹君臣际会之难逢也；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中间昭君一章，盖入宫见妒，与入朝见妒者，千古有同感焉。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39060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咏怀古迹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其三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9280" y="2109960"/>
            <a:ext cx="9144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群山万壑赴荆门，生长明妃尚有村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紫台连朔漠，独留青冢向黄昏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画图省识春风面，环珮空归月夜魂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千载琵琶作胡语，分明怨恨曲中论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 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9640" y="2602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用自己的话复述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12536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　　群山万壑随着险急的江流，奔赴荆门山，这里有生长明妃（王昭君）的村子。一旦离开汉宫，（命运）便与北方少数民族相连，独留下青冢向着黄昏。凭着画工画的画像只能约略认识昭君美丽的面容，空有她那怀念故国的魂魄月夜归来。即使千年过后，琵琶弹奏的胡地乐曲，还分明诉说着她内心的怨恨之情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1052640"/>
            <a:ext cx="9144000" cy="2168640"/>
          </a:xfrm>
          <a:prstGeom prst="rect">
            <a:avLst/>
          </a:prstGeom>
          <a:solidFill>
            <a:srgbClr val="ccff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这首诗给我们塑造了一个什么样的人物形象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411280" y="3933720"/>
            <a:ext cx="475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7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王昭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79280" y="333360"/>
            <a:ext cx="8713800" cy="3420360"/>
          </a:xfrm>
          <a:prstGeom prst="rect">
            <a:avLst/>
          </a:prstGeom>
          <a:solidFill>
            <a:srgbClr val="ccffc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找出其中点明感情的词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743200" y="4495680"/>
            <a:ext cx="3048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怨恨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063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84360" y="105264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黑体"/>
              </a:rPr>
              <a:t>　　昭君怨恨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7524720" y="537372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12135"/>
                </a:moveTo>
                <a:lnTo>
                  <a:pt x="17806" y="5128"/>
                </a:lnTo>
                <a:lnTo>
                  <a:pt x="17806" y="1914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8028000" y="537372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5128"/>
                </a:moveTo>
                <a:lnTo>
                  <a:pt x="17806" y="12135"/>
                </a:lnTo>
                <a:lnTo>
                  <a:pt x="3794" y="1914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7:48:12Z</dcterms:created>
  <dc:creator>jwq</dc:creator>
  <dc:description/>
  <dc:language>en-US</dc:language>
  <cp:lastModifiedBy>Xtzj.User</cp:lastModifiedBy>
  <dcterms:modified xsi:type="dcterms:W3CDTF">2008-01-07T08:53:27Z</dcterms:modified>
  <cp:revision>35</cp:revision>
  <dc:subject/>
  <dc:title>幻灯片 1</dc:title>
</cp:coreProperties>
</file>