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71C-2397-4E01-88D7-8BACC53A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89D-145F-4593-B7B7-B0FEFDC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61E-9BD7-4A64-AA71-9CA5BFFA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A78-4B96-4E88-B6D5-D7859F2A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534-CF4C-46D9-8741-45908D0D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B849-9152-42FF-ADFE-7F3C052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BCF-1B51-4CEE-915F-7B3CD61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5DDB-7255-4730-887E-16877DF1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87D-61D7-42C9-B051-49105840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E46F-FD79-446B-8D37-D516191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2E5F-4976-48C1-8FC2-5585A6B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5F3-439E-4C0E-B195-05753B5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46CA-2EC9-45B6-A44C-D6E10AC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67CB-BF0C-4BFB-8BB1-36FE3A1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65E-F782-4D1F-BD66-CF469D1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A3B-9582-4863-A545-50E56517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21F-DBA3-4DFE-9062-56BBDF03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39F-41A9-42CF-8EF1-4F4CD75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1F9-DC8F-4A58-8221-6911257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377-41D7-4588-B5F5-1696D4B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BD9-2AA3-4595-BF24-DCC04E6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9B6-3E5B-41BA-B4C2-0F79B9E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BEB-43D4-4834-9135-764BDDB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8B3-D58C-4CF5-9316-CEE3507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812-B8AB-447D-86F7-76187CCF535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CB9-83DC-4C7C-91D7-98291DBCBC49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83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380880" y="3733920"/>
            <a:ext cx="9524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179" name="00138523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3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38880"/>
            <a:ext cx="9144000" cy="4305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41911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这是一个中国孩子的呼声！              也是全这世界人民的呼声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000160"/>
            <a:ext cx="422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Verdana"/>
              </a:rPr>
              <a:t>谢  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00"/>
                </a:solidFill>
                <a:latin typeface="Arial"/>
              </a:rPr>
              <a:t>读准下列词语</a:t>
            </a: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21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99840" y="539640"/>
            <a:ext cx="50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Verdana"/>
              </a:rPr>
              <a:t>这句话中的“如约”指的是（               ）和（                   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Verdana"/>
              </a:rPr>
              <a:t>有约定。他们的约定是（                                            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Verdana"/>
              </a:rPr>
              <a:t>爸爸在呼唤什么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Verdana"/>
              </a:rPr>
              <a:t>这只是爸爸一个人的呼声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"/>
              </a:rPr>
              <a:t>他是一名卓越的战士，在执行联合国维和行动中体现了人道与公正的素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"/>
              </a:rPr>
              <a:t>他还精通四国语言。是一名出色的经济学硕士，本来他应该为人类作出更大的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"/>
              </a:rPr>
              <a:t>贡献却被战争夺去了宝贵的生命。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5-07T06:48:0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