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0AA-D662-4369-9251-6C31973C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2F2-DACE-46A4-9BDA-8214CC63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855-BA79-427F-AEF2-1047C6E4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C72-9DF3-46E6-9E29-F39806D7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7BDB-CFC3-4371-89E2-B493A83B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25F3-2CE3-4577-A2B3-3CF09D98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808E-E448-4D9C-BE49-E9100735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24A9-4EEB-4680-AC76-37DB4C29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DC09-A2E0-4AC1-BCAB-C209955A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35A3-F26C-46B3-A592-A70D3274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9253-1E25-4906-8D2E-FB59E1B8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59B-A2A5-4045-98DE-4039C513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C8CE-62CB-46EF-82BD-3733EF88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8128-0800-41F9-98DE-BF2D1ADD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B761-7AC0-4147-BB88-154FE3A7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0687-60CF-4C3E-B316-BC3F607A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9635-183D-40AD-AF95-BA33119F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9D3-063E-4BA4-A990-7A438167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6CB-1082-4CAD-829B-777223A0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991-5744-4E57-A7DB-615C0FEC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90C-570B-4879-8665-C3CA6C02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FBB-953C-4893-9AC4-2F5C5ADA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A7B-B540-4865-8E98-B1CA06B6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6E6-B9B2-4E39-9381-951FA95B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5584-6736-42C8-886F-51B3EE4BEAB9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6D35-71A3-4455-8B14-6A9BC67363FC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20574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6.  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个中国孩子的呼声</a:t>
            </a: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2120" y="3276720"/>
            <a:ext cx="8001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楷体_GB2312"/>
              </a:rPr>
              <a:t>现在这顶蓝盔回来了，但它是钉在爸爸的灵柩上回来的。我们如约捧着鲜花，接到的却是爸爸那覆盖着国旗的遗体。鲜血染红了他的征衣，腕上的手表浸满了凝固的血。爸爸的嘴张着，仿佛在呼唤着什么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8600"/>
            <a:ext cx="78487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楷体_GB2312"/>
              </a:rPr>
              <a:t>爸爸临上飞机前注视着我和妈妈的深情的目光。他说：“孩子，等爸爸回来，我一定送你一顶‘蓝盔’。”我们与爸爸相约，等爸爸凯旋的那一天，我们要带着最美的鲜花迎接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9640" y="476280"/>
            <a:ext cx="813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楷体_GB2312"/>
              </a:rPr>
              <a:t>现在这顶蓝盔回来了，但它是钉在爸爸的灵柩上回来的。我们如约捧着鲜花，接到的却是爸爸那覆盖着国旗的遗体。鲜血染红了他的征衣，腕上的手表浸满了凝固的血。爸爸的嘴张着，仿佛在呼唤着什么。啊！我听见了，妈妈听见了，在场的叔叔阿姨听见了，全世界都听见了，他呼唤的是：“和平！和平！和平！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9640" y="476280"/>
            <a:ext cx="813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楷体_GB2312"/>
              </a:rPr>
              <a:t>现在这顶蓝盔回来了，但它是钉在爸爸的灵柩上回来的。我们如约捧着鲜花，接到的却是爸爸那覆盖着国旗的遗体。鲜血染红了他的征衣，腕上的手表浸满了凝固的血。爸爸的嘴张着，仿佛在呼唤着什么。啊！我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听见了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楷体_GB2312"/>
              </a:rPr>
              <a:t>，妈妈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听见了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楷体_GB2312"/>
              </a:rPr>
              <a:t>，在场的叔叔阿姨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听见了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楷体_GB2312"/>
              </a:rPr>
              <a:t>，全世界都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听见了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楷体_GB2312"/>
              </a:rPr>
              <a:t>，他呼唤的是：“和平！和平！和平！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66800" y="236520"/>
            <a:ext cx="7612200" cy="6176160"/>
            <a:chOff x="766800" y="236520"/>
            <a:chExt cx="7612200" cy="6176160"/>
          </a:xfrm>
        </p:grpSpPr>
        <p:sp>
          <p:nvSpPr>
            <p:cNvPr id="173" name=""/>
            <p:cNvSpPr/>
            <p:nvPr/>
          </p:nvSpPr>
          <p:spPr>
            <a:xfrm>
              <a:off x="990720" y="5089680"/>
              <a:ext cx="70866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    </a:t>
              </a:r>
              <a:r>
                <a:rPr b="0" lang="zh-CN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2001</a:t>
              </a:r>
              <a:r>
                <a:rPr b="1" lang="zh-CN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年</a:t>
              </a:r>
              <a:r>
                <a:rPr b="0" lang="zh-CN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9</a:t>
              </a:r>
              <a:r>
                <a:rPr b="1" lang="zh-CN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月</a:t>
              </a:r>
              <a:r>
                <a:rPr b="0" lang="zh-CN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11</a:t>
              </a:r>
              <a:r>
                <a:rPr b="1" lang="zh-CN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日，美国遭受恐怖袭击，纽约世贸大厦被飞机撞毁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66800" y="236520"/>
              <a:ext cx="7612200" cy="4716360"/>
              <a:chOff x="766800" y="236520"/>
              <a:chExt cx="7612200" cy="47163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66800" y="3124080"/>
                <a:ext cx="7612200" cy="609480"/>
                <a:chOff x="766800" y="3124080"/>
                <a:chExt cx="7612200" cy="6094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66800" y="3124080"/>
                  <a:ext cx="502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766800" y="3124080"/>
                  <a:ext cx="7612200" cy="609480"/>
                  <a:chOff x="766800" y="3124080"/>
                  <a:chExt cx="7612200" cy="6094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766800" y="3124080"/>
                    <a:ext cx="5027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66800" y="3124080"/>
                    <a:ext cx="761220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000" spc="-1" strike="noStrike">
                        <a:solidFill>
                          <a:srgbClr val="006699"/>
                        </a:solidFill>
                        <a:latin typeface="Times New Roman"/>
                        <a:ea typeface="_x000b__x000c_"/>
                      </a:rPr>
                      <a:t>这是当日纽约世贸大厦遭受飞机撞击后冒出滚滚浓烟。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1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236520"/>
                <a:ext cx="6933960" cy="471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42920" y="551664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伊拉克和伊朗爆发了长达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8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的战争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96000" cy="4682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24000" y="18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16000" y="1062000"/>
            <a:ext cx="7010280" cy="5824080"/>
            <a:chOff x="1116000" y="1062000"/>
            <a:chExt cx="7010280" cy="58240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1116000" y="1062000"/>
              <a:ext cx="7010280" cy="46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268280" y="5938920"/>
              <a:ext cx="678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</a:t>
              </a:r>
              <a:br>
                <a:rPr sz="2800"/>
              </a:b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596000" cy="569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20880" y="476280"/>
            <a:ext cx="746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据统计，第二次世界大战是历史上死伤人数最多的战争，共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50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600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人死亡，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亿人受伤。战场的累累白骨和战时百姓大规模的流离失所，使人类对永久和平的期盼一直没有间断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8920" y="980640"/>
            <a:ext cx="1871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Verdana"/>
              </a:rPr>
              <a:t>美好的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2276640"/>
            <a:ext cx="3598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Verdana"/>
              </a:rPr>
              <a:t>和平之花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350028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Verdana"/>
              </a:rPr>
              <a:t>娇嫩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20574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6.   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个中国孩子的呼声</a:t>
            </a: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3070080"/>
            <a:ext cx="142920" cy="1429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40720" y="3070080"/>
            <a:ext cx="142920" cy="1429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11280" y="1197000"/>
            <a:ext cx="756108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了母亲不再失去儿子，为了妻子不再失去丈夫，为了孩子不再失去爸爸，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全社会应该一致行动起来，维护和平，制止战争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26028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Verdana"/>
                <a:ea typeface="楷体_GB2312"/>
              </a:rPr>
              <a:t>救救孩子们，要和平不要战争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0920" y="549360"/>
            <a:ext cx="8748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救救孩子们，要和平不要战争！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了母亲不再失去儿子，为了妻子不再失去丈夫，为了孩子不再失去爸爸，全社会应该一致行动起来，维护和平，制止战争！让明天的世界真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成为充满阳光、鲜花和爱的人类家园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!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602136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示威者举行反战游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181480" y="152280"/>
            <a:ext cx="304812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4280040" cy="6324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933520" y="1125360"/>
            <a:ext cx="18993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孩子们祈祷和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912080" cy="48992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39640" y="5516640"/>
            <a:ext cx="78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放飞和平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11280" y="836640"/>
            <a:ext cx="756108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了母亲不再失去儿子，为了妻子不再失去丈夫，为了孩子不再失去爸爸，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全社会应该一致行动起来，维护和平，制止战争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1628640"/>
            <a:ext cx="144720" cy="144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1628640"/>
            <a:ext cx="144360" cy="144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2492280"/>
            <a:ext cx="144360" cy="144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5280" y="2492280"/>
            <a:ext cx="144360" cy="144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2492280"/>
            <a:ext cx="144360" cy="144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40720" y="2492280"/>
            <a:ext cx="144360" cy="144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826920" y="839880"/>
            <a:ext cx="7417080" cy="6653520"/>
            <a:chOff x="826920" y="839880"/>
            <a:chExt cx="7417080" cy="6653520"/>
          </a:xfrm>
        </p:grpSpPr>
        <p:sp>
          <p:nvSpPr>
            <p:cNvPr id="213" name=""/>
            <p:cNvSpPr/>
            <p:nvPr/>
          </p:nvSpPr>
          <p:spPr>
            <a:xfrm>
              <a:off x="826920" y="839880"/>
              <a:ext cx="7417080" cy="66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为了                   </a:t>
              </a:r>
              <a:r>
                <a:rPr b="1" lang="zh-CN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,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为了</a:t>
              </a:r>
              <a:r>
                <a:rPr b="0" lang="zh-CN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                   </a:t>
              </a:r>
              <a:r>
                <a:rPr b="0" lang="zh-CN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4000" spc="-1" strike="noStrike">
                  <a:solidFill>
                    <a:srgbClr val="ffff00"/>
                  </a:solidFill>
                  <a:latin typeface="Verdana"/>
                  <a:ea typeface="楷体_GB2312"/>
                </a:rPr>
                <a:t>为了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                    </a:t>
              </a:r>
              <a:r>
                <a:rPr b="0" lang="zh-CN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，</a:t>
              </a:r>
              <a:r>
                <a:rPr b="1" lang="zh-CN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让我们行动起来，保护我们的家园，保护人类的生存环境！</a:t>
              </a:r>
              <a:r>
                <a:rPr b="1" lang="zh-CN" sz="4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16360" y="1397160"/>
              <a:ext cx="4751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8000" y="2333880"/>
              <a:ext cx="46800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98560" y="3341880"/>
              <a:ext cx="50418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2114640"/>
            <a:ext cx="79135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给处在战争中的孩子写一封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给远在云南的希望小学的同学写一封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给自己的亲人写一封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480" y="476280"/>
            <a:ext cx="2476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66ff33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学以致用</a:t>
            </a:r>
            <a:endParaRPr b="1" lang="en-US" sz="4800" spc="1" strike="noStrike">
              <a:ln w="12600">
                <a:solidFill>
                  <a:srgbClr val="66ff33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1341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楷体_GB2312"/>
              </a:rPr>
              <a:t>学习书信的写法，写一封信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2286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Verdana"/>
                <a:ea typeface="楷体_GB2312"/>
              </a:rPr>
              <a:t>救救孩子们，要和平不要战争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</a:rPr>
              <a:t>轻读课文，用这个填空来说说课文的主要内容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雷利的爸爸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，不幸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</a:rPr>
              <a:t>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。雷利至今都忘不了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</a:rPr>
              <a:t>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，可是后来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</a:rPr>
              <a:t>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。于是，雷利向联合国秘书长加里写了一封信，希望通过加利向整个国际社会呼吁：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</a:rPr>
              <a:t>“                                 ”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71640" y="2286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救救孩子们，要和平不要战争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836640"/>
            <a:ext cx="770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楷体_GB2312"/>
              </a:rPr>
              <a:t>两年多来，我们全家沉浸在失去亲人的巨大悲痛中，我至今都忘不了，爸爸临上飞机前注视着我和妈妈的深情的目光。他说：“孩子，等爸爸回来，我一定送你一顶‘蓝盔’。”我们与爸爸相约，等爸爸凯旋的那一天，我们要带着最美的鲜花迎接他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55640" y="836640"/>
            <a:ext cx="770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楷体_GB2312"/>
              </a:rPr>
              <a:t>两年多来，我们全家沉浸在失去亲人的巨大悲痛中，我至今都忘不了，爸爸临上飞机前注视着我和妈妈的深情的目光。他说：“孩子，等爸爸回来，我一定送你一顶‘蓝盔’。”我们与爸爸相约，等爸爸凯旋的那一天，我们要带着最美的鲜花迎接他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蓝盔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  </a:t>
            </a: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联合国规定在执行国际维和任务时各国的军队着本国军队的制服，佩带本国的军衔标志，左臂佩戴本国的国旗，右臂佩戴联合国旗。为了方便识别是维和部队，各国部队均头戴蓝色的头盔，头盔上有联合国标志和英文的</a:t>
            </a: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UN</a:t>
            </a: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久而久之大家都习惯性的称维和部队为蓝盔部队。总司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联合国秘书长。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175520" y="4581360"/>
            <a:ext cx="19684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0:19:56Z</dcterms:created>
  <dc:creator>zy</dc:creator>
  <dc:description/>
  <dc:language>en-US</dc:language>
  <cp:lastModifiedBy>番茄花园</cp:lastModifiedBy>
  <dcterms:modified xsi:type="dcterms:W3CDTF">2009-09-14T13:40:02Z</dcterms:modified>
  <cp:revision>75</cp:revision>
  <dc:subject/>
  <dc:title>PowerPoint 演示文稿</dc:title>
</cp:coreProperties>
</file>