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B1DF-4478-454D-A361-E64B4C8D1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1010-580E-45C8-A3D4-F9FCA069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12EF-5829-4517-AA33-F9273D0CC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CF89-5681-45D6-BA29-1391A27DE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7FB1-4F07-4348-B6E6-A4B1B90D4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46A7-D37F-4C34-A176-3AD72F5A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D99C-3396-493C-921E-28B6E04B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5514-D5FF-41FE-9A4E-FF532FCA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BD45-96A2-449D-BB85-7710CBD9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05C2-B188-4DAB-9F96-CCE1BCE5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9CEB-740C-4AC6-9B4A-7B8B40E3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AF18-ACFA-416A-B9F1-7D62539A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72B8-5EB4-434D-B52B-4ECF06AF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606F-382F-42CD-8EF7-C578C46A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C5AC-2478-4CE8-9024-329FA52B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D300-B7C4-4E4E-96AC-6D6048A1B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BF89-F42B-440C-B5A1-9656B42B2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22405-769A-4E1B-BE4C-0BFC8FECA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E9796-DF09-49DB-B356-9CD4C53C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A1D3A-E1DA-41FB-9573-AD9A1BBB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EB2FF-DEF7-42F6-9750-21578896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98DA4-81F0-4D79-91D6-E2EE4A90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EC43-F184-4F53-A19D-EA924666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DCE9D-6AAC-44BF-8BA2-46A6FDE0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0BA5A-6EBC-4F81-9132-3F6E7E32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0551C-ACC3-4800-8A6A-ECD2E3C5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A0BEB-E492-4ACD-91BE-C675A40C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5E16A-DA50-423E-8873-34A03F66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321BF-9953-4874-AFFC-EDC97E268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36C2F-3C1F-44B2-B1EE-B2717647A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64B6-5F9A-46C8-A7C5-747B2A70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7819-DC70-4B84-8E8B-5D17EE2D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614E-4048-44E1-810C-D726E9EB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697F-3047-4F1A-BCFA-4EDFD22F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0380-59A3-407E-BE99-5B83EDC3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C35D-4F85-4B36-BAF2-94ED738D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9039-F1CB-472D-B3F2-636D052A52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7618-E1E3-4C4B-82A0-140C8222CFEB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0336-5679-4C3B-93C3-3616F9C5CE9D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424720" cy="64072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0" y="17002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9900"/>
                </a:solidFill>
                <a:latin typeface="华文琥珀"/>
                <a:ea typeface="华文琥珀"/>
              </a:rPr>
              <a:t> </a:t>
            </a:r>
            <a:r>
              <a:rPr b="0" lang="zh-CN" sz="6600" spc="-1" strike="noStrike">
                <a:solidFill>
                  <a:srgbClr val="ff0000"/>
                </a:solidFill>
                <a:latin typeface="华文琥珀"/>
                <a:ea typeface="华文琥珀"/>
              </a:rPr>
              <a:t>15</a:t>
            </a:r>
            <a:r>
              <a:rPr b="1" lang="zh-CN" sz="6600" spc="-1" strike="noStrike">
                <a:solidFill>
                  <a:srgbClr val="ff0000"/>
                </a:solidFill>
                <a:latin typeface="华文琥珀"/>
                <a:ea typeface="华文琥珀"/>
              </a:rPr>
              <a:t>一个中国孩子的呼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华文琥珀"/>
                <a:ea typeface="华文琥珀"/>
              </a:rPr>
              <a:t>                  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27640" y="4437000"/>
            <a:ext cx="407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作者：李秀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-390600" y="-287280"/>
            <a:ext cx="9925200" cy="7434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87280" y="476280"/>
            <a:ext cx="817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救救孩子们，要和平不要战争！”为了母亲不再失去儿子，为了妻子不再失去丈夫，为了孩子不再失去父亲，全世界应该一致行动起来，维护和平，制止战争！让那已经能够听到脚步声的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1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世纪，为战争敲响丧钟，让明天的世界真正成为充满阳光、鲜花和爱的人类家园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24000" y="314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333360"/>
            <a:ext cx="633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ff"/>
                </a:solidFill>
                <a:latin typeface="Arial"/>
                <a:ea typeface="华文琥珀"/>
              </a:rPr>
              <a:t>小组讨论交流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 rot="21399000">
            <a:off x="8028000" y="188640"/>
            <a:ext cx="809640" cy="1552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0" y="269712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作为新世纪的儿童， 为制止战争、维护和平，我们能够做点什么？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86472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2340000" y="5589720"/>
            <a:ext cx="4680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让世界充满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25092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211723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9640" y="836640"/>
            <a:ext cx="79930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雷利发出了什么呼声？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141720"/>
            <a:ext cx="694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维护和平，  制止战争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494136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7200" spc="-1" strike="noStrike">
                <a:solidFill>
                  <a:srgbClr val="000000"/>
                </a:solidFill>
                <a:latin typeface="Comic Sans MS"/>
              </a:rPr>
              <a:t>一个生活在和平环境中的孩子，为什么会发出如此强烈的呼声呢？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68360" y="0"/>
            <a:ext cx="3600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问题探究：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0" y="162864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我的爸爸是一个怎样的人？请阅读正文部分的一、二、三、四自然段，边读边想问题，并画出有关对爸爸描写的句子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404640"/>
            <a:ext cx="47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阅读思考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" dur="1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95280" y="1484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26028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99"/>
                </a:solidFill>
                <a:latin typeface="Times New Roman"/>
              </a:rPr>
              <a:t>           </a:t>
            </a:r>
            <a:r>
              <a:rPr b="1" lang="zh-CN" sz="5400" spc="-1" strike="noStrike">
                <a:solidFill>
                  <a:srgbClr val="00cc99"/>
                </a:solidFill>
                <a:latin typeface="Times New Roman"/>
                <a:ea typeface="隶书"/>
              </a:rPr>
              <a:t>鲜血染红了他的征衣，腕上的手表浸满了凝固的血。爸爸的嘴张着，仿佛在呼唤着什么。啊！我听见了，妈妈听见了，在场的叔叔阿姨听见了，全世界都听见了，他呼唤的是：和平！和平！和平</a:t>
            </a:r>
            <a:r>
              <a:rPr b="1" lang="zh-CN" sz="6000" spc="-1" strike="noStrike">
                <a:solidFill>
                  <a:srgbClr val="00cc99"/>
                </a:solidFill>
                <a:latin typeface="Times New Roman"/>
                <a:ea typeface="隶书"/>
              </a:rPr>
              <a:t>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95280" y="112536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但是世界并不太平，不少地区还弥漫着战争的硝烟，罪恶的子弹还威胁着娇嫩的“和平之花”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32000" y="443700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00720" y="4437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92720" y="4437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437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332000" y="4762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92360" y="6206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56720" y="0"/>
            <a:ext cx="198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5805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215" name="">
            <a:hlinkClick r:id="" action="ppaction://hlinkshowjump?jump=previousslide"/>
          </p:cNvPr>
          <p:cNvSpPr/>
          <p:nvPr/>
        </p:nvSpPr>
        <p:spPr>
          <a:xfrm>
            <a:off x="7667640" y="5661000"/>
            <a:ext cx="649440" cy="360360"/>
          </a:xfrm>
          <a:custGeom>
            <a:avLst/>
            <a:gdLst>
              <a:gd name="textAreaLeft" fmla="*/ 23040 w 649440"/>
              <a:gd name="textAreaRight" fmla="*/ 626400 w 6494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910" h="21600">
                <a:moveTo>
                  <a:pt x="0" y="0"/>
                </a:moveTo>
                <a:lnTo>
                  <a:pt x="38910" y="0"/>
                </a:lnTo>
                <a:lnTo>
                  <a:pt x="38910" y="21600"/>
                </a:lnTo>
                <a:lnTo>
                  <a:pt x="0" y="21600"/>
                </a:lnTo>
                <a:close/>
              </a:path>
              <a:path fill="lightenLess" w="38910" h="21600">
                <a:moveTo>
                  <a:pt x="0" y="0"/>
                </a:moveTo>
                <a:lnTo>
                  <a:pt x="38910" y="0"/>
                </a:lnTo>
                <a:lnTo>
                  <a:pt x="37510" y="1400"/>
                </a:lnTo>
                <a:lnTo>
                  <a:pt x="1400" y="1400"/>
                </a:lnTo>
                <a:close/>
              </a:path>
              <a:path fill="darken" w="38910" h="21600">
                <a:moveTo>
                  <a:pt x="38910" y="0"/>
                </a:moveTo>
                <a:lnTo>
                  <a:pt x="38910" y="21600"/>
                </a:lnTo>
                <a:lnTo>
                  <a:pt x="37510" y="20200"/>
                </a:lnTo>
                <a:lnTo>
                  <a:pt x="37510" y="1400"/>
                </a:lnTo>
                <a:close/>
              </a:path>
              <a:path fill="darkenLess" w="38910" h="21600">
                <a:moveTo>
                  <a:pt x="389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10" y="20200"/>
                </a:lnTo>
                <a:close/>
              </a:path>
              <a:path fill="lighten" w="389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10" h="21600">
                <a:moveTo>
                  <a:pt x="15956" y="10800"/>
                </a:moveTo>
                <a:lnTo>
                  <a:pt x="26462" y="3794"/>
                </a:lnTo>
                <a:lnTo>
                  <a:pt x="26462" y="17806"/>
                </a:lnTo>
                <a:close/>
              </a:path>
              <a:path fill="darken" w="38910" h="21600">
                <a:moveTo>
                  <a:pt x="12449" y="3794"/>
                </a:moveTo>
                <a:lnTo>
                  <a:pt x="14111" y="3794"/>
                </a:lnTo>
                <a:lnTo>
                  <a:pt x="14111" y="17806"/>
                </a:lnTo>
                <a:lnTo>
                  <a:pt x="1244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资料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在过去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年里，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多万儿童在战争中被杀死，另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600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万儿童受伤，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万儿童成为孤儿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87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个国家的儿童生活在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6000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万枚地雷的阴影中。每年陆续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万名儿童成为地雷的受害者。目前世界各国约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万男女少年和儿童在军队中当“儿童兵”，许多人还不到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岁。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03:16:24Z</dcterms:created>
  <dc:creator>lixiaolong</dc:creator>
  <dc:description/>
  <dc:language>en-US</dc:language>
  <cp:lastModifiedBy>微软用户</cp:lastModifiedBy>
  <dcterms:modified xsi:type="dcterms:W3CDTF">2010-04-19T06:15:03Z</dcterms:modified>
  <cp:revision>62</cp:revision>
  <dc:subject/>
  <dc:title>PowerPoint 演示文稿</dc:title>
</cp:coreProperties>
</file>