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2.jpeg" ContentType="image/jpeg"/>
  <Override PartName="/ppt/media/image7.jpeg" ContentType="image/jpeg"/>
  <Override PartName="/ppt/media/image11.jpeg" ContentType="image/jpeg"/>
  <Override PartName="/ppt/media/image6.jpeg" ContentType="image/jpeg"/>
  <Override PartName="/ppt/media/image10.png" ContentType="image/png"/>
  <Override PartName="/ppt/media/image5.jpeg" ContentType="image/jpeg"/>
  <Override PartName="/ppt/media/image13.jpeg" ContentType="image/jpeg"/>
  <Override PartName="/ppt/media/image8.jpeg" ContentType="image/jpeg"/>
  <Override PartName="/ppt/media/image4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6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图片 6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914400" algn="ctr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3" marL="1371600" algn="ctr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4" marL="1828800" algn="ctr">
              <a:spcBef>
                <a:spcPts val="400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-321120" y="1483920"/>
            <a:ext cx="7769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Calibri"/>
                <a:ea typeface="黑体"/>
              </a:rPr>
              <a:t>阳关雪</a:t>
            </a:r>
            <a:endParaRPr b="1" lang="en-US" sz="6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--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余秋雨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6300720" y="5084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99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799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799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799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99" fill="hold">
                                          <p:stCondLst>
                                            <p:cond delay="7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99" fill="hold">
                                          <p:stCondLst>
                                            <p:cond delay="7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1" fill="hold"/>
                                        <p:tgtEl>
                                          <p:spTgt spid="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诗句采集</a:t>
            </a: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我曾有缘，在黄昏的江船上仰望过</a:t>
            </a:r>
            <a:r>
              <a:rPr b="0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白帝城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顶着浓冽的秋霜登临过</a:t>
            </a:r>
            <a:r>
              <a:rPr b="0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黄鹤楼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还在一个冬夜摸到了</a:t>
            </a:r>
            <a:r>
              <a:rPr b="0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寒山寺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白帝城：朝辞白帝彩云间，千里江陵一日还。两岸猿声啼不住，轻舟已过万重山。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--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《朝辞白帝城》 李白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黄鹤楼：故人西辞黄鹤楼，烟花三月下扬州。孤帆远影碧空尽，唯见长江天际流。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--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《黄鹤楼送孟浩然之广陵》 李白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寒山寺：月落乌啼霜满天，江枫渔火对愁眠。姑苏城外寒山寺，夜半钟声到客船。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--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《枫桥夜泊》 张继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直接连接符 5"/>
          <p:cNvSpPr/>
          <p:nvPr/>
        </p:nvSpPr>
        <p:spPr>
          <a:xfrm>
            <a:off x="468360" y="1268280"/>
            <a:ext cx="8136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964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问题解析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----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问题一</a:t>
            </a:r>
            <a:endParaRPr b="1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、从第五自然段的相关信息概括出唐人风范的特点是什么？</a:t>
            </a: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     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6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1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Calibri"/>
              </a:rPr>
              <a:t>答案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Calibri"/>
              </a:rPr>
              <a:t>（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Calibri"/>
              </a:rPr>
              <a:t>）、乐观。（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Calibri"/>
              </a:rPr>
              <a:t>）眼光放得远。（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Calibri"/>
              </a:rPr>
              <a:t>）告别步履放达。（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Calibri"/>
              </a:rPr>
              <a:t>）充满自信。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wipe dir="d"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897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897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Calibri"/>
              </a:rPr>
              <a:t>问题解析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----</a:t>
            </a:r>
            <a:r>
              <a:rPr b="1" lang="zh-CN" sz="3200" spc="-1" strike="noStrike">
                <a:solidFill>
                  <a:srgbClr val="ffffff"/>
                </a:solidFill>
                <a:latin typeface="Calibri"/>
              </a:rPr>
              <a:t>问题二</a:t>
            </a: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Calibri"/>
              </a:rPr>
              <a:t>、</a:t>
            </a:r>
            <a:r>
              <a:rPr b="1" lang="zh-CN" sz="3600" spc="-1" strike="noStrike">
                <a:solidFill>
                  <a:srgbClr val="ffffff"/>
                </a:solidFill>
                <a:latin typeface="Calibri"/>
              </a:rPr>
              <a:t>第六自然段中“只为艺术家们开了一个狭小的边门”，“不需要艺术闹出太大的局面”“历史老人凛然肃然</a:t>
            </a: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,</a:t>
            </a:r>
            <a:r>
              <a:rPr b="1" lang="zh-CN" sz="3600" spc="-1" strike="noStrike">
                <a:solidFill>
                  <a:srgbClr val="ffffff"/>
                </a:solidFill>
                <a:latin typeface="Calibri"/>
              </a:rPr>
              <a:t>扭过头去</a:t>
            </a: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,</a:t>
            </a:r>
            <a:r>
              <a:rPr b="1" lang="zh-CN" sz="3600" spc="-1" strike="noStrike">
                <a:solidFill>
                  <a:srgbClr val="ffffff"/>
                </a:solidFill>
                <a:latin typeface="Calibri"/>
              </a:rPr>
              <a:t>颤巍巍地重又迈向三皇五帝的宗谱”运用了何种艺术手法？其作用是什么？下文中与之相照应的内容有哪些？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59.7"/>
                                  </p:iterate>
                                  <p:childTnLst>
                                    <p:set>
                                      <p:cBhvr>
                                        <p:cTn id="18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597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59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9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9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答案：</a:t>
            </a: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①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采用了拟人的艺术手法形象地说明统治者所追求的只是王权，因而不可能为艺术家们提供广阔的舞台空间。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②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与下文的“九洲画风黯然”，“阳关再也难享用温醇的诗句”，文人大多成了“谪官逐臣”，“阳关坍弛了”等内容相照应。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Calibri"/>
              </a:rPr>
              <a:t>品读感悟</a:t>
            </a: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　</a:t>
            </a:r>
            <a:r>
              <a:rPr b="0" lang="zh-CN" sz="2400" spc="-1" strike="noStrike">
                <a:solidFill>
                  <a:srgbClr val="1f497d"/>
                </a:solidFill>
                <a:latin typeface="黑体"/>
                <a:ea typeface="黑体"/>
              </a:rPr>
              <a:t>　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在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《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阳关雪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》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一文中，作者提到了雪，“除了茫茫一片雪白，什么也没有，连一个皱折也找不到。”“没想到沙漠中的雪化得这样快，才片刻，地上已见斑斑沙底，却不见湿痕。”提到了阳关，“不远的山峰上有荒落的土墩一座”，“近处的烽火台还在，这就是刚才在下面看到的土墩。土墩已坍了大半，可以看见一层层泥沙，一层层苇草，苇草飘扬出来，在千年之后的寒风中抖动。” 提到了天，“从未见过这样完整的天，一点儿也没有被吞食，边沿全是挺展展的，紧扎扎地把大地罩了个严实。”文章在这儿还抒发了一下自己的感叹：在这样的天地中独个儿行走，侏儒也变成了巨人。在这样的天地中独个儿行走，巨人也变成了侏儒。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　　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Calibri"/>
              </a:rPr>
              <a:t>但很明显这些描写只是一个引子，因为纵观全篇，作者并没有将自己的感情抒发放在感叹天地的广大自我的渺小上。而是将自己的思绪投影到历史的长河之中，他的思索是更高层次、更深层次的感慨。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Calibri"/>
              </a:rPr>
              <a:t>　</a:t>
            </a:r>
            <a:r>
              <a:rPr b="1" lang="zh-CN" sz="2800" spc="-1" strike="noStrike">
                <a:solidFill>
                  <a:srgbClr val="ffffff"/>
                </a:solidFill>
                <a:latin typeface="Calibri"/>
              </a:rPr>
              <a:t>从第十四段开始，作者开始了自己的激情与灵性的智慧和思考。十五段中提到的唐人风范实际上就是作者对中国文化、中国文人的寄托。放得很远的目光，铺展得很广的人生道路，放达得步履，自信的神采。中国文化、中国文人在“欧洲艺术家们翻天覆地地闹腾了好一阵子，固执地要把微笑送进历史的魂魄”的好多年前就已经以这种姿态豪迈地存在了。可是，这种恬然的自信，并没有在“延续久远”。为什么？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79280" y="1699920"/>
            <a:ext cx="84456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十六段中提到这样的一句话：长安的宫殿，只为艺术家们开了一个狭小的边门，允许他们以卑怯侍从的身份躬身而入，去制造一点娱乐。历史老人凛然肃然，扭过头去，颤巍巍地重又迈向三皇五帝的宗谱。这句话会让人想起谁呢？对，李白！堂堂诗圣沦落为制造一点娱乐的卑怯侍从，“ 于是，九州的画风随之黯然。阳关，再也难于享用温醇的诗句。西出阳关的文人还是有的，只是大多成了嫡官逐臣。” “即便是土墩、是石城，也受不住这么多叹息的吹拂，阳关坍弛了，坍弛在一个民族的精神疆域中。它终成废墟，终成荒原。身后，沙坟如潮，身前，寒峰如浪。”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黑体"/>
              </a:rPr>
              <a:t>作者在这里婉转地写出了战争、写出了封建统治阶级的轻视对自信的风采的黯然，对本该傲立于世的中国文化的摧残。“阳关的风雪，竟愈见凄迷”，凄迷的何止是阳关的风雪，更是中华文化。中华文化，曾经壮美，曾经辉煌，却倒在了历史长河的大雪中。想想阿房宫，圆明园，莫高窟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黑体"/>
              </a:rPr>
              <a:t>……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黑体"/>
              </a:rPr>
              <a:t>战火、轻视带来了什么？读到这儿我们无疑会深刻地感受到中国文化所经历的苦难历程，中国文人所独有的悲剧性命运，这不禁促使我们反身自问，文明是什么？文化是什么？我们在哪里遗落？又怎样才能找回。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897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文人的魔力</a:t>
            </a:r>
            <a:r>
              <a:rPr b="1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,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竟能把偌大一个世界的角落</a:t>
            </a:r>
            <a:r>
              <a:rPr b="1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,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变成人人心中的故乡。他们褪色的青衫里</a:t>
            </a:r>
            <a:r>
              <a:rPr b="1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,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究竟藏着什么法术呢</a:t>
            </a:r>
            <a:r>
              <a:rPr b="1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?”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504d"/>
              </a:solidFill>
              <a:latin typeface="Calibri"/>
              <a:ea typeface="MS PGothic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1908000" y="2276640"/>
            <a:ext cx="5596200" cy="195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宋体"/>
              </a:rPr>
              <a:t>谢谢欣赏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Calibri"/>
              </a:rPr>
              <a:t>                             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[</a:t>
            </a:r>
            <a:r>
              <a:rPr b="0" lang="zh-CN" sz="3600" spc="-1" strike="noStrike">
                <a:solidFill>
                  <a:srgbClr val="ffffff"/>
                </a:solidFill>
                <a:latin typeface="Calibri"/>
              </a:rPr>
              <a:t>唐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] </a:t>
            </a:r>
            <a:r>
              <a:rPr b="0" lang="zh-CN" sz="3600" spc="-1" strike="noStrike">
                <a:solidFill>
                  <a:srgbClr val="ffffff"/>
                </a:solidFill>
                <a:latin typeface="Calibri"/>
              </a:rPr>
              <a:t>王维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Calibri"/>
              </a:rPr>
              <a:t>渭城朝雨浥轻尘，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zh-CN" sz="3600" spc="-1" strike="noStrike">
                <a:solidFill>
                  <a:srgbClr val="ffffff"/>
                </a:solidFill>
                <a:latin typeface="Calibri"/>
              </a:rPr>
              <a:t>客舍青青柳色新。                  劝君更尽一杯酒，                                        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Calibri"/>
              </a:rPr>
              <a:t>西出阳关无故人。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Calibri"/>
              </a:rPr>
              <a:t>            </a:t>
            </a:r>
            <a:r>
              <a:rPr b="1" lang="zh-CN" sz="6000" spc="-1" strike="noStrike">
                <a:solidFill>
                  <a:srgbClr val="ffffff"/>
                </a:solidFill>
                <a:latin typeface="Calibri"/>
              </a:rPr>
              <a:t>渭城曲</a:t>
            </a:r>
            <a:endParaRPr b="1" lang="en-US" sz="6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59.7"/>
                                  </p:iterate>
                                  <p:childTnLst>
                                    <p:set>
                                      <p:cBhvr>
                                        <p:cTn id="2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97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59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9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9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黑体"/>
              </a:rPr>
              <a:t>好词赏析</a:t>
            </a: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9528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永不漫漶：永远都模糊不可辨别。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显赫：权势、声名盛大，气势宏伟。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乖戾：悖谬；不合情理。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镌刻 ：雕刻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Calibri"/>
              </a:rPr>
              <a:t>作者简介</a:t>
            </a: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Calibri"/>
                <a:ea typeface="黑体"/>
              </a:rPr>
              <a:t>余秋雨，当代中国文化史学者，文学家，散文家，作家，我国当代著名艺术理论家。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Calibri"/>
                <a:ea typeface="黑体"/>
              </a:rPr>
              <a:t>著有系列散文集《文化苦旅》、《山居笔记》、《霜冷长河》、《千年一叹》、《行者无疆》、《摩挲大地》、《寻觅中华》等，文化通史《问学余秋雨》，长篇记忆文学《借我一生》、《我等不到了》等，学术专著《戏剧理论史稿》、《戏剧审美心理学》、《中国戏剧文化史述》、《艺术创造工程》、《中国戏剧史》、《艺术创造论》、《观众心理学》等。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strips dir="rd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86" dur="2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文本占位符 2" descr=""/>
          <p:cNvPicPr/>
          <p:nvPr/>
        </p:nvPicPr>
        <p:blipFill>
          <a:blip r:embed="rId2"/>
          <a:stretch/>
        </p:blipFill>
        <p:spPr>
          <a:xfrm>
            <a:off x="611280" y="1917720"/>
            <a:ext cx="3601800" cy="403236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余秋雨及其书法展示</a:t>
            </a: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1" name="文本占位符 2" descr=""/>
          <p:cNvPicPr/>
          <p:nvPr/>
        </p:nvPicPr>
        <p:blipFill>
          <a:blip r:embed="rId3"/>
          <a:stretch/>
        </p:blipFill>
        <p:spPr>
          <a:xfrm>
            <a:off x="4788000" y="1917720"/>
            <a:ext cx="3314520" cy="42480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Calibri"/>
              </a:rPr>
              <a:t>《文化苦旅》介绍</a:t>
            </a: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</a:rPr>
              <a:t>文化苦旅是余秋雨先生的代表作，书主要是以余秋雨先生在全国各地的文化之地的游览过程为线索，思想非常深刻，语言也极有震撼力，揭示了中国文化巨大的内涵，其中对人性的拷问也极为深刻。整本书向读者展示了余秋雨先生渊博的文学和史学功底，以及书中丰厚的文化感悟力和艺术表现力，该书也为当代散文领域提供了崭新的范例。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wipe dir="d"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897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897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美文段</a:t>
            </a: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240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　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这便是唐人风范。他们多半不会洒泪悲叹，执袂劝阻。他们的目光放得很远， 他们的人生道路铺展得很广。告别是经常的，步履是放达的。这种风范，在李白、 高适、岑参那里，焕发得越加豪迈。在南北各地的古代造像中，唐人造像一看便可识认，形体那么健美，目光那么平静，神采那么自信。在欧洲看蒙娜丽莎的微笑，你立即就能感受，这种恬然的自信只属于那些真正从中世纪的梦魇中苏醒、对前途 挺有把握的艺术家们。唐人造像中的微笑，只会更沉着、更安详。在欧洲，这些艺术家们翻天覆地地闹腾了好一阵子，固执地要把微笑输送进历史的魂魄。谁都能计 算，他们的事情发生在唐代之后多少年。而唐代，却没有把它的属于艺术家的自信延续久远。阳关的风雪，竟愈见凄迷。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split dir="in" orient="vert"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于是，九州的画风随之黯然。阳关，再也难于享用温醇的诗句。西出阳关的文人还是有的，只是大多成了谪官逐臣。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即便是土墩、是石城，也受不住这么多叹息的吹拂，阳关坍弛了，坍弛在一个民族的精神疆域中。它终成废墟，终成荒原。身后，沙坟如潮，身前，寒峰如浪。 谁也不能想象，这儿，一千多年之前，曾经验证过人生的壮美，艺术情怀的弘广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31T14:14:31Z</dcterms:created>
  <dc:creator>PPT STORE</dc:creator>
  <dc:description>
  ☆ 感谢您使用PPT STORE网站平台上发布的免费原创作品，作品仅供个人或公司使用，为了您和PPT STORE以及原创作者的利益，请勿复制、传播、销售，否则将承担法律责任！
  ☆ 其他网站或个人若进行转载发布PPT STORE平台的免费原创作品，请保留此文件和注释的完整性，并注明来源于 PPT STORE 官方网站：http://www.pptstore.net和PPT STORE 官方微博：http://weibo.com/pptstore
     未按照要求转发或发布，PPT STORE平台将和原创作者共同维权，索取赔偿！
  ☆ 感谢您支持原创设计事业，支持设计版权产品 ！
  ☆ 本模板由PPT STORE官方网站 原创设计
  ☆ PPT STORE 官方网站：http://www.pptstore.net
  ☆ PPT STORE 官方微博：http://weibo.com/pptstore</dc:description>
  <cp:keywords>梦幻 星空 PPT 模板</cp:keywords>
  <dc:language>en-US</dc:language>
  <cp:lastModifiedBy>USER</cp:lastModifiedBy>
  <cp:lastPrinted>1899-12-30T00:00:00Z</cp:lastPrinted>
  <dcterms:modified xsi:type="dcterms:W3CDTF">2012-04-21T02:39:35Z</dcterms:modified>
  <cp:revision>9</cp:revision>
  <dc:subject>星空</dc:subject>
  <dc:title>梦幻星空PPT模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163</vt:lpwstr>
  </property>
</Properties>
</file>