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82A9-0C4D-4310-B3BF-7F477024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C8F2-2CFB-4F9B-AB47-E8607937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1D9C-CF02-4FCD-8334-1267A6BE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44CB-3BA2-4D95-96B1-95D2080A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6E0E-3E89-486F-ADD5-E4D6277E0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B81B-1915-4EDA-A411-794BEC81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0AE2-C6DD-4B2D-AC7F-E180CE6B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A67-7C10-42FF-8FC9-B84BA04E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2967-FAD9-437B-AAF8-3C8081D4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59C2-43E3-4723-827F-C17E8706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300A-38A0-4DE4-A960-E6120A8C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5B95-EABF-46F3-9077-6528DC15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25A09-4456-4A1F-BE7E-50DAABAD03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552600" y="609480"/>
            <a:ext cx="2946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黑体"/>
              </a:rPr>
              <a:t>阳关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18560" y="762120"/>
            <a:ext cx="18262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余秋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00200" y="53341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华文行楷"/>
                <a:ea typeface="华文行楷"/>
              </a:rPr>
              <a:t>常州市北港中学  潘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38080" y="12952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533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13716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90720" y="685800"/>
          <a:ext cx="7086600" cy="575784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3619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游记散文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所写之景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寄托之意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9ff33"/>
                          </a:solidFill>
                          <a:latin typeface="隶书"/>
                          <a:ea typeface="隶书"/>
                        </a:rPr>
                        <a:t>一般游记散文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66"/>
                          </a:solidFill>
                          <a:latin typeface="隶书"/>
                          <a:ea typeface="隶书"/>
                        </a:rPr>
                        <a:t>大多为优美怡人之景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66"/>
                          </a:solidFill>
                          <a:latin typeface="隶书"/>
                          <a:ea typeface="隶书"/>
                        </a:rPr>
                        <a:t>抒发个人一点一滴的感受或感悟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99ff33"/>
                          </a:solidFill>
                          <a:latin typeface="隶书"/>
                          <a:ea typeface="隶书"/>
                        </a:rPr>
                        <a:t>余秋雨游记散文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66"/>
                          </a:solidFill>
                          <a:latin typeface="隶书"/>
                          <a:ea typeface="隶书"/>
                        </a:rPr>
                        <a:t>大多为凄凉萧条之景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66"/>
                          </a:solidFill>
                          <a:latin typeface="隶书"/>
                          <a:ea typeface="隶书"/>
                        </a:rPr>
                        <a:t>从历史的角度探究其中的文化蕴涵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14400" y="1295280"/>
            <a:ext cx="7315200" cy="23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课外作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宋体"/>
                <a:ea typeface="隶书"/>
              </a:rPr>
              <a:t>课外阅读余秋雨的散文集《文化苦旅》。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304920"/>
            <a:ext cx="8001000" cy="25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隶书"/>
                <a:ea typeface="隶书"/>
              </a:rPr>
              <a:t>整体感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66"/>
                </a:solidFill>
                <a:latin typeface="隶书"/>
                <a:ea typeface="隶书"/>
              </a:rPr>
              <a:t>请大家边默读课文，边划出文中表明作者行踪的语句，然后分别用一个词加以说明。</a:t>
            </a:r>
            <a:r>
              <a:rPr b="0" lang="zh-CN" sz="6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001000" y="59436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38080" y="1523880"/>
            <a:ext cx="77724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66"/>
                </a:solidFill>
                <a:latin typeface="隶书"/>
                <a:ea typeface="隶书"/>
              </a:rPr>
              <a:t>作者的行踪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66"/>
                </a:solidFill>
                <a:latin typeface="隶书"/>
                <a:ea typeface="隶书"/>
              </a:rPr>
              <a:t>县城——沙漠——古战场——阳关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457200"/>
            <a:ext cx="8153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隶书"/>
                <a:ea typeface="隶书"/>
              </a:rPr>
              <a:t>重点研读</a:t>
            </a:r>
            <a:r>
              <a:rPr b="0" lang="zh-CN" sz="6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66"/>
                </a:solidFill>
                <a:latin typeface="隶书"/>
                <a:ea typeface="隶书"/>
              </a:rPr>
              <a:t>划出描写沙漠、古战场、阳关的语句，思考这些景具有怎样的特点。</a:t>
            </a:r>
            <a:r>
              <a:rPr b="0" lang="zh-CN" sz="6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14400" y="685800"/>
            <a:ext cx="716292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66"/>
                </a:solidFill>
                <a:latin typeface="隶书"/>
                <a:ea typeface="隶书"/>
              </a:rPr>
              <a:t>沙漠：茫茫无际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66"/>
                </a:solidFill>
                <a:latin typeface="隶书"/>
                <a:ea typeface="隶书"/>
              </a:rPr>
              <a:t>古战场：枯瘦萧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66"/>
                </a:solidFill>
                <a:latin typeface="隶书"/>
                <a:ea typeface="隶书"/>
              </a:rPr>
              <a:t>阳关：居高临下，了无踪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3520" y="457200"/>
            <a:ext cx="815328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隶书"/>
                <a:ea typeface="隶书"/>
              </a:rPr>
              <a:t>重点研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隶书"/>
                <a:ea typeface="隶书"/>
              </a:rPr>
              <a:t>1</a:t>
            </a:r>
            <a:r>
              <a:rPr b="0" lang="zh-CN" sz="4800" spc="-1" strike="noStrike">
                <a:solidFill>
                  <a:srgbClr val="ffff66"/>
                </a:solidFill>
                <a:latin typeface="隶书"/>
                <a:ea typeface="隶书"/>
              </a:rPr>
              <a:t>、请勾画文中相关语句，说说作者在踏访阳关途中面对这些景分别有哪些感受或联想？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66"/>
                </a:solidFill>
                <a:latin typeface="隶书"/>
                <a:ea typeface="隶书"/>
              </a:rPr>
              <a:t>2</a:t>
            </a:r>
            <a:r>
              <a:rPr b="0" lang="zh-CN" sz="4800" spc="-1" strike="noStrike">
                <a:solidFill>
                  <a:srgbClr val="ffff66"/>
                </a:solidFill>
                <a:latin typeface="隶书"/>
                <a:ea typeface="隶书"/>
              </a:rPr>
              <a:t>、这些历史与文化命运如何？其中的原因是什么？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990720"/>
            <a:ext cx="8229600" cy="34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在沙漠：对天地的赞美，对行人的赞美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在古战场：联想到古代战斗的场面及战斗给人民带来的苦难 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行楷"/>
                <a:ea typeface="华文行楷"/>
              </a:rPr>
              <a:t>在阳关：联想到《渭城曲》，唐人风范，王维诗画，文化命运。</a:t>
            </a:r>
            <a:r>
              <a:rPr b="0" lang="zh-CN" sz="40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520" y="990720"/>
            <a:ext cx="80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在历史的长河中，一切都像阳关一样坍弛了；因为“长安的宫殿，只为艺术家们开了一个狭小的边门，允许他们以卑怯侍从的身份躬身而入，去制造一点娱乐。”文化遭到了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政治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的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漠视与扼杀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。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533520"/>
            <a:ext cx="876312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Times New Roman"/>
                <a:ea typeface="隶书"/>
              </a:rPr>
              <a:t>对比探究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66"/>
                </a:solidFill>
                <a:latin typeface="宋体"/>
                <a:ea typeface="隶书"/>
              </a:rPr>
              <a:t>以《鼎湖山听泉》与本文为例，列表比较一般游记散文与余秋雨游记散文在内容上的异同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7:54:09Z</dcterms:created>
  <dc:creator>sy</dc:creator>
  <dc:description/>
  <dc:language>en-US</dc:language>
  <cp:lastModifiedBy>bgzx</cp:lastModifiedBy>
  <dcterms:modified xsi:type="dcterms:W3CDTF">2008-10-22T02:09:54Z</dcterms:modified>
  <cp:revision>25</cp:revision>
  <dc:subject/>
  <dc:title>PowerPoint 演示文稿</dc:title>
</cp:coreProperties>
</file>