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A23-E461-4CFD-8F0D-2E921DFD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770-DE64-40F8-8316-A7547C5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13E-0984-47D4-895E-09041523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6F1-A0A1-48F4-A342-3E092279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8E91-B91A-41B2-BDF0-364936A9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F80E-D3E5-4D84-8D63-8126C8C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E5DE-17DD-4AD8-822C-4931972A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B6C-69A1-45E0-88B5-29FE6DF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C52-61EA-4738-985A-ED2CAEF0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CC5A-056D-4781-B5A9-2CEE079C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9C7-96A5-47DC-838F-F69175E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150-5D35-4B12-9412-B2B95D9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49B-5462-4E98-93BD-B50186C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76B2-B718-4534-9021-3CB99BA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6BFC-28F9-4ACC-AB17-D473D37C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9760-F6EC-4AA1-9627-FEEDB057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F61E-8833-4B7E-A809-D8DEF38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638F-2E6D-4CAB-97F6-308F0BC6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347A-ABB8-4257-AC62-E6BFDEF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8D13-6B1E-46E0-8548-D0876F3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EEF8-0694-426B-BE3E-7378D14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975A-FE1D-4D35-80A7-92E5ABBA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6FD-FD85-49A0-895E-D069136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28D8-338E-4C45-B289-CA23916E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ABAB-904A-4C1D-BA54-3FCB87D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632E-F98A-47A9-AE8E-3DFFDFD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6464-C589-4F7B-AC80-7F8E3FA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1107-D983-4BEF-974A-DB7EE6D3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9BC8-62FF-47B1-A14A-931B64C8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B6FD-B63A-44ED-A462-594D5369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726B-29FE-4523-BC19-5A3B5EC7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6D56-18FB-480F-8FD3-B102BDD2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4BA0-C16E-4AF3-ACBE-F652CA7D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F52-4C19-491F-B168-09F83BA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A981-3DEC-444B-BB27-7158B6F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4B2A-4437-4C8D-AC06-197620D6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2745-6EF1-46B8-A8D2-35F08FF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554F-6FEE-4F0B-9295-FE0597F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5297-238D-4FB8-80DE-F4C5D49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C302-96CF-48D3-9A1F-2990BEA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1E79-C07D-4C47-948E-4BDAEE10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B630-8FCD-4B21-8C36-95A30A98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CAAF5-A81A-47D1-B523-5C4D705E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F71A-293A-4D12-873B-57D09D8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B1A-8508-4ABE-B3B0-B91A9A7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6986-7862-4819-81AE-9FBE7CB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15B2-40A0-40EE-9134-3E6A41D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5DAF-ADF1-48F1-9CAF-661C829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7754-6266-4EBB-9B0E-1D8529E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897F-3EB5-4342-83B7-6A21B70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8863-973B-4067-BAD3-2CD25B01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F8E5-F2E8-4628-935E-0996B10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23B4-6558-4C02-AE4D-CB63CE5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B3EB-005B-465F-BB72-6E9D316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0266-1988-4E20-B87F-E04DFAF1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2C9-E21E-464D-8206-8F0A31BA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C70B-7710-439D-9D75-E587895B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CEE-C6FE-4D69-8283-8D23456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056-44BE-4039-A091-8F23AF0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6F-FE83-48EE-B778-1C0FFF0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347-245A-45E1-BDF9-D022DDABD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A68F-0733-4FFD-A4B3-6BCA4EC6CF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AF0-9D0E-4399-94C7-5B5EF3DDFC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655-5EBE-4AAD-A2E0-DD0E12058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A64-39DD-4CDA-AF92-BA717C2DA9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59280" y="1125360"/>
            <a:ext cx="4464000" cy="231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《燕歌行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32360" y="3933720"/>
            <a:ext cx="107172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高适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7" name=""/>
          <p:cNvSpPr/>
          <p:nvPr/>
        </p:nvSpPr>
        <p:spPr>
          <a:xfrm>
            <a:off x="4758480" y="5805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漳州一中  黄安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362320" y="304920"/>
            <a:ext cx="5943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2276640"/>
            <a:ext cx="41767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首诗主要写了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将帅     士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士卒     思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战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塞外秋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630080" cy="23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590364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汉家烟尘在东北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汉将辞家破残贼。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男儿本自重横行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天子非常赐颜色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16000" y="3068640"/>
            <a:ext cx="561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对破敌卫国，建立功勋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寄予希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对骄恣蛮干，邀功求赏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深抱隐忧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要是赞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男儿本自重横行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天子非常赐颜色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55436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樊哙在吕后面前说：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臣愿得十万众，横行匈奴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，季布便斥责他当面欺君该斩。（《史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季布传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所以，这“横行”的由来，就意味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恃勇轻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23640" y="3068640"/>
            <a:ext cx="63342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将领闻警受命率兵出征，局势紧急，战火蔓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从辞家去国到榆关、碣石，更到瀚海、狼山，八句诗概括了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出征的历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逐步推进，气氛也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从缓和渐入紧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903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摐金伐鼓下榆关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旌旗逶迤碣石间。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校尉羽书飞瀚海，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单于猎火照狼山。 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903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摐金伐鼓下榆关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旌旗逶迤碣石间。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校尉羽书飞瀚海，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单于猎火照狼山。 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10920" y="3068640"/>
            <a:ext cx="60469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透过这金鼓震天、旌旗遮天蔽日、大摇大摆前进的场面，可以揣知将军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临战前不可一世的骄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也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下文反衬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山川萧条极边土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胡骑凭陵杂风雨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43280" y="1773360"/>
            <a:ext cx="5400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写出了边地自然环境的恶劣，而敌人的进攻却如暴风骤雨般猛烈，可看出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官兵处境的险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战士军前半死生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美人帐下犹歌舞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43280" y="1773360"/>
            <a:ext cx="5400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战士在前线流血牺牲，将帅却安居营帐，流连声色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苦乐不均，死生迥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暗示了必败的原因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从内部瓦解了战斗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（愤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大漠穷秋塞草腓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孤城落日斗兵稀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84000" y="162864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衰草连天，孤城落日，力竭兵稀，重围难解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有着鲜明的边塞特点的阴惨景色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烘托出残兵败卒心境的凄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边塞秋末景色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衰败、萧瑟、凄凉） 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唐军兵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枯竭），衬托出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战事的惨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唐军伤亡惨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身当恩遇常轻敌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力尽关山未解围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42920" y="1773000"/>
            <a:ext cx="5616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将领身受皇恩常轻敌冒进以求赏；士卒竭力奋战仍未解除关山重围。（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愤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这是全诗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也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前后转折的关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上一层写将领，下一层转入写士卒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唐军战败的原因有哪些？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主要原因是什么？ 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55640" y="1916280"/>
            <a:ext cx="3600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然环境恶劣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敌人凶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要原因还在于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将领过于轻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只想邀功求赏却不爱惜士兵的生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141640" cy="32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68360" y="549360"/>
            <a:ext cx="6121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盛唐的边塞诗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意境高远，格调悲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像雄浑的军号，一声声吹的历史都热血沸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盛唐的边塞诗人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视野开阔，胸怀激荡，充满了磅礴的浪漫气质和一往无前的英雄主义精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他们唱出了时代的最强音，充分体现了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盛唐精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是古代诗坛上绝无仅有的奇葩，是后世诗人可望而不可即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揭示失利原因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采用了什么手法？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616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将帅   帐下犹歌舞   恩遇轻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战士   军前半死生   力尽关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烘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山川萧条极边土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大漠穷秋塞草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372360" y="4653000"/>
            <a:ext cx="1726920" cy="138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590364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铁衣远戍辛勤久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玉箸应啼别离后。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少妇城南欲断肠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征人蓟北空回首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84360" y="2924280"/>
            <a:ext cx="59738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一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征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错综相对，离别之苦，逐步加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城南少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日夜悲愁，但相去万里，永无见期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蓟北征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回首亦是枉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8840" y="476280"/>
            <a:ext cx="46036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陇西行</a:t>
            </a:r>
            <a:br>
              <a:rPr sz="66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　陶</a:t>
            </a: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誓扫匈奴不顾身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五千貂锦丧胡尘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可怜无定河边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犹是春闺梦里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边庭飘摇那可度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绝域苍茫更何有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40000" y="1989000"/>
            <a:ext cx="374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边城遥远，难以度越；苍茫广漠，一无所有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征战生活艰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空间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写出飘零孤独之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058840" cy="443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杀气三时作阵云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寒声一夜传刁斗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白天所见，只是“杀气三时作阵云”；晚上所闻，惟有“寒声一夜传刁斗”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战争气氛紧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间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征战生活的日夜不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如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危急的绝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真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死在眉睫之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由人不想到把他们推到这绝境的究竟是谁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56000" y="1916280"/>
            <a:ext cx="57578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这里并不是游离战争进程的泛写，而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处在被围困的险境中的士兵心情的写照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此段写士兵的痛苦，实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汉将更深的谴责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相看白刃血纷纷，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死节从来岂顾勋？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23640" y="1844640"/>
            <a:ext cx="6334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最后士兵们与敌人短兵相接，浴血奋战，那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视死如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精神，岂是为了取得个人的功勋！他们是何等质朴、善良，何等勇敢，然而又是何等可悲呵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诗人的感情包含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悲悯和礼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而“岂顾勋”则是有力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讥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开边衅、冒进贪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汉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9007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君不见沙场争战苦，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至今犹忆李将军。</a:t>
            </a:r>
            <a:endParaRPr b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95280" y="1773360"/>
            <a:ext cx="64069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八九百年前威镇北边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飞将军李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处处爱护士卒，使士卒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咸乐为之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。这与那些骄横的将军形成多么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鲜明的对比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从汉到唐，悠悠千载，边塞战争何计其数，驱士兵如鸡犬的将帅数不胜数，备历艰苦而埋尸异域的士兵，更何止千千万万！可是，千百年来只有一个李广，怎不教人苦苦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追念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123640" y="198900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把士卒与将领对照，以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志向、品格之尊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把李广与当今诸将相比，以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才能、功德之高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此诗以李广终篇，意境更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雄浑而深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11280" y="1700280"/>
            <a:ext cx="60483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本诗虽叙写边战，但重点不在民族矛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描写了唐军士卒慷慨赴边、转战绝域的情景，高度赞扬了他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为国立功、奋不顾身的牺牲精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也表现了他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久战不归、两地相思的苦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并给以深切同情；同时还揭露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军中官兵对立、苦乐悬殊的事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抨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将帅的腐败无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68360" y="692280"/>
            <a:ext cx="5975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唐代国力强盛，疆域广阔，内地与边疆各民族在政治、军事、经济和文化方面的交往密切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边事增加，战争频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盛唐文人们多热衷于功名，渴望施展自己的才华和抱负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从军边塞为国立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为文人求取功名的一种新的出路，而且他们也向往新奇的边疆生活、边塞风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8600" y="2286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塞外的羌笛悠悠、楼兰的胡茄漫漫，大漠的孤烟缕缕、蓟门的风沙茫茫 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92560" y="137160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　　黄沙百战穿金甲，不破楼兰终不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1280" y="278640"/>
            <a:ext cx="5329080" cy="6234120"/>
          </a:xfrm>
          <a:prstGeom prst="rect">
            <a:avLst/>
          </a:prstGeom>
          <a:solidFill>
            <a:srgbClr val="ffe4c9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盛唐的秋天，叶落萧萧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勇士的名字在大风中飘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猎火狼烟，猎火狼烟　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儿征战在边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玉簪闪烁晶莹的泪光　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故园美丽的佳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在四季轮回中守望　　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夏日流火，秋日收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相思在挣扎中痛苦　　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滚滚烟尘，铁衣叮当作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马蹄踏碎飘摇的边关　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城头的残鼓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辗过征人的白骨和游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首唐诗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苍白的落日在孤城上空摇晃　　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高举火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0920" y="47628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代表作家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高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岑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王昌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内容：反映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边塞战争生活的艰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军旅生活的种种体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以及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征人、思妇的离愁别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；抒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为国立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豪情壮志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不满现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情绪；描写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边塞风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异域风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艺术特点：格调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雄浑豪放、慷慨悲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境界阔大、雄奇壮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76720" y="2565360"/>
            <a:ext cx="5367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　　高适，世称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华文中宋"/>
              </a:rPr>
              <a:t>高常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华文中宋"/>
              </a:rPr>
              <a:t>与岑参并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华文中宋"/>
              </a:rPr>
              <a:t>盛唐边塞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代表作家。其边塞诗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华文中宋"/>
              </a:rPr>
              <a:t>感情激昂，意境雄浑，气势奔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58920" y="1557360"/>
            <a:ext cx="676908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乐府旧题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多与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边地征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关，写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思妇怀念征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由注释得知，此诗为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和人之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但绝非无聊应酬，而是“感征戍之事”而作，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饱和着血泪的感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“事”，亦非道听途说之辞，而是作者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身临其境，亲眼所睹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4962600" cy="522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724360" y="260280"/>
            <a:ext cx="30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秋风萧瑟天气凉，草木摇落露为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群燕辞归鹄南翔，念君客游思断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慊慊思归恋故乡，君何淹留寄他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贱妾茕茕守空房，忧来思君不敢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不觉泪下沾衣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援琴鸣弦发清商，短歌微吟不能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明月皎皎照我床，星汉西流夜未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牵牛织女遥相望，尔独何辜限河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260280"/>
            <a:ext cx="280836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燕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曹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42920" y="1844640"/>
            <a:ext cx="6769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感征戍之事”的三方面 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所“感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唐家声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所“感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思乡盼归之情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所“感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军中苦乐不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56360" y="2133720"/>
            <a:ext cx="20811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62320" y="304920"/>
            <a:ext cx="5943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1916280"/>
            <a:ext cx="41767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层八句写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出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着力烘托气氛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层八句写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战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揭示其原因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层八句写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刻画相思之苦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四层四句写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死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突出壮志豪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55440" y="1844640"/>
            <a:ext cx="1204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　全诗以非常浓缩的笔墨，写了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一个战役的全过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3:25:18Z</dcterms:created>
  <dc:creator>gongkejian</dc:creator>
  <dc:description/>
  <dc:language>en-US</dc:language>
  <cp:lastModifiedBy>zmj</cp:lastModifiedBy>
  <dcterms:modified xsi:type="dcterms:W3CDTF">2009-05-28T10:00:58Z</dcterms:modified>
  <cp:revision>61</cp:revision>
  <dc:subject/>
  <dc:title>PowerPoint 演示文稿</dc:title>
</cp:coreProperties>
</file>