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jpeg" ContentType="image/jpeg"/>
  <Override PartName="/ppt/media/wind.wav" ContentType="audio/x-wav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706C-7263-46D7-834C-FD4B17BF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5BD-5608-438F-BA67-123C2DDA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B99-DE84-4872-8276-7559A3C4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543-A109-4BC0-A1B0-CAFF3868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E20F-3D35-45D8-9D1B-D763AF92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9CB0-9DAE-4CB7-848B-EE975458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797A-44FA-4E22-8245-CFA3D4DC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C5B3-98DF-4D8D-8154-60A02EA9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27E7-0438-488F-BB66-1DDCEEEB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4C98-DAC6-4174-9A69-E5B8AFD6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C4CF-8321-4678-A725-74C13495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A63-34EF-43A2-B904-2855544A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FC4A-E366-4800-BB4F-D029647E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BA6A-A273-4EF0-B0B8-5C183268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96AE-F40C-4E2D-8AED-81AE2D45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DB52-3614-42B6-9C26-25352674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DAD9-6768-463A-A8F5-666DBB74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ECD44-65AD-4622-AA6E-06ED37E7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7B8C5-A10C-4FD8-8E90-20FD4774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54EFF-77BE-414E-A485-5B1F7664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5A263-9DC8-4306-A4DA-4D37B722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B9FFE-5C80-41F5-AD13-19E55CD8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4F54-1480-4E51-A7C3-EA304F80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F94E9-08CB-4667-BF0B-91EF7F6A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F1F7-C523-4CB7-9BA2-F7B5AC0E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9BECC-9E88-4EE9-B36E-2CF7A47C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47275-CEFC-490A-8C27-CCB974E0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0EAAB-392E-46C8-AC37-70570E2B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6BD14-1A68-48E4-A7D3-9AFE92AD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931D0-AE8A-4BB4-BF4B-EC7F642E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9C6EF-511E-4E4D-8F4E-81CE26C6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5A23F-F394-4384-8CDD-444BCC73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E192C-8425-4826-A097-6DDB281C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A523-E445-48DA-8018-845228EC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4DB30-6621-4170-AA0D-FB31F343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4D7BE-6627-4C44-A459-915F49CB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96C2E-762C-4464-B005-FA179C9A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BA700-DD11-43E9-8BD9-1B962F43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4EDC0-4028-4DDB-9F76-70DCCBE3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23813-4CF2-4565-9A8A-D473C1C7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3323A-A923-4D07-823D-B81C6EAC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5574D-5CAF-49A2-B46D-FF5C46F1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E6B8A-483F-4E90-AA4A-170A208C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46155-66D8-4ED1-AE55-5179B1EA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A82-1528-49FA-AC67-DC43EA02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12A6C-E07D-4232-B723-7A4BC18E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A59AF-E809-4067-9C0B-EF488327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A9286-FB51-4577-8D6E-263277E2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4F8D8-3FB1-414A-AFC3-C8D89693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B04E1-72A7-43D4-B67E-48232811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46B42-69FB-4C54-93DF-BC57296C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94A4C-3B89-4F83-8EC9-C02DF393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D59E3-9B76-4C4F-A029-0C59A301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2A8BC-C00C-4131-96EB-5A129180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E9B6C-6170-4AC9-B514-C72D5C19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4C6-8163-4B65-B68A-1E1D1927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41293-7472-4241-A8A3-A008039F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143-CFD3-4080-B6A1-566F99DB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FB68-1329-4460-A7A2-1CD5BA90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F54-5A95-4FF3-BF37-94AB1EC0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4484-773A-4A30-9B3E-3EF8F12526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481E-E598-4BA9-AC8B-DDE1FB9619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CA81-5770-4D40-9C5A-E8D1761B54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26D7-5FEB-4EA3-A563-EACAD85B58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7FAA-5B73-4C5A-AA85-A581F7D625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ind.wav" TargetMode="External"/><Relationship Id="rId2" Type="http://schemas.microsoft.com/office/2007/relationships/media" Target="file:///tmp/home/.config/libreoffice/4/user/gallery/wind.wav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fyssz.net/News.asp?ArticleID=130" TargetMode="External"/><Relationship Id="rId4" Type="http://schemas.openxmlformats.org/officeDocument/2006/relationships/image" Target="../media/image17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38088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课前准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038480"/>
            <a:ext cx="944892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全力投入会使你与众不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你是最优秀的，你一定能做的更好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拿出你的学案、双色笔、草稿纸和练习本，还有你的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%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热情！别忘了带着你的好心情！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阜阳三中错题本2"/>
          <p:cNvPicPr/>
          <p:nvPr/>
        </p:nvPicPr>
        <p:blipFill>
          <a:blip r:embed="rId1">
            <a:lum contrast="72000"/>
          </a:blip>
          <a:srcRect l="54019" t="6347" r="37536" b="82022"/>
          <a:stretch/>
        </p:blipFill>
        <p:spPr>
          <a:xfrm>
            <a:off x="304920" y="304920"/>
            <a:ext cx="1066680" cy="1015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阜阳市第三中学1"/>
          <p:cNvPicPr/>
          <p:nvPr/>
        </p:nvPicPr>
        <p:blipFill>
          <a:blip r:embed="rId2"/>
          <a:srcRect l="0" t="0" r="0" b="19284"/>
          <a:stretch/>
        </p:blipFill>
        <p:spPr>
          <a:xfrm>
            <a:off x="6477120" y="6172200"/>
            <a:ext cx="2666880" cy="5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0880" y="380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e0000"/>
                </a:solidFill>
                <a:latin typeface="Arial"/>
                <a:ea typeface="楷体_GB2312"/>
              </a:rPr>
              <a:t>课文注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971640"/>
            <a:ext cx="144792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烟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横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非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摐金伐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逶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瀚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穷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玉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飘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绝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死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8120" y="9907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烽烟和尘土，此处指敌人入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8120" y="14479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指在战场上纵横驰骋，与敌军作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1828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特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8120" y="2286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指行军时的金鼓和鸣。摐：撞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2743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蜿蜒不绝的样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48120" y="3200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沙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44956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玉筷，此处指思妇的眼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49528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随风飘荡的样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5334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极偏远的地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48120" y="57913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为节气而死，即为国家献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8120" y="3581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深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403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病，枯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409760" y="1919160"/>
            <a:ext cx="37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儿本自重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横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25600" y="4129200"/>
            <a:ext cx="45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子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非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赐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颜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01920" y="26049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古） 恣意驰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21920" y="3193920"/>
            <a:ext cx="42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今） 贬义词，依仗暴力做坏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66920" y="4753080"/>
            <a:ext cx="236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非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古）特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01920" y="475308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今）程度副词，十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95520" y="55767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颜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古）光彩，奖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11000" y="557676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今）色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9144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e0000"/>
                </a:solidFill>
                <a:latin typeface="楷体_GB2312"/>
                <a:ea typeface="楷体_GB2312"/>
              </a:rPr>
              <a:t>古今异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362320" y="304920"/>
            <a:ext cx="5943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43434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  <a:ea typeface="Tahoma"/>
              </a:rPr>
              <a:t>全诗以非常浓缩的笔墨，写了一个战役的全过程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00200" y="1905120"/>
            <a:ext cx="78678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段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八句写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Tahoma"/>
              </a:rPr>
              <a:t>出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；（烘托气氛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段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八句写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战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；（揭示原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段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八句写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Tahoma"/>
              </a:rPr>
              <a:t>被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；（刻画两地相思之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第四段四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写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死斗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；（歌战士贬将帅，提出心愿）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1080" y="260280"/>
            <a:ext cx="46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整体感知：层次结构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1163679237_rtu0" descr=""/>
          <p:cNvPicPr/>
          <p:nvPr/>
        </p:nvPicPr>
        <p:blipFill>
          <a:blip r:embed="rId1"/>
          <a:stretch/>
        </p:blipFill>
        <p:spPr>
          <a:xfrm>
            <a:off x="-103320" y="-76320"/>
            <a:ext cx="9356760" cy="70167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692360" y="333360"/>
            <a:ext cx="489564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燕歌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 </a:t>
            </a:r>
            <a:br>
              <a:rPr sz="32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家烟尘在东北，汉将辞家破残贼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儿本自重横行，天子非常赐颜色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摐金伐鼓下榆关，旌旆逶迤碣石间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校尉羽书飞瀚海，单于猎火照狼山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川萧条极边土，胡骑凭陵杂风雨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士军前半生死，美人帐下犹歌舞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漠穷秋塞草腓，孤城落日斗兵稀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当恩遇恒轻敌，力尽关山未解围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铁衣远戍辛勤久，玉箸应啼别离后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妇城南欲断肠，征人蓟北空回首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庭飘飖那可度，绝域苍茫更何有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杀气三时作阵云，寒声一夜传刁斗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看白刃血纷纷，死节从来岂顾勋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君不见沙场征战苦，至今犹忆李将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9144000" cy="5464440"/>
          </a:xfrm>
          <a:prstGeom prst="rect">
            <a:avLst/>
          </a:prstGeom>
          <a:noFill/>
          <a:ln w="63360">
            <a:solidFill>
              <a:srgbClr val="ff99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、探究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参与积极，讨论高效，力争最优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始讨论时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迅速起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把凳子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轻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放到课桌底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长带领本组成员按照讨论的问题一一讨论，组长充分发挥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小老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角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讨论时，手不离笔做好记录，标记未解决的问题以备点评时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质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人人参与，热烈讨论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大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达自己的观点，提升快速思维和准确表达的能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讨论进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之后，教师会把每个小组展示的问题公布在大屏幕上。组长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及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排本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或多个成员展示，无展示任务的同学可以继续讨论。讨论结束后迅速坐下整理讨论学习的成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阜阳三中错题本2"/>
          <p:cNvPicPr/>
          <p:nvPr/>
        </p:nvPicPr>
        <p:blipFill>
          <a:blip r:embed="rId1">
            <a:lum contrast="72000"/>
          </a:blip>
          <a:srcRect l="54019" t="6347" r="37536" b="82022"/>
          <a:stretch/>
        </p:blipFill>
        <p:spPr>
          <a:xfrm>
            <a:off x="0" y="0"/>
            <a:ext cx="936720" cy="719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阜阳市第三中学1"/>
          <p:cNvPicPr/>
          <p:nvPr/>
        </p:nvPicPr>
        <p:blipFill>
          <a:blip r:embed="rId2"/>
          <a:srcRect l="0" t="0" r="0" b="19284"/>
          <a:stretch/>
        </p:blipFill>
        <p:spPr>
          <a:xfrm>
            <a:off x="7156440" y="6284880"/>
            <a:ext cx="1835280" cy="34452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6"/>
          <p:cNvSpPr/>
          <p:nvPr/>
        </p:nvSpPr>
        <p:spPr>
          <a:xfrm>
            <a:off x="1295280" y="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合作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914400" y="0"/>
            <a:ext cx="3429000" cy="838080"/>
          </a:xfrm>
          <a:custGeom>
            <a:avLst/>
            <a:gdLst>
              <a:gd name="textAreaLeft" fmla="*/ 98640 w 3429000"/>
              <a:gd name="textAreaRight" fmla="*/ 3330360 w 3429000"/>
              <a:gd name="textAreaTop" fmla="*/ 98640 h 838080"/>
              <a:gd name="textAreaBottom" fmla="*/ 739440 h 838080"/>
            </a:gdLst>
            <a:ahLst/>
            <a:rect l="textAreaLeft" t="textAreaTop" r="textAreaRight" b="textAreaBottom"/>
            <a:pathLst>
              <a:path w="8834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4748" y="21600"/>
                </a:lnTo>
                <a:arcTo wR="3600" hR="3600" stAng="10800000" swAng="5400000"/>
                <a:lnTo>
                  <a:pt x="8834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b7ffe4">
                  <a:alpha val="54117"/>
                </a:srgbClr>
              </a:gs>
              <a:gs pos="100000">
                <a:srgbClr val="ff00ff">
                  <a:alpha val="16078"/>
                </a:srgbClr>
              </a:gs>
            </a:gsLst>
            <a:lin ang="54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矩形 5"/>
          <p:cNvSpPr/>
          <p:nvPr/>
        </p:nvSpPr>
        <p:spPr>
          <a:xfrm>
            <a:off x="181080" y="4438800"/>
            <a:ext cx="8785080" cy="1740240"/>
          </a:xfrm>
          <a:prstGeom prst="rect">
            <a:avLst/>
          </a:prstGeom>
          <a:solidFill>
            <a:srgbClr val="ffffff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华文中宋"/>
                <a:ea typeface="华文中宋"/>
              </a:rPr>
              <a:t>目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）析解题思路，再规范步骤，总结易错点，给展示题打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先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行楷"/>
              </a:rPr>
              <a:t>0-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行楷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）其它同学认真倾听、积极思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重点内容记好笔记。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华文行楷"/>
              </a:rPr>
              <a:t>有不明白或有补充的要大胆提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行楷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）力争全部达成目标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层多拓展、质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行楷"/>
              </a:rPr>
              <a:t>,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层注重总结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行楷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层多整理，记忆。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华文行楷"/>
              </a:rPr>
              <a:t>科研小组成员首先要质疑拓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193680"/>
            <a:ext cx="4248000" cy="720720"/>
          </a:xfrm>
          <a:custGeom>
            <a:avLst/>
            <a:gdLst>
              <a:gd name="textAreaLeft" fmla="*/ 84960 w 4248000"/>
              <a:gd name="textAreaRight" fmla="*/ 4163040 w 4248000"/>
              <a:gd name="textAreaTop" fmla="*/ 84960 h 720720"/>
              <a:gd name="textAreaBottom" fmla="*/ 635760 h 720720"/>
            </a:gdLst>
            <a:ahLst/>
            <a:rect l="textAreaLeft" t="textAreaTop" r="textAreaRight" b="textAreaBottom"/>
            <a:pathLst>
              <a:path w="12726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3660" y="21600"/>
                </a:lnTo>
                <a:arcTo wR="3600" hR="3600" stAng="10800000" swAng="5400000"/>
                <a:lnTo>
                  <a:pt x="12726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b7ffe4">
                  <a:alpha val="54117"/>
                </a:srgbClr>
              </a:gs>
              <a:gs pos="100000">
                <a:srgbClr val="ff00ff">
                  <a:alpha val="16078"/>
                </a:srgbClr>
              </a:gs>
            </a:gsLst>
            <a:lin ang="54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90720" y="18900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精彩点评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20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分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8" descr="阜阳三中错题本2"/>
          <p:cNvPicPr/>
          <p:nvPr/>
        </p:nvPicPr>
        <p:blipFill>
          <a:blip r:embed="rId1">
            <a:lum contrast="72000"/>
          </a:blip>
          <a:srcRect l="54019" t="6347" r="37536" b="82022"/>
          <a:stretch/>
        </p:blipFill>
        <p:spPr>
          <a:xfrm>
            <a:off x="0" y="228600"/>
            <a:ext cx="685800" cy="654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阜阳市第三中学1"/>
          <p:cNvPicPr/>
          <p:nvPr/>
        </p:nvPicPr>
        <p:blipFill>
          <a:blip r:embed="rId2"/>
          <a:srcRect l="0" t="0" r="0" b="19284"/>
          <a:stretch/>
        </p:blipFill>
        <p:spPr>
          <a:xfrm>
            <a:off x="7308720" y="6513480"/>
            <a:ext cx="1835280" cy="34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"/>
          <p:cNvGraphicFramePr/>
          <p:nvPr/>
        </p:nvGraphicFramePr>
        <p:xfrm>
          <a:off x="108000" y="1054080"/>
          <a:ext cx="8713800" cy="3562200"/>
        </p:xfrm>
        <a:graphic>
          <a:graphicData uri="http://schemas.openxmlformats.org/drawingml/2006/table">
            <a:tbl>
              <a:tblPr/>
              <a:tblGrid>
                <a:gridCol w="2139840"/>
                <a:gridCol w="2184480"/>
                <a:gridCol w="2398680"/>
                <a:gridCol w="1990800"/>
              </a:tblGrid>
              <a:tr h="80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展示问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位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展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点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合作探究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黑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.4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合作探究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黑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6.7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合作探究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黑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.10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合作探究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黑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.11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探究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萧条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条件恶劣；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凭陵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敌人来势凶猛，战力强；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风雨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天气之恶劣。总结：渲染了战势的危急与战斗条件的恶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探究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边塞环境：山川萧条极边土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点：辽远、开阔、荒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诗句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大漠穷秋塞草腓，孤城落日斗兵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边庭飘摇那可度，绝域苍茫无所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用：一片肃杀的气氛，渲染悲剧的场面，烘托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残兵败卒心境的凄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探究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士兵：重横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半生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斗兵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空回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顾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领：美人帐下犹歌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身当恩遇常轻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征人：铁衣远戍辛勤久        思妇：玉箸应啼别离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6600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通过鲜明的多重对比，将领的骄傲轻敌、不能体恤士兵等过失，是造成战争失败，把士兵推向死亡的主题更鲜明，情感爱憎分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深化作品主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兵时的金鼓震天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战败后的困苦凄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士兵的辛苦作战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军的纵情声色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士兵的效命死节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军的贪功懈怠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时李广体恤爱护士卒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时将军享乐腐化、不恤士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1" name="图片4" descr=""/>
          <p:cNvPicPr/>
          <p:nvPr/>
        </p:nvPicPr>
        <p:blipFill>
          <a:blip r:embed="rId4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5" descr=""/>
          <p:cNvPicPr/>
          <p:nvPr/>
        </p:nvPicPr>
        <p:blipFill>
          <a:blip r:embed="rId5"/>
          <a:stretch/>
        </p:blipFill>
        <p:spPr>
          <a:xfrm>
            <a:off x="0" y="0"/>
            <a:ext cx="446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图片3" descr=""/>
          <p:cNvPicPr/>
          <p:nvPr/>
        </p:nvPicPr>
        <p:blipFill>
          <a:blip r:embed="rId6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6" descr=""/>
          <p:cNvPicPr/>
          <p:nvPr/>
        </p:nvPicPr>
        <p:blipFill>
          <a:blip r:embed="rId7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8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572000" y="3841920"/>
            <a:ext cx="502920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93e5"/>
                </a:solidFill>
                <a:latin typeface="Arial"/>
                <a:ea typeface="楷体_GB2312"/>
              </a:rPr>
              <a:t>黄沙漫漫，黑雾浓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93e5"/>
                </a:solidFill>
                <a:latin typeface="Arial"/>
                <a:ea typeface="楷体_GB2312"/>
              </a:rPr>
              <a:t>晚霞中传来几声雁鸣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93e5"/>
                </a:solidFill>
                <a:latin typeface="Arial"/>
                <a:ea typeface="楷体_GB2312"/>
              </a:rPr>
              <a:t>飘荡在大漠苍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93e5"/>
                </a:solidFill>
                <a:latin typeface="Arial"/>
                <a:ea typeface="楷体_GB2312"/>
              </a:rPr>
              <a:t>长缨在手，壮志怀在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93e5"/>
                </a:solidFill>
                <a:latin typeface="Arial"/>
                <a:ea typeface="楷体_GB2312"/>
              </a:rPr>
              <a:t>风吹草低行万里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93e5"/>
                </a:solidFill>
                <a:latin typeface="Arial"/>
                <a:ea typeface="楷体_GB2312"/>
              </a:rPr>
              <a:t>血刃霜刀边塞风</a:t>
            </a:r>
            <a:r>
              <a:rPr b="1" lang="en-US" sz="3200" spc="-1" strike="noStrike">
                <a:solidFill>
                  <a:srgbClr val="e993e5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137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-2.77778E-006 -6.65125E-006 C -0.01024 -0.02013 -0.02326 -0.03446 -0.03611 -0.05158 C -0.04253 -0.06014 -0.04548 -0.07286 -0.05208 -0.08164 C -0.05451 -0.09113 -0.0625 -0.10269 -0.06805 -0.11009 C -0.0717 -0.12026 -0.07743 -0.12743 -0.08281 -0.13668 C -0.09062 -0.1501 -0.09791 -0.16397 -0.10538 -0.17762 C -0.13159 -0.22549 -0.15208 -0.27753 -0.17882 -0.32494 C -0.1901 -0.34483 -0.20034 -0.36495 -0.21076 -0.38553 C -0.21458 -0.39316 -0.22413 -0.40681 -0.22413 -0.40681 C -0.22725 -0.41721 -0.23055 -0.42716 -0.23472 -0.43687 C -0.23628 -0.44057 -0.2401 -0.44751 -0.2401 -0.44751 C -0.24184 -0.45792 -0.25434 -0.47896 -0.26007 -0.48659 C -0.26441 -0.49862 -0.27152 -0.50671 -0.27743 -0.51689 C -0.28229 -0.52545 -0.28524 -0.53608 -0.2908 -0.54348 C -0.2934 -0.55852 -0.30225 -0.57262 -0.30798 -0.58604 C -0.31111 -0.59321 -0.31163 -0.59806 -0.31614 -0.60384 C -0.31805 -0.61541 -0.32413 -0.62142 -0.32812 -0.63229 C -0.33159 -0.642 -0.33559 -0.65357 -0.3401 -0.66259 C -0.34375 -0.66976 -0.34861 -0.67623 -0.35208 -0.68386 C -0.35521 -0.69057 -0.35712 -0.69843 -0.36007 -0.70514 C -0.37048 -0.72919 -0.38246 -0.75232 -0.39479 -0.77452 C -0.39774 -0.78724 -0.40312 -0.79672 -0.40798 -0.80805 C -0.41076 -0.81476 -0.41545 -0.83049 -0.41875 -0.83488 C -0.43003 -0.84991 -0.43784 -0.8698 -0.44809 -0.88622 C -0.46076 -0.90657 -0.46823 -0.9334 -0.48541 -0.94843 C -0.48889 -0.9563 -0.49357 -0.96092 -0.49722 -0.96809 C -0.50156 -0.97688 -0.50625 -0.98428 -0.51059 -0.99284 C -0.51146 -0.99446 -0.51232 -0.99654 -0.51337 -0.99816 C -0.5158 -1.00301 -0.51857 -1.00764 -0.52135 -1.01249 C -0.52274 -1.01481 -0.52517 -1.01943 -0.52517 -1.01943 C -0.53038 -1.03886 -0.54375 -1.05875 -0.5533 -1.07447 C -0.56684 -1.09644 -0.546 -1.06407 -0.55746 -1.08534 C -0.56597 -1.10176 -0.55955 -1.08442 -0.56545 -1.0976 C -0.56736 -1.10223 -0.58107 -1.12905 -0.58264 -1.12975 C -0.62587 -1.14732 -0.58524 -1.13137 -0.70937 -1.13137 E">
                                      <p:cBhvr>
                                        <p:cTn id="8" dur="44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-0.02917 0.0111 C -0.025 0.01688 -0.02049 0.02682 -0.01598 0.03076 C -0.01094 0.04001 -0.00729 0.04764 -0.00122 0.0555 C 0.00555 0.07423 0.02014 0.09297 0.03073 0.10892 C 0.04479 0.13043 0.06093 0.14986 0.07482 0.17114 C 0.0875 0.19056 0.09965 0.21369 0.11076 0.23497 C 0.14496 0.29995 0.17708 0.36702 0.21336 0.43039 C 0.23559 0.46901 0.25312 0.51156 0.27604 0.54949 C 0.31597 0.61517 0.35521 0.68131 0.39739 0.74468 C 0.41441 0.77012 0.42899 0.80203 0.44409 0.83002 C 0.46007 0.85962 0.47656 0.88876 0.49201 0.91882 C 0.50764 0.94958 0.5243 0.97849 0.54149 1.00763 C 0.54739 1.01757 0.54948 1.03076 0.55468 1.04139 C 0.56823 1.06822 0.58264 1.09574 0.59739 1.12118 C 0.60312 1.13113 0.61041 1.13945 0.61614 1.14963 C 0.62743 1.16975 0.64045 1.19172 0.64948 1.21369 C 0.6526 1.22132 0.66059 1.24213 0.66545 1.24745 C 0.66753 1.24977 0.67066 1.24907 0.67343 1.24907 C 0.70312 1.24953 0.73298 1.24907 0.76267 1.24907 E">
                                      <p:cBhvr>
                                        <p:cTn id="10" dur="44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17000"/>
                                  </p:stCondLst>
                                  <p:childTnLst>
                                    <p:animMotion origin="layout" path="M -5.27778E-006 -6.716E-006 C -0.00869 0.01711 -0.01424 0.03792 -0.02015 0.05689 C -0.02588 0.07469 -0.03282 0.09204 -0.03872 0.11008 C -0.0566 0.16396 -0.08612 0.21207 -0.11199 0.25924 C -0.12119 0.27613 -0.129 0.29602 -0.14011 0.31082 C -0.14879 0.33464 -0.16442 0.35476 -0.17466 0.37835 C -0.1882 0.40957 -0.20122 0.44125 -0.21476 0.47247 C -0.2231 0.49167 -0.23022 0.51179 -0.23872 0.53098 C -0.24254 0.53954 -0.24688 0.5474 -0.2507 0.55596 C -0.25209 0.55897 -0.25469 0.56475 -0.25469 0.56475 C -0.25695 0.57631 -0.2632 0.58649 -0.26806 0.59666 C -0.27223 0.60545 -0.2731 0.61424 -0.27865 0.62164 C -0.28438 0.63991 -0.29237 0.65587 -0.3014 0.67136 C -0.30695 0.68108 -0.30417 0.67876 -0.30799 0.68894 C -0.31077 0.69657 -0.31511 0.70212 -0.31876 0.70837 C -0.32067 0.71207 -0.32258 0.71554 -0.32414 0.71924 C -0.32518 0.72132 -0.32553 0.72432 -0.32674 0.72617 C -0.33438 0.74005 -0.34341 0.75601 -0.35209 0.76896 C -0.35365 0.77104 -0.35591 0.77196 -0.35747 0.77428 C -0.36789 0.78931 -0.37657 0.80573 -0.38681 0.82053 C -0.3948 0.83209 -0.4007 0.85198 -0.40799 0.86147 C -0.41876 0.87557 -0.41841 0.87349 -0.42813 0.89523 C -0.43213 0.90402 -0.43525 0.91396 -0.44011 0.92183 C -0.44654 0.93223 -0.45192 0.94356 -0.45869 0.95374 C -0.46615 0.96484 -0.47501 0.97525 -0.48143 0.98751 C -0.48247 0.98959 -0.48265 0.99259 -0.48404 0.99468 C -0.48733 0.99976 -0.49167 1.00346 -0.4948 1.00878 C -0.49601 1.0111 -0.4974 1.01364 -0.49879 1.01595 C -0.5014 1.02821 -0.4974 1.0148 -0.504 1.02474 C -0.50643 1.02844 -0.51233 1.04 -0.51476 1.0444 C -0.51633 1.05319 -0.51997 1.05712 -0.52414 1.06382 C -0.53091 1.07492 -0.53785 1.08533 -0.54532 1.09597 C -0.5507 1.1036 -0.55313 1.1073 -0.56008 1.11355 C -0.56147 1.1147 -0.56407 1.11725 -0.56407 1.11725 C -0.56598 1.11031 -0.56546 1.11378 -0.56546 1.10661 E">
                                      <p:cBhvr>
                                        <p:cTn id="12" dur="37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17000"/>
                                  </p:stCondLst>
                                  <p:childTnLst>
                                    <p:animMotion origin="layout" path="M 1.66667E-006 -6.79001E-006 C 0.00329 -0.02498 0.03506 -0.0377 0.0493 -0.04973 C 0.09201 -0.08557 0.13281 -0.13229 0.16267 -0.18664 C 0.20173 -0.25741 0.23229 -0.33673 0.26788 -0.41027 C 0.29878 -0.47434 0.3276 -0.53238 0.3559 -0.59876 C 0.37829 -0.65172 0.40902 -0.70144 0.43194 -0.75509 C 0.4592 -0.81869 0.46701 -0.84552 0.49201 -0.90981 C 0.51458 -0.9674 0.54409 -1.01504 0.56388 -1.07632 C 0.56805 -1.08951 0.57274 -1.10246 0.57725 -1.11541 C 0.57934 -1.12142 0.57899 -1.13298 0.58402 -1.13322 C 0.68697 -1.139 0.7901 -1.13322 0.89322 -1.13322 E">
                                      <p:cBhvr>
                                        <p:cTn id="14" dur="37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1">
                                  <p:stCondLst>
                                    <p:cond delay="183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2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1502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2398" fill="hold">
                                          <p:stCondLst>
                                            <p:cond delay="150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1502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2398" fill="hold">
                                          <p:stCondLst>
                                            <p:cond delay="150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1502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2398" fill="hold">
                                          <p:stCondLst>
                                            <p:cond delay="150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176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10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268360" y="692280"/>
            <a:ext cx="59756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阅读下面一首唐诗，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本诗中塑造了哪两种人物形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运用了怎样的表现手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陇西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陈陶（唐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誓扫匈奴不顾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千貂锦丧胡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怜无定河边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犹是春闺梦里人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268360" y="692280"/>
            <a:ext cx="597564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首诗塑造了英勇无畏的边城战士形象与卑微可怜的故乡思妇形象。运用了对比的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河边骨”和“梦里人”形成了鲜明的对比，表现了战争的残酷，以及战争给人们带来的深重的灾难。表达了作者对战争的厌恶之情与对老百姓的深刻同情之情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057400" y="45720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边塞诗的形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唐代，有一批诗人（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高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岑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还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王昌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李颀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王之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崔颢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王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等）十分擅长描写边塞征战生活，后人称他们为“边塞诗人”，形成了所谓的“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边塞诗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，反映边塞征战生活的诗作逐渐蔚为大观。所以说边塞诗是唐代这个诗歌大国的一束奇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31240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边塞诗标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常含“塞、征、军、塞上、塞下、征人、从军”等字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33720" y="4343400"/>
            <a:ext cx="624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边塞诗艺术风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豪放旷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醉卧沙场君莫笑，古来征战几人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雄奇壮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大漠孤烟直，长河落日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豪壮悲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落日照大旗，马鸣风萧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133720" y="1828800"/>
            <a:ext cx="6248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边塞诗表达的思想情感主要有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个方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写塞外奇丽壮阔的自然风光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抒发从军报国、建功立业的英雄豪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达征人久戍边关的思乡念亲之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映连年征战对广大人民和平生活的干扰和破坏，反对统治者穷兵黩武、拓土开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362320" y="304920"/>
            <a:ext cx="5943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08000" y="1989000"/>
            <a:ext cx="669636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边塞诗意象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金鼓    旌旗    烽火    羽书    戈    矛  剑    戟    斧    铖    刀    铩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碛西    轮台    龟兹     夜郎  玉门关  黑河  胡    羌    羯    夷    安西    单于    楼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漠    烽烟    长城    黄沙    长云    秋月  雪山    孤城    雁飞    鹰扬    箭飞    马走  羌管    胡笳    胡琴    琵琶    折柳曲          梅花落     阳关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49280" y="549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引导梳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62320" y="304920"/>
            <a:ext cx="5943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71640" y="2060640"/>
            <a:ext cx="604836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意境的特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健     雄浑     雄壮     浑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悲凉     苍凉    苍劲      萧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奇寒     奇丽     辽阔     壮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949280" y="549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引导梳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2340000" y="2133720"/>
            <a:ext cx="64800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风萧瑟天气凉，草木摇落露为霜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群燕辞归雁南翔，念君客游思断肠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慊慊思归恋故乡，君何淹留寄他方？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贱妾茕茕守空房，忧来思君不敢忘，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觉泪下沾衣裳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援琴鸣弦发清商，短歌微吟不能长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月皎皎照我床，星汉西流夜未央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牵牛织女摇踵望，尔独何辜限河梁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19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895400" cy="63086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  <a:ea typeface="隶书"/>
              </a:rPr>
              <a:t>燕歌行</a:t>
            </a:r>
            <a:br>
              <a:rPr sz="44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曹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819520" y="380880"/>
            <a:ext cx="36576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楷体_GB2312"/>
              </a:rPr>
              <a:t>《燕歌行》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18" name=""/>
          <p:cNvSpPr/>
          <p:nvPr/>
        </p:nvSpPr>
        <p:spPr>
          <a:xfrm>
            <a:off x="1695600" y="4125960"/>
            <a:ext cx="67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挖掘、探究边塞诗的内涵，理解边塞诗的多重主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54280" y="5407200"/>
            <a:ext cx="69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深入理解诗作所表达的复杂感情和主旨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76160" y="3276720"/>
            <a:ext cx="15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析诗歌中环境渲染、对比手法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21049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阜阳三中错题本2"/>
          <p:cNvPicPr/>
          <p:nvPr/>
        </p:nvPicPr>
        <p:blipFill>
          <a:blip r:embed="rId1">
            <a:lum contrast="72000"/>
          </a:blip>
          <a:srcRect l="54019" t="6347" r="37536" b="82022"/>
          <a:stretch/>
        </p:blipFill>
        <p:spPr>
          <a:xfrm>
            <a:off x="684360" y="139680"/>
            <a:ext cx="718920" cy="685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阜阳市第三中学1"/>
          <p:cNvPicPr/>
          <p:nvPr/>
        </p:nvPicPr>
        <p:blipFill>
          <a:blip r:embed="rId2"/>
          <a:srcRect l="0" t="0" r="0" b="19284"/>
          <a:stretch/>
        </p:blipFill>
        <p:spPr>
          <a:xfrm>
            <a:off x="7308720" y="6513480"/>
            <a:ext cx="1835280" cy="344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2008122214495180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5614920"/>
          </a:xfrm>
          <a:prstGeom prst="rect">
            <a:avLst/>
          </a:prstGeom>
          <a:ln w="0">
            <a:noFill/>
          </a:ln>
        </p:spPr>
      </p:pic>
      <p:sp>
        <p:nvSpPr>
          <p:cNvPr id="324" name="Oval 5"/>
          <p:cNvSpPr/>
          <p:nvPr/>
        </p:nvSpPr>
        <p:spPr>
          <a:xfrm>
            <a:off x="1979640" y="620640"/>
            <a:ext cx="5759280" cy="1297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395280" y="0"/>
            <a:ext cx="82296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课堂小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0" y="5694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快乐</a:t>
            </a: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多一点，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合作</a:t>
            </a: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多一点，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自信</a:t>
            </a: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多一点，我们就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进步</a:t>
            </a: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一大点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阜阳三中错题本2"/>
          <p:cNvPicPr/>
          <p:nvPr/>
        </p:nvPicPr>
        <p:blipFill>
          <a:blip r:embed="rId5">
            <a:lum contrast="72000"/>
          </a:blip>
          <a:srcRect l="54019" t="6347" r="37536" b="82022"/>
          <a:stretch/>
        </p:blipFill>
        <p:spPr>
          <a:xfrm>
            <a:off x="250920" y="260280"/>
            <a:ext cx="806400" cy="768600"/>
          </a:xfrm>
          <a:prstGeom prst="rect">
            <a:avLst/>
          </a:prstGeom>
          <a:ln w="0">
            <a:noFill/>
          </a:ln>
        </p:spPr>
      </p:pic>
      <p:sp>
        <p:nvSpPr>
          <p:cNvPr id="328" name="WordArt 9"/>
          <p:cNvSpPr txBox="1"/>
          <p:nvPr/>
        </p:nvSpPr>
        <p:spPr>
          <a:xfrm>
            <a:off x="1116000" y="2276640"/>
            <a:ext cx="64119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学科班长点评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当堂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已知某个命题与正整数有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该命题成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那么可以推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k+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该命题也成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现已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该命题不成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 n=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该命题成立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  n=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该命题不成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  n=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该命题不成立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  n=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该命题成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已知                                                  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(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                       B  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                      D  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835280" y="3573360"/>
                <a:ext cx="410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,3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050920" y="4365720"/>
                <a:ext cx="10083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5076720" y="4365720"/>
                <a:ext cx="1441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116080" y="5157720"/>
                <a:ext cx="12398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068800" y="5157720"/>
                <a:ext cx="1359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41" name="Picture 8" descr="阜阳三中错题本2"/>
          <p:cNvPicPr/>
          <p:nvPr/>
        </p:nvPicPr>
        <p:blipFill>
          <a:blip r:embed="rId1">
            <a:lum contrast="72000"/>
          </a:blip>
          <a:srcRect l="54019" t="6347" r="37536" b="82022"/>
          <a:stretch/>
        </p:blipFill>
        <p:spPr>
          <a:xfrm>
            <a:off x="250920" y="260280"/>
            <a:ext cx="806400" cy="7686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阜阳市第三中学1"/>
          <p:cNvPicPr/>
          <p:nvPr/>
        </p:nvPicPr>
        <p:blipFill>
          <a:blip r:embed="rId2"/>
          <a:srcRect l="0" t="0" r="0" b="19284"/>
          <a:stretch/>
        </p:blipFill>
        <p:spPr>
          <a:xfrm>
            <a:off x="7093080" y="6308640"/>
            <a:ext cx="1834920" cy="3445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979640" y="206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08720" y="37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整理巩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整理巩固这堂课学习的知识规律和思想方法，把有价值的题收集到典题本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照黑板落实当堂检测部分和基础知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上还有哪些问题不是特别清楚，课下仍需再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阜阳三中错题本2" descr=""/>
          <p:cNvPicPr/>
          <p:nvPr/>
        </p:nvPicPr>
        <p:blipFill>
          <a:blip r:embed="rId1">
            <a:lum contrast="72000"/>
          </a:blip>
          <a:srcRect l="54019" t="6347" r="37536" b="82022"/>
          <a:stretch/>
        </p:blipFill>
        <p:spPr>
          <a:xfrm>
            <a:off x="250920" y="260280"/>
            <a:ext cx="806400" cy="768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" descr="阜阳市第三中学1"/>
          <p:cNvPicPr/>
          <p:nvPr/>
        </p:nvPicPr>
        <p:blipFill>
          <a:blip r:embed="rId2"/>
          <a:srcRect l="0" t="0" r="0" b="19284"/>
          <a:stretch/>
        </p:blipFill>
        <p:spPr>
          <a:xfrm>
            <a:off x="7093080" y="6237360"/>
            <a:ext cx="1834920" cy="3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阜阳市第三中学1"/>
          <p:cNvPicPr/>
          <p:nvPr/>
        </p:nvPicPr>
        <p:blipFill>
          <a:blip r:embed="rId1"/>
          <a:srcRect l="0" t="0" r="0" b="19284"/>
          <a:stretch/>
        </p:blipFill>
        <p:spPr>
          <a:xfrm>
            <a:off x="7308720" y="6400800"/>
            <a:ext cx="1835280" cy="344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mid-left-01[1]"/>
          <p:cNvPicPr/>
          <p:nvPr/>
        </p:nvPicPr>
        <p:blipFill>
          <a:blip r:embed="rId2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阜阳三中错题本2"/>
          <p:cNvPicPr/>
          <p:nvPr/>
        </p:nvPicPr>
        <p:blipFill>
          <a:blip r:embed="rId3">
            <a:lum contrast="72000"/>
          </a:blip>
          <a:srcRect l="54019" t="6347" r="37536" b="82022"/>
          <a:stretch/>
        </p:blipFill>
        <p:spPr>
          <a:xfrm>
            <a:off x="5580000" y="620640"/>
            <a:ext cx="1656000" cy="17258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7"/>
          <p:cNvSpPr/>
          <p:nvPr/>
        </p:nvSpPr>
        <p:spPr>
          <a:xfrm>
            <a:off x="1050840" y="5410080"/>
            <a:ext cx="5426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0" y="5410080"/>
            <a:ext cx="967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3399"/>
                </a:solidFill>
                <a:latin typeface="Arial"/>
              </a:rPr>
              <a:t>祝同学们周末愉快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14400" y="1676520"/>
            <a:ext cx="71629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-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3880" y="243828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里的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和李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梦游天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留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的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，杜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茅屋为秋风所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及白居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长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的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一样，只是表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古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的一种体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均属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歌行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457200"/>
            <a:ext cx="2895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464832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燕歌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乐府旧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内容多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燕赵边地战争之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征夫思妇相思之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124080" y="914400"/>
            <a:ext cx="2895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题目导航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666880" y="228600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适（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0—76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字达夫，一字仲武，渤海县人，世称“高渤海”，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盛唐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名的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边塞诗人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早年和李白、杜甫共游梁、宋，落拓失意。他的诗歌以古体见长，尤长于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七言歌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言古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燕歌行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为著名代表作。其作品集为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常侍集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唐诗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诗四卷。其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格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雄浑悲壮、古朴苍劲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与岑参齐名，并称“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岑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19320" y="150480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开元十五年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72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，高适曾北上蓟门。二十年，信安王李禕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 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征讨奚、契丹，他又北去幽燕，希望到信安王幕府效力，未能如愿。开元二十一年后，幽州节度使张守珪经略边事，初有战功。但二十四年，张让平卢讨击使安禄山讨奚、契丹，为虏所败。二十六年，幽州将赵堪、白真陀罗矫张守珪之命，逼迫平卢军使乌知义出兵攻奚、契丹，先胜后败。高适见到两次战败，感慨很深，因写此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95280" y="15238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适在创作此诗之前不久，曾经怀着豪情壮志，到蓟北一带漫游，寻求报效国家的机会。当时，那里正是唐朝与契丹对峙的前沿地区，形势紧张，是用人之地。由于当地军政官僚们堵塞贤路，高适的愿望无法实现，但他对边塞地区的现实状况是了解的更加具体、更加透彻了。这种切身的体验，也为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燕歌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写作提供了坚实的生活和思想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阜阳三中错题本2" descr=""/>
          <p:cNvPicPr/>
          <p:nvPr/>
        </p:nvPicPr>
        <p:blipFill>
          <a:blip r:embed="rId1">
            <a:lum contrast="72000"/>
          </a:blip>
          <a:srcRect l="54019" t="6347" r="37536" b="82022"/>
          <a:stretch/>
        </p:blipFill>
        <p:spPr>
          <a:xfrm>
            <a:off x="152280" y="152280"/>
            <a:ext cx="719280" cy="685800"/>
          </a:xfrm>
          <a:prstGeom prst="rect">
            <a:avLst/>
          </a:prstGeom>
          <a:ln w="0">
            <a:noFill/>
          </a:ln>
        </p:spPr>
      </p:pic>
      <p:pic>
        <p:nvPicPr>
          <p:cNvPr id="230" name="阜阳市第三中学1" descr=""/>
          <p:cNvPicPr/>
          <p:nvPr/>
        </p:nvPicPr>
        <p:blipFill>
          <a:blip r:embed="rId2"/>
          <a:srcRect l="0" t="0" r="0" b="19284"/>
          <a:stretch/>
        </p:blipFill>
        <p:spPr>
          <a:xfrm>
            <a:off x="7308720" y="6513480"/>
            <a:ext cx="1835280" cy="344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 flipV="1">
            <a:off x="990720" y="0"/>
            <a:ext cx="57592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676440" y="0"/>
            <a:ext cx="822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导学案反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573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4292640"/>
            <a:ext cx="777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79280" y="981000"/>
          <a:ext cx="8785080" cy="1076400"/>
        </p:xfrm>
        <a:graphic>
          <a:graphicData uri="http://schemas.openxmlformats.org/drawingml/2006/table">
            <a:tbl>
              <a:tblPr/>
              <a:tblGrid>
                <a:gridCol w="1446120"/>
                <a:gridCol w="569880"/>
                <a:gridCol w="648000"/>
                <a:gridCol w="576000"/>
                <a:gridCol w="588960"/>
                <a:gridCol w="595440"/>
                <a:gridCol w="595440"/>
                <a:gridCol w="596880"/>
                <a:gridCol w="576000"/>
                <a:gridCol w="647640"/>
                <a:gridCol w="648000"/>
                <a:gridCol w="649080"/>
                <a:gridCol w="64764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组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得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 txBox="1"/>
          <p:nvPr/>
        </p:nvSpPr>
        <p:spPr>
          <a:xfrm>
            <a:off x="5583240" y="0"/>
            <a:ext cx="356076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榜样就在身边！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209680"/>
            <a:ext cx="9144000" cy="581400"/>
          </a:xfrm>
          <a:prstGeom prst="rect">
            <a:avLst/>
          </a:prstGeom>
          <a:noFill/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优秀组和个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657600"/>
            <a:ext cx="9144000" cy="825480"/>
          </a:xfrm>
          <a:prstGeom prst="rect">
            <a:avLst/>
          </a:prstGeom>
          <a:noFill/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待改进组和个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4572000"/>
            <a:ext cx="9144000" cy="1191240"/>
          </a:xfrm>
          <a:prstGeom prst="rect">
            <a:avLst/>
          </a:prstGeom>
          <a:noFill/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问题反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础知识预习较好，但知识间的内在联系形成不到位，问题导引思考不深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同学没有完成通项公式的推导，格式欠规范，计算易出错，以后要做到规范化、细致化，多思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828800" y="1812960"/>
            <a:ext cx="6858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燕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    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摐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征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戍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旌旆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逶迤         碣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塞草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玉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蓟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         功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1889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379404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ēi•y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37180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796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53080" y="470844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1889280"/>
            <a:ext cx="144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u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2803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īng•pè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00400" y="56228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81280" y="4707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73720" y="5514840"/>
            <a:ext cx="15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838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e0000"/>
                </a:solidFill>
                <a:latin typeface="楷体_GB2312"/>
                <a:ea typeface="楷体_GB2312"/>
              </a:rPr>
              <a:t>读音字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08:22:48Z</dcterms:created>
  <dc:creator>微软用户</dc:creator>
  <dc:description/>
  <dc:language>en-US</dc:language>
  <cp:lastModifiedBy>zmj</cp:lastModifiedBy>
  <dcterms:modified xsi:type="dcterms:W3CDTF">2013-03-10T05:56:29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