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06E-073A-4F26-909D-8DA9BD52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4FC-5B5F-48F2-89BD-85F0A201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0A3-FA40-47C2-8C00-12AD0422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EDB-FEE4-47DD-AB8C-88E86662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A86C-B3A6-419F-8B15-03E58D58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2149-2FD1-4F0F-9C4D-D7CE9418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0D02-2699-4590-8771-B6647A25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6EE8-1608-4C52-83C1-4585FC0F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D95C-7C4A-4024-B31A-F1FA52AB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A989-7EA2-4E91-A8B0-9DDF720E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6B82-0B68-4DD2-B6DA-72B2A91B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6B8-316B-4AA5-A195-AFFC2F07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8FDC-7C42-414C-99AB-FF54915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4E16-EFF9-474E-99F1-59906482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FFA6-53C7-400B-B978-70183753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B3DB-3DF2-425D-92D7-239B4B58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CE9D-781F-4E76-B200-C4879D0E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4C4-2185-471C-96F2-B47FD1B6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034-E6CE-4D5E-B91A-15D52C86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BE6-433E-4DFA-8962-87C0914C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CE4-FB76-4AEF-91B3-E433FBE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C49-2D31-4418-84BE-536B7FB6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F5F-8499-410D-BA4C-D701FE7B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AAE-0D0E-4846-8D47-970DDA67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2600" y="4076640"/>
            <a:ext cx="9140760" cy="2590920"/>
            <a:chOff x="12600" y="407664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12600" y="407664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10240" y="5707080"/>
              <a:ext cx="1256760" cy="827280"/>
              <a:chOff x="5610240" y="570708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62240" y="585792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25960" y="590544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14880" y="595620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78240" y="599436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32240" y="603576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86200" y="570708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76640" y="642960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10240" y="601020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76480" y="575460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9520" y="571680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17920" y="607716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28880" y="5573880"/>
              <a:ext cx="2581200" cy="1084320"/>
              <a:chOff x="2828880" y="557388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9720" y="605484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82800" y="609300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25640" y="612612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68480" y="615492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95480" y="616752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77920" y="620100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9840" y="624852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44960" y="631368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13000" y="587700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9920" y="592452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14520" y="588636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51280" y="622944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92200" y="565956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73240" y="592632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94040" y="576432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89280" y="557388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54560" y="628668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28880" y="564048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62440" y="5143680"/>
              <a:ext cx="2144880" cy="1303200"/>
              <a:chOff x="6562440" y="514368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76920" y="521028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62440" y="515304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16520" y="514368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37240" y="617076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61120" y="627552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80160" y="561024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43840" y="556272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65720" y="544824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13440" y="538164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54720" y="535320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94520" y="545796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26280" y="553716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77040" y="557208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27800" y="560376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97640" y="564840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54880" y="568008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30840" y="572760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91240" y="4610160"/>
              <a:ext cx="674640" cy="409680"/>
              <a:chOff x="8391240" y="461016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91240" y="486720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47040" y="461016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70840" y="467676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42080" y="496260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9400" y="463860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23160" y="463860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94560" y="466416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51800" y="4707000"/>
                <a:ext cx="360360" cy="209520"/>
                <a:chOff x="8551800" y="470700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51800" y="470700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86720" y="472932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31000" y="474516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73840" y="477036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FB24-F0B1-4E58-9252-2A91814BCB8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264A-3461-4C9C-A907-F716B13784B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72320" y="47628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月光启蒙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1900440"/>
            <a:ext cx="8842320" cy="75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9700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院立即飘满了她那芳香的音韵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芳香”有两种含义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香（多指花草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令人陶醉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7775640" cy="3889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40644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-136440">
              <a:lnSpc>
                <a:spcPct val="106000"/>
              </a:lnSpc>
              <a:spcBef>
                <a:spcPts val="224"/>
              </a:spcBef>
              <a:buClr>
                <a:srgbClr val="99ff99"/>
              </a:buClr>
              <a:buSzPct val="80000"/>
              <a:buFont typeface="Arial"/>
              <a:buChar char=""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亮出来亮堂堂，打开楼门洗衣裳，洗得白白的，晒得脆脆的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-136440">
              <a:lnSpc>
                <a:spcPct val="106000"/>
              </a:lnSpc>
              <a:spcBef>
                <a:spcPts val="488"/>
              </a:spcBef>
              <a:buClr>
                <a:srgbClr val="99ff99"/>
              </a:buClr>
              <a:buSzPct val="80000"/>
              <a:buFont typeface="Arial"/>
              <a:buChar char="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儿弯弯像小船，带俺娘俩去云南。飞了千里万里路，凤凰落在梧桐树。凤凰凤凰一摆头，先盖瓦屋后盖楼。东楼西楼都盖上，再盖南楼遮太阳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1900440"/>
            <a:ext cx="8842320" cy="75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母亲不识字，却是我的启蒙老师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1900440"/>
            <a:ext cx="8842320" cy="75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此时，明月已至中天，母亲沉浸在如水的月色里，像一尊玉石雕像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1900440"/>
            <a:ext cx="8842320" cy="75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母亲不识字，却是我的启蒙老师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23640" y="691920"/>
            <a:ext cx="8351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红孩，上南山，割荆草，编箔篮，筛大米，做干饭。小狗吃，小猫看，急得老鼠啃锅沿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老鼠，上灯台，偷油喝，下不来——老鼠老鼠你别急，抱个狸猫来哄你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娃哭，住瓦屋。毛娃笑，坐花轿。毛娃醒，吃油饼。毛娃睡，盖花被。毛娃走，唤花狗，花狗伸着花舌头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屋子，红帐子，里面睡着个白胖子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1900440"/>
            <a:ext cx="8842320" cy="75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母亲不识字，却是我的启蒙老师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-109440" y="0"/>
            <a:ext cx="9253440" cy="6858000"/>
            <a:chOff x="-109440" y="0"/>
            <a:chExt cx="9253440" cy="685800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-109440" y="0"/>
              <a:ext cx="9253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 txBox="1"/>
            <p:nvPr/>
          </p:nvSpPr>
          <p:spPr>
            <a:xfrm>
              <a:off x="-109440" y="0"/>
              <a:ext cx="925344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76120" y="760320"/>
            <a:ext cx="8569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30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不识字，却是我的启蒙老师。是母亲用那一双勤劳的手为我打开了民间文学的宝库，给我送来月夜浓郁的诗情。她让明月星光陪伴我的童年，用智慧才华启迪我的想象。她在月光下唱的那些明快、流畅、含蓄、风趣的民歌民谣，使我展开了想象的翅膀，飞向诗歌的王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练笔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光是芳香的，如水一般沐浴着我和母亲；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音韵是芳香的，在乡村的院落里回响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芳香的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              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芳香的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           ……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91842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07640" y="259920"/>
            <a:ext cx="8785080" cy="126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母爱似水（节选）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母亲的忌日是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1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。这三个“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”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像三把尖刀插在我心里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常说，父爱如山，母爱似水。母亲的爱如春天里飘洒的小雨，如青石中流出的甘泉，滋润万物，细微周到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母亲不识字，但她总喜欢一边为我纳鞋底，一边督促我：“写字去！”我写的字像她的针脚那样齐整。自从我学会走路，就穿她做的布鞋。鞋面是她织的粗布，纳鞋底用她纺的线绳。为了我一双爱动的赤脚，常常熬红她的眼睛。直至以后，我出外上学了，工作了，还仍然穿她做的布鞋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母亲看着我们弟兄五人成家立业，生男育女。她心中装着儿子这一代，还装着孙子孙女这一代。我女儿断奶就送回家由她照看。夏天蚊子多，她让孙女睡在软床子里。所谓软床子，是用绳子编起来代替床板，人躺上去就如躺进网兜里。母亲睡在孙女身边，不停地用扇子赶着蚊子，嘴里还唱着动听的童谣。后来女儿告诉我：“奶奶睡在床框上，那床框就是一根木头。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举家南迁后，每年我总要回老家看望她。有一年看她时正值秋天。返回时忽听身后有人喊我的乳名，回头一看是母亲用大襟褂兜着一兜金黄的玉米跑来，玉米上那粒粒金黄像母亲闪亮的汗珠……她说：“这是我种的金皇后，你们城里没有，捎去，给孩子们爆米花……”谁知一年之后她却患上了老年痴呆症，我回家看她时，她坐在藤椅里，连我都不认识了，只是漠然地笑着，笑得我泪流满面。一生爱着我们想着我们的母亲，却失去了记忆……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母亲和我们永别了。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1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，那三个“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”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又像三只流泪的蜡烛，燃起我们的祈望：劳累一生的母亲，安息吧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20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20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20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20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20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20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20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20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20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20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20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20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20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36782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21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908000" y="4653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童年的夏夜永远是美妙的。 暑热散去了，星星出齐了，月亮升起来了，柔和的月色立即洒满了我们的篱笆小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88880" y="1281240"/>
            <a:ext cx="79200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拓展作业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搜集民谣童谣、民间传说和谜语，准备学科活动课交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810108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91842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22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4724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亲不识字，却是我的启蒙老师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-109440" y="0"/>
            <a:ext cx="9253440" cy="6858000"/>
            <a:chOff x="-109440" y="0"/>
            <a:chExt cx="9253440" cy="685800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-109440" y="0"/>
              <a:ext cx="9253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 txBox="1"/>
            <p:nvPr/>
          </p:nvSpPr>
          <p:spPr>
            <a:xfrm>
              <a:off x="-109440" y="0"/>
              <a:ext cx="925344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76120" y="760320"/>
            <a:ext cx="8569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30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那一双勤劳的手为我打开了民间文学的宝库，给我送来月夜浓郁的诗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明月星光陪伴我的童年，用智慧才华启迪我的想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月光下唱的那些明快、流畅、含蓄、风趣的民歌民谣，使我展开了想象的翅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向诗歌的王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271440" y="0"/>
            <a:ext cx="9415440" cy="6905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45813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黄河留给家乡的故道不长五谷，却长歌谣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31920" y="5400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240" y="5400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-271440" y="0"/>
            <a:ext cx="9415440" cy="69055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342900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母亲天资聪颖，一听就会。再加上我的外婆是唱民歌的能手，我的父亲是唱莲花落的民间艺人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95280" y="422100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母亲用歌谣把故乡的爱，伴着月光给了我，让一颗混沌的童心豁然开朗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495792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混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17600" y="566748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豁然开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7775640" cy="3889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40644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-136440">
              <a:lnSpc>
                <a:spcPct val="106000"/>
              </a:lnSpc>
              <a:spcBef>
                <a:spcPts val="224"/>
              </a:spcBef>
              <a:buClr>
                <a:srgbClr val="99ff99"/>
              </a:buClr>
              <a:buSzPct val="80000"/>
              <a:buFont typeface="Arial"/>
              <a:buChar char=""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亮出来亮堂堂，打开楼门洗衣裳，洗得白白的，晒得脆脆的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-136440">
              <a:lnSpc>
                <a:spcPct val="106000"/>
              </a:lnSpc>
              <a:spcBef>
                <a:spcPts val="488"/>
              </a:spcBef>
              <a:buClr>
                <a:srgbClr val="99ff99"/>
              </a:buClr>
              <a:buSzPct val="80000"/>
              <a:buFont typeface="Arial"/>
              <a:buChar char="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儿弯弯像小船，带俺娘俩去云南。飞了千里万里路，凤凰落在梧桐树。凤凰凤凰一摆头，先盖瓦屋后盖楼。东楼西楼都盖上，再盖南楼遮太阳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91842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1540080"/>
            <a:ext cx="9144000" cy="75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用甜甜的嗓音深情地为我吟唱，轻轻的，像三月的和风，像小溪的流水。小院立即飘满了她那芳香的音韵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00720" y="3213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芳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1:27:35Z</dcterms:created>
  <dc:creator>chenseven</dc:creator>
  <dc:description/>
  <dc:language>en-US</dc:language>
  <cp:lastModifiedBy>admin</cp:lastModifiedBy>
  <dcterms:modified xsi:type="dcterms:W3CDTF">2011-02-21T03:10:03Z</dcterms:modified>
  <cp:revision>56</cp:revision>
  <dc:subject/>
  <dc:title>月光启蒙</dc:title>
</cp:coreProperties>
</file>