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869-55BD-4E0D-9239-52BA52A4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7CC-DB6F-417A-81B9-C5B056CD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76A-D543-4D3D-B3A5-0A980C5D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C2D-3E13-4FCA-A9DC-3774DE72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FEF-7C5E-4103-BBC9-EC4C9393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CF9-0031-4DFF-8C11-AEBDF0B2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7B5-C2E2-47A3-BA3E-61D0F579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67A-A989-40C3-AE38-F76947C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A99-206C-4C86-8FD0-A63AA987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954-3DF0-4DAA-A327-846D34D0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FFA-0D7B-4C4F-87AA-F06BEE2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37F-B3E3-4B9E-B559-34310DD4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A09-1F17-4B60-ADD8-F1596BE89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韩国卡通插画图片 13 - [wallcoo.com]_webjong_illustrations_1024631_top.jpg"/>
          <p:cNvPicPr/>
          <p:nvPr/>
        </p:nvPicPr>
        <p:blipFill>
          <a:blip r:embed="rId1"/>
          <a:srcRect l="38977" t="0" r="11405" b="60097"/>
          <a:stretch/>
        </p:blipFill>
        <p:spPr>
          <a:xfrm>
            <a:off x="4284720" y="3429000"/>
            <a:ext cx="4537080" cy="273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5590200">
            <a:off x="-69840" y="3605040"/>
            <a:ext cx="22255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ff"/>
                    </a:gs>
                  </a:gsLst>
                  <a:lin ang="21408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金子美玲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ccff"/>
                  </a:gs>
                </a:gsLst>
                <a:lin ang="21408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32000" y="1052640"/>
            <a:ext cx="5759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3. 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一 个 接 一 个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773360"/>
            <a:ext cx="6840360" cy="109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别的孩子也是这样吗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也像我一样，这么想吗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59280" y="260280"/>
            <a:ext cx="5759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一个 接 一个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7" name="" descr="韩国卡通插画图片 13 - [wallcoo.com]_webjong_illustrations_1024631_top.jpg"/>
          <p:cNvPicPr/>
          <p:nvPr/>
        </p:nvPicPr>
        <p:blipFill>
          <a:blip r:embed="rId2"/>
          <a:srcRect l="38977" t="0" r="11405" b="60097"/>
          <a:stretch/>
        </p:blipFill>
        <p:spPr>
          <a:xfrm>
            <a:off x="1908000" y="3860640"/>
            <a:ext cx="4537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69200"/>
            <a:ext cx="7859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66600"/>
            <a:ext cx="6267600" cy="67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月夜，正玩着踩影子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就听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大人叫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着：“快回家睡觉！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我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好想再多玩一会儿啊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回家睡着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倒可以做各种各样的梦呢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正做着好梦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又听见大人在叫：“该起床上学啦！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要是不上学就好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，去了学校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就能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见到小伙伴，</a:t>
            </a: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多么</a:t>
            </a: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开心哪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正和小伙伴们玩着跳房子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操场上却响起了上课铃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要是没有上课铃就好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，听老师讲故事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也是很快乐很有趣的呀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别的孩子也是这样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也像我一样，这么想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唉，我好想再多玩一会儿啊。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改为：</a:t>
            </a: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_______________________</a:t>
            </a:r>
            <a:r>
              <a:rPr b="0" lang="zh-CN" sz="33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唉，要是不上学就好了。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改为：</a:t>
            </a: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_______________________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唉，要是没有上课铃就好了。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改为：</a:t>
            </a: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_______________________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132000" y="40464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句 式 变 换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4920" y="1628280"/>
            <a:ext cx="7705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唉，我好想再多玩一会儿啊。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改为：</a:t>
            </a:r>
            <a:r>
              <a:rPr b="0" lang="zh-CN" sz="3300" spc="-1" strike="noStrike" u="sng">
                <a:solidFill>
                  <a:srgbClr val="ffff00"/>
                </a:solidFill>
                <a:uFillTx/>
                <a:latin typeface="Arial"/>
              </a:rPr>
              <a:t>唉，要是不用睡觉就好了。 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       唉，要是不上学就好了。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改为：</a:t>
            </a:r>
            <a:r>
              <a:rPr b="0" lang="zh-CN" sz="3300" spc="-1" strike="noStrike" u="sng">
                <a:solidFill>
                  <a:srgbClr val="ffff00"/>
                </a:solidFill>
                <a:uFillTx/>
                <a:latin typeface="Arial"/>
              </a:rPr>
              <a:t>唉，我好想多睡一会儿呀。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       唉，要是没有上课铃就好了。</a:t>
            </a:r>
            <a:br>
              <a:rPr sz="3300"/>
            </a:br>
            <a:r>
              <a:rPr b="0" lang="zh-CN" sz="3300" spc="-1" strike="noStrike">
                <a:solidFill>
                  <a:srgbClr val="ffff00"/>
                </a:solidFill>
                <a:latin typeface="Arial"/>
              </a:rPr>
              <a:t>改为：</a:t>
            </a:r>
            <a:r>
              <a:rPr b="0" lang="zh-CN" sz="3300" spc="-1" strike="noStrike" u="sng">
                <a:solidFill>
                  <a:srgbClr val="ffff00"/>
                </a:solidFill>
                <a:uFillTx/>
                <a:latin typeface="Arial"/>
              </a:rPr>
              <a:t>唉，我好想多玩一会儿啊。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132000" y="404640"/>
            <a:ext cx="489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句 式 变 换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66600"/>
            <a:ext cx="6267600" cy="67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月夜，正玩着踩影子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就听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大人叫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着：“快回家睡觉！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我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好想再多玩一会儿啊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回家睡着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倒可以做各种各样的梦呢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正做着好梦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又听见大人在叫：“该起床上学啦！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要是不上学就好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，去了学校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就能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见到小伙伴，</a:t>
            </a: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多么</a:t>
            </a: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开心哪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正和小伙伴们玩着跳房子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操场上却响起了上课铃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要是没有上课铃就好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，听老师讲故事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也是很快乐很有趣的呀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别的孩子也是这样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也像我一样，这么想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80000" y="836640"/>
            <a:ext cx="331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分“角 色”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</a:t>
            </a: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诵 读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79640" y="1557360"/>
          <a:ext cx="525636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25636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700360" y="3933720"/>
          <a:ext cx="3889440" cy="14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933720"/>
                    <a:ext cx="388944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韩国卡通插画图片 13 - [wallcoo.com]_webjong_illustrations_1024631_top.jpg"/>
          <p:cNvPicPr/>
          <p:nvPr/>
        </p:nvPicPr>
        <p:blipFill>
          <a:blip r:embed="rId1"/>
          <a:srcRect l="38977" t="0" r="11405" b="60097"/>
          <a:stretch/>
        </p:blipFill>
        <p:spPr>
          <a:xfrm>
            <a:off x="2340000" y="2781360"/>
            <a:ext cx="4537080" cy="273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475200">
            <a:off x="2987280" y="1052640"/>
            <a:ext cx="3438720" cy="156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1800" spc="-1" strike="noStrike">
              <a:ln w="9360">
                <a:solidFill>
                  <a:srgbClr val="ffcc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258920" y="5157720"/>
            <a:ext cx="6985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990000"/>
                </a:solidFill>
                <a:latin typeface="Arial"/>
              </a:rPr>
              <a:t>你每天都做过哪些事？这些事情当中，哪些是你喜欢做的？哪些是你不喜欢做的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69200"/>
            <a:ext cx="7859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66600"/>
            <a:ext cx="6267600" cy="679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月夜，正玩着踩影子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就听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大人叫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着：“快回家睡觉！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我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好想再多玩一会儿啊</a:t>
            </a: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回家睡着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倒可以做各种各样的梦呢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正做着好梦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又听见大人在叫：“该起床上学啦！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要是不上学就好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，去了学校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就能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见到小伙伴，</a:t>
            </a: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多么</a:t>
            </a: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开心哪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正和小伙伴们玩着跳房子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操场上却响起了上课铃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Arial"/>
              </a:rPr>
              <a:t>唉，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要是没有上课铃就好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不过，听老师讲故事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Arial"/>
              </a:rPr>
              <a:t>也是很快乐很有趣的呀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别的孩子也是这样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也像我一样，这么想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36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ji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ē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j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à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o  z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à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i   zu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ò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è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z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ǒ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ng 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à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ng</a:t>
            </a:r>
            <a:br>
              <a:rPr sz="6600"/>
            </a:br>
            <a:r>
              <a:rPr b="0" lang="zh-CN" sz="6600" spc="-1" strike="noStrike">
                <a:solidFill>
                  <a:srgbClr val="ffff00"/>
                </a:solidFill>
                <a:latin typeface="Arial"/>
              </a:rPr>
              <a:t>接 觉 再 做 各 种 样 </a:t>
            </a:r>
            <a:br>
              <a:rPr sz="6600"/>
            </a:b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è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ng hu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ǒ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à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n qu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è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q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ù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z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è</a:t>
            </a:r>
            <a:br>
              <a:rPr sz="6600"/>
            </a:br>
            <a:r>
              <a:rPr b="0" lang="zh-CN" sz="6600" spc="-1" strike="noStrike">
                <a:solidFill>
                  <a:srgbClr val="ffff00"/>
                </a:solidFill>
                <a:latin typeface="Arial"/>
              </a:rPr>
              <a:t>梦  伙 伴 却 趣 这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36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6600"/>
            </a:br>
            <a:r>
              <a:rPr b="0" lang="zh-CN" sz="6600" spc="-1" strike="noStrike">
                <a:solidFill>
                  <a:srgbClr val="ffff00"/>
                </a:solidFill>
                <a:latin typeface="Arial"/>
              </a:rPr>
              <a:t>接 觉 再 做 各 种 样 </a:t>
            </a:r>
            <a:br>
              <a:rPr sz="6600"/>
            </a:b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6600"/>
            </a:br>
            <a:r>
              <a:rPr b="0" lang="zh-CN" sz="6600" spc="-1" strike="noStrike">
                <a:solidFill>
                  <a:srgbClr val="ffff00"/>
                </a:solidFill>
                <a:latin typeface="Arial"/>
              </a:rPr>
              <a:t>梦  伙 伴 却 趣 这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1360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月夜  影子  回家  睡觉  各种各样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          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起床  学校  伙伴  开心  上课铃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            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操场  有趣  快乐  老师  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429000"/>
            <a:ext cx="6267240" cy="260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月夜，正玩着踩影子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就听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大人叫</a:t>
            </a: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着：“快回家睡觉！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ff"/>
                </a:solidFill>
                <a:latin typeface="Arial"/>
              </a:rPr>
              <a:t>唉，我</a:t>
            </a:r>
            <a:r>
              <a:rPr b="1" lang="en-US" sz="3300" spc="-1" strike="noStrike">
                <a:solidFill>
                  <a:srgbClr val="ff00ff"/>
                </a:solidFill>
                <a:latin typeface="Arial"/>
              </a:rPr>
              <a:t>好想再多玩一会儿啊</a:t>
            </a:r>
            <a:r>
              <a:rPr b="1" lang="zh-CN" sz="33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Arial"/>
              </a:rPr>
              <a:t>不过回家睡着了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Arial"/>
              </a:rPr>
              <a:t>倒可以做各种各样的梦呢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26920" y="260280"/>
          <a:ext cx="7591680" cy="29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60280"/>
                    <a:ext cx="759168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933720"/>
            <a:ext cx="6913800" cy="260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正做着好梦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又听见大人在叫：“该起床上学啦！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ff"/>
                </a:solidFill>
                <a:latin typeface="Arial"/>
              </a:rPr>
              <a:t>唉，要是不上学就好了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Arial"/>
              </a:rPr>
              <a:t>不过，去了学校</a:t>
            </a: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Arial"/>
              </a:rPr>
              <a:t>就能</a:t>
            </a: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见到小伙伴，</a:t>
            </a:r>
            <a:r>
              <a:rPr b="1" lang="zh-CN" sz="3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多么</a:t>
            </a:r>
            <a:r>
              <a:rPr b="1" lang="zh-CN" sz="3300" spc="-1" strike="noStrike">
                <a:solidFill>
                  <a:srgbClr val="ffff00"/>
                </a:solidFill>
                <a:latin typeface="Arial"/>
              </a:rPr>
              <a:t>开心哪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333360"/>
          <a:ext cx="8229600" cy="30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33360"/>
                    <a:ext cx="822960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119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076640"/>
            <a:ext cx="6267240" cy="260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正和小伙伴们玩着跳房子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Arial"/>
              </a:rPr>
              <a:t>操场上却响起了上课铃声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ff"/>
                </a:solidFill>
                <a:latin typeface="Arial"/>
              </a:rPr>
              <a:t>唉，</a:t>
            </a:r>
            <a:r>
              <a:rPr b="1" lang="en-US" sz="3300" spc="-1" strike="noStrike">
                <a:solidFill>
                  <a:srgbClr val="ff00ff"/>
                </a:solidFill>
                <a:latin typeface="Arial"/>
              </a:rPr>
              <a:t>要是没有上课铃就好了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Arial"/>
              </a:rPr>
              <a:t>不过，听老师讲故事</a:t>
            </a: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Arial"/>
              </a:rPr>
              <a:t>也是很快乐很有趣的呀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467480" y="4292640"/>
            <a:ext cx="1676520" cy="234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 rot="20352000">
            <a:off x="7631280" y="5444640"/>
            <a:ext cx="151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69696"/>
                  </a:solidFill>
                  <a:miter/>
                </a:ln>
                <a:solidFill>
                  <a:srgbClr val="c0c0c0"/>
                </a:solidFill>
                <a:latin typeface="宋体"/>
              </a:rPr>
              <a:t>新诗</a:t>
            </a:r>
            <a:endParaRPr b="0" lang="en-US" sz="1800" spc="-1" strike="noStrike">
              <a:ln w="9360">
                <a:solidFill>
                  <a:srgbClr val="969696"/>
                </a:solidFill>
                <a:miter/>
              </a:ln>
              <a:solidFill>
                <a:srgbClr val="c0c0c0"/>
              </a:solidFill>
              <a:latin typeface="宋体"/>
              <a:ea typeface="宋体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333360"/>
          <a:ext cx="822960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3360"/>
                    <a:ext cx="82296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13:17:18Z</dcterms:created>
  <dc:creator>www.suboun.com</dc:creator>
  <dc:description/>
  <dc:language>en-US</dc:language>
  <cp:lastModifiedBy>www.suboun.com</cp:lastModifiedBy>
  <dcterms:modified xsi:type="dcterms:W3CDTF">2016-12-08T14:35:23Z</dcterms:modified>
  <cp:revision>9</cp:revision>
  <dc:subject/>
  <dc:title>幻灯片 1</dc:title>
</cp:coreProperties>
</file>