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0AC-A039-407F-9EA2-8F37B313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CD7-81F0-4BAF-B6B1-4D0B414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125-09EF-4334-AE7B-72B22474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DFD-7C95-42AB-9F7A-60D43419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35C-0CC6-44DB-95CA-DB7FE2BA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4EA3-BA24-43EA-B2F4-0AB64935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A015-214D-4509-B3B3-5AB8F7D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842-AF10-4237-A1DF-395A6D2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94E3-338F-4E6A-BFDC-CFBE3F3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77F-6F56-418C-BFD6-35E56987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CF5-0A5E-4397-AE68-A912860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BBC-7948-4052-9A25-C0F3894C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0420-1440-471A-BD22-6B5AC1A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5DB1-5877-4786-88BA-4BFCD29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032-2467-4513-B54E-D445A3E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003F-C8C1-4584-964A-7A9EBE82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6B8-4F64-4D4E-B2B8-C84575C9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4EE-296D-4946-99C6-31C88EE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446-1EA6-4DFB-B10D-372A311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422-8A79-45EE-B3B0-2652F363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C4D-49DB-4430-AF73-C8B70C9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631-4700-4BC5-A665-8276F84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6A3-D607-4B13-B13A-4FEAD7B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71B-972D-404A-93CF-A100E83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C4A-A9DC-4EA9-9B59-CFEA9ADB118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90E-DF4A-44F2-879E-B361E40380C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baike.baidu.com/view/35011.htm" TargetMode="External"/><Relationship Id="rId4" Type="http://schemas.openxmlformats.org/officeDocument/2006/relationships/hyperlink" Target="http://baike.baidu.com/view/193749.htm" TargetMode="External"/><Relationship Id="rId5" Type="http://schemas.openxmlformats.org/officeDocument/2006/relationships/hyperlink" Target="http://baike.baidu.com/view/853154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baike.baidu.com/view/100592.ht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baike.baidu.com/view/777862.ht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977"/>
                </a:solidFill>
                <a:latin typeface="Arial"/>
              </a:rPr>
              <a:t>王绩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约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589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644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字无功，号东皋子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绛州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龙门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今山西河津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人。隋末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举孝廉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，除秘书正字。不乐在朝，辞疾，复授扬州六合丞。时天下大乱，弃官还故乡。唐武德中，诏以前朝官待诏门下省。贞观初，以疾罢归河渚间，躬耕东皋，自号“东皋子”。嗜酒，能饮五斗，自作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五斗先生传</a:t>
            </a:r>
            <a:r>
              <a:rPr b="0" lang="zh-CN" sz="2800" spc="-1" strike="noStrike">
                <a:solidFill>
                  <a:srgbClr val="030977"/>
                </a:solidFill>
                <a:latin typeface="Arial"/>
              </a:rPr>
              <a:t>》 ，撰 《酒经》 、《酒谱》 。其诗近而不浅，质而不俗，真率疏放，有旷怀高致，直追魏晋高风。律体滥觞于六朝，而成型于隋唐之际，无功实为先声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332000" y="0"/>
            <a:ext cx="1087272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字词了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5416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东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徙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犊 ：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3333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薄暮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落晖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采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87700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49228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gāo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诗人隐居的地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(xǐyǐ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徘徊，来回的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4797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dú)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小牛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这里指牛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傍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292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6920" y="35733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0977"/>
                </a:solidFill>
                <a:latin typeface="Arial"/>
              </a:rPr>
              <a:t>薇，是一种植物</a:t>
            </a:r>
            <a:r>
              <a:rPr b="0" lang="zh-CN" sz="1800" spc="-1" strike="noStrike">
                <a:solidFill>
                  <a:srgbClr val="0309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春望 </a:t>
            </a: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            王绩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东皋薄暮望，徙倚欲何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树树皆秋色，山山唯落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牧人驱犊返，猎马带禽归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相顾无相识，长歌怀采薇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0520" y="2205000"/>
            <a:ext cx="11552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首  颔   颈  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傍晚时分站在诗人隐居的地方纵目远眺，徘徊不定不知归依何方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层层树林都染上秋天的色彩，重重山岭披覆着落日的余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牧人驱赶着牛群返回，猎人骑着马带着猎物回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　　我看到这些人又并不认识，咏一曲长歌来怀念古代采薇而食的隐士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396720" y="-157320"/>
            <a:ext cx="9540720" cy="733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5188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文中的思想感情是怎样的一种基调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9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本诗描绘了萧瑟恬静的秋天黄昏景色，表现了诗人当时孤独、抑郁的心情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   “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徙倚”是徘徊的意思。“欲何依”，化用曹操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新宋体"/>
                <a:ea typeface="新宋体"/>
                <a:hlinkClick r:id="rId3"/>
              </a:rPr>
              <a:t>短歌行</a:t>
            </a:r>
            <a:r>
              <a:rPr b="1" lang="zh-CN" sz="2800" spc="-1" strike="noStrike">
                <a:solidFill>
                  <a:srgbClr val="007a77"/>
                </a:solidFill>
                <a:latin typeface="新宋体"/>
                <a:ea typeface="新宋体"/>
              </a:rPr>
              <a:t>》中“月明星稀，乌鹊南飞，绕树三匝，何枝可依”的意思，表现了百无聊赖的彷徨心情。下面四句写薄暮中所见景物：“树树皆秋色，山山唯落晖。牧人驱犊返，猎马带禽归。”举目四望，到处是一片秋色，在夕阳的余晖中越发显得萧瑟。在这静谧的背景之上，牧人与猎马的特写，带着牧歌式的田园气氛，使整个画面活动了起来。这四句诗宛如一幅山家秋晚图，光与色，远景与近景，静态与动态，搭配得恰到好处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知识拓展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183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典故 的含义 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原指旧制、旧例，也是汉代掌管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礼乐制度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等史实者的</a:t>
            </a:r>
            <a:r>
              <a:rPr b="1" lang="zh-CN" sz="3200" spc="-1" strike="noStrike" u="sng">
                <a:solidFill>
                  <a:srgbClr val="051875"/>
                </a:solidFill>
                <a:uFillTx/>
                <a:latin typeface="Arial"/>
              </a:rPr>
              <a:t>官名</a:t>
            </a:r>
            <a:r>
              <a:rPr b="1" lang="zh-CN" sz="3200" spc="-1" strike="noStrike">
                <a:solidFill>
                  <a:srgbClr val="051875"/>
                </a:solidFill>
                <a:latin typeface="Arial"/>
              </a:rPr>
              <a:t>。典故这个名称，由来已久。最早可追溯到汉朝，《后汉书．东平宪王苍传》：“亲屈至尊，降礼下臣，每赐宴见，辄兴席改容，中宫亲拜，事过典故。”典故是诗文中经常引用的、有来历出处又为人们所公认的故事或词语。它的历史可以追溯到文字产生前，它源于社会生活实践，早于文字就在民间口头流传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4797000"/>
            <a:ext cx="85410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星垂平野阔，月涌大江流。</a:t>
            </a:r>
            <a:br>
              <a:rPr sz="40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山白雪三城戍，南浦清江万里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对仗的意思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诗词中要求严格的对偶，称为对仗。对仗主要包括词语的互为对仗和句式的互为对仗两个方面。 词语对仗的要求是：词义必须同属一类，如以山川对山川，以草木对草木等；词性必须基本相同，如名词对名词，动词对动词等；平仄必须相对，即以平对仄或以仄对平；结构必须对称，即以单纯词对单纯词，以合成词对合成词；另外，要避免同字相对。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延伸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 、将此诗改为下面所展示的词，是好还是不好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东皋望，徙倚欲何依。树皆秋色，山唯落晖。牧人返，猎马归。相顾无识，长怀采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0" y="1844640"/>
            <a:ext cx="41940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二、与杜甫的《春望》相比有什么异同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781360"/>
            <a:ext cx="4465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国破山河在，城春草木深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感时花溅泪，恨别鸟惊心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烽火连三月，家书抵万金。</a:t>
            </a:r>
            <a:br>
              <a:rPr sz="2800"/>
            </a:b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白头搔更短，浑欲不胜簪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宋体-PUA"/>
              </a:rPr>
              <a:t>。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0:24:28Z</dcterms:created>
  <dc:creator>USER</dc:creator>
  <dc:description/>
  <dc:language>en-US</dc:language>
  <cp:lastModifiedBy>USER</cp:lastModifiedBy>
  <dcterms:modified xsi:type="dcterms:W3CDTF">2011-09-25T05:27:32Z</dcterms:modified>
  <cp:revision>8</cp:revision>
  <dc:subject/>
  <dc:title>I   </dc:title>
</cp:coreProperties>
</file>