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210-B7E3-4CDC-9CDC-2098D43A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315-3352-4462-AA0C-872C0DE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485-3563-4029-80FB-D86F88E5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1EC-F836-4506-85AA-90DF04FA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6826-E36A-4A9A-9A66-9F014F84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3CB-C18A-4070-8999-C171BA4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88C-8F12-4785-BB9B-8B0E68A8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E52C-D6BE-46F6-B16B-64A7586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46B8-E0A2-407B-A4CE-CA021283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4602-FA81-473B-9569-DD4ED79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7E27-05C9-4625-BEE4-DC7C889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86D-4021-4F79-A374-B343952D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4455-9214-42FA-B421-8057C4F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F8C-CFC6-49F3-A690-6F19859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E6D2-3D90-4BF2-91E1-6E0948C1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313D-E780-4762-B594-B219C46D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6896-7F3C-4A97-9BDF-47E6ADBF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3FD-A20C-460D-B8A9-49AEE93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325-DE0A-4AE0-B2A5-F72E8F0E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B23-9AC0-4CDE-913C-7E9E9D1C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179-F974-4547-8F61-DE5664A4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9AE-02E9-4C67-AAEC-EE6FA68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607-2461-42F9-B224-E5D8D794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133-D3FC-4EDA-ADEC-7D94AF2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EE52-E283-474A-9C04-A235C28EB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3DB-B83A-431B-85DD-FFDAAB0DE7F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35011.htm" TargetMode="External"/><Relationship Id="rId3" Type="http://schemas.openxmlformats.org/officeDocument/2006/relationships/hyperlink" Target="http://baike.baidu.com/view/193749.htm" TargetMode="External"/><Relationship Id="rId4" Type="http://schemas.openxmlformats.org/officeDocument/2006/relationships/hyperlink" Target="http://baike.baidu.com/view/853154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aike.baidu.com/view/777862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4099"/>
          <p:cNvSpPr/>
          <p:nvPr/>
        </p:nvSpPr>
        <p:spPr>
          <a:xfrm>
            <a:off x="2187720" y="229536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a77"/>
                </a:solidFill>
                <a:latin typeface="Arial"/>
                <a:ea typeface="华文行楷"/>
              </a:rPr>
              <a:t>野望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文本框 4100"/>
          <p:cNvSpPr/>
          <p:nvPr/>
        </p:nvSpPr>
        <p:spPr>
          <a:xfrm>
            <a:off x="4400640" y="4390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--------</a:t>
            </a:r>
            <a:r>
              <a:rPr b="0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王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052" descr="t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作者简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30977"/>
                </a:solidFill>
                <a:latin typeface="Arial"/>
              </a:rPr>
              <a:t>王绩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约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589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～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644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字无功，号东皋子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绛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龙门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今山西河津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人。隋末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举孝廉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除秘书正字。不乐在朝，辞疾，复授扬州六合丞。时天下大乱，弃官还故乡。唐武德中，诏以前朝官待诏门下省。贞观初，以疾罢归河渚间，躬耕东皋，自号“东皋子”。嗜酒，能饮五斗，自作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五斗先生传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》 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撰 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酒经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》 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酒谱</a:t>
            </a:r>
            <a:r>
              <a:rPr b="0" lang="en-US" sz="2800" spc="-1" strike="noStrike">
                <a:solidFill>
                  <a:srgbClr val="030977"/>
                </a:solidFill>
                <a:latin typeface="Arial"/>
              </a:rPr>
              <a:t>》 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。其诗近而不浅，质而不俗，真率疏放，有旷怀高致，直追魏晋高风。律体滥觞于六朝，而成型于隋唐之际，无功实为先声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104" descr="k"/>
          <p:cNvPicPr/>
          <p:nvPr/>
        </p:nvPicPr>
        <p:blipFill>
          <a:blip r:embed="rId1"/>
          <a:stretch/>
        </p:blipFill>
        <p:spPr>
          <a:xfrm>
            <a:off x="-1332000" y="0"/>
            <a:ext cx="10872720" cy="687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字词了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5416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东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徙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犊 ：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3333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薄暮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落晖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采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文本框 4100"/>
          <p:cNvSpPr/>
          <p:nvPr/>
        </p:nvSpPr>
        <p:spPr>
          <a:xfrm>
            <a:off x="3780000" y="587700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矩形 4101"/>
          <p:cNvSpPr/>
          <p:nvPr/>
        </p:nvSpPr>
        <p:spPr>
          <a:xfrm>
            <a:off x="539640" y="249228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āo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诗人隐居的地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文本框 4102"/>
          <p:cNvSpPr/>
          <p:nvPr/>
        </p:nvSpPr>
        <p:spPr>
          <a:xfrm>
            <a:off x="611280" y="364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xǐyǐ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徘徊，来回的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文本框 4103"/>
          <p:cNvSpPr/>
          <p:nvPr/>
        </p:nvSpPr>
        <p:spPr>
          <a:xfrm>
            <a:off x="684360" y="4797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ú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小牛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这里指牛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文本框 4105"/>
          <p:cNvSpPr/>
          <p:nvPr/>
        </p:nvSpPr>
        <p:spPr>
          <a:xfrm>
            <a:off x="615636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傍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文本框 4106"/>
          <p:cNvSpPr/>
          <p:nvPr/>
        </p:nvSpPr>
        <p:spPr>
          <a:xfrm>
            <a:off x="6227640" y="29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文本框 4107"/>
          <p:cNvSpPr/>
          <p:nvPr/>
        </p:nvSpPr>
        <p:spPr>
          <a:xfrm>
            <a:off x="6046920" y="3573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0977"/>
                </a:solidFill>
                <a:latin typeface="Arial"/>
              </a:rPr>
              <a:t>薇，是一种植物</a:t>
            </a:r>
            <a:r>
              <a:rPr b="0" lang="zh-CN" sz="1800" spc="-1" strike="noStrike">
                <a:solidFill>
                  <a:srgbClr val="0309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6149" descr="y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240" y="739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野望 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cc00cc"/>
                </a:solidFill>
                <a:latin typeface="Arial"/>
              </a:rPr>
              <a:t>王绩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214488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东皋薄暮望，徙倚欲何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树树皆秋色，山山唯落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牧人驱犊返，猎马带禽归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相顾无相识，长歌怀采薇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文本框 6148"/>
          <p:cNvSpPr/>
          <p:nvPr/>
        </p:nvSpPr>
        <p:spPr>
          <a:xfrm>
            <a:off x="6680520" y="2205000"/>
            <a:ext cx="11552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首  颔   颈  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171" descr="2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3360" y="175212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傍晚时分站在诗人隐居的地方纵目远眺，徘徊不定不知归依何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层层树林都染上秋天的色彩，重重山岭披覆着落日的余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牧人驱赶着牛群返回，猎人骑着马带着猎物回去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我看到这些人又并不认识，咏一曲长歌来怀念古代采薇而食的隐士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Arial"/>
                <a:ea typeface="华文行楷"/>
              </a:rPr>
              <a:t>赏析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全诗于萧瑟怡静的景色描写中流露出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孤独抑郁的心情，抒发了惆怅、孤寂的情怀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下面四句写薄暮中所见景物：“树树皆秋色，山山唯落晖。牧人驱犊返，猎马带禽归。”举目四望，到处是一片秋色，在夕阳的余晖中越发显得萧瑟。在这静谧的背景之上，牧人与猎马的特写，带着牧歌式的田园气氛，使整个画面活动了起来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四句诗宛如一幅山家秋晚图，光与色，远景与近景，静态与动态，搭配得恰到好处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然而，王绩还不能像陶渊明那样从田园中找到慰藉，所以最后说：“相顾无相识，长歌怀采薇。”说自己在现实中孤独无依，只好追怀古代的隐士，和伯夷、叔齐那样的人交朋友了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196" descr="5"/>
          <p:cNvPicPr/>
          <p:nvPr/>
        </p:nvPicPr>
        <p:blipFill>
          <a:blip r:embed="rId1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外知识拓展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典故 的含义 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原指旧制、旧例，也是汉代掌管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礼乐制度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等史实者的</a:t>
            </a:r>
            <a:r>
              <a:rPr b="1" lang="zh-CN" sz="3200" spc="-1" strike="noStrike" u="sng">
                <a:solidFill>
                  <a:srgbClr val="051875"/>
                </a:solidFill>
                <a:uFillTx/>
                <a:latin typeface="Arial"/>
              </a:rPr>
              <a:t>官名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。典故这个名称，由来已久。最早可追溯到汉朝，</a:t>
            </a:r>
            <a:r>
              <a:rPr b="1" lang="en-US" sz="3200" spc="-1" strike="noStrike">
                <a:solidFill>
                  <a:srgbClr val="051875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后汉书．东平宪王苍传</a:t>
            </a:r>
            <a:r>
              <a:rPr b="1" lang="en-US" sz="3200" spc="-1" strike="noStrike">
                <a:solidFill>
                  <a:srgbClr val="051875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：“亲屈至尊，降礼下臣，每赐宴见，辄兴席改容，中宫亲拜，事过典故。”典故是诗文中经常引用的、有来历出处又为人们所公认的故事或词语。它的历史可以追溯到文字产生前，它源于社会生活实践，早于文字就在民间口头流传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9220" descr="20p"/>
          <p:cNvPicPr/>
          <p:nvPr/>
        </p:nvPicPr>
        <p:blipFill>
          <a:blip r:embed="rId1"/>
          <a:stretch/>
        </p:blipFill>
        <p:spPr>
          <a:xfrm>
            <a:off x="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4797000"/>
            <a:ext cx="8541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星垂平野阔，月涌大江流。</a:t>
            </a: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山白雪三城戍，南浦清江万里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对仗的意思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诗词中要求严格的对偶，称为对仗。对仗主要包括词语的互为对仗和句式的互为对仗两个方面。 词语对仗的要求是：词义必须同属一类，如以山川对山川，以草木对草木等；词性必须基本相同，如名词对名词，动词对动词等；平仄必须相对，即以平对仄或以仄对平；结构必须对称，即以单纯词对单纯词，以合成词对合成词；另外，要避免同字相对。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0244" descr="q"/>
          <p:cNvPicPr/>
          <p:nvPr/>
        </p:nvPicPr>
        <p:blipFill>
          <a:blip r:embed="rId1"/>
          <a:stretch/>
        </p:blipFill>
        <p:spPr>
          <a:xfrm>
            <a:off x="-39672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后延伸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 、将此诗改为下面所展示的词，是好还是不好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东皋望，徙倚欲何依。树皆秋色，山唯落晖。牧人返，猎马归。相顾无识，长怀采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0000" y="1844640"/>
            <a:ext cx="41940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二、与杜甫的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春望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相比有什么异同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矩形 10246"/>
          <p:cNvSpPr/>
          <p:nvPr/>
        </p:nvSpPr>
        <p:spPr>
          <a:xfrm>
            <a:off x="5292720" y="2781360"/>
            <a:ext cx="4465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国破山河在，城春草木深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感时花溅泪，恨别鸟惊心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烽火连三月，家书抵万金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白头搔更短，浑欲不胜簪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。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0:24:28Z</dcterms:created>
  <dc:creator>USER</dc:creator>
  <dc:description/>
  <dc:language>en-US</dc:language>
  <cp:lastModifiedBy>dongyanyi</cp:lastModifiedBy>
  <dcterms:modified xsi:type="dcterms:W3CDTF">2016-12-18T12:08:34Z</dcterms:modified>
  <cp:revision>10</cp:revision>
  <dc:subject/>
  <dc:title>I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