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F215-1A3D-486F-AA86-656D47626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434D-2EAE-47BC-863A-08DF6E00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7163-94D3-455D-8ACE-44D7B8295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AF27-BFB6-4693-942E-8087F3C33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C36E-7DB7-4B32-A5A6-FBCB1F36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6118-1E54-4969-BF32-84EEE380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14F2-74CB-46D2-B46F-CD7B65A7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870D-73EC-4E00-B3AF-8C68D2BA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39BD-6A61-48F7-B080-A0ECF4D1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FD0D-0E5F-443C-960B-177181F4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EEDB-4510-4492-BD0A-AA32C73B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3E85-C2A6-4B41-8104-3F2E406B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ABCF-B5AB-4076-84D9-E3BFCDD3F9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baike.baidu.com/view/777862.htm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4099"/>
          <p:cNvSpPr/>
          <p:nvPr/>
        </p:nvSpPr>
        <p:spPr>
          <a:xfrm>
            <a:off x="1143000" y="6094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华文行楷"/>
              </a:rPr>
              <a:t>野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4100"/>
          <p:cNvSpPr/>
          <p:nvPr/>
        </p:nvSpPr>
        <p:spPr>
          <a:xfrm>
            <a:off x="3733920" y="22096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--------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王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8196" descr="5"/>
          <p:cNvPicPr/>
          <p:nvPr/>
        </p:nvPicPr>
        <p:blipFill>
          <a:blip r:embed="rId1"/>
          <a:stretch/>
        </p:blipFill>
        <p:spPr>
          <a:xfrm>
            <a:off x="0" y="0"/>
            <a:ext cx="100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外知识拓展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483920"/>
            <a:ext cx="85183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典故 的含义 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18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51875"/>
                </a:solidFill>
                <a:latin typeface="Arial"/>
              </a:rPr>
              <a:t>原指旧制、旧例，也是汉代掌管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礼乐制度</a:t>
            </a:r>
            <a:r>
              <a:rPr b="1" lang="zh-CN" sz="3200" spc="-1" strike="noStrike">
                <a:solidFill>
                  <a:srgbClr val="051875"/>
                </a:solidFill>
                <a:latin typeface="Arial"/>
              </a:rPr>
              <a:t>等史实者的</a:t>
            </a:r>
            <a:r>
              <a:rPr b="1" lang="zh-CN" sz="3200" spc="-1" strike="noStrike" u="sng">
                <a:solidFill>
                  <a:srgbClr val="051875"/>
                </a:solidFill>
                <a:uFillTx/>
                <a:latin typeface="Arial"/>
              </a:rPr>
              <a:t>官名</a:t>
            </a:r>
            <a:r>
              <a:rPr b="1" lang="zh-CN" sz="3200" spc="-1" strike="noStrike">
                <a:solidFill>
                  <a:srgbClr val="051875"/>
                </a:solidFill>
                <a:latin typeface="Arial"/>
              </a:rPr>
              <a:t>。典故这个名称，由来已久。最早可追溯到汉朝，</a:t>
            </a:r>
            <a:r>
              <a:rPr b="1" lang="en-US" sz="3200" spc="-1" strike="noStrike">
                <a:solidFill>
                  <a:srgbClr val="051875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51875"/>
                </a:solidFill>
                <a:latin typeface="Arial"/>
              </a:rPr>
              <a:t>后汉书．东平宪王苍传</a:t>
            </a:r>
            <a:r>
              <a:rPr b="1" lang="en-US" sz="3200" spc="-1" strike="noStrike">
                <a:solidFill>
                  <a:srgbClr val="051875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51875"/>
                </a:solidFill>
                <a:latin typeface="Arial"/>
              </a:rPr>
              <a:t>：“亲屈至尊，降礼下臣，每赐宴见，辄兴席改容，中宫亲拜，事过典故。”典故是诗文中经常引用的、有来历出处又为人们所公认的故事或词语。它的历史可以追溯到文字产生前，它源于社会生活实践，早于文字就在民间口头流传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9220" descr="20p"/>
          <p:cNvPicPr/>
          <p:nvPr/>
        </p:nvPicPr>
        <p:blipFill>
          <a:blip r:embed="rId1"/>
          <a:stretch/>
        </p:blipFill>
        <p:spPr>
          <a:xfrm>
            <a:off x="0" y="0"/>
            <a:ext cx="11052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920" y="4797000"/>
            <a:ext cx="8541000" cy="11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星垂平野阔，月涌大江流。</a:t>
            </a:r>
            <a:br>
              <a:rPr sz="40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西山白雪三城戍，南浦清江万里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920" y="476280"/>
            <a:ext cx="8541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对仗的意思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诗词中要求严格的对偶，称为对仗。对仗主要包括词语的互为对仗和句式的互为对仗两个方面。 词语对仗的要求是：词义必须同属一类，如以山川对山川，以草木对草木等；词性必须基本相同，如名词对名词，动词对动词等；平仄必须相对，即以平对仄或以仄对平；结构必须对称，即以单纯词对单纯词，以合成词对合成词；另外，要避免同字相对。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华文行楷"/>
              </a:rPr>
              <a:t>王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王绩【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jì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】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85—64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唐代医生、著名诗人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字无功，号东皋子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绛州（今属山西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河津市）人。其兄王通亦是当时名医，绩尝任秘书正字，后借故辞归，专心以医药济人。出身官宦世家，是隋末大儒王通之弟。王绩一生郁郁不得志，在隋唐之际，曾三仕三隐。心念仕途，却又自知难以显达，故归隐山林田园，以琴酒诗歌自娱。曾在隋代任秘书省正字，初唐时，以原官待召门下省，后弃官隐居于故乡东皋村。其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醉乡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五斗先生传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酒赋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独酌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醉后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诗文，均被太史令李淳风誉为“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酒家之南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”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王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野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品取境开阔，风格清新，属对工整，格律谐和，是唐初最早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五言律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之一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文本框 7171"/>
          <p:cNvSpPr/>
          <p:nvPr/>
        </p:nvSpPr>
        <p:spPr>
          <a:xfrm>
            <a:off x="914400" y="457200"/>
            <a:ext cx="556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7173" descr="wj-2010-6-28-15-19-10-6043520"/>
          <p:cNvPicPr/>
          <p:nvPr/>
        </p:nvPicPr>
        <p:blipFill>
          <a:blip r:embed="rId1"/>
          <a:stretch/>
        </p:blipFill>
        <p:spPr>
          <a:xfrm>
            <a:off x="838080" y="380880"/>
            <a:ext cx="74678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8195" descr="01300000238605122641048181165_s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10243"/>
          <p:cNvSpPr/>
          <p:nvPr/>
        </p:nvSpPr>
        <p:spPr>
          <a:xfrm>
            <a:off x="609480" y="152388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野 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【唐】 王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东皋薄暮望，徙倚欲何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树树皆秋色，山山唯落晖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牧人驱犊返，猎马带禽归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相顾无相识，长歌怀采薇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9219"/>
          <p:cNvSpPr/>
          <p:nvPr/>
        </p:nvSpPr>
        <p:spPr>
          <a:xfrm>
            <a:off x="228600" y="228600"/>
            <a:ext cx="8229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注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东皋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āo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：诗人隐居的地方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薄暮：傍晚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徙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xǐyǐ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徘徊，来回的走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依：归依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落晖：落日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犊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ú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小牛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里指牛群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    禽：鸟兽，这里指猎物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采薇：薇，是一种植物。相传周武王灭商后 ，伯夷、叔齐不愿做周的臣子，在首阳山上采薇而食，最后饿死。古时“采薇”代指隐居生活。薇是一种植物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9221"/>
          <p:cNvSpPr/>
          <p:nvPr/>
        </p:nvSpPr>
        <p:spPr>
          <a:xfrm>
            <a:off x="457200" y="4114800"/>
            <a:ext cx="8381880" cy="1618560"/>
          </a:xfrm>
          <a:prstGeom prst="rect">
            <a:avLst/>
          </a:prstGeom>
          <a:solidFill>
            <a:srgbClr val="ff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今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傍晚时分站在诗人隐居的地方纵目远眺，徘徊不定不知归依何方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层层树林都染上秋天的色彩，重重山岭披覆着落日的余光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牧人驱赶着牛群返回，猎人骑着马带着猎物回去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我看到这些人又并不认识，咏一曲长歌来怀念古代采薇而食的隐士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华文行楷"/>
              </a:rPr>
              <a:t>赏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1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全诗于萧瑟怡静的景色描写中流露出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孤独抑郁的心情，抒发了惆怅、孤寂的情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下面四句写薄暮中所见景物：“树树皆秋色，山山唯落晖。牧人驱犊返，猎马带禽归。”举目四望，到处是一片秋色，在夕阳的余晖中越发显得萧瑟。在这静谧的背景之上，牧人与猎马的特写，带着牧歌式的田园气氛，使整个画面活动了起来。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这四句诗宛如一幅山家秋晚图，光与色，远景与近景，静态与动态，搭配得恰到好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然而，王绩还不能像陶渊明那样从田园中找到慰藉，所以最后说：“相顾无相识，长歌怀采薇。”说自己在现实中孤独无依，只好追怀古代的隐士，和伯夷、叔齐那样的人交朋友了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题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起句写傍晚在东皋伫望，次句写望后产生的寂寞惘然心情。三四句写晚景，用“树树”、“山山”、“皆”、“唯”极写“秋色”、“落晖”的浓重。五六句通过人事活动，进一步写晚景。最后两句说面对牧者猎者虽相见而不相识。自己甘愿过“采薇而食”的隐居生活，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表现出作者不问世事的闲适思想。这首诗写景抒情朴素自然，摆脱了初唐轻靡华艳的诗风，在当时的诗坛上别具一格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首诗的体裁是五言律诗。自从南朝齐永明年间，沈约等人将声律的知识运用到诗歌创作当中，律诗这种新的体裁就已酝酿着了。到初唐的沈佺期、宋之问手里律诗遂定型化，成为一种重要的诗歌体裁。而早于沈、宋六十余年的王绩，已经能写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野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样成熟的律诗，说明他是一个勇于尝试新形式的人。这首诗首尾两联抒情言事，中间两联写景，经过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─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─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情这一反复，诗的意思更深化了一层。这正符合律诗的一种基本章法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袁行霈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12:42:05Z</dcterms:created>
  <dc:creator>Administrator</dc:creator>
  <dc:description/>
  <dc:language>en-US</dc:language>
  <cp:lastModifiedBy>Administrator</cp:lastModifiedBy>
  <dcterms:modified xsi:type="dcterms:W3CDTF">2017-09-01T09:23:2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7</vt:lpwstr>
  </property>
  <property fmtid="{D5CDD505-2E9C-101B-9397-08002B2CF9AE}" pid="3" name="Version">
    <vt:r8>1</vt:r8>
  </property>
</Properties>
</file>