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gif" ContentType="image/gif"/>
  <Override PartName="/ppt/media/image13.gif" ContentType="image/gif"/>
  <Override PartName="/ppt/media/image15.gif" ContentType="image/gif"/>
  <Override PartName="/ppt/media/image14.gif" ContentType="image/gif"/>
  <Override PartName="/ppt/media/image2.jpeg" ContentType="image/jpeg"/>
  <Override PartName="/ppt/media/image3.gif" ContentType="image/gif"/>
  <Override PartName="/ppt/media/image1.gif" ContentType="image/gif"/>
  <Override PartName="/ppt/media/image4.png" ContentType="image/png"/>
  <Override PartName="/ppt/media/image5.gif" ContentType="image/gif"/>
  <Override PartName="/ppt/media/image10.gif" ContentType="image/gif"/>
  <Override PartName="/ppt/media/image6.gif" ContentType="image/gif"/>
  <Override PartName="/ppt/media/image11.gif" ContentType="image/gif"/>
  <Override PartName="/ppt/media/image7.gif" ContentType="image/gif"/>
  <Override PartName="/ppt/media/image12.gif" ContentType="image/gif"/>
  <Override PartName="/ppt/media/image8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FCF3-4193-4F01-BF94-A99DFD8CA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1300-B79D-44A4-8C45-9E97184AC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E753-89D4-4047-9B26-023CF26BD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4DC8-3C94-4E42-916C-43FF20797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F530-DFAF-45AE-9835-E010BBEDA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0CA8-F6E4-4983-8B45-3CD659A49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E768-1A0B-4F0D-807C-40CE68A40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C0E3-4B71-46FE-80A7-EA304DFF6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E045-4945-475F-B7AB-74CE7A496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E3E6-4F90-4096-BAFC-8AE1D7D5A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2FE4-AB9D-4CE0-9F24-4495D6E4A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0938-1547-4774-A32F-C09D21A15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988E1-F126-4F99-8FC5-C619136CDF0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导入新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秋天傍晚时分，诗人遥望山野，看到一派秋意颇浓的山野景色，看到放牧和打猎的人各自随愿而归，不禁怀念起古代采薇而食的隐士。全诗于萧瑟恬静的景色描写中流露出孤独抑郁的心情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这首诗写景抒情朴素自然，摆脱了初唐轻靡华艳的诗风，在当时的诗坛上别具一格。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图片 3075" descr="t0137350a222bd2bf0e"/>
          <p:cNvPicPr/>
          <p:nvPr/>
        </p:nvPicPr>
        <p:blipFill>
          <a:blip r:embed="rId1"/>
          <a:stretch/>
        </p:blipFill>
        <p:spPr>
          <a:xfrm>
            <a:off x="3276720" y="5373720"/>
            <a:ext cx="5867280" cy="148428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课堂练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 首联“望”字意蕴丰富，请简析它的双重意蕴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望”既写诗人眺望之意，又暗指诗人内心的期望， 希望觅得知音，得到理解、赏识和重用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图片 13316" descr="t01afeaa38d28b460ef"/>
          <p:cNvPicPr/>
          <p:nvPr/>
        </p:nvPicPr>
        <p:blipFill>
          <a:blip r:embed="rId1"/>
          <a:stretch/>
        </p:blipFill>
        <p:spPr>
          <a:xfrm>
            <a:off x="0" y="4724280"/>
            <a:ext cx="9144000" cy="213372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20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诗人在傍晚野望时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描绘出了怎样的景色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用了什么手法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①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落日西沉，红霞映天，余晖铺洒在每一座山头上，天地被渲染得一派静穆和安详。放牧的人赶着小牛走在回家的小路上，打猎的人牵着马，马上驮着猎物也回去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描写手法：白描的手法写景物，自然朴实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图片 14339" descr="t015d221d98550161cc"/>
          <p:cNvPicPr/>
          <p:nvPr/>
        </p:nvPicPr>
        <p:blipFill>
          <a:blip r:embed="rId1"/>
          <a:stretch/>
        </p:blipFill>
        <p:spPr>
          <a:xfrm>
            <a:off x="4140360" y="5445000"/>
            <a:ext cx="5003640" cy="141300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相顾无相识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长歌怀采薇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",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表达了诗人怎样的心情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（景与人）动静结合，活现一幅浓浓的秋暮晚归图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“树树皆秋色，山山唯落晖”描绘了一幅怎样的画面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举目四望，树林和山峦一片秋色，在夕阳的余晖中越发显得萧瑟。整个画面萧瑟恬静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图片 15363" descr="t012bbb3ac2ee73033c"/>
          <p:cNvPicPr/>
          <p:nvPr/>
        </p:nvPicPr>
        <p:blipFill>
          <a:blip r:embed="rId1"/>
          <a:stretch/>
        </p:blipFill>
        <p:spPr>
          <a:xfrm>
            <a:off x="5364000" y="5634000"/>
            <a:ext cx="3780000" cy="122400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“相顾无相识，长歌怀采薇”表达了作者怎样的思想感情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抒发了孤独抑郁的心情和避世退隐的愿望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小结：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王绩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野望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作品取境开阔，风格清新，属对工整，格律谐和，是唐初最早的五言律诗之一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图片 16387" descr="t01111c265b0c57e2ae"/>
          <p:cNvPicPr/>
          <p:nvPr/>
        </p:nvPicPr>
        <p:blipFill>
          <a:blip r:embed="rId1"/>
          <a:stretch/>
        </p:blipFill>
        <p:spPr>
          <a:xfrm>
            <a:off x="0" y="2924280"/>
            <a:ext cx="9144000" cy="79200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主题思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本诗描绘了萧瑟恬静的秋天黄昏景色，表现了诗人当时孤独、抑郁的心情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图片 18435" descr="t016001eae9154c14c9"/>
          <p:cNvPicPr/>
          <p:nvPr/>
        </p:nvPicPr>
        <p:blipFill>
          <a:blip r:embed="rId1"/>
          <a:stretch/>
        </p:blipFill>
        <p:spPr>
          <a:xfrm>
            <a:off x="0" y="3573360"/>
            <a:ext cx="9144000" cy="328464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459000"/>
            <a:ext cx="9144000" cy="14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野望  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.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王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482480" y="1600200"/>
            <a:ext cx="7203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图片 4100" descr="t01d3669b250ba734d6"/>
          <p:cNvPicPr/>
          <p:nvPr/>
        </p:nvPicPr>
        <p:blipFill>
          <a:blip r:embed="rId1"/>
          <a:stretch/>
        </p:blipFill>
        <p:spPr>
          <a:xfrm>
            <a:off x="1368360" y="755640"/>
            <a:ext cx="7775640" cy="6093000"/>
          </a:xfrm>
          <a:prstGeom prst="rect">
            <a:avLst/>
          </a:prstGeom>
          <a:ln w="0">
            <a:noFill/>
          </a:ln>
        </p:spPr>
      </p:pic>
      <p:sp>
        <p:nvSpPr>
          <p:cNvPr id="47" name="文本框 1"/>
          <p:cNvSpPr/>
          <p:nvPr/>
        </p:nvSpPr>
        <p:spPr>
          <a:xfrm>
            <a:off x="-18720" y="720720"/>
            <a:ext cx="1277640" cy="61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禄丰县彩云中学何春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学习目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积累与王绩有关的文学常识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积累文言词语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体会诗歌的思想内容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领会诗人惆怅、孤寂的情怀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背诵、默写诗歌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图片 5123" descr="t012e3cc6bd4431dd84"/>
          <p:cNvPicPr/>
          <p:nvPr/>
        </p:nvPicPr>
        <p:blipFill>
          <a:blip r:embed="rId1"/>
          <a:stretch/>
        </p:blipFill>
        <p:spPr>
          <a:xfrm>
            <a:off x="0" y="4653000"/>
            <a:ext cx="9144000" cy="220500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朗读诗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野 望                     王绩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东皋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薄暮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望，徙倚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欲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何依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树树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皆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秋色，山山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唯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落晖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牧人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驱犊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返，猎马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带禽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归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相顾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无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相识，长歌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怀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采薇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《野望》初中音频朗读（王绩）.mp3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792000" cy="1366920"/>
          </a:xfrm>
          <a:prstGeom prst="rect">
            <a:avLst/>
          </a:prstGeom>
          <a:ln w="0">
            <a:noFill/>
          </a:ln>
        </p:spPr>
      </p:pic>
      <p:pic>
        <p:nvPicPr>
          <p:cNvPr id="54" name="图片 7172" descr="t0177c2012190e46588"/>
          <p:cNvPicPr/>
          <p:nvPr/>
        </p:nvPicPr>
        <p:blipFill>
          <a:blip r:embed="rId2"/>
          <a:stretch/>
        </p:blipFill>
        <p:spPr>
          <a:xfrm>
            <a:off x="0" y="5516640"/>
            <a:ext cx="9144000" cy="134136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7534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作者简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王绩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约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9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644)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字无功，号东皋子，绛州龙门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今山西河津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人。隋末举孝廉，除秘书正字。不乐在朝，辞疾，复授扬州六合丞。时天下大乱，弃官还故乡。唐武德中，诏以前朝官待诏门下省。贞观初，以疾罢归河渚间，躬耕东皋，自号“东皋子”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图片 9219" descr="t0118f9ab21132852f7"/>
          <p:cNvPicPr/>
          <p:nvPr/>
        </p:nvPicPr>
        <p:blipFill>
          <a:blip r:embed="rId1"/>
          <a:stretch/>
        </p:blipFill>
        <p:spPr>
          <a:xfrm>
            <a:off x="0" y="5516640"/>
            <a:ext cx="9144000" cy="134136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注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 ①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选自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东皋子集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卷中。王绩（约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89—64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），字无功，绛州龙门人（现在山西河津），唐代诗人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东皋（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gāo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）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诗人隐居的地方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薄暮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傍晚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徙倚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(xǐ    yǐ)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徘徊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图片 8195" descr="4"/>
          <p:cNvPicPr/>
          <p:nvPr/>
        </p:nvPicPr>
        <p:blipFill>
          <a:blip r:embed="rId1"/>
          <a:stretch/>
        </p:blipFill>
        <p:spPr>
          <a:xfrm>
            <a:off x="0" y="5589720"/>
            <a:ext cx="9144000" cy="126828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⑤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依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归依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⑥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落晖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落日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⑦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犊（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dú)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小牛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这里指牛群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⑧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禽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鸟兽，这里指猎物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⑨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采薇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薇，是一种植物。相传周武王灭商后，伯夷、叔齐不愿做周的臣子，在首阳山上采薇而食，最后饿死。古时“采薇”代指隐居生活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图片 10243" descr="A3_063"/>
          <p:cNvPicPr/>
          <p:nvPr/>
        </p:nvPicPr>
        <p:blipFill>
          <a:blip r:embed="rId1"/>
          <a:stretch/>
        </p:blipFill>
        <p:spPr>
          <a:xfrm>
            <a:off x="0" y="5589720"/>
            <a:ext cx="9144000" cy="126828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翻译诗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傍晚时分站在东皋纵目远眺，徘徊不定不知归依何方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层层树林都染上秋天的色彩，重重山岭披覆着落日的余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牧人驱赶着牛群返回，猎人带着猎物回去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我看到这些人又并不认识，长声歌唱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诗经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中“采薇”的诗句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图片 11267" descr="t0139b4128d5952a770"/>
          <p:cNvPicPr/>
          <p:nvPr/>
        </p:nvPicPr>
        <p:blipFill>
          <a:blip r:embed="rId1"/>
          <a:stretch/>
        </p:blipFill>
        <p:spPr>
          <a:xfrm>
            <a:off x="-252360" y="0"/>
            <a:ext cx="1619280" cy="228600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分析诗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首联：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遥望山野，徘徊犹豫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颔联：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对仗工整，萧瑟恬静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颈联：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牧猎悠闲，随愿而归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尾联：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巧用典故，孤独抑郁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图片 12291" descr="t01557e0b2cfcc88a1d"/>
          <p:cNvPicPr/>
          <p:nvPr/>
        </p:nvPicPr>
        <p:blipFill>
          <a:blip r:embed="rId1"/>
          <a:stretch/>
        </p:blipFill>
        <p:spPr>
          <a:xfrm>
            <a:off x="0" y="4653000"/>
            <a:ext cx="9144000" cy="220500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9-11T12:04:06Z</dcterms:created>
  <dc:creator>未知用户</dc:creator>
  <dc:description/>
  <dc:language>en-US</dc:language>
  <cp:lastModifiedBy>Administrator</cp:lastModifiedBy>
  <dcterms:modified xsi:type="dcterms:W3CDTF">2018-10-09T15:16:35Z</dcterms:modified>
  <cp:revision>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8.0.5950</vt:lpwstr>
  </property>
</Properties>
</file>