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58DB-C27C-4724-BE7A-2E08331B27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A6D0-96A6-4D00-A507-82EFA4EA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37F9-6D81-4758-8DC5-D70EA31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34D4-C16A-4F74-AA8D-937E6B94DB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F98C8-9D24-4F1B-AE5D-FD683AEFBA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4B80E-EDF2-4E21-AC6B-F6BD40A7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4918D-69D9-4876-9D97-8F57BC5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9C5DA-C1DE-4536-97E2-20954978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B34CB-D6D7-4D0A-8DF5-41040088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0C77-0A1E-4E79-AC70-73B3CFA6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2732C-01B7-435D-8815-455D9AB0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01E3-98D4-4A0D-BC08-E55C3A2A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2EB66-7DD9-4F61-B149-60BDEE6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C2C58-1954-4EE2-9749-D6E5A0D8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0CB0D-B6D1-4460-9A6F-DDF93D10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80D26-DBAB-4B2B-9365-AD47470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26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48000" y="167616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26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48000" y="4104000"/>
            <a:ext cx="2661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253F6-62CC-4BA1-8487-FE227350C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BA39-23A1-488C-8B70-61E79D8E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D324-C4ED-4222-9116-03069B3F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E279-7AAC-4C39-A0E9-C4A81CAD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057400" y="609480"/>
            <a:ext cx="601992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3683-899A-4B27-9E54-75E3B8FC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BCE3-B00E-4E2C-BC90-FEED36B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3680" y="410400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5847-0D72-4E3A-B891-599F886A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1676160"/>
            <a:ext cx="4034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04000"/>
            <a:ext cx="82677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406C-6874-4AFD-9147-9BB194E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105"/>
          <p:cNvSpPr/>
          <p:nvPr/>
        </p:nvSpPr>
        <p:spPr>
          <a:xfrm>
            <a:off x="17928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4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6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107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108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91120" y="653400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814-5F95-4132-89CE-19F0D65D5D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11"/>
          <p:cNvSpPr/>
          <p:nvPr/>
        </p:nvSpPr>
        <p:spPr>
          <a:xfrm>
            <a:off x="1133640" y="76320"/>
            <a:ext cx="828360" cy="857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09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12"/>
          <p:cNvSpPr/>
          <p:nvPr/>
        </p:nvSpPr>
        <p:spPr>
          <a:xfrm>
            <a:off x="8120160" y="123840"/>
            <a:ext cx="757080" cy="795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图片 13" descr="未标题-3.png"/>
          <p:cNvPicPr/>
          <p:nvPr/>
        </p:nvPicPr>
        <p:blipFill>
          <a:blip r:embed="rId4"/>
          <a:stretch/>
        </p:blipFill>
        <p:spPr>
          <a:xfrm>
            <a:off x="165240" y="311040"/>
            <a:ext cx="1187280" cy="125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38"/>
          <p:cNvSpPr/>
          <p:nvPr/>
        </p:nvSpPr>
        <p:spPr>
          <a:xfrm>
            <a:off x="684360" y="33336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ffffff">
                  <a:alpha val="80000"/>
                </a:srgbClr>
              </a:gs>
              <a:gs pos="100000">
                <a:srgbClr val="c0c0c0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9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5e9c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0"/>
          <p:cNvSpPr/>
          <p:nvPr/>
        </p:nvSpPr>
        <p:spPr>
          <a:xfrm>
            <a:off x="900000" y="1844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2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3"/>
          <p:cNvSpPr/>
          <p:nvPr/>
        </p:nvSpPr>
        <p:spPr>
          <a:xfrm>
            <a:off x="4284720" y="3068640"/>
            <a:ext cx="1224000" cy="1224000"/>
          </a:xfrm>
          <a:prstGeom prst="ellipse">
            <a:avLst/>
          </a:prstGeom>
          <a:solidFill>
            <a:srgbClr val="1babe5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9" descr="未标题-2.png"/>
          <p:cNvPicPr/>
          <p:nvPr/>
        </p:nvPicPr>
        <p:blipFill>
          <a:blip r:embed="rId2"/>
          <a:stretch/>
        </p:blipFill>
        <p:spPr>
          <a:xfrm>
            <a:off x="900000" y="1844640"/>
            <a:ext cx="3533760" cy="3672000"/>
          </a:xfrm>
          <a:prstGeom prst="rect">
            <a:avLst/>
          </a:prstGeom>
          <a:ln w="0">
            <a:noFill/>
          </a:ln>
        </p:spPr>
      </p:pic>
      <p:sp>
        <p:nvSpPr>
          <p:cNvPr id="54" name="Oval 41"/>
          <p:cNvSpPr/>
          <p:nvPr/>
        </p:nvSpPr>
        <p:spPr>
          <a:xfrm>
            <a:off x="31428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21" descr="未标题-3.png"/>
          <p:cNvPicPr/>
          <p:nvPr/>
        </p:nvPicPr>
        <p:blipFill>
          <a:blip r:embed="rId3"/>
          <a:stretch/>
        </p:blipFill>
        <p:spPr>
          <a:xfrm>
            <a:off x="343080" y="1246320"/>
            <a:ext cx="1417320" cy="15494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2" descr="未标题-1副本.png"/>
          <p:cNvPicPr/>
          <p:nvPr/>
        </p:nvPicPr>
        <p:blipFill>
          <a:blip r:embed="rId4"/>
          <a:stretch/>
        </p:blipFill>
        <p:spPr>
          <a:xfrm>
            <a:off x="1260360" y="266760"/>
            <a:ext cx="946440" cy="946080"/>
          </a:xfrm>
          <a:prstGeom prst="rect">
            <a:avLst/>
          </a:prstGeom>
          <a:ln w="0">
            <a:noFill/>
          </a:ln>
        </p:spPr>
      </p:pic>
      <p:sp>
        <p:nvSpPr>
          <p:cNvPr id="57" name="Oval 44"/>
          <p:cNvSpPr/>
          <p:nvPr/>
        </p:nvSpPr>
        <p:spPr>
          <a:xfrm>
            <a:off x="3699000" y="4348080"/>
            <a:ext cx="158256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4" descr="未标题-4.png"/>
          <p:cNvPicPr/>
          <p:nvPr/>
        </p:nvPicPr>
        <p:blipFill>
          <a:blip r:embed="rId5"/>
          <a:stretch/>
        </p:blipFill>
        <p:spPr>
          <a:xfrm>
            <a:off x="3498840" y="4149720"/>
            <a:ext cx="1936800" cy="18716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9c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400440"/>
            <a:ext cx="2210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4"/>
          </p:nvPr>
        </p:nvSpPr>
        <p:spPr>
          <a:xfrm>
            <a:off x="380520" y="64004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2FD-45CF-4344-A98D-CEB4CFC50BF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未标题-1.png"/>
          <p:cNvPicPr/>
          <p:nvPr/>
        </p:nvPicPr>
        <p:blipFill>
          <a:blip r:embed="rId1"/>
          <a:stretch/>
        </p:blipFill>
        <p:spPr>
          <a:xfrm>
            <a:off x="3906720" y="777960"/>
            <a:ext cx="5418360" cy="1600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" descr=""/>
          <p:cNvPicPr/>
          <p:nvPr/>
        </p:nvPicPr>
        <p:blipFill>
          <a:blip r:embed="rId2"/>
          <a:stretch/>
        </p:blipFill>
        <p:spPr>
          <a:xfrm>
            <a:off x="4290840" y="3111480"/>
            <a:ext cx="48895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99240" y="5086440"/>
            <a:ext cx="34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.glzy8.co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2700360" y="1851120"/>
            <a:ext cx="380988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4605480" y="37558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3995640" y="3451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4605480" y="376092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4608720" y="3788280"/>
            <a:ext cx="1593000" cy="10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2"/>
          <p:cNvSpPr/>
          <p:nvPr/>
        </p:nvSpPr>
        <p:spPr>
          <a:xfrm>
            <a:off x="2700360" y="37558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3"/>
          <p:cNvSpPr/>
          <p:nvPr/>
        </p:nvSpPr>
        <p:spPr>
          <a:xfrm flipH="1">
            <a:off x="4605480" y="1851120"/>
            <a:ext cx="144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4"/>
          <p:cNvSpPr/>
          <p:nvPr/>
        </p:nvSpPr>
        <p:spPr>
          <a:xfrm>
            <a:off x="2877480" y="2873160"/>
            <a:ext cx="170280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4604040" y="2168280"/>
            <a:ext cx="1071000" cy="157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7"/>
          <p:cNvSpPr/>
          <p:nvPr/>
        </p:nvSpPr>
        <p:spPr>
          <a:xfrm flipH="1">
            <a:off x="3706560" y="3789000"/>
            <a:ext cx="884520" cy="168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8"/>
          <p:cNvSpPr/>
          <p:nvPr/>
        </p:nvSpPr>
        <p:spPr>
          <a:xfrm flipV="1">
            <a:off x="4605480" y="375588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6"/>
          <p:cNvSpPr/>
          <p:nvPr/>
        </p:nvSpPr>
        <p:spPr>
          <a:xfrm flipV="1">
            <a:off x="4590000" y="2183760"/>
            <a:ext cx="1070640" cy="157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40"/>
          <p:cNvSpPr/>
          <p:nvPr/>
        </p:nvSpPr>
        <p:spPr>
          <a:xfrm flipH="1">
            <a:off x="4600080" y="1851120"/>
            <a:ext cx="18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891520" y="28825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700360" y="3760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8"/>
          <p:cNvSpPr/>
          <p:nvPr/>
        </p:nvSpPr>
        <p:spPr>
          <a:xfrm flipH="1">
            <a:off x="3708000" y="3789000"/>
            <a:ext cx="884520" cy="168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51"/>
          <p:cNvSpPr/>
          <p:nvPr/>
        </p:nvSpPr>
        <p:spPr>
          <a:xfrm flipV="1">
            <a:off x="4584600" y="3755880"/>
            <a:ext cx="1800" cy="190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7" name="Oval 10"/>
          <p:cNvSpPr/>
          <p:nvPr/>
        </p:nvSpPr>
        <p:spPr>
          <a:xfrm>
            <a:off x="2706840" y="1851120"/>
            <a:ext cx="380988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4611600" y="3755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002120" y="3451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Arial"/>
                <a:ea typeface="宋体"/>
              </a:rPr>
              <a:t>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2706840" y="37558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4611600" y="185112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3164040" y="2492280"/>
            <a:ext cx="2895480" cy="2438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6"/>
          <p:cNvSpPr/>
          <p:nvPr/>
        </p:nvSpPr>
        <p:spPr>
          <a:xfrm flipV="1">
            <a:off x="3164040" y="2460240"/>
            <a:ext cx="289548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3392640" y="2308320"/>
            <a:ext cx="243828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8"/>
          <p:cNvSpPr/>
          <p:nvPr/>
        </p:nvSpPr>
        <p:spPr>
          <a:xfrm>
            <a:off x="3544920" y="2155680"/>
            <a:ext cx="213372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9"/>
          <p:cNvSpPr/>
          <p:nvPr/>
        </p:nvSpPr>
        <p:spPr>
          <a:xfrm>
            <a:off x="3849840" y="2003400"/>
            <a:ext cx="152388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4230720" y="1851120"/>
            <a:ext cx="76212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8" descr="未标题-1副本.png"/>
          <p:cNvPicPr/>
          <p:nvPr/>
        </p:nvPicPr>
        <p:blipFill>
          <a:blip r:embed="rId1"/>
          <a:stretch/>
        </p:blipFill>
        <p:spPr>
          <a:xfrm>
            <a:off x="1386000" y="2133720"/>
            <a:ext cx="6786360" cy="23749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3"/>
          <p:cNvSpPr/>
          <p:nvPr/>
        </p:nvSpPr>
        <p:spPr>
          <a:xfrm>
            <a:off x="2556000" y="2854440"/>
            <a:ext cx="453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，一中同长也！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墨子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16"/>
          <p:cNvSpPr/>
          <p:nvPr/>
        </p:nvSpPr>
        <p:spPr>
          <a:xfrm>
            <a:off x="1835280" y="1700280"/>
            <a:ext cx="5976720" cy="1728720"/>
          </a:xfrm>
          <a:prstGeom prst="roundRect">
            <a:avLst>
              <a:gd name="adj" fmla="val 16667"/>
            </a:avLst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2124000" y="1844640"/>
            <a:ext cx="583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同一个圆内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直径是半径的两倍；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半径是直径的一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052720" y="47372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=2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869080" y="46641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6732720" y="5024520"/>
            <a:ext cx="2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6732720" y="4305240"/>
            <a:ext cx="2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7"/>
          <p:cNvSpPr/>
          <p:nvPr/>
        </p:nvSpPr>
        <p:spPr>
          <a:xfrm flipV="1">
            <a:off x="6765840" y="5009760"/>
            <a:ext cx="327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3997440" y="47372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或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弧形 13"/>
          <p:cNvSpPr/>
          <p:nvPr/>
        </p:nvSpPr>
        <p:spPr>
          <a:xfrm>
            <a:off x="2987640" y="1844640"/>
            <a:ext cx="3672000" cy="3672000"/>
          </a:xfrm>
          <a:custGeom>
            <a:avLst/>
            <a:gdLst/>
            <a:ahLst/>
            <a:rect l="l" t="t" r="r" b="b"/>
            <a:pathLst>
              <a:path stroke="0" w="3671888" h="3671888">
                <a:moveTo>
                  <a:pt x="1769647" y="1197"/>
                </a:moveTo>
                <a:cubicBezTo>
                  <a:pt x="2430265" y="-22674"/>
                  <a:pt x="3052712" y="310443"/>
                  <a:pt x="3399305" y="873346"/>
                </a:cubicBezTo>
                <a:cubicBezTo>
                  <a:pt x="3745898" y="1436249"/>
                  <a:pt x="3763117" y="2142019"/>
                  <a:pt x="3444388" y="2721154"/>
                </a:cubicBezTo>
                <a:cubicBezTo>
                  <a:pt x="3125659" y="3300290"/>
                  <a:pt x="2520198" y="3663365"/>
                  <a:pt x="1859202" y="3671740"/>
                </a:cubicBezTo>
                <a:lnTo>
                  <a:pt x="1835944" y="1835944"/>
                </a:lnTo>
                <a:lnTo>
                  <a:pt x="1769647" y="1197"/>
                </a:lnTo>
                <a:close/>
              </a:path>
              <a:path fill="none" w="3671888" h="3671888">
                <a:moveTo>
                  <a:pt x="1769647" y="1197"/>
                </a:moveTo>
                <a:cubicBezTo>
                  <a:pt x="2430265" y="-22674"/>
                  <a:pt x="3052712" y="310443"/>
                  <a:pt x="3399305" y="873346"/>
                </a:cubicBezTo>
                <a:cubicBezTo>
                  <a:pt x="3745898" y="1436249"/>
                  <a:pt x="3763117" y="2142019"/>
                  <a:pt x="3444388" y="2721154"/>
                </a:cubicBezTo>
                <a:cubicBezTo>
                  <a:pt x="3125659" y="3300290"/>
                  <a:pt x="2520198" y="3663365"/>
                  <a:pt x="1859202" y="36717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17"/>
          <p:cNvSpPr/>
          <p:nvPr/>
        </p:nvSpPr>
        <p:spPr>
          <a:xfrm>
            <a:off x="4805280" y="1557360"/>
            <a:ext cx="14400" cy="21621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弧形 18"/>
          <p:cNvSpPr/>
          <p:nvPr/>
        </p:nvSpPr>
        <p:spPr>
          <a:xfrm rot="10800000">
            <a:off x="2987640" y="1844640"/>
            <a:ext cx="3672000" cy="3672000"/>
          </a:xfrm>
          <a:custGeom>
            <a:avLst/>
            <a:gdLst/>
            <a:ahLst/>
            <a:rect l="l" t="t" r="r" b="b"/>
            <a:pathLst>
              <a:path stroke="0" w="3671888" h="3671888">
                <a:moveTo>
                  <a:pt x="1835944" y="0"/>
                </a:moveTo>
                <a:cubicBezTo>
                  <a:pt x="2846382" y="0"/>
                  <a:pt x="3666894" y="816485"/>
                  <a:pt x="3671866" y="1826910"/>
                </a:cubicBezTo>
                <a:cubicBezTo>
                  <a:pt x="3676838" y="2837335"/>
                  <a:pt x="2864401" y="3661855"/>
                  <a:pt x="1854012" y="3671799"/>
                </a:cubicBezTo>
                <a:lnTo>
                  <a:pt x="1835944" y="1835944"/>
                </a:lnTo>
                <a:lnTo>
                  <a:pt x="1835944" y="0"/>
                </a:lnTo>
                <a:close/>
              </a:path>
              <a:path fill="none" w="3671888" h="3671888">
                <a:moveTo>
                  <a:pt x="1835944" y="0"/>
                </a:moveTo>
                <a:cubicBezTo>
                  <a:pt x="2846382" y="0"/>
                  <a:pt x="3666894" y="816485"/>
                  <a:pt x="3671866" y="1826910"/>
                </a:cubicBezTo>
                <a:cubicBezTo>
                  <a:pt x="3676838" y="2837335"/>
                  <a:pt x="2864401" y="3661855"/>
                  <a:pt x="1854012" y="36717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0"/>
          <p:cNvSpPr/>
          <p:nvPr/>
        </p:nvSpPr>
        <p:spPr>
          <a:xfrm>
            <a:off x="4657680" y="322596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弧形 25"/>
          <p:cNvSpPr/>
          <p:nvPr/>
        </p:nvSpPr>
        <p:spPr>
          <a:xfrm rot="10800000">
            <a:off x="2987640" y="1844640"/>
            <a:ext cx="3672000" cy="3672000"/>
          </a:xfrm>
          <a:custGeom>
            <a:avLst/>
            <a:gdLst/>
            <a:ahLst/>
            <a:rect l="l" t="t" r="r" b="b"/>
            <a:pathLst>
              <a:path stroke="0" w="3671888" h="3671888">
                <a:moveTo>
                  <a:pt x="1835944" y="0"/>
                </a:moveTo>
                <a:cubicBezTo>
                  <a:pt x="2846382" y="0"/>
                  <a:pt x="3666894" y="816485"/>
                  <a:pt x="3671866" y="1826910"/>
                </a:cubicBezTo>
                <a:cubicBezTo>
                  <a:pt x="3676838" y="2837335"/>
                  <a:pt x="2864401" y="3661855"/>
                  <a:pt x="1854012" y="3671799"/>
                </a:cubicBezTo>
                <a:lnTo>
                  <a:pt x="1835944" y="1835944"/>
                </a:lnTo>
                <a:lnTo>
                  <a:pt x="1835944" y="0"/>
                </a:lnTo>
                <a:close/>
              </a:path>
              <a:path fill="none" w="3671888" h="3671888">
                <a:moveTo>
                  <a:pt x="1835944" y="0"/>
                </a:moveTo>
                <a:cubicBezTo>
                  <a:pt x="2846382" y="0"/>
                  <a:pt x="3666894" y="816485"/>
                  <a:pt x="3671866" y="1826910"/>
                </a:cubicBezTo>
                <a:cubicBezTo>
                  <a:pt x="3676838" y="2837335"/>
                  <a:pt x="2864401" y="3661855"/>
                  <a:pt x="1854012" y="36717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弧形 26"/>
          <p:cNvSpPr/>
          <p:nvPr/>
        </p:nvSpPr>
        <p:spPr>
          <a:xfrm>
            <a:off x="2987640" y="1844640"/>
            <a:ext cx="3672000" cy="3672000"/>
          </a:xfrm>
          <a:custGeom>
            <a:avLst/>
            <a:gdLst/>
            <a:ahLst/>
            <a:rect l="l" t="t" r="r" b="b"/>
            <a:pathLst>
              <a:path stroke="0" w="3671888" h="3671888">
                <a:moveTo>
                  <a:pt x="1769647" y="1197"/>
                </a:moveTo>
                <a:cubicBezTo>
                  <a:pt x="2430265" y="-22674"/>
                  <a:pt x="3052712" y="310443"/>
                  <a:pt x="3399305" y="873346"/>
                </a:cubicBezTo>
                <a:cubicBezTo>
                  <a:pt x="3745898" y="1436249"/>
                  <a:pt x="3763117" y="2142019"/>
                  <a:pt x="3444388" y="2721154"/>
                </a:cubicBezTo>
                <a:cubicBezTo>
                  <a:pt x="3125659" y="3300290"/>
                  <a:pt x="2520198" y="3663365"/>
                  <a:pt x="1859202" y="3671740"/>
                </a:cubicBezTo>
                <a:lnTo>
                  <a:pt x="1835944" y="1835944"/>
                </a:lnTo>
                <a:lnTo>
                  <a:pt x="1769647" y="1197"/>
                </a:lnTo>
                <a:close/>
              </a:path>
              <a:path fill="none" w="3671888" h="3671888">
                <a:moveTo>
                  <a:pt x="1769647" y="1197"/>
                </a:moveTo>
                <a:cubicBezTo>
                  <a:pt x="2430265" y="-22674"/>
                  <a:pt x="3052712" y="310443"/>
                  <a:pt x="3399305" y="873346"/>
                </a:cubicBezTo>
                <a:cubicBezTo>
                  <a:pt x="3745898" y="1436249"/>
                  <a:pt x="3763117" y="2142019"/>
                  <a:pt x="3444388" y="2721154"/>
                </a:cubicBezTo>
                <a:cubicBezTo>
                  <a:pt x="3125659" y="3300290"/>
                  <a:pt x="2520198" y="3663365"/>
                  <a:pt x="1859202" y="36717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2"/>
          <p:cNvSpPr/>
          <p:nvPr/>
        </p:nvSpPr>
        <p:spPr>
          <a:xfrm flipH="1">
            <a:off x="3463560" y="3735360"/>
            <a:ext cx="1366920" cy="19432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27"/>
          <p:cNvSpPr/>
          <p:nvPr/>
        </p:nvSpPr>
        <p:spPr>
          <a:xfrm flipH="1">
            <a:off x="4171680" y="3765600"/>
            <a:ext cx="649080" cy="201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9"/>
          <p:cNvSpPr/>
          <p:nvPr/>
        </p:nvSpPr>
        <p:spPr>
          <a:xfrm flipH="1">
            <a:off x="3086280" y="3762360"/>
            <a:ext cx="1728720" cy="1440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0"/>
          <p:cNvSpPr/>
          <p:nvPr/>
        </p:nvSpPr>
        <p:spPr>
          <a:xfrm>
            <a:off x="3879720" y="1643040"/>
            <a:ext cx="936720" cy="208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2"/>
          <p:cNvSpPr/>
          <p:nvPr/>
        </p:nvSpPr>
        <p:spPr>
          <a:xfrm>
            <a:off x="3348000" y="1989000"/>
            <a:ext cx="1457280" cy="17114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51"/>
          <p:cNvSpPr/>
          <p:nvPr/>
        </p:nvSpPr>
        <p:spPr>
          <a:xfrm>
            <a:off x="2771640" y="2852640"/>
            <a:ext cx="2038320" cy="8780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56"/>
          <p:cNvSpPr/>
          <p:nvPr/>
        </p:nvSpPr>
        <p:spPr>
          <a:xfrm>
            <a:off x="2205000" y="3635280"/>
            <a:ext cx="2619360" cy="1303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58"/>
          <p:cNvSpPr/>
          <p:nvPr/>
        </p:nvSpPr>
        <p:spPr>
          <a:xfrm flipV="1">
            <a:off x="2503440" y="3769920"/>
            <a:ext cx="2303640" cy="863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7"/>
          <p:cNvSpPr/>
          <p:nvPr/>
        </p:nvSpPr>
        <p:spPr>
          <a:xfrm>
            <a:off x="4816440" y="3789360"/>
            <a:ext cx="14400" cy="216216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30"/>
          <p:cNvSpPr/>
          <p:nvPr/>
        </p:nvSpPr>
        <p:spPr>
          <a:xfrm>
            <a:off x="4840200" y="3754440"/>
            <a:ext cx="936720" cy="2087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51"/>
          <p:cNvSpPr/>
          <p:nvPr/>
        </p:nvSpPr>
        <p:spPr>
          <a:xfrm>
            <a:off x="4849920" y="3754440"/>
            <a:ext cx="1425600" cy="16621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接连接符 51"/>
          <p:cNvSpPr/>
          <p:nvPr/>
        </p:nvSpPr>
        <p:spPr>
          <a:xfrm>
            <a:off x="4849920" y="3745080"/>
            <a:ext cx="2038320" cy="87768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56"/>
          <p:cNvSpPr/>
          <p:nvPr/>
        </p:nvSpPr>
        <p:spPr>
          <a:xfrm>
            <a:off x="4840200" y="3763800"/>
            <a:ext cx="2619360" cy="1303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58"/>
          <p:cNvSpPr/>
          <p:nvPr/>
        </p:nvSpPr>
        <p:spPr>
          <a:xfrm flipV="1">
            <a:off x="4840200" y="2871360"/>
            <a:ext cx="2303640" cy="863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9"/>
          <p:cNvSpPr/>
          <p:nvPr/>
        </p:nvSpPr>
        <p:spPr>
          <a:xfrm flipH="1">
            <a:off x="4859280" y="2275920"/>
            <a:ext cx="1728720" cy="143964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2"/>
          <p:cNvSpPr/>
          <p:nvPr/>
        </p:nvSpPr>
        <p:spPr>
          <a:xfrm flipH="1">
            <a:off x="4835160" y="1773360"/>
            <a:ext cx="1366920" cy="194292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27"/>
          <p:cNvSpPr/>
          <p:nvPr/>
        </p:nvSpPr>
        <p:spPr>
          <a:xfrm flipH="1">
            <a:off x="4827600" y="1700280"/>
            <a:ext cx="649440" cy="2016000"/>
          </a:xfrm>
          <a:prstGeom prst="line">
            <a:avLst/>
          </a:prstGeom>
          <a:ln w="190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6500"/>
                            </p:stCondLst>
                            <p:childTnLst>
                              <p:par>
                                <p:cTn id="2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7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85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9000"/>
                            </p:stCondLst>
                            <p:childTnLst>
                              <p:par>
                                <p:cTn id="2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4" descr="未标题-1副本.png"/>
          <p:cNvPicPr/>
          <p:nvPr/>
        </p:nvPicPr>
        <p:blipFill>
          <a:blip r:embed="rId1"/>
          <a:stretch/>
        </p:blipFill>
        <p:spPr>
          <a:xfrm>
            <a:off x="1530360" y="2278080"/>
            <a:ext cx="6786720" cy="23749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987640" y="3141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规矩，不成方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4" descr="未标题-1副本.png"/>
          <p:cNvPicPr/>
          <p:nvPr/>
        </p:nvPicPr>
        <p:blipFill>
          <a:blip r:embed="rId1"/>
          <a:stretch/>
        </p:blipFill>
        <p:spPr>
          <a:xfrm>
            <a:off x="1530360" y="2278080"/>
            <a:ext cx="6786720" cy="23749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2771640" y="2924280"/>
            <a:ext cx="4753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圆出于方，方出于矩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——</a:t>
            </a:r>
            <a:r>
              <a:rPr b="1" lang="zh-CN" sz="3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周算经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5"/>
          <p:cNvSpPr/>
          <p:nvPr/>
        </p:nvSpPr>
        <p:spPr>
          <a:xfrm>
            <a:off x="2771640" y="3500280"/>
            <a:ext cx="172908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238" name="图片 3" descr="未标题-1副本.png"/>
          <p:cNvPicPr/>
          <p:nvPr/>
        </p:nvPicPr>
        <p:blipFill>
          <a:blip r:embed="rId1"/>
          <a:stretch/>
        </p:blipFill>
        <p:spPr>
          <a:xfrm>
            <a:off x="1243080" y="1484280"/>
            <a:ext cx="2320920" cy="49690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1599120" y="2546280"/>
            <a:ext cx="146016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没有规矩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成方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4067280" y="2852640"/>
            <a:ext cx="4321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规，圆规也；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矩，古代画方的工具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椭圆形标注 7"/>
          <p:cNvSpPr/>
          <p:nvPr/>
        </p:nvSpPr>
        <p:spPr>
          <a:xfrm>
            <a:off x="1403280" y="1125360"/>
            <a:ext cx="5905440" cy="1511640"/>
          </a:xfrm>
          <a:prstGeom prst="wedgeEllipseCallout">
            <a:avLst>
              <a:gd name="adj1" fmla="val 55189"/>
              <a:gd name="adj2" fmla="val 34768"/>
            </a:avLst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1835280" y="1413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什么车轮为什么要做成圆的，车轴应装在哪里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6" descr="疑问.png"/>
          <p:cNvPicPr/>
          <p:nvPr/>
        </p:nvPicPr>
        <p:blipFill>
          <a:blip r:embed="rId1"/>
          <a:stretch/>
        </p:blipFill>
        <p:spPr>
          <a:xfrm>
            <a:off x="7380360" y="1989000"/>
            <a:ext cx="1439640" cy="1312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图片1"/>
          <p:cNvPicPr/>
          <p:nvPr/>
        </p:nvPicPr>
        <p:blipFill>
          <a:blip r:embed="rId2"/>
          <a:stretch/>
        </p:blipFill>
        <p:spPr>
          <a:xfrm>
            <a:off x="2124000" y="2755800"/>
            <a:ext cx="4969080" cy="3986280"/>
          </a:xfrm>
          <a:prstGeom prst="rect">
            <a:avLst/>
          </a:prstGeom>
          <a:ln w="0">
            <a:noFill/>
          </a:ln>
        </p:spPr>
      </p:pic>
      <p:sp>
        <p:nvSpPr>
          <p:cNvPr id="246" name="Line 8"/>
          <p:cNvSpPr/>
          <p:nvPr/>
        </p:nvSpPr>
        <p:spPr>
          <a:xfrm flipH="1">
            <a:off x="4355640" y="4859280"/>
            <a:ext cx="58680" cy="97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4480" y="3357720"/>
            <a:ext cx="72000" cy="1378080"/>
            <a:chOff x="4344480" y="3357720"/>
            <a:chExt cx="72000" cy="1378080"/>
          </a:xfrm>
        </p:grpSpPr>
        <p:sp>
          <p:nvSpPr>
            <p:cNvPr id="248" name="Line 13"/>
            <p:cNvSpPr/>
            <p:nvPr/>
          </p:nvSpPr>
          <p:spPr>
            <a:xfrm flipH="1" flipV="1">
              <a:off x="4344480" y="3357720"/>
              <a:ext cx="32760" cy="699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4"/>
            <p:cNvSpPr/>
            <p:nvPr/>
          </p:nvSpPr>
          <p:spPr>
            <a:xfrm flipH="1" flipV="1">
              <a:off x="4375080" y="4037400"/>
              <a:ext cx="41400" cy="698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484880" y="3879000"/>
            <a:ext cx="1026360" cy="920880"/>
            <a:chOff x="4484880" y="3879000"/>
            <a:chExt cx="1026360" cy="920880"/>
          </a:xfrm>
        </p:grpSpPr>
        <p:sp>
          <p:nvSpPr>
            <p:cNvPr id="251" name="Line 16"/>
            <p:cNvSpPr/>
            <p:nvPr/>
          </p:nvSpPr>
          <p:spPr>
            <a:xfrm flipH="1">
              <a:off x="4484880" y="4330440"/>
              <a:ext cx="518760" cy="469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7"/>
            <p:cNvSpPr/>
            <p:nvPr/>
          </p:nvSpPr>
          <p:spPr>
            <a:xfrm flipH="1">
              <a:off x="4988160" y="3879000"/>
              <a:ext cx="523080" cy="464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Oval 21"/>
          <p:cNvSpPr/>
          <p:nvPr/>
        </p:nvSpPr>
        <p:spPr>
          <a:xfrm>
            <a:off x="2916360" y="3357720"/>
            <a:ext cx="3024000" cy="3024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>
            <a:off x="3180240" y="4093560"/>
            <a:ext cx="1297800" cy="828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05400" y="4665960"/>
            <a:ext cx="1367280" cy="179640"/>
            <a:chOff x="4505400" y="4665960"/>
            <a:chExt cx="1367280" cy="179640"/>
          </a:xfrm>
        </p:grpSpPr>
        <p:sp>
          <p:nvSpPr>
            <p:cNvPr id="256" name="Line 25"/>
            <p:cNvSpPr/>
            <p:nvPr/>
          </p:nvSpPr>
          <p:spPr>
            <a:xfrm flipH="1">
              <a:off x="4505400" y="4751640"/>
              <a:ext cx="693000" cy="939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5178600" y="4665960"/>
              <a:ext cx="694080" cy="87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16200" y="4884840"/>
            <a:ext cx="1042560" cy="902520"/>
            <a:chOff x="4516200" y="4884840"/>
            <a:chExt cx="1042560" cy="902520"/>
          </a:xfrm>
        </p:grpSpPr>
        <p:sp>
          <p:nvSpPr>
            <p:cNvPr id="259" name="Line 28"/>
            <p:cNvSpPr/>
            <p:nvPr/>
          </p:nvSpPr>
          <p:spPr>
            <a:xfrm flipH="1" flipV="1">
              <a:off x="4516200" y="4884840"/>
              <a:ext cx="531000" cy="4557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9"/>
            <p:cNvSpPr/>
            <p:nvPr/>
          </p:nvSpPr>
          <p:spPr>
            <a:xfrm flipH="1" flipV="1">
              <a:off x="5032800" y="5326920"/>
              <a:ext cx="525960" cy="460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3270960" y="4844520"/>
            <a:ext cx="1096560" cy="836280"/>
            <a:chOff x="3270960" y="4844520"/>
            <a:chExt cx="1096560" cy="836280"/>
          </a:xfrm>
        </p:grpSpPr>
        <p:sp>
          <p:nvSpPr>
            <p:cNvPr id="262" name="Line 31"/>
            <p:cNvSpPr/>
            <p:nvPr/>
          </p:nvSpPr>
          <p:spPr>
            <a:xfrm flipH="1">
              <a:off x="3270960" y="5254200"/>
              <a:ext cx="554400" cy="426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2"/>
            <p:cNvSpPr/>
            <p:nvPr/>
          </p:nvSpPr>
          <p:spPr>
            <a:xfrm flipH="1">
              <a:off x="3809160" y="4844520"/>
              <a:ext cx="558360" cy="4212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97040" y="4939560"/>
            <a:ext cx="22680" cy="1378800"/>
            <a:chOff x="4397040" y="4939560"/>
            <a:chExt cx="22680" cy="1378800"/>
          </a:xfrm>
        </p:grpSpPr>
        <p:sp>
          <p:nvSpPr>
            <p:cNvPr id="265" name="Line 34"/>
            <p:cNvSpPr/>
            <p:nvPr/>
          </p:nvSpPr>
          <p:spPr>
            <a:xfrm flipH="1">
              <a:off x="4397040" y="5618880"/>
              <a:ext cx="8640" cy="6994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 flipH="1">
              <a:off x="4404240" y="4939560"/>
              <a:ext cx="15480" cy="699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Oval 23"/>
          <p:cNvSpPr/>
          <p:nvPr/>
        </p:nvSpPr>
        <p:spPr>
          <a:xfrm>
            <a:off x="4311720" y="4743360"/>
            <a:ext cx="217440" cy="2174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21280" y="693720"/>
            <a:ext cx="34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.glzy8.co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海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4" descr="未标题-1副本.png"/>
          <p:cNvPicPr/>
          <p:nvPr/>
        </p:nvPicPr>
        <p:blipFill>
          <a:blip r:embed="rId1"/>
          <a:stretch/>
        </p:blipFill>
        <p:spPr>
          <a:xfrm>
            <a:off x="1530360" y="2278080"/>
            <a:ext cx="6786720" cy="23749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700360" y="2781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切平面图形中，圆是最美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希腊数学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圆角矩形 5"/>
          <p:cNvSpPr/>
          <p:nvPr/>
        </p:nvSpPr>
        <p:spPr>
          <a:xfrm>
            <a:off x="1187280" y="2349360"/>
            <a:ext cx="7129800" cy="3456000"/>
          </a:xfrm>
          <a:prstGeom prst="roundRect">
            <a:avLst>
              <a:gd name="adj" fmla="val 16667"/>
            </a:avLst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4" descr="未标题-4.png"/>
          <p:cNvPicPr/>
          <p:nvPr/>
        </p:nvPicPr>
        <p:blipFill>
          <a:blip r:embed="rId1"/>
          <a:stretch/>
        </p:blipFill>
        <p:spPr>
          <a:xfrm>
            <a:off x="792000" y="1268280"/>
            <a:ext cx="2988000" cy="914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547640" y="2708280"/>
            <a:ext cx="6912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圆规两脚之间的高度要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圆的过程中圆规要稍微倾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度左右，使画出的线条流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圆过程中带有针的一端不能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圆的过程中两脚距离不能改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1577880" y="14652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画圆注意点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圆角矩形 19"/>
          <p:cNvSpPr/>
          <p:nvPr/>
        </p:nvSpPr>
        <p:spPr>
          <a:xfrm>
            <a:off x="3492360" y="2349360"/>
            <a:ext cx="5400720" cy="2880000"/>
          </a:xfrm>
          <a:prstGeom prst="roundRect">
            <a:avLst>
              <a:gd name="adj" fmla="val 16667"/>
            </a:avLst>
          </a:prstGeom>
          <a:solidFill>
            <a:srgbClr val="5e9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76720" y="2540160"/>
            <a:ext cx="55432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圆时，针尖固定的一点是圆心，通常用字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；连接圆心和袁尚任意一点的线段（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OA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半径，通常用字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；通过圆心并且两端都在圆上的线段是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C)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径，通常用字母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3"/>
          <p:cNvSpPr/>
          <p:nvPr/>
        </p:nvSpPr>
        <p:spPr>
          <a:xfrm>
            <a:off x="611280" y="2554200"/>
            <a:ext cx="2305080" cy="230508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"/>
          <p:cNvSpPr/>
          <p:nvPr/>
        </p:nvSpPr>
        <p:spPr>
          <a:xfrm flipH="1">
            <a:off x="1199880" y="2678040"/>
            <a:ext cx="1111320" cy="204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8"/>
          <p:cNvSpPr/>
          <p:nvPr/>
        </p:nvSpPr>
        <p:spPr>
          <a:xfrm>
            <a:off x="1725480" y="3757680"/>
            <a:ext cx="1208160" cy="252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900000" y="47149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266920" y="23288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2987640" y="3562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1332000" y="35496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5"/>
          <p:cNvSpPr/>
          <p:nvPr/>
        </p:nvSpPr>
        <p:spPr>
          <a:xfrm>
            <a:off x="1619280" y="2986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2266920" y="340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133200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 学 提 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椭圆 2"/>
          <p:cNvSpPr/>
          <p:nvPr/>
        </p:nvSpPr>
        <p:spPr>
          <a:xfrm>
            <a:off x="2843280" y="1916280"/>
            <a:ext cx="3600360" cy="360036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212720" y="3573360"/>
            <a:ext cx="42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4573440" y="2997360"/>
            <a:ext cx="3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>
            <a:off x="4716360" y="3692520"/>
            <a:ext cx="1295640" cy="1152360"/>
          </a:xfrm>
          <a:prstGeom prst="line">
            <a:avLst/>
          </a:prstGeom>
          <a:ln w="3168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148360" y="3071880"/>
            <a:ext cx="71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5" descr="未标题-1.png"/>
          <p:cNvPicPr/>
          <p:nvPr/>
        </p:nvPicPr>
        <p:blipFill>
          <a:blip r:embed="rId1"/>
          <a:stretch/>
        </p:blipFill>
        <p:spPr>
          <a:xfrm>
            <a:off x="755640" y="1414440"/>
            <a:ext cx="6875640" cy="1077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2771640" y="177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请你说说，图中哪条线是圆的半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16000" y="3213000"/>
            <a:ext cx="1440000" cy="1440000"/>
            <a:chOff x="1116000" y="3213000"/>
            <a:chExt cx="1440000" cy="1440000"/>
          </a:xfrm>
        </p:grpSpPr>
        <p:sp>
          <p:nvSpPr>
            <p:cNvPr id="130" name="椭圆 4"/>
            <p:cNvSpPr/>
            <p:nvPr/>
          </p:nvSpPr>
          <p:spPr>
            <a:xfrm>
              <a:off x="1116000" y="321300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8"/>
            <p:cNvSpPr/>
            <p:nvPr/>
          </p:nvSpPr>
          <p:spPr>
            <a:xfrm>
              <a:off x="1723680" y="3295440"/>
              <a:ext cx="362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1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20"/>
            <p:cNvSpPr/>
            <p:nvPr/>
          </p:nvSpPr>
          <p:spPr>
            <a:xfrm flipH="1">
              <a:off x="1490760" y="3252600"/>
              <a:ext cx="57456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097080" y="3224160"/>
            <a:ext cx="1440000" cy="1440000"/>
            <a:chOff x="3097080" y="3224160"/>
            <a:chExt cx="1440000" cy="1440000"/>
          </a:xfrm>
        </p:grpSpPr>
        <p:sp>
          <p:nvSpPr>
            <p:cNvPr id="134" name="椭圆 11"/>
            <p:cNvSpPr/>
            <p:nvPr/>
          </p:nvSpPr>
          <p:spPr>
            <a:xfrm>
              <a:off x="3097080" y="322416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2"/>
            <p:cNvSpPr/>
            <p:nvPr/>
          </p:nvSpPr>
          <p:spPr>
            <a:xfrm>
              <a:off x="3704760" y="3306600"/>
              <a:ext cx="362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1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 21"/>
            <p:cNvSpPr/>
            <p:nvPr/>
          </p:nvSpPr>
          <p:spPr>
            <a:xfrm>
              <a:off x="3798720" y="3565440"/>
              <a:ext cx="625680" cy="39852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624840" h="398780">
                  <a:moveTo>
                    <a:pt x="0" y="398780"/>
                  </a:moveTo>
                  <a:cubicBezTo>
                    <a:pt x="111760" y="262890"/>
                    <a:pt x="223520" y="127000"/>
                    <a:pt x="320040" y="63500"/>
                  </a:cubicBezTo>
                  <a:cubicBezTo>
                    <a:pt x="416560" y="0"/>
                    <a:pt x="533400" y="27940"/>
                    <a:pt x="579120" y="17780"/>
                  </a:cubicBezTo>
                  <a:cubicBezTo>
                    <a:pt x="624840" y="7620"/>
                    <a:pt x="609600" y="5080"/>
                    <a:pt x="594360" y="254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968720" y="3224160"/>
            <a:ext cx="1584360" cy="1440000"/>
            <a:chOff x="4968720" y="3224160"/>
            <a:chExt cx="1584360" cy="1440000"/>
          </a:xfrm>
        </p:grpSpPr>
        <p:sp>
          <p:nvSpPr>
            <p:cNvPr id="138" name="椭圆 14"/>
            <p:cNvSpPr/>
            <p:nvPr/>
          </p:nvSpPr>
          <p:spPr>
            <a:xfrm>
              <a:off x="4968720" y="3224160"/>
              <a:ext cx="144144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5"/>
            <p:cNvSpPr/>
            <p:nvPr/>
          </p:nvSpPr>
          <p:spPr>
            <a:xfrm>
              <a:off x="5578200" y="3306600"/>
              <a:ext cx="362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1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23"/>
            <p:cNvSpPr/>
            <p:nvPr/>
          </p:nvSpPr>
          <p:spPr>
            <a:xfrm>
              <a:off x="5689440" y="3954240"/>
              <a:ext cx="86364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42160" y="3224160"/>
            <a:ext cx="1440000" cy="1440000"/>
            <a:chOff x="6842160" y="3224160"/>
            <a:chExt cx="1440000" cy="1440000"/>
          </a:xfrm>
        </p:grpSpPr>
        <p:sp>
          <p:nvSpPr>
            <p:cNvPr id="142" name="椭圆 17"/>
            <p:cNvSpPr/>
            <p:nvPr/>
          </p:nvSpPr>
          <p:spPr>
            <a:xfrm>
              <a:off x="6842160" y="3224160"/>
              <a:ext cx="1440000" cy="1440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8"/>
            <p:cNvSpPr/>
            <p:nvPr/>
          </p:nvSpPr>
          <p:spPr>
            <a:xfrm>
              <a:off x="7449840" y="3306600"/>
              <a:ext cx="362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.</a:t>
              </a:r>
              <a:endParaRPr b="1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26"/>
            <p:cNvSpPr/>
            <p:nvPr/>
          </p:nvSpPr>
          <p:spPr>
            <a:xfrm>
              <a:off x="7554240" y="3946320"/>
              <a:ext cx="509400" cy="50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4" descr="未标题-1.png"/>
          <p:cNvPicPr/>
          <p:nvPr/>
        </p:nvPicPr>
        <p:blipFill>
          <a:blip r:embed="rId1"/>
          <a:stretch/>
        </p:blipFill>
        <p:spPr>
          <a:xfrm>
            <a:off x="755640" y="1414440"/>
            <a:ext cx="6875640" cy="10778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771640" y="17431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一说，哪条线段是圆的直径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5"/>
          <p:cNvSpPr/>
          <p:nvPr/>
        </p:nvSpPr>
        <p:spPr>
          <a:xfrm>
            <a:off x="2916360" y="2708280"/>
            <a:ext cx="3456000" cy="345744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500720" y="392112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8"/>
          <p:cNvSpPr/>
          <p:nvPr/>
        </p:nvSpPr>
        <p:spPr>
          <a:xfrm>
            <a:off x="2905200" y="4437000"/>
            <a:ext cx="34779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643280" y="44686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1"/>
          <p:cNvSpPr/>
          <p:nvPr/>
        </p:nvSpPr>
        <p:spPr>
          <a:xfrm flipV="1">
            <a:off x="3222720" y="3695760"/>
            <a:ext cx="2577960" cy="171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"/>
          <p:cNvSpPr/>
          <p:nvPr/>
        </p:nvSpPr>
        <p:spPr>
          <a:xfrm flipV="1">
            <a:off x="3059280" y="3049560"/>
            <a:ext cx="2592360" cy="720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4427640" y="29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3635280" y="410832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3851280" y="4869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直接连接符 13"/>
          <p:cNvSpPr/>
          <p:nvPr/>
        </p:nvSpPr>
        <p:spPr>
          <a:xfrm>
            <a:off x="3059280" y="2852640"/>
            <a:ext cx="3241440" cy="158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椭圆 2"/>
          <p:cNvSpPr/>
          <p:nvPr/>
        </p:nvSpPr>
        <p:spPr>
          <a:xfrm>
            <a:off x="2843280" y="1916280"/>
            <a:ext cx="3600360" cy="3600360"/>
          </a:xfrm>
          <a:prstGeom prst="ellipse">
            <a:avLst/>
          </a:pr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212720" y="3573360"/>
            <a:ext cx="42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5"/>
          <p:cNvSpPr/>
          <p:nvPr/>
        </p:nvSpPr>
        <p:spPr>
          <a:xfrm>
            <a:off x="4667400" y="3666960"/>
            <a:ext cx="9360" cy="1828800"/>
          </a:xfrm>
          <a:prstGeom prst="line">
            <a:avLst/>
          </a:prstGeom>
          <a:ln w="3168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4716360" y="4221000"/>
            <a:ext cx="719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r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4678920" y="2781360"/>
            <a:ext cx="58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"/>
          <p:cNvSpPr/>
          <p:nvPr/>
        </p:nvSpPr>
        <p:spPr>
          <a:xfrm>
            <a:off x="4573440" y="2997360"/>
            <a:ext cx="36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4" descr="未标题-2.png"/>
          <p:cNvPicPr/>
          <p:nvPr/>
        </p:nvPicPr>
        <p:blipFill>
          <a:blip r:embed="rId1"/>
          <a:stretch/>
        </p:blipFill>
        <p:spPr>
          <a:xfrm>
            <a:off x="611280" y="1628640"/>
            <a:ext cx="7824600" cy="3168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7400" y="562680"/>
            <a:ext cx="6019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2771640" y="292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自己动手折一折、量一量、画一画、比一比，一定有许多精彩的发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4:24:29Z</dcterms:created>
  <dc:creator/>
  <dc:description/>
  <cp:keywords/>
  <dc:language>en-US</dc:language>
  <cp:lastModifiedBy>GZB</cp:lastModifiedBy>
  <cp:lastPrinted>1899-12-30T00:00:00Z</cp:lastPrinted>
  <dcterms:modified xsi:type="dcterms:W3CDTF">2012-04-28T14:55:16Z</dcterms:modified>
  <cp:revision>387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