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B81C-BA5B-4FF7-B042-A345C6CA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2C3D-58AD-40BF-A83C-8D9AFBC60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AB84-BED9-417A-89B9-A94BC417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917B-59A0-4583-8294-A4FB1E35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A14F8-8641-4A47-8356-9AA8E1B8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0DB5-60A5-42AB-AA5B-ED76EB8A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5063-94CB-4172-B045-5CC13C89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B16F-30A3-4ECE-985C-1425D67C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287A-323A-4BF0-9EBE-A1F0657C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22DB-5008-4CCD-A805-BA2C4EC8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F5A2-E218-4020-A583-33BB6F34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092-23CA-444E-A16F-9070F813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57D0-E23D-4A63-A2B4-9D94B96F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5061-14ED-46E3-ADD2-0B4F2FA9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5B40-531B-4011-AEC3-2B51B089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F83E-ACF1-4BE3-84A6-2D09FA30C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0861-EDD8-4D56-B78A-9B16D4469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6404-194C-4F0F-82A0-F147FACA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DCD-BB5F-427A-B23F-3CEA0B32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D3CF-20A5-45C3-ACA6-94A5DBC6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ABA-CD3E-49FE-91F7-D3C11688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F13-B64C-49E3-8EF5-EE396428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DDAE-488D-453B-A31B-D2D1C443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5524-FD4E-4D89-9A94-8815B9E5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934C-B698-4B7A-8094-83546E52351E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2BF2-B69B-4945-9DCE-FCB45451D01D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-533520" y="-14400"/>
            <a:ext cx="12182760" cy="68724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74040" y="25200"/>
            <a:ext cx="109476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a0000"/>
                </a:solidFill>
                <a:latin typeface="Verdana"/>
              </a:rPr>
              <a:t>伊豆的舞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94240" y="49914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川端康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848720" y="6629400"/>
            <a:ext cx="357120" cy="228600"/>
          </a:xfrm>
          <a:custGeom>
            <a:avLst/>
            <a:gdLst>
              <a:gd name="textAreaLeft" fmla="*/ 14760 w 357120"/>
              <a:gd name="textAreaRight" fmla="*/ 342360 w 357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3725" h="21600">
                <a:moveTo>
                  <a:pt x="0" y="0"/>
                </a:moveTo>
                <a:lnTo>
                  <a:pt x="33725" y="0"/>
                </a:lnTo>
                <a:lnTo>
                  <a:pt x="33725" y="21600"/>
                </a:lnTo>
                <a:lnTo>
                  <a:pt x="0" y="21600"/>
                </a:lnTo>
                <a:close/>
              </a:path>
              <a:path fill="lightenLess" w="33725" h="21600">
                <a:moveTo>
                  <a:pt x="0" y="0"/>
                </a:moveTo>
                <a:lnTo>
                  <a:pt x="33725" y="0"/>
                </a:lnTo>
                <a:lnTo>
                  <a:pt x="32325" y="1400"/>
                </a:lnTo>
                <a:lnTo>
                  <a:pt x="1400" y="1400"/>
                </a:lnTo>
                <a:close/>
              </a:path>
              <a:path fill="darken" w="33725" h="21600">
                <a:moveTo>
                  <a:pt x="33725" y="0"/>
                </a:moveTo>
                <a:lnTo>
                  <a:pt x="33725" y="21600"/>
                </a:lnTo>
                <a:lnTo>
                  <a:pt x="32325" y="20200"/>
                </a:lnTo>
                <a:lnTo>
                  <a:pt x="32325" y="1400"/>
                </a:lnTo>
                <a:close/>
              </a:path>
              <a:path fill="darkenLess" w="33725" h="21600">
                <a:moveTo>
                  <a:pt x="337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25" y="20200"/>
                </a:lnTo>
                <a:close/>
              </a:path>
              <a:path fill="lighten" w="337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25" h="21600">
                <a:moveTo>
                  <a:pt x="9856" y="3794"/>
                </a:moveTo>
                <a:lnTo>
                  <a:pt x="23869" y="10800"/>
                </a:lnTo>
                <a:lnTo>
                  <a:pt x="985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85800"/>
            <a:ext cx="8169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我 （高中学生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薰子（卖艺舞女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06760" y="711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主角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13400" y="1634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看薰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235160"/>
            <a:ext cx="1167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发髻，发型古雅而又奇特，这种发式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她那严肃的鹅蛋型脸庞衬托得更加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巧，十分匀称，真是美极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2971800"/>
            <a:ext cx="815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洁白的裸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长的双腿，站在那里宛如一株小梧桐。她还是个孩子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44197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那双娇媚地闪动着的、亮晶晶的又大又黑的眼珠，是她身上最美的地方。双眼皮的线条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优美得无以复加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笑起来象一朵先鲜花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话用来形容她，是恰如其分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3920" y="152280"/>
            <a:ext cx="391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如花美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533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295280"/>
            <a:ext cx="900432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小说中，你能发现为“我”端茶而羞涩的薰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听故事时天真专注的薰子，在浴场童心未泯的薰子……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舞女为学生“我”起身让座，让座时刻还轻轻拍打了两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座垫。然后埋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只说两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请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舞女熏子在招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我”这个客人时候，慌了一下，不小心撒了茶水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舞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伊豆山峦，也是那么心细的为“我”擦拭山石，温良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俭，多情让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152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真和亲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04760" y="115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和薰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5480" y="533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" y="2209680"/>
            <a:ext cx="877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她们，我不好奇，也不轻视，完全忘掉她们是巡回艺人了。我这种</a:t>
            </a:r>
            <a:r>
              <a:rPr b="0" lang="zh-CN" sz="3600" spc="-1" strike="noStrike">
                <a:solidFill>
                  <a:srgbClr val="9a0000"/>
                </a:solidFill>
                <a:latin typeface="Times New Roman"/>
              </a:rPr>
              <a:t>不寻常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好意，似乎深深地渗进了她们的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22240" y="609480"/>
            <a:ext cx="221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待薰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895480" y="990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6094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追寻和眷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8390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90720" y="9907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乞丐、巡回演出艺人禁止进出（告示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2021040"/>
            <a:ext cx="984564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那种人谁知道会住在哪儿呢，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爷。什么今天晚上，哪有固定住处的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哪儿有客人，就住在哪儿呗。（茶馆大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4106880"/>
            <a:ext cx="74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请这种人吃饭，白花钱（旅馆老板娘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66880" y="5334120"/>
            <a:ext cx="35053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艰辛和窘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3794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7661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1360" y="838080"/>
            <a:ext cx="628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这个爱情故事的感情基调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19320" y="217332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欢快的？忧伤的？凄凉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03480" y="339264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57200" y="914400"/>
            <a:ext cx="7508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1840" y="64944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为什么说他们的爱情是凄美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1981080"/>
            <a:ext cx="940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单纯真诚的相爱，天各一方的结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19716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、舞女身份、孤儿气质，感情美好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处境窘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2286000" y="4724280"/>
            <a:ext cx="152280" cy="15264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00" y="20251"/>
                </a:lnTo>
                <a:lnTo>
                  <a:pt x="20200" y="140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400" y="20251"/>
                </a:lnTo>
                <a:lnTo>
                  <a:pt x="20200" y="2025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1"/>
                </a:lnTo>
                <a:close/>
              </a:path>
              <a:path fill="darken" w="21600" h="21651">
                <a:moveTo>
                  <a:pt x="3794" y="3819"/>
                </a:moveTo>
                <a:lnTo>
                  <a:pt x="17806" y="10825"/>
                </a:lnTo>
                <a:lnTo>
                  <a:pt x="3794" y="178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46280" y="85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27440" y="344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舞女身份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049640" y="3445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遭受排挤和歧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429000" y="1182600"/>
            <a:ext cx="40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到处奔波和劳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29000" y="2249640"/>
            <a:ext cx="441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担惊受怕受压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3697200"/>
            <a:ext cx="301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孤儿气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3621240"/>
            <a:ext cx="42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令人窒息的忧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191120" y="4078440"/>
            <a:ext cx="320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4383000"/>
            <a:ext cx="484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内向敏感的性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5181480"/>
            <a:ext cx="45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缺少关爱和温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76520" y="1523880"/>
            <a:ext cx="1218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关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信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眷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1828800"/>
            <a:ext cx="10666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914040" y="9907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990720" y="2895120"/>
            <a:ext cx="457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066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2209680" y="3352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previous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6553080"/>
            <a:ext cx="152280" cy="30492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304920"/>
              <a:gd name="textAreaBottom" fmla="*/ 295200 h 304920"/>
            </a:gdLst>
            <a:ahLst/>
            <a:rect l="textAreaLeft" t="textAreaTop" r="textAreaRight" b="textAreaBottom"/>
            <a:pathLst>
              <a:path w="21600" h="43200">
                <a:moveTo>
                  <a:pt x="0" y="0"/>
                </a:moveTo>
                <a:lnTo>
                  <a:pt x="21600" y="0"/>
                </a:lnTo>
                <a:lnTo>
                  <a:pt x="21600" y="43200"/>
                </a:lnTo>
                <a:lnTo>
                  <a:pt x="0" y="43200"/>
                </a:lnTo>
                <a:close/>
              </a:path>
              <a:path fill="lightenLess" w="21600" h="43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00">
                <a:moveTo>
                  <a:pt x="21600" y="0"/>
                </a:moveTo>
                <a:lnTo>
                  <a:pt x="21600" y="43200"/>
                </a:lnTo>
                <a:lnTo>
                  <a:pt x="20200" y="41800"/>
                </a:lnTo>
                <a:lnTo>
                  <a:pt x="20200" y="1400"/>
                </a:lnTo>
                <a:close/>
              </a:path>
              <a:path fill="darkenLess" w="21600" h="43200">
                <a:moveTo>
                  <a:pt x="21600" y="43200"/>
                </a:moveTo>
                <a:lnTo>
                  <a:pt x="0" y="43200"/>
                </a:lnTo>
                <a:lnTo>
                  <a:pt x="1400" y="41800"/>
                </a:lnTo>
                <a:lnTo>
                  <a:pt x="20200" y="41800"/>
                </a:lnTo>
                <a:close/>
              </a:path>
              <a:path fill="lighten" w="21600" h="43200">
                <a:moveTo>
                  <a:pt x="0" y="43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00"/>
                </a:lnTo>
                <a:close/>
              </a:path>
              <a:path fill="darken" w="21600" h="43200">
                <a:moveTo>
                  <a:pt x="3794" y="14594"/>
                </a:moveTo>
                <a:lnTo>
                  <a:pt x="17806" y="21600"/>
                </a:lnTo>
                <a:lnTo>
                  <a:pt x="3794" y="286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57200" y="762120"/>
            <a:ext cx="7674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背景人物之命运遭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银矿矿工双亡        祖孙孤苦         死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茶馆老大爷枯坐    “山中怪物”     疾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千代子流产、早产   生命夭亡      虚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685800"/>
            <a:ext cx="18165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川端康成写伤痕不是以一种控诉的方式，而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以一种非常温暖的方式在写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56c0"/>
                </a:solidFill>
                <a:latin typeface="宋体"/>
              </a:rPr>
              <a:t>余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6c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56c0"/>
                </a:solidFill>
                <a:latin typeface="宋体"/>
              </a:rPr>
              <a:t>我们该用什么方式表现伤痛？昆德拉的《不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6c0"/>
                </a:solidFill>
                <a:latin typeface="宋体"/>
              </a:rPr>
              <a:t>承受的生命之轻》里面有这么一个细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弗兰茨的父亲抛弃他们母子那一天，母亲为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给他造成伤害，轻描淡写，极有分寸地隐瞒了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相，但是两人出门后弗兰茨发现母亲穿的鞋不成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双鞋让他懂得了什么叫痛苦。也许这个细节可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我们有启示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172200" y="13716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9480" y="1981080"/>
            <a:ext cx="8433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我们的美，在我的书桌上已经存在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二千年以上了，今后还会继续存在一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千年以上吗？</a:t>
            </a:r>
            <a:br>
              <a:rPr sz="3600"/>
            </a:b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                                              ——川端康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17680" y="762120"/>
            <a:ext cx="32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凄美的爱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9960" y="1981080"/>
            <a:ext cx="3216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绚烂而短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鲜艳而凄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98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76920" y="2362320"/>
            <a:ext cx="120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樱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3657600"/>
            <a:ext cx="53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日本人的 内心精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6400" y="3048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48164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1905120"/>
            <a:ext cx="87631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由于他以敏锐的感受，高超的小说技巧，表现了日本人的内心精华。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　　　　　　　诺贝尔文学奖颁奖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4419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205740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2895480"/>
            <a:ext cx="152280" cy="15264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00" y="20251"/>
                </a:lnTo>
                <a:lnTo>
                  <a:pt x="20200" y="140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400" y="20251"/>
                </a:lnTo>
                <a:lnTo>
                  <a:pt x="20200" y="2025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51"/>
                </a:lnTo>
                <a:close/>
              </a:path>
              <a:path fill="darken" w="21600" h="21651">
                <a:moveTo>
                  <a:pt x="3794" y="10825"/>
                </a:moveTo>
                <a:lnTo>
                  <a:pt x="17806" y="3819"/>
                </a:lnTo>
                <a:lnTo>
                  <a:pt x="17806" y="1783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6553080" y="289548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  <a:path fill="darken" w="21600" h="32324">
                <a:moveTo>
                  <a:pt x="3794" y="16162"/>
                </a:moveTo>
                <a:lnTo>
                  <a:pt x="17806" y="9155"/>
                </a:lnTo>
                <a:lnTo>
                  <a:pt x="17806" y="2316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79720" y="801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76560" y="1827360"/>
            <a:ext cx="5246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在我们十七年这个充满梦幻和激情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年龄，你感受过美吗？无论那给予你感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的美是短暂的，抑或是永恒的，你回味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下你对美的感受和理解，并用简要的语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把他表达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以“那瞬间的美”或“那永恒的美”为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89154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-420840"/>
            <a:ext cx="9144000" cy="727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川端获得诺贝尔文学奖之后，人们对他毁誉褒贬，说什么的都有。但是有一点是不能忘记的，那就是他对美的执拗的追求。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　　　　　　　　　　　　　　　　　　　　　　                                                       ——立原正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99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川端的作品中有一缕缕氤氲首尾的凄凉，构成了含蓄的悲剧美。</a:t>
            </a:r>
            <a:br>
              <a:rPr sz="3200"/>
            </a:b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　　　　　　　　　　　　　　　 ——普通读者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89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7360" y="16621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04920"/>
            <a:ext cx="8915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1219320"/>
            <a:ext cx="18729360" cy="40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川端康成说过，他自幼犹如野狗，是个感情乞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川端康成二岁丧父，三岁丧母，七岁 失去祖母，十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失去姐姐，十五岁时又失去唯一的亲人祖父，成为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副其实的孤儿。孑然一身的孤儿经历，造成了川端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成孤僻、内向和病态的性情。这种“孤儿秉性”自然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他更多地去“感悟”人生的苦短和哀怨。</a:t>
            </a:r>
            <a:br>
              <a:rPr sz="28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533520"/>
            <a:ext cx="8915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川端康成从童年起，心灵上就带着沉重的“孤儿感”，加之，在东京大学读二年级时又失恋，更加重了他的“自卑感”和“孤儿心态”。</a:t>
            </a:r>
            <a:r>
              <a:rPr b="1" lang="zh-CN" sz="3600" spc="-1" strike="noStrike">
                <a:solidFill>
                  <a:srgbClr val="000000"/>
                </a:solidFill>
                <a:latin typeface="_x000b__x000c_"/>
              </a:rPr>
              <a:t>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种孤儿感的悲哀成为作者作品的潜流，甚至全部作品、全部生涯的潜流。因为“天地间只剩下我孤零零一个人了！”（《十六岁的日记》）这些在《伊豆舞女》中可以说是得到了极为丰满的折射。</a:t>
            </a:r>
            <a:br>
              <a:rPr sz="3600"/>
            </a:br>
            <a:br>
              <a:rPr sz="3600"/>
            </a:b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  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304920"/>
            <a:ext cx="9144000" cy="69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有学者让为，川端对死的看法是有一种“死亡的美”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川端在获得了殊荣之后，在社会生活和创作上，都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不如意处。社会生活中的矛盾使他陷入深深的空虚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中。而在创作上，又由于生活的枯竭，新出的作品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没有受到好评。有一种盛名之下其实难副的恐惧。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个作家是以创作为自己的生命的，创作能力衰竭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生命力也就会衰竭。川端康成在创作中，是依靠安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药来支持的。他的很多的文学现象，是在药物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下，幻变出来的美。在心力交瘁之时，川端选择了死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死是他的美的最后形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121932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5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的他，把死看作是一种极致的美，人生的孤独，生死的无常，使他的精神负担无比沉重，对死亡有一种归宿感。死亡对于幼年的他是个阴影，挥之不去；对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左右的他，是个黑洞，有无穷的引力；对于晚年的他，是个归宿，有极致的美。于是，他最终还是选择了死亡，选择了在日本被看作是“摆脱困境的一种可以接受的，甚至是高尚的自杀身亡的办法”（埃德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赖肖尔《日本人》）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早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96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就说过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无言的死，就是无限的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38080" y="609480"/>
            <a:ext cx="76201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《雪国》扉页上写的一首俳句。大概可译为“明月呀，照着去年的雪，在梅花下。”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　 日本有位女评论家说川端是只鹤，从外形上看，是一只瘦鹤。而我认为川端在精神气质上，他是一树</a:t>
            </a:r>
            <a:r>
              <a:rPr b="1" lang="zh-CN" sz="4000" spc="-1" strike="noStrike">
                <a:solidFill>
                  <a:srgbClr val="9a0000"/>
                </a:solidFill>
                <a:latin typeface="宋体"/>
              </a:rPr>
              <a:t>病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"/>
          <p:cNvGrpSpPr/>
          <p:nvPr/>
        </p:nvGrpSpPr>
        <p:grpSpPr>
          <a:xfrm>
            <a:off x="-46080" y="2482920"/>
            <a:ext cx="9236160" cy="2104920"/>
            <a:chOff x="-46080" y="2482920"/>
            <a:chExt cx="9236160" cy="2104920"/>
          </a:xfrm>
        </p:grpSpPr>
        <p:sp>
          <p:nvSpPr>
            <p:cNvPr id="224" name=""/>
            <p:cNvSpPr/>
            <p:nvPr/>
          </p:nvSpPr>
          <p:spPr>
            <a:xfrm>
              <a:off x="-46080" y="2484360"/>
              <a:ext cx="184320" cy="4568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080" y="2712240"/>
              <a:ext cx="360" cy="36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080" y="2482920"/>
              <a:ext cx="9144000" cy="2104920"/>
            </a:xfrm>
            <a:prstGeom prst="rect">
              <a:avLst/>
            </a:pr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333333"/>
                  </a:solidFill>
                  <a:latin typeface="Tahoma"/>
                  <a:ea typeface="Tahoma"/>
                </a:rPr>
                <a:t>     </a:t>
              </a:r>
              <a:r>
                <a:rPr b="1" lang="zh-CN" sz="4400" spc="-1" strike="noStrike">
                  <a:solidFill>
                    <a:srgbClr val="333333"/>
                  </a:solidFill>
                  <a:latin typeface="Tahoma"/>
                  <a:ea typeface="Tahoma"/>
                </a:rPr>
                <a:t>小说写的是一个</a:t>
              </a:r>
              <a:r>
                <a:rPr b="1" lang="zh-CN" sz="4400" spc="-1" strike="noStrike">
                  <a:solidFill>
                    <a:srgbClr val="333333"/>
                  </a:solidFill>
                  <a:latin typeface="Tahoma"/>
                  <a:ea typeface="Tahoma"/>
                </a:rPr>
                <a:t>20</a:t>
              </a:r>
              <a:r>
                <a:rPr b="1" lang="zh-CN" sz="4400" spc="-1" strike="noStrike">
                  <a:solidFill>
                    <a:srgbClr val="333333"/>
                  </a:solidFill>
                  <a:latin typeface="Tahoma"/>
                  <a:ea typeface="Tahoma"/>
                </a:rPr>
                <a:t>岁的高中生“我”，为了排遣假期校园生活的寂寞，独自登上了南去的旅程，在风景秀丽的伊豆与一个</a:t>
              </a:r>
              <a:r>
                <a:rPr b="1" lang="zh-CN" sz="4400" spc="-1" strike="noStrike">
                  <a:solidFill>
                    <a:srgbClr val="333333"/>
                  </a:solidFill>
                  <a:latin typeface="Tahoma"/>
                  <a:ea typeface="Tahoma"/>
                </a:rPr>
                <a:t>14</a:t>
              </a:r>
              <a:r>
                <a:rPr b="1" lang="zh-CN" sz="4400" spc="-1" strike="noStrike">
                  <a:solidFill>
                    <a:srgbClr val="333333"/>
                  </a:solidFill>
                  <a:latin typeface="Tahoma"/>
                  <a:ea typeface="Tahoma"/>
                </a:rPr>
                <a:t>岁的卖艺舞女薰子萍水相逢的故事。</a:t>
              </a:r>
              <a:br>
                <a:rPr sz="4400"/>
              </a:b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5T05:30:50Z</dcterms:created>
  <dc:creator>高一东四</dc:creator>
  <dc:description/>
  <dc:language>en-US</dc:language>
  <cp:lastModifiedBy>win200x</cp:lastModifiedBy>
  <dcterms:modified xsi:type="dcterms:W3CDTF">2006-04-17T05:33:30Z</dcterms:modified>
  <cp:revision>17</cp:revision>
  <dc:subject/>
  <dc:title>PowerPoint 演示文稿</dc:title>
</cp:coreProperties>
</file>