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CC0-11EF-421B-954E-E9D828D5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A03-800B-4061-9A0F-7CBE219A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4FF-E4B7-45F7-99B1-E27C47C1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6F7-440D-40F8-83ED-3F319443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07A-429D-4A32-A8FF-13F5F968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293D-5A72-49C0-88C5-6ACB23AE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D61-C5E1-4D8F-8E94-6C8DB3C0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37F-2107-4EA1-857B-4789CE72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3FE2-AC3B-477F-B019-D2C0E6D0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B63-9AEB-4BFF-90F3-8372BB9D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3ED-3958-4D8C-9444-317B290C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216D-41E2-4A9F-81D1-B854D503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9EBC-C4B8-4FEB-9A71-1B9F1D1B50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6156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Arial"/>
              </a:rPr>
              <a:t>伊豆的舞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99736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33"/>
                </a:solidFill>
                <a:latin typeface="Arial"/>
              </a:rPr>
              <a:t>川端康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4005360"/>
            <a:ext cx="3105000" cy="24447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932360" y="1916280"/>
            <a:ext cx="395748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4581360"/>
            <a:ext cx="3772080" cy="193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2433600" cy="3097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3924000" y="2960640"/>
            <a:ext cx="431640" cy="777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427640" y="1125360"/>
            <a:ext cx="4537080" cy="319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通过一系列细节描写，以人物外在情态体现内心的变化，从而逼真地透视出双方半带苦涩、半带甘美的感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端茶”表现出舞女心灵的微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听鼓”体现出“我”对舞女全身心的牵挂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同行”是舞女真情的流露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送别”可成为双方脉脉无语的心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感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幽雅、朦胧、严肃、天真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3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3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3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3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1" dur="3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3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4041720" cy="38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环境描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348000" y="396720"/>
            <a:ext cx="2879640" cy="3103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95280" y="2852640"/>
            <a:ext cx="2738520" cy="3621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419640" y="3789360"/>
            <a:ext cx="5545080" cy="1631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弯弯曲曲 的山路 ，迷人的高山植物 ，古色古香的名刹 ，热气弥漫的露天温泉浴场 ，阳春天气，一尘不染，晶莹透明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浪漫的自然环境，为两人圣洁情感的建立，创造了十分有力的条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在作品中，作者善于用洗练的笔调来描绘自然的清新、恬静与纯美，并通过自然色调与气氛来映衬人物的活动与心理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300720" y="476280"/>
            <a:ext cx="2687760" cy="30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3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3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3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Arial"/>
              </a:rPr>
              <a:t>六、研习与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《伊豆的舞女》的叙事技巧里有一种纤秾的诗意，请以“我”与舞女熏子的几次单独相会为例，试加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川端康成擅长抒写“心理事件”，请以“我”与熏子的心灵交流为例试加分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小说中的恋情故事与风俗画、风景画一起构成了一种什么样的境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它传达出了作者的什么叙事意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Arial"/>
              </a:rPr>
              <a:t>七、相关艺术作品展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211640" y="1989000"/>
            <a:ext cx="4546440" cy="3316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3571560" cy="26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32360" y="1557360"/>
            <a:ext cx="3341520" cy="4103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2541600" cy="325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194440" y="907920"/>
            <a:ext cx="3259080" cy="4321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2708280"/>
            <a:ext cx="4802040" cy="29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047760" cy="4032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773520" cy="4895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Arial"/>
              </a:rPr>
              <a:t>《雪国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Arial"/>
              </a:rPr>
              <a:t>八、延伸阅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宋体"/>
              </a:rPr>
              <a:t>《伊豆的舞女》与川端康成的早期创作</a:t>
            </a:r>
            <a:r>
              <a:rPr b="0" lang="zh-CN" sz="2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宋体"/>
              </a:rPr>
              <a:t>从《伊豆的舞女》谈川端康成“佛典”文学思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33"/>
                </a:solidFill>
                <a:latin typeface="Arial"/>
              </a:rPr>
              <a:t>比较</a:t>
            </a:r>
            <a:r>
              <a:rPr b="0" lang="zh-CN" sz="2800" spc="-1" strike="noStrike">
                <a:solidFill>
                  <a:srgbClr val="990033"/>
                </a:solidFill>
                <a:latin typeface="宋体"/>
              </a:rPr>
              <a:t>《伊豆的舞女》和《春风沉醉的晚上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93080" y="115920"/>
            <a:ext cx="1834920" cy="181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684360" y="3075840"/>
            <a:ext cx="10944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403280" y="3213000"/>
            <a:ext cx="2286000" cy="3276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788000" y="3284640"/>
            <a:ext cx="24382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2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2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8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一、学习要点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《伊豆的舞女》以青年学生“我”与流浪艺人结伴而行的七天伊豆之旅为情节主线，以“我”与舞女熏子的恋情为主要内容展开故事。作者大量描写了旅途中所见的普通人的生活。这些与小说中的恋情一起，构成了烦恼灭尽，“常乐我净”的境界，借以“歌颂东方古典的虚幻”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732720" y="4797360"/>
            <a:ext cx="2168280" cy="1868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564000" y="5013360"/>
            <a:ext cx="309564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二、作者生平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89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7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于大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上中学后，开始接触到一些名家名作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2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大学毕业后，川端与横光利一等发起了新感觉派文学运动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69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获诺贝尔文学奖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508720" y="1557360"/>
            <a:ext cx="27669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4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5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213372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32360" y="549360"/>
            <a:ext cx="259092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2286000" cy="26672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643280" y="3141720"/>
            <a:ext cx="2362320" cy="3429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380360" y="5300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08720" y="494172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川端康成幼时的理想是作画家，他的小学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三、作者作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42040" y="1600200"/>
            <a:ext cx="26478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85800" y="2057400"/>
            <a:ext cx="198108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124080" y="2666880"/>
            <a:ext cx="1828800" cy="259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990033"/>
                </a:solidFill>
                <a:latin typeface="Arial"/>
              </a:rPr>
              <a:t>川端晚年喜爱书法，并很有成就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874960" y="1916280"/>
            <a:ext cx="3268800" cy="42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990033"/>
                </a:solidFill>
                <a:latin typeface="Arial"/>
              </a:rPr>
              <a:t>川端的成功主要表现在三个方面</a:t>
            </a:r>
            <a:r>
              <a:rPr b="0" lang="zh-CN" sz="3600" spc="-1" strike="noStrike">
                <a:solidFill>
                  <a:srgbClr val="990033"/>
                </a:solidFill>
                <a:latin typeface="Arial"/>
              </a:rPr>
              <a:t>: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125360"/>
            <a:ext cx="8785080" cy="248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传统文化精神与现代意识的融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表现了人文理想主义精神、现代人的理智和感觉，同时导入深层心理的分析，融汇贯通日本式的写实主义和东方式的精神主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传统的自然描写与现代的心理刻画的融合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运用弗洛伊德的精神分析法和乔伊斯的意识流，深入挖掘人物的内心世界，又把自身与自然合一，把自然契入人物的意识流中，起到了“融合物我”的作用，从而表现了假托在自然之上的人物感情世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ahoma"/>
              </a:rPr>
              <a:t>传统的工整性与意识流的飞跃性的融合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根据现代的深层心理学原理，扩大联想与回忆的范围，同时用传统的坚实、严谨和工整的结构加以制约，使两者保持和谐。这三者的融合使传统更加深化，从而形成其文学的基本特征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81440" y="188640"/>
            <a:ext cx="47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四、创作背景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3280" y="4149720"/>
            <a:ext cx="4194360" cy="2394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3962160" cy="2222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572000" y="549360"/>
            <a:ext cx="417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这是一篇自传体的小说，作者根据自己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岁时去伊豆旅行的体验写成的。在伊豆他与巡回艺人兄妹及一家相遇相识，在与他们的交往中得到了人与人之间的平等，感受到了大家庭似的温情。听到舞女从社会的一般意义上夸奖自己“是个好人”，他第一次感到摆脱了孤儿出身的阴影，第一次感到自己是个正常的人，第一次感到满足和陶醉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100000">
              <a:srgbClr val="755e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33"/>
                </a:solidFill>
                <a:latin typeface="Times New Roman"/>
              </a:rPr>
              <a:t>五、课文讲解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</a:rPr>
              <a:t>人物塑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003640" y="1085760"/>
            <a:ext cx="3467160" cy="28544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24360" y="4292640"/>
            <a:ext cx="4968720" cy="132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没有把重点放在情节上，而只注意用敏锐、纤细的感觉和诗意化的文笔表现爱情本身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充满诗意的自然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对十四岁的舞女熏子的刻画，对女性美的挖掘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朴实天真，纯洁无瑕，无忧无虑，明艳照人。</a:t>
            </a:r>
            <a:r>
              <a:rPr b="0" lang="zh-CN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9640" y="2708280"/>
            <a:ext cx="270360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3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4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7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12:59:30Z</dcterms:created>
  <dc:creator>微软用户</dc:creator>
  <dc:description/>
  <dc:language>en-US</dc:language>
  <cp:lastModifiedBy>微软用户</cp:lastModifiedBy>
  <dcterms:modified xsi:type="dcterms:W3CDTF">2008-06-15T13:02:48Z</dcterms:modified>
  <cp:revision>2</cp:revision>
  <dc:subject/>
  <dc:title>伊豆的舞女</dc:title>
</cp:coreProperties>
</file>