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4F96-AA6B-43FA-BD8B-09582F883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DA7-8A24-45EF-A2AD-484970B7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F26D-31E1-4B53-B9B1-010AD551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4C3-FED0-4EDA-8514-52126DA4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0574-70A7-4C42-B10E-57D5B558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C83-EF7D-4497-94E1-D912CD23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C5F1-3106-42BD-A9FF-DFDD1018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426F-AD92-4F62-A2A9-0573E012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F01-AD8F-4AC5-9A3E-ABB5E258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86E-EABD-4FBE-9A70-2C96B8B2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04A2-E648-4987-ABBC-816E4F89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404-1A64-4266-A60F-97FDB27C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4492-2361-4B2B-97DE-A3BE919FFA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5400000">
            <a:off x="-196920" y="3086280"/>
            <a:ext cx="4191120" cy="1133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宋体"/>
              </a:rPr>
              <a:t>伊豆的舞女</a:t>
            </a:r>
            <a:endParaRPr b="0" lang="en-US" sz="66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492360" y="765000"/>
            <a:ext cx="48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79640" y="2205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00000" y="2924280"/>
            <a:ext cx="453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楷体"/>
              </a:rPr>
              <a:t>为“我”端茶而羞涩的薰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楷体"/>
              </a:rPr>
              <a:t>听故事时天真专注的薰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楷体"/>
              </a:rPr>
              <a:t>在浴场童心未泯的薰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620640"/>
            <a:ext cx="77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肖像描写、神态描写、动作描写，关于对薰子的细节描写，找一找，读一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67280" y="3573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华文楷体"/>
              </a:rPr>
              <a:t>还是个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80000" y="5157720"/>
            <a:ext cx="24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15772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朦胧甜美的初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5157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永不磨灭的印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553080" cy="3060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132000" y="765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雨的描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79640" y="5300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请找出相关语句并分析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134136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电影成就的一对佳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141720"/>
            <a:ext cx="230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山口百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三浦友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403280" y="2133720"/>
            <a:ext cx="734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、完成学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、下堂课放映《伊豆的舞女》电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195720" cy="6284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419640" y="189000"/>
            <a:ext cx="543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【川端康成】（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899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 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日本现、当代小说家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生在大阪。幼年父母双亡，后祖父母和姐姐又陆续病故。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孤独忧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其一生，这反映在他的创作中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毕业于东京大学国文专业。新感觉派的中心人物之一。一生创作小说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多篇，中短篇多于长篇。作品富抒情性，追求人生升华的美，并深受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佛教思想和虚无主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影响。早期多以下层女性作为小说的主人公，写她们的纯洁和不幸。后期一些作品写了近亲之间、甚至老人的变态情爱心理，表现出颓废的一面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0200" y="1125360"/>
            <a:ext cx="871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成名作小说《伊豆的舞女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描写一个高中生“我”和流浪人的感伤及不幸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《雪国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描写了雪国底层女性形体和精神上的纯洁和美，以及作家深沉的虚无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他作品还有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《浅草红团》、《水晶幻想》、《千鹤》、《山之音》和《古都》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川端担任过国际笔会副会长、日本笔会会长等职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57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被选为日本艺术院会员。曾获日本政府的文化勋章、法国政府的文化艺术勋章等。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1968</a:t>
            </a:r>
            <a:r>
              <a:rPr b="1" lang="zh-CN" sz="2800" spc="-1" strike="noStrike">
                <a:solidFill>
                  <a:srgbClr val="ff3399"/>
                </a:solidFill>
                <a:latin typeface="华文楷体"/>
                <a:ea typeface="华文楷体"/>
              </a:rPr>
              <a:t>年获诺贝尔文学奖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72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在工作室自杀去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故事的情节本身很简单：少年初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华文楷体"/>
              </a:rPr>
              <a:t>如果要再多说一点儿，便是：在一个山色空蒙的季节，一个就读于大学预科的少年，在一次娴静的旅途中，邂逅了一名美丽的舞女。写到这儿，就知道这是件极雅致的事情，汤岛是个相当古朴的小岛，有山，有水，有树，大凡散心所需的一切景物那里都有，于一名学生，是一个并不奢侈的胜地；于艺人，也是个卖艺的好去处。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43640" y="4797360"/>
            <a:ext cx="207972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故事就是从汤岛开始的，少年对在旅途中初次见面的舞女一见倾心 。故事中的两人并无世俗之人想象的卿卿我我，花前月下，乃至山盟海誓。他们只是通过几次回眸，几滴清泪来诠释这若有似无的情愫，于是眼波流转之间，上演了一出青涩而忧郁的如烟似雾的少年情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46501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4360" y="162864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本是个小岛国，因此日本人从骨子里充斥着淡淡的绝望的味道，东山魁夷如此，村上春树亦然，川端康成自然也不例外。他用浓郁的日本情调将这牵挂人心的初恋渲染得极具东方美感，那种日本人特有的哀愁、颓废，也让整篇文章充斥着《北国之春》的曲调。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6764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233935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伊豆不同于东京，东京的繁华它没有；伊豆不同于奈良，奈良的睿智它没有；伊豆更不同于京都，京都的古风古韵它也没有，它所拥有的，大概只是那淡季的忧郁与纯真的自然吧？而这份忧郁与自然又恰恰适合这朦胧的初恋，因此这段故事只有发生在伊豆这种地方才让人觉得合情合理。 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53989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最终，这个在一个合情合理的地点，恰恰时宜的季节发生的初恋故事还是有了一个恰如其分的平淡结尾：“我”终于还是回去了，在与舞女相识的整段日子里，两人始终没有捅破这层薄纸，不说也好，正如有句古话叫：“知君情深意也厚，忆人全在不言中。”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940360" y="1628640"/>
            <a:ext cx="299412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84360" y="26028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人物形象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2525760" cy="245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26920" y="4797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我”眼中的薰子？讨论总结出答案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72124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09:46:18Z</dcterms:created>
  <dc:creator>lhj</dc:creator>
  <dc:description/>
  <dc:language>en-US</dc:language>
  <cp:lastModifiedBy>lhj</cp:lastModifiedBy>
  <dcterms:modified xsi:type="dcterms:W3CDTF">2008-02-14T04:23:35Z</dcterms:modified>
  <cp:revision>10</cp:revision>
  <dc:subject/>
  <dc:title>幻灯片 1</dc:title>
</cp:coreProperties>
</file>