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C53-BE6B-4F49-AE82-8C93F1A9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F7B-4AA8-4435-B147-8081F75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EF5-5971-479D-834A-A2F229E2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3F1-C10D-4A6E-AFE0-176E4DE1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05A-4E48-489A-973F-8E7C891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2C8-300F-4E9C-AF90-F34FD7E2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079-2C6A-422E-9D93-28270CC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FD6-F1C1-46F8-B512-04B973A6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FF1-B796-4F56-BDA5-9A23A5F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CBE-E4B5-4F96-8369-E95B792A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196-8663-4536-AFBD-1415283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38C-F93A-4B0F-8DE1-0CDD918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749-6B78-48BA-897D-D0DA966A3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2421000" y="1352520"/>
            <a:ext cx="4708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永不消逝的歌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23240" y="-60480"/>
            <a:ext cx="2146320" cy="5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9605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939960" y="1563840"/>
            <a:ext cx="77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宋体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题目“永不消逝的歌声”有什么作用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68640" y="2755800"/>
            <a:ext cx="50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作者以“歌曲”为线索穿起了王洛宾的一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永不消逝”表达了对王洛宾在民歌领域贡献的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赞扬和永恒纪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8339" t="-8980" r="8253" b="20132"/>
          <a:stretch/>
        </p:blipFill>
        <p:spPr>
          <a:xfrm>
            <a:off x="3367080" y="615960"/>
            <a:ext cx="268452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7440" y="124920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什么促使王洛宾改变了最初的梦想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040" y="2079720"/>
            <a:ext cx="81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被困的马车店里，“五朵梅”演唱的花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眼泪花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打动了王洛宾的心，让他将梦想根植于民歌这块肥沃的土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7800" y="1138320"/>
            <a:ext cx="81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.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详细交代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达阪城的姑娘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这首民歌的产生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85880" y="2833560"/>
            <a:ext cx="29671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0040" y="2079720"/>
            <a:ext cx="815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对前面“他像小学生一样，拜草原的牧人和终年奔走在大漠的“赶脚人”为师，搜集、整理、改编在西北大地广泛流传的“花儿”和新疆维吾尔族、哈萨克族民歌 ”的具体阐释；不胫而走的歌曲更是对他搜集、改编辛勤付出的高度肯定，表现了他在民歌方面的突出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79640" y="2400480"/>
            <a:ext cx="524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起衬托作用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次入狱，让王洛宾在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窗里度过了漫长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，“但他始终没有失去音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是他的歌，支撑着一个不屈的灵魂，走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难以想象的艰辛与坎坷”，写出了音乐对王洛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重要性及王洛宾对音乐的执着与坚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84400" y="12780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插入王洛宾两次入狱的经历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91960" y="814320"/>
            <a:ext cx="88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蓝天白云下，它们那结实、挺拔的躯干，正昭示着生命力的顽强。”一段有什么作用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25240" y="2801880"/>
            <a:ext cx="465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了双关的修辞，既写出监狱大院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白杨树的茁壮、顽强，又暗示出度过了坎坷狱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后的王洛宾会以更加顽强的生命力迎接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46200" y="127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你如何理解“我只是一个传歌者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52600" y="2590920"/>
            <a:ext cx="82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传”即传播、传递，表现了王洛宾没有将他改编创作的歌曲视为己有，表现了他的胸怀的宽广和淡泊名利。在他看来，好听的民歌不是属于他专有，是属于大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604800" y="1409760"/>
            <a:ext cx="82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7.“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王洛宾就像一棵常青藤，他用碧绿的树叶，编织着一首首鲜活而又满含生机的歌。”说说这句话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23800" y="3630600"/>
            <a:ext cx="82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句话运用比喻的修辞，热情地赞美了王洛宾旺盛的创作能力和他创作的脍炙人口的歌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03880" y="558720"/>
            <a:ext cx="4130640" cy="1755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625320" y="1577880"/>
            <a:ext cx="77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8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王洛宾的歌“永不消逝”的根本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38600" y="275112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提示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根本的原因在于王洛宾将自己真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融入了人民群众的生活中，唱出了他们最真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美的心声，深受人民群众的喜爱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矩形 12" descr=""/>
          <p:cNvPicPr/>
          <p:nvPr/>
        </p:nvPicPr>
        <p:blipFill>
          <a:blip r:embed="rId1"/>
          <a:srcRect l="8617" t="0" r="8737" b="22643"/>
          <a:stretch/>
        </p:blipFill>
        <p:spPr>
          <a:xfrm>
            <a:off x="3379680" y="681120"/>
            <a:ext cx="2660760" cy="80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39720" y="2500200"/>
            <a:ext cx="69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王洛宾的去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35040" y="3449520"/>
            <a:ext cx="56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志向的转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4600" y="4429080"/>
            <a:ext cx="69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搜集改编民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640" y="2789280"/>
            <a:ext cx="103356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永不消逝的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2757600"/>
            <a:ext cx="168120" cy="3203640"/>
          </a:xfrm>
          <a:custGeom>
            <a:avLst/>
            <a:gdLst>
              <a:gd name="textAreaLeft" fmla="*/ 107640 w 168120"/>
              <a:gd name="textAreaRight" fmla="*/ 168480 w 168120"/>
              <a:gd name="textAreaTop" fmla="*/ 83520 h 3203640"/>
              <a:gd name="textAreaBottom" fmla="*/ 3120120 h 32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2800" y="5549760"/>
            <a:ext cx="69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取得的成就与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矩形 8" descr=""/>
          <p:cNvPicPr/>
          <p:nvPr/>
        </p:nvPicPr>
        <p:blipFill>
          <a:blip r:embed="rId1"/>
          <a:srcRect l="8651" t="0" r="8729" b="20657"/>
          <a:stretch/>
        </p:blipFill>
        <p:spPr>
          <a:xfrm>
            <a:off x="3508200" y="885960"/>
            <a:ext cx="2592720" cy="80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51680" y="541440"/>
            <a:ext cx="990720" cy="63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7720" y="1962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这么一首歌，它传唱于世界各地，让听者心灵澄澈，如闻天籁。一起欣赏这首脍炙人口的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68520" y="3751200"/>
            <a:ext cx="5430600" cy="24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67080" y="3276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3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79520" y="2385720"/>
            <a:ext cx="840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阅读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春暖花开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歌词片段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按要求作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春暖花开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这是我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每次怒放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是心中喷发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风儿吹来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我和天空的对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其实幸福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一直与我们同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春暖花开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这是我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生命如水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时平静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时澎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矩形 13" descr=""/>
          <p:cNvPicPr/>
          <p:nvPr/>
        </p:nvPicPr>
        <p:blipFill>
          <a:blip r:embed="rId1"/>
          <a:srcRect l="8905" t="0" r="8570" b="23332"/>
          <a:stretch/>
        </p:blipFill>
        <p:spPr>
          <a:xfrm>
            <a:off x="3276720" y="415800"/>
            <a:ext cx="268272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2520" y="1932840"/>
            <a:ext cx="8404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穿越阴霾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阳光洒满你窗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其实幸福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一直与我们同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(1)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将“风儿吹来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我和天空的对白”这句话扩写为一段散文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限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字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:_____________________________________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(2)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仿照“生命如水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时平静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有时澎湃”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写一句歌词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注意押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答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 ___________________________________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8760" y="1197000"/>
            <a:ext cx="502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cc00ff"/>
                </a:solidFill>
                <a:latin typeface="宋体"/>
                <a:ea typeface="宋体"/>
              </a:rPr>
              <a:t>解析</a:t>
            </a:r>
            <a:r>
              <a:rPr b="0" lang="en-US" sz="2800" spc="-1" strike="noStrike">
                <a:solidFill>
                  <a:srgbClr val="cc00ff"/>
                </a:solidFill>
                <a:latin typeface="宋体"/>
                <a:ea typeface="宋体"/>
              </a:rPr>
              <a:t>】 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本题考查扩展语句和仿用句式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(1)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扩展后的语段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需包含“我”面对“天空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内心独白和情感抒发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需体现想象中的“我”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天空”对话交流的情境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需做到想象合理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优美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诗意氤氲。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(2)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需选择与“水”相近的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事物做话题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恰当设喻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用两个分句构成对比</a:t>
            </a:r>
            <a:r>
              <a:rPr b="0" lang="en-US" sz="2800" spc="-1" strike="noStrike">
                <a:solidFill>
                  <a:srgbClr val="cc66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ff"/>
                </a:solidFill>
                <a:latin typeface="宋体"/>
                <a:ea typeface="宋体"/>
              </a:rPr>
              <a:t>尾字押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76160" y="2286000"/>
            <a:ext cx="768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答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示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: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仰望天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光穿越而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似乎生出羽翼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月明风清里飞舞。活着就幸福。我与天空沉默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儿吹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我和天空的对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命如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时轻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时豪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857160" y="3855960"/>
            <a:ext cx="74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搜集王洛宾创作的歌曲，选两三首你喜欢的歌曲，为它配上乐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597" t="0" r="8855" b="20662"/>
          <a:stretch/>
        </p:blipFill>
        <p:spPr>
          <a:xfrm>
            <a:off x="3616200" y="1654200"/>
            <a:ext cx="2590920" cy="80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5"/>
          <p:cNvSpPr/>
          <p:nvPr/>
        </p:nvSpPr>
        <p:spPr>
          <a:xfrm>
            <a:off x="1015920" y="2384280"/>
            <a:ext cx="7081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音乐是不假任何外力，直接沁人心脾的最纯的感情的火焰；它是从口吸入的空气，它是生命的血管中流通着的血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8200" y="5900760"/>
            <a:ext cx="1358640" cy="9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886120" y="824040"/>
            <a:ext cx="303516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0080" y="1149480"/>
            <a:ext cx="535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这么美的音乐是怎么创作出来的？它的作者又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走进文本，走近“西部歌王”王洛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6680" y="3159000"/>
            <a:ext cx="389268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685800" y="2281320"/>
            <a:ext cx="793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通过欣赏音乐了解王洛宾的生平。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感受王洛宾为音乐奉献终身的伟大情怀。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难点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9" descr=""/>
          <p:cNvPicPr/>
          <p:nvPr/>
        </p:nvPicPr>
        <p:blipFill>
          <a:blip r:embed="rId1"/>
          <a:srcRect l="9627" t="0" r="7848" b="25821"/>
          <a:stretch/>
        </p:blipFill>
        <p:spPr>
          <a:xfrm>
            <a:off x="3184560" y="757080"/>
            <a:ext cx="277488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3649680" y="2684520"/>
            <a:ext cx="54943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雅坤，原名佟雅坤。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94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年生。辽宁沈阳人。中共党员。中央人民广播电台著名播音员、节目主持人，播音指导，中国广播电视学会主持人节目研究委员会副会长。享受政府特殊津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0316" t="0" r="8855" b="24636"/>
          <a:stretch/>
        </p:blipFill>
        <p:spPr>
          <a:xfrm>
            <a:off x="3613320" y="549360"/>
            <a:ext cx="259056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0560" y="1271520"/>
            <a:ext cx="1874880" cy="565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33280" y="3029040"/>
            <a:ext cx="336096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709560" y="2357280"/>
            <a:ext cx="776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987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年至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998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年，雅坤任中央人民广播电台名牌综艺节目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今晚八点半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主持人，她演播的音乐专题节目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永不消逝的歌声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纪念音乐家王洛宾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获得首届中国播音作品奖一等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taoshu"/>
          <p:cNvPicPr/>
          <p:nvPr/>
        </p:nvPicPr>
        <p:blipFill>
          <a:blip r:embed="rId1"/>
          <a:stretch/>
        </p:blipFill>
        <p:spPr>
          <a:xfrm>
            <a:off x="5530680" y="644400"/>
            <a:ext cx="3365640" cy="84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1120" y="695160"/>
            <a:ext cx="1877760" cy="56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1400" y="1211400"/>
            <a:ext cx="30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背景介绍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742080" y="5495760"/>
            <a:ext cx="209556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522360" y="3049560"/>
            <a:ext cx="79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干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冽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（   ） 泥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泞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（    ）肥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沃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（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睡 （   ）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戈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壁滩 （    ） 达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坂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城 （   ）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恪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守 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(   ) 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昭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示（   ）</a:t>
            </a:r>
            <a:r>
              <a:rPr b="0" lang="zh-CN" sz="2800" spc="-1" strike="noStrike">
                <a:solidFill>
                  <a:srgbClr val="ff33cc"/>
                </a:solidFill>
                <a:latin typeface="宋体"/>
                <a:ea typeface="宋体"/>
              </a:rPr>
              <a:t>憧憬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825560" y="32637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l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491160" y="326700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895400" y="450540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02320" y="559116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5440" y="17287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注字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10316" t="0" r="8855" b="25960"/>
          <a:stretch/>
        </p:blipFill>
        <p:spPr>
          <a:xfrm>
            <a:off x="3317760" y="579600"/>
            <a:ext cx="2590920" cy="809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849320" y="384336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354560" y="384804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710160" y="447192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zh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ā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627520" y="459900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ō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ng  j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ǐ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10760" y="30877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ì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7153200" y="391644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ǎ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13360" y="541440"/>
            <a:ext cx="4130640" cy="1755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0960" y="178128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脍炙人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360" y="36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解之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4520" y="1925640"/>
            <a:ext cx="62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比喻好的诗文或事物，人人都称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7280" y="3833640"/>
            <a:ext cx="65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亲密的关系或深厚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20" y="879480"/>
            <a:ext cx="34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释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6320" y="2741760"/>
            <a:ext cx="21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纷纷扬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54400" y="3003480"/>
            <a:ext cx="64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雪、花、叶等）飘洒得多而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6120" y="46735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不胫而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63920" y="487512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容传布迅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00360" y="6081840"/>
            <a:ext cx="5057640" cy="77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9200" y="90648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浑然一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7120" y="42321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厚积薄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49600" y="110160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容完整，不可分割。也形容文章绘画，布置匀整，结构严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63920" y="449892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容只有准备充分才能办好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560" y="2468520"/>
            <a:ext cx="21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融会贯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4200" y="262584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容把各方面的知识和道理融化汇合，得到全面透彻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05:44:53Z</dcterms:created>
  <dc:creator>Administrator</dc:creator>
  <dc:description/>
  <cp:keywords/>
  <dc:language>en-US</dc:language>
  <cp:lastModifiedBy>微软用户</cp:lastModifiedBy>
  <dcterms:modified xsi:type="dcterms:W3CDTF">2019-03-30T09:34:01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