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56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6.wmf" ContentType="image/x-wmf"/>
  <Override PartName="/ppt/media/image36.wmf" ContentType="image/x-wmf"/>
  <Override PartName="/ppt/media/chimes.wav" ContentType="audio/x-wav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F04-8956-42A4-B4B6-5645E2E1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C45-01D5-45BC-ACB6-FA88B45E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77E-2719-4294-A7DC-C461DF20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53C-1385-4AB2-9D36-CAC1F5B9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D96-4805-4B4D-B755-E07C10D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27B-7790-4101-94F4-C53602EB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BF0-C9AA-48EC-BEA4-3418D2F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2B1-66CB-42C6-964F-540891CA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EE1-3ADE-48E9-8F60-FE3D9AFB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A27-B8E0-498B-A87E-BD3024D5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ABE-93C0-4108-AC8E-282D85C4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4FE-CD4B-4BD1-A26F-451BD11D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8CB-C3B4-49AE-9A1B-876D22D9FF64}" type="slidenum"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627280" y="2039760"/>
            <a:ext cx="64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367668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专题四　走进语言现场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284040" y="1074600"/>
          <a:ext cx="8577360" cy="53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074600"/>
                    <a:ext cx="857736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284040" y="1949400"/>
          <a:ext cx="8577360" cy="165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949400"/>
                    <a:ext cx="85773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284040" y="3570120"/>
          <a:ext cx="8577360" cy="1659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3570120"/>
                    <a:ext cx="857736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284040" y="1989000"/>
          <a:ext cx="8577360" cy="16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989000"/>
                    <a:ext cx="857736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284040" y="3610080"/>
          <a:ext cx="8577360" cy="165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3610080"/>
                    <a:ext cx="85773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284040" y="1989000"/>
          <a:ext cx="8577360" cy="16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989000"/>
                    <a:ext cx="857736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284040" y="3610080"/>
          <a:ext cx="8577360" cy="165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3610080"/>
                    <a:ext cx="85773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281160" y="1012680"/>
          <a:ext cx="8483400" cy="53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012680"/>
                    <a:ext cx="84834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1211400" y="2349360"/>
            <a:ext cx="6699240" cy="194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294160" y="3644280"/>
            <a:ext cx="39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探疑解惑    思本究源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909880" y="2778840"/>
            <a:ext cx="456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课堂互动探究</a:t>
            </a:r>
            <a:endParaRPr b="0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2" name="Picture 5" descr="4273899_150010822000_2副本"/>
          <p:cNvPicPr/>
          <p:nvPr/>
        </p:nvPicPr>
        <p:blipFill>
          <a:blip r:embed="rId1"/>
          <a:stretch/>
        </p:blipFill>
        <p:spPr>
          <a:xfrm>
            <a:off x="1392120" y="2433600"/>
            <a:ext cx="223380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284040" y="1366920"/>
          <a:ext cx="8577360" cy="443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366920"/>
                    <a:ext cx="857736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284040" y="1197000"/>
          <a:ext cx="857736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197000"/>
                    <a:ext cx="857736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284040" y="1258920"/>
          <a:ext cx="857736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258920"/>
                    <a:ext cx="857736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284040" y="1579680"/>
          <a:ext cx="8577360" cy="401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579680"/>
                    <a:ext cx="857736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2"/>
          <p:cNvGraphicFramePr/>
          <p:nvPr/>
        </p:nvGraphicFramePr>
        <p:xfrm>
          <a:off x="204840" y="1141560"/>
          <a:ext cx="172872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1141560"/>
                    <a:ext cx="172872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Box 8"/>
          <p:cNvSpPr/>
          <p:nvPr/>
        </p:nvSpPr>
        <p:spPr>
          <a:xfrm>
            <a:off x="1173240" y="3125880"/>
            <a:ext cx="7721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第</a:t>
            </a:r>
            <a:r>
              <a:rPr b="1" lang="en-US" sz="35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zh-CN" sz="3500" spc="-1" strike="noStrike">
                <a:solidFill>
                  <a:srgbClr val="333399"/>
                </a:solidFill>
                <a:latin typeface="Times New Roman"/>
              </a:rPr>
              <a:t>课　永不消逝的歌声</a:t>
            </a:r>
            <a:endParaRPr b="0" lang="en-US" sz="35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284040" y="2600280"/>
          <a:ext cx="8577360" cy="165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600280"/>
                    <a:ext cx="85773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284040" y="957240"/>
          <a:ext cx="857736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957240"/>
                    <a:ext cx="857736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284040" y="981000"/>
          <a:ext cx="8577360" cy="98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981000"/>
                    <a:ext cx="85773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284040" y="1973160"/>
          <a:ext cx="8577360" cy="448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1973160"/>
                    <a:ext cx="857736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284040" y="2046240"/>
          <a:ext cx="8577360" cy="276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046240"/>
                    <a:ext cx="857736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1211400" y="2349360"/>
            <a:ext cx="6699240" cy="194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294160" y="3644280"/>
            <a:ext cx="39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夯基实础    精研细琢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909880" y="2778840"/>
            <a:ext cx="456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课内知能提升</a:t>
            </a:r>
            <a:endParaRPr b="0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4" name="Picture 5" descr="4273899_150010822000_2副本"/>
          <p:cNvPicPr/>
          <p:nvPr/>
        </p:nvPicPr>
        <p:blipFill>
          <a:blip r:embed="rId1"/>
          <a:stretch/>
        </p:blipFill>
        <p:spPr>
          <a:xfrm>
            <a:off x="1392120" y="2433600"/>
            <a:ext cx="223380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281160" y="998640"/>
          <a:ext cx="848340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998640"/>
                    <a:ext cx="84834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84040" y="2876400"/>
          <a:ext cx="8577360" cy="11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876400"/>
                    <a:ext cx="857736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3"/>
          <p:cNvGraphicFramePr/>
          <p:nvPr/>
        </p:nvGraphicFramePr>
        <p:xfrm>
          <a:off x="284040" y="3956040"/>
          <a:ext cx="8577360" cy="55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3956040"/>
                    <a:ext cx="8577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284040" y="993600"/>
          <a:ext cx="8577360" cy="553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993600"/>
                    <a:ext cx="857736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284040" y="2876400"/>
          <a:ext cx="8577360" cy="11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876400"/>
                    <a:ext cx="857736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284040" y="3933720"/>
          <a:ext cx="8577360" cy="55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3933720"/>
                    <a:ext cx="8577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2"/>
          <p:cNvGraphicFramePr/>
          <p:nvPr/>
        </p:nvGraphicFramePr>
        <p:xfrm>
          <a:off x="284040" y="1052640"/>
          <a:ext cx="8577360" cy="53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052640"/>
                    <a:ext cx="8577360" cy="53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211400" y="2349360"/>
            <a:ext cx="6699240" cy="194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294160" y="3644280"/>
            <a:ext cx="39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登高揽胜    拓界展怀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909880" y="2778840"/>
            <a:ext cx="456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课前经典背诵</a:t>
            </a:r>
            <a:endParaRPr b="0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8" name="Picture 5" descr="4273899_150010822000_2副本"/>
          <p:cNvPicPr/>
          <p:nvPr/>
        </p:nvPicPr>
        <p:blipFill>
          <a:blip r:embed="rId1"/>
          <a:stretch/>
        </p:blipFill>
        <p:spPr>
          <a:xfrm>
            <a:off x="1392120" y="2433600"/>
            <a:ext cx="223380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284040" y="2322360"/>
          <a:ext cx="8577360" cy="22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322360"/>
                    <a:ext cx="8577360" cy="22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284040" y="4508640"/>
          <a:ext cx="8577360" cy="552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4508640"/>
                    <a:ext cx="85773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84040" y="933480"/>
          <a:ext cx="85773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933480"/>
                    <a:ext cx="85773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284040" y="1123920"/>
          <a:ext cx="8577360" cy="221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123920"/>
                    <a:ext cx="857736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284040" y="3235320"/>
          <a:ext cx="8577360" cy="2765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3235320"/>
                    <a:ext cx="857736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4"/>
          <p:cNvGraphicFramePr/>
          <p:nvPr/>
        </p:nvGraphicFramePr>
        <p:xfrm>
          <a:off x="284040" y="5900760"/>
          <a:ext cx="8577360" cy="55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40" y="5900760"/>
                    <a:ext cx="8577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284040" y="1274760"/>
          <a:ext cx="8577360" cy="276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274760"/>
                    <a:ext cx="857736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284040" y="3952800"/>
          <a:ext cx="8577360" cy="2212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3952800"/>
                    <a:ext cx="857736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284040" y="1265400"/>
          <a:ext cx="8577360" cy="11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265400"/>
                    <a:ext cx="857736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284040" y="2343240"/>
          <a:ext cx="8577360" cy="165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40" y="2343240"/>
                    <a:ext cx="85773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284040" y="4002120"/>
          <a:ext cx="8577360" cy="552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40" y="4002120"/>
                    <a:ext cx="85773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284040" y="4578480"/>
          <a:ext cx="8577360" cy="16588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040" y="4578480"/>
                    <a:ext cx="85773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284040" y="2322360"/>
          <a:ext cx="8577360" cy="22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322360"/>
                    <a:ext cx="8577360" cy="22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1211400" y="2349360"/>
            <a:ext cx="6699240" cy="194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294160" y="3644280"/>
            <a:ext cx="39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聚沙成塔    集腋成裘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909880" y="2778840"/>
            <a:ext cx="456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课余撷珍拾趣</a:t>
            </a:r>
            <a:endParaRPr b="0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8" name="Picture 5" descr="4273899_150010822000_2副本"/>
          <p:cNvPicPr/>
          <p:nvPr/>
        </p:nvPicPr>
        <p:blipFill>
          <a:blip r:embed="rId1"/>
          <a:stretch/>
        </p:blipFill>
        <p:spPr>
          <a:xfrm>
            <a:off x="1392120" y="2433600"/>
            <a:ext cx="223380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284040" y="1968480"/>
          <a:ext cx="8577360" cy="33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968480"/>
                    <a:ext cx="85773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284040" y="1258920"/>
          <a:ext cx="857736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258920"/>
                    <a:ext cx="857736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284040" y="1717560"/>
          <a:ext cx="8577360" cy="38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717560"/>
                    <a:ext cx="857736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284040" y="1295280"/>
          <a:ext cx="8577360" cy="44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295280"/>
                    <a:ext cx="857736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284040" y="1452600"/>
          <a:ext cx="8577360" cy="442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452600"/>
                    <a:ext cx="857736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284040" y="949320"/>
          <a:ext cx="8577360" cy="54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949320"/>
                    <a:ext cx="8577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284040" y="1000080"/>
          <a:ext cx="8577360" cy="545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000080"/>
                    <a:ext cx="857736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Object 2"/>
          <p:cNvGraphicFramePr/>
          <p:nvPr/>
        </p:nvGraphicFramePr>
        <p:xfrm>
          <a:off x="284040" y="981000"/>
          <a:ext cx="8577360" cy="553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981000"/>
                    <a:ext cx="857736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284040" y="2322360"/>
          <a:ext cx="8577360" cy="22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322360"/>
                    <a:ext cx="8577360" cy="22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284040" y="14875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4875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284040" y="1525680"/>
          <a:ext cx="8577360" cy="442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525680"/>
                    <a:ext cx="857736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284040" y="2354400"/>
          <a:ext cx="8577360" cy="222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354400"/>
                    <a:ext cx="8577360" cy="22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1187280" y="2060640"/>
            <a:ext cx="6626520" cy="2663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042920" y="1557360"/>
            <a:ext cx="25923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24920" y="1700280"/>
            <a:ext cx="325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word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部分：  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33240" y="267804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华文琥珀"/>
                <a:ea typeface="华文琥珀"/>
              </a:rPr>
              <a:t>请做：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5" name="圆角矩形 38" descr=""/>
          <p:cNvPicPr/>
          <p:nvPr/>
        </p:nvPicPr>
        <p:blipFill>
          <a:blip r:embed="rId1"/>
          <a:stretch/>
        </p:blipFill>
        <p:spPr>
          <a:xfrm>
            <a:off x="4578480" y="3938760"/>
            <a:ext cx="3443040" cy="1938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2556000" y="2492280"/>
            <a:ext cx="520200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新魏"/>
              </a:rPr>
              <a:t>课时跟踪检测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精题优选    增强实力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282920" y="4187880"/>
            <a:ext cx="41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7668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Times New Roman"/>
                <a:ea typeface="黑体"/>
              </a:rPr>
              <a:t>点此进入该</a:t>
            </a:r>
            <a:r>
              <a:rPr b="0" lang="zh-CN" sz="2400" spc="-1" strike="noStrike">
                <a:solidFill>
                  <a:srgbClr val="ffff99"/>
                </a:solidFill>
                <a:latin typeface="Times New Roman"/>
                <a:ea typeface="黑体"/>
              </a:rPr>
              <a:t>word</a:t>
            </a:r>
            <a:r>
              <a:rPr b="0" lang="zh-CN" sz="2400" spc="-1" strike="noStrike">
                <a:solidFill>
                  <a:srgbClr val="ffff99"/>
                </a:solidFill>
                <a:latin typeface="Times New Roman"/>
                <a:ea typeface="黑体"/>
              </a:rPr>
              <a:t>板块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3,-94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3,-94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284040" y="1717560"/>
          <a:ext cx="8577360" cy="38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717560"/>
                    <a:ext cx="857736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84040" y="1197000"/>
          <a:ext cx="8577360" cy="49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197000"/>
                    <a:ext cx="857736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211400" y="2349360"/>
            <a:ext cx="6699240" cy="194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294160" y="3644280"/>
            <a:ext cx="39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考点梳理    自测感悟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909880" y="2778840"/>
            <a:ext cx="456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自主高效预习</a:t>
            </a:r>
            <a:endParaRPr b="0" lang="en-US" sz="3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" name="Picture 5" descr="4273899_150010822000_2副本"/>
          <p:cNvPicPr/>
          <p:nvPr/>
        </p:nvPicPr>
        <p:blipFill>
          <a:blip r:embed="rId1"/>
          <a:stretch/>
        </p:blipFill>
        <p:spPr>
          <a:xfrm>
            <a:off x="1392120" y="2433600"/>
            <a:ext cx="223380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284040" y="1717560"/>
          <a:ext cx="8577360" cy="38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717560"/>
                    <a:ext cx="857736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284040" y="2031840"/>
          <a:ext cx="8577360" cy="32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031840"/>
                    <a:ext cx="857736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2:21:31Z</dcterms:created>
  <dc:creator/>
  <dc:description/>
  <cp:keywords/>
  <dc:language>en-US</dc:language>
  <cp:lastModifiedBy>微软用户</cp:lastModifiedBy>
  <dcterms:modified xsi:type="dcterms:W3CDTF">2019-03-30T09:45:09Z</dcterms:modified>
  <cp:revision>362</cp:revision>
  <dc:subject/>
  <dc:title>幻灯片 0</dc:title>
</cp:coreProperties>
</file>