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34.jpeg" ContentType="image/jpeg"/>
  <Override PartName="/ppt/media/image7.png" ContentType="image/png"/>
  <Override PartName="/ppt/media/image35.jpeg" ContentType="image/jpeg"/>
  <Override PartName="/ppt/media/image1.jpeg" ContentType="image/jpeg"/>
  <Override PartName="/ppt/media/image22.jpeg" ContentType="image/jpeg"/>
  <Override PartName="/ppt/media/image40.jpeg" ContentType="image/jpeg"/>
  <Override PartName="/ppt/media/image13.jpeg" ContentType="image/jpeg"/>
  <Override PartName="/ppt/media/image4.png" ContentType="image/png"/>
  <Override PartName="/ppt/media/image2.png" ContentType="image/png"/>
  <Override PartName="/ppt/media/image25.jpeg" ContentType="image/jpe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1.jpeg" ContentType="image/jpeg"/>
  <Override PartName="/ppt/media/image50.jpeg" ContentType="image/jpeg"/>
  <Override PartName="/ppt/media/image51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59.jpeg" ContentType="image/jpeg"/>
  <Override PartName="/ppt/media/image6.png" ContentType="image/png"/>
  <Override PartName="/ppt/media/image42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60.jpeg" ContentType="image/jpeg"/>
  <Override PartName="/ppt/media/image37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2.jpeg" ContentType="image/jpeg"/>
  <Override PartName="/ppt/media/image29.jpeg" ContentType="image/jpeg"/>
  <Override PartName="/ppt/media/image52.jpeg" ContentType="image/jpeg"/>
  <Override PartName="/ppt/media/image43.jpeg" ContentType="image/jpeg"/>
  <Override PartName="/ppt/media/image8.jpeg" ContentType="image/jpeg"/>
  <Override PartName="/ppt/media/image5.png" ContentType="image/png"/>
  <Override PartName="/ppt/media/image39.jpeg" ContentType="image/jpeg"/>
  <Override PartName="/ppt/media/image27.jpeg" ContentType="image/jpeg"/>
  <Override PartName="/ppt/media/image10.jpeg" ContentType="image/jpeg"/>
  <Override PartName="/ppt/media/image9.jpeg" ContentType="image/jpeg"/>
  <Override PartName="/ppt/media/image28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media/image33.jpeg" ContentType="image/jpeg"/>
  <Override PartName="/ppt/media/image36.jpeg" ContentType="image/jpeg"/>
  <Override PartName="/ppt/media/image38.jpeg" ContentType="image/jpeg"/>
  <Override PartName="/ppt/media/image44.jpeg" ContentType="image/jpeg"/>
  <Override PartName="/ppt/media/image45.jpeg" ContentType="image/jpeg"/>
  <Override PartName="/ppt/media/image46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3.jpeg" ContentType="image/jpeg"/>
  <Override PartName="/ppt/media/image54.jpeg" ContentType="image/jpeg"/>
  <Override PartName="/ppt/media/image55.jpeg" ContentType="image/jpeg"/>
  <Override PartName="/ppt/media/image57.jpeg" ContentType="image/jpeg"/>
  <Override PartName="/ppt/media/image5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5D8A1-E159-4998-8017-B52A960E8A2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本资料来自于资源最齐全的２１世纪教育网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82C46-A9B3-448E-AC1A-52AD0DF4D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FCA10-5FA2-4E60-BA39-33877EAA7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7533-9182-4258-ABA2-38E0EB5C6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E4B13-B1D4-4DED-B599-EA09846F1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69EA-F3AD-484F-81D2-046C5C1A5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46F0-8A62-488B-93EC-3FA3AF14A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3C3A-5660-41BA-BC0F-14FF2F1D7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16738-143C-4819-A0E7-8C64DDE00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4F06-A08B-4F85-A8E7-EF2EF449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53D2-5DBB-4AF8-A2E4-B98386D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E2D8-F426-45CB-A012-1A8279F42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6D8C-3993-44B9-B4A8-16D38114E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B4F94-8BAC-4E9E-A686-EE5424947CD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15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image" Target="../media/image50.jpeg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003吆喝"/>
          <p:cNvPicPr/>
          <p:nvPr/>
        </p:nvPicPr>
        <p:blipFill>
          <a:blip r:embed="rId1"/>
          <a:stretch/>
        </p:blipFill>
        <p:spPr>
          <a:xfrm>
            <a:off x="228600" y="2627280"/>
            <a:ext cx="5486400" cy="393228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6"/>
          <p:cNvSpPr/>
          <p:nvPr/>
        </p:nvSpPr>
        <p:spPr>
          <a:xfrm>
            <a:off x="2057400" y="380880"/>
            <a:ext cx="5943600" cy="26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990000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990000"/>
                </a:solidFill>
                <a:latin typeface="Arial"/>
              </a:rPr>
              <a:t>吆喝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-----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萧乾《北京城杂忆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324480" y="4995720"/>
            <a:ext cx="2819520" cy="18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21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-228600" y="0"/>
            <a:ext cx="4114800" cy="3505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3581280"/>
            <a:ext cx="3886200" cy="3276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886200" y="0"/>
            <a:ext cx="525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6705720" y="5237280"/>
            <a:ext cx="2438280" cy="16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276720"/>
            <a:ext cx="4419720" cy="3581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4419720" y="0"/>
            <a:ext cx="4724280" cy="22096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4495680" y="4419720"/>
            <a:ext cx="4648320" cy="24382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5"/>
          <a:stretch/>
        </p:blipFill>
        <p:spPr>
          <a:xfrm>
            <a:off x="4419720" y="2057400"/>
            <a:ext cx="472428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381560" y="0"/>
            <a:ext cx="4762440" cy="6858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1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1040" cy="3809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3733920"/>
            <a:ext cx="5029200" cy="31240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4952880" y="0"/>
            <a:ext cx="4191120" cy="30481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4952880" y="3048120"/>
            <a:ext cx="419112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04920" y="380880"/>
            <a:ext cx="6629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宋体"/>
              </a:rPr>
              <a:t>整体感知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905120"/>
            <a:ext cx="609588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宋体"/>
              </a:rPr>
              <a:t>    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文中写了哪些吆喝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?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作者是按什么顺序把它们组织起来的</a:t>
            </a:r>
            <a:r>
              <a:rPr b="1" lang="zh-CN" sz="6000" spc="-1" strike="noStrike">
                <a:solidFill>
                  <a:srgbClr val="000066"/>
                </a:solidFill>
                <a:latin typeface="宋体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802480" y="1523880"/>
            <a:ext cx="3570120" cy="441972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6477120" y="4724280"/>
            <a:ext cx="2666880" cy="21337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0" y="4724280"/>
            <a:ext cx="3124080" cy="21337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4"/>
          <a:stretch/>
        </p:blipFill>
        <p:spPr>
          <a:xfrm>
            <a:off x="3124080" y="4724280"/>
            <a:ext cx="3353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4572000" y="3352680"/>
            <a:ext cx="4572000" cy="35053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4572000" y="0"/>
            <a:ext cx="45720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28447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152880" y="2819520"/>
            <a:ext cx="5991120" cy="4038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4191120" y="0"/>
            <a:ext cx="4952880" cy="28195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2819520"/>
            <a:ext cx="320040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304812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4267080" cy="37591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3"/>
          <a:stretch/>
        </p:blipFill>
        <p:spPr>
          <a:xfrm>
            <a:off x="4267080" y="0"/>
            <a:ext cx="4876920" cy="3314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4267080" y="3309840"/>
            <a:ext cx="487692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87920" cy="414036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7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28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80880" y="457200"/>
            <a:ext cx="5029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吆喝其实是口头广告，随着时代的发展，这类广告在逐渐消失。但是作为一种文化遗产，自有其魅力，应注意抢救。请你将这些吆喝记录下来，并整理保存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2" descr="003吆喝"/>
          <p:cNvPicPr/>
          <p:nvPr/>
        </p:nvPicPr>
        <p:blipFill>
          <a:blip r:embed="rId1"/>
          <a:stretch/>
        </p:blipFill>
        <p:spPr>
          <a:xfrm>
            <a:off x="5562720" y="1447920"/>
            <a:ext cx="33526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335240" y="115920"/>
            <a:ext cx="2931840" cy="35290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1298520" y="4019400"/>
            <a:ext cx="2664000" cy="25783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-180000" y="1143000"/>
            <a:ext cx="1399320" cy="386712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吆 喝 模 仿 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4191120" y="2057400"/>
            <a:ext cx="761760" cy="762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8229600" y="52578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8077320" y="1828800"/>
            <a:ext cx="68580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5486400" y="3048120"/>
            <a:ext cx="4146480" cy="38098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529240" y="260280"/>
            <a:ext cx="2471760" cy="30956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7924680" y="5791320"/>
            <a:ext cx="838440" cy="8380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114800" y="5715000"/>
            <a:ext cx="838080" cy="838080"/>
          </a:xfrm>
          <a:prstGeom prst="rect">
            <a:avLst/>
          </a:prstGeom>
          <a:ln w="0">
            <a:noFill/>
          </a:ln>
        </p:spPr>
      </p:pic>
    </p:spTree>
  </p:cSld>
  <p:transition spd="med">
    <p:checker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56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56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75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9238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58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58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" dur="5561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1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" dur="2095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62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62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4357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770120" y="-29880"/>
            <a:ext cx="4674960" cy="69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冬天为什么这样冷 夏天为什么这样热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早穿皮袄午穿纱呀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围着火炉吃西瓜 花儿为什么这样红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羊儿为什么这样壮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香梨葡萄哈密瓜呀 英吉沙的小刀亮嚓嚓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克拉玛依的黑石油 库尔勒的白棉花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肥壮剽悍的伊犁马呀 巴音布鲁克的天鹅家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帅小伙的花帽子 胖大嫂的艾特莱丝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抓饭 烤肉 面肺子 馋得你直流哈拉子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这里的土叫新疆土 这里的人是新疆人</a:t>
            </a:r>
            <a:br>
              <a:rPr sz="3200"/>
            </a:br>
            <a:r>
              <a:rPr b="0" lang="zh-CN" sz="3200" spc="-1" strike="noStrike">
                <a:solidFill>
                  <a:srgbClr val="000066"/>
                </a:solidFill>
                <a:latin typeface="Arial"/>
              </a:rPr>
              <a:t>塞外风景独这好 边疆处处赛江南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96080" y="49528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308155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1522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品味吆喝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7200" spc="-1" strike="noStrike">
                <a:solidFill>
                  <a:srgbClr val="000066"/>
                </a:solidFill>
                <a:latin typeface="Arial"/>
              </a:rPr>
              <a:t>我来点评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5486400" y="1981080"/>
            <a:ext cx="3197160" cy="44830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38080" y="2743200"/>
            <a:ext cx="443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你最喜欢模仿秀中的哪个吆喝，说说理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8600" y="2133720"/>
            <a:ext cx="56386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在这此起彼伏的吆喝声中你体会到了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3352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66"/>
                </a:solidFill>
                <a:latin typeface="Arial"/>
              </a:rPr>
              <a:t>品味吆喝，体察人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5638680" y="2362320"/>
            <a:ext cx="35053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152280"/>
            <a:ext cx="8686800" cy="478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990000"/>
                </a:solidFill>
                <a:latin typeface="Arial"/>
              </a:rPr>
              <a:t>拓展延伸</a:t>
            </a: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近来我又想：一个城市要赶上时代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有些东西就得忍痛牺牲掉。什刹海吃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着河鲜了 ，七月节也不再放荷灯。要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代化，就得扔掉些东西。然而也不能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扔光了啊！ 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萧乾《北京城杂忆》 </a:t>
            </a:r>
            <a:br>
              <a:rPr sz="3200"/>
            </a:b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1955880" cy="2019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380880" y="3762360"/>
            <a:ext cx="247176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609480"/>
            <a:ext cx="617220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拓展延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             </a:t>
            </a:r>
            <a:r>
              <a:rPr b="1" lang="zh-CN" sz="6000" spc="-1" strike="noStrike">
                <a:solidFill>
                  <a:srgbClr val="000066"/>
                </a:solidFill>
                <a:latin typeface="Arial"/>
              </a:rPr>
              <a:t>新疆吆喝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724280" cy="34290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648320" y="3429000"/>
            <a:ext cx="44956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590920" cy="244476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553080" y="4762440"/>
            <a:ext cx="2590920" cy="20955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3"/>
          <a:stretch/>
        </p:blipFill>
        <p:spPr>
          <a:xfrm>
            <a:off x="0" y="4648320"/>
            <a:ext cx="2590920" cy="22096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6553080" y="0"/>
            <a:ext cx="2400480" cy="21099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5"/>
          <a:stretch/>
        </p:blipFill>
        <p:spPr>
          <a:xfrm>
            <a:off x="0" y="2438280"/>
            <a:ext cx="2590920" cy="22082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6"/>
          <a:stretch/>
        </p:blipFill>
        <p:spPr>
          <a:xfrm>
            <a:off x="6629400" y="2362320"/>
            <a:ext cx="2514600" cy="22096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7"/>
          <a:stretch/>
        </p:blipFill>
        <p:spPr>
          <a:xfrm>
            <a:off x="2895480" y="3505320"/>
            <a:ext cx="3429000" cy="3352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8"/>
          <a:stretch/>
        </p:blipFill>
        <p:spPr>
          <a:xfrm>
            <a:off x="2895480" y="304920"/>
            <a:ext cx="3333960" cy="259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4724280" cy="3352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800600" y="1752480"/>
            <a:ext cx="43434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4-05-14T02:31:20Z</dcterms:modified>
  <cp:revision>8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