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1219-2F23-4FBC-BE32-0AE240E6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A7AA-03AF-4725-9925-73E176F5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0FD7-0C19-4846-8245-94CF0A5DA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CEBC-0F0C-4A82-9708-BDB6C093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8FCB-FD75-4DE2-A60B-D89C2D63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5373-8E03-4035-A8E1-63902A79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CC59-2D6A-4AD6-BC73-C346FF2C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342D-961F-429C-A4DE-39783456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FAEE-28EA-4E32-9C2D-2C7CD4F7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104-58D4-4DBE-908F-F6077359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5E8A-1721-43C8-A052-AC8EDF5C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13A0-4DB3-4251-9661-6C5BA0A5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DDFB-6424-4776-9A64-7A67CE5B56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选 择 与 安 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352320" y="2819160"/>
            <a:ext cx="2133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朱光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2743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语言特色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990360" y="2286000"/>
            <a:ext cx="64767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本文的语言圆熟雅致，传旨达意既精细入微，又浅显洗练，自然生动，意趣盎然，毫无一般理论文章的晦涩，表现出作者运用语言的纯熟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914400"/>
            <a:ext cx="3581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思考与练习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219320" y="2209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请按照提要中第二自然段的提示，概括本文的主要观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3505320"/>
            <a:ext cx="669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你对“文章有一定的理，没有一定的法”如何理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教学目的：</a:t>
            </a:r>
            <a:r>
              <a:rPr b="0" lang="zh-TW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学习本文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类比法、例证法和引证法等</a:t>
            </a:r>
            <a:r>
              <a:rPr b="0" lang="zh-TW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论证方法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；</a:t>
            </a:r>
            <a:r>
              <a:rPr b="0" lang="zh-TW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明确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写作时如何选材与安排材料</a:t>
            </a:r>
            <a:r>
              <a:rPr b="0" lang="zh-TW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42670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教学难点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会本文运用的论证方法及旁征博引的学者文风</a:t>
            </a:r>
            <a:r>
              <a:rPr b="0" lang="zh-TW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25146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教学重点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充分阅读的基础上，正确划分文章段落，进一步理解作者的主题思想</a:t>
            </a:r>
            <a:r>
              <a:rPr b="0" lang="zh-TW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3353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作者介绍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520" y="1828440"/>
            <a:ext cx="3505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朱光潜，安徽省桐城县人。我国现代美学的开拓者和奠基者之一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要著作有</a:t>
            </a:r>
            <a:r>
              <a:rPr b="0" lang="zh-TW" sz="2800" spc="-1" strike="noStrike">
                <a:solidFill>
                  <a:srgbClr val="000000"/>
                </a:solidFill>
                <a:latin typeface="宋体"/>
              </a:rPr>
              <a:t>《西方美学史》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《文艺心理学》《谈美》《诗论》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189320" y="304920"/>
            <a:ext cx="4646880" cy="61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篇章分析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62120" y="1599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全文依据写作内容分为三部分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43828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第一部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论述选择与安排材料的重要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32288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部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-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论述选择材料和安排材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478476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第二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5-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论述安排材料的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55627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第三部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总结全文。</a:t>
            </a:r>
            <a:r>
              <a:rPr b="0" lang="zh-CN" sz="11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88000" y="4006800"/>
            <a:ext cx="183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第一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段）论述选择材料的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617220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2" h="21600">
                <a:moveTo>
                  <a:pt x="18179" y="3794"/>
                </a:moveTo>
                <a:lnTo>
                  <a:pt x="32192" y="10800"/>
                </a:lnTo>
                <a:lnTo>
                  <a:pt x="1817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下  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69608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7493"/>
                </a:moveTo>
                <a:lnTo>
                  <a:pt x="23488" y="7493"/>
                </a:lnTo>
                <a:lnTo>
                  <a:pt x="23488" y="12828"/>
                </a:lnTo>
                <a:cubicBezTo>
                  <a:pt x="23488" y="13751"/>
                  <a:pt x="24289" y="14482"/>
                  <a:pt x="25325" y="14482"/>
                </a:cubicBezTo>
                <a:lnTo>
                  <a:pt x="26987" y="14482"/>
                </a:lnTo>
                <a:cubicBezTo>
                  <a:pt x="28023" y="14482"/>
                  <a:pt x="28824" y="13751"/>
                  <a:pt x="28824" y="12828"/>
                </a:cubicBezTo>
                <a:lnTo>
                  <a:pt x="28824" y="7493"/>
                </a:lnTo>
                <a:lnTo>
                  <a:pt x="26987" y="7493"/>
                </a:lnTo>
                <a:lnTo>
                  <a:pt x="30495" y="3985"/>
                </a:lnTo>
                <a:lnTo>
                  <a:pt x="34168" y="7493"/>
                </a:lnTo>
                <a:lnTo>
                  <a:pt x="32331" y="7493"/>
                </a:lnTo>
                <a:lnTo>
                  <a:pt x="32331" y="12828"/>
                </a:lnTo>
                <a:cubicBezTo>
                  <a:pt x="32331" y="15596"/>
                  <a:pt x="29755" y="18155"/>
                  <a:pt x="26987" y="18155"/>
                </a:cubicBezTo>
                <a:lnTo>
                  <a:pt x="25325" y="18155"/>
                </a:lnTo>
                <a:cubicBezTo>
                  <a:pt x="22557" y="18155"/>
                  <a:pt x="19981" y="15596"/>
                  <a:pt x="19981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137160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297180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48320" y="1752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宋体"/>
              </a:rPr>
              <a:t>例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1981080"/>
            <a:ext cx="4267080" cy="990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从“变迁了形式，就变迁了内容”的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度，论述了选择与安排的重要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457200"/>
            <a:ext cx="6553080" cy="914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开篇点旨：在作文运思时，最重要而且最艰苦的工作不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搜寻材料，而在有了材料之后，将它们加以选择和安排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1523880"/>
            <a:ext cx="2971800" cy="3276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袅袅兮秋风，洞庭波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木叶下”， “菡萏香销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叶残，西风愁起绿波间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莎士比亚写过《夏洛克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许多作家接着写同样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型的守财奴（如莫里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《哈伯贡》和巴尔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克的《哥里阿》）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2286000"/>
            <a:ext cx="762120" cy="533520"/>
          </a:xfrm>
          <a:prstGeom prst="rightArrow">
            <a:avLst>
              <a:gd name="adj1" fmla="val 50000"/>
              <a:gd name="adj2" fmla="val 35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3581280"/>
            <a:ext cx="4267080" cy="1067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继续说明选择与安排的重要性。英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小说家斯沃夫特的观点“最好的字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最好的层次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76520" y="464832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257800"/>
            <a:ext cx="419112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以战争用兵说明选择与安排的重要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59920" y="3125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引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61360" y="4800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cc99"/>
                </a:solidFill>
                <a:latin typeface="Times New Roman"/>
              </a:rPr>
              <a:t>类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848720" y="6248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7493"/>
                </a:moveTo>
                <a:lnTo>
                  <a:pt x="23488" y="7493"/>
                </a:lnTo>
                <a:lnTo>
                  <a:pt x="23488" y="12828"/>
                </a:lnTo>
                <a:cubicBezTo>
                  <a:pt x="23488" y="13751"/>
                  <a:pt x="24289" y="14482"/>
                  <a:pt x="25325" y="14482"/>
                </a:cubicBezTo>
                <a:lnTo>
                  <a:pt x="26987" y="14482"/>
                </a:lnTo>
                <a:cubicBezTo>
                  <a:pt x="28023" y="14482"/>
                  <a:pt x="28824" y="13751"/>
                  <a:pt x="28824" y="12828"/>
                </a:cubicBezTo>
                <a:lnTo>
                  <a:pt x="28824" y="7493"/>
                </a:lnTo>
                <a:lnTo>
                  <a:pt x="26987" y="7493"/>
                </a:lnTo>
                <a:lnTo>
                  <a:pt x="30495" y="3985"/>
                </a:lnTo>
                <a:lnTo>
                  <a:pt x="34168" y="7493"/>
                </a:lnTo>
                <a:lnTo>
                  <a:pt x="32331" y="7493"/>
                </a:lnTo>
                <a:lnTo>
                  <a:pt x="32331" y="12828"/>
                </a:lnTo>
                <a:cubicBezTo>
                  <a:pt x="32331" y="15596"/>
                  <a:pt x="29755" y="18155"/>
                  <a:pt x="26987" y="18155"/>
                </a:cubicBezTo>
                <a:lnTo>
                  <a:pt x="25325" y="18155"/>
                </a:lnTo>
                <a:cubicBezTo>
                  <a:pt x="22557" y="18155"/>
                  <a:pt x="19981" y="15596"/>
                  <a:pt x="19981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开首点明文章的通病就不外两种，不知选择和不知安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的在于从反面强调选择与安排的重要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905120"/>
            <a:ext cx="48006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斯蒂芬生说文学是“剪裁的艺术”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2971800"/>
            <a:ext cx="274320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学生写作的实例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05120" y="4114800"/>
            <a:ext cx="3352680" cy="838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兵制胜的要诀在占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塞，击破主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5486400"/>
            <a:ext cx="6477120" cy="11430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《水浒传》劫生辰纲的梁山泊好汉、哈姆雷特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《儒林外史》的严监生、《红楼梦》的妙玉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1371600"/>
            <a:ext cx="60948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371600"/>
            <a:ext cx="6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99"/>
                </a:solidFill>
                <a:latin typeface="宋体"/>
              </a:rPr>
              <a:t>引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43240" y="2514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99"/>
                </a:solidFill>
                <a:latin typeface="宋体"/>
              </a:rPr>
              <a:t>例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49528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2514600"/>
            <a:ext cx="609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35812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43240" y="4952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99"/>
                </a:solidFill>
                <a:latin typeface="宋体"/>
              </a:rPr>
              <a:t>例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43240" y="3657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99"/>
                </a:solidFill>
                <a:latin typeface="宋体"/>
              </a:rPr>
              <a:t>例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304920"/>
            <a:ext cx="7086600" cy="533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兵家“常山蛇阵” 和亚里士多德为“完整” 所下定义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609624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古代文人常将布局作为呆板的形式进行写作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362320"/>
            <a:ext cx="1905120" cy="12952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论述结构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个要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层次清楚”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2362320"/>
            <a:ext cx="32004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德国学者莱森的观点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52680" y="3124080"/>
            <a:ext cx="525780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章实斋在韩退之《送孟东野序》挑例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419720"/>
            <a:ext cx="1905120" cy="13716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论述结构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个要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轻重分明”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4038480"/>
            <a:ext cx="281952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论述文章要讲轻重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4800600"/>
            <a:ext cx="281952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论述文章要有主旨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5486400"/>
            <a:ext cx="4953240" cy="9144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文章中显出轻重的两种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层次上显出；在篇幅分量上显出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838080"/>
            <a:ext cx="60948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1828800"/>
            <a:ext cx="60984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24382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32767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3657600"/>
            <a:ext cx="609480" cy="762120"/>
          </a:xfrm>
          <a:prstGeom prst="downArrow">
            <a:avLst>
              <a:gd name="adj1" fmla="val 50000"/>
              <a:gd name="adj2" fmla="val 3126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4600" y="434340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4952880"/>
            <a:ext cx="838080" cy="304920"/>
          </a:xfrm>
          <a:prstGeom prst="rightArrow">
            <a:avLst>
              <a:gd name="adj1" fmla="val 50000"/>
              <a:gd name="adj2" fmla="val 6871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5562720"/>
            <a:ext cx="838080" cy="304560"/>
          </a:xfrm>
          <a:prstGeom prst="rightArrow">
            <a:avLst>
              <a:gd name="adj1" fmla="val 50000"/>
              <a:gd name="adj2" fmla="val 6879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29440" y="3808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99"/>
                </a:solidFill>
                <a:latin typeface="宋体"/>
              </a:rPr>
              <a:t>引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619360" y="2057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99"/>
                </a:solidFill>
                <a:latin typeface="宋体"/>
              </a:rPr>
              <a:t>引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95680" y="281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99"/>
                </a:solidFill>
                <a:latin typeface="宋体"/>
              </a:rPr>
              <a:t>例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8380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99"/>
                </a:solidFill>
                <a:latin typeface="宋体"/>
              </a:rPr>
              <a:t>例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61722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7493"/>
                </a:moveTo>
                <a:lnTo>
                  <a:pt x="23488" y="7493"/>
                </a:lnTo>
                <a:lnTo>
                  <a:pt x="23488" y="12828"/>
                </a:lnTo>
                <a:cubicBezTo>
                  <a:pt x="23488" y="13751"/>
                  <a:pt x="24289" y="14482"/>
                  <a:pt x="25325" y="14482"/>
                </a:cubicBezTo>
                <a:lnTo>
                  <a:pt x="26987" y="14482"/>
                </a:lnTo>
                <a:cubicBezTo>
                  <a:pt x="28023" y="14482"/>
                  <a:pt x="28824" y="13751"/>
                  <a:pt x="28824" y="12828"/>
                </a:cubicBezTo>
                <a:lnTo>
                  <a:pt x="28824" y="7493"/>
                </a:lnTo>
                <a:lnTo>
                  <a:pt x="26987" y="7493"/>
                </a:lnTo>
                <a:lnTo>
                  <a:pt x="30495" y="3985"/>
                </a:lnTo>
                <a:lnTo>
                  <a:pt x="34168" y="7493"/>
                </a:lnTo>
                <a:lnTo>
                  <a:pt x="32331" y="7493"/>
                </a:lnTo>
                <a:lnTo>
                  <a:pt x="32331" y="12828"/>
                </a:lnTo>
                <a:cubicBezTo>
                  <a:pt x="32331" y="15596"/>
                  <a:pt x="29755" y="18155"/>
                  <a:pt x="26987" y="18155"/>
                </a:cubicBezTo>
                <a:lnTo>
                  <a:pt x="25325" y="18155"/>
                </a:lnTo>
                <a:cubicBezTo>
                  <a:pt x="22557" y="18155"/>
                  <a:pt x="19981" y="15596"/>
                  <a:pt x="19981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81080" y="990720"/>
            <a:ext cx="4724640" cy="5331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论述文章的法与理之间的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66960" y="2158920"/>
            <a:ext cx="495288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章有一定的理，没有一定的法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66960" y="3327480"/>
            <a:ext cx="4952880" cy="609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大匠能诲人以规矩，不能使人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5040" y="4572000"/>
            <a:ext cx="3276720" cy="533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神而明之，存乎其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76640" y="1523880"/>
            <a:ext cx="533520" cy="609840"/>
          </a:xfrm>
          <a:prstGeom prst="downArrow">
            <a:avLst>
              <a:gd name="adj1" fmla="val 50000"/>
              <a:gd name="adj2" fmla="val 285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76640" y="2666880"/>
            <a:ext cx="533520" cy="609840"/>
          </a:xfrm>
          <a:prstGeom prst="downArrow">
            <a:avLst>
              <a:gd name="adj1" fmla="val 50000"/>
              <a:gd name="adj2" fmla="val 2857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76640" y="396252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57640" y="281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99"/>
                </a:solidFill>
                <a:latin typeface="宋体"/>
              </a:rPr>
              <a:t>引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57640" y="4038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99"/>
                </a:solidFill>
                <a:latin typeface="宋体"/>
              </a:rPr>
              <a:t>引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3800" y="6095880"/>
            <a:ext cx="1066680" cy="457200"/>
          </a:xfrm>
          <a:custGeom>
            <a:avLst/>
            <a:gdLst>
              <a:gd name="textAreaLeft" fmla="*/ 29520 w 1066680"/>
              <a:gd name="textAreaRight" fmla="*/ 1037160 w 10666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972" y="1400"/>
                </a:lnTo>
                <a:lnTo>
                  <a:pt x="1400" y="1400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972" y="20200"/>
                </a:lnTo>
                <a:lnTo>
                  <a:pt x="48972" y="1400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2" y="20200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2" h="21600">
                <a:moveTo>
                  <a:pt x="18179" y="7493"/>
                </a:moveTo>
                <a:lnTo>
                  <a:pt x="21687" y="7493"/>
                </a:lnTo>
                <a:lnTo>
                  <a:pt x="21687" y="12828"/>
                </a:lnTo>
                <a:cubicBezTo>
                  <a:pt x="21687" y="13751"/>
                  <a:pt x="22488" y="14482"/>
                  <a:pt x="23523" y="14482"/>
                </a:cubicBezTo>
                <a:lnTo>
                  <a:pt x="25186" y="14482"/>
                </a:lnTo>
                <a:cubicBezTo>
                  <a:pt x="26222" y="14482"/>
                  <a:pt x="27022" y="13751"/>
                  <a:pt x="27022" y="12828"/>
                </a:cubicBezTo>
                <a:lnTo>
                  <a:pt x="27022" y="7493"/>
                </a:lnTo>
                <a:lnTo>
                  <a:pt x="25186" y="7493"/>
                </a:lnTo>
                <a:lnTo>
                  <a:pt x="28693" y="3985"/>
                </a:lnTo>
                <a:lnTo>
                  <a:pt x="32366" y="7493"/>
                </a:lnTo>
                <a:lnTo>
                  <a:pt x="30530" y="7493"/>
                </a:lnTo>
                <a:lnTo>
                  <a:pt x="30530" y="12828"/>
                </a:lnTo>
                <a:cubicBezTo>
                  <a:pt x="30530" y="15596"/>
                  <a:pt x="27954" y="18155"/>
                  <a:pt x="25186" y="18155"/>
                </a:cubicBezTo>
                <a:lnTo>
                  <a:pt x="23523" y="18155"/>
                </a:lnTo>
                <a:cubicBezTo>
                  <a:pt x="20756" y="18155"/>
                  <a:pt x="18179" y="15596"/>
                  <a:pt x="18179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返  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762120"/>
            <a:ext cx="2895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论述方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61760" y="160020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本文大量运用类比手法，精当，生动。文中将用兵与作文想类比，将道理说得深入浅出，形象有趣，富有说服力。文中许多生动的比喻，其实也都是类比手法的运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3429000"/>
            <a:ext cx="716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例证法和引证法运用得娴熟、恰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1911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作者从古今中外的作品、典籍中信手拈来许多生动的例子与相关材料，恰到好处地穿插入文，使文章的观点和论证建立在广泛总结前人经验的基础上，有力地证明和深化了自己的论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3T16:22:20Z</dcterms:created>
  <dc:creator>yuejie</dc:creator>
  <dc:description/>
  <dc:language>en-US</dc:language>
  <cp:lastModifiedBy>User</cp:lastModifiedBy>
  <dcterms:modified xsi:type="dcterms:W3CDTF">2007-08-24T07:40:05Z</dcterms:modified>
  <cp:revision>15</cp:revision>
  <dc:subject/>
  <dc:title>选 择 与 安 排 </dc:title>
</cp:coreProperties>
</file>