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4.png" ContentType="image/png"/>
  <Override PartName="/ppt/media/image26.jpeg" ContentType="image/jpeg"/>
  <Override PartName="/ppt/media/image3.jpeg" ContentType="image/jpeg"/>
  <Override PartName="/ppt/media/image25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8F2A-DCB4-4AFD-8763-4AC5E6212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C7DC-3CD1-4D03-ADD4-7BF6E97A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7056-7F52-4D14-92D0-20877A76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FF48-C1B2-4087-945F-A7F0F2C462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466A6-5E38-4B98-AD3D-ED5611DC7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64266-D950-49A6-9881-E881347B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60F87-B737-401A-88FD-A0DA6650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B7815-127B-468C-AC78-1B616D44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14085-868E-4BB5-9B00-8FA1214D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616A6-8647-4FB5-8108-C772F8E1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670B4-C272-4D2E-A131-7C05FB78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1C2E-310E-49E3-B83D-21AD581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706BA-80EE-41E5-99FD-3202AC3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D9FC-9741-447E-86EB-894AA344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3BE53-85EA-48BF-B31E-C1C2706F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6F29-A249-49B3-9520-4D50FA2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2A9C4-EFCE-4CD5-A430-F17191479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3EE7-FFD2-42B2-A32E-F2A2332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3EBB-1ADD-4E06-8CC3-A3A21F2F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0F99-778B-412E-AFD5-D4D3CBD2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960D-BCCD-4083-84DD-FA970931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5FCE-0018-4CD8-A312-F6201797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AA15-5D3B-4EE4-846D-6E4A833C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A9DD-BD4D-43C4-9B08-2D401FDC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7D0A-6672-46F6-B490-557CE51BA391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0BB5-8276-47A5-A105-F19CCE341EC1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54680" y="260280"/>
            <a:ext cx="23749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zh-CN" sz="7200" spc="-1" strike="noStrike">
                <a:solidFill>
                  <a:srgbClr val="66ffff"/>
                </a:solidFill>
                <a:latin typeface="Arial"/>
              </a:rPr>
              <a:t>心中那盏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89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语 文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版 三 年 级 下 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76360" y="4581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没过几天，冰灯就化了。但是，我的心里却一直珍藏着那盏冰灯，那是一盏最美的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68800" y="3908520"/>
            <a:ext cx="111240" cy="19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-322200" y="0"/>
            <a:ext cx="9723240" cy="7223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404640"/>
            <a:ext cx="91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wo99_com_Magicboulevard_伴奏" descr=""/>
          <p:cNvPicPr/>
          <p:nvPr/>
        </p:nvPicPr>
        <p:blipFill>
          <a:blip r:embed="rId4"/>
          <a:stretch/>
        </p:blipFill>
        <p:spPr>
          <a:xfrm>
            <a:off x="9036000" y="6886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4360" y="2133720"/>
            <a:ext cx="717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0240" y="1441440"/>
            <a:ext cx="935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那是一盏用“＿心＿”做成的灯，所以我觉得“＿＿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31431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252360" y="3017880"/>
            <a:ext cx="90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ff"/>
                </a:solidFill>
                <a:latin typeface="Arial"/>
              </a:rPr>
              <a:t>那是一盏用“＿爱＿”做成的灯，所以我觉得“＿＿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18960" y="4643280"/>
            <a:ext cx="971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是一盏用“＿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＿”做成的灯，所以我觉得“＿＿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4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4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4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22320" y="1440"/>
            <a:ext cx="9166320" cy="6888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42560" cy="681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-33480" y="0"/>
            <a:ext cx="9177480" cy="6886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-44280" y="0"/>
            <a:ext cx="9188280" cy="6886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-31680" y="-23760"/>
            <a:ext cx="9175680" cy="6910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-63360" y="-23760"/>
            <a:ext cx="9235800" cy="6910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-104760" y="0"/>
            <a:ext cx="9283680" cy="6848640"/>
          </a:xfrm>
          <a:prstGeom prst="rect">
            <a:avLst/>
          </a:prstGeom>
          <a:ln w="0">
            <a:noFill/>
          </a:ln>
        </p:spPr>
      </p:pic>
      <p:pic>
        <p:nvPicPr>
          <p:cNvPr id="150" name="钢琴曲-天之痕_配乐" descr=""/>
          <p:cNvPicPr/>
          <p:nvPr/>
        </p:nvPicPr>
        <p:blipFill>
          <a:blip r:embed="rId8"/>
          <a:stretch/>
        </p:blipFill>
        <p:spPr>
          <a:xfrm>
            <a:off x="6084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2833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00000" y="1125360"/>
            <a:ext cx="1866960" cy="6210360"/>
          </a:xfrm>
          <a:prstGeom prst="rect">
            <a:avLst/>
          </a:prstGeom>
          <a:ln w="0">
            <a:noFill/>
          </a:ln>
        </p:spPr>
      </p:pic>
      <p:pic>
        <p:nvPicPr>
          <p:cNvPr id="155" name="21 (1)" descr=""/>
          <p:cNvPicPr/>
          <p:nvPr/>
        </p:nvPicPr>
        <p:blipFill>
          <a:blip r:embed="rId4"/>
          <a:stretch/>
        </p:blipFill>
        <p:spPr>
          <a:xfrm>
            <a:off x="8820000" y="652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1480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8145360" y="1052640"/>
            <a:ext cx="4590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56720" y="404640"/>
            <a:ext cx="219132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-17640" y="-9360"/>
            <a:ext cx="9199800" cy="688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90560" y="5632560"/>
            <a:ext cx="788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父 亲！ 感 恩 有 你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感恩的心" descr=""/>
          <p:cNvPicPr/>
          <p:nvPr/>
        </p:nvPicPr>
        <p:blipFill>
          <a:blip r:embed="rId4"/>
          <a:stretch/>
        </p:blipFill>
        <p:spPr>
          <a:xfrm>
            <a:off x="8748720" y="652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6861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20520" y="1440"/>
            <a:ext cx="916452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74400" y="1413000"/>
            <a:ext cx="16426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谢 谢 指 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5300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但是，我的心里却一直珍藏着那盏灯，那是一盏最美的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o99_com_Magicboulevard_伴奏" descr=""/>
          <p:cNvPicPr/>
          <p:nvPr/>
        </p:nvPicPr>
        <p:blipFill>
          <a:blip r:embed="rId3"/>
          <a:stretch/>
        </p:blipFill>
        <p:spPr>
          <a:xfrm>
            <a:off x="8748720" y="6670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52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163080" cy="6913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1197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895840" cy="5002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2360" y="1467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我努力睁开眼睛，只见父亲在离炕（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kàng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沿很远的地方，一只手托着块东西，另一只手在里边         着。我发现父亲正在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一块冰，姿势很像洗碗。父亲每       一阵，就停下来在衣襟（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jīn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上擦擦手，再把双手捂在自己的脖子上暖和一会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2920" y="2349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打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708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打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14172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打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-23760" y="1700280"/>
            <a:ext cx="4707000" cy="4087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08000" y="6093000"/>
            <a:ext cx="61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那 是 一 双＿＿＿的手 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650880"/>
            <a:ext cx="9144000" cy="750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1341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父亲每打磨一阵，就停下来在衣襟上擦擦手，再把双手捂在自己的脖子上暖和一会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2895480" cy="5011560"/>
          </a:xfrm>
          <a:prstGeom prst="rect">
            <a:avLst/>
          </a:prstGeom>
          <a:ln w="0">
            <a:noFill/>
          </a:ln>
        </p:spPr>
      </p:pic>
      <p:pic>
        <p:nvPicPr>
          <p:cNvPr id="108" name="wo99_com_Magicboulevard_伴奏" descr=""/>
          <p:cNvPicPr/>
          <p:nvPr/>
        </p:nvPicPr>
        <p:blipFill>
          <a:blip r:embed="rId4"/>
          <a:stretch/>
        </p:blipFill>
        <p:spPr>
          <a:xfrm>
            <a:off x="8820000" y="652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cmd type="call" cmd="playFrom(0.0)">
                                      <p:cBhvr>
                                        <p:cTn id="38" dur="24352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1916280"/>
            <a:ext cx="53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19080" y="-9360"/>
            <a:ext cx="9163080" cy="6868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16000" y="1773360"/>
            <a:ext cx="68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我说：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Arial"/>
              </a:rPr>
              <a:t>“爹，你干啥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Arial"/>
              </a:rPr>
              <a:t>父亲说：“醒了？天还早呢，再睡一会儿吧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40360" y="-446040"/>
            <a:ext cx="3243240" cy="4500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348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06064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又说：“爹，你干啥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父亲把脸扭过来，有点尴尬的说：“我也想给你做个玻璃灯笼，可哪有玻璃呢？后来我就寻思着给你做个冰灯吧。这不，冰冻了一晚上，我正给你做着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-20520" y="0"/>
            <a:ext cx="9128160" cy="6813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7760" y="295200"/>
            <a:ext cx="77155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407664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说﹕“爹，你冷不冷﹖来这儿暖和暖和吧！”随即，我撩（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iāo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起了盖在身上的被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父亲急忙赶过来，帮我掖（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yē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好被子，连连说﹕“我不冷，我不冷，小心别冻着你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56000" y="249228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9228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黑体"/>
              </a:rPr>
              <a:t>听了父亲的话，看着他那冻得发红的双手，我的心里十分＿＿，豆大的泪珠从我的眼里滚了出来！父亲刚才给我掖被子的时候，我分明感到，他的手真凉啊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67120" y="3573360"/>
            <a:ext cx="5276880" cy="3473640"/>
          </a:xfrm>
          <a:prstGeom prst="rect">
            <a:avLst/>
          </a:prstGeom>
          <a:ln w="0">
            <a:noFill/>
          </a:ln>
        </p:spPr>
      </p:pic>
      <p:pic>
        <p:nvPicPr>
          <p:cNvPr id="128" name="21 (1)" descr=""/>
          <p:cNvPicPr/>
          <p:nvPr/>
        </p:nvPicPr>
        <p:blipFill>
          <a:blip r:embed="rId4"/>
          <a:stretch/>
        </p:blipFill>
        <p:spPr>
          <a:xfrm>
            <a:off x="8820000" y="652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1480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05:20Z</dcterms:created>
  <dc:creator>User</dc:creator>
  <dc:description/>
  <cp:keywords/>
  <dc:language>en-US</dc:language>
  <cp:lastModifiedBy>微软用户</cp:lastModifiedBy>
  <dcterms:modified xsi:type="dcterms:W3CDTF">2019-04-22T07:25:48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