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5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5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3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34.png" ContentType="image/png"/>
  <Override PartName="/ppt/media/image45.png" ContentType="image/png"/>
  <Override PartName="/ppt/media/image44.jpeg" ContentType="image/jpeg"/>
  <Override PartName="/ppt/media/image41.png" ContentType="image/png"/>
  <Override PartName="/ppt/media/image11.png" ContentType="image/png"/>
  <Override PartName="/ppt/media/image48.png" ContentType="image/png"/>
  <Override PartName="/ppt/media/image9.jpeg" ContentType="image/jpeg"/>
  <Override PartName="/ppt/media/image30.jpeg" ContentType="image/jpeg"/>
  <Override PartName="/ppt/media/image31.png" ContentType="image/png"/>
  <Override PartName="/ppt/media/image43.png" ContentType="image/png"/>
  <Override PartName="/ppt/media/image13.jpeg" ContentType="image/jpeg"/>
  <Override PartName="/ppt/media/image23.png" ContentType="image/png"/>
  <Override PartName="/ppt/media/image46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2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3248-6274-43A1-AB52-0551C591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70E-960B-4781-B32E-9ED7C079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9DF-578E-4E55-8CFE-DAA300FC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96B-3D52-400E-BD5B-3B56316B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14A-3801-4D2B-A114-B0256277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72F-4536-4FA5-8D93-8D5B1315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892-6C7D-4276-8147-9442C214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A3F9-6788-48DA-B7BF-23571611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D08-88A9-4FF1-870D-8D03EBE3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35E-B75F-4078-B572-3E688268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53D-05BC-4FF4-86F6-7AD71B43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C11-08FD-45BA-94A9-C2F1E3D0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84D5-6FB3-47FD-80CD-EF1A484CB6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5720" y="230400"/>
            <a:ext cx="5254560" cy="60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大小多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一个大 ，一个小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一只老虎一只猫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一边多，一边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一群大雁一只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数一数，瞧一瞧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大小多少记得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89840" y="228600"/>
            <a:ext cx="8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我们俩的头发还会越长越长。”爱美和小丽得意地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27360" y="68580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会长多长？”小真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10840" y="1676520"/>
            <a:ext cx="8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对啊，爱美。”小丽回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5440" y="114300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会把我的整个背 全——部 都遮住。”爱美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238880" y="1066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才只有遮住后背那么长呀！我的头发长长的时候，那才真叫长呢！”小真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1040" y="53352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真的？会长多长？”小丽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长好长，好长！好长！好——长唷！要说有多长啊——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981080" y="1828440"/>
            <a:ext cx="5486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猜一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小真的头发有多长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298520" y="-436680"/>
            <a:ext cx="11741040" cy="7731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6765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要是从桥上把辫子垂下去，就能钓到鱼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304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挂上一点儿鱼饵，河里的鱼，不管什么样的，都能钓上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55627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还有呢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8610480" cy="914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96360" y="251460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还有呢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3934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41040" y="22860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要是在野外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38280" y="2362320"/>
            <a:ext cx="221004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676520" y="1219320"/>
            <a:ext cx="1790640" cy="752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666880" y="1752480"/>
            <a:ext cx="2133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找一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281952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小真的长头发哪儿去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10666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要是睡在野外，只要把头发一圈一圈地绕在身上，可比盖什么棉被都要暖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24560" y="502920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还有呢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75240" y="0"/>
            <a:ext cx="54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125880" y="228960"/>
            <a:ext cx="2619000" cy="61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小宝宝，认认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大门、小门、中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红门、黑门、蓝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铁门、铜门、木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开门、关门、锁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先得认清自家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104800" y="3354480"/>
            <a:ext cx="2131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小宝宝，晾衣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上衣、裤子、小袜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裙子、背心、小短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毛巾、手帕、小手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辫子来当晾衣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妈妈夸我真能干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343400"/>
            <a:ext cx="2133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62520" y="3962520"/>
            <a:ext cx="4876560" cy="1447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90720" y="49528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编一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2895840" cy="2776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572000" cy="281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3880" y="411480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PMingLiU"/>
              </a:rPr>
              <a:t>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PMingLiU"/>
              </a:rPr>
              <a:t>哪个大？        哪个小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5105520"/>
            <a:ext cx="320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33"/>
                </a:solidFill>
                <a:latin typeface="Arial"/>
              </a:rPr>
              <a:t>老虎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5105520"/>
            <a:ext cx="350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996633"/>
                </a:solidFill>
                <a:latin typeface="Arial"/>
              </a:rPr>
              <a:t>小猫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447920" y="182844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小真的头发有什么作用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2419200" cy="5448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800600" y="34290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钓   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3800" y="2392920"/>
            <a:ext cx="31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diào   y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971800" y="51814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拉   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419004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lā    ni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628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33526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当 被 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4200" y="2132640"/>
            <a:ext cx="37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dāng  bèi  zi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0" y="68580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14600" y="4876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晾   衣  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3760" y="3732840"/>
            <a:ext cx="42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liàng    yī    f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800600" y="34290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钓   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3800" y="2392920"/>
            <a:ext cx="31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diào   y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971800" y="51814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拉   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19004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lā    ni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33526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当 被 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4200" y="2132640"/>
            <a:ext cx="37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dāng  bèi  zi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14600" y="4876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晾   衣  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3760" y="3732840"/>
            <a:ext cx="42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liàng    yī    f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447920" y="182844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想一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小真的头发还有什么作用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411480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PMingLiU"/>
              </a:rPr>
              <a:t>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PMingLiU"/>
              </a:rPr>
              <a:t>什么多？         什么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5105520"/>
            <a:ext cx="320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33"/>
                </a:solidFill>
                <a:latin typeface="Arial"/>
              </a:rPr>
              <a:t>大雁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510552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996633"/>
                </a:solidFill>
                <a:latin typeface="Arial"/>
              </a:rPr>
              <a:t>小鸟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800600" cy="2819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15000" y="1295280"/>
            <a:ext cx="3124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50292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小事一桩啦！不过说来大家听听，也很有趣。”小真回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664000" y="-190440"/>
            <a:ext cx="3814560" cy="72388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362320" cy="6248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400800" y="2895480"/>
            <a:ext cx="28954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839080" cy="44780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853452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791320" y="5791320"/>
            <a:ext cx="289548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990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28600" y="5029200"/>
            <a:ext cx="8610480" cy="1295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1828800"/>
            <a:ext cx="82580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505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38080" y="4876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变成一个大树林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6386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变成一个好棒，好棒的树林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753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447920" y="182844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画一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请你帮小真画一个神奇的大树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89015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3880" y="411480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PMingLiU"/>
              </a:rPr>
              <a:t>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PMingLiU"/>
              </a:rPr>
              <a:t>哪个高？         哪个矮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5105520"/>
            <a:ext cx="350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33"/>
                </a:solidFill>
                <a:latin typeface="Arial"/>
              </a:rPr>
              <a:t>哥哥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5105520"/>
            <a:ext cx="358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996633"/>
                </a:solidFill>
                <a:latin typeface="Arial"/>
              </a:rPr>
              <a:t>妹妹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71800" y="457200"/>
            <a:ext cx="3292560" cy="3733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8120" y="533520"/>
            <a:ext cx="12859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419112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PMingLiU"/>
              </a:rPr>
              <a:t>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PMingLiU"/>
              </a:rPr>
              <a:t>谁的头发长？   谁的头发短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25780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Arial"/>
              </a:rPr>
              <a:t>妹妹的头发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533412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996633"/>
                </a:solidFill>
                <a:latin typeface="Arial"/>
              </a:rPr>
              <a:t>哥哥的头发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71800" y="457200"/>
            <a:ext cx="3292560" cy="3733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8120" y="533520"/>
            <a:ext cx="12859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72520" cy="51879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09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小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533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小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1371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爱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54864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996633"/>
                </a:solidFill>
                <a:latin typeface="Arial"/>
              </a:rPr>
              <a:t>爱美的头发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44956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PMingLiU"/>
              </a:rPr>
              <a:t>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PMingLiU"/>
              </a:rPr>
              <a:t>谁的头发长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54864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Arial"/>
              </a:rPr>
              <a:t>小丽的头发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44956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PMingLiU"/>
              </a:rPr>
              <a:t>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PMingLiU"/>
              </a:rPr>
              <a:t>谁的头发短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54100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Arial"/>
              </a:rPr>
              <a:t>小真的头发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72520" cy="5187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209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小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5335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小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2920" y="1371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爱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95288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PMingLiU"/>
              </a:rPr>
              <a:t>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PMingLiU"/>
              </a:rPr>
              <a:t>爱美和小丽都留着长头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PMingLiU"/>
              </a:rPr>
              <a:t>    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PMingLiU"/>
              </a:rPr>
              <a:t>小真却剪着短短的娃娃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638600" cy="6800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924360" y="3062160"/>
            <a:ext cx="1295280" cy="733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924360" y="3062160"/>
            <a:ext cx="1295280" cy="73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086600" y="4800600"/>
            <a:ext cx="1847880" cy="1638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34066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娃 娃 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28600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wá  wa  tó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808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657600" y="2895480"/>
            <a:ext cx="2590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4:21:26Z</dcterms:created>
  <dc:creator>Administrator</dc:creator>
  <dc:description/>
  <dc:language>en-US</dc:language>
  <cp:lastModifiedBy>微软用户</cp:lastModifiedBy>
  <dcterms:modified xsi:type="dcterms:W3CDTF">2019-03-14T04:46:3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