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0FD-9291-407D-AEAE-B38EFD36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9B8-A66A-4887-9E1E-66E47D74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17A-DC31-42D5-A928-5AC5CC91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DD7-AFD6-4868-8EF9-335E3260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621E-E457-4C66-BCA0-D7840654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C69A-AD68-4DA8-BC7B-18DE4D11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F664-D6B4-401D-8422-9167BEE6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165F-233D-4F94-9502-3E8A4A30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4E49-0CDC-4483-9273-B8EEBD30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6CF3-2082-422D-AC9B-D45AEA8F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C322-060A-41C3-9A20-CF5AFAB3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48B-73E6-4438-A535-67B62DBA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F2AD-BA75-4B39-A223-903E6682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EC50-F47A-4E3D-81EF-223CEFC5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4A73-CD3A-4D4C-9715-66DB21EC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6546-8658-4BBA-95FA-0F760853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4A49-5999-45C9-8B71-E168FCBE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91D-7DC5-4A0E-98F4-E88B0BD9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A07-5719-40C2-9E89-82A0CECE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53C-8EA7-4DB8-9F40-37A266EF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B4D-E7E6-499C-977B-1A6DDE3E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195-ECB3-4509-ADE2-FFFCD0BB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D05-3DB7-4AB9-AAE2-E266169A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9FD-B06D-40C6-82E2-FE34259C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5680" y="-93600"/>
            <a:ext cx="2770920" cy="6950160"/>
            <a:chOff x="-85680" y="-93600"/>
            <a:chExt cx="2770920" cy="6950160"/>
          </a:xfrm>
        </p:grpSpPr>
        <p:sp>
          <p:nvSpPr>
            <p:cNvPr id="1" name="Freeform 3"/>
            <p:cNvSpPr/>
            <p:nvPr/>
          </p:nvSpPr>
          <p:spPr>
            <a:xfrm>
              <a:off x="-6480" y="5178600"/>
              <a:ext cx="748440" cy="127296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760" y="3921840"/>
              <a:ext cx="888840" cy="720360"/>
              <a:chOff x="68760" y="3921840"/>
              <a:chExt cx="888840" cy="72036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8080" y="3943080"/>
                <a:ext cx="228240" cy="264240"/>
              </a:xfrm>
              <a:custGeom>
                <a:avLst/>
                <a:gdLst>
                  <a:gd name="textAreaLeft" fmla="*/ 360 w 228240"/>
                  <a:gd name="textAreaRight" fmla="*/ 228960 w 22824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7920" y="4310640"/>
                <a:ext cx="389160" cy="220680"/>
              </a:xfrm>
              <a:custGeom>
                <a:avLst/>
                <a:gdLst>
                  <a:gd name="textAreaLeft" fmla="*/ -360 w 389160"/>
                  <a:gd name="textAreaRight" fmla="*/ 389160 w 389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1080" y="4155120"/>
                <a:ext cx="405720" cy="111600"/>
              </a:xfrm>
              <a:custGeom>
                <a:avLst/>
                <a:gdLst>
                  <a:gd name="textAreaLeft" fmla="*/ -360 w 405720"/>
                  <a:gd name="textAreaRight" fmla="*/ 405720 w 40572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4000" y="2755800"/>
              <a:ext cx="1126440" cy="1219320"/>
            </a:xfrm>
            <a:custGeom>
              <a:avLst/>
              <a:gdLst>
                <a:gd name="textAreaLeft" fmla="*/ 0 w 1126440"/>
                <a:gd name="textAreaRight" fmla="*/ 1126800 w 112644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2601000"/>
              <a:ext cx="2685240" cy="3117600"/>
              <a:chOff x="0" y="2601000"/>
              <a:chExt cx="26852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736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5480" y="2841840"/>
                <a:ext cx="815400" cy="1021680"/>
              </a:xfrm>
              <a:custGeom>
                <a:avLst/>
                <a:gdLst>
                  <a:gd name="textAreaLeft" fmla="*/ -360 w 815400"/>
                  <a:gd name="textAreaRight" fmla="*/ 815400 w 81540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856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800" y="3792240"/>
                <a:ext cx="264600" cy="308160"/>
              </a:xfrm>
              <a:custGeom>
                <a:avLst/>
                <a:gdLst>
                  <a:gd name="textAreaLeft" fmla="*/ -360 w 264600"/>
                  <a:gd name="textAreaRight" fmla="*/ 264600 w 26460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920" y="3854520"/>
                <a:ext cx="64800" cy="181800"/>
              </a:xfrm>
              <a:custGeom>
                <a:avLst/>
                <a:gdLst>
                  <a:gd name="textAreaLeft" fmla="*/ 360 w 64800"/>
                  <a:gd name="textAreaRight" fmla="*/ 65520 w 6480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5760"/>
                <a:ext cx="1832400" cy="1662840"/>
                <a:chOff x="852840" y="4055760"/>
                <a:chExt cx="1832400" cy="16628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5960"/>
                  <a:ext cx="474480" cy="1213920"/>
                </a:xfrm>
                <a:custGeom>
                  <a:avLst/>
                  <a:gdLst>
                    <a:gd name="textAreaLeft" fmla="*/ 360 w 474480"/>
                    <a:gd name="textAreaRight" fmla="*/ 475200 w 474480"/>
                    <a:gd name="textAreaTop" fmla="*/ 0 h 1213920"/>
                    <a:gd name="textAreaBottom" fmla="*/ 1214280 h 12139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標楷體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3760"/>
                  <a:ext cx="108720" cy="497880"/>
                </a:xfrm>
                <a:custGeom>
                  <a:avLst/>
                  <a:gdLst>
                    <a:gd name="textAreaLeft" fmla="*/ 360 w 108720"/>
                    <a:gd name="textAreaRight" fmla="*/ 109440 w 108720"/>
                    <a:gd name="textAreaTop" fmla="*/ 0 h 497880"/>
                    <a:gd name="textAreaBottom" fmla="*/ 498240 h 4978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標楷體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560"/>
                  <a:ext cx="198360" cy="83520"/>
                </a:xfrm>
                <a:custGeom>
                  <a:avLst/>
                  <a:gdLst>
                    <a:gd name="textAreaLeft" fmla="*/ -360 w 198360"/>
                    <a:gd name="textAreaRight" fmla="*/ 198360 w 19836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標楷體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8720" y="6173640"/>
              <a:ext cx="789840" cy="635040"/>
              <a:chOff x="468720" y="6173640"/>
              <a:chExt cx="789840" cy="63504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040" y="6174000"/>
                <a:ext cx="197640" cy="2523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3840"/>
                <a:ext cx="337320" cy="21060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7360" y="6410880"/>
                <a:ext cx="351360" cy="106560"/>
              </a:xfrm>
              <a:custGeom>
                <a:avLst/>
                <a:gdLst>
                  <a:gd name="textAreaLeft" fmla="*/ 0 w 351360"/>
                  <a:gd name="textAreaRight" fmla="*/ 351720 w 3513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8600" y="1775880"/>
              <a:ext cx="784080" cy="693360"/>
              <a:chOff x="318600" y="1775880"/>
              <a:chExt cx="78408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7080"/>
                <a:ext cx="207360" cy="29736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000" y="2154240"/>
                <a:ext cx="354600" cy="24840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7440" y="2206080"/>
                <a:ext cx="369360" cy="12564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4560" y="0"/>
              <a:ext cx="546120" cy="581400"/>
              <a:chOff x="1294560" y="0"/>
              <a:chExt cx="54612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4560" y="0"/>
                <a:ext cx="173520" cy="218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640" cy="18216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182160"/>
                  <a:gd name="textAreaBottom" fmla="*/ 182160 h 1821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640" y="489240"/>
                <a:ext cx="309240" cy="9216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9320" y="149400"/>
              <a:ext cx="1108800" cy="1199880"/>
            </a:xfrm>
            <a:custGeom>
              <a:avLst/>
              <a:gdLst>
                <a:gd name="textAreaLeft" fmla="*/ 0 w 1108800"/>
                <a:gd name="textAreaRight" fmla="*/ 1109160 w 110880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4840" y="5403600"/>
              <a:ext cx="209160" cy="2649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3360" y="5702040"/>
              <a:ext cx="104400" cy="680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8720" y="6524640"/>
              <a:ext cx="186840" cy="33192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1080" y="6299280"/>
              <a:ext cx="205920" cy="203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1080" y="6269040"/>
              <a:ext cx="74160" cy="13644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080" y="5141880"/>
              <a:ext cx="788400" cy="117468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2400" y="650520"/>
              <a:ext cx="545760" cy="38880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4840" y="1200240"/>
              <a:ext cx="264960" cy="182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880" y="453960"/>
              <a:ext cx="232920" cy="2541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5480" y="1144440"/>
              <a:ext cx="97920" cy="15408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9160" y="739440"/>
              <a:ext cx="113760" cy="65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1080" y="1406520"/>
              <a:ext cx="571320" cy="10317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9640" y="132840"/>
              <a:ext cx="1275480" cy="1089000"/>
            </a:xfrm>
            <a:custGeom>
              <a:avLst/>
              <a:gdLst>
                <a:gd name="textAreaLeft" fmla="*/ 0 w 1275480"/>
                <a:gd name="textAreaRight" fmla="*/ 1275840 w 127548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7E73-EA8C-466A-9D5A-3B5D0015C485}" type="slidenum">
              <a:rPr b="0" lang="zh-CN" sz="1400" spc="-1" strike="noStrike">
                <a:solidFill>
                  <a:srgbClr val="006699"/>
                </a:solidFill>
                <a:latin typeface="Verdana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38920" y="1037520"/>
              <a:ext cx="1017360" cy="1262520"/>
              <a:chOff x="4138920" y="1037520"/>
              <a:chExt cx="10173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4720" y="1075680"/>
                <a:ext cx="286920" cy="37944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38600" y="1608840"/>
                <a:ext cx="489960" cy="316440"/>
              </a:xfrm>
              <a:custGeom>
                <a:avLst/>
                <a:gdLst>
                  <a:gd name="textAreaLeft" fmla="*/ 0 w 489960"/>
                  <a:gd name="textAreaRight" fmla="*/ 490320 w 489960"/>
                  <a:gd name="textAreaTop" fmla="*/ 0 h 316440"/>
                  <a:gd name="textAreaBottom" fmla="*/ 316440 h 316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099320" y="1966320"/>
                <a:ext cx="510480" cy="16056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360" y="297360"/>
              <a:ext cx="889560" cy="832680"/>
              <a:chOff x="5643360" y="297360"/>
              <a:chExt cx="889560" cy="8326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600" y="799560"/>
                <a:ext cx="179280" cy="36144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920" y="478800"/>
                <a:ext cx="306360" cy="3016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480" y="39708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8920" y="431640"/>
              <a:ext cx="1692360" cy="1148040"/>
              <a:chOff x="358920" y="431640"/>
              <a:chExt cx="1692360" cy="114804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59520" y="1050120"/>
                <a:ext cx="357480" cy="531360"/>
              </a:xfrm>
              <a:custGeom>
                <a:avLst/>
                <a:gdLst>
                  <a:gd name="textAreaLeft" fmla="*/ -360 w 357480"/>
                  <a:gd name="textAreaRight" fmla="*/ 357480 w 357480"/>
                  <a:gd name="textAreaTop" fmla="*/ 0 h 531360"/>
                  <a:gd name="textAreaBottom" fmla="*/ 531720 h 531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5480" y="575280"/>
                <a:ext cx="610560" cy="443160"/>
              </a:xfrm>
              <a:custGeom>
                <a:avLst/>
                <a:gdLst>
                  <a:gd name="textAreaLeft" fmla="*/ 360 w 610560"/>
                  <a:gd name="textAreaRight" fmla="*/ 611280 w 61056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1720" y="1090800"/>
                <a:ext cx="636120" cy="22464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>
                  <a:gd name="textAreaLeft" fmla="*/ 360 w 357120"/>
                  <a:gd name="textAreaRight" fmla="*/ 357840 w 35712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>
                  <a:gd name="textAreaLeft" fmla="*/ -360 w 610200"/>
                  <a:gd name="textAreaRight" fmla="*/ 610200 w 61020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標楷體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標楷體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70BC-16DD-4D54-AC14-0C3C11DAAD9A}" type="slidenum">
              <a:rPr b="0" lang="zh-CN" sz="1400" spc="-1" strike="noStrike">
                <a:solidFill>
                  <a:srgbClr val="006699"/>
                </a:solidFill>
                <a:latin typeface="Verdana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-snowman"/>
          <p:cNvPicPr/>
          <p:nvPr/>
        </p:nvPicPr>
        <p:blipFill>
          <a:blip r:embed="rId1"/>
          <a:stretch/>
        </p:blipFill>
        <p:spPr>
          <a:xfrm>
            <a:off x="6948360" y="5373720"/>
            <a:ext cx="1438560" cy="952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小真01"/>
          <p:cNvPicPr/>
          <p:nvPr/>
        </p:nvPicPr>
        <p:blipFill>
          <a:blip r:embed="rId2"/>
          <a:srcRect l="0" t="0" r="0" b="31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、小真怎么用头发钓鱼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、用什么方法让那头牛跟她走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、小真睡在野外不冷吗？她是怎么保暖的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、小真的头发又变成了什么？妈妈会怎样夸小真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、哪幅图最有趣？为什么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猜想：小真怎么洗头？会不会很麻烦啊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1476360" y="333360"/>
            <a:ext cx="4751280" cy="1395360"/>
          </a:xfrm>
          <a:prstGeom prst="wedgeRoundRectCallout">
            <a:avLst>
              <a:gd name="adj1" fmla="val -43583"/>
              <a:gd name="adj2" fmla="val 67518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標楷體"/>
                <a:ea typeface="宋体"/>
              </a:rPr>
              <a:t>可是，那么长的头发，洗起来不是很麻烦吗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標楷體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4284720" y="2565360"/>
            <a:ext cx="2448000" cy="1368360"/>
          </a:xfrm>
          <a:prstGeom prst="wedgeRoundRectCallout">
            <a:avLst>
              <a:gd name="adj1" fmla="val -33074"/>
              <a:gd name="adj2" fmla="val 23550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再说，怎么梳呢？那么长的头发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08"/>
          <p:cNvPicPr/>
          <p:nvPr/>
        </p:nvPicPr>
        <p:blipFill>
          <a:blip r:embed="rId1"/>
          <a:stretch/>
        </p:blipFill>
        <p:spPr>
          <a:xfrm>
            <a:off x="262728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262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抹上香波一揉，那泡沫呀，高得能够着云彩，好像一个大大的蛋卷冰激凌。唯一遗憾的是不甜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32360" y="980640"/>
            <a:ext cx="3384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宋体"/>
              </a:rPr>
              <a:t>而且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···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09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9895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13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躺在岸边，让河水冲洗头发，头发就在水里轻轻地荡来荡去，好像海带一样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7640" y="5516640"/>
            <a:ext cx="237672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標楷體"/>
              </a:rPr>
              <a:t>而且呀</a:t>
            </a:r>
            <a:r>
              <a:rPr b="1" lang="zh-CN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…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看小真是怎么样洗头的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当小真轻轻甩动头发的时候像什么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10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8876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当头发长到那么长的时候，我就已经有十个妹妹了。所以呢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宋体"/>
              </a:rPr>
              <a:t>…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322200" y="5734080"/>
            <a:ext cx="971856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身为姐姐的我只要悠闲地坐在椅子上就行了。十个妹妹会卖劲儿地给我梳头的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这么长的头发怎么梳</a:t>
            </a: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小真的十个妹妹在做什么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2"/>
          <p:cNvSpPr/>
          <p:nvPr/>
        </p:nvSpPr>
        <p:spPr>
          <a:xfrm>
            <a:off x="1763640" y="0"/>
            <a:ext cx="4032360" cy="1943280"/>
          </a:xfrm>
          <a:prstGeom prst="cloudCallout">
            <a:avLst>
              <a:gd name="adj1" fmla="val 52875"/>
              <a:gd name="adj2" fmla="val 49347"/>
            </a:avLst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9933ff"/>
                </a:solidFill>
                <a:latin typeface="標楷體"/>
                <a:ea typeface="华文楷体"/>
              </a:rPr>
              <a:t>但是，那么长的头发，平常不是很碍事吗？</a:t>
            </a:r>
            <a:r>
              <a:rPr b="1" lang="zh-CN" sz="2800" spc="-1" strike="noStrike">
                <a:solidFill>
                  <a:srgbClr val="9933ff"/>
                </a:solidFill>
                <a:latin typeface="华文楷体"/>
                <a:ea typeface="华文楷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標楷體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9" name="AutoShape 3"/>
          <p:cNvSpPr/>
          <p:nvPr/>
        </p:nvSpPr>
        <p:spPr>
          <a:xfrm flipV="1">
            <a:off x="3203640" y="2491200"/>
            <a:ext cx="3600360" cy="1081080"/>
          </a:xfrm>
          <a:prstGeom prst="wedgeEllipseCallout">
            <a:avLst>
              <a:gd name="adj1" fmla="val -70680"/>
              <a:gd name="adj2" fmla="val 17694"/>
            </a:avLst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楷体"/>
                <a:ea typeface="华文楷体"/>
              </a:rPr>
              <a:t>“</a:t>
            </a:r>
            <a:r>
              <a:rPr b="1" lang="zh-CN" sz="2400" spc="-1" strike="noStrike">
                <a:solidFill>
                  <a:srgbClr val="9933ff"/>
                </a:solidFill>
                <a:latin typeface="標楷體"/>
                <a:ea typeface="华文楷体"/>
              </a:rPr>
              <a:t>是啊。拖在地上不难受？</a:t>
            </a:r>
            <a:r>
              <a:rPr b="0" lang="zh-CN" sz="2400" spc="-1" strike="noStrike">
                <a:solidFill>
                  <a:srgbClr val="9933ff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標楷體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539640" y="260280"/>
            <a:ext cx="5545080" cy="2160720"/>
          </a:xfrm>
          <a:prstGeom prst="wedgeEllipseCallout">
            <a:avLst>
              <a:gd name="adj1" fmla="val 43500"/>
              <a:gd name="adj2" fmla="val 21712"/>
            </a:avLst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標楷體"/>
                <a:ea typeface="宋体"/>
              </a:rPr>
              <a:t>没关系呀。到那时我就把头发烫起来。于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小叶和小美说小真的长头发每天拖在脑后太麻烦了，可小真一点也不觉得麻烦，还很有趣，为什么呢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小真0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4920" y="0"/>
            <a:ext cx="9140760" cy="681660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sp>
        <p:nvSpPr>
          <p:cNvPr id="170" name="WordArt 3"/>
          <p:cNvSpPr txBox="1"/>
          <p:nvPr/>
        </p:nvSpPr>
        <p:spPr>
          <a:xfrm rot="5400000">
            <a:off x="7056000" y="2313000"/>
            <a:ext cx="180036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谁是小真？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1" name="WordArt 4"/>
          <p:cNvSpPr txBox="1"/>
          <p:nvPr/>
        </p:nvSpPr>
        <p:spPr>
          <a:xfrm rot="5400000">
            <a:off x="7735320" y="1201680"/>
            <a:ext cx="1625760" cy="463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为什么？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95280" y="5666760"/>
            <a:ext cx="83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宋体"/>
              </a:rPr>
              <a:t>我的头发就会变成树林！小鸟、松鼠、小虫子们，都来到这里，这座树林别提有多棒了。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14" name="Picture 3" descr="小真2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小真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sp>
        <p:nvSpPr>
          <p:cNvPr id="216" name="Rectangle 3"/>
          <p:cNvSpPr/>
          <p:nvPr/>
        </p:nvSpPr>
        <p:spPr>
          <a:xfrm>
            <a:off x="1258920" y="465300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標楷體"/>
                <a:ea typeface="宋体"/>
              </a:rPr>
              <a:t>小叶和小美听得入了神，羡慕地说：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9933ff"/>
                </a:solidFill>
                <a:latin typeface="標楷體"/>
                <a:ea typeface="宋体"/>
              </a:rPr>
              <a:t>哦。这真是太好了。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宋体"/>
              </a:rPr>
              <a:t>”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9933ff"/>
                </a:solidFill>
                <a:latin typeface="標楷體"/>
                <a:ea typeface="宋体"/>
              </a:rPr>
              <a:t>嗯。真是太好了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宋体"/>
              </a:rPr>
              <a:t>……”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小真24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sp>
        <p:nvSpPr>
          <p:cNvPr id="218" name="Rectangle 3"/>
          <p:cNvSpPr/>
          <p:nvPr/>
        </p:nvSpPr>
        <p:spPr>
          <a:xfrm>
            <a:off x="2962440" y="13410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標楷體"/>
                <a:ea typeface="宋体"/>
              </a:rPr>
              <a:t>小真的头发快点儿长长就好了。</a:t>
            </a:r>
            <a:r>
              <a:rPr b="1" lang="zh-CN" sz="36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1</a:t>
            </a: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、小真是怎么回答的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、她打算把头发怎么样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3</a:t>
            </a: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、烫起来的头发会是什么样？像什么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4</a:t>
            </a: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、你还见过什么样的卷发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2"/>
          <p:cNvSpPr txBox="1"/>
          <p:nvPr/>
        </p:nvSpPr>
        <p:spPr>
          <a:xfrm>
            <a:off x="2627280" y="549360"/>
            <a:ext cx="43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拓展思维  想象无限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455840" y="29415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24000" y="1844640"/>
            <a:ext cx="1176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续编故事，小真的头发还有什么作用呢？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大家也把它写下来吧，还可以写一写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其他的奇人奇事。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24" name="Picture 5" descr="149"/>
          <p:cNvPicPr/>
          <p:nvPr/>
        </p:nvPicPr>
        <p:blipFill>
          <a:blip r:embed="rId1"/>
          <a:stretch/>
        </p:blipFill>
        <p:spPr>
          <a:xfrm>
            <a:off x="5867280" y="4437000"/>
            <a:ext cx="2076480" cy="2076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4f7ba844e6a8da356a63e5c2"/>
          <p:cNvPicPr/>
          <p:nvPr/>
        </p:nvPicPr>
        <p:blipFill>
          <a:blip r:embed="rId2"/>
          <a:stretch/>
        </p:blipFill>
        <p:spPr>
          <a:xfrm>
            <a:off x="468360" y="260280"/>
            <a:ext cx="120312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457440" y="830160"/>
            <a:ext cx="26701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標楷體"/>
                <a:ea typeface="楷体_GB2312"/>
              </a:rPr>
              <a:t>小叶和小美留着长头发。她俩美得不行。</a:t>
            </a:r>
            <a:endParaRPr b="1" lang="en-US" sz="3200" spc="-1" strike="noStrike">
              <a:solidFill>
                <a:srgbClr val="000000"/>
              </a:solidFill>
              <a:latin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標楷體"/>
                <a:ea typeface="楷体_GB2312"/>
              </a:rPr>
              <a:t>小真呢，留的却是短短的妹妹头。</a:t>
            </a:r>
            <a:endParaRPr b="1" lang="en-US" sz="3200" spc="-1" strike="noStrike">
              <a:solidFill>
                <a:srgbClr val="000000"/>
              </a:solidFill>
              <a:latin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標楷體"/>
                <a:ea typeface="楷体_GB2312"/>
              </a:rPr>
              <a:t>小叶和小美说：</a:t>
            </a:r>
            <a:endParaRPr b="1" lang="en-US" sz="3200" spc="-1" strike="noStrike">
              <a:solidFill>
                <a:srgbClr val="000000"/>
              </a:solidFill>
              <a:latin typeface="標楷體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標楷體"/>
                <a:ea typeface="楷体_GB2312"/>
              </a:rPr>
              <a:t>我们的头发</a:t>
            </a:r>
            <a:r>
              <a:rPr b="1" lang="zh-CN" sz="3600" spc="-1" strike="noStrike">
                <a:solidFill>
                  <a:srgbClr val="000000"/>
                </a:solidFill>
                <a:latin typeface="標楷體"/>
                <a:ea typeface="楷体_GB2312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標楷體"/>
                <a:ea typeface="楷体_GB2312"/>
              </a:rPr>
              <a:t>能长长呢。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標楷體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標楷體"/>
                <a:ea typeface="楷体_GB2312"/>
              </a:rPr>
              <a:t>哼，能长多长？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標楷體"/>
                <a:ea typeface="楷体_GB2312"/>
              </a:rPr>
              <a:t>小真问。</a:t>
            </a:r>
            <a:endParaRPr b="1" lang="en-US" sz="3200" spc="-1" strike="noStrike">
              <a:solidFill>
                <a:srgbClr val="000000"/>
              </a:solidFill>
              <a:latin typeface="標楷體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標楷體"/>
                <a:ea typeface="楷体_GB2312"/>
              </a:rPr>
              <a:t>长得呀，能盖过腰呢。对吧？小叶。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標楷體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標楷體"/>
                <a:ea typeface="楷体_GB2312"/>
              </a:rPr>
              <a:t>对，能到腰呢。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小真0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5373720"/>
            <a:ext cx="9612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嘿！能长多长？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宋体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3"/>
          <p:cNvSpPr/>
          <p:nvPr/>
        </p:nvSpPr>
        <p:spPr>
          <a:xfrm flipH="1">
            <a:off x="324000" y="189000"/>
            <a:ext cx="5688000" cy="1079280"/>
          </a:xfrm>
          <a:prstGeom prst="wedgeRoundRectCallout">
            <a:avLst>
              <a:gd name="adj1" fmla="val -44111"/>
              <a:gd name="adj2" fmla="val 86763"/>
              <a:gd name="adj3" fmla="val 16667"/>
            </a:avLst>
          </a:prstGeom>
          <a:solidFill>
            <a:srgbClr val="edfad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怎么，你们的头发才能长那么长？我的呀，能长得更长呢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小真说。</a:t>
            </a:r>
            <a:endParaRPr b="1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732720" y="1557360"/>
            <a:ext cx="2087280" cy="3456000"/>
          </a:xfrm>
          <a:prstGeom prst="wedgeRectCallout">
            <a:avLst>
              <a:gd name="adj1" fmla="val -60796"/>
              <a:gd name="adj2" fmla="val -45037"/>
            </a:avLst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006699"/>
                </a:solidFill>
                <a:latin typeface="標楷體"/>
                <a:ea typeface="宋体"/>
              </a:rPr>
              <a:t>老长老长老长老长老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  <a:ea typeface="宋体"/>
              </a:rPr>
              <a:t>——</a:t>
            </a:r>
            <a:r>
              <a:rPr b="1" lang="zh-CN" sz="3600" spc="-1" strike="noStrike">
                <a:solidFill>
                  <a:srgbClr val="006699"/>
                </a:solidFill>
                <a:latin typeface="標楷體"/>
                <a:ea typeface="宋体"/>
              </a:rPr>
              <a:t>长！说起那个长来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  <a:ea typeface="宋体"/>
              </a:rPr>
              <a:t>······”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03"/>
          <p:cNvPicPr/>
          <p:nvPr/>
        </p:nvPicPr>
        <p:blipFill>
          <a:blip r:embed="rId1"/>
          <a:stretch/>
        </p:blipFill>
        <p:spPr>
          <a:xfrm>
            <a:off x="2843280" y="0"/>
            <a:ext cx="374328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194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要是从桥上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辫子垂下去，就能钓到鱼呢。</a:t>
            </a:r>
            <a:r>
              <a:rPr b="0" lang="zh-CN" sz="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32720" y="475920"/>
            <a:ext cx="201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挂上一点儿鱼饵，河里的鱼，不管什么样的，都能钓上来。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3938760" y="4724280"/>
            <a:ext cx="15523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標楷體"/>
                <a:ea typeface="宋体"/>
              </a:rPr>
              <a:t>还</a:t>
            </a:r>
            <a:r>
              <a:rPr b="1" lang="zh-CN" sz="3600" spc="-1" strike="noStrike">
                <a:solidFill>
                  <a:srgbClr val="ff9966"/>
                </a:solidFill>
                <a:latin typeface="標楷體"/>
              </a:rPr>
              <a:t>有呢</a:t>
            </a:r>
            <a:r>
              <a:rPr b="1" lang="zh-CN" sz="3600" spc="-1" strike="noStrike">
                <a:solidFill>
                  <a:srgbClr val="ff9966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p:transition spd="slow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04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517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317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要是从牧场的栅栏外面把辫子嗖的一下甩过去，连牛都能套上呢。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5273640"/>
            <a:ext cx="9144000" cy="8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一下子就套到牛角上，只要用劲儿拉呀拉的，一整头牛就是我的了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487560" y="6216480"/>
            <a:ext cx="17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標楷體"/>
                <a:ea typeface="宋体"/>
              </a:rPr>
              <a:t>还有呢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p:transition spd="slow"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4887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標楷體"/>
                <a:ea typeface="宋体"/>
              </a:rPr>
              <a:t>就是在露天地里，也能睡大觉。只要把头发像紫菜卷寿司那样卷在身上，就成了暄腾腾的被子了。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924000" y="3107880"/>
            <a:ext cx="12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宋体"/>
              </a:rPr>
              <a:t>而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···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761880" y="6216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標楷體"/>
                <a:ea typeface="宋体"/>
              </a:rPr>
              <a:t>还有呢</a:t>
            </a:r>
            <a:r>
              <a:rPr b="1" lang="en-US" sz="3600" spc="-1" strike="noStrike">
                <a:solidFill>
                  <a:srgbClr val="ff0000"/>
                </a:solidFill>
                <a:latin typeface="標楷體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p:transition spd="slow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06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35384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要是把右边的辫子和左边的辫子绷紧了拉在树上，家里洗的所有衣服就能一次全晾完啦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250920" y="5660640"/>
            <a:ext cx="91440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在衣服晾干以前，我就读上十本书。妈妈还会对我说：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谢谢小真啦。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宋体"/>
              </a:rPr>
              <a:t>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0:41:12Z</dcterms:created>
  <dc:creator>Administrator</dc:creator>
  <dc:description/>
  <cp:keywords/>
  <dc:language>en-US</dc:language>
  <cp:lastModifiedBy>Administrator</cp:lastModifiedBy>
  <dcterms:modified xsi:type="dcterms:W3CDTF">2017-12-10T02:06:06Z</dcterms:modified>
  <cp:revision>26</cp:revision>
  <dc:subject/>
  <dc:title>小真的長頭髮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