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0EBE-0C5B-4075-A69B-A39060B9A205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BBB5-097C-4C46-9C95-E496C4FB128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BC5E-7181-480F-BDAE-29B772578719}" type="slidenum">
              <a:rPr b="1" lang="zh-CN" sz="1200" spc="-1" strike="noStrike">
                <a:solidFill>
                  <a:srgbClr val="000000"/>
                </a:solidFill>
                <a:latin typeface="DFKai-SB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FKai-SB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073-C6B1-40A7-9632-29A37861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30F-20A5-4C2F-9E41-2E8E026D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319A7-B844-43B4-910F-B335BC60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A625A-5186-4F25-9095-2BB80BC7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566280" y="312840"/>
            <a:ext cx="80089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DFB1C-B196-466B-BCA8-06CB04F6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60283-0CCF-49EB-A1D2-13524205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6269C-43E9-41BB-96B8-178E9333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B6DF5-418E-47CC-89EA-996F7FE1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20460-B8A1-4E83-ACD5-5B4E45F5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E2C6E-ADF1-4661-B4E7-23BFFD8D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9544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6232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2856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9544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96232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052F5-E835-4D69-A8D3-6157D2CD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3D571-CA0D-49ED-BB38-774A60FF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D32-E684-417C-890F-E7151876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C5C68-0783-4495-9E96-A55E60F1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492AD-C6AD-47BE-A754-07B683E0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8FFD8-B5A5-4E9F-9EE8-7AD8A590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45F14-F4EC-4BB3-870A-9F1C59A5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566280" y="312840"/>
            <a:ext cx="80089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B3D67-58CB-4932-BD76-8939D4E3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83BC9-806F-431C-837E-F5ACC7FF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A5EB4-56FD-4F3D-805F-753BCE4B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F7DBD-B5F3-4B66-8CC8-E10AF087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8F7AF-B088-4671-92B6-9E347A18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62FD8-AA3F-4308-AC52-4CD0BB26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476-E265-4A45-A328-F6D2BC5C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9544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6232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2856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9544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6232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32CFC-F697-4FAD-A9C5-E87E2F15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6B674-5C9C-4B86-A43A-B39AA587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3F06C-7167-4E4B-80B4-14742937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8E81B-90D0-490C-9EBD-39C57ACB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B3C62-8FE7-46CB-ADE0-4B754686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DBCFB-BF11-401C-A604-8FFBE57C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566280" y="312840"/>
            <a:ext cx="80089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A2906-1924-4FA6-BFCA-6D8A8229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0B2DE-5D68-4CE1-BAE0-29DEF6C5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EBD84-420A-4E0C-B4DD-4D54BB01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A173A-38B8-4F52-B462-B63A94B0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31CB-CD64-41FE-9960-F4FAC8F3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82BA9-8F3F-4A94-8523-D3F872E5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C875A-603D-4E07-A6A6-3C9143E0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9544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6232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2856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9544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6232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F587C-FA49-4D9A-94E3-EA27ABA2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75FA0-10C9-4768-8DBD-A45DC83E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79D87-DBB8-448B-A5B6-590C3DA9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67878-D815-4645-AF81-069D9059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F5508-B0EE-467B-AC06-D2086D22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13D3B-5F66-44F5-B2CD-C4B52EDB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566280" y="312840"/>
            <a:ext cx="80089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E4FF8-5CCA-4C1D-AAC9-80D00FB2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8EE47-93EC-49D8-B63E-D8BFD33E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5822-DDB1-476C-A436-0104F7FF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0C7D2-AAC1-47FA-9676-16C781D9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11065-1D74-40AA-8A3B-DFE6BB5E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6A38A-39FE-49EE-A573-D5D02FDE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6D13C-05DC-408E-8DBE-6FC82DE9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9544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96232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2856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9544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96232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7A38C-F9AD-401B-918E-C76E7200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8C0D9-CA61-4BF2-9BDC-C2873DED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962A2-D602-4E15-9215-53FC6093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A881E-F76D-4D8D-AABC-704FAC3B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5BDDF-41E5-427F-8077-8C8E2BF9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5539F-1D12-4EA5-910A-57BBAE8C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5BE4-6C1C-4B3C-B2F5-BFC66162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566280" y="312840"/>
            <a:ext cx="80089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21715-0D8E-491B-8F50-2ADA7F74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DACF8-8D97-463A-808B-DF16E5A3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DBEC5-5238-4063-8324-980AF053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AE08E-06E6-42E5-BF2B-8BF9D3ED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3A738-772C-47F3-B5EF-14642C3C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497DB-57DF-4C13-AF46-D912FB62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9544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96232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2856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9544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596232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5819E-F5AA-4A8E-9945-113FEEEE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5BDC-2EA4-428D-9739-FE654F08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5C0B-6181-4638-A249-5A0BC168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66280" y="312840"/>
            <a:ext cx="80089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B40A-E8B2-4022-AB63-08A02A77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FE03-28C8-4671-A450-11D05B6B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274-FEAA-48CC-BD6A-E81A0F87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E9EC-58BB-43F4-B7BA-9363C1FA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31F8-3134-4539-B678-682C5DC5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A494-31AB-407F-A836-B9296077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BDDD-1CAC-4F8F-A534-6DB0A3CF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BD11-4DD6-4B14-B41B-FA3A8315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4D763-BDA3-4F45-BB41-10B62259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26EFA-3345-4FEA-BBAA-0D1003BE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3A9D-0F23-44F6-AD6F-83DA0FAF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3F822-18E9-4BA2-99DF-59360ED0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78D2-9523-4E82-8563-B94828F3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976-43BD-4DA3-B4BE-67AA97D3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66280" y="312840"/>
            <a:ext cx="80089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A2540-70A5-4DFC-8808-448FA3D6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60967-EB58-46C4-B401-E27A99DC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19E7A-69B0-4134-8AFF-B5EC1541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95E4F-036F-4095-9800-218CF44D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A3E11-B6EB-4204-A20D-C2B685D7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6B76D-4E8D-4381-8A0D-DE0189DE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9544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232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856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9544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232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9383C-DBD1-4814-9C3A-D3630F86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8596B-8A04-4C0D-8601-EAC86B67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7CFEC-3E3B-49E8-B426-1114C440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14AEC-B04C-4EDB-9302-AFBF832B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630-7B1F-40C4-95DE-A68E7677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3A1F5-F8D5-4575-9A43-23ED1071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FF711-4233-4D1F-96FA-01AFED93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566280" y="312840"/>
            <a:ext cx="80089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3A40E-4B23-4A06-B066-680144FB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35365-7ED5-4283-B9BC-DFAB664E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5230E-96E3-4EFC-B748-D6BA38B8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43214-16D0-411A-A215-D6BD5162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42F2F-B90B-401D-B795-C32ADCCB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E9197-B3B4-4533-B213-73FC86B4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9544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6232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2856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9544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6232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CA406-ACFC-4F31-9209-830C219A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1978C-56D0-43B7-ADD1-B409D815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FB8-37BF-4D0E-AE78-02DE6299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3533C-B52B-4918-8B1D-95CD368B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F24B0-9FAE-4662-8D57-1E96204F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F9676-4EDD-4370-A96A-BF101944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01A50-6845-4AFB-B45B-CF4A46B5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566280" y="312840"/>
            <a:ext cx="80089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A3EBF-761B-4B03-A2A3-D06D7EDB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3497D-6AAB-4FDA-B68B-235CC89F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10D8D-2D27-43F4-8F50-F8C99C76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C776E-EE59-461A-BE7A-276A01FC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44444-F0E2-4D2F-8758-2EF3B5C5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DD91A-7FC7-4C6F-8F68-564E131D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66280" y="312840"/>
            <a:ext cx="80089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E91-575D-46FD-92B3-26868A4A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9544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6232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856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9544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96232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8558A-5763-44FA-A9D1-A27666D2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1BE91-BC40-4D59-A24A-1D5BB6E2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33223-7FD8-4A01-9C6B-F54907E9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229FC-C97B-44FC-88C7-7B57344B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D214D-CFDE-4055-8548-C83147E7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587B5-A9DB-4E23-9EF1-1AACED6C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66280" y="312840"/>
            <a:ext cx="80089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84462-7ABD-4568-AC2B-B4736AA6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51978-BE12-45C0-8EEC-D78D5E94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88848-CAAB-4EF0-999E-0ABF7AAD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DCD9C-D2CB-4559-8338-1B1EFB1A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78F-699C-4251-8BC6-45D4757F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E6252-7253-4151-86F1-A39ACEE6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64A74-4A56-419A-A4E1-3A711722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9544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6232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2856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9544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6232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C8BAA-20DB-454D-9646-715D73AC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8F281-23D4-40BB-8A29-C8FAAE4E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8724F-AA83-473E-8E42-2312F894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B2613-12F0-4BD2-A5B5-06B7AE14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711EB-9E75-41B5-BE36-04B459F0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E10E2-02A3-4BC5-93C2-285749DB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66280" y="312840"/>
            <a:ext cx="80089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B59E0-A0B0-4B58-A903-B45EAF6A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83609-6749-45DA-B6F9-06282BED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526-CCDC-4E74-93FA-12B4BD9C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A3699-E6BE-47AA-801F-192F5247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F4A45-C998-494C-8076-EC059062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A051A-1400-4E04-9261-0CBB136C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49C37-9414-4E8D-B119-E0FDD501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9544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232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856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9544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232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C5CE5-6B3C-4BC5-A015-01455A79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B5CEA-0761-4BEE-8A99-83145467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4C8FE-EB88-4993-9379-1FECBEA0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6F162-B767-4092-8FBA-6093DF07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B4896-0557-4AB7-A71E-E605B6B5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A43F1-C196-49C4-96E9-5C2E12A0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8CA-F22F-46EE-931F-EBE4C0B0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566280" y="312840"/>
            <a:ext cx="80089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88382-329F-4E25-99CA-B501C940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73C21-0845-4861-A91B-D31451E1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C3867-FEFF-4435-8268-CA91952F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E545E-896A-4C28-8F15-293D0D4A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8560" y="3903480"/>
            <a:ext cx="78868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88DED-F14B-411F-B36B-8ADB24A9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47276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0280" y="3903480"/>
            <a:ext cx="38487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71D7E-E47A-4DD8-8ED1-CE4F6503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9544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62320" y="147276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856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9544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62320" y="3903480"/>
            <a:ext cx="25394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EF3B1-BAD2-42B4-BA9E-2F96DB81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1C2D1-8D6E-48E1-A7A4-F39CB02C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CDBDA-994A-4168-95B4-DF87F66F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C4D10-88F7-4423-823A-B809ADF2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2289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任意多边形 12290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grpSp>
          <p:nvGrpSpPr>
            <p:cNvPr id="2" name="组合 12291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任意多边形 12292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4" name="任意多边形 12293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5" name="任意多边形 12294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</p:grpSp>
        <p:sp>
          <p:nvSpPr>
            <p:cNvPr id="6" name="任意多边形 12295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grpSp>
          <p:nvGrpSpPr>
            <p:cNvPr id="7" name="组合 12296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任意多边形 12297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9" name="任意多边形 12298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0" name="任意多边形 12299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1" name="任意多边形 12300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2" name="任意多边形 12301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grpSp>
            <p:nvGrpSpPr>
              <p:cNvPr id="13" name="组合 12302"/>
              <p:cNvGrpSpPr/>
              <p:nvPr/>
            </p:nvGrpSpPr>
            <p:grpSpPr>
              <a:xfrm>
                <a:off x="852840" y="4055040"/>
                <a:ext cx="1833480" cy="1663920"/>
                <a:chOff x="852840" y="4055040"/>
                <a:chExt cx="1833480" cy="1663920"/>
              </a:xfrm>
            </p:grpSpPr>
            <p:sp>
              <p:nvSpPr>
                <p:cNvPr id="14" name="任意多边形 12303"/>
                <p:cNvSpPr/>
                <p:nvPr/>
              </p:nvSpPr>
              <p:spPr>
                <a:xfrm flipH="1" rot="7102800">
                  <a:off x="1264680" y="3943440"/>
                  <a:ext cx="47412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DFKai-SB"/>
                  </a:endParaRPr>
                </a:p>
              </p:txBody>
            </p:sp>
            <p:sp>
              <p:nvSpPr>
                <p:cNvPr id="15" name="任意多边形 12304"/>
                <p:cNvSpPr/>
                <p:nvPr/>
              </p:nvSpPr>
              <p:spPr>
                <a:xfrm flipH="1" rot="7102800">
                  <a:off x="2327760" y="4972320"/>
                  <a:ext cx="108720" cy="5000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DFKai-SB"/>
                  </a:endParaRPr>
                </a:p>
              </p:txBody>
            </p:sp>
            <p:sp>
              <p:nvSpPr>
                <p:cNvPr id="16" name="任意多边形 12305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DFKai-SB"/>
                  </a:endParaRPr>
                </a:p>
              </p:txBody>
            </p:sp>
          </p:grpSp>
        </p:grpSp>
        <p:grpSp>
          <p:nvGrpSpPr>
            <p:cNvPr id="17" name="组合 12306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任意多边形 12307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9" name="任意多边形 12308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20" name="任意多边形 12309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</p:grpSp>
        <p:grpSp>
          <p:nvGrpSpPr>
            <p:cNvPr id="21" name="组合 12310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任意多边形 12311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23" name="任意多边形 12312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24" name="任意多边形 12313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</p:grpSp>
        <p:grpSp>
          <p:nvGrpSpPr>
            <p:cNvPr id="25" name="组合 12314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任意多边形 12315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27" name="任意多边形 12316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28" name="任意多边形 12317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</p:grpSp>
        <p:sp>
          <p:nvSpPr>
            <p:cNvPr id="29" name="任意多边形 12318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0" name="任意多边形 12319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1" name="任意多边形 12320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2" name="任意多边形 12321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3" name="任意多边形 12322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4" name="任意多边形 12323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5" name="任意多边形 12324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6" name="任意多边形 12325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7" name="任意多边形 12326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8" name="任意多边形 12327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9" name="任意多边形 12328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40" name="任意多边形 12329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41" name="任意多边形 12330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42" name="任意多边形 12331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447F-57C8-4ABE-8F3A-76ABE6F51780}" type="slidenum">
              <a:rPr b="0" lang="zh-TW" sz="1400" spc="-1" strike="noStrike">
                <a:solidFill>
                  <a:srgbClr val="000000"/>
                </a:solidFill>
                <a:latin typeface="Verdana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8"/>
          <p:cNvSpPr/>
          <p:nvPr/>
        </p:nvSpPr>
        <p:spPr>
          <a:xfrm>
            <a:off x="-144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73688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1037700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1" marL="539640" indent="-2682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E17A-34B3-47BD-94F2-ADF611CEB816}" type="datetime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6ECF-CFA7-4764-8963-7BDFE99C1230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736882"/>
          </a:solidFill>
          <a:ln w="12600">
            <a:solidFill>
              <a:srgbClr val="53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73688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1037700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1" marL="539640" indent="-2682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5F22-A1BE-4E3D-9E1B-C7233417207F}" type="datetime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2731-CFC4-412B-A57D-14571531ABD9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736882"/>
          </a:solidFill>
          <a:ln w="12600">
            <a:solidFill>
              <a:srgbClr val="53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73688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1037700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1" marL="539640" indent="-2682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FE09-DB20-4D4E-9340-0F3E34C84F41}" type="datetime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2623-BB7D-426C-A1AF-DB14BA195708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736882"/>
          </a:solidFill>
          <a:ln w="12600">
            <a:solidFill>
              <a:srgbClr val="53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73688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1037700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1" marL="539640" indent="-2682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5C13-DCE8-429A-8CCB-4FAFDF2DF5BF}" type="datetime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B03B-F77D-4A81-ACA0-F81D422315C2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7FD1-7B1A-4451-BA28-5819522E1BDD}" type="datetime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1038-17FB-4244-BD78-A188EB0AF1B4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73688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1037700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1" marL="539640" indent="-2682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736882"/>
          </a:solidFill>
          <a:ln w="12600">
            <a:solidFill>
              <a:srgbClr val="53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13313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7" name="组合 13314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8" name="任意多边形 13315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29" name="任意多边形 13316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30" name="任意多边形 13317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31" name="任意多边形 13318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32" name="任意多边形 13319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33" name="任意多边形 13320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34" name="任意多边形 13321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</p:grpSp>
        <p:sp>
          <p:nvSpPr>
            <p:cNvPr id="135" name="任意多边形 13322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136" name="任意多边形 13323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137" name="任意多边形 13324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138" name="任意多边形 13325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139" name="任意多边形 13326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140" name="任意多边形 13327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grpSp>
          <p:nvGrpSpPr>
            <p:cNvPr id="141" name="组合 13328"/>
            <p:cNvGrpSpPr/>
            <p:nvPr/>
          </p:nvGrpSpPr>
          <p:grpSpPr>
            <a:xfrm>
              <a:off x="4137480" y="1036080"/>
              <a:ext cx="1017000" cy="1263240"/>
              <a:chOff x="4137480" y="1036080"/>
              <a:chExt cx="1017000" cy="1263240"/>
            </a:xfrm>
          </p:grpSpPr>
          <p:sp>
            <p:nvSpPr>
              <p:cNvPr id="142" name="任意多边形 13329"/>
              <p:cNvSpPr/>
              <p:nvPr/>
            </p:nvSpPr>
            <p:spPr>
              <a:xfrm rot="3220200">
                <a:off x="4553280" y="107388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43" name="任意多边形 13330"/>
              <p:cNvSpPr/>
              <p:nvPr/>
            </p:nvSpPr>
            <p:spPr>
              <a:xfrm rot="3220200">
                <a:off x="4637880" y="160704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44" name="任意多边形 13331"/>
              <p:cNvSpPr/>
              <p:nvPr/>
            </p:nvSpPr>
            <p:spPr>
              <a:xfrm rot="3220200">
                <a:off x="4097880" y="196560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</p:grpSp>
        <p:grpSp>
          <p:nvGrpSpPr>
            <p:cNvPr id="145" name="组合 13332"/>
            <p:cNvGrpSpPr/>
            <p:nvPr/>
          </p:nvGrpSpPr>
          <p:grpSpPr>
            <a:xfrm>
              <a:off x="5642280" y="294840"/>
              <a:ext cx="888120" cy="833760"/>
              <a:chOff x="5642280" y="294840"/>
              <a:chExt cx="888120" cy="833760"/>
            </a:xfrm>
          </p:grpSpPr>
          <p:sp>
            <p:nvSpPr>
              <p:cNvPr id="146" name="任意多边形 13333"/>
              <p:cNvSpPr/>
              <p:nvPr/>
            </p:nvSpPr>
            <p:spPr>
              <a:xfrm rot="14908200">
                <a:off x="5753520" y="79848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47" name="任意多边形 13334"/>
              <p:cNvSpPr/>
              <p:nvPr/>
            </p:nvSpPr>
            <p:spPr>
              <a:xfrm rot="14908200">
                <a:off x="5702400" y="47808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48" name="任意多边形 13335"/>
              <p:cNvSpPr/>
              <p:nvPr/>
            </p:nvSpPr>
            <p:spPr>
              <a:xfrm rot="14908200">
                <a:off x="6240600" y="39528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</p:grpSp>
        <p:grpSp>
          <p:nvGrpSpPr>
            <p:cNvPr id="149" name="组合 13336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50" name="任意多边形 13337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51" name="任意多边形 13338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52" name="任意多边形 13339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</p:grpSp>
        <p:grpSp>
          <p:nvGrpSpPr>
            <p:cNvPr id="153" name="组合 13340"/>
            <p:cNvGrpSpPr/>
            <p:nvPr/>
          </p:nvGrpSpPr>
          <p:grpSpPr>
            <a:xfrm>
              <a:off x="356400" y="430920"/>
              <a:ext cx="1692720" cy="1147320"/>
              <a:chOff x="356400" y="430920"/>
              <a:chExt cx="1692720" cy="1147320"/>
            </a:xfrm>
          </p:grpSpPr>
          <p:sp>
            <p:nvSpPr>
              <p:cNvPr id="154" name="任意多边形 13341"/>
              <p:cNvSpPr/>
              <p:nvPr/>
            </p:nvSpPr>
            <p:spPr>
              <a:xfrm flipH="1" rot="4107000">
                <a:off x="1558440" y="104976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55" name="任意多边形 13342"/>
              <p:cNvSpPr/>
              <p:nvPr/>
            </p:nvSpPr>
            <p:spPr>
              <a:xfrm flipH="1" rot="4107000">
                <a:off x="1004760" y="57420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56" name="任意多边形 13343"/>
              <p:cNvSpPr/>
              <p:nvPr/>
            </p:nvSpPr>
            <p:spPr>
              <a:xfrm flipH="1" rot="4107000">
                <a:off x="259200" y="10886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</p:grpSp>
        <p:grpSp>
          <p:nvGrpSpPr>
            <p:cNvPr id="157" name="组合 13344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8" name="任意多边形 13345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59" name="任意多边形 13346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  <p:sp>
            <p:nvSpPr>
              <p:cNvPr id="160" name="任意多边形 13347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DFKai-SB"/>
                </a:endParaRPr>
              </a:p>
            </p:txBody>
          </p:sp>
        </p:grpSp>
        <p:sp>
          <p:nvSpPr>
            <p:cNvPr id="161" name="任意多边形 13348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162" name="任意多边形 13349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163" name="任意多边形 13350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164" name="任意多边形 13351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165" name="任意多边形 13352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166" name="任意多边形 13353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167" name="任意多边形 13354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0CBB-F939-4988-B04A-8084E3D3CBA0}" type="slidenum">
              <a:rPr b="0" lang="zh-TW" sz="1400" spc="-1" strike="noStrike">
                <a:solidFill>
                  <a:srgbClr val="000000"/>
                </a:solidFill>
                <a:latin typeface="Verdana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组合 56"/>
          <p:cNvGrpSpPr/>
          <p:nvPr/>
        </p:nvGrpSpPr>
        <p:grpSpPr>
          <a:xfrm>
            <a:off x="428760" y="1262160"/>
            <a:ext cx="3765240" cy="3854520"/>
            <a:chOff x="428760" y="1262160"/>
            <a:chExt cx="3765240" cy="3854520"/>
          </a:xfrm>
        </p:grpSpPr>
        <p:sp>
          <p:nvSpPr>
            <p:cNvPr id="210" name="Rectangle 46"/>
            <p:cNvSpPr/>
            <p:nvPr/>
          </p:nvSpPr>
          <p:spPr>
            <a:xfrm>
              <a:off x="428760" y="1262160"/>
              <a:ext cx="3765240" cy="3854520"/>
            </a:xfrm>
            <a:prstGeom prst="rect">
              <a:avLst/>
            </a:prstGeom>
            <a:solidFill>
              <a:srgbClr val="3a3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211" name="Freeform 47"/>
            <p:cNvSpPr/>
            <p:nvPr/>
          </p:nvSpPr>
          <p:spPr>
            <a:xfrm>
              <a:off x="672480" y="2090880"/>
              <a:ext cx="3277800" cy="2750040"/>
            </a:xfrm>
            <a:custGeom>
              <a:avLst/>
              <a:gdLst/>
              <a:ahLst/>
              <a:rect l="l" t="t" r="r" b="b"/>
              <a:pathLst>
                <a:path w="216" h="160">
                  <a:moveTo>
                    <a:pt x="128" y="0"/>
                  </a:moveTo>
                  <a:cubicBezTo>
                    <a:pt x="119" y="0"/>
                    <a:pt x="112" y="7"/>
                    <a:pt x="112" y="16"/>
                  </a:cubicBezTo>
                  <a:cubicBezTo>
                    <a:pt x="104" y="16"/>
                    <a:pt x="104" y="16"/>
                    <a:pt x="104" y="16"/>
                  </a:cubicBezTo>
                  <a:cubicBezTo>
                    <a:pt x="104" y="7"/>
                    <a:pt x="97" y="0"/>
                    <a:pt x="8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60"/>
                    <a:pt x="0" y="160"/>
                    <a:pt x="0" y="160"/>
                  </a:cubicBezTo>
                  <a:cubicBezTo>
                    <a:pt x="216" y="160"/>
                    <a:pt x="216" y="160"/>
                    <a:pt x="216" y="160"/>
                  </a:cubicBezTo>
                  <a:cubicBezTo>
                    <a:pt x="216" y="0"/>
                    <a:pt x="216" y="0"/>
                    <a:pt x="216" y="0"/>
                  </a:cubicBezTo>
                  <a:lnTo>
                    <a:pt x="128" y="0"/>
                  </a:lnTo>
                  <a:close/>
                </a:path>
              </a:pathLst>
            </a:custGeom>
            <a:solidFill>
              <a:srgbClr val="e3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212" name="Freeform 48"/>
            <p:cNvSpPr/>
            <p:nvPr/>
          </p:nvSpPr>
          <p:spPr>
            <a:xfrm>
              <a:off x="2006640" y="4841280"/>
              <a:ext cx="609120" cy="2754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4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" y="0"/>
                    <a:pt x="16" y="7"/>
                    <a:pt x="16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7"/>
                    <a:pt x="31" y="0"/>
                    <a:pt x="40" y="0"/>
                  </a:cubicBezTo>
                  <a:close/>
                </a:path>
              </a:pathLst>
            </a:custGeom>
            <a:solidFill>
              <a:srgbClr val="ebf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213" name="Rectangle 49"/>
            <p:cNvSpPr/>
            <p:nvPr/>
          </p:nvSpPr>
          <p:spPr>
            <a:xfrm>
              <a:off x="2616120" y="3331800"/>
              <a:ext cx="487440" cy="543960"/>
            </a:xfrm>
            <a:prstGeom prst="rect">
              <a:avLst/>
            </a:prstGeom>
            <a:solidFill>
              <a:srgbClr val="d6b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214" name="Rectangle 50"/>
            <p:cNvSpPr/>
            <p:nvPr/>
          </p:nvSpPr>
          <p:spPr>
            <a:xfrm>
              <a:off x="3225600" y="3331800"/>
              <a:ext cx="480960" cy="543960"/>
            </a:xfrm>
            <a:prstGeom prst="rect">
              <a:avLst/>
            </a:prstGeom>
            <a:solidFill>
              <a:srgbClr val="c7c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215" name="Rectangle 51"/>
            <p:cNvSpPr/>
            <p:nvPr/>
          </p:nvSpPr>
          <p:spPr>
            <a:xfrm>
              <a:off x="2616120" y="4014000"/>
              <a:ext cx="487440" cy="551160"/>
            </a:xfrm>
            <a:prstGeom prst="rect">
              <a:avLst/>
            </a:prstGeom>
            <a:solidFill>
              <a:srgbClr val="e18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216" name="Rectangle 52"/>
            <p:cNvSpPr/>
            <p:nvPr/>
          </p:nvSpPr>
          <p:spPr>
            <a:xfrm>
              <a:off x="3225600" y="4014000"/>
              <a:ext cx="480960" cy="551160"/>
            </a:xfrm>
            <a:prstGeom prst="rect">
              <a:avLst/>
            </a:prstGeom>
            <a:solidFill>
              <a:srgbClr val="e3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217" name="Rectangle 53"/>
            <p:cNvSpPr/>
            <p:nvPr/>
          </p:nvSpPr>
          <p:spPr>
            <a:xfrm>
              <a:off x="916200" y="3607560"/>
              <a:ext cx="1090440" cy="130320"/>
            </a:xfrm>
            <a:prstGeom prst="rect">
              <a:avLst/>
            </a:prstGeom>
            <a:solidFill>
              <a:srgbClr val="d6b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218" name="Rectangle 54"/>
            <p:cNvSpPr/>
            <p:nvPr/>
          </p:nvSpPr>
          <p:spPr>
            <a:xfrm>
              <a:off x="916200" y="3876120"/>
              <a:ext cx="1090440" cy="137520"/>
            </a:xfrm>
            <a:prstGeom prst="rect">
              <a:avLst/>
            </a:prstGeom>
            <a:solidFill>
              <a:srgbClr val="ebb1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219" name="Rectangle 55"/>
            <p:cNvSpPr/>
            <p:nvPr/>
          </p:nvSpPr>
          <p:spPr>
            <a:xfrm>
              <a:off x="916200" y="4151880"/>
              <a:ext cx="1090440" cy="137520"/>
            </a:xfrm>
            <a:prstGeom prst="rect">
              <a:avLst/>
            </a:prstGeom>
            <a:solidFill>
              <a:srgbClr val="e3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220" name="Rectangle 56"/>
            <p:cNvSpPr/>
            <p:nvPr/>
          </p:nvSpPr>
          <p:spPr>
            <a:xfrm>
              <a:off x="916200" y="4427640"/>
              <a:ext cx="1090440" cy="137520"/>
            </a:xfrm>
            <a:prstGeom prst="rect">
              <a:avLst/>
            </a:prstGeom>
            <a:solidFill>
              <a:srgbClr val="ed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2616120" y="2366640"/>
              <a:ext cx="1090440" cy="826920"/>
            </a:xfrm>
            <a:prstGeom prst="rect">
              <a:avLst/>
            </a:prstGeom>
            <a:solidFill>
              <a:srgbClr val="9357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222" name="Rectangle 58"/>
            <p:cNvSpPr/>
            <p:nvPr/>
          </p:nvSpPr>
          <p:spPr>
            <a:xfrm>
              <a:off x="916200" y="2366640"/>
              <a:ext cx="1090440" cy="1102680"/>
            </a:xfrm>
            <a:prstGeom prst="rect">
              <a:avLst/>
            </a:prstGeom>
            <a:solidFill>
              <a:srgbClr val="736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223" name="Rectangle 59"/>
            <p:cNvSpPr/>
            <p:nvPr/>
          </p:nvSpPr>
          <p:spPr>
            <a:xfrm>
              <a:off x="2250360" y="2366640"/>
              <a:ext cx="121680" cy="2750040"/>
            </a:xfrm>
            <a:prstGeom prst="rect">
              <a:avLst/>
            </a:prstGeom>
            <a:solidFill>
              <a:srgbClr val="c7c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224" name="Rectangle 53"/>
            <p:cNvSpPr/>
            <p:nvPr/>
          </p:nvSpPr>
          <p:spPr>
            <a:xfrm>
              <a:off x="672480" y="1479240"/>
              <a:ext cx="3277800" cy="417240"/>
            </a:xfrm>
            <a:prstGeom prst="rect">
              <a:avLst/>
            </a:prstGeom>
            <a:solidFill>
              <a:srgbClr val="d6b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</p:grpSp>
      <p:sp>
        <p:nvSpPr>
          <p:cNvPr id="225" name="任意多边形 72"/>
          <p:cNvSpPr/>
          <p:nvPr/>
        </p:nvSpPr>
        <p:spPr>
          <a:xfrm flipH="1" rot="3295200">
            <a:off x="2072880" y="1974600"/>
            <a:ext cx="463320" cy="6036840"/>
          </a:xfrm>
          <a:custGeom>
            <a:avLst/>
            <a:gdLst/>
            <a:ahLst/>
            <a:rect l="l" t="t" r="r" b="b"/>
            <a:pathLst>
              <a:path w="591867" h="7715174">
                <a:moveTo>
                  <a:pt x="130067" y="0"/>
                </a:moveTo>
                <a:lnTo>
                  <a:pt x="0" y="0"/>
                </a:lnTo>
                <a:lnTo>
                  <a:pt x="0" y="7328422"/>
                </a:lnTo>
                <a:lnTo>
                  <a:pt x="271664" y="7715174"/>
                </a:lnTo>
                <a:lnTo>
                  <a:pt x="591867" y="7490256"/>
                </a:lnTo>
                <a:lnTo>
                  <a:pt x="541945" y="1101858"/>
                </a:lnTo>
                <a:close/>
              </a:path>
            </a:pathLst>
          </a:custGeom>
          <a:solidFill>
            <a:srgbClr val="473b3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226" name="Freeform 206"/>
          <p:cNvSpPr/>
          <p:nvPr/>
        </p:nvSpPr>
        <p:spPr>
          <a:xfrm flipH="1" rot="3295200">
            <a:off x="4237920" y="3263760"/>
            <a:ext cx="565200" cy="914400"/>
          </a:xfrm>
          <a:custGeom>
            <a:avLst/>
            <a:gdLst/>
            <a:ahLst/>
            <a:rect l="l" t="t" r="r" b="b"/>
            <a:pathLst>
              <a:path w="134" h="216">
                <a:moveTo>
                  <a:pt x="134" y="196"/>
                </a:moveTo>
                <a:lnTo>
                  <a:pt x="72" y="0"/>
                </a:lnTo>
                <a:lnTo>
                  <a:pt x="60" y="0"/>
                </a:lnTo>
                <a:lnTo>
                  <a:pt x="0" y="202"/>
                </a:lnTo>
                <a:lnTo>
                  <a:pt x="4" y="216"/>
                </a:lnTo>
                <a:lnTo>
                  <a:pt x="126" y="216"/>
                </a:lnTo>
                <a:lnTo>
                  <a:pt x="134" y="196"/>
                </a:lnTo>
                <a:close/>
              </a:path>
            </a:pathLst>
          </a:custGeom>
          <a:solidFill>
            <a:srgbClr val="e3e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227" name="任意多边形 74"/>
          <p:cNvSpPr/>
          <p:nvPr/>
        </p:nvSpPr>
        <p:spPr>
          <a:xfrm flipH="1" rot="3295200">
            <a:off x="1809720" y="2798640"/>
            <a:ext cx="601200" cy="5234040"/>
          </a:xfrm>
          <a:custGeom>
            <a:avLst/>
            <a:gdLst/>
            <a:ahLst/>
            <a:rect l="l" t="t" r="r" b="b"/>
            <a:pathLst>
              <a:path w="768706" h="6689432">
                <a:moveTo>
                  <a:pt x="744345" y="56102"/>
                </a:moveTo>
                <a:cubicBezTo>
                  <a:pt x="725398" y="25098"/>
                  <a:pt x="692918" y="-4558"/>
                  <a:pt x="638784" y="834"/>
                </a:cubicBezTo>
                <a:cubicBezTo>
                  <a:pt x="562996" y="834"/>
                  <a:pt x="530515" y="76322"/>
                  <a:pt x="530515" y="108673"/>
                </a:cubicBezTo>
                <a:cubicBezTo>
                  <a:pt x="519688" y="76321"/>
                  <a:pt x="476381" y="834"/>
                  <a:pt x="378939" y="834"/>
                </a:cubicBezTo>
                <a:cubicBezTo>
                  <a:pt x="281498" y="11618"/>
                  <a:pt x="249018" y="76321"/>
                  <a:pt x="238191" y="108673"/>
                </a:cubicBezTo>
                <a:cubicBezTo>
                  <a:pt x="227364" y="87105"/>
                  <a:pt x="205710" y="-9950"/>
                  <a:pt x="119095" y="834"/>
                </a:cubicBezTo>
                <a:cubicBezTo>
                  <a:pt x="10827" y="834"/>
                  <a:pt x="0" y="119457"/>
                  <a:pt x="0" y="119457"/>
                </a:cubicBezTo>
                <a:cubicBezTo>
                  <a:pt x="0" y="2918896"/>
                  <a:pt x="0" y="4581062"/>
                  <a:pt x="0" y="5567974"/>
                </a:cubicBezTo>
                <a:lnTo>
                  <a:pt x="0" y="5749917"/>
                </a:lnTo>
                <a:lnTo>
                  <a:pt x="659938" y="6689432"/>
                </a:lnTo>
                <a:lnTo>
                  <a:pt x="768706" y="6613031"/>
                </a:lnTo>
                <a:lnTo>
                  <a:pt x="768706" y="119457"/>
                </a:lnTo>
                <a:cubicBezTo>
                  <a:pt x="768706" y="119457"/>
                  <a:pt x="763292" y="87106"/>
                  <a:pt x="744345" y="56102"/>
                </a:cubicBezTo>
                <a:close/>
              </a:path>
            </a:pathLst>
          </a:custGeom>
          <a:solidFill>
            <a:srgbClr val="736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228" name="Freeform 212"/>
          <p:cNvSpPr/>
          <p:nvPr/>
        </p:nvSpPr>
        <p:spPr>
          <a:xfrm flipH="1" rot="3295200">
            <a:off x="4638240" y="3372120"/>
            <a:ext cx="244800" cy="361440"/>
          </a:xfrm>
          <a:custGeom>
            <a:avLst/>
            <a:gdLst/>
            <a:ahLst/>
            <a:rect l="l" t="t" r="r" b="b"/>
            <a:pathLst>
              <a:path w="29" h="43">
                <a:moveTo>
                  <a:pt x="0" y="39"/>
                </a:moveTo>
                <a:cubicBezTo>
                  <a:pt x="0" y="39"/>
                  <a:pt x="14" y="43"/>
                  <a:pt x="29" y="40"/>
                </a:cubicBezTo>
                <a:cubicBezTo>
                  <a:pt x="17" y="0"/>
                  <a:pt x="17" y="0"/>
                  <a:pt x="17" y="0"/>
                </a:cubicBezTo>
                <a:cubicBezTo>
                  <a:pt x="10" y="0"/>
                  <a:pt x="10" y="0"/>
                  <a:pt x="10" y="0"/>
                </a:cubicBezTo>
                <a:lnTo>
                  <a:pt x="0" y="39"/>
                </a:lnTo>
                <a:close/>
              </a:path>
            </a:pathLst>
          </a:custGeom>
          <a:solidFill>
            <a:srgbClr val="564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grpSp>
        <p:nvGrpSpPr>
          <p:cNvPr id="229" name="组合 76"/>
          <p:cNvGrpSpPr/>
          <p:nvPr/>
        </p:nvGrpSpPr>
        <p:grpSpPr>
          <a:xfrm>
            <a:off x="2652480" y="4907160"/>
            <a:ext cx="2863080" cy="2131560"/>
            <a:chOff x="2652480" y="4907160"/>
            <a:chExt cx="2863080" cy="2131560"/>
          </a:xfrm>
        </p:grpSpPr>
        <p:sp>
          <p:nvSpPr>
            <p:cNvPr id="230" name="任意多边形 77"/>
            <p:cNvSpPr/>
            <p:nvPr/>
          </p:nvSpPr>
          <p:spPr>
            <a:xfrm flipH="1" rot="3295200">
              <a:off x="3900960" y="4340160"/>
              <a:ext cx="275040" cy="3194280"/>
            </a:xfrm>
            <a:custGeom>
              <a:avLst/>
              <a:gdLst/>
              <a:ahLst/>
              <a:rect l="l" t="t" r="r" b="b"/>
              <a:pathLst>
                <a:path w="351831" h="4082050">
                  <a:moveTo>
                    <a:pt x="78024" y="0"/>
                  </a:moveTo>
                  <a:lnTo>
                    <a:pt x="0" y="0"/>
                  </a:lnTo>
                  <a:lnTo>
                    <a:pt x="0" y="3581167"/>
                  </a:lnTo>
                  <a:lnTo>
                    <a:pt x="351831" y="4082050"/>
                  </a:lnTo>
                  <a:lnTo>
                    <a:pt x="325098" y="660975"/>
                  </a:lnTo>
                  <a:close/>
                </a:path>
              </a:pathLst>
            </a:custGeom>
            <a:solidFill>
              <a:srgbClr val="473b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231" name="Freeform 206"/>
            <p:cNvSpPr/>
            <p:nvPr/>
          </p:nvSpPr>
          <p:spPr>
            <a:xfrm flipH="1" rot="3295200">
              <a:off x="5024160" y="5022360"/>
              <a:ext cx="338760" cy="548640"/>
            </a:xfrm>
            <a:custGeom>
              <a:avLst/>
              <a:gdLst/>
              <a:ahLst/>
              <a:rect l="l" t="t" r="r" b="b"/>
              <a:pathLst>
                <a:path w="134" h="216">
                  <a:moveTo>
                    <a:pt x="134" y="196"/>
                  </a:moveTo>
                  <a:lnTo>
                    <a:pt x="72" y="0"/>
                  </a:lnTo>
                  <a:lnTo>
                    <a:pt x="60" y="0"/>
                  </a:lnTo>
                  <a:lnTo>
                    <a:pt x="0" y="202"/>
                  </a:lnTo>
                  <a:lnTo>
                    <a:pt x="4" y="216"/>
                  </a:lnTo>
                  <a:lnTo>
                    <a:pt x="126" y="216"/>
                  </a:lnTo>
                  <a:lnTo>
                    <a:pt x="134" y="196"/>
                  </a:lnTo>
                  <a:close/>
                </a:path>
              </a:pathLst>
            </a:custGeom>
            <a:solidFill>
              <a:srgbClr val="e3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232" name="任意多边形 79"/>
            <p:cNvSpPr/>
            <p:nvPr/>
          </p:nvSpPr>
          <p:spPr>
            <a:xfrm flipH="1" rot="3295200">
              <a:off x="3797640" y="4863240"/>
              <a:ext cx="360720" cy="2575080"/>
            </a:xfrm>
            <a:custGeom>
              <a:avLst/>
              <a:gdLst/>
              <a:ahLst/>
              <a:rect l="l" t="t" r="r" b="b"/>
              <a:pathLst>
                <a:path w="461126" h="3290743">
                  <a:moveTo>
                    <a:pt x="446513" y="33653"/>
                  </a:moveTo>
                  <a:cubicBezTo>
                    <a:pt x="435147" y="15055"/>
                    <a:pt x="415663" y="-2734"/>
                    <a:pt x="383189" y="500"/>
                  </a:cubicBezTo>
                  <a:cubicBezTo>
                    <a:pt x="337726" y="500"/>
                    <a:pt x="318242" y="45783"/>
                    <a:pt x="318242" y="65190"/>
                  </a:cubicBezTo>
                  <a:cubicBezTo>
                    <a:pt x="311747" y="45783"/>
                    <a:pt x="285769" y="500"/>
                    <a:pt x="227315" y="500"/>
                  </a:cubicBezTo>
                  <a:cubicBezTo>
                    <a:pt x="168863" y="6969"/>
                    <a:pt x="149379" y="45783"/>
                    <a:pt x="142884" y="65190"/>
                  </a:cubicBezTo>
                  <a:cubicBezTo>
                    <a:pt x="136389" y="52252"/>
                    <a:pt x="123400" y="-5969"/>
                    <a:pt x="71442" y="500"/>
                  </a:cubicBezTo>
                  <a:cubicBezTo>
                    <a:pt x="6495" y="500"/>
                    <a:pt x="0" y="71659"/>
                    <a:pt x="0" y="71659"/>
                  </a:cubicBezTo>
                  <a:cubicBezTo>
                    <a:pt x="0" y="1105078"/>
                    <a:pt x="0" y="1880142"/>
                    <a:pt x="0" y="2461440"/>
                  </a:cubicBezTo>
                  <a:lnTo>
                    <a:pt x="0" y="2634264"/>
                  </a:lnTo>
                  <a:lnTo>
                    <a:pt x="461126" y="3290743"/>
                  </a:lnTo>
                  <a:lnTo>
                    <a:pt x="461126" y="71658"/>
                  </a:lnTo>
                  <a:cubicBezTo>
                    <a:pt x="461126" y="71658"/>
                    <a:pt x="457879" y="52252"/>
                    <a:pt x="446513" y="33653"/>
                  </a:cubicBezTo>
                  <a:close/>
                </a:path>
              </a:pathLst>
            </a:custGeom>
            <a:solidFill>
              <a:srgbClr val="736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233" name="Freeform 212"/>
            <p:cNvSpPr/>
            <p:nvPr/>
          </p:nvSpPr>
          <p:spPr>
            <a:xfrm flipH="1" rot="3295200">
              <a:off x="5262480" y="5087520"/>
              <a:ext cx="147240" cy="21744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0" y="39"/>
                  </a:moveTo>
                  <a:cubicBezTo>
                    <a:pt x="0" y="39"/>
                    <a:pt x="14" y="43"/>
                    <a:pt x="29" y="4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564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73688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1037700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1" marL="539640" indent="-2682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1717-A220-4A98-873B-9CB1BFF36F90}" type="datetime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021D-ED5B-415E-8AEC-E30042C2171C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736882"/>
          </a:solidFill>
          <a:ln w="12600">
            <a:solidFill>
              <a:srgbClr val="53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73688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1037700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1" marL="539640" indent="-2682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D522-E31A-425E-8AFC-D44A5DBCE28D}" type="datetime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293C-A8B4-415E-B780-B08791FDAF78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组合 21"/>
          <p:cNvGrpSpPr/>
          <p:nvPr/>
        </p:nvGrpSpPr>
        <p:grpSpPr>
          <a:xfrm>
            <a:off x="4302000" y="652320"/>
            <a:ext cx="4513320" cy="3684600"/>
            <a:chOff x="4302000" y="652320"/>
            <a:chExt cx="4513320" cy="3684600"/>
          </a:xfrm>
        </p:grpSpPr>
        <p:sp>
          <p:nvSpPr>
            <p:cNvPr id="318" name="Freeform 47"/>
            <p:cNvSpPr/>
            <p:nvPr/>
          </p:nvSpPr>
          <p:spPr>
            <a:xfrm>
              <a:off x="4302000" y="652320"/>
              <a:ext cx="4513320" cy="3349080"/>
            </a:xfrm>
            <a:custGeom>
              <a:avLst/>
              <a:gdLst/>
              <a:ahLst/>
              <a:rect l="l" t="t" r="r" b="b"/>
              <a:pathLst>
                <a:path w="216" h="160">
                  <a:moveTo>
                    <a:pt x="128" y="0"/>
                  </a:moveTo>
                  <a:cubicBezTo>
                    <a:pt x="119" y="0"/>
                    <a:pt x="112" y="7"/>
                    <a:pt x="112" y="16"/>
                  </a:cubicBezTo>
                  <a:cubicBezTo>
                    <a:pt x="104" y="16"/>
                    <a:pt x="104" y="16"/>
                    <a:pt x="104" y="16"/>
                  </a:cubicBezTo>
                  <a:cubicBezTo>
                    <a:pt x="104" y="7"/>
                    <a:pt x="97" y="0"/>
                    <a:pt x="8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60"/>
                    <a:pt x="0" y="160"/>
                    <a:pt x="0" y="160"/>
                  </a:cubicBezTo>
                  <a:cubicBezTo>
                    <a:pt x="216" y="160"/>
                    <a:pt x="216" y="160"/>
                    <a:pt x="216" y="160"/>
                  </a:cubicBezTo>
                  <a:cubicBezTo>
                    <a:pt x="216" y="0"/>
                    <a:pt x="216" y="0"/>
                    <a:pt x="216" y="0"/>
                  </a:cubicBezTo>
                  <a:lnTo>
                    <a:pt x="128" y="0"/>
                  </a:lnTo>
                  <a:close/>
                </a:path>
              </a:pathLst>
            </a:custGeom>
            <a:solidFill>
              <a:srgbClr val="736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19" name="Freeform 48"/>
            <p:cNvSpPr/>
            <p:nvPr/>
          </p:nvSpPr>
          <p:spPr>
            <a:xfrm>
              <a:off x="6139080" y="4001400"/>
              <a:ext cx="838800" cy="33552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4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" y="0"/>
                    <a:pt x="16" y="7"/>
                    <a:pt x="16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7"/>
                    <a:pt x="31" y="0"/>
                    <a:pt x="40" y="0"/>
                  </a:cubicBezTo>
                  <a:close/>
                </a:path>
              </a:pathLst>
            </a:custGeom>
            <a:solidFill>
              <a:srgbClr val="736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20" name="Rectangle 49"/>
            <p:cNvSpPr/>
            <p:nvPr/>
          </p:nvSpPr>
          <p:spPr>
            <a:xfrm>
              <a:off x="6978240" y="2163240"/>
              <a:ext cx="671040" cy="662760"/>
            </a:xfrm>
            <a:prstGeom prst="rect">
              <a:avLst/>
            </a:prstGeom>
            <a:solidFill>
              <a:srgbClr val="d6b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21" name="Rectangle 50"/>
            <p:cNvSpPr/>
            <p:nvPr/>
          </p:nvSpPr>
          <p:spPr>
            <a:xfrm>
              <a:off x="7817400" y="2163240"/>
              <a:ext cx="662400" cy="662760"/>
            </a:xfrm>
            <a:prstGeom prst="rect">
              <a:avLst/>
            </a:prstGeom>
            <a:solidFill>
              <a:srgbClr val="c7c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22" name="Rectangle 51"/>
            <p:cNvSpPr/>
            <p:nvPr/>
          </p:nvSpPr>
          <p:spPr>
            <a:xfrm>
              <a:off x="6978240" y="2993760"/>
              <a:ext cx="671040" cy="671400"/>
            </a:xfrm>
            <a:prstGeom prst="rect">
              <a:avLst/>
            </a:prstGeom>
            <a:solidFill>
              <a:srgbClr val="e18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23" name="Rectangle 52"/>
            <p:cNvSpPr/>
            <p:nvPr/>
          </p:nvSpPr>
          <p:spPr>
            <a:xfrm>
              <a:off x="7817400" y="2993760"/>
              <a:ext cx="662400" cy="671400"/>
            </a:xfrm>
            <a:prstGeom prst="rect">
              <a:avLst/>
            </a:prstGeom>
            <a:solidFill>
              <a:srgbClr val="e3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24" name="Rectangle 53"/>
            <p:cNvSpPr/>
            <p:nvPr/>
          </p:nvSpPr>
          <p:spPr>
            <a:xfrm>
              <a:off x="4637520" y="2499120"/>
              <a:ext cx="1501560" cy="158760"/>
            </a:xfrm>
            <a:prstGeom prst="rect">
              <a:avLst/>
            </a:prstGeom>
            <a:solidFill>
              <a:srgbClr val="d6b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25" name="Rectangle 54"/>
            <p:cNvSpPr/>
            <p:nvPr/>
          </p:nvSpPr>
          <p:spPr>
            <a:xfrm>
              <a:off x="4637520" y="2826000"/>
              <a:ext cx="1501560" cy="167760"/>
            </a:xfrm>
            <a:prstGeom prst="rect">
              <a:avLst/>
            </a:prstGeom>
            <a:solidFill>
              <a:srgbClr val="ebb1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26" name="Rectangle 55"/>
            <p:cNvSpPr/>
            <p:nvPr/>
          </p:nvSpPr>
          <p:spPr>
            <a:xfrm>
              <a:off x="4637520" y="3161880"/>
              <a:ext cx="1501560" cy="167760"/>
            </a:xfrm>
            <a:prstGeom prst="rect">
              <a:avLst/>
            </a:prstGeom>
            <a:solidFill>
              <a:srgbClr val="e3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27" name="Rectangle 56"/>
            <p:cNvSpPr/>
            <p:nvPr/>
          </p:nvSpPr>
          <p:spPr>
            <a:xfrm>
              <a:off x="4637520" y="3497760"/>
              <a:ext cx="1501560" cy="167760"/>
            </a:xfrm>
            <a:prstGeom prst="rect">
              <a:avLst/>
            </a:prstGeom>
            <a:solidFill>
              <a:srgbClr val="ed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28" name="Rectangle 57"/>
            <p:cNvSpPr/>
            <p:nvPr/>
          </p:nvSpPr>
          <p:spPr>
            <a:xfrm>
              <a:off x="6978240" y="987840"/>
              <a:ext cx="1501560" cy="1007280"/>
            </a:xfrm>
            <a:prstGeom prst="rect">
              <a:avLst/>
            </a:prstGeom>
            <a:solidFill>
              <a:srgbClr val="ead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29" name="Rectangle 58"/>
            <p:cNvSpPr/>
            <p:nvPr/>
          </p:nvSpPr>
          <p:spPr>
            <a:xfrm>
              <a:off x="4637520" y="987840"/>
              <a:ext cx="1501560" cy="1343160"/>
            </a:xfrm>
            <a:prstGeom prst="rect">
              <a:avLst/>
            </a:prstGeom>
            <a:solidFill>
              <a:srgbClr val="e3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  <p:sp>
          <p:nvSpPr>
            <p:cNvPr id="330" name="Rectangle 59"/>
            <p:cNvSpPr/>
            <p:nvPr/>
          </p:nvSpPr>
          <p:spPr>
            <a:xfrm>
              <a:off x="6474600" y="987840"/>
              <a:ext cx="167760" cy="3349080"/>
            </a:xfrm>
            <a:prstGeom prst="rect">
              <a:avLst/>
            </a:prstGeom>
            <a:solidFill>
              <a:srgbClr val="c7c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DFKai-SB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73688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1037700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1" marL="539640" indent="-2682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6660-A181-4255-8B2E-FD406A6F0227}" type="datetime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1246-2784-4E50-9201-5A0704ACF778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736882"/>
          </a:solidFill>
          <a:ln w="12600">
            <a:solidFill>
              <a:srgbClr val="53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73688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1037700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1" marL="539640" indent="-2682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F318-1BC8-46D6-8A05-8F023E3A908D}" type="datetime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1226-4AC3-45C8-BCEC-C772F64692C2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736882"/>
          </a:solidFill>
          <a:ln w="12600">
            <a:solidFill>
              <a:srgbClr val="53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73688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1037700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1" marL="539640" indent="-2682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94B7-05B3-4D47-8DFC-F99AB10E3B6A}" type="datetime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6795-43B0-4DA4-BD06-FC2D749CD68F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736882"/>
          </a:solidFill>
          <a:ln w="12600">
            <a:solidFill>
              <a:srgbClr val="53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457" name="椭圆 5"/>
          <p:cNvSpPr/>
          <p:nvPr/>
        </p:nvSpPr>
        <p:spPr>
          <a:xfrm>
            <a:off x="1562040" y="2587680"/>
            <a:ext cx="1305000" cy="1392120"/>
          </a:xfrm>
          <a:prstGeom prst="ellipse">
            <a:avLst/>
          </a:prstGeom>
          <a:solidFill>
            <a:srgbClr val="736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458" name="椭圆 6"/>
          <p:cNvSpPr/>
          <p:nvPr/>
        </p:nvSpPr>
        <p:spPr>
          <a:xfrm>
            <a:off x="3133800" y="2587680"/>
            <a:ext cx="1305000" cy="1392120"/>
          </a:xfrm>
          <a:prstGeom prst="ellipse">
            <a:avLst/>
          </a:prstGeom>
          <a:solidFill>
            <a:srgbClr val="736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459" name="椭圆 7"/>
          <p:cNvSpPr/>
          <p:nvPr/>
        </p:nvSpPr>
        <p:spPr>
          <a:xfrm>
            <a:off x="4705200" y="2587680"/>
            <a:ext cx="1305000" cy="1392120"/>
          </a:xfrm>
          <a:prstGeom prst="ellipse">
            <a:avLst/>
          </a:prstGeom>
          <a:solidFill>
            <a:srgbClr val="736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460" name="椭圆 8"/>
          <p:cNvSpPr/>
          <p:nvPr/>
        </p:nvSpPr>
        <p:spPr>
          <a:xfrm>
            <a:off x="6276960" y="2587680"/>
            <a:ext cx="1305000" cy="1392120"/>
          </a:xfrm>
          <a:prstGeom prst="ellipse">
            <a:avLst/>
          </a:prstGeom>
          <a:solidFill>
            <a:srgbClr val="736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73688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3688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28560" y="1472760"/>
            <a:ext cx="7886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1037700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1" marL="539640" indent="-268200">
              <a:lnSpc>
                <a:spcPct val="90000"/>
              </a:lnSpc>
              <a:spcBef>
                <a:spcPts val="1349"/>
              </a:spcBef>
              <a:buClr>
                <a:srgbClr val="736882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585858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FCA2-903D-4407-80ED-AA78231B062B}" type="datetime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1717-0B2E-43BA-B1E1-2711DD70602D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77840" y="166320"/>
            <a:ext cx="84708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5923080" y="4721400"/>
            <a:ext cx="271296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仇欣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二（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）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矩形 2054"/>
          <p:cNvSpPr txBox="1"/>
          <p:nvPr/>
        </p:nvSpPr>
        <p:spPr>
          <a:xfrm>
            <a:off x="177840" y="438120"/>
            <a:ext cx="8569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细黑"/>
              </a:rPr>
              <a:t>小真的长头发</a:t>
            </a:r>
            <a:endParaRPr b="1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细黑"/>
              <a:ea typeface="华文细黑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内容占位符 23555" descr="09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9895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 txBox="1"/>
          <p:nvPr/>
        </p:nvSpPr>
        <p:spPr>
          <a:xfrm>
            <a:off x="178920" y="47592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躺在岸边，让河水冲洗头发，头发就在水里轻轻地荡来荡去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2050560" y="5516640"/>
            <a:ext cx="7093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宋体"/>
                <a:ea typeface="宋体"/>
              </a:rPr>
              <a:t>好像海帶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样</a:t>
            </a:r>
            <a:r>
              <a:rPr b="1" lang="zh-TW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60640" indent="-260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Verdana"/>
                <a:ea typeface="DFKai-SB"/>
              </a:rPr>
              <a:t>                           </a:t>
            </a:r>
            <a:r>
              <a:rPr b="1" lang="zh-TW" sz="3600" spc="-1" strike="noStrike">
                <a:solidFill>
                  <a:srgbClr val="ff0000"/>
                </a:solidFill>
                <a:latin typeface="宋体"/>
                <a:ea typeface="宋体"/>
              </a:rPr>
              <a:t>而且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呀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内容占位符 24579" descr="10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8876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704" name=""/>
          <p:cNvSpPr txBox="1"/>
          <p:nvPr/>
        </p:nvSpPr>
        <p:spPr>
          <a:xfrm>
            <a:off x="250920" y="404640"/>
            <a:ext cx="69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头发长</a:t>
            </a:r>
            <a:r>
              <a:rPr b="1" lang="zh-TW" sz="2400" spc="-1" strike="noStrike">
                <a:solidFill>
                  <a:srgbClr val="000000"/>
                </a:solidFill>
                <a:latin typeface="宋体"/>
                <a:ea typeface="宋体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那么长</a:t>
            </a:r>
            <a:r>
              <a:rPr b="1" lang="zh-TW" sz="2400" spc="-1" strike="noStrike">
                <a:solidFill>
                  <a:srgbClr val="000000"/>
                </a:solidFill>
                <a:latin typeface="宋体"/>
                <a:ea typeface="宋体"/>
              </a:rPr>
              <a:t>的時候，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就已经有</a:t>
            </a:r>
            <a:r>
              <a:rPr b="1" lang="zh-TW" sz="2400" spc="-1" strike="noStrike">
                <a:solidFill>
                  <a:srgbClr val="000000"/>
                </a:solidFill>
                <a:latin typeface="宋体"/>
                <a:ea typeface="宋体"/>
              </a:rPr>
              <a:t>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zh-TW" sz="2400" spc="-1" strike="noStrike">
                <a:solidFill>
                  <a:srgbClr val="000000"/>
                </a:solidFill>
                <a:latin typeface="宋体"/>
                <a:ea typeface="宋体"/>
              </a:rPr>
              <a:t>妹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了。所以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....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539280" y="5516640"/>
            <a:ext cx="8604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为姐姐的我只要悠闲地坐在椅子上就行了。十个妹妹会卖劲地给我梳头的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-613080" y="0"/>
            <a:ext cx="102265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zh-TW" sz="2800" spc="-1" strike="noStrike">
                <a:solidFill>
                  <a:srgbClr val="006666"/>
                </a:solidFill>
                <a:latin typeface="DFKai-SB"/>
                <a:ea typeface="DFKai-SB"/>
              </a:rPr>
              <a:t>「</a:t>
            </a:r>
            <a:r>
              <a:rPr b="1" lang="en-US" sz="2800" spc="-1" strike="noStrike">
                <a:solidFill>
                  <a:srgbClr val="006666"/>
                </a:solidFill>
                <a:latin typeface="DFKai-SB"/>
                <a:ea typeface="DFKai-SB"/>
              </a:rPr>
              <a:t>“</a:t>
            </a:r>
            <a:r>
              <a:rPr b="1" lang="zh-CN" sz="2800" spc="-1" strike="noStrike">
                <a:solidFill>
                  <a:srgbClr val="006666"/>
                </a:solidFill>
                <a:latin typeface="DFKai-SB"/>
                <a:ea typeface="宋体"/>
              </a:rPr>
              <a:t>但是，那么长的头发，平常不是很碍事吗？</a:t>
            </a:r>
            <a:r>
              <a:rPr b="1" lang="en-US" sz="2800" spc="-1" strike="noStrike">
                <a:solidFill>
                  <a:srgbClr val="006666"/>
                </a:solidFill>
                <a:latin typeface="DFKai-SB"/>
                <a:ea typeface="宋体"/>
              </a:rPr>
              <a:t>”</a:t>
            </a:r>
            <a:r>
              <a:rPr b="1" lang="zh-TW" sz="2800" spc="-1" strike="noStrike">
                <a:solidFill>
                  <a:srgbClr val="006666"/>
                </a:solidFill>
                <a:latin typeface="DFKai-SB"/>
                <a:ea typeface="DFKai-SB"/>
              </a:rPr>
              <a:t>」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   </a:t>
            </a:r>
            <a:r>
              <a:rPr b="1" lang="zh-TW" sz="2800" spc="-1" strike="noStrike">
                <a:solidFill>
                  <a:srgbClr val="006666"/>
                </a:solidFill>
                <a:latin typeface="DFKai-SB"/>
                <a:ea typeface="DFKai-SB"/>
              </a:rPr>
              <a:t>「</a:t>
            </a:r>
            <a:r>
              <a:rPr b="1" lang="en-US" sz="2800" spc="-1" strike="noStrike">
                <a:solidFill>
                  <a:srgbClr val="006666"/>
                </a:solidFill>
                <a:latin typeface="DFKai-SB"/>
                <a:ea typeface="DFKai-SB"/>
              </a:rPr>
              <a:t>“</a:t>
            </a:r>
            <a:r>
              <a:rPr b="1" lang="zh-CN" sz="2800" spc="-1" strike="noStrike">
                <a:solidFill>
                  <a:srgbClr val="006666"/>
                </a:solidFill>
                <a:latin typeface="DFKai-SB"/>
                <a:ea typeface="宋体"/>
              </a:rPr>
              <a:t>是啊。拖在地上不难受？</a:t>
            </a:r>
            <a:r>
              <a:rPr b="1" lang="en-US" sz="2800" spc="-1" strike="noStrike">
                <a:solidFill>
                  <a:srgbClr val="006666"/>
                </a:solidFill>
                <a:latin typeface="DFKai-SB"/>
                <a:ea typeface="DFKai-SB"/>
              </a:rPr>
              <a:t>”</a:t>
            </a:r>
            <a:r>
              <a:rPr b="1" lang="zh-TW" sz="2800" spc="-1" strike="noStrike">
                <a:solidFill>
                  <a:srgbClr val="006666"/>
                </a:solidFill>
                <a:latin typeface="DFKai-SB"/>
                <a:ea typeface="DFKai-SB"/>
              </a:rPr>
              <a:t>」</a:t>
            </a:r>
            <a:r>
              <a:rPr b="1" lang="zh-CN" sz="2800" spc="-1" strike="noStrike">
                <a:solidFill>
                  <a:srgbClr val="006666"/>
                </a:solidFill>
                <a:latin typeface="DFKai-SB"/>
                <a:ea typeface="宋体"/>
              </a:rPr>
              <a:t>小叶和小美一起问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6480000" y="5660640"/>
            <a:ext cx="26640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DFKai-SB"/>
                <a:ea typeface="宋体"/>
              </a:rPr>
              <a:t>于是</a:t>
            </a:r>
            <a:r>
              <a:rPr b="1" lang="en-US" sz="4800" spc="-1" strike="noStrike">
                <a:solidFill>
                  <a:srgbClr val="ff0000"/>
                </a:solidFill>
                <a:latin typeface="DFKai-SB"/>
                <a:ea typeface="DFKai-SB"/>
              </a:rPr>
              <a:t>……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椭圆形标注 32772"/>
          <p:cNvSpPr/>
          <p:nvPr/>
        </p:nvSpPr>
        <p:spPr>
          <a:xfrm>
            <a:off x="539640" y="260280"/>
            <a:ext cx="4753080" cy="2160720"/>
          </a:xfrm>
          <a:prstGeom prst="wedgeEllipseCallout">
            <a:avLst>
              <a:gd name="adj1" fmla="val 59083"/>
              <a:gd name="adj2" fmla="val 21712"/>
            </a:avLst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DFKai-SB"/>
              </a:rPr>
              <a:t>「沒</a:t>
            </a:r>
            <a:r>
              <a:rPr b="1" lang="zh-CN" sz="3200" spc="-1" strike="noStrike">
                <a:solidFill>
                  <a:srgbClr val="000000"/>
                </a:solidFill>
                <a:latin typeface="DFKai-SB"/>
              </a:rPr>
              <a:t>关系</a:t>
            </a:r>
            <a:r>
              <a:rPr b="1" lang="zh-TW" sz="3200" spc="-1" strike="noStrike">
                <a:solidFill>
                  <a:srgbClr val="000000"/>
                </a:solidFill>
                <a:latin typeface="DFKai-SB"/>
              </a:rPr>
              <a:t>呀。到 </a:t>
            </a:r>
            <a:endParaRPr b="1" lang="en-US" sz="3200" spc="-1" strike="noStrike">
              <a:solidFill>
                <a:srgbClr val="000000"/>
              </a:solidFill>
              <a:latin typeface="DFKai-S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DFKai-SB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DFKai-SB"/>
              </a:rPr>
              <a:t>时</a:t>
            </a:r>
            <a:r>
              <a:rPr b="1" lang="zh-TW" sz="3200" spc="-1" strike="noStrike">
                <a:solidFill>
                  <a:srgbClr val="000000"/>
                </a:solidFill>
                <a:latin typeface="DFKai-SB"/>
              </a:rPr>
              <a:t>候我把</a:t>
            </a:r>
            <a:r>
              <a:rPr b="1" lang="zh-CN" sz="3200" spc="-1" strike="noStrike">
                <a:solidFill>
                  <a:srgbClr val="000000"/>
                </a:solidFill>
                <a:latin typeface="DFKai-SB"/>
              </a:rPr>
              <a:t>头发烫起来。</a:t>
            </a:r>
            <a:r>
              <a:rPr b="1" lang="zh-TW" sz="3200" spc="-1" strike="noStrike">
                <a:solidFill>
                  <a:srgbClr val="000000"/>
                </a:solidFill>
                <a:latin typeface="DFKai-SB"/>
              </a:rPr>
              <a:t>」</a:t>
            </a:r>
            <a:endParaRPr b="1" lang="en-US" sz="3200" spc="-1" strike="noStrike">
              <a:solidFill>
                <a:srgbClr val="000000"/>
              </a:solidFill>
              <a:latin typeface="DFKai-SB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图片 2" descr="QQ图片20180318185249"/>
          <p:cNvPicPr/>
          <p:nvPr/>
        </p:nvPicPr>
        <p:blipFill>
          <a:blip r:embed="rId1"/>
          <a:stretch/>
        </p:blipFill>
        <p:spPr>
          <a:xfrm>
            <a:off x="-7920" y="246240"/>
            <a:ext cx="9101160" cy="444168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 txBox="1"/>
          <p:nvPr/>
        </p:nvSpPr>
        <p:spPr>
          <a:xfrm>
            <a:off x="457200" y="4687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我的头发就会变成树林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!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小鸟、松鼠、小虫子们都来到这里，这座树林别提有多棒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图片 1" descr="QQ图片20180318184644"/>
          <p:cNvPicPr/>
          <p:nvPr/>
        </p:nvPicPr>
        <p:blipFill>
          <a:blip r:embed="rId1"/>
          <a:stretch/>
        </p:blipFill>
        <p:spPr>
          <a:xfrm>
            <a:off x="19080" y="4680"/>
            <a:ext cx="7026120" cy="6807240"/>
          </a:xfrm>
          <a:prstGeom prst="rect">
            <a:avLst/>
          </a:prstGeom>
          <a:ln w="0">
            <a:noFill/>
          </a:ln>
        </p:spPr>
      </p:pic>
      <p:sp>
        <p:nvSpPr>
          <p:cNvPr id="712" name="任意多边形 20"/>
          <p:cNvSpPr/>
          <p:nvPr/>
        </p:nvSpPr>
        <p:spPr>
          <a:xfrm rot="6300000">
            <a:off x="7577640" y="1657800"/>
            <a:ext cx="1000080" cy="1671840"/>
          </a:xfrm>
          <a:custGeom>
            <a:avLst/>
            <a:gdLst/>
            <a:ahLst/>
            <a:rect l="l" t="t" r="r" b="b"/>
            <a:pathLst>
              <a:path w="779422" h="1303707">
                <a:moveTo>
                  <a:pt x="282763" y="105016"/>
                </a:moveTo>
                <a:cubicBezTo>
                  <a:pt x="272188" y="56213"/>
                  <a:pt x="295267" y="9791"/>
                  <a:pt x="334313" y="1332"/>
                </a:cubicBezTo>
                <a:cubicBezTo>
                  <a:pt x="373358" y="-7128"/>
                  <a:pt x="413581" y="25576"/>
                  <a:pt x="424156" y="74380"/>
                </a:cubicBezTo>
                <a:cubicBezTo>
                  <a:pt x="434730" y="123184"/>
                  <a:pt x="411651" y="169605"/>
                  <a:pt x="372606" y="178065"/>
                </a:cubicBezTo>
                <a:cubicBezTo>
                  <a:pt x="333561" y="186524"/>
                  <a:pt x="293337" y="153820"/>
                  <a:pt x="282763" y="105016"/>
                </a:cubicBezTo>
                <a:close/>
                <a:moveTo>
                  <a:pt x="186742" y="180182"/>
                </a:moveTo>
                <a:cubicBezTo>
                  <a:pt x="179580" y="147129"/>
                  <a:pt x="195958" y="115527"/>
                  <a:pt x="223325" y="109597"/>
                </a:cubicBezTo>
                <a:cubicBezTo>
                  <a:pt x="250690" y="103668"/>
                  <a:pt x="278681" y="125656"/>
                  <a:pt x="285842" y="158709"/>
                </a:cubicBezTo>
                <a:cubicBezTo>
                  <a:pt x="293004" y="191762"/>
                  <a:pt x="276625" y="223364"/>
                  <a:pt x="249259" y="229294"/>
                </a:cubicBezTo>
                <a:cubicBezTo>
                  <a:pt x="221893" y="235223"/>
                  <a:pt x="193903" y="213235"/>
                  <a:pt x="186742" y="180182"/>
                </a:cubicBezTo>
                <a:close/>
                <a:moveTo>
                  <a:pt x="111036" y="272581"/>
                </a:moveTo>
                <a:cubicBezTo>
                  <a:pt x="104789" y="243751"/>
                  <a:pt x="119076" y="216187"/>
                  <a:pt x="142945" y="211014"/>
                </a:cubicBezTo>
                <a:cubicBezTo>
                  <a:pt x="166816" y="205843"/>
                  <a:pt x="191230" y="225022"/>
                  <a:pt x="197476" y="253851"/>
                </a:cubicBezTo>
                <a:cubicBezTo>
                  <a:pt x="203723" y="282681"/>
                  <a:pt x="189437" y="310246"/>
                  <a:pt x="165567" y="315418"/>
                </a:cubicBezTo>
                <a:cubicBezTo>
                  <a:pt x="141697" y="320590"/>
                  <a:pt x="117283" y="301411"/>
                  <a:pt x="111036" y="272581"/>
                </a:cubicBezTo>
                <a:close/>
                <a:moveTo>
                  <a:pt x="57209" y="353265"/>
                </a:moveTo>
                <a:cubicBezTo>
                  <a:pt x="51961" y="329046"/>
                  <a:pt x="63319" y="306030"/>
                  <a:pt x="82577" y="301857"/>
                </a:cubicBezTo>
                <a:cubicBezTo>
                  <a:pt x="101835" y="297685"/>
                  <a:pt x="121701" y="313935"/>
                  <a:pt x="126948" y="338154"/>
                </a:cubicBezTo>
                <a:cubicBezTo>
                  <a:pt x="132196" y="362373"/>
                  <a:pt x="120838" y="385389"/>
                  <a:pt x="101580" y="389562"/>
                </a:cubicBezTo>
                <a:cubicBezTo>
                  <a:pt x="82322" y="393735"/>
                  <a:pt x="62456" y="377484"/>
                  <a:pt x="57209" y="353265"/>
                </a:cubicBezTo>
                <a:close/>
                <a:moveTo>
                  <a:pt x="107109" y="649343"/>
                </a:moveTo>
                <a:cubicBezTo>
                  <a:pt x="101373" y="630673"/>
                  <a:pt x="97171" y="612781"/>
                  <a:pt x="94716" y="595598"/>
                </a:cubicBezTo>
                <a:cubicBezTo>
                  <a:pt x="84896" y="526865"/>
                  <a:pt x="93206" y="486834"/>
                  <a:pt x="135506" y="427920"/>
                </a:cubicBezTo>
                <a:cubicBezTo>
                  <a:pt x="177807" y="369005"/>
                  <a:pt x="294135" y="270815"/>
                  <a:pt x="348521" y="242114"/>
                </a:cubicBezTo>
                <a:cubicBezTo>
                  <a:pt x="402908" y="213412"/>
                  <a:pt x="434634" y="237582"/>
                  <a:pt x="461827" y="255709"/>
                </a:cubicBezTo>
                <a:cubicBezTo>
                  <a:pt x="489021" y="273837"/>
                  <a:pt x="506394" y="314623"/>
                  <a:pt x="511681" y="350878"/>
                </a:cubicBezTo>
                <a:cubicBezTo>
                  <a:pt x="516969" y="387134"/>
                  <a:pt x="511681" y="436228"/>
                  <a:pt x="493552" y="473238"/>
                </a:cubicBezTo>
                <a:cubicBezTo>
                  <a:pt x="475424" y="510248"/>
                  <a:pt x="421037" y="545748"/>
                  <a:pt x="402908" y="572939"/>
                </a:cubicBezTo>
                <a:cubicBezTo>
                  <a:pt x="390807" y="600130"/>
                  <a:pt x="389307" y="606187"/>
                  <a:pt x="384779" y="636385"/>
                </a:cubicBezTo>
                <a:cubicBezTo>
                  <a:pt x="381757" y="660555"/>
                  <a:pt x="377218" y="662114"/>
                  <a:pt x="384779" y="717959"/>
                </a:cubicBezTo>
                <a:cubicBezTo>
                  <a:pt x="395354" y="754214"/>
                  <a:pt x="423303" y="820681"/>
                  <a:pt x="448230" y="853915"/>
                </a:cubicBezTo>
                <a:cubicBezTo>
                  <a:pt x="473157" y="887148"/>
                  <a:pt x="502617" y="903010"/>
                  <a:pt x="534343" y="917360"/>
                </a:cubicBezTo>
                <a:cubicBezTo>
                  <a:pt x="566068" y="931711"/>
                  <a:pt x="604592" y="926424"/>
                  <a:pt x="638584" y="940020"/>
                </a:cubicBezTo>
                <a:cubicBezTo>
                  <a:pt x="672576" y="953615"/>
                  <a:pt x="714877" y="970987"/>
                  <a:pt x="738293" y="998933"/>
                </a:cubicBezTo>
                <a:cubicBezTo>
                  <a:pt x="761710" y="1026880"/>
                  <a:pt x="776817" y="1072199"/>
                  <a:pt x="779083" y="1107698"/>
                </a:cubicBezTo>
                <a:cubicBezTo>
                  <a:pt x="781349" y="1143197"/>
                  <a:pt x="772285" y="1180963"/>
                  <a:pt x="751890" y="1211931"/>
                </a:cubicBezTo>
                <a:cubicBezTo>
                  <a:pt x="731494" y="1242899"/>
                  <a:pt x="692971" y="1280664"/>
                  <a:pt x="656713" y="1293505"/>
                </a:cubicBezTo>
                <a:cubicBezTo>
                  <a:pt x="620455" y="1306345"/>
                  <a:pt x="575888" y="1309366"/>
                  <a:pt x="534343" y="1288973"/>
                </a:cubicBezTo>
                <a:cubicBezTo>
                  <a:pt x="492797" y="1268579"/>
                  <a:pt x="464093" y="1245919"/>
                  <a:pt x="407440" y="1171144"/>
                </a:cubicBezTo>
                <a:cubicBezTo>
                  <a:pt x="350787" y="1096369"/>
                  <a:pt x="246546" y="936243"/>
                  <a:pt x="194425" y="840319"/>
                </a:cubicBezTo>
                <a:cubicBezTo>
                  <a:pt x="155335" y="768375"/>
                  <a:pt x="124317" y="705354"/>
                  <a:pt x="107109" y="649343"/>
                </a:cubicBezTo>
                <a:close/>
                <a:moveTo>
                  <a:pt x="1280" y="456080"/>
                </a:moveTo>
                <a:cubicBezTo>
                  <a:pt x="-3967" y="431861"/>
                  <a:pt x="7390" y="408845"/>
                  <a:pt x="26649" y="404672"/>
                </a:cubicBezTo>
                <a:cubicBezTo>
                  <a:pt x="45907" y="400499"/>
                  <a:pt x="65772" y="416750"/>
                  <a:pt x="71020" y="440969"/>
                </a:cubicBezTo>
                <a:cubicBezTo>
                  <a:pt x="76268" y="465188"/>
                  <a:pt x="64910" y="488204"/>
                  <a:pt x="45652" y="492377"/>
                </a:cubicBezTo>
                <a:cubicBezTo>
                  <a:pt x="26394" y="496550"/>
                  <a:pt x="6528" y="480299"/>
                  <a:pt x="1280" y="456080"/>
                </a:cubicBez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713" name="文本框 24"/>
          <p:cNvSpPr/>
          <p:nvPr/>
        </p:nvSpPr>
        <p:spPr>
          <a:xfrm>
            <a:off x="7142040" y="2030400"/>
            <a:ext cx="19465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叶和小美听的入了神，羡慕地说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哦。这真的是太好了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嗯。真的是太好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.....”</a:t>
            </a:r>
            <a:endParaRPr b="1" lang="en-US" sz="2400" spc="-1" strike="noStrike">
              <a:solidFill>
                <a:srgbClr val="000000"/>
              </a:solidFill>
              <a:latin typeface="DFKai-SB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图片 1" descr="QQ图片20180318184605"/>
          <p:cNvPicPr/>
          <p:nvPr/>
        </p:nvPicPr>
        <p:blipFill>
          <a:blip r:embed="rId1"/>
          <a:stretch/>
        </p:blipFill>
        <p:spPr>
          <a:xfrm>
            <a:off x="-6480" y="3240"/>
            <a:ext cx="9155160" cy="6840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562040" y="2587320"/>
            <a:ext cx="6019920" cy="1392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感谢观看</a:t>
            </a:r>
            <a:endParaRPr b="0" lang="en-US" sz="4000" spc="-1" strike="noStrike">
              <a:solidFill>
                <a:srgbClr val="73688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圆角矩形标注 15363"/>
          <p:cNvSpPr/>
          <p:nvPr/>
        </p:nvSpPr>
        <p:spPr>
          <a:xfrm>
            <a:off x="4788000" y="549360"/>
            <a:ext cx="3456000" cy="961920"/>
          </a:xfrm>
          <a:prstGeom prst="wedgeRoundRectCallout">
            <a:avLst>
              <a:gd name="adj1" fmla="val -43754"/>
              <a:gd name="adj2" fmla="val 99504"/>
              <a:gd name="adj3" fmla="val 16667"/>
            </a:avLst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DFKai-SB"/>
              </a:rPr>
              <a:t>会长多长</a:t>
            </a:r>
            <a:r>
              <a:rPr b="1" lang="en-US" sz="3600" spc="-1" strike="noStrike">
                <a:solidFill>
                  <a:srgbClr val="000000"/>
                </a:solidFill>
                <a:latin typeface="DFKai-SB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681" name="矩形 15366"/>
          <p:cNvSpPr/>
          <p:nvPr/>
        </p:nvSpPr>
        <p:spPr>
          <a:xfrm>
            <a:off x="933480" y="5843520"/>
            <a:ext cx="738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66"/>
                </a:solidFill>
                <a:latin typeface="DFKai-SB"/>
                <a:ea typeface="宋体"/>
              </a:rPr>
              <a:t>小叶和小美都留长头发。她俩美得不行。小真呢，留的却是短短的妹妹头。小叶和小美说：“我们的头发还能长长呢。”“哼，能长多长</a:t>
            </a:r>
            <a:r>
              <a:rPr b="0" lang="en-US" sz="1600" spc="-1" strike="noStrike">
                <a:solidFill>
                  <a:srgbClr val="006666"/>
                </a:solidFill>
                <a:latin typeface="DFKai-SB"/>
                <a:ea typeface="宋体"/>
              </a:rPr>
              <a:t>?”</a:t>
            </a:r>
            <a:r>
              <a:rPr b="0" lang="zh-CN" sz="1600" spc="-1" strike="noStrike">
                <a:solidFill>
                  <a:srgbClr val="006666"/>
                </a:solidFill>
                <a:latin typeface="DFKai-SB"/>
                <a:ea typeface="宋体"/>
              </a:rPr>
              <a:t>小真问。</a:t>
            </a:r>
            <a:br>
              <a:rPr sz="1600"/>
            </a:br>
            <a:r>
              <a:rPr b="0" lang="zh-CN" sz="1600" spc="-1" strike="noStrike">
                <a:solidFill>
                  <a:srgbClr val="006666"/>
                </a:solidFill>
                <a:latin typeface="DFKai-SB"/>
                <a:ea typeface="宋体"/>
              </a:rPr>
              <a:t>“长得呀，能盖过腰呢。对吧？小叶。”</a:t>
            </a:r>
            <a:r>
              <a:rPr b="0" lang="en-US" sz="1600" spc="-1" strike="noStrike">
                <a:solidFill>
                  <a:srgbClr val="006666"/>
                </a:solidFill>
                <a:latin typeface="DFKai-SB"/>
                <a:ea typeface="宋体"/>
              </a:rPr>
              <a:t>“</a:t>
            </a:r>
            <a:r>
              <a:rPr b="0" lang="zh-CN" sz="1600" spc="-1" strike="noStrike">
                <a:solidFill>
                  <a:srgbClr val="006666"/>
                </a:solidFill>
                <a:latin typeface="DFKai-SB"/>
                <a:ea typeface="宋体"/>
              </a:rPr>
              <a:t>对，能到腰。</a:t>
            </a:r>
            <a:r>
              <a:rPr b="0" lang="en-US" sz="1600" spc="-1" strike="noStrike">
                <a:solidFill>
                  <a:srgbClr val="006666"/>
                </a:solidFill>
                <a:latin typeface="DFKai-SB"/>
                <a:ea typeface="宋体"/>
              </a:rPr>
              <a:t>”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DFKai-SB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0" y="5876640"/>
            <a:ext cx="7308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  <a:ea typeface="宋体"/>
              </a:rPr>
              <a:t>“</a:t>
            </a:r>
            <a:r>
              <a:rPr b="1" lang="zh-CN" sz="2000" spc="-1" strike="noStrike">
                <a:solidFill>
                  <a:srgbClr val="006699"/>
                </a:solidFill>
                <a:latin typeface="Verdana"/>
                <a:ea typeface="宋体"/>
              </a:rPr>
              <a:t>怎么，你们的头发才能长那么长？我的呀，能长得更长呢！”小真说。“嘿！能长多长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宋体"/>
              </a:rPr>
              <a:t>?”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  <a:ea typeface="宋体"/>
              </a:rPr>
              <a:t>“</a:t>
            </a:r>
            <a:r>
              <a:rPr b="1" lang="zh-CN" sz="2000" spc="-1" strike="noStrike">
                <a:solidFill>
                  <a:srgbClr val="006699"/>
                </a:solidFill>
                <a:latin typeface="Verdana"/>
                <a:ea typeface="宋体"/>
              </a:rPr>
              <a:t>老长老长老长老长老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  <a:ea typeface="宋体"/>
              </a:rPr>
              <a:t>——</a:t>
            </a:r>
            <a:r>
              <a:rPr b="1" lang="zh-CN" sz="2000" spc="-1" strike="noStrike">
                <a:solidFill>
                  <a:srgbClr val="006699"/>
                </a:solidFill>
                <a:latin typeface="Verdana"/>
                <a:ea typeface="宋体"/>
              </a:rPr>
              <a:t>长！说起那个长来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  <a:ea typeface="宋体"/>
              </a:rPr>
              <a:t>……”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圆角矩形标注 16387"/>
          <p:cNvSpPr/>
          <p:nvPr/>
        </p:nvSpPr>
        <p:spPr>
          <a:xfrm flipH="1">
            <a:off x="826920" y="189000"/>
            <a:ext cx="4896000" cy="1224000"/>
          </a:xfrm>
          <a:prstGeom prst="wedgeRoundRectCallout">
            <a:avLst>
              <a:gd name="adj1" fmla="val -48930"/>
              <a:gd name="adj2" fmla="val 71268"/>
              <a:gd name="adj3" fmla="val 16667"/>
            </a:avLst>
          </a:prstGeom>
          <a:solidFill>
            <a:srgbClr val="edfad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DFKai-SB"/>
              </a:rPr>
              <a:t>「我的</a:t>
            </a:r>
            <a:r>
              <a:rPr b="1" lang="zh-CN" sz="2800" spc="-1" strike="noStrike">
                <a:solidFill>
                  <a:srgbClr val="000000"/>
                </a:solidFill>
                <a:latin typeface="DFKai-SB"/>
              </a:rPr>
              <a:t>头发长长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</a:rPr>
              <a:t>的時候那才真叫</a:t>
            </a:r>
            <a:r>
              <a:rPr b="1" lang="zh-CN" sz="2800" spc="-1" strike="noStrike">
                <a:solidFill>
                  <a:srgbClr val="000000"/>
                </a:solidFill>
                <a:latin typeface="DFKai-SB"/>
              </a:rPr>
              <a:t>长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</a:rPr>
              <a:t>呢。」小真</a:t>
            </a:r>
            <a:r>
              <a:rPr b="1" lang="zh-CN" sz="2800" spc="-1" strike="noStrike">
                <a:solidFill>
                  <a:srgbClr val="000000"/>
                </a:solidFill>
                <a:latin typeface="DFKai-SB"/>
              </a:rPr>
              <a:t>说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</a:rPr>
              <a:t>。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内容占位符 17411" descr="03"/>
          <p:cNvPicPr/>
          <p:nvPr/>
        </p:nvPicPr>
        <p:blipFill>
          <a:blip r:embed="rId1"/>
          <a:stretch/>
        </p:blipFill>
        <p:spPr>
          <a:xfrm>
            <a:off x="2268360" y="0"/>
            <a:ext cx="4535640" cy="685800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 txBox="1"/>
          <p:nvPr/>
        </p:nvSpPr>
        <p:spPr>
          <a:xfrm>
            <a:off x="0" y="2060640"/>
            <a:ext cx="2448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DFKai-SB"/>
                <a:ea typeface="宋体"/>
              </a:rPr>
              <a:t>要是从桥上把辫子垂下去，就能钓到鱼呢。</a:t>
            </a:r>
            <a:r>
              <a:rPr b="0" lang="zh-TW" sz="2400" spc="-1" strike="noStrike">
                <a:solidFill>
                  <a:srgbClr val="006699"/>
                </a:solidFill>
                <a:latin typeface="DFKai-SB"/>
                <a:ea typeface="DFKai-SB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516360" y="333000"/>
            <a:ext cx="2376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上一点儿鱼饵，河里的鱼，不管什么样的，都能钓上来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DFKai-SB"/>
              </a:rPr>
              <a:t>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Verdana"/>
                <a:ea typeface="DFKai-SB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宋体"/>
              </a:rPr>
              <a:t>还有呢</a:t>
            </a:r>
            <a:r>
              <a:rPr b="1" lang="en-US" sz="3600" spc="-1" strike="noStrike">
                <a:solidFill>
                  <a:srgbClr val="ff0000"/>
                </a:solidFill>
                <a:latin typeface="DFKai-SB"/>
                <a:ea typeface="DFKai-SB"/>
              </a:rPr>
              <a:t>……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内容占位符 18435" descr="04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0323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 txBox="1"/>
          <p:nvPr/>
        </p:nvSpPr>
        <p:spPr>
          <a:xfrm>
            <a:off x="1943280" y="259920"/>
            <a:ext cx="720072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要是从牧场的栅栏外面把辫子嗖的一下甩过去，连牛都能套上呢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042560" y="5589360"/>
            <a:ext cx="86425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DFKai-SB"/>
                <a:ea typeface="宋体"/>
              </a:rPr>
              <a:t>一下子就套到牛角上，只要用劲儿拉呀拉的，一整头牛就是我的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                             </a:t>
            </a:r>
            <a:r>
              <a:rPr b="1" lang="zh-TW" sz="18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DFKai-SB"/>
                <a:ea typeface="宋体"/>
              </a:rPr>
              <a:t>还有呢</a:t>
            </a:r>
            <a:r>
              <a:rPr b="1" lang="en-US" sz="2800" spc="-1" strike="noStrike">
                <a:solidFill>
                  <a:srgbClr val="ff0000"/>
                </a:solidFill>
                <a:latin typeface="DFKai-SB"/>
                <a:ea typeface="DFKai-SB"/>
              </a:rPr>
              <a:t>……</a:t>
            </a:r>
            <a:r>
              <a:rPr b="1" lang="en-US" sz="2400" spc="-1" strike="noStrike">
                <a:solidFill>
                  <a:srgbClr val="ff0000"/>
                </a:solidFill>
                <a:latin typeface="DFKai-SB"/>
                <a:ea typeface="DFKai-SB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0" y="3644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DFKai-SB"/>
                <a:ea typeface="宋体"/>
              </a:rPr>
              <a:t>就是在露天地里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DFKai-SB"/>
                <a:ea typeface="宋体"/>
              </a:rPr>
              <a:t>也能睡大觉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DFKai-SB"/>
                <a:ea typeface="宋体"/>
              </a:rPr>
              <a:t>只要把头发像紫菜卷寿司那样卷在身上，就成了暄腾腾的被子了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DFKai-SB"/>
                <a:ea typeface="DFKai-SB"/>
              </a:rPr>
              <a:t>   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DFKai-SB"/>
                <a:ea typeface="DFKai-SB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DFKai-SB"/>
                <a:ea typeface="宋体"/>
              </a:rPr>
              <a:t>还有呢</a:t>
            </a:r>
            <a:r>
              <a:rPr b="1" lang="en-US" sz="3600" spc="-1" strike="noStrike">
                <a:solidFill>
                  <a:srgbClr val="ff0000"/>
                </a:solidFill>
                <a:latin typeface="DFKai-SB"/>
                <a:ea typeface="DFKai-SB"/>
              </a:rPr>
              <a:t>……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内容占位符 20483" descr="06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8247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 txBox="1"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要是把右边的辫子和左边的辫子绷紧了拉在树上，家里洗的所有衣服就能一次全晾完啦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6048000"/>
            <a:ext cx="88916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在衣服晾干以前，我就读上十本书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DFKai-SB"/>
              </a:rPr>
              <a:t>妈妈还会对我说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DFKai-SB"/>
              </a:rPr>
              <a:t>「</a:t>
            </a:r>
            <a:r>
              <a:rPr b="1" lang="zh-CN" sz="2400" spc="-1" strike="noStrike">
                <a:solidFill>
                  <a:srgbClr val="9933ff"/>
                </a:solidFill>
                <a:latin typeface="Verdana"/>
                <a:ea typeface="DFKai-SB"/>
              </a:rPr>
              <a:t>谢谢</a:t>
            </a:r>
            <a:r>
              <a:rPr b="1" lang="zh-TW" sz="2400" spc="-1" strike="noStrike">
                <a:solidFill>
                  <a:srgbClr val="9933ff"/>
                </a:solidFill>
                <a:latin typeface="Verdana"/>
                <a:ea typeface="DFKai-SB"/>
              </a:rPr>
              <a:t>小真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DFKai-SB"/>
              </a:rPr>
              <a:t>」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啦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DFKai-SB"/>
              </a:rPr>
              <a:t>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圆角矩形标注 21507"/>
          <p:cNvSpPr/>
          <p:nvPr/>
        </p:nvSpPr>
        <p:spPr>
          <a:xfrm>
            <a:off x="1476360" y="333360"/>
            <a:ext cx="4032360" cy="1395360"/>
          </a:xfrm>
          <a:prstGeom prst="wedgeRoundRectCallout">
            <a:avLst>
              <a:gd name="adj1" fmla="val -42439"/>
              <a:gd name="adj2" fmla="val 67518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DFKai-SB"/>
              </a:rPr>
              <a:t>「</a:t>
            </a:r>
            <a:r>
              <a:rPr b="1" lang="en-US" sz="2400" spc="-1" strike="noStrike">
                <a:solidFill>
                  <a:srgbClr val="000000"/>
                </a:solidFill>
                <a:latin typeface="DFKai-SB"/>
              </a:rPr>
              <a:t>“</a:t>
            </a:r>
            <a:r>
              <a:rPr b="1" lang="zh-TW" sz="2400" spc="-1" strike="noStrike">
                <a:solidFill>
                  <a:srgbClr val="000000"/>
                </a:solidFill>
                <a:latin typeface="宋体"/>
                <a:ea typeface="宋体"/>
              </a:rPr>
              <a:t>可是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那么长的头发</a:t>
            </a:r>
            <a:r>
              <a:rPr b="1" lang="zh-TW" sz="2400" spc="-1" strike="noStrike">
                <a:solidFill>
                  <a:srgbClr val="000000"/>
                </a:solidFill>
                <a:latin typeface="宋体"/>
                <a:ea typeface="宋体"/>
              </a:rPr>
              <a:t>，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来</a:t>
            </a:r>
            <a:r>
              <a:rPr b="1" lang="zh-TW" sz="2400" spc="-1" strike="noStrike">
                <a:solidFill>
                  <a:srgbClr val="000000"/>
                </a:solidFill>
                <a:latin typeface="宋体"/>
                <a:ea typeface="宋体"/>
              </a:rPr>
              <a:t>不是很麻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?”</a:t>
            </a:r>
            <a:r>
              <a:rPr b="1" lang="zh-TW" sz="2400" spc="-1" strike="noStrike">
                <a:solidFill>
                  <a:srgbClr val="000000"/>
                </a:solidFill>
                <a:latin typeface="DFKai-SB"/>
              </a:rPr>
              <a:t>」</a:t>
            </a:r>
            <a:r>
              <a:rPr b="1" lang="zh-CN" sz="2400" spc="-1" strike="noStrike">
                <a:solidFill>
                  <a:srgbClr val="000000"/>
                </a:solidFill>
                <a:latin typeface="DFKai-SB"/>
                <a:ea typeface="宋体"/>
              </a:rPr>
              <a:t>小叶说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695" name="圆角矩形标注 21508"/>
          <p:cNvSpPr/>
          <p:nvPr/>
        </p:nvSpPr>
        <p:spPr>
          <a:xfrm>
            <a:off x="4140360" y="1844640"/>
            <a:ext cx="2232000" cy="1655640"/>
          </a:xfrm>
          <a:prstGeom prst="wedgeRoundRectCallout">
            <a:avLst>
              <a:gd name="adj1" fmla="val -44379"/>
              <a:gd name="adj2" fmla="val 54314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宋体"/>
                <a:ea typeface="宋体"/>
              </a:rPr>
              <a:t>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说</a:t>
            </a:r>
            <a:r>
              <a:rPr b="1" lang="zh-TW" sz="2400" spc="-1" strike="noStrike">
                <a:solidFill>
                  <a:srgbClr val="000000"/>
                </a:solidFill>
                <a:latin typeface="宋体"/>
                <a:ea typeface="宋体"/>
              </a:rPr>
              <a:t>，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么</a:t>
            </a:r>
            <a:r>
              <a:rPr b="1" lang="zh-TW" sz="2400" spc="-1" strike="noStrike">
                <a:solidFill>
                  <a:srgbClr val="000000"/>
                </a:solidFill>
                <a:latin typeface="宋体"/>
                <a:ea typeface="宋体"/>
              </a:rPr>
              <a:t>梳呢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那么长的头发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TW" sz="2400" spc="-1" strike="noStrike">
                <a:solidFill>
                  <a:srgbClr val="000000"/>
                </a:solidFill>
                <a:latin typeface="宋体"/>
                <a:ea typeface="宋体"/>
              </a:rPr>
              <a:t>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美也说</a:t>
            </a:r>
            <a:endParaRPr b="1" lang="en-US" sz="24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787640" y="5013360"/>
            <a:ext cx="4105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宋体"/>
                <a:ea typeface="宋体"/>
              </a:rPr>
              <a:t>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也太简单了。好玩极了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TW" sz="2800" spc="-1" strike="noStrike">
                <a:solidFill>
                  <a:srgbClr val="000000"/>
                </a:solidFill>
                <a:latin typeface="宋体"/>
                <a:ea typeface="宋体"/>
              </a:rPr>
              <a:t>」小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DFKai-SB"/>
              </a:rPr>
              <a:t>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内容占位符 22531" descr="08"/>
          <p:cNvPicPr/>
          <p:nvPr/>
        </p:nvPicPr>
        <p:blipFill>
          <a:blip r:embed="rId1"/>
          <a:stretch/>
        </p:blipFill>
        <p:spPr>
          <a:xfrm>
            <a:off x="2411280" y="0"/>
            <a:ext cx="4321440" cy="68580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 txBox="1"/>
          <p:nvPr/>
        </p:nvSpPr>
        <p:spPr>
          <a:xfrm>
            <a:off x="0" y="475920"/>
            <a:ext cx="262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DFKai-SB"/>
                <a:ea typeface="宋体"/>
              </a:rPr>
              <a:t>抹上香波一揉，那泡沫呀，高得能够着云彩，好像一个大大的、大大的蛋卷冰激凌。</a:t>
            </a:r>
            <a:r>
              <a:rPr b="1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732720" y="1916280"/>
            <a:ext cx="241128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唯一遗憾的是不甜。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Verdana"/>
                <a:ea typeface="DFKai-SB"/>
              </a:rPr>
              <a:t>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Verdana"/>
                <a:ea typeface="DFKai-SB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而且呀</a:t>
            </a:r>
            <a:r>
              <a:rPr b="1" lang="en-US" sz="2400" spc="-1" strike="noStrike">
                <a:solidFill>
                  <a:srgbClr val="ff0000"/>
                </a:solidFill>
                <a:latin typeface="DFKai-SB"/>
                <a:ea typeface="DFKai-SB"/>
              </a:rPr>
              <a:t>……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0:41:12Z</dcterms:created>
  <dc:creator>Administrator</dc:creator>
  <dc:description/>
  <dc:language>en-US</dc:language>
  <cp:lastModifiedBy>微软用户</cp:lastModifiedBy>
  <dcterms:modified xsi:type="dcterms:W3CDTF">2019-03-14T04:47:12Z</dcterms:modified>
  <cp:revision>27</cp:revision>
  <dc:subject/>
  <dc:title>小真的長頭髮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