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3.png" ContentType="image/pn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7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7A3A-EE2B-4D52-A0F0-1E25398DBE1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面楚歌 霸王别姬</a:t>
            </a:r>
            <a:r>
              <a:rPr b="0" lang="zh-CN" sz="1200" spc="-1" strike="noStrike">
                <a:solidFill>
                  <a:srgbClr val="008000"/>
                </a:solidFill>
                <a:latin typeface="Arial"/>
              </a:rPr>
              <a:t>优柔寡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8000"/>
                </a:solidFill>
                <a:latin typeface="Arial"/>
              </a:rPr>
              <a:t>优柔寡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99"/>
                </a:solidFill>
                <a:latin typeface="Arial"/>
              </a:rPr>
              <a:t>骁勇善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99"/>
                </a:solidFill>
                <a:latin typeface="Arial"/>
              </a:rPr>
              <a:t>临危不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99"/>
                </a:solidFill>
                <a:latin typeface="Arial"/>
              </a:rPr>
              <a:t>勇武豪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99"/>
                </a:solidFill>
                <a:latin typeface="Arial"/>
              </a:rPr>
              <a:t>轻信自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9999"/>
                </a:solidFill>
                <a:latin typeface="Arial"/>
              </a:rPr>
              <a:t>不知自责自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2879640" cy="43927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4"/>
          <p:cNvSpPr/>
          <p:nvPr/>
        </p:nvSpPr>
        <p:spPr>
          <a:xfrm>
            <a:off x="5352840" y="1628640"/>
            <a:ext cx="2389320" cy="4091040"/>
          </a:xfrm>
          <a:custGeom>
            <a:avLst/>
            <a:gdLst>
              <a:gd name="textAreaLeft" fmla="*/ 281520 w 2389320"/>
              <a:gd name="textAreaRight" fmla="*/ 2107800 w 2389320"/>
              <a:gd name="textAreaTop" fmla="*/ 281520 h 4091040"/>
              <a:gd name="textAreaBottom" fmla="*/ 3809520 h 4091040"/>
            </a:gdLst>
            <a:ahLst/>
            <a:rect l="textAreaLeft" t="textAreaTop" r="textAreaRight" b="textAreaBottom"/>
            <a:pathLst>
              <a:path w="21600" h="36982">
                <a:moveTo>
                  <a:pt x="3600" y="0"/>
                </a:moveTo>
                <a:arcTo wR="3600" hR="3600" stAng="0" swAng="5400000"/>
                <a:lnTo>
                  <a:pt x="0" y="33382"/>
                </a:lnTo>
                <a:arcTo wR="3600" hR="3600" stAng="16200000" swAng="5400000"/>
                <a:lnTo>
                  <a:pt x="18000" y="36982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333399"/>
          </a:solidFill>
          <a:ln w="38160">
            <a:solidFill>
              <a:srgbClr val="d7c4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项羽之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6880" y="3470040"/>
            <a:ext cx="8506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 Narrow"/>
                <a:ea typeface="华文行楷"/>
              </a:rPr>
              <a:t>司马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956720" y="0"/>
            <a:ext cx="961920" cy="1257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28880" y="18900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行楷"/>
              </a:rPr>
              <a:t>郑州市扶轮外语学校 高二语文 曲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956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116000" y="1557360"/>
            <a:ext cx="2879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88943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4762800" cy="3257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探究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1341360"/>
            <a:ext cx="2592360" cy="2531880"/>
          </a:xfrm>
          <a:prstGeom prst="rect">
            <a:avLst/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穿越时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_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如果你就是项羽，在你人生的生死关头，你会怎么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4360" y="1125360"/>
            <a:ext cx="7704000" cy="3660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籍者，下相人也，字羽。初起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二十四。其季父项     梁，梁父即楚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燕，为秦将王翦所戮者也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项氏世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为楚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封于项，故姓项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秦始皇帝游会稽，渡浙江，梁与籍俱观。籍曰：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彼可取而代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”梁掩其口，曰：“毋妄言，族矣！”梁以此奇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籍长八尺余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力能扛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才气过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虽吴中子弟，皆已惮籍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《史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项羽本纪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1413000"/>
            <a:ext cx="663480" cy="433440"/>
          </a:xfrm>
          <a:custGeom>
            <a:avLst/>
            <a:gdLst>
              <a:gd name="textAreaLeft" fmla="*/ 273240 w 663480"/>
              <a:gd name="textAreaRight" fmla="*/ 390240 w 66348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4653000"/>
            <a:ext cx="663480" cy="433440"/>
          </a:xfrm>
          <a:custGeom>
            <a:avLst/>
            <a:gdLst>
              <a:gd name="textAreaLeft" fmla="*/ 273240 w 663480"/>
              <a:gd name="textAreaRight" fmla="*/ 390240 w 66348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3120" y="136440"/>
            <a:ext cx="48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延伸阅读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项羽档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3213000"/>
            <a:ext cx="663480" cy="433440"/>
          </a:xfrm>
          <a:custGeom>
            <a:avLst/>
            <a:gdLst>
              <a:gd name="textAreaLeft" fmla="*/ 273240 w 663480"/>
              <a:gd name="textAreaRight" fmla="*/ 390240 w 66348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32720" y="1341360"/>
            <a:ext cx="14396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06400" y="-27000"/>
            <a:ext cx="33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延伸阅读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司马迁论项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484280"/>
            <a:ext cx="597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夫秦失其政，陈涉首难，豪杰蜂起，相与并争 ，不可胜数。然羽非有尺寸，  乘势起陇亩之中，三年，遂将五诸侯灭秦，分裂天下而封王侯，政由羽出，号为“霸王”，位虽不终，近古以来未尝有也。及羽背关怀楚，放逐义帝而自立，怨王侯叛之，难矣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矜功伐，奋其私智而不师古，谓霸王之业，欲以力征经营天下，五年遂亡其国，自死东城，尚不觉寤而不自责，过矣。乃引“天亡我，非战之罪也”，岂不谬哉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——司马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08720" y="1557360"/>
            <a:ext cx="1538280" cy="3809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1484280"/>
            <a:ext cx="663480" cy="433440"/>
          </a:xfrm>
          <a:custGeom>
            <a:avLst/>
            <a:gdLst>
              <a:gd name="textAreaLeft" fmla="*/ 273240 w 663480"/>
              <a:gd name="textAreaRight" fmla="*/ 390240 w 66348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6000" y="1052640"/>
            <a:ext cx="1617480" cy="2158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669600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夫运筹帷帐之中，决胜千里之外，吾不如子房（即张良）。镇国家，抚百姓，给馈饷，不绝粮道，吾不如萧何。连百万之军，战必胜，攻必取，吾不如韩信。此三者，皆人杰也，吾能用之，此吾所以取天下也。</a:t>
            </a:r>
            <a:r>
              <a:rPr b="1" lang="zh-CN" sz="2400" spc="-1" strike="noStrike">
                <a:solidFill>
                  <a:srgbClr val="ff0000"/>
                </a:solidFill>
                <a:latin typeface="宋体-方正超大字符集"/>
                <a:ea typeface="宋体-方正超大字符集"/>
              </a:rPr>
              <a:t>项羽有一范增而不能用，此其所以为我擒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——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刘邦论项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59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延伸阅读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刘邦论项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1700280"/>
            <a:ext cx="663480" cy="433440"/>
          </a:xfrm>
          <a:custGeom>
            <a:avLst/>
            <a:gdLst>
              <a:gd name="textAreaLeft" fmla="*/ 273240 w 663480"/>
              <a:gd name="textAreaRight" fmla="*/ 390240 w 66348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71640" y="907920"/>
            <a:ext cx="1512720" cy="2017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164360" y="4437000"/>
            <a:ext cx="1440000" cy="2016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115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20840" y="0"/>
            <a:ext cx="19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延伸阅读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李清照、杜牧论项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1413000"/>
            <a:ext cx="37432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997360"/>
            <a:ext cx="385128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夏日绝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李清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生当做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人杰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死亦为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鬼雄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至今思项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不肯过江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981000"/>
            <a:ext cx="410544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题乌江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杜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胜败兵家事不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包羞忍耻是男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江东子弟多才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卷土重来未可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1285920" cy="16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332000" y="1557360"/>
            <a:ext cx="663408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羽原本是可以不死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是一个英雄辈出的时代。刘邦是英雄，项羽是英雄，韩信是英雄，张良、陈平、萧何、樊哙、这些人也都是英雄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项羽是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本色英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他所表现的是自己的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英雄本色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是没有遮掩顾忌、不计利害成败地把它表现出来，因此在“成者王败者寇”这样一种历史传统中，项羽依然能得到人们的凭吊和同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——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易中天论项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09600" y="17640"/>
            <a:ext cx="33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延伸阅读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易中天论项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8"/>
          <p:cNvSpPr/>
          <p:nvPr/>
        </p:nvSpPr>
        <p:spPr>
          <a:xfrm>
            <a:off x="3995640" y="3860640"/>
            <a:ext cx="4105440" cy="132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非常可用之人，却坐在了用人之人的位置上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立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延伸阅读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王立群论项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024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064360" cy="4599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258920" y="3500280"/>
            <a:ext cx="6481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谢谢指导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740720" y="0"/>
            <a:ext cx="961920" cy="1257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8360" y="255600"/>
            <a:ext cx="81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0"/>
            <a:ext cx="20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课文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39640" y="2276640"/>
            <a:ext cx="8001000" cy="30956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了解作者、巩固积累文言知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反复诵读，梳理文章情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探究阅读，赏析人物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91960" y="1332000"/>
            <a:ext cx="84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01300000836651127216318909954"/>
          <p:cNvPicPr/>
          <p:nvPr/>
        </p:nvPicPr>
        <p:blipFill>
          <a:blip r:embed="rId1"/>
          <a:stretch/>
        </p:blipFill>
        <p:spPr>
          <a:xfrm>
            <a:off x="7380360" y="907920"/>
            <a:ext cx="1224000" cy="1640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380360" y="4221000"/>
            <a:ext cx="1224000" cy="161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380360" y="2565360"/>
            <a:ext cx="1224000" cy="1655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1"/>
          <p:cNvSpPr/>
          <p:nvPr/>
        </p:nvSpPr>
        <p:spPr>
          <a:xfrm>
            <a:off x="611280" y="2852640"/>
            <a:ext cx="5761080" cy="106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刚直不阿，留得正气冲霄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幽愁发愤，著成信史照尘寰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11280" y="4508640"/>
            <a:ext cx="576108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志洁行廉，爱国忠君真气节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辞微旨远，经天纬地大诗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巩固预习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作家作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11280" y="1413000"/>
            <a:ext cx="4967280" cy="106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世上疮痍，诗中圣哲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人间疾苦，笔底波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53640" y="49320"/>
            <a:ext cx="28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巩固预习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文言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125360"/>
            <a:ext cx="5688000" cy="49683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田父</a:t>
            </a:r>
            <a:r>
              <a:rPr b="1" lang="zh-CN" sz="3200" spc="-1" strike="noStrike">
                <a:solidFill>
                  <a:srgbClr val="ff0000"/>
                </a:solidFill>
                <a:latin typeface="宋体-方正超大字符集"/>
                <a:ea typeface="宋体-方正超大字符集"/>
              </a:rPr>
              <a:t>绐</a:t>
            </a:r>
            <a:r>
              <a:rPr b="1" lang="zh-CN" sz="32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曰：“左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解释含义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项王军</a:t>
            </a:r>
            <a:r>
              <a:rPr b="1" lang="zh-CN" sz="3200" spc="-1" strike="noStrike">
                <a:solidFill>
                  <a:srgbClr val="ff0000"/>
                </a:solidFill>
                <a:latin typeface="宋体-方正超大字符集"/>
                <a:ea typeface="宋体-方正超大字符集"/>
              </a:rPr>
              <a:t>壁</a:t>
            </a:r>
            <a:r>
              <a:rPr b="1" lang="zh-CN" sz="32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垓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词类活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-方正超大字符集"/>
                <a:ea typeface="宋体-方正超大字符集"/>
              </a:rPr>
              <a:t>夜</a:t>
            </a:r>
            <a:r>
              <a:rPr b="1" lang="zh-CN" sz="32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闻汉军四面皆楚歌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词类活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骑皆伏曰：“如大王言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找出通假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此天之亡我，非战之罪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特殊句式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98760" y="213372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名作动，设营驻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4160" y="3068640"/>
            <a:ext cx="21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作状，在夜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76880" y="4076640"/>
            <a:ext cx="22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“伏”通“服”，心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32680" y="508464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判断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24360" y="1197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欺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724000" y="1267920"/>
            <a:ext cx="3240360" cy="453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2089080" cy="280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780000" y="2276640"/>
            <a:ext cx="2087280" cy="2881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9280" y="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梳理情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981000"/>
            <a:ext cx="867564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阅读课文，试用四字短语概括出文中叙写的几个主要场面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26120" y="537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垓下之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47200" y="530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东城快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68280" y="530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乌江自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372360" y="2349360"/>
            <a:ext cx="208908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赏析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2089080" cy="280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348000" y="2637000"/>
            <a:ext cx="2087640" cy="2881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1944720" cy="273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1280" y="1125360"/>
            <a:ext cx="82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仔细品读课文，赏析项羽这一人物形象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8840" y="551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垓下之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15560" y="551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东城快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34840" y="551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乌江自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808000" cy="4033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50920" y="5445000"/>
            <a:ext cx="25146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垓下之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1341360"/>
            <a:ext cx="793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0"/>
            <a:ext cx="22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赏析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19640" y="1700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四面楚歌之时，项羽惊而起，起而饮，饮而歌，歌而泣。有人说项羽失天下的最后时刻所心疼的只有女人和宝马，你同意这种看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71840" y="4311720"/>
            <a:ext cx="52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项羽慷慨悲歌表现了什么样的思想性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2808360" cy="4165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24000" y="5157720"/>
            <a:ext cx="273528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东城快战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158760" y="1116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赏析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2349360"/>
            <a:ext cx="484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项羽主演的东城快战中，你看到项羽是怎样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664000" cy="3240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39640" y="4941720"/>
            <a:ext cx="2303640" cy="95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乌江自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158760" y="1116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赏析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184464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项羽在乌江岸边拒渡、赠马、赐头，这三场面中对你最有触动的是哪个场面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07:48:33Z</dcterms:created>
  <dc:creator>MC SYSTEM</dc:creator>
  <dc:description/>
  <dc:language>en-US</dc:language>
  <cp:lastModifiedBy>微软用户</cp:lastModifiedBy>
  <dcterms:modified xsi:type="dcterms:W3CDTF">2012-06-17T14:09:37Z</dcterms:modified>
  <cp:revision>107</cp:revision>
  <dc:subject/>
  <dc:title>幻灯片 1</dc:title>
</cp:coreProperties>
</file>