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7A2-EDDB-487E-BE01-F417AD0E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FA0-B10B-4B92-B032-786B4B0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D79-6400-4DBC-98E3-823F6933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CF1-4B5A-4A0A-AB8A-C0FAA2E7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46C9-EB83-4A4F-90D2-A82A876D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44C-9A7C-4310-9732-B001DF7F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7DA-CF6B-4BF1-B988-25E30EA0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1D44-9E5C-47F3-80EA-1AD883B7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EC1E-3666-4EFE-BABC-FADC68E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F7D-E5C3-4A4A-915B-F2FE6F4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4529-9444-4BCC-8A35-D9AD441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AA1-B787-4E08-8058-4B8EA326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B86A-6073-4E17-B564-8844FD4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E0F2-0F12-440E-93A5-F4DE415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E0CC-A379-4060-9753-31C3C500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39E-6CB3-4CDE-B13B-5B15E854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3661-DA77-40F3-A137-74874CBE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422A-9D56-4356-9057-A673259B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754B-DE08-4C7A-9AFE-81B735FF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FEA28-0678-4DC5-91F1-D00F59B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31BF-15C0-4BB7-952C-EB13996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5295-F648-4A00-8C15-7762491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104-404F-4A7F-B6E7-AB7E11CA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F079-0D22-4100-95DD-F60B1140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885A-E171-4749-A389-8F981F1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3284-DDFE-4709-87E5-E54F13B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7C74-AD59-4C3A-BEFE-9931FF0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1E7A-E05D-4BDB-85F5-D73812C9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D9D6-141D-43C1-B1BE-A86B919C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1A93-617F-4371-848F-8899A496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F192-202F-4B31-9331-9E4B4C2E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7E17-CD81-44B7-9B0D-DCACD9C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C97BC-C5BE-42CA-AFB2-893894A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6F3-D5F7-452C-B048-A0864BEF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E013-3C4F-4CA5-A694-262979A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DCA6-2312-4E2B-AF95-8486A7A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2552-702A-493D-AA13-43204694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6904D-AC82-4ED4-9632-7443C4B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0C4F-FBC8-48AC-BB5E-DAAF1D8C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E8FE-845D-42A8-B8AB-7035AF3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A264-8B1D-4C3A-9BF7-DAFA9FCD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AEF1-B9CE-40BB-B3AE-0E32603A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523320"/>
            <a:ext cx="264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1B4A-0975-4BA5-8618-B15F8260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5F9-16B1-4B38-B9FB-69A4198A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CC8-9C04-416C-8312-0A022FDC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FB7-BB98-4238-AF6E-487C9C5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2332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3FE-64A1-4907-AEAD-5C60FBE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23320"/>
            <a:ext cx="82296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471-871E-4F2A-9251-D0799776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14040" y="5624280"/>
            <a:ext cx="1676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6242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624280"/>
            <a:ext cx="1752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9FE-47C3-42A2-93BA-B239D249B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360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55120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6E17-75ED-4A95-A880-15460ECFA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425960"/>
            <a:ext cx="8229240" cy="353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914040" y="5624280"/>
            <a:ext cx="1676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56242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5624280"/>
            <a:ext cx="1752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BDD6-D8A5-44DA-B19E-4E5CB0198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9360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555120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555120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2B08-E57D-41B7-9429-2D82C683E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8.jpeg"/><Relationship Id="rId4" Type="http://schemas.openxmlformats.org/officeDocument/2006/relationships/slide" Target="slide9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6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项羽之死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司 马 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2133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渡还是不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乌江自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533520"/>
            <a:ext cx="1513080" cy="1793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164360" y="3943440"/>
            <a:ext cx="1440000" cy="1792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0920" y="103320"/>
            <a:ext cx="183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0840" y="0"/>
            <a:ext cx="19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李清照、杜牧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255680"/>
            <a:ext cx="3743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514600"/>
            <a:ext cx="385128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夏日绝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生当做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人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死亦为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鬼雄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至今思项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肯过江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609480"/>
            <a:ext cx="410544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题乌江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杜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胜败兵家事不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包羞忍耻是男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江东子弟多才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卷土重来未可知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103320"/>
            <a:ext cx="183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20840" y="0"/>
            <a:ext cx="19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延伸阅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李清照、杜牧论项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255680"/>
            <a:ext cx="3743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1676520"/>
            <a:ext cx="410544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乌江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安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百战疲劳壮士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中原一败势难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江东子弟今虽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肯为君王卷土来？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189072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05740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不能渡？想不想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乌江自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观评价历史人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2193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  <a:ea typeface="隶书"/>
              </a:rPr>
              <a:t>如何评价项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2209680"/>
            <a:ext cx="1600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赢家之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史家之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之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家之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观评价历史人物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赢家之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16002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王见人恭敬慈爱，言语呕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ū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人有疾病，涕泣分食饮，至使人有功当封爵者，印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án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敝，忍不能予，此所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妇人之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然而所过无不残灭者，天下多怨，百姓不亲附，特劫于威强耳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名虽为霸，实失天下心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观评价历史人物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赢家之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523880"/>
            <a:ext cx="8381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夫运筹帷帐之中，决胜千里之外，吾不如子房（即张良）。镇国家，抚百姓，给馈饷，不绝粮道，吾不如萧何。连百万之军，战必胜，攻必取，吾不如韩信。此三者，皆人杰也，吾能用之，此吾所以取天下也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项羽有一范增而不能用，此其所以为我擒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刘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观评价历史人物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史家之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371600"/>
            <a:ext cx="556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羽非有尺寸，  乘势起陇亩之中，三年，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将五诸侯灭秦，分裂天下而封王侯，政由羽出，号为“霸王”，位虽不终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近古以来未尝有也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及羽背关怀楚，放逐义帝而自立，怨王侯叛之，难矣。自矜功伐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奋其私智而不师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谓霸王之业，欲以力征经营天下，五年遂亡其国，自死东城，尚不觉寤而不自责，过矣。乃引“天亡我，非战之罪也”，岂不谬哉！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司马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1752480"/>
            <a:ext cx="153828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观评价历史人物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大家之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4267080" y="2819520"/>
            <a:ext cx="4105440" cy="132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非常可用之人，却错据用人之人的位置上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立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480" y="1143000"/>
            <a:ext cx="302436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客观评价历史人物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一家之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144792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有一种英雄，挫折、苦难乃至死亡都不能剥夺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骄傲和从容。项羽在能够用他的武功、战绩，证明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一定可以逃脱的时候，潇洒的处理自己的生命，这是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格的不屈与悲壮，“只有战死，没有战败”，这就是项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这就是司马迁笔下的悲剧英雄。项羽这一刎，是他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的精华，人性的精华，是绝世壮烈的英雄主义的精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项羽用自己的死让波澜壮阔的一生在高潮中谢幕，完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的谢幕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632480"/>
            <a:ext cx="7010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一个人并不是生来要给打败的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你尽可以把他消灭掉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可就是打不败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              ——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海明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前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红楼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月下品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聊斋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中诵楚辞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雨中吟唐诗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汉书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伴茶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史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下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133720" y="236232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指导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853452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百三十篇中，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羽本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最，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羽本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又以巨鹿之战、鸿门宴、垓下之围为最 ，反复诵观，可欣可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板桥（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1760400"/>
            <a:ext cx="2881440" cy="3726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00400" y="1625760"/>
            <a:ext cx="2881440" cy="3929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8128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幼圆"/>
              </a:rPr>
              <a:t>垓下之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幼圆"/>
              </a:rPr>
              <a:t>东城快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812880"/>
            <a:ext cx="25909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幼圆"/>
              </a:rPr>
              <a:t>乌江自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3080" y="6840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检查预习，概括主要情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5880" y="1676520"/>
            <a:ext cx="281628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4920" y="3251160"/>
            <a:ext cx="8610480" cy="2641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垓下之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21337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雄末路   生离死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垓下之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853416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2096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速浏览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东城快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815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13372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为快战    如何快战     快战如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东城快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815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35000"/>
            <a:ext cx="85406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研读探讨人物形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2133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师生共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10666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          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幼圆"/>
              </a:rPr>
              <a:t>乌江自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8229600" cy="2776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1:16:27Z</dcterms:created>
  <dc:creator/>
  <dc:description/>
  <cp:keywords/>
  <dc:language>en-US</dc:language>
  <cp:lastModifiedBy>微软用户</cp:lastModifiedBy>
  <dcterms:modified xsi:type="dcterms:W3CDTF">2015-12-23T03:04:2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  <property fmtid="{D5CDD505-2E9C-101B-9397-08002B2CF9AE}" pid="3" name="Version">
    <vt:r8>1</vt:r8>
  </property>
</Properties>
</file>