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6.wmf" ContentType="image/x-wmf"/>
  <Override PartName="/ppt/media/image8.png" ContentType="image/png"/>
  <Override PartName="/ppt/media/image19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AC3-51F3-431C-87DA-B65DE54B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C52-0574-4946-BDBA-0247066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ADB-3F6B-4B5B-AF58-379145AC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811-C68C-4A5B-A0FF-9A198339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126-B441-4BF5-AAFF-E1CC34C9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1AA-37B4-40DB-B1C8-2B5B9E42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F07-281C-47E2-99CA-747D2788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2CB-3BE3-4CAA-B68B-7D17D46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5A5-1CA8-47D3-B242-B5296628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D91-1FE1-4130-A387-124E29C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F22-7702-453D-92C0-4B16B876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39A-91C8-424D-B159-8427591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A357-4E9B-4C37-9ACA-CE3E328A90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838080"/>
            <a:ext cx="75614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史家之绝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无韵之离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　　—— 鲁迅《汉文学史纲要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5639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秦始皇帝游会稽，渡浙江，梁与籍俱观。籍曰：“</a:t>
            </a: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彼可取而代也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梁掩其口，曰：“毋妄言，族矣！”梁以此奇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籍长八尺余，力能扛鼎，才气过人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虽吴中子弟，皆已惮籍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史记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项羽本纪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3047760" y="1519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项羽扛鼎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475320" y="0"/>
            <a:ext cx="2668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汉有</a:t>
            </a: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善骑射者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楼烦，楚挑战三合，楼烦辄杀之。项王大怒，乃自被甲持戟挑战。楼烦欲射之，项王嗔目叱之，楼烦</a:t>
            </a: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目不敢视，手不敢发，遂走还入壁，不敢复出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史记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项羽本纪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2322360" cy="42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68360" y="2349360"/>
            <a:ext cx="6249960" cy="22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文鼎中特广告体"/>
              </a:rPr>
              <a:t>将军下马力拔山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文鼎中特广告体"/>
              <a:ea typeface="文鼎中特广告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68360" y="4587840"/>
            <a:ext cx="6250320" cy="22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文鼎中特广告体"/>
              </a:rPr>
              <a:t>气卷黄河酒中泻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文鼎中特广告体"/>
              <a:ea typeface="文鼎中特广告体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197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1523880"/>
            <a:ext cx="6629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　　乌江之刎标志着一个新时代的开始，历史把版面留给了刘邦，楚河汉界的真正含义从此变了性质寄居在中国象棋棋盘上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95680" y="5791320"/>
            <a:ext cx="441972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28600" y="5791320"/>
            <a:ext cx="441972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10663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400" spc="-1" strike="noStrike">
                <a:solidFill>
                  <a:srgbClr val="ffff66"/>
                </a:solidFill>
                <a:latin typeface="Arial"/>
                <a:ea typeface="隶书"/>
              </a:rPr>
              <a:t>项羽之死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3124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ffffff"/>
                </a:solidFill>
                <a:latin typeface="Arial"/>
                <a:ea typeface="楷体_GB2312"/>
              </a:rPr>
              <a:t>司 马 迁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6765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2120"/>
            <a:ext cx="228600" cy="2361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762120"/>
            <a:ext cx="2514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卒买鱼烹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肃闻刘表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然今卒困与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万兵难卒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4197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3581280"/>
            <a:ext cx="228600" cy="2362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3505320"/>
            <a:ext cx="4419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是项王乃悲歌慷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东城，乃有二十八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祭毋忘告乃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事不济，此乃天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76212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士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终于、到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通“猝”，仓猝、突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505320"/>
            <a:ext cx="2743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才、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781680" y="762120"/>
            <a:ext cx="182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一词多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4419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项王军壁垓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夜溃围南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令诸君知天亡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纵江东父兄怜而王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334200">
            <a:off x="228600" y="26640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词类活用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138320"/>
            <a:ext cx="4876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舒体"/>
                <a:ea typeface="方正舒体"/>
              </a:rPr>
              <a:t>名词活用作动词，设营驻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舒体"/>
                <a:ea typeface="方正舒体"/>
              </a:rPr>
              <a:t>形容词的使动用法，使……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舒体"/>
                <a:ea typeface="方正舒体"/>
              </a:rPr>
              <a:t>使动用法，使……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舒体"/>
                <a:ea typeface="方正舒体"/>
              </a:rPr>
              <a:t>读</a:t>
            </a: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wàng</a:t>
            </a:r>
            <a:r>
              <a:rPr b="1" lang="zh-CN" sz="2800" spc="-1" strike="noStrike">
                <a:solidFill>
                  <a:srgbClr val="000066"/>
                </a:solidFill>
                <a:latin typeface="方正舒体"/>
                <a:ea typeface="方正舒体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方正舒体"/>
                <a:ea typeface="方正舒体"/>
              </a:rPr>
              <a:t>名词的使动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3581280"/>
            <a:ext cx="18288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文言句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572000"/>
            <a:ext cx="5257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项王则夜起，饮帐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我渡何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麾下壮士骑者八百余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44672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省略句，状语后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疑问代词宾语“何”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方正舒体"/>
              </a:rPr>
              <a:t>定语后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5580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隶书"/>
                <a:ea typeface="隶书"/>
              </a:rPr>
              <a:t>垓下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2092320"/>
            <a:ext cx="59990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力拔山兮气盖世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时不利兮骓不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骓不逝兮可奈何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虞兮虞兮奈若何！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3600" y="533520"/>
            <a:ext cx="2743200" cy="222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248520" y="3352680"/>
            <a:ext cx="25905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5337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项羽的宠姬，名虞。有美色，善剑舞。公元前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9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项羽于吴中起义。虞姬爱慕项羽的勇猛，嫁与项羽为妾，常随项羽出征，形影不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词牌《虞美人》据说得名于虞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27860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762120"/>
            <a:ext cx="7390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虞姬弹剑哀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汉兵已略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四方楚歌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大王意气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贱妾何聊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遂伏剑自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留下了“霸王别姬”的千古绝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16360" cy="24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《史记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8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　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纪传体通史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也是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我国第一部规模宏大的传记文学名著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记载了从传说中的黄帝到汉武帝后期长达三百年左右的历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　司马迁，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子长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自称“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太史公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。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西汉</a:t>
            </a: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伟大史学家、文学家和思想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52783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当项羽大军被围垓下，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军情何等急迫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者却以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舒缓的笔调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去写项羽夜起帐饮，慷慨悲歌，倾诉对虞姬与骏马的难舍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24480" y="685800"/>
            <a:ext cx="241956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多情自古伤离别，何况别的又是最爱、江山、美人、霸业、英名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崛起于垅亩、拔山扛鼎、破釜沉舟、征战八载未尝一败的西楚霸王此时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心情应是极其复杂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文中的一个“泣”字极其传神地表现了这种难言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泣数行下”，这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司马迁笔下霸王唯一一次落泪、最后一次落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此情此景感人至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项羽是个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多情重义的本色英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值被围垓下四面楚歌之际潸然泣下，唱《垓下歌》，呜咽悲慨，凄凉动人。既展示了霸王多情的一面，同时也将霸王有心保护爱人却又无可奈何的痛苦表现得淋漓尽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渲染了英雄失路托身无所的悲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333360"/>
            <a:ext cx="6049800" cy="70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教学任务：合作探讨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76212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从</a:t>
            </a:r>
            <a:r>
              <a:rPr b="1" lang="zh-CN" sz="3800" spc="-1" strike="noStrike">
                <a:solidFill>
                  <a:srgbClr val="0000ff"/>
                </a:solidFill>
                <a:latin typeface="隶书"/>
                <a:ea typeface="隶书"/>
              </a:rPr>
              <a:t>故事情节</a:t>
            </a: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解析项羽这一</a:t>
            </a:r>
            <a:r>
              <a:rPr b="1" lang="zh-CN" sz="3800" spc="-1" strike="noStrike">
                <a:solidFill>
                  <a:srgbClr val="333399"/>
                </a:solidFill>
                <a:latin typeface="隶书"/>
                <a:ea typeface="隶书"/>
              </a:rPr>
              <a:t>人物形象</a:t>
            </a:r>
            <a:r>
              <a:rPr b="1" lang="zh-CN" sz="3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3040" y="1981080"/>
            <a:ext cx="8137440" cy="438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53452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方正舒体"/>
              </a:rPr>
              <a:t>用四字短语概括出文中叙写的几个主要场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52280"/>
            <a:ext cx="259236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情节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88144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00400" y="2666880"/>
            <a:ext cx="2881440" cy="358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66400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18288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垓下之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1828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东城快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1905120"/>
            <a:ext cx="2087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乌江自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81280" y="249120"/>
            <a:ext cx="5384880" cy="6380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0880" y="304920"/>
            <a:ext cx="2514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垓下之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-376920" y="1676520"/>
            <a:ext cx="1399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四面楚歌 霸王别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4320" y="2057400"/>
            <a:ext cx="66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幼圆"/>
              </a:rPr>
              <a:t>惊—起—饮—歌—泣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2209680"/>
            <a:ext cx="2057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优柔寡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多愁善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儿女情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《史记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64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　全书五十二万六千五百字，内分体例：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本纪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篇，记述历代最高统治者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帝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政迹；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世家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篇，主要记载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贵族王侯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史事；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列传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70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篇，官吏、名人以及部分下层社会人物的传记，少数列传还记载了一些国内少数民族和外国的历史。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表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篇，把错综复杂的史实用简明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表格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谱列出来；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书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篇，分别叙述天文、历法、水利、经济、文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化、艺术等方面的发展和现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457200"/>
            <a:ext cx="2438640" cy="925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东城快战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1600" y="1600200"/>
            <a:ext cx="3379680" cy="5029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962520" y="5029200"/>
            <a:ext cx="4724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此天之亡我，非战之罪也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62520" y="365760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胜利？？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733920" y="60948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三次突围行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13096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一次：</a:t>
            </a:r>
            <a:r>
              <a:rPr b="0" lang="zh-CN" sz="2800" spc="-1" strike="noStrike">
                <a:solidFill>
                  <a:srgbClr val="008000"/>
                </a:solidFill>
                <a:latin typeface="华文行楷"/>
                <a:ea typeface="华文行楷"/>
              </a:rPr>
              <a:t>驰走，渡，迷，问，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752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第二次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引，至，自度，谓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2096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三次：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华文行楷"/>
              </a:rPr>
              <a:t>大呼、驰下、斩将，嗔目叱之，</a:t>
            </a:r>
            <a:r>
              <a:rPr b="0" lang="zh-CN" sz="2800" spc="-1" strike="noStrike">
                <a:solidFill>
                  <a:srgbClr val="000066"/>
                </a:solidFill>
                <a:latin typeface="华文行楷"/>
                <a:ea typeface="华文行楷"/>
              </a:rPr>
              <a:t>弛，斩汉一都尉，杀数十百人；亡两骑，谓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7920" y="1600200"/>
            <a:ext cx="3379680" cy="5029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457200"/>
            <a:ext cx="2438280" cy="925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东城快战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9880" y="68580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三次突围行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057400"/>
            <a:ext cx="4114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华文行楷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华文行楷"/>
                <a:ea typeface="华文行楷"/>
              </a:rPr>
              <a:t>勇 猛 善 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华文行楷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华文行楷"/>
                <a:ea typeface="华文行楷"/>
              </a:rPr>
              <a:t>气 概 豪 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华文行楷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华文行楷"/>
                <a:ea typeface="华文行楷"/>
              </a:rPr>
              <a:t>缺 乏 谋 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华文行楷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华文行楷"/>
                <a:ea typeface="华文行楷"/>
              </a:rPr>
              <a:t>极 度 自 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76920" cy="639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257800" y="914400"/>
            <a:ext cx="1676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1908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拒渡</a:t>
            </a:r>
            <a:endParaRPr b="1" lang="en-US" sz="1800" spc="1" strike="noStrike">
              <a:ln cap="rnd" w="1908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4120" y="2743200"/>
            <a:ext cx="1676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赠马</a:t>
            </a:r>
            <a:endParaRPr b="1" lang="en-US" sz="1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4120" y="48769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12600">
                  <a:solidFill>
                    <a:srgbClr val="003300"/>
                  </a:solidFill>
                  <a:custDash>
                    <a:ds d="100000" sp="1000"/>
                  </a:custDash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赐头</a:t>
            </a:r>
            <a:endParaRPr b="1" lang="en-US" sz="1800" spc="1" strike="noStrike">
              <a:ln cap="rnd" w="12600">
                <a:solidFill>
                  <a:srgbClr val="003300"/>
                </a:solidFill>
                <a:custDash>
                  <a:ds d="100000" sp="1000"/>
                </a:custDash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476280"/>
            <a:ext cx="17528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知耻重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心地仁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视死如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快战”与“决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快战和决战是不一样的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决战有胜负之分、一决雌雄的意思，也就是还有求胜的想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快战则只求痛快于一时，不过逞匹夫之勇而已，完全不计后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东城突围，项羽兵剩无几，面对失败，他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认输但不服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认为此是天意而非自己的过失。因此，他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快战目的不是为了胜利，而是证明自己。与其是说战斗，不如说是表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“天亡我，非战之罪”描写出他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刚愎自用，缺少自我反省精神的弱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406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作者浓墨重彩地正面描写了项羽的英勇善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大呼驰下，汉军皆披靡。—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临战先声夺人，有排山倒海的气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瞋目叱之，赤泉侯人马俱惊，辟易数里。 —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神威凛凛，气势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斩汉一将。复斩汉一都尉，杀数十百人。—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满身神力和超群武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项羽是骁勇善战，所向无敌，豪气干云之人。以数十击数千，斩将刈旗，当者披靡。身处绝地，仍杀人无数，放言此天亡我，非战之罪。其豪迈之气，善战之能激荡天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354640" y="5867280"/>
            <a:ext cx="37893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汉鼎繁淡古"/>
              </a:rPr>
              <a:t>魂断乌江</a:t>
            </a:r>
            <a:endParaRPr b="1" lang="en-US" sz="5400" spc="1" strike="noStrike">
              <a:ln w="2556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汉鼎繁淡古"/>
              <a:ea typeface="汉鼎繁淡古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3200400"/>
            <a:ext cx="406728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命乎？运乎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94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项羽的宿命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12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吾起兵至今八岁矣，身七十余战， 所当者破，所击者服，未尝败北，遂霸有天下。然今卒困于此，</a:t>
            </a:r>
            <a:r>
              <a:rPr b="0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此天之亡我，非战之罪也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今日固决死，愿为诸君快战，必三胜之，为诸君溃围，斩将，刈旗，令诸君知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天亡我，非战之罪也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项羽本纪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76220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528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项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笑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：“天之亡我，我何渡为！且籍与江东子弟八千人渡江而西，今无一人还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纵江东父兄怜而王我，我何面目见之？纵彼不言，籍独不愧于心乎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1680" y="762120"/>
            <a:ext cx="85406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在“别姬”时“泣下数行”的血性男子，面对死亡，却毫无惧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寥寥数句道尽一个顶天立地大丈夫的心声。临危之际，不是念念不忘自己在反秦战争中的功绩，而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引咎自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面临一线生机，不是含羞忍耻地苟活于世，而选择了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慨然赴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在人民需要的时候奋不顾身驰骋于铁血纷飞的战场，扫荡秦军。又在意识到自己的行为对不起人民的时候，选择了立即结束自己短暂的一生，这才是一个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悲剧英雄的本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项羽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知耻而重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是个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英勇豪迈的失败英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乌江岸边，生死存亡之际无颜见江东父老而慨然赴死。不忍宝马同行毅然转赠忠贞之士。兵败人亡仍豪气干云，大叹天之亡我，非战之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76720" y="609480"/>
            <a:ext cx="586728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巨鹿之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勇冠三军，成为天下英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鸿门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坐失良机，埋下悲剧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垓下之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乌江自刎，英雄末路悲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5060880"/>
            <a:ext cx="2376360" cy="150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23040" y="0"/>
            <a:ext cx="10947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99"/>
                </a:solidFill>
                <a:latin typeface="Arial"/>
                <a:ea typeface="黑体"/>
              </a:rPr>
              <a:t>《项羽本纪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143000" y="380880"/>
            <a:ext cx="601992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项王三尺剑，千古共英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不用多说什么了。谁都不难看出，项羽死得壮烈，死得英雄，死得气势磅礴，惊天地，泣鬼神，就连乌江之水也要为之呜咽，为之洪波涌起，浊浪翻腾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显然，项羽的死是高贵的。无论他是为什么死的，他的死，都有无与伦比的人格魅力和审美价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　——易中天：项羽之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20120" y="5105520"/>
            <a:ext cx="13744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项羽是一个</a:t>
            </a:r>
            <a:r>
              <a:rPr b="0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英雄豪迈、骁勇善战、多情重义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值被围垓下四面楚歌之际，潸然泣下，悲歌慷慨痛别佳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以数十击数千，当者披靡，斩将刈旗。身处绝地，杀人无数，放言此天亡我，非战之罪。其豪迈之气，善战之能激荡天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乌江岸边，生死存亡之时无颜见江东父老而慨然赴死，不忍宝马同行毅然赠于忠诚之士，实重情重义之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14040" y="11430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1199"/>
              </a:spcBef>
              <a:buClr>
                <a:srgbClr val="000000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　　司马迁将自己爱、怜、怨、恨，以至满腔的血全部的泪融注笔端，谱写出这一曲英雄悲歌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027680" cy="3889440"/>
          </a:xfrm>
          <a:prstGeom prst="rect">
            <a:avLst/>
          </a:prstGeom>
          <a:solidFill>
            <a:srgbClr val="99ccff">
              <a:alpha val="70000"/>
            </a:srgbClr>
          </a:solidFill>
          <a:ln w="5724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乌江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唐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杜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胜败兵家事不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包羞忍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是男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江东子弟多才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卷土重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未可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295280"/>
            <a:ext cx="4114800" cy="3886200"/>
          </a:xfrm>
          <a:prstGeom prst="rect">
            <a:avLst/>
          </a:prstGeom>
          <a:solidFill>
            <a:srgbClr val="99ccff">
              <a:alpha val="70000"/>
            </a:srgbClr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夏日绝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宋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]  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清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生当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人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死亦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鬼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至今思项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不肯过江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486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5562720"/>
            <a:ext cx="547380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57913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… …</a:t>
            </a:r>
            <a:r>
              <a:rPr b="1" lang="zh-CN" sz="32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他会成功吗…</a:t>
            </a:r>
            <a:r>
              <a:rPr b="0" lang="zh-CN" sz="32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211640" y="5157720"/>
            <a:ext cx="30492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63120" y="274320"/>
            <a:ext cx="4937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再给项羽一次机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彩云"/>
                <a:ea typeface="华文彩云"/>
              </a:rPr>
              <a:t>性格决定命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一种健全的性格，比一百种智慧都更有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　　——英　狄更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有什么样的性格，就会有什么样的人生。性格决定命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那么，项羽自小就有养成了怎样的性格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项羽少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项籍少时，学书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不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去；学剑，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又不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项梁怒之。籍曰：“书足以记名姓而已。剑一人敌，不足学，学万人敌。”于是项梁乃教籍兵法，籍大喜，略知其意，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又不肯竟学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“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人小时候的经历会影响他的一生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　　——心理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少时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虽志向大，但性格浮躁，做事不彻底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在个人修养上的缺失对其日后性格的形成及一生的事业成败起了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制约作用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也暗示出他的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悲剧命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刘邦对项羽的评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夫运筹帷帐之中，决胜千里之外，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吾不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子房（即张良）。镇国家，抚百姓，给馈饷，不绝粮道，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吾不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萧何。连百万之军，战必胜，攻必取，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吾不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韩信。此三者，皆人杰也，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吾能用之，此吾所以取天下也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0" lang="zh-CN" sz="3200" spc="-1" strike="noStrike">
                <a:solidFill>
                  <a:srgbClr val="009999"/>
                </a:solidFill>
                <a:latin typeface="华文中宋"/>
                <a:ea typeface="华文中宋"/>
              </a:rPr>
              <a:t>项羽有一范增而不能用，此其所以为我擒也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韩信对项羽的评价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项王见人恭敬慈爱，言语呕呕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xū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人有疾病，涕泣分食饮，至使人有功当封爵者，印刓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wán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敝，忍不能予，此所谓</a:t>
            </a:r>
            <a:r>
              <a:rPr b="0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妇人之仁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。”然而“所过无不残灭者，天下多怨，百姓不亲附，特劫于威强耳。</a:t>
            </a:r>
            <a:r>
              <a:rPr b="0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名虽为霸，实失天下心。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注：①呕呕：和悦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②印刓敝：把印信捏在手中，棱角都被摸圆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性格决定命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结项羽的性格：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霸王别姬   </a:t>
            </a:r>
            <a:r>
              <a:rPr b="0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过于儿女情长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东城快战   </a:t>
            </a:r>
            <a:r>
              <a:rPr b="0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逞匹夫之勇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原因：少时个人修养的缺失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田父指路   </a:t>
            </a:r>
            <a:r>
              <a:rPr b="0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残忍暴戾，不得人心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乌江自刎   </a:t>
            </a:r>
            <a:r>
              <a:rPr b="0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沽名钓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刘邦对项羽的评价   </a:t>
            </a:r>
            <a:r>
              <a:rPr b="0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不善用人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韩信对项羽的评价　</a:t>
            </a:r>
            <a:r>
              <a:rPr b="0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妇人之仁、不得人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5720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有志者，事竟成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495288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破釜沉舟，百二秦关终属楚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62120" y="1143000"/>
            <a:ext cx="5790960" cy="765000"/>
          </a:xfrm>
          <a:prstGeom prst="rect">
            <a:avLst/>
          </a:prstGeom>
          <a:solidFill>
            <a:srgbClr val="6fdb6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隶书"/>
              </a:rPr>
              <a:t>项羽的悲剧警醒我们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3716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华文行楷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水能载舟，也能覆舟，失人心者不能得天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要善纳良言，遇事要斩钉截铁，当断则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要深思熟虑，不可只凭匹夫之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4.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要善于任用人才，不可过分自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5.</a:t>
            </a: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生命珍贵，不可轻易放弃奋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48120" y="2362320"/>
            <a:ext cx="571500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项庄舞剑，意在沛公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0" y="426708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垓下之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0" y="228600"/>
            <a:ext cx="4038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四面楚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27280" y="227628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项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3428640"/>
            <a:ext cx="7993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项籍者，下相人也，字羽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初起时，年二十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其季父项梁，梁父即楚将项燕，为秦将王翦所戮者也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项氏世世为楚将，封于项，故姓项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《史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项羽本纪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08720" y="404640"/>
            <a:ext cx="2646360" cy="305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84360" y="692280"/>
            <a:ext cx="230184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世出名门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962520"/>
            <a:ext cx="886464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项籍少时，学书不成，去；学剑，又不成，项梁怒之。籍曰：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书足以记名姓而已。剑，一人敌，不足学，学万人敌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《史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项羽本纪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5640" y="333360"/>
            <a:ext cx="2333520" cy="30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男儿志四方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岂久困泥沙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4572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2-12-26T01:05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