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76"/>
          <p:cNvGrpSpPr/>
          <p:nvPr/>
        </p:nvGrpSpPr>
        <p:grpSpPr>
          <a:xfrm>
            <a:off x="10750680" y="5697360"/>
            <a:ext cx="1110960" cy="1175040"/>
            <a:chOff x="10750680" y="5697360"/>
            <a:chExt cx="1110960" cy="1175040"/>
          </a:xfrm>
        </p:grpSpPr>
        <p:sp>
          <p:nvSpPr>
            <p:cNvPr id="37" name="Freeform 37"/>
            <p:cNvSpPr/>
            <p:nvPr/>
          </p:nvSpPr>
          <p:spPr>
            <a:xfrm>
              <a:off x="10854360" y="5697360"/>
              <a:ext cx="916200" cy="731880"/>
            </a:xfrm>
            <a:custGeom>
              <a:avLst/>
              <a:gdLst/>
              <a:ahLst/>
              <a:rect l="l" t="t" r="r" b="b"/>
              <a:pathLst>
                <a:path w="6055" h="6044">
                  <a:moveTo>
                    <a:pt x="3028" y="0"/>
                  </a:moveTo>
                  <a:lnTo>
                    <a:pt x="3028" y="0"/>
                  </a:lnTo>
                  <a:cubicBezTo>
                    <a:pt x="1357" y="0"/>
                    <a:pt x="0" y="1350"/>
                    <a:pt x="0" y="3021"/>
                  </a:cubicBezTo>
                  <a:cubicBezTo>
                    <a:pt x="0" y="3409"/>
                    <a:pt x="79" y="3787"/>
                    <a:pt x="212" y="4128"/>
                  </a:cubicBezTo>
                  <a:cubicBezTo>
                    <a:pt x="239" y="4155"/>
                    <a:pt x="264" y="4190"/>
                    <a:pt x="285" y="4221"/>
                  </a:cubicBezTo>
                  <a:cubicBezTo>
                    <a:pt x="368" y="4253"/>
                    <a:pt x="425" y="4330"/>
                    <a:pt x="425" y="4418"/>
                  </a:cubicBezTo>
                  <a:cubicBezTo>
                    <a:pt x="425" y="4423"/>
                    <a:pt x="425" y="4423"/>
                    <a:pt x="425" y="4428"/>
                  </a:cubicBezTo>
                  <a:cubicBezTo>
                    <a:pt x="528" y="4438"/>
                    <a:pt x="606" y="4527"/>
                    <a:pt x="606" y="4630"/>
                  </a:cubicBezTo>
                  <a:cubicBezTo>
                    <a:pt x="606" y="4682"/>
                    <a:pt x="585" y="4729"/>
                    <a:pt x="560" y="4765"/>
                  </a:cubicBezTo>
                  <a:cubicBezTo>
                    <a:pt x="875" y="5220"/>
                    <a:pt x="1320" y="5577"/>
                    <a:pt x="1838" y="5799"/>
                  </a:cubicBezTo>
                  <a:cubicBezTo>
                    <a:pt x="2096" y="5541"/>
                    <a:pt x="2096" y="5541"/>
                    <a:pt x="2096" y="5541"/>
                  </a:cubicBezTo>
                  <a:cubicBezTo>
                    <a:pt x="2960" y="6043"/>
                    <a:pt x="2960" y="6043"/>
                    <a:pt x="2960" y="6043"/>
                  </a:cubicBezTo>
                  <a:cubicBezTo>
                    <a:pt x="2976" y="6043"/>
                    <a:pt x="2997" y="6043"/>
                    <a:pt x="3012" y="6043"/>
                  </a:cubicBezTo>
                  <a:cubicBezTo>
                    <a:pt x="3876" y="5541"/>
                    <a:pt x="3876" y="5541"/>
                    <a:pt x="3876" y="5541"/>
                  </a:cubicBezTo>
                  <a:cubicBezTo>
                    <a:pt x="4160" y="5826"/>
                    <a:pt x="4160" y="5826"/>
                    <a:pt x="4160" y="5826"/>
                  </a:cubicBezTo>
                  <a:cubicBezTo>
                    <a:pt x="5268" y="5381"/>
                    <a:pt x="6054" y="4288"/>
                    <a:pt x="6054" y="3021"/>
                  </a:cubicBezTo>
                  <a:lnTo>
                    <a:pt x="6054" y="3021"/>
                  </a:lnTo>
                  <a:cubicBezTo>
                    <a:pt x="6054" y="1350"/>
                    <a:pt x="4699" y="0"/>
                    <a:pt x="3028" y="0"/>
                  </a:cubicBezTo>
                </a:path>
              </a:pathLst>
            </a:cu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38"/>
            <p:cNvSpPr/>
            <p:nvPr/>
          </p:nvSpPr>
          <p:spPr>
            <a:xfrm>
              <a:off x="10886760" y="6196680"/>
              <a:ext cx="59760" cy="77400"/>
            </a:xfrm>
            <a:custGeom>
              <a:avLst/>
              <a:gdLst/>
              <a:ahLst/>
              <a:rect l="l" t="t" r="r" b="b"/>
              <a:pathLst>
                <a:path w="395" h="638">
                  <a:moveTo>
                    <a:pt x="0" y="0"/>
                  </a:moveTo>
                  <a:lnTo>
                    <a:pt x="0" y="0"/>
                  </a:lnTo>
                  <a:cubicBezTo>
                    <a:pt x="89" y="228"/>
                    <a:pt x="208" y="441"/>
                    <a:pt x="348" y="637"/>
                  </a:cubicBezTo>
                  <a:cubicBezTo>
                    <a:pt x="373" y="601"/>
                    <a:pt x="394" y="554"/>
                    <a:pt x="394" y="502"/>
                  </a:cubicBezTo>
                  <a:cubicBezTo>
                    <a:pt x="394" y="399"/>
                    <a:pt x="316" y="310"/>
                    <a:pt x="213" y="300"/>
                  </a:cubicBezTo>
                  <a:cubicBezTo>
                    <a:pt x="213" y="295"/>
                    <a:pt x="213" y="295"/>
                    <a:pt x="213" y="290"/>
                  </a:cubicBezTo>
                  <a:cubicBezTo>
                    <a:pt x="213" y="202"/>
                    <a:pt x="156" y="125"/>
                    <a:pt x="73" y="93"/>
                  </a:cubicBezTo>
                  <a:cubicBezTo>
                    <a:pt x="52" y="62"/>
                    <a:pt x="27" y="27"/>
                    <a:pt x="0" y="0"/>
                  </a:cubicBezTo>
                </a:path>
              </a:pathLst>
            </a:custGeom>
            <a:solidFill>
              <a:srgbClr val="f5f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Freeform 39"/>
            <p:cNvSpPr/>
            <p:nvPr/>
          </p:nvSpPr>
          <p:spPr>
            <a:xfrm>
              <a:off x="10763640" y="6368040"/>
              <a:ext cx="1085040" cy="501480"/>
            </a:xfrm>
            <a:custGeom>
              <a:avLst/>
              <a:gdLst/>
              <a:ahLst/>
              <a:rect l="l" t="t" r="r" b="b"/>
              <a:pathLst>
                <a:path w="7173" h="4145">
                  <a:moveTo>
                    <a:pt x="7135" y="3482"/>
                  </a:moveTo>
                  <a:lnTo>
                    <a:pt x="7135" y="3482"/>
                  </a:lnTo>
                  <a:cubicBezTo>
                    <a:pt x="7172" y="3844"/>
                    <a:pt x="6815" y="4144"/>
                    <a:pt x="6338" y="4144"/>
                  </a:cubicBezTo>
                  <a:cubicBezTo>
                    <a:pt x="833" y="4144"/>
                    <a:pt x="833" y="4144"/>
                    <a:pt x="833" y="4144"/>
                  </a:cubicBezTo>
                  <a:cubicBezTo>
                    <a:pt x="358" y="4144"/>
                    <a:pt x="0" y="3844"/>
                    <a:pt x="36" y="3482"/>
                  </a:cubicBezTo>
                  <a:cubicBezTo>
                    <a:pt x="275" y="1334"/>
                    <a:pt x="275" y="1334"/>
                    <a:pt x="275" y="1334"/>
                  </a:cubicBezTo>
                  <a:cubicBezTo>
                    <a:pt x="306" y="1024"/>
                    <a:pt x="683" y="739"/>
                    <a:pt x="1097" y="647"/>
                  </a:cubicBezTo>
                  <a:cubicBezTo>
                    <a:pt x="1330" y="589"/>
                    <a:pt x="1992" y="419"/>
                    <a:pt x="2365" y="331"/>
                  </a:cubicBezTo>
                  <a:cubicBezTo>
                    <a:pt x="2696" y="0"/>
                    <a:pt x="2696" y="0"/>
                    <a:pt x="2696" y="0"/>
                  </a:cubicBezTo>
                  <a:cubicBezTo>
                    <a:pt x="3586" y="517"/>
                    <a:pt x="3586" y="517"/>
                    <a:pt x="3586" y="517"/>
                  </a:cubicBezTo>
                  <a:cubicBezTo>
                    <a:pt x="4476" y="0"/>
                    <a:pt x="4476" y="0"/>
                    <a:pt x="4476" y="0"/>
                  </a:cubicBezTo>
                  <a:cubicBezTo>
                    <a:pt x="4802" y="331"/>
                    <a:pt x="4802" y="331"/>
                    <a:pt x="4802" y="331"/>
                  </a:cubicBezTo>
                  <a:cubicBezTo>
                    <a:pt x="4802" y="331"/>
                    <a:pt x="5842" y="589"/>
                    <a:pt x="6075" y="647"/>
                  </a:cubicBezTo>
                  <a:cubicBezTo>
                    <a:pt x="6489" y="739"/>
                    <a:pt x="6867" y="1024"/>
                    <a:pt x="6898" y="1334"/>
                  </a:cubicBezTo>
                  <a:cubicBezTo>
                    <a:pt x="7135" y="3482"/>
                    <a:pt x="7135" y="3482"/>
                    <a:pt x="7135" y="3482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Freeform 40"/>
            <p:cNvSpPr/>
            <p:nvPr/>
          </p:nvSpPr>
          <p:spPr>
            <a:xfrm>
              <a:off x="11306160" y="6368040"/>
              <a:ext cx="542520" cy="501480"/>
            </a:xfrm>
            <a:custGeom>
              <a:avLst/>
              <a:gdLst/>
              <a:ahLst/>
              <a:rect l="l" t="t" r="r" b="b"/>
              <a:pathLst>
                <a:path w="3587" h="4145">
                  <a:moveTo>
                    <a:pt x="3549" y="3482"/>
                  </a:moveTo>
                  <a:lnTo>
                    <a:pt x="3549" y="3482"/>
                  </a:lnTo>
                  <a:cubicBezTo>
                    <a:pt x="3312" y="1334"/>
                    <a:pt x="3312" y="1334"/>
                    <a:pt x="3312" y="1334"/>
                  </a:cubicBezTo>
                  <a:cubicBezTo>
                    <a:pt x="3281" y="1024"/>
                    <a:pt x="2903" y="739"/>
                    <a:pt x="2489" y="647"/>
                  </a:cubicBezTo>
                  <a:cubicBezTo>
                    <a:pt x="2209" y="579"/>
                    <a:pt x="1216" y="331"/>
                    <a:pt x="1216" y="331"/>
                  </a:cubicBezTo>
                  <a:cubicBezTo>
                    <a:pt x="890" y="0"/>
                    <a:pt x="890" y="0"/>
                    <a:pt x="890" y="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5" y="4144"/>
                    <a:pt x="5" y="4144"/>
                    <a:pt x="5" y="4144"/>
                  </a:cubicBezTo>
                  <a:cubicBezTo>
                    <a:pt x="2752" y="4144"/>
                    <a:pt x="2752" y="4144"/>
                    <a:pt x="2752" y="4144"/>
                  </a:cubicBezTo>
                  <a:cubicBezTo>
                    <a:pt x="3229" y="4144"/>
                    <a:pt x="3586" y="3844"/>
                    <a:pt x="3549" y="3482"/>
                  </a:cubicBezTo>
                </a:path>
              </a:pathLst>
            </a:custGeom>
            <a:solidFill>
              <a:srgbClr val="e2e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Freeform 41"/>
            <p:cNvSpPr/>
            <p:nvPr/>
          </p:nvSpPr>
          <p:spPr>
            <a:xfrm>
              <a:off x="11121480" y="6407640"/>
              <a:ext cx="184320" cy="117720"/>
            </a:xfrm>
            <a:custGeom>
              <a:avLst/>
              <a:gdLst/>
              <a:ahLst/>
              <a:rect l="l" t="t" r="r" b="b"/>
              <a:pathLst>
                <a:path w="1222" h="969">
                  <a:moveTo>
                    <a:pt x="0" y="0"/>
                  </a:moveTo>
                  <a:lnTo>
                    <a:pt x="833" y="968"/>
                  </a:lnTo>
                  <a:lnTo>
                    <a:pt x="838" y="968"/>
                  </a:lnTo>
                  <a:lnTo>
                    <a:pt x="1221" y="585"/>
                  </a:lnTo>
                  <a:lnTo>
                    <a:pt x="1221" y="579"/>
                  </a:lnTo>
                  <a:lnTo>
                    <a:pt x="1221" y="585"/>
                  </a:lnTo>
                  <a:lnTo>
                    <a:pt x="1221" y="585"/>
                  </a:lnTo>
                  <a:lnTo>
                    <a:pt x="1221" y="186"/>
                  </a:lnTo>
                  <a:lnTo>
                    <a:pt x="1221" y="186"/>
                  </a:lnTo>
                  <a:lnTo>
                    <a:pt x="0" y="0"/>
                  </a:lnTo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Freeform 42"/>
            <p:cNvSpPr/>
            <p:nvPr/>
          </p:nvSpPr>
          <p:spPr>
            <a:xfrm>
              <a:off x="11121480" y="6407640"/>
              <a:ext cx="184320" cy="117720"/>
            </a:xfrm>
            <a:custGeom>
              <a:avLst/>
              <a:gdLst/>
              <a:ahLst/>
              <a:rect l="l" t="t" r="r" b="b"/>
              <a:pathLst>
                <a:path w="1222" h="969">
                  <a:moveTo>
                    <a:pt x="0" y="0"/>
                  </a:moveTo>
                  <a:lnTo>
                    <a:pt x="833" y="968"/>
                  </a:lnTo>
                  <a:lnTo>
                    <a:pt x="838" y="968"/>
                  </a:lnTo>
                  <a:lnTo>
                    <a:pt x="1221" y="585"/>
                  </a:lnTo>
                  <a:lnTo>
                    <a:pt x="1221" y="579"/>
                  </a:lnTo>
                  <a:lnTo>
                    <a:pt x="1221" y="585"/>
                  </a:lnTo>
                  <a:lnTo>
                    <a:pt x="1221" y="585"/>
                  </a:lnTo>
                  <a:lnTo>
                    <a:pt x="1221" y="186"/>
                  </a:lnTo>
                  <a:lnTo>
                    <a:pt x="1221" y="186"/>
                  </a:lnTo>
                  <a:lnTo>
                    <a:pt x="0" y="0"/>
                  </a:lnTo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43"/>
            <p:cNvSpPr/>
            <p:nvPr/>
          </p:nvSpPr>
          <p:spPr>
            <a:xfrm>
              <a:off x="11490840" y="640764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44"/>
            <p:cNvSpPr/>
            <p:nvPr/>
          </p:nvSpPr>
          <p:spPr>
            <a:xfrm>
              <a:off x="11490840" y="6407640"/>
              <a:ext cx="72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d1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45"/>
            <p:cNvSpPr/>
            <p:nvPr/>
          </p:nvSpPr>
          <p:spPr>
            <a:xfrm>
              <a:off x="11306160" y="6407640"/>
              <a:ext cx="184320" cy="117720"/>
            </a:xfrm>
            <a:custGeom>
              <a:avLst/>
              <a:gdLst/>
              <a:ahLst/>
              <a:rect l="l" t="t" r="r" b="b"/>
              <a:pathLst>
                <a:path w="1223" h="969">
                  <a:moveTo>
                    <a:pt x="1222" y="0"/>
                  </a:moveTo>
                  <a:lnTo>
                    <a:pt x="1222" y="0"/>
                  </a:lnTo>
                  <a:cubicBezTo>
                    <a:pt x="0" y="186"/>
                    <a:pt x="0" y="186"/>
                    <a:pt x="0" y="186"/>
                  </a:cubicBezTo>
                  <a:cubicBezTo>
                    <a:pt x="0" y="585"/>
                    <a:pt x="0" y="585"/>
                    <a:pt x="0" y="585"/>
                  </a:cubicBezTo>
                  <a:cubicBezTo>
                    <a:pt x="383" y="968"/>
                    <a:pt x="383" y="968"/>
                    <a:pt x="383" y="968"/>
                  </a:cubicBezTo>
                  <a:cubicBezTo>
                    <a:pt x="388" y="968"/>
                    <a:pt x="388" y="968"/>
                    <a:pt x="388" y="968"/>
                  </a:cubicBezTo>
                  <a:cubicBezTo>
                    <a:pt x="1222" y="0"/>
                    <a:pt x="1222" y="0"/>
                    <a:pt x="1222" y="0"/>
                  </a:cubicBezTo>
                </a:path>
              </a:pathLst>
            </a:custGeom>
            <a:solidFill>
              <a:srgbClr val="c0b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46"/>
            <p:cNvSpPr/>
            <p:nvPr/>
          </p:nvSpPr>
          <p:spPr>
            <a:xfrm>
              <a:off x="11121480" y="6368040"/>
              <a:ext cx="184320" cy="132480"/>
            </a:xfrm>
            <a:custGeom>
              <a:avLst/>
              <a:gdLst/>
              <a:ahLst/>
              <a:rect l="l" t="t" r="r" b="b"/>
              <a:pathLst>
                <a:path w="1222" h="1092">
                  <a:moveTo>
                    <a:pt x="864" y="1091"/>
                  </a:moveTo>
                  <a:lnTo>
                    <a:pt x="0" y="331"/>
                  </a:lnTo>
                  <a:lnTo>
                    <a:pt x="331" y="0"/>
                  </a:lnTo>
                  <a:lnTo>
                    <a:pt x="1221" y="517"/>
                  </a:lnTo>
                  <a:lnTo>
                    <a:pt x="864" y="10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47"/>
            <p:cNvSpPr/>
            <p:nvPr/>
          </p:nvSpPr>
          <p:spPr>
            <a:xfrm>
              <a:off x="11306160" y="6368040"/>
              <a:ext cx="183600" cy="132480"/>
            </a:xfrm>
            <a:custGeom>
              <a:avLst/>
              <a:gdLst/>
              <a:ahLst/>
              <a:rect l="l" t="t" r="r" b="b"/>
              <a:pathLst>
                <a:path w="1217" h="1092">
                  <a:moveTo>
                    <a:pt x="352" y="1091"/>
                  </a:moveTo>
                  <a:lnTo>
                    <a:pt x="1216" y="331"/>
                  </a:lnTo>
                  <a:lnTo>
                    <a:pt x="890" y="0"/>
                  </a:lnTo>
                  <a:lnTo>
                    <a:pt x="0" y="517"/>
                  </a:lnTo>
                  <a:lnTo>
                    <a:pt x="352" y="1091"/>
                  </a:ln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48"/>
            <p:cNvSpPr/>
            <p:nvPr/>
          </p:nvSpPr>
          <p:spPr>
            <a:xfrm>
              <a:off x="11255040" y="6463800"/>
              <a:ext cx="102240" cy="66600"/>
            </a:xfrm>
            <a:custGeom>
              <a:avLst/>
              <a:gdLst/>
              <a:ahLst/>
              <a:rect l="l" t="t" r="r" b="b"/>
              <a:pathLst>
                <a:path w="673" h="550">
                  <a:moveTo>
                    <a:pt x="166" y="549"/>
                  </a:moveTo>
                  <a:lnTo>
                    <a:pt x="0" y="275"/>
                  </a:lnTo>
                  <a:lnTo>
                    <a:pt x="166" y="0"/>
                  </a:lnTo>
                  <a:lnTo>
                    <a:pt x="501" y="0"/>
                  </a:lnTo>
                  <a:lnTo>
                    <a:pt x="672" y="275"/>
                  </a:lnTo>
                  <a:lnTo>
                    <a:pt x="501" y="549"/>
                  </a:lnTo>
                  <a:lnTo>
                    <a:pt x="166" y="549"/>
                  </a:lnTo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49"/>
            <p:cNvSpPr/>
            <p:nvPr/>
          </p:nvSpPr>
          <p:spPr>
            <a:xfrm>
              <a:off x="11306880" y="6463800"/>
              <a:ext cx="49320" cy="66600"/>
            </a:xfrm>
            <a:custGeom>
              <a:avLst/>
              <a:gdLst/>
              <a:ahLst/>
              <a:rect l="l" t="t" r="r" b="b"/>
              <a:pathLst>
                <a:path w="327" h="550">
                  <a:moveTo>
                    <a:pt x="160" y="0"/>
                  </a:moveTo>
                  <a:lnTo>
                    <a:pt x="0" y="0"/>
                  </a:lnTo>
                  <a:lnTo>
                    <a:pt x="0" y="549"/>
                  </a:lnTo>
                  <a:lnTo>
                    <a:pt x="160" y="549"/>
                  </a:lnTo>
                  <a:lnTo>
                    <a:pt x="326" y="275"/>
                  </a:lnTo>
                  <a:lnTo>
                    <a:pt x="160" y="0"/>
                  </a:lnTo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50"/>
            <p:cNvSpPr/>
            <p:nvPr/>
          </p:nvSpPr>
          <p:spPr>
            <a:xfrm>
              <a:off x="11257560" y="6530400"/>
              <a:ext cx="96120" cy="339840"/>
            </a:xfrm>
            <a:custGeom>
              <a:avLst/>
              <a:gdLst/>
              <a:ahLst/>
              <a:rect l="l" t="t" r="r" b="b"/>
              <a:pathLst>
                <a:path w="637" h="2811">
                  <a:moveTo>
                    <a:pt x="636" y="2810"/>
                  </a:moveTo>
                  <a:lnTo>
                    <a:pt x="485" y="0"/>
                  </a:lnTo>
                  <a:lnTo>
                    <a:pt x="150" y="0"/>
                  </a:lnTo>
                  <a:lnTo>
                    <a:pt x="0" y="2810"/>
                  </a:lnTo>
                  <a:lnTo>
                    <a:pt x="636" y="2810"/>
                  </a:lnTo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51"/>
            <p:cNvSpPr/>
            <p:nvPr/>
          </p:nvSpPr>
          <p:spPr>
            <a:xfrm>
              <a:off x="11306880" y="6530400"/>
              <a:ext cx="46800" cy="339840"/>
            </a:xfrm>
            <a:custGeom>
              <a:avLst/>
              <a:gdLst/>
              <a:ahLst/>
              <a:rect l="l" t="t" r="r" b="b"/>
              <a:pathLst>
                <a:path w="312" h="2811">
                  <a:moveTo>
                    <a:pt x="0" y="2810"/>
                  </a:moveTo>
                  <a:lnTo>
                    <a:pt x="311" y="281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2810"/>
                  </a:lnTo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52"/>
            <p:cNvSpPr/>
            <p:nvPr/>
          </p:nvSpPr>
          <p:spPr>
            <a:xfrm>
              <a:off x="10750680" y="6405480"/>
              <a:ext cx="555480" cy="466920"/>
            </a:xfrm>
            <a:custGeom>
              <a:avLst/>
              <a:gdLst/>
              <a:ahLst/>
              <a:rect l="l" t="t" r="r" b="b"/>
              <a:pathLst>
                <a:path w="3674" h="3856">
                  <a:moveTo>
                    <a:pt x="3673" y="3855"/>
                  </a:moveTo>
                  <a:lnTo>
                    <a:pt x="3673" y="3855"/>
                  </a:lnTo>
                  <a:lnTo>
                    <a:pt x="3673" y="3855"/>
                  </a:lnTo>
                  <a:cubicBezTo>
                    <a:pt x="3673" y="3757"/>
                    <a:pt x="3673" y="3757"/>
                    <a:pt x="3673" y="3757"/>
                  </a:cubicBezTo>
                  <a:cubicBezTo>
                    <a:pt x="3673" y="3767"/>
                    <a:pt x="3673" y="3767"/>
                    <a:pt x="3673" y="3767"/>
                  </a:cubicBezTo>
                  <a:cubicBezTo>
                    <a:pt x="2473" y="11"/>
                    <a:pt x="2473" y="11"/>
                    <a:pt x="2473" y="11"/>
                  </a:cubicBezTo>
                  <a:cubicBezTo>
                    <a:pt x="2468" y="6"/>
                    <a:pt x="2462" y="0"/>
                    <a:pt x="2452" y="0"/>
                  </a:cubicBezTo>
                  <a:cubicBezTo>
                    <a:pt x="2452" y="0"/>
                    <a:pt x="2452" y="0"/>
                    <a:pt x="2447" y="0"/>
                  </a:cubicBezTo>
                  <a:cubicBezTo>
                    <a:pt x="2281" y="42"/>
                    <a:pt x="2054" y="98"/>
                    <a:pt x="1831" y="156"/>
                  </a:cubicBezTo>
                  <a:cubicBezTo>
                    <a:pt x="1562" y="223"/>
                    <a:pt x="1309" y="285"/>
                    <a:pt x="1180" y="316"/>
                  </a:cubicBezTo>
                  <a:cubicBezTo>
                    <a:pt x="729" y="419"/>
                    <a:pt x="372" y="725"/>
                    <a:pt x="341" y="1020"/>
                  </a:cubicBezTo>
                  <a:cubicBezTo>
                    <a:pt x="0" y="3855"/>
                    <a:pt x="0" y="3855"/>
                    <a:pt x="0" y="3855"/>
                  </a:cubicBezTo>
                  <a:lnTo>
                    <a:pt x="3673" y="3855"/>
                  </a:lnTo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53"/>
            <p:cNvSpPr/>
            <p:nvPr/>
          </p:nvSpPr>
          <p:spPr>
            <a:xfrm>
              <a:off x="11306880" y="6405480"/>
              <a:ext cx="554760" cy="466920"/>
            </a:xfrm>
            <a:custGeom>
              <a:avLst/>
              <a:gdLst/>
              <a:ahLst/>
              <a:rect l="l" t="t" r="r" b="b"/>
              <a:pathLst>
                <a:path w="3664" h="3856">
                  <a:moveTo>
                    <a:pt x="3663" y="3855"/>
                  </a:moveTo>
                  <a:lnTo>
                    <a:pt x="3663" y="3855"/>
                  </a:lnTo>
                  <a:cubicBezTo>
                    <a:pt x="3321" y="1024"/>
                    <a:pt x="3321" y="1024"/>
                    <a:pt x="3321" y="1024"/>
                  </a:cubicBezTo>
                  <a:cubicBezTo>
                    <a:pt x="3290" y="725"/>
                    <a:pt x="2933" y="419"/>
                    <a:pt x="2483" y="316"/>
                  </a:cubicBezTo>
                  <a:cubicBezTo>
                    <a:pt x="2250" y="259"/>
                    <a:pt x="1221" y="0"/>
                    <a:pt x="1211" y="0"/>
                  </a:cubicBezTo>
                  <a:cubicBezTo>
                    <a:pt x="1211" y="0"/>
                    <a:pt x="1211" y="0"/>
                    <a:pt x="1205" y="0"/>
                  </a:cubicBezTo>
                  <a:cubicBezTo>
                    <a:pt x="1200" y="0"/>
                    <a:pt x="1190" y="6"/>
                    <a:pt x="1190" y="11"/>
                  </a:cubicBezTo>
                  <a:cubicBezTo>
                    <a:pt x="0" y="3736"/>
                    <a:pt x="0" y="3736"/>
                    <a:pt x="0" y="3736"/>
                  </a:cubicBezTo>
                  <a:cubicBezTo>
                    <a:pt x="0" y="3855"/>
                    <a:pt x="0" y="3855"/>
                    <a:pt x="0" y="3855"/>
                  </a:cubicBezTo>
                  <a:lnTo>
                    <a:pt x="0" y="3855"/>
                  </a:lnTo>
                  <a:lnTo>
                    <a:pt x="3663" y="3855"/>
                  </a:lnTo>
                </a:path>
              </a:pathLst>
            </a:cu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Group 9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55" name="Freeform 56"/>
            <p:cNvSpPr/>
            <p:nvPr/>
          </p:nvSpPr>
          <p:spPr>
            <a:xfrm>
              <a:off x="10934280" y="6718680"/>
              <a:ext cx="77760" cy="153720"/>
            </a:xfrm>
            <a:custGeom>
              <a:avLst/>
              <a:gdLst/>
              <a:ahLst/>
              <a:rect l="l" t="t" r="r" b="b"/>
              <a:pathLst>
                <a:path w="514" h="1274">
                  <a:moveTo>
                    <a:pt x="99" y="1273"/>
                  </a:moveTo>
                  <a:lnTo>
                    <a:pt x="0" y="0"/>
                  </a:lnTo>
                  <a:lnTo>
                    <a:pt x="513" y="1273"/>
                  </a:lnTo>
                  <a:lnTo>
                    <a:pt x="99" y="1273"/>
                  </a:lnTo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57"/>
            <p:cNvSpPr/>
            <p:nvPr/>
          </p:nvSpPr>
          <p:spPr>
            <a:xfrm>
              <a:off x="11591280" y="6718680"/>
              <a:ext cx="78840" cy="153720"/>
            </a:xfrm>
            <a:custGeom>
              <a:avLst/>
              <a:gdLst/>
              <a:ahLst/>
              <a:rect l="l" t="t" r="r" b="b"/>
              <a:pathLst>
                <a:path w="519" h="1274">
                  <a:moveTo>
                    <a:pt x="420" y="1273"/>
                  </a:moveTo>
                  <a:lnTo>
                    <a:pt x="518" y="0"/>
                  </a:lnTo>
                  <a:lnTo>
                    <a:pt x="0" y="1273"/>
                  </a:lnTo>
                  <a:lnTo>
                    <a:pt x="420" y="1273"/>
                  </a:lnTo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58"/>
            <p:cNvSpPr/>
            <p:nvPr/>
          </p:nvSpPr>
          <p:spPr>
            <a:xfrm>
              <a:off x="11438640" y="6762240"/>
              <a:ext cx="184320" cy="25560"/>
            </a:xfrm>
            <a:custGeom>
              <a:avLst/>
              <a:gdLst/>
              <a:ahLst/>
              <a:rect l="l" t="t" r="r" b="b"/>
              <a:pathLst>
                <a:path w="1222" h="208">
                  <a:moveTo>
                    <a:pt x="1221" y="207"/>
                  </a:moveTo>
                  <a:lnTo>
                    <a:pt x="0" y="207"/>
                  </a:lnTo>
                  <a:lnTo>
                    <a:pt x="0" y="0"/>
                  </a:lnTo>
                  <a:lnTo>
                    <a:pt x="1221" y="0"/>
                  </a:lnTo>
                  <a:lnTo>
                    <a:pt x="1221" y="207"/>
                  </a:lnTo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59"/>
            <p:cNvSpPr/>
            <p:nvPr/>
          </p:nvSpPr>
          <p:spPr>
            <a:xfrm>
              <a:off x="11170800" y="6368040"/>
              <a:ext cx="269280" cy="62280"/>
            </a:xfrm>
            <a:custGeom>
              <a:avLst/>
              <a:gdLst/>
              <a:ahLst/>
              <a:rect l="l" t="t" r="r" b="b"/>
              <a:pathLst>
                <a:path w="1781" h="518">
                  <a:moveTo>
                    <a:pt x="890" y="517"/>
                  </a:moveTo>
                  <a:lnTo>
                    <a:pt x="0" y="0"/>
                  </a:lnTo>
                  <a:lnTo>
                    <a:pt x="1780" y="0"/>
                  </a:lnTo>
                  <a:lnTo>
                    <a:pt x="890" y="517"/>
                  </a:lnTo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60"/>
            <p:cNvSpPr/>
            <p:nvPr/>
          </p:nvSpPr>
          <p:spPr>
            <a:xfrm>
              <a:off x="11069640" y="5877000"/>
              <a:ext cx="474840" cy="463320"/>
            </a:xfrm>
            <a:custGeom>
              <a:avLst/>
              <a:gdLst/>
              <a:ahLst/>
              <a:rect l="l" t="t" r="r" b="b"/>
              <a:pathLst>
                <a:path w="3142" h="3829">
                  <a:moveTo>
                    <a:pt x="2950" y="1748"/>
                  </a:moveTo>
                  <a:lnTo>
                    <a:pt x="2950" y="1748"/>
                  </a:lnTo>
                  <a:cubicBezTo>
                    <a:pt x="3141" y="890"/>
                    <a:pt x="2546" y="0"/>
                    <a:pt x="1568" y="0"/>
                  </a:cubicBezTo>
                  <a:cubicBezTo>
                    <a:pt x="596" y="0"/>
                    <a:pt x="0" y="890"/>
                    <a:pt x="192" y="1748"/>
                  </a:cubicBezTo>
                  <a:cubicBezTo>
                    <a:pt x="249" y="2023"/>
                    <a:pt x="389" y="2256"/>
                    <a:pt x="560" y="2437"/>
                  </a:cubicBezTo>
                  <a:cubicBezTo>
                    <a:pt x="1077" y="2980"/>
                    <a:pt x="1191" y="3823"/>
                    <a:pt x="1191" y="3823"/>
                  </a:cubicBezTo>
                  <a:cubicBezTo>
                    <a:pt x="1951" y="3828"/>
                    <a:pt x="1951" y="3828"/>
                    <a:pt x="1951" y="3828"/>
                  </a:cubicBezTo>
                  <a:cubicBezTo>
                    <a:pt x="1951" y="3828"/>
                    <a:pt x="1982" y="3057"/>
                    <a:pt x="2531" y="2488"/>
                  </a:cubicBezTo>
                  <a:cubicBezTo>
                    <a:pt x="2717" y="2291"/>
                    <a:pt x="2883" y="2048"/>
                    <a:pt x="2950" y="1748"/>
                  </a:cubicBezTo>
                </a:path>
              </a:pathLst>
            </a:custGeom>
            <a:solidFill>
              <a:srgbClr val="fdb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61"/>
            <p:cNvSpPr/>
            <p:nvPr/>
          </p:nvSpPr>
          <p:spPr>
            <a:xfrm>
              <a:off x="11069640" y="5877000"/>
              <a:ext cx="237240" cy="463320"/>
            </a:xfrm>
            <a:custGeom>
              <a:avLst/>
              <a:gdLst/>
              <a:ahLst/>
              <a:rect l="l" t="t" r="r" b="b"/>
              <a:pathLst>
                <a:path w="1569" h="3824">
                  <a:moveTo>
                    <a:pt x="1568" y="0"/>
                  </a:moveTo>
                  <a:lnTo>
                    <a:pt x="1568" y="0"/>
                  </a:lnTo>
                  <a:cubicBezTo>
                    <a:pt x="596" y="0"/>
                    <a:pt x="0" y="890"/>
                    <a:pt x="192" y="1748"/>
                  </a:cubicBezTo>
                  <a:cubicBezTo>
                    <a:pt x="249" y="2023"/>
                    <a:pt x="389" y="2256"/>
                    <a:pt x="560" y="2437"/>
                  </a:cubicBezTo>
                  <a:cubicBezTo>
                    <a:pt x="1082" y="2980"/>
                    <a:pt x="1191" y="3823"/>
                    <a:pt x="1191" y="3823"/>
                  </a:cubicBezTo>
                  <a:cubicBezTo>
                    <a:pt x="1568" y="3823"/>
                    <a:pt x="1568" y="3823"/>
                    <a:pt x="1568" y="3823"/>
                  </a:cubicBezTo>
                  <a:lnTo>
                    <a:pt x="1568" y="0"/>
                  </a:lnTo>
                </a:path>
              </a:pathLst>
            </a:custGeom>
            <a:solidFill>
              <a:srgbClr val="fed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62"/>
            <p:cNvSpPr/>
            <p:nvPr/>
          </p:nvSpPr>
          <p:spPr>
            <a:xfrm>
              <a:off x="11130120" y="5909400"/>
              <a:ext cx="354240" cy="138600"/>
            </a:xfrm>
            <a:custGeom>
              <a:avLst/>
              <a:gdLst/>
              <a:ahLst/>
              <a:rect l="l" t="t" r="r" b="b"/>
              <a:pathLst>
                <a:path w="2345" h="1145">
                  <a:moveTo>
                    <a:pt x="201" y="958"/>
                  </a:moveTo>
                  <a:lnTo>
                    <a:pt x="201" y="958"/>
                  </a:lnTo>
                  <a:cubicBezTo>
                    <a:pt x="434" y="730"/>
                    <a:pt x="781" y="606"/>
                    <a:pt x="1169" y="606"/>
                  </a:cubicBezTo>
                  <a:cubicBezTo>
                    <a:pt x="1562" y="606"/>
                    <a:pt x="1904" y="730"/>
                    <a:pt x="2142" y="958"/>
                  </a:cubicBezTo>
                  <a:cubicBezTo>
                    <a:pt x="2199" y="1015"/>
                    <a:pt x="2251" y="1076"/>
                    <a:pt x="2292" y="1144"/>
                  </a:cubicBezTo>
                  <a:cubicBezTo>
                    <a:pt x="2344" y="864"/>
                    <a:pt x="2255" y="575"/>
                    <a:pt x="2054" y="352"/>
                  </a:cubicBezTo>
                  <a:cubicBezTo>
                    <a:pt x="1837" y="125"/>
                    <a:pt x="1526" y="0"/>
                    <a:pt x="1169" y="0"/>
                  </a:cubicBezTo>
                  <a:cubicBezTo>
                    <a:pt x="817" y="0"/>
                    <a:pt x="502" y="125"/>
                    <a:pt x="290" y="352"/>
                  </a:cubicBezTo>
                  <a:cubicBezTo>
                    <a:pt x="88" y="570"/>
                    <a:pt x="0" y="864"/>
                    <a:pt x="51" y="1144"/>
                  </a:cubicBezTo>
                  <a:cubicBezTo>
                    <a:pt x="93" y="1076"/>
                    <a:pt x="145" y="1015"/>
                    <a:pt x="201" y="958"/>
                  </a:cubicBezTo>
                </a:path>
              </a:pathLst>
            </a:custGeom>
            <a:solidFill>
              <a:srgbClr val="fed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63"/>
            <p:cNvSpPr/>
            <p:nvPr/>
          </p:nvSpPr>
          <p:spPr>
            <a:xfrm>
              <a:off x="11130120" y="5909400"/>
              <a:ext cx="176760" cy="138600"/>
            </a:xfrm>
            <a:custGeom>
              <a:avLst/>
              <a:gdLst/>
              <a:ahLst/>
              <a:rect l="l" t="t" r="r" b="b"/>
              <a:pathLst>
                <a:path w="1170" h="1145">
                  <a:moveTo>
                    <a:pt x="1169" y="0"/>
                  </a:moveTo>
                  <a:lnTo>
                    <a:pt x="1169" y="0"/>
                  </a:lnTo>
                  <a:cubicBezTo>
                    <a:pt x="812" y="0"/>
                    <a:pt x="502" y="129"/>
                    <a:pt x="290" y="358"/>
                  </a:cubicBezTo>
                  <a:cubicBezTo>
                    <a:pt x="88" y="575"/>
                    <a:pt x="0" y="864"/>
                    <a:pt x="51" y="1144"/>
                  </a:cubicBezTo>
                  <a:cubicBezTo>
                    <a:pt x="93" y="1076"/>
                    <a:pt x="140" y="1015"/>
                    <a:pt x="201" y="958"/>
                  </a:cubicBezTo>
                  <a:cubicBezTo>
                    <a:pt x="434" y="735"/>
                    <a:pt x="776" y="606"/>
                    <a:pt x="1169" y="606"/>
                  </a:cubicBezTo>
                  <a:lnTo>
                    <a:pt x="1169" y="0"/>
                  </a:lnTo>
                </a:path>
              </a:pathLst>
            </a:custGeom>
            <a:solidFill>
              <a:srgbClr val="f8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64"/>
            <p:cNvSpPr/>
            <p:nvPr/>
          </p:nvSpPr>
          <p:spPr>
            <a:xfrm>
              <a:off x="11162160" y="6049800"/>
              <a:ext cx="290160" cy="290520"/>
            </a:xfrm>
            <a:custGeom>
              <a:avLst/>
              <a:gdLst/>
              <a:ahLst/>
              <a:rect l="l" t="t" r="r" b="b"/>
              <a:pathLst>
                <a:path w="1921" h="2397">
                  <a:moveTo>
                    <a:pt x="709" y="2396"/>
                  </a:moveTo>
                  <a:lnTo>
                    <a:pt x="709" y="2396"/>
                  </a:lnTo>
                  <a:cubicBezTo>
                    <a:pt x="1196" y="2396"/>
                    <a:pt x="1196" y="2396"/>
                    <a:pt x="1196" y="2396"/>
                  </a:cubicBezTo>
                  <a:cubicBezTo>
                    <a:pt x="1273" y="1977"/>
                    <a:pt x="1273" y="1977"/>
                    <a:pt x="1273" y="1977"/>
                  </a:cubicBezTo>
                  <a:cubicBezTo>
                    <a:pt x="1314" y="1672"/>
                    <a:pt x="1418" y="962"/>
                    <a:pt x="1718" y="668"/>
                  </a:cubicBezTo>
                  <a:cubicBezTo>
                    <a:pt x="1858" y="529"/>
                    <a:pt x="1920" y="404"/>
                    <a:pt x="1904" y="280"/>
                  </a:cubicBezTo>
                  <a:cubicBezTo>
                    <a:pt x="1868" y="21"/>
                    <a:pt x="1547" y="0"/>
                    <a:pt x="1200" y="0"/>
                  </a:cubicBezTo>
                  <a:cubicBezTo>
                    <a:pt x="957" y="6"/>
                    <a:pt x="957" y="6"/>
                    <a:pt x="957" y="6"/>
                  </a:cubicBezTo>
                  <a:cubicBezTo>
                    <a:pt x="719" y="0"/>
                    <a:pt x="719" y="0"/>
                    <a:pt x="719" y="0"/>
                  </a:cubicBezTo>
                  <a:cubicBezTo>
                    <a:pt x="367" y="0"/>
                    <a:pt x="52" y="21"/>
                    <a:pt x="16" y="280"/>
                  </a:cubicBezTo>
                  <a:cubicBezTo>
                    <a:pt x="0" y="399"/>
                    <a:pt x="47" y="523"/>
                    <a:pt x="155" y="627"/>
                  </a:cubicBezTo>
                  <a:cubicBezTo>
                    <a:pt x="461" y="932"/>
                    <a:pt x="580" y="1641"/>
                    <a:pt x="632" y="1956"/>
                  </a:cubicBezTo>
                  <a:lnTo>
                    <a:pt x="709" y="2396"/>
                  </a:lnTo>
                  <a:close/>
                  <a:moveTo>
                    <a:pt x="93" y="300"/>
                  </a:moveTo>
                  <a:lnTo>
                    <a:pt x="93" y="300"/>
                  </a:lnTo>
                  <a:cubicBezTo>
                    <a:pt x="124" y="125"/>
                    <a:pt x="336" y="88"/>
                    <a:pt x="719" y="88"/>
                  </a:cubicBezTo>
                  <a:cubicBezTo>
                    <a:pt x="957" y="88"/>
                    <a:pt x="957" y="88"/>
                    <a:pt x="957" y="88"/>
                  </a:cubicBezTo>
                  <a:cubicBezTo>
                    <a:pt x="1196" y="88"/>
                    <a:pt x="1196" y="88"/>
                    <a:pt x="1196" y="88"/>
                  </a:cubicBezTo>
                  <a:cubicBezTo>
                    <a:pt x="1583" y="88"/>
                    <a:pt x="1795" y="125"/>
                    <a:pt x="1821" y="300"/>
                  </a:cubicBezTo>
                  <a:cubicBezTo>
                    <a:pt x="1837" y="399"/>
                    <a:pt x="1785" y="502"/>
                    <a:pt x="1666" y="621"/>
                  </a:cubicBezTo>
                  <a:cubicBezTo>
                    <a:pt x="1392" y="895"/>
                    <a:pt x="1283" y="1486"/>
                    <a:pt x="1231" y="1838"/>
                  </a:cubicBezTo>
                  <a:cubicBezTo>
                    <a:pt x="1216" y="1744"/>
                    <a:pt x="1196" y="1599"/>
                    <a:pt x="1206" y="1397"/>
                  </a:cubicBezTo>
                  <a:cubicBezTo>
                    <a:pt x="1242" y="694"/>
                    <a:pt x="1087" y="590"/>
                    <a:pt x="947" y="590"/>
                  </a:cubicBezTo>
                  <a:cubicBezTo>
                    <a:pt x="797" y="590"/>
                    <a:pt x="663" y="699"/>
                    <a:pt x="694" y="1382"/>
                  </a:cubicBezTo>
                  <a:cubicBezTo>
                    <a:pt x="704" y="1599"/>
                    <a:pt x="688" y="1749"/>
                    <a:pt x="673" y="1842"/>
                  </a:cubicBezTo>
                  <a:cubicBezTo>
                    <a:pt x="616" y="1480"/>
                    <a:pt x="497" y="875"/>
                    <a:pt x="207" y="580"/>
                  </a:cubicBezTo>
                  <a:cubicBezTo>
                    <a:pt x="119" y="492"/>
                    <a:pt x="78" y="399"/>
                    <a:pt x="93" y="300"/>
                  </a:cubicBezTo>
                  <a:close/>
                </a:path>
              </a:pathLst>
            </a:custGeom>
            <a:solidFill>
              <a:srgbClr val="f78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65"/>
            <p:cNvSpPr/>
            <p:nvPr/>
          </p:nvSpPr>
          <p:spPr>
            <a:xfrm>
              <a:off x="11069640" y="5877000"/>
              <a:ext cx="474840" cy="463320"/>
            </a:xfrm>
            <a:custGeom>
              <a:avLst/>
              <a:gdLst/>
              <a:ahLst/>
              <a:rect l="l" t="t" r="r" b="b"/>
              <a:pathLst>
                <a:path w="3142" h="3829">
                  <a:moveTo>
                    <a:pt x="1568" y="0"/>
                  </a:moveTo>
                  <a:lnTo>
                    <a:pt x="1568" y="0"/>
                  </a:lnTo>
                  <a:cubicBezTo>
                    <a:pt x="596" y="0"/>
                    <a:pt x="0" y="890"/>
                    <a:pt x="192" y="1748"/>
                  </a:cubicBezTo>
                  <a:cubicBezTo>
                    <a:pt x="249" y="2023"/>
                    <a:pt x="389" y="2256"/>
                    <a:pt x="560" y="2437"/>
                  </a:cubicBezTo>
                  <a:cubicBezTo>
                    <a:pt x="1082" y="2980"/>
                    <a:pt x="1191" y="3818"/>
                    <a:pt x="1191" y="3818"/>
                  </a:cubicBezTo>
                  <a:cubicBezTo>
                    <a:pt x="1951" y="3828"/>
                    <a:pt x="1951" y="3828"/>
                    <a:pt x="1951" y="3828"/>
                  </a:cubicBezTo>
                  <a:cubicBezTo>
                    <a:pt x="1951" y="3828"/>
                    <a:pt x="1982" y="3057"/>
                    <a:pt x="2531" y="2488"/>
                  </a:cubicBezTo>
                  <a:cubicBezTo>
                    <a:pt x="2717" y="2291"/>
                    <a:pt x="2883" y="2048"/>
                    <a:pt x="2950" y="1748"/>
                  </a:cubicBezTo>
                  <a:cubicBezTo>
                    <a:pt x="3141" y="890"/>
                    <a:pt x="2546" y="0"/>
                    <a:pt x="1568" y="0"/>
                  </a:cubicBezTo>
                  <a:lnTo>
                    <a:pt x="2877" y="1733"/>
                  </a:lnTo>
                  <a:lnTo>
                    <a:pt x="2877" y="1733"/>
                  </a:lnTo>
                  <a:cubicBezTo>
                    <a:pt x="2825" y="1987"/>
                    <a:pt x="2691" y="2214"/>
                    <a:pt x="2479" y="2437"/>
                  </a:cubicBezTo>
                  <a:cubicBezTo>
                    <a:pt x="2003" y="2928"/>
                    <a:pt x="1884" y="3590"/>
                    <a:pt x="1894" y="3771"/>
                  </a:cubicBezTo>
                  <a:cubicBezTo>
                    <a:pt x="1243" y="3766"/>
                    <a:pt x="1243" y="3766"/>
                    <a:pt x="1243" y="3766"/>
                  </a:cubicBezTo>
                  <a:cubicBezTo>
                    <a:pt x="1237" y="3585"/>
                    <a:pt x="1066" y="2861"/>
                    <a:pt x="611" y="2389"/>
                  </a:cubicBezTo>
                  <a:cubicBezTo>
                    <a:pt x="435" y="2204"/>
                    <a:pt x="316" y="1981"/>
                    <a:pt x="259" y="1733"/>
                  </a:cubicBezTo>
                  <a:cubicBezTo>
                    <a:pt x="171" y="1319"/>
                    <a:pt x="269" y="884"/>
                    <a:pt x="529" y="558"/>
                  </a:cubicBezTo>
                  <a:cubicBezTo>
                    <a:pt x="782" y="248"/>
                    <a:pt x="1149" y="72"/>
                    <a:pt x="1568" y="72"/>
                  </a:cubicBezTo>
                  <a:cubicBezTo>
                    <a:pt x="1988" y="72"/>
                    <a:pt x="2360" y="248"/>
                    <a:pt x="2608" y="558"/>
                  </a:cubicBezTo>
                  <a:cubicBezTo>
                    <a:pt x="2867" y="884"/>
                    <a:pt x="2970" y="1319"/>
                    <a:pt x="2877" y="1733"/>
                  </a:cubicBezTo>
                  <a:lnTo>
                    <a:pt x="1568" y="0"/>
                  </a:lnTo>
                </a:path>
              </a:pathLst>
            </a:custGeom>
            <a:solidFill>
              <a:srgbClr val="f0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66"/>
            <p:cNvSpPr/>
            <p:nvPr/>
          </p:nvSpPr>
          <p:spPr>
            <a:xfrm>
              <a:off x="11243880" y="6331320"/>
              <a:ext cx="124560" cy="82440"/>
            </a:xfrm>
            <a:custGeom>
              <a:avLst/>
              <a:gdLst/>
              <a:ahLst/>
              <a:rect l="l" t="t" r="r" b="b"/>
              <a:pathLst>
                <a:path w="824" h="684">
                  <a:moveTo>
                    <a:pt x="823" y="249"/>
                  </a:moveTo>
                  <a:lnTo>
                    <a:pt x="823" y="249"/>
                  </a:lnTo>
                  <a:cubicBezTo>
                    <a:pt x="823" y="218"/>
                    <a:pt x="813" y="192"/>
                    <a:pt x="792" y="171"/>
                  </a:cubicBezTo>
                  <a:cubicBezTo>
                    <a:pt x="813" y="156"/>
                    <a:pt x="823" y="129"/>
                    <a:pt x="823" y="104"/>
                  </a:cubicBezTo>
                  <a:cubicBezTo>
                    <a:pt x="823" y="47"/>
                    <a:pt x="782" y="0"/>
                    <a:pt x="725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47" y="0"/>
                    <a:pt x="0" y="47"/>
                    <a:pt x="0" y="104"/>
                  </a:cubicBezTo>
                  <a:cubicBezTo>
                    <a:pt x="0" y="129"/>
                    <a:pt x="10" y="156"/>
                    <a:pt x="31" y="171"/>
                  </a:cubicBezTo>
                  <a:cubicBezTo>
                    <a:pt x="10" y="192"/>
                    <a:pt x="0" y="218"/>
                    <a:pt x="0" y="249"/>
                  </a:cubicBezTo>
                  <a:cubicBezTo>
                    <a:pt x="0" y="275"/>
                    <a:pt x="10" y="300"/>
                    <a:pt x="31" y="321"/>
                  </a:cubicBezTo>
                  <a:cubicBezTo>
                    <a:pt x="10" y="337"/>
                    <a:pt x="0" y="363"/>
                    <a:pt x="0" y="394"/>
                  </a:cubicBezTo>
                  <a:cubicBezTo>
                    <a:pt x="0" y="446"/>
                    <a:pt x="47" y="492"/>
                    <a:pt x="104" y="492"/>
                  </a:cubicBezTo>
                  <a:cubicBezTo>
                    <a:pt x="120" y="492"/>
                    <a:pt x="120" y="492"/>
                    <a:pt x="120" y="492"/>
                  </a:cubicBezTo>
                  <a:cubicBezTo>
                    <a:pt x="171" y="606"/>
                    <a:pt x="280" y="683"/>
                    <a:pt x="414" y="683"/>
                  </a:cubicBezTo>
                  <a:cubicBezTo>
                    <a:pt x="544" y="683"/>
                    <a:pt x="653" y="606"/>
                    <a:pt x="704" y="492"/>
                  </a:cubicBezTo>
                  <a:cubicBezTo>
                    <a:pt x="725" y="492"/>
                    <a:pt x="725" y="492"/>
                    <a:pt x="725" y="492"/>
                  </a:cubicBezTo>
                  <a:cubicBezTo>
                    <a:pt x="782" y="492"/>
                    <a:pt x="823" y="446"/>
                    <a:pt x="823" y="394"/>
                  </a:cubicBezTo>
                  <a:cubicBezTo>
                    <a:pt x="823" y="363"/>
                    <a:pt x="813" y="337"/>
                    <a:pt x="792" y="321"/>
                  </a:cubicBezTo>
                  <a:cubicBezTo>
                    <a:pt x="813" y="300"/>
                    <a:pt x="823" y="275"/>
                    <a:pt x="823" y="249"/>
                  </a:cubicBezTo>
                </a:path>
              </a:pathLst>
            </a:custGeom>
            <a:solidFill>
              <a:srgbClr val="dee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67"/>
            <p:cNvSpPr/>
            <p:nvPr/>
          </p:nvSpPr>
          <p:spPr>
            <a:xfrm>
              <a:off x="11252520" y="6333480"/>
              <a:ext cx="107280" cy="19080"/>
            </a:xfrm>
            <a:custGeom>
              <a:avLst/>
              <a:gdLst/>
              <a:ahLst/>
              <a:rect l="l" t="t" r="r" b="b"/>
              <a:pathLst>
                <a:path w="715" h="157">
                  <a:moveTo>
                    <a:pt x="709" y="37"/>
                  </a:moveTo>
                  <a:lnTo>
                    <a:pt x="709" y="37"/>
                  </a:lnTo>
                  <a:cubicBezTo>
                    <a:pt x="714" y="52"/>
                    <a:pt x="699" y="73"/>
                    <a:pt x="678" y="73"/>
                  </a:cubicBezTo>
                  <a:cubicBezTo>
                    <a:pt x="41" y="156"/>
                    <a:pt x="41" y="156"/>
                    <a:pt x="41" y="156"/>
                  </a:cubicBezTo>
                  <a:cubicBezTo>
                    <a:pt x="26" y="156"/>
                    <a:pt x="5" y="145"/>
                    <a:pt x="5" y="125"/>
                  </a:cubicBezTo>
                  <a:cubicBezTo>
                    <a:pt x="0" y="104"/>
                    <a:pt x="16" y="88"/>
                    <a:pt x="37" y="83"/>
                  </a:cubicBezTo>
                  <a:cubicBezTo>
                    <a:pt x="673" y="6"/>
                    <a:pt x="673" y="6"/>
                    <a:pt x="673" y="6"/>
                  </a:cubicBezTo>
                  <a:cubicBezTo>
                    <a:pt x="688" y="0"/>
                    <a:pt x="709" y="16"/>
                    <a:pt x="709" y="37"/>
                  </a:cubicBezTo>
                </a:path>
              </a:pathLst>
            </a:custGeom>
            <a:solidFill>
              <a:srgbClr val="587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68"/>
            <p:cNvSpPr/>
            <p:nvPr/>
          </p:nvSpPr>
          <p:spPr>
            <a:xfrm>
              <a:off x="11252520" y="6351480"/>
              <a:ext cx="107280" cy="18720"/>
            </a:xfrm>
            <a:custGeom>
              <a:avLst/>
              <a:gdLst/>
              <a:ahLst/>
              <a:rect l="l" t="t" r="r" b="b"/>
              <a:pathLst>
                <a:path w="715" h="156">
                  <a:moveTo>
                    <a:pt x="709" y="32"/>
                  </a:moveTo>
                  <a:lnTo>
                    <a:pt x="709" y="32"/>
                  </a:lnTo>
                  <a:cubicBezTo>
                    <a:pt x="714" y="52"/>
                    <a:pt x="699" y="73"/>
                    <a:pt x="678" y="73"/>
                  </a:cubicBezTo>
                  <a:cubicBezTo>
                    <a:pt x="41" y="155"/>
                    <a:pt x="41" y="155"/>
                    <a:pt x="41" y="155"/>
                  </a:cubicBezTo>
                  <a:cubicBezTo>
                    <a:pt x="26" y="155"/>
                    <a:pt x="5" y="145"/>
                    <a:pt x="5" y="124"/>
                  </a:cubicBezTo>
                  <a:cubicBezTo>
                    <a:pt x="0" y="109"/>
                    <a:pt x="16" y="88"/>
                    <a:pt x="37" y="88"/>
                  </a:cubicBezTo>
                  <a:cubicBezTo>
                    <a:pt x="673" y="0"/>
                    <a:pt x="673" y="0"/>
                    <a:pt x="673" y="0"/>
                  </a:cubicBezTo>
                  <a:cubicBezTo>
                    <a:pt x="688" y="0"/>
                    <a:pt x="709" y="15"/>
                    <a:pt x="709" y="32"/>
                  </a:cubicBezTo>
                </a:path>
              </a:pathLst>
            </a:custGeom>
            <a:solidFill>
              <a:srgbClr val="587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69"/>
            <p:cNvSpPr/>
            <p:nvPr/>
          </p:nvSpPr>
          <p:spPr>
            <a:xfrm>
              <a:off x="11252520" y="6368040"/>
              <a:ext cx="107280" cy="18720"/>
            </a:xfrm>
            <a:custGeom>
              <a:avLst/>
              <a:gdLst/>
              <a:ahLst/>
              <a:rect l="l" t="t" r="r" b="b"/>
              <a:pathLst>
                <a:path w="715" h="156">
                  <a:moveTo>
                    <a:pt x="709" y="36"/>
                  </a:moveTo>
                  <a:lnTo>
                    <a:pt x="709" y="36"/>
                  </a:lnTo>
                  <a:cubicBezTo>
                    <a:pt x="714" y="52"/>
                    <a:pt x="699" y="72"/>
                    <a:pt x="678" y="72"/>
                  </a:cubicBezTo>
                  <a:cubicBezTo>
                    <a:pt x="41" y="155"/>
                    <a:pt x="41" y="155"/>
                    <a:pt x="41" y="155"/>
                  </a:cubicBezTo>
                  <a:cubicBezTo>
                    <a:pt x="26" y="155"/>
                    <a:pt x="5" y="145"/>
                    <a:pt x="5" y="124"/>
                  </a:cubicBezTo>
                  <a:cubicBezTo>
                    <a:pt x="0" y="103"/>
                    <a:pt x="16" y="88"/>
                    <a:pt x="37" y="83"/>
                  </a:cubicBezTo>
                  <a:cubicBezTo>
                    <a:pt x="673" y="5"/>
                    <a:pt x="673" y="5"/>
                    <a:pt x="673" y="5"/>
                  </a:cubicBezTo>
                  <a:cubicBezTo>
                    <a:pt x="688" y="0"/>
                    <a:pt x="709" y="16"/>
                    <a:pt x="709" y="36"/>
                  </a:cubicBezTo>
                </a:path>
              </a:pathLst>
            </a:custGeom>
            <a:solidFill>
              <a:srgbClr val="587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70"/>
            <p:cNvSpPr/>
            <p:nvPr/>
          </p:nvSpPr>
          <p:spPr>
            <a:xfrm>
              <a:off x="10877040" y="5708880"/>
              <a:ext cx="866520" cy="635400"/>
            </a:xfrm>
            <a:custGeom>
              <a:avLst/>
              <a:gdLst/>
              <a:ahLst/>
              <a:rect l="l" t="t" r="r" b="b"/>
              <a:pathLst>
                <a:path w="5729" h="5247">
                  <a:moveTo>
                    <a:pt x="5728" y="2856"/>
                  </a:moveTo>
                  <a:lnTo>
                    <a:pt x="5728" y="2856"/>
                  </a:lnTo>
                  <a:cubicBezTo>
                    <a:pt x="5448" y="2773"/>
                    <a:pt x="5215" y="2556"/>
                    <a:pt x="5138" y="2256"/>
                  </a:cubicBezTo>
                  <a:cubicBezTo>
                    <a:pt x="5065" y="1955"/>
                    <a:pt x="5164" y="1651"/>
                    <a:pt x="5376" y="1453"/>
                  </a:cubicBezTo>
                  <a:cubicBezTo>
                    <a:pt x="5091" y="1516"/>
                    <a:pt x="4775" y="1438"/>
                    <a:pt x="4558" y="1216"/>
                  </a:cubicBezTo>
                  <a:cubicBezTo>
                    <a:pt x="4336" y="993"/>
                    <a:pt x="4268" y="683"/>
                    <a:pt x="4351" y="404"/>
                  </a:cubicBezTo>
                  <a:cubicBezTo>
                    <a:pt x="4139" y="600"/>
                    <a:pt x="3824" y="688"/>
                    <a:pt x="3523" y="600"/>
                  </a:cubicBezTo>
                  <a:cubicBezTo>
                    <a:pt x="3218" y="517"/>
                    <a:pt x="3000" y="279"/>
                    <a:pt x="2929" y="0"/>
                  </a:cubicBezTo>
                  <a:cubicBezTo>
                    <a:pt x="2846" y="274"/>
                    <a:pt x="2617" y="502"/>
                    <a:pt x="2313" y="575"/>
                  </a:cubicBezTo>
                  <a:cubicBezTo>
                    <a:pt x="2002" y="647"/>
                    <a:pt x="1691" y="548"/>
                    <a:pt x="1490" y="341"/>
                  </a:cubicBezTo>
                  <a:cubicBezTo>
                    <a:pt x="1557" y="621"/>
                    <a:pt x="1474" y="926"/>
                    <a:pt x="1247" y="1139"/>
                  </a:cubicBezTo>
                  <a:cubicBezTo>
                    <a:pt x="1019" y="1355"/>
                    <a:pt x="698" y="1422"/>
                    <a:pt x="413" y="1340"/>
                  </a:cubicBezTo>
                  <a:cubicBezTo>
                    <a:pt x="615" y="1552"/>
                    <a:pt x="704" y="1857"/>
                    <a:pt x="615" y="2152"/>
                  </a:cubicBezTo>
                  <a:cubicBezTo>
                    <a:pt x="527" y="2448"/>
                    <a:pt x="284" y="2659"/>
                    <a:pt x="0" y="2731"/>
                  </a:cubicBezTo>
                  <a:cubicBezTo>
                    <a:pt x="279" y="2814"/>
                    <a:pt x="512" y="3037"/>
                    <a:pt x="590" y="3332"/>
                  </a:cubicBezTo>
                  <a:cubicBezTo>
                    <a:pt x="662" y="3632"/>
                    <a:pt x="564" y="3937"/>
                    <a:pt x="352" y="4139"/>
                  </a:cubicBezTo>
                  <a:cubicBezTo>
                    <a:pt x="636" y="4072"/>
                    <a:pt x="952" y="4149"/>
                    <a:pt x="1169" y="4372"/>
                  </a:cubicBezTo>
                  <a:cubicBezTo>
                    <a:pt x="1387" y="4594"/>
                    <a:pt x="1454" y="4910"/>
                    <a:pt x="1376" y="5184"/>
                  </a:cubicBezTo>
                  <a:cubicBezTo>
                    <a:pt x="1588" y="4987"/>
                    <a:pt x="1899" y="4904"/>
                    <a:pt x="2204" y="4987"/>
                  </a:cubicBezTo>
                  <a:lnTo>
                    <a:pt x="2204" y="4993"/>
                  </a:lnTo>
                  <a:cubicBezTo>
                    <a:pt x="2178" y="4713"/>
                    <a:pt x="2084" y="4196"/>
                    <a:pt x="1759" y="3859"/>
                  </a:cubicBezTo>
                  <a:cubicBezTo>
                    <a:pt x="1557" y="3658"/>
                    <a:pt x="1422" y="3410"/>
                    <a:pt x="1360" y="3141"/>
                  </a:cubicBezTo>
                  <a:cubicBezTo>
                    <a:pt x="1257" y="2685"/>
                    <a:pt x="1371" y="2204"/>
                    <a:pt x="1661" y="1852"/>
                  </a:cubicBezTo>
                  <a:cubicBezTo>
                    <a:pt x="1951" y="1505"/>
                    <a:pt x="2365" y="1309"/>
                    <a:pt x="2840" y="1309"/>
                  </a:cubicBezTo>
                  <a:cubicBezTo>
                    <a:pt x="3311" y="1309"/>
                    <a:pt x="3730" y="1505"/>
                    <a:pt x="4015" y="1852"/>
                  </a:cubicBezTo>
                  <a:cubicBezTo>
                    <a:pt x="4309" y="2204"/>
                    <a:pt x="4423" y="2685"/>
                    <a:pt x="4320" y="3141"/>
                  </a:cubicBezTo>
                  <a:cubicBezTo>
                    <a:pt x="4258" y="3410"/>
                    <a:pt x="4108" y="3668"/>
                    <a:pt x="3876" y="3907"/>
                  </a:cubicBezTo>
                  <a:cubicBezTo>
                    <a:pt x="3523" y="4258"/>
                    <a:pt x="3466" y="4755"/>
                    <a:pt x="3456" y="5008"/>
                  </a:cubicBezTo>
                  <a:cubicBezTo>
                    <a:pt x="3751" y="4952"/>
                    <a:pt x="4041" y="5050"/>
                    <a:pt x="4238" y="5246"/>
                  </a:cubicBezTo>
                  <a:cubicBezTo>
                    <a:pt x="4170" y="4972"/>
                    <a:pt x="4253" y="4662"/>
                    <a:pt x="4480" y="4450"/>
                  </a:cubicBezTo>
                  <a:cubicBezTo>
                    <a:pt x="4708" y="4238"/>
                    <a:pt x="5023" y="4170"/>
                    <a:pt x="5308" y="4248"/>
                  </a:cubicBezTo>
                  <a:cubicBezTo>
                    <a:pt x="5106" y="4040"/>
                    <a:pt x="5023" y="3736"/>
                    <a:pt x="5112" y="3441"/>
                  </a:cubicBezTo>
                  <a:cubicBezTo>
                    <a:pt x="5200" y="3141"/>
                    <a:pt x="5437" y="2928"/>
                    <a:pt x="5728" y="2856"/>
                  </a:cubicBezTo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71"/>
            <p:cNvSpPr/>
            <p:nvPr/>
          </p:nvSpPr>
          <p:spPr>
            <a:xfrm>
              <a:off x="10877040" y="5708160"/>
              <a:ext cx="866520" cy="636840"/>
            </a:xfrm>
            <a:custGeom>
              <a:avLst/>
              <a:gdLst/>
              <a:ahLst/>
              <a:rect l="l" t="t" r="r" b="b"/>
              <a:pathLst>
                <a:path w="5729" h="5259">
                  <a:moveTo>
                    <a:pt x="5728" y="2862"/>
                  </a:moveTo>
                  <a:lnTo>
                    <a:pt x="5728" y="2862"/>
                  </a:lnTo>
                  <a:lnTo>
                    <a:pt x="5728" y="2862"/>
                  </a:lnTo>
                  <a:cubicBezTo>
                    <a:pt x="5448" y="2779"/>
                    <a:pt x="5215" y="2562"/>
                    <a:pt x="5138" y="2262"/>
                  </a:cubicBezTo>
                  <a:cubicBezTo>
                    <a:pt x="5122" y="2194"/>
                    <a:pt x="5112" y="2127"/>
                    <a:pt x="5112" y="2060"/>
                  </a:cubicBezTo>
                  <a:cubicBezTo>
                    <a:pt x="5112" y="1832"/>
                    <a:pt x="5210" y="1615"/>
                    <a:pt x="5376" y="1459"/>
                  </a:cubicBezTo>
                  <a:cubicBezTo>
                    <a:pt x="5376" y="1455"/>
                    <a:pt x="5376" y="1455"/>
                    <a:pt x="5376" y="1455"/>
                  </a:cubicBezTo>
                  <a:lnTo>
                    <a:pt x="5376" y="1455"/>
                  </a:lnTo>
                  <a:cubicBezTo>
                    <a:pt x="5308" y="1470"/>
                    <a:pt x="5241" y="1480"/>
                    <a:pt x="5179" y="1480"/>
                  </a:cubicBezTo>
                  <a:cubicBezTo>
                    <a:pt x="4952" y="1480"/>
                    <a:pt x="4729" y="1393"/>
                    <a:pt x="4558" y="1222"/>
                  </a:cubicBezTo>
                  <a:cubicBezTo>
                    <a:pt x="4398" y="1062"/>
                    <a:pt x="4320" y="849"/>
                    <a:pt x="4320" y="643"/>
                  </a:cubicBezTo>
                  <a:cubicBezTo>
                    <a:pt x="4320" y="564"/>
                    <a:pt x="4330" y="487"/>
                    <a:pt x="4351" y="410"/>
                  </a:cubicBezTo>
                  <a:lnTo>
                    <a:pt x="4351" y="410"/>
                  </a:lnTo>
                  <a:lnTo>
                    <a:pt x="4351" y="410"/>
                  </a:lnTo>
                  <a:cubicBezTo>
                    <a:pt x="4191" y="554"/>
                    <a:pt x="3984" y="637"/>
                    <a:pt x="3761" y="637"/>
                  </a:cubicBezTo>
                  <a:cubicBezTo>
                    <a:pt x="3684" y="637"/>
                    <a:pt x="3601" y="627"/>
                    <a:pt x="3523" y="606"/>
                  </a:cubicBezTo>
                  <a:cubicBezTo>
                    <a:pt x="3218" y="523"/>
                    <a:pt x="3000" y="285"/>
                    <a:pt x="2929" y="6"/>
                  </a:cubicBezTo>
                  <a:cubicBezTo>
                    <a:pt x="2929" y="0"/>
                    <a:pt x="2929" y="0"/>
                    <a:pt x="2929" y="0"/>
                  </a:cubicBezTo>
                  <a:cubicBezTo>
                    <a:pt x="2929" y="6"/>
                    <a:pt x="2929" y="6"/>
                    <a:pt x="2929" y="6"/>
                  </a:cubicBezTo>
                  <a:cubicBezTo>
                    <a:pt x="2840" y="280"/>
                    <a:pt x="2617" y="502"/>
                    <a:pt x="2313" y="581"/>
                  </a:cubicBezTo>
                  <a:cubicBezTo>
                    <a:pt x="2240" y="595"/>
                    <a:pt x="2173" y="601"/>
                    <a:pt x="2105" y="601"/>
                  </a:cubicBezTo>
                  <a:cubicBezTo>
                    <a:pt x="1868" y="601"/>
                    <a:pt x="1651" y="508"/>
                    <a:pt x="1490" y="347"/>
                  </a:cubicBezTo>
                  <a:cubicBezTo>
                    <a:pt x="1485" y="342"/>
                    <a:pt x="1485" y="342"/>
                    <a:pt x="1485" y="342"/>
                  </a:cubicBezTo>
                  <a:cubicBezTo>
                    <a:pt x="1485" y="347"/>
                    <a:pt x="1485" y="347"/>
                    <a:pt x="1485" y="347"/>
                  </a:cubicBezTo>
                  <a:cubicBezTo>
                    <a:pt x="1500" y="410"/>
                    <a:pt x="1510" y="477"/>
                    <a:pt x="1510" y="539"/>
                  </a:cubicBezTo>
                  <a:cubicBezTo>
                    <a:pt x="1510" y="762"/>
                    <a:pt x="1422" y="978"/>
                    <a:pt x="1247" y="1145"/>
                  </a:cubicBezTo>
                  <a:cubicBezTo>
                    <a:pt x="1081" y="1299"/>
                    <a:pt x="869" y="1377"/>
                    <a:pt x="652" y="1377"/>
                  </a:cubicBezTo>
                  <a:cubicBezTo>
                    <a:pt x="574" y="1377"/>
                    <a:pt x="496" y="1367"/>
                    <a:pt x="419" y="1346"/>
                  </a:cubicBezTo>
                  <a:cubicBezTo>
                    <a:pt x="413" y="1346"/>
                    <a:pt x="413" y="1346"/>
                    <a:pt x="413" y="1346"/>
                  </a:cubicBezTo>
                  <a:lnTo>
                    <a:pt x="413" y="1346"/>
                  </a:lnTo>
                  <a:cubicBezTo>
                    <a:pt x="564" y="1501"/>
                    <a:pt x="652" y="1708"/>
                    <a:pt x="652" y="1925"/>
                  </a:cubicBezTo>
                  <a:cubicBezTo>
                    <a:pt x="652" y="1998"/>
                    <a:pt x="641" y="2081"/>
                    <a:pt x="615" y="2158"/>
                  </a:cubicBezTo>
                  <a:cubicBezTo>
                    <a:pt x="527" y="2454"/>
                    <a:pt x="284" y="2665"/>
                    <a:pt x="0" y="2737"/>
                  </a:cubicBezTo>
                  <a:lnTo>
                    <a:pt x="0" y="2737"/>
                  </a:lnTo>
                  <a:lnTo>
                    <a:pt x="0" y="2737"/>
                  </a:lnTo>
                  <a:cubicBezTo>
                    <a:pt x="279" y="2820"/>
                    <a:pt x="512" y="3043"/>
                    <a:pt x="590" y="3338"/>
                  </a:cubicBezTo>
                  <a:cubicBezTo>
                    <a:pt x="605" y="3405"/>
                    <a:pt x="610" y="3472"/>
                    <a:pt x="610" y="3540"/>
                  </a:cubicBezTo>
                  <a:cubicBezTo>
                    <a:pt x="610" y="3772"/>
                    <a:pt x="517" y="3990"/>
                    <a:pt x="352" y="4145"/>
                  </a:cubicBezTo>
                  <a:cubicBezTo>
                    <a:pt x="346" y="4145"/>
                    <a:pt x="346" y="4145"/>
                    <a:pt x="346" y="4145"/>
                  </a:cubicBezTo>
                  <a:cubicBezTo>
                    <a:pt x="352" y="4145"/>
                    <a:pt x="352" y="4145"/>
                    <a:pt x="352" y="4145"/>
                  </a:cubicBezTo>
                  <a:cubicBezTo>
                    <a:pt x="419" y="4129"/>
                    <a:pt x="486" y="4125"/>
                    <a:pt x="554" y="4125"/>
                  </a:cubicBezTo>
                  <a:cubicBezTo>
                    <a:pt x="775" y="4125"/>
                    <a:pt x="998" y="4207"/>
                    <a:pt x="1169" y="4378"/>
                  </a:cubicBezTo>
                  <a:cubicBezTo>
                    <a:pt x="1329" y="4544"/>
                    <a:pt x="1407" y="4750"/>
                    <a:pt x="1407" y="4962"/>
                  </a:cubicBezTo>
                  <a:cubicBezTo>
                    <a:pt x="1407" y="5040"/>
                    <a:pt x="1397" y="5118"/>
                    <a:pt x="1376" y="5190"/>
                  </a:cubicBezTo>
                  <a:lnTo>
                    <a:pt x="1376" y="5190"/>
                  </a:lnTo>
                  <a:lnTo>
                    <a:pt x="1376" y="5190"/>
                  </a:lnTo>
                  <a:cubicBezTo>
                    <a:pt x="1531" y="5045"/>
                    <a:pt x="1743" y="4962"/>
                    <a:pt x="1966" y="4962"/>
                  </a:cubicBezTo>
                  <a:cubicBezTo>
                    <a:pt x="2043" y="4962"/>
                    <a:pt x="2126" y="4973"/>
                    <a:pt x="2204" y="4993"/>
                  </a:cubicBezTo>
                  <a:lnTo>
                    <a:pt x="2204" y="4993"/>
                  </a:lnTo>
                  <a:lnTo>
                    <a:pt x="2204" y="4993"/>
                  </a:lnTo>
                  <a:cubicBezTo>
                    <a:pt x="2204" y="4999"/>
                    <a:pt x="2204" y="4999"/>
                    <a:pt x="2204" y="4999"/>
                  </a:cubicBezTo>
                  <a:lnTo>
                    <a:pt x="2204" y="4999"/>
                  </a:lnTo>
                  <a:cubicBezTo>
                    <a:pt x="2209" y="4999"/>
                    <a:pt x="2209" y="4999"/>
                    <a:pt x="2209" y="4999"/>
                  </a:cubicBezTo>
                  <a:lnTo>
                    <a:pt x="2209" y="4999"/>
                  </a:lnTo>
                  <a:cubicBezTo>
                    <a:pt x="2178" y="4719"/>
                    <a:pt x="2084" y="4202"/>
                    <a:pt x="1759" y="3865"/>
                  </a:cubicBezTo>
                  <a:cubicBezTo>
                    <a:pt x="1557" y="3664"/>
                    <a:pt x="1422" y="3416"/>
                    <a:pt x="1360" y="3147"/>
                  </a:cubicBezTo>
                  <a:cubicBezTo>
                    <a:pt x="1335" y="3033"/>
                    <a:pt x="1324" y="2924"/>
                    <a:pt x="1324" y="2810"/>
                  </a:cubicBezTo>
                  <a:cubicBezTo>
                    <a:pt x="1324" y="2469"/>
                    <a:pt x="1443" y="2127"/>
                    <a:pt x="1661" y="1858"/>
                  </a:cubicBezTo>
                  <a:cubicBezTo>
                    <a:pt x="1951" y="1511"/>
                    <a:pt x="2365" y="1320"/>
                    <a:pt x="2840" y="1320"/>
                  </a:cubicBezTo>
                  <a:cubicBezTo>
                    <a:pt x="3311" y="1320"/>
                    <a:pt x="3730" y="1511"/>
                    <a:pt x="4015" y="1858"/>
                  </a:cubicBezTo>
                  <a:cubicBezTo>
                    <a:pt x="4238" y="2127"/>
                    <a:pt x="4357" y="2469"/>
                    <a:pt x="4357" y="2810"/>
                  </a:cubicBezTo>
                  <a:cubicBezTo>
                    <a:pt x="4357" y="2924"/>
                    <a:pt x="4340" y="3033"/>
                    <a:pt x="4320" y="3147"/>
                  </a:cubicBezTo>
                  <a:cubicBezTo>
                    <a:pt x="4258" y="3416"/>
                    <a:pt x="4108" y="3674"/>
                    <a:pt x="3876" y="3913"/>
                  </a:cubicBezTo>
                  <a:cubicBezTo>
                    <a:pt x="3523" y="4264"/>
                    <a:pt x="3466" y="4761"/>
                    <a:pt x="3456" y="5014"/>
                  </a:cubicBezTo>
                  <a:lnTo>
                    <a:pt x="3456" y="5014"/>
                  </a:lnTo>
                  <a:lnTo>
                    <a:pt x="3456" y="5014"/>
                  </a:lnTo>
                  <a:cubicBezTo>
                    <a:pt x="3513" y="5004"/>
                    <a:pt x="3570" y="4999"/>
                    <a:pt x="3627" y="4999"/>
                  </a:cubicBezTo>
                  <a:cubicBezTo>
                    <a:pt x="3860" y="4999"/>
                    <a:pt x="4077" y="5097"/>
                    <a:pt x="4238" y="5252"/>
                  </a:cubicBezTo>
                  <a:cubicBezTo>
                    <a:pt x="4238" y="5258"/>
                    <a:pt x="4238" y="5258"/>
                    <a:pt x="4238" y="5258"/>
                  </a:cubicBezTo>
                  <a:cubicBezTo>
                    <a:pt x="4238" y="5252"/>
                    <a:pt x="4238" y="5252"/>
                    <a:pt x="4238" y="5252"/>
                  </a:cubicBezTo>
                  <a:cubicBezTo>
                    <a:pt x="4222" y="5190"/>
                    <a:pt x="4217" y="5123"/>
                    <a:pt x="4217" y="5056"/>
                  </a:cubicBezTo>
                  <a:cubicBezTo>
                    <a:pt x="4217" y="4839"/>
                    <a:pt x="4305" y="4621"/>
                    <a:pt x="4480" y="4456"/>
                  </a:cubicBezTo>
                  <a:cubicBezTo>
                    <a:pt x="4646" y="4300"/>
                    <a:pt x="4858" y="4223"/>
                    <a:pt x="5075" y="4223"/>
                  </a:cubicBezTo>
                  <a:cubicBezTo>
                    <a:pt x="5153" y="4223"/>
                    <a:pt x="5231" y="4233"/>
                    <a:pt x="5308" y="4254"/>
                  </a:cubicBezTo>
                  <a:cubicBezTo>
                    <a:pt x="5314" y="4254"/>
                    <a:pt x="5314" y="4254"/>
                    <a:pt x="5314" y="4254"/>
                  </a:cubicBezTo>
                  <a:cubicBezTo>
                    <a:pt x="5308" y="4254"/>
                    <a:pt x="5308" y="4254"/>
                    <a:pt x="5308" y="4254"/>
                  </a:cubicBezTo>
                  <a:cubicBezTo>
                    <a:pt x="5164" y="4098"/>
                    <a:pt x="5075" y="3897"/>
                    <a:pt x="5075" y="3680"/>
                  </a:cubicBezTo>
                  <a:cubicBezTo>
                    <a:pt x="5075" y="3601"/>
                    <a:pt x="5086" y="3524"/>
                    <a:pt x="5112" y="3447"/>
                  </a:cubicBezTo>
                  <a:cubicBezTo>
                    <a:pt x="5200" y="3147"/>
                    <a:pt x="5437" y="2934"/>
                    <a:pt x="5728" y="2867"/>
                  </a:cubicBezTo>
                  <a:cubicBezTo>
                    <a:pt x="5728" y="2862"/>
                    <a:pt x="5728" y="2862"/>
                    <a:pt x="5728" y="2862"/>
                  </a:cubicBezTo>
                  <a:lnTo>
                    <a:pt x="5728" y="2862"/>
                  </a:lnTo>
                  <a:lnTo>
                    <a:pt x="5728" y="2862"/>
                  </a:lnTo>
                  <a:lnTo>
                    <a:pt x="5728" y="2862"/>
                  </a:lnTo>
                  <a:cubicBezTo>
                    <a:pt x="5437" y="2934"/>
                    <a:pt x="5200" y="3147"/>
                    <a:pt x="5112" y="3447"/>
                  </a:cubicBezTo>
                  <a:cubicBezTo>
                    <a:pt x="5086" y="3524"/>
                    <a:pt x="5075" y="3601"/>
                    <a:pt x="5075" y="3680"/>
                  </a:cubicBezTo>
                  <a:cubicBezTo>
                    <a:pt x="5075" y="3897"/>
                    <a:pt x="5164" y="4098"/>
                    <a:pt x="5308" y="4254"/>
                  </a:cubicBezTo>
                  <a:lnTo>
                    <a:pt x="5308" y="4254"/>
                  </a:lnTo>
                  <a:lnTo>
                    <a:pt x="5308" y="4254"/>
                  </a:lnTo>
                  <a:cubicBezTo>
                    <a:pt x="5235" y="4233"/>
                    <a:pt x="5153" y="4223"/>
                    <a:pt x="5075" y="4223"/>
                  </a:cubicBezTo>
                  <a:cubicBezTo>
                    <a:pt x="4858" y="4223"/>
                    <a:pt x="4646" y="4300"/>
                    <a:pt x="4480" y="4456"/>
                  </a:cubicBezTo>
                  <a:cubicBezTo>
                    <a:pt x="4305" y="4621"/>
                    <a:pt x="4217" y="4839"/>
                    <a:pt x="4217" y="5056"/>
                  </a:cubicBezTo>
                  <a:cubicBezTo>
                    <a:pt x="4217" y="5123"/>
                    <a:pt x="4222" y="5190"/>
                    <a:pt x="4238" y="5252"/>
                  </a:cubicBezTo>
                  <a:lnTo>
                    <a:pt x="4238" y="5252"/>
                  </a:lnTo>
                  <a:lnTo>
                    <a:pt x="4238" y="5252"/>
                  </a:lnTo>
                  <a:cubicBezTo>
                    <a:pt x="4082" y="5092"/>
                    <a:pt x="3860" y="4999"/>
                    <a:pt x="3627" y="4999"/>
                  </a:cubicBezTo>
                  <a:cubicBezTo>
                    <a:pt x="3570" y="4999"/>
                    <a:pt x="3513" y="5004"/>
                    <a:pt x="3456" y="5014"/>
                  </a:cubicBezTo>
                  <a:lnTo>
                    <a:pt x="3456" y="5014"/>
                  </a:lnTo>
                  <a:cubicBezTo>
                    <a:pt x="3462" y="5014"/>
                    <a:pt x="3462" y="5014"/>
                    <a:pt x="3462" y="5014"/>
                  </a:cubicBezTo>
                  <a:cubicBezTo>
                    <a:pt x="3466" y="4761"/>
                    <a:pt x="3523" y="4264"/>
                    <a:pt x="3876" y="3913"/>
                  </a:cubicBezTo>
                  <a:cubicBezTo>
                    <a:pt x="4108" y="3674"/>
                    <a:pt x="4258" y="3416"/>
                    <a:pt x="4320" y="3147"/>
                  </a:cubicBezTo>
                  <a:cubicBezTo>
                    <a:pt x="4346" y="3033"/>
                    <a:pt x="4357" y="2924"/>
                    <a:pt x="4357" y="2810"/>
                  </a:cubicBezTo>
                  <a:cubicBezTo>
                    <a:pt x="4357" y="2469"/>
                    <a:pt x="4238" y="2127"/>
                    <a:pt x="4015" y="1858"/>
                  </a:cubicBezTo>
                  <a:cubicBezTo>
                    <a:pt x="3730" y="1511"/>
                    <a:pt x="3311" y="1315"/>
                    <a:pt x="2840" y="1315"/>
                  </a:cubicBezTo>
                  <a:cubicBezTo>
                    <a:pt x="2365" y="1315"/>
                    <a:pt x="1951" y="1511"/>
                    <a:pt x="1661" y="1858"/>
                  </a:cubicBezTo>
                  <a:cubicBezTo>
                    <a:pt x="1443" y="2127"/>
                    <a:pt x="1324" y="2469"/>
                    <a:pt x="1324" y="2810"/>
                  </a:cubicBezTo>
                  <a:cubicBezTo>
                    <a:pt x="1324" y="2924"/>
                    <a:pt x="1335" y="3033"/>
                    <a:pt x="1360" y="3147"/>
                  </a:cubicBezTo>
                  <a:cubicBezTo>
                    <a:pt x="1422" y="3416"/>
                    <a:pt x="1557" y="3664"/>
                    <a:pt x="1753" y="3865"/>
                  </a:cubicBezTo>
                  <a:cubicBezTo>
                    <a:pt x="2084" y="4202"/>
                    <a:pt x="2178" y="4719"/>
                    <a:pt x="2204" y="4999"/>
                  </a:cubicBezTo>
                  <a:lnTo>
                    <a:pt x="2204" y="4999"/>
                  </a:lnTo>
                  <a:lnTo>
                    <a:pt x="2204" y="4999"/>
                  </a:lnTo>
                  <a:cubicBezTo>
                    <a:pt x="2204" y="4993"/>
                    <a:pt x="2204" y="4993"/>
                    <a:pt x="2204" y="4993"/>
                  </a:cubicBezTo>
                  <a:lnTo>
                    <a:pt x="2204" y="4993"/>
                  </a:lnTo>
                  <a:lnTo>
                    <a:pt x="2204" y="4993"/>
                  </a:lnTo>
                  <a:lnTo>
                    <a:pt x="2204" y="4993"/>
                  </a:lnTo>
                  <a:cubicBezTo>
                    <a:pt x="2126" y="4973"/>
                    <a:pt x="2043" y="4962"/>
                    <a:pt x="1966" y="4962"/>
                  </a:cubicBezTo>
                  <a:cubicBezTo>
                    <a:pt x="1743" y="4962"/>
                    <a:pt x="1531" y="5045"/>
                    <a:pt x="1376" y="5190"/>
                  </a:cubicBezTo>
                  <a:lnTo>
                    <a:pt x="1376" y="5190"/>
                  </a:lnTo>
                  <a:lnTo>
                    <a:pt x="1376" y="5190"/>
                  </a:lnTo>
                  <a:cubicBezTo>
                    <a:pt x="1397" y="5118"/>
                    <a:pt x="1407" y="5040"/>
                    <a:pt x="1407" y="4962"/>
                  </a:cubicBezTo>
                  <a:cubicBezTo>
                    <a:pt x="1407" y="4750"/>
                    <a:pt x="1329" y="4544"/>
                    <a:pt x="1169" y="4378"/>
                  </a:cubicBezTo>
                  <a:cubicBezTo>
                    <a:pt x="998" y="4207"/>
                    <a:pt x="775" y="4119"/>
                    <a:pt x="554" y="4119"/>
                  </a:cubicBezTo>
                  <a:cubicBezTo>
                    <a:pt x="486" y="4119"/>
                    <a:pt x="419" y="4129"/>
                    <a:pt x="352" y="4145"/>
                  </a:cubicBezTo>
                  <a:lnTo>
                    <a:pt x="352" y="4145"/>
                  </a:lnTo>
                  <a:lnTo>
                    <a:pt x="352" y="4145"/>
                  </a:lnTo>
                  <a:cubicBezTo>
                    <a:pt x="517" y="3990"/>
                    <a:pt x="615" y="3772"/>
                    <a:pt x="615" y="3540"/>
                  </a:cubicBezTo>
                  <a:cubicBezTo>
                    <a:pt x="615" y="3472"/>
                    <a:pt x="605" y="3405"/>
                    <a:pt x="590" y="3338"/>
                  </a:cubicBezTo>
                  <a:cubicBezTo>
                    <a:pt x="512" y="3043"/>
                    <a:pt x="279" y="2820"/>
                    <a:pt x="0" y="2737"/>
                  </a:cubicBezTo>
                  <a:lnTo>
                    <a:pt x="0" y="2737"/>
                  </a:lnTo>
                  <a:lnTo>
                    <a:pt x="0" y="2737"/>
                  </a:lnTo>
                  <a:cubicBezTo>
                    <a:pt x="290" y="2665"/>
                    <a:pt x="527" y="2454"/>
                    <a:pt x="615" y="2158"/>
                  </a:cubicBezTo>
                  <a:cubicBezTo>
                    <a:pt x="641" y="2081"/>
                    <a:pt x="652" y="1998"/>
                    <a:pt x="652" y="1925"/>
                  </a:cubicBezTo>
                  <a:cubicBezTo>
                    <a:pt x="652" y="1708"/>
                    <a:pt x="564" y="1501"/>
                    <a:pt x="419" y="1346"/>
                  </a:cubicBezTo>
                  <a:cubicBezTo>
                    <a:pt x="413" y="1346"/>
                    <a:pt x="413" y="1346"/>
                    <a:pt x="413" y="1346"/>
                  </a:cubicBezTo>
                  <a:lnTo>
                    <a:pt x="413" y="1346"/>
                  </a:lnTo>
                  <a:cubicBezTo>
                    <a:pt x="492" y="1367"/>
                    <a:pt x="574" y="1382"/>
                    <a:pt x="652" y="1382"/>
                  </a:cubicBezTo>
                  <a:cubicBezTo>
                    <a:pt x="869" y="1382"/>
                    <a:pt x="1081" y="1305"/>
                    <a:pt x="1247" y="1145"/>
                  </a:cubicBezTo>
                  <a:cubicBezTo>
                    <a:pt x="1422" y="978"/>
                    <a:pt x="1510" y="762"/>
                    <a:pt x="1510" y="539"/>
                  </a:cubicBezTo>
                  <a:cubicBezTo>
                    <a:pt x="1510" y="477"/>
                    <a:pt x="1505" y="410"/>
                    <a:pt x="1490" y="347"/>
                  </a:cubicBezTo>
                  <a:lnTo>
                    <a:pt x="1490" y="347"/>
                  </a:lnTo>
                  <a:cubicBezTo>
                    <a:pt x="1485" y="347"/>
                    <a:pt x="1485" y="347"/>
                    <a:pt x="1485" y="347"/>
                  </a:cubicBezTo>
                  <a:cubicBezTo>
                    <a:pt x="1645" y="508"/>
                    <a:pt x="1868" y="606"/>
                    <a:pt x="2105" y="606"/>
                  </a:cubicBezTo>
                  <a:cubicBezTo>
                    <a:pt x="2173" y="606"/>
                    <a:pt x="2240" y="595"/>
                    <a:pt x="2313" y="581"/>
                  </a:cubicBezTo>
                  <a:cubicBezTo>
                    <a:pt x="2617" y="508"/>
                    <a:pt x="2846" y="280"/>
                    <a:pt x="2929" y="6"/>
                  </a:cubicBezTo>
                  <a:lnTo>
                    <a:pt x="2929" y="6"/>
                  </a:lnTo>
                  <a:lnTo>
                    <a:pt x="2929" y="6"/>
                  </a:lnTo>
                  <a:cubicBezTo>
                    <a:pt x="3000" y="285"/>
                    <a:pt x="3218" y="523"/>
                    <a:pt x="3523" y="606"/>
                  </a:cubicBezTo>
                  <a:cubicBezTo>
                    <a:pt x="3601" y="627"/>
                    <a:pt x="3684" y="643"/>
                    <a:pt x="3761" y="643"/>
                  </a:cubicBezTo>
                  <a:cubicBezTo>
                    <a:pt x="3984" y="643"/>
                    <a:pt x="4196" y="554"/>
                    <a:pt x="4351" y="410"/>
                  </a:cubicBezTo>
                  <a:lnTo>
                    <a:pt x="4351" y="410"/>
                  </a:lnTo>
                  <a:lnTo>
                    <a:pt x="4351" y="410"/>
                  </a:lnTo>
                  <a:cubicBezTo>
                    <a:pt x="4330" y="487"/>
                    <a:pt x="4320" y="564"/>
                    <a:pt x="4320" y="643"/>
                  </a:cubicBezTo>
                  <a:cubicBezTo>
                    <a:pt x="4320" y="849"/>
                    <a:pt x="4398" y="1062"/>
                    <a:pt x="4558" y="1222"/>
                  </a:cubicBezTo>
                  <a:cubicBezTo>
                    <a:pt x="4729" y="1393"/>
                    <a:pt x="4952" y="1480"/>
                    <a:pt x="5179" y="1480"/>
                  </a:cubicBezTo>
                  <a:cubicBezTo>
                    <a:pt x="5241" y="1480"/>
                    <a:pt x="5308" y="1476"/>
                    <a:pt x="5376" y="1459"/>
                  </a:cubicBezTo>
                  <a:lnTo>
                    <a:pt x="5376" y="1459"/>
                  </a:lnTo>
                  <a:cubicBezTo>
                    <a:pt x="5376" y="1455"/>
                    <a:pt x="5376" y="1455"/>
                    <a:pt x="5376" y="1455"/>
                  </a:cubicBezTo>
                  <a:cubicBezTo>
                    <a:pt x="5210" y="1615"/>
                    <a:pt x="5112" y="1827"/>
                    <a:pt x="5112" y="2060"/>
                  </a:cubicBezTo>
                  <a:cubicBezTo>
                    <a:pt x="5112" y="2127"/>
                    <a:pt x="5122" y="2194"/>
                    <a:pt x="5138" y="2262"/>
                  </a:cubicBezTo>
                  <a:cubicBezTo>
                    <a:pt x="5215" y="2562"/>
                    <a:pt x="5443" y="2785"/>
                    <a:pt x="5728" y="2867"/>
                  </a:cubicBezTo>
                  <a:cubicBezTo>
                    <a:pt x="5728" y="2862"/>
                    <a:pt x="5728" y="2862"/>
                    <a:pt x="5728" y="286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72"/>
            <p:cNvSpPr/>
            <p:nvPr/>
          </p:nvSpPr>
          <p:spPr>
            <a:xfrm>
              <a:off x="10999440" y="6728400"/>
              <a:ext cx="157680" cy="88560"/>
            </a:xfrm>
            <a:custGeom>
              <a:avLst/>
              <a:gdLst/>
              <a:ahLst/>
              <a:rect l="l" t="t" r="r" b="b"/>
              <a:pathLst>
                <a:path w="1042" h="731">
                  <a:moveTo>
                    <a:pt x="943" y="0"/>
                  </a:moveTo>
                  <a:lnTo>
                    <a:pt x="943" y="0"/>
                  </a:lnTo>
                  <a:cubicBezTo>
                    <a:pt x="100" y="0"/>
                    <a:pt x="100" y="0"/>
                    <a:pt x="100" y="0"/>
                  </a:cubicBezTo>
                  <a:cubicBezTo>
                    <a:pt x="48" y="0"/>
                    <a:pt x="0" y="47"/>
                    <a:pt x="0" y="98"/>
                  </a:cubicBezTo>
                  <a:cubicBezTo>
                    <a:pt x="0" y="631"/>
                    <a:pt x="0" y="631"/>
                    <a:pt x="0" y="631"/>
                  </a:cubicBezTo>
                  <a:cubicBezTo>
                    <a:pt x="0" y="682"/>
                    <a:pt x="48" y="730"/>
                    <a:pt x="100" y="730"/>
                  </a:cubicBezTo>
                  <a:cubicBezTo>
                    <a:pt x="943" y="730"/>
                    <a:pt x="943" y="730"/>
                    <a:pt x="943" y="730"/>
                  </a:cubicBezTo>
                  <a:cubicBezTo>
                    <a:pt x="995" y="730"/>
                    <a:pt x="1041" y="682"/>
                    <a:pt x="1041" y="631"/>
                  </a:cubicBezTo>
                  <a:cubicBezTo>
                    <a:pt x="1041" y="98"/>
                    <a:pt x="1041" y="98"/>
                    <a:pt x="1041" y="98"/>
                  </a:cubicBezTo>
                  <a:cubicBezTo>
                    <a:pt x="1041" y="47"/>
                    <a:pt x="995" y="0"/>
                    <a:pt x="943" y="0"/>
                  </a:cubicBezTo>
                  <a:lnTo>
                    <a:pt x="622" y="103"/>
                  </a:lnTo>
                  <a:lnTo>
                    <a:pt x="622" y="103"/>
                  </a:lnTo>
                  <a:cubicBezTo>
                    <a:pt x="431" y="103"/>
                    <a:pt x="431" y="103"/>
                    <a:pt x="431" y="103"/>
                  </a:cubicBezTo>
                  <a:cubicBezTo>
                    <a:pt x="410" y="103"/>
                    <a:pt x="394" y="88"/>
                    <a:pt x="394" y="68"/>
                  </a:cubicBezTo>
                  <a:cubicBezTo>
                    <a:pt x="394" y="47"/>
                    <a:pt x="410" y="26"/>
                    <a:pt x="431" y="26"/>
                  </a:cubicBezTo>
                  <a:cubicBezTo>
                    <a:pt x="622" y="26"/>
                    <a:pt x="622" y="26"/>
                    <a:pt x="622" y="26"/>
                  </a:cubicBezTo>
                  <a:cubicBezTo>
                    <a:pt x="643" y="26"/>
                    <a:pt x="658" y="47"/>
                    <a:pt x="658" y="68"/>
                  </a:cubicBezTo>
                  <a:cubicBezTo>
                    <a:pt x="658" y="88"/>
                    <a:pt x="643" y="103"/>
                    <a:pt x="622" y="103"/>
                  </a:cubicBezTo>
                  <a:lnTo>
                    <a:pt x="943" y="0"/>
                  </a:lnTo>
                </a:path>
              </a:pathLst>
            </a:custGeom>
            <a:solidFill>
              <a:srgbClr val="5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73"/>
            <p:cNvSpPr/>
            <p:nvPr/>
          </p:nvSpPr>
          <p:spPr>
            <a:xfrm>
              <a:off x="11003760" y="6744240"/>
              <a:ext cx="149040" cy="69120"/>
            </a:xfrm>
            <a:custGeom>
              <a:avLst/>
              <a:gdLst/>
              <a:ahLst/>
              <a:rect l="l" t="t" r="r" b="b"/>
              <a:pathLst>
                <a:path w="989" h="575">
                  <a:moveTo>
                    <a:pt x="0" y="0"/>
                  </a:moveTo>
                  <a:lnTo>
                    <a:pt x="0" y="0"/>
                  </a:lnTo>
                  <a:cubicBezTo>
                    <a:pt x="0" y="502"/>
                    <a:pt x="0" y="502"/>
                    <a:pt x="0" y="502"/>
                  </a:cubicBezTo>
                  <a:cubicBezTo>
                    <a:pt x="0" y="543"/>
                    <a:pt x="31" y="574"/>
                    <a:pt x="73" y="574"/>
                  </a:cubicBezTo>
                  <a:cubicBezTo>
                    <a:pt x="916" y="574"/>
                    <a:pt x="916" y="574"/>
                    <a:pt x="916" y="574"/>
                  </a:cubicBezTo>
                  <a:cubicBezTo>
                    <a:pt x="957" y="574"/>
                    <a:pt x="988" y="543"/>
                    <a:pt x="988" y="502"/>
                  </a:cubicBezTo>
                  <a:cubicBezTo>
                    <a:pt x="988" y="0"/>
                    <a:pt x="988" y="0"/>
                    <a:pt x="988" y="0"/>
                  </a:cubicBezTo>
                  <a:lnTo>
                    <a:pt x="0" y="0"/>
                  </a:ln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74"/>
            <p:cNvSpPr/>
            <p:nvPr/>
          </p:nvSpPr>
          <p:spPr>
            <a:xfrm>
              <a:off x="11008800" y="6754680"/>
              <a:ext cx="49320" cy="46440"/>
            </a:xfrm>
            <a:custGeom>
              <a:avLst/>
              <a:gdLst/>
              <a:ahLst/>
              <a:rect l="l" t="t" r="r" b="b"/>
              <a:pathLst>
                <a:path w="332" h="384">
                  <a:moveTo>
                    <a:pt x="331" y="383"/>
                  </a:moveTo>
                  <a:lnTo>
                    <a:pt x="0" y="383"/>
                  </a:lnTo>
                  <a:lnTo>
                    <a:pt x="0" y="0"/>
                  </a:lnTo>
                  <a:lnTo>
                    <a:pt x="331" y="0"/>
                  </a:lnTo>
                  <a:lnTo>
                    <a:pt x="331" y="383"/>
                  </a:lnTo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75"/>
            <p:cNvSpPr/>
            <p:nvPr/>
          </p:nvSpPr>
          <p:spPr>
            <a:xfrm>
              <a:off x="11066760" y="6755400"/>
              <a:ext cx="78840" cy="12240"/>
            </a:xfrm>
            <a:custGeom>
              <a:avLst/>
              <a:gdLst/>
              <a:ahLst/>
              <a:rect l="l" t="t" r="r" b="b"/>
              <a:pathLst>
                <a:path w="523" h="105">
                  <a:moveTo>
                    <a:pt x="522" y="104"/>
                  </a:moveTo>
                  <a:lnTo>
                    <a:pt x="0" y="104"/>
                  </a:lnTo>
                  <a:lnTo>
                    <a:pt x="0" y="0"/>
                  </a:lnTo>
                  <a:lnTo>
                    <a:pt x="522" y="0"/>
                  </a:lnTo>
                  <a:lnTo>
                    <a:pt x="522" y="104"/>
                  </a:lnTo>
                </a:path>
              </a:pathLst>
            </a:custGeom>
            <a:solidFill>
              <a:srgbClr val="2e3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76"/>
            <p:cNvSpPr/>
            <p:nvPr/>
          </p:nvSpPr>
          <p:spPr>
            <a:xfrm>
              <a:off x="11075400" y="6770520"/>
              <a:ext cx="60480" cy="828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98" y="67"/>
                  </a:moveTo>
                  <a:lnTo>
                    <a:pt x="0" y="67"/>
                  </a:lnTo>
                  <a:lnTo>
                    <a:pt x="0" y="0"/>
                  </a:lnTo>
                  <a:lnTo>
                    <a:pt x="398" y="0"/>
                  </a:lnTo>
                  <a:lnTo>
                    <a:pt x="398" y="67"/>
                  </a:lnTo>
                </a:path>
              </a:pathLst>
            </a:custGeom>
            <a:solidFill>
              <a:srgbClr val="2e3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77"/>
            <p:cNvSpPr/>
            <p:nvPr/>
          </p:nvSpPr>
          <p:spPr>
            <a:xfrm>
              <a:off x="11066760" y="6804000"/>
              <a:ext cx="78840" cy="6840"/>
            </a:xfrm>
            <a:custGeom>
              <a:avLst/>
              <a:gdLst/>
              <a:ahLst/>
              <a:rect l="l" t="t" r="r" b="b"/>
              <a:pathLst>
                <a:path w="523" h="62">
                  <a:moveTo>
                    <a:pt x="52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522" y="0"/>
                  </a:lnTo>
                  <a:lnTo>
                    <a:pt x="522" y="61"/>
                  </a:lnTo>
                </a:path>
              </a:pathLst>
            </a:custGeom>
            <a:solidFill>
              <a:srgbClr val="2e3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78"/>
            <p:cNvSpPr/>
            <p:nvPr/>
          </p:nvSpPr>
          <p:spPr>
            <a:xfrm>
              <a:off x="11069640" y="6715800"/>
              <a:ext cx="17280" cy="23400"/>
            </a:xfrm>
            <a:custGeom>
              <a:avLst/>
              <a:gdLst/>
              <a:ahLst/>
              <a:rect l="l" t="t" r="r" b="b"/>
              <a:pathLst>
                <a:path w="116" h="192">
                  <a:moveTo>
                    <a:pt x="115" y="191"/>
                  </a:moveTo>
                  <a:lnTo>
                    <a:pt x="0" y="191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191"/>
                  </a:lnTo>
                </a:path>
              </a:pathLst>
            </a:custGeom>
            <a:solidFill>
              <a:srgbClr val="7b7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79"/>
            <p:cNvSpPr/>
            <p:nvPr/>
          </p:nvSpPr>
          <p:spPr>
            <a:xfrm>
              <a:off x="11069640" y="6715800"/>
              <a:ext cx="17280" cy="11520"/>
            </a:xfrm>
            <a:custGeom>
              <a:avLst/>
              <a:gdLst/>
              <a:ahLst/>
              <a:rect l="l" t="t" r="r" b="b"/>
              <a:pathLst>
                <a:path w="116" h="93">
                  <a:moveTo>
                    <a:pt x="115" y="92"/>
                  </a:moveTo>
                  <a:lnTo>
                    <a:pt x="0" y="92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92"/>
                  </a:lnTo>
                </a:path>
              </a:pathLst>
            </a:custGeom>
            <a:solidFill>
              <a:srgbClr val="67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Group 126" descr=""/>
          <p:cNvPicPr/>
          <p:nvPr/>
        </p:nvPicPr>
        <p:blipFill>
          <a:blip r:embed="rId1"/>
          <a:stretch/>
        </p:blipFill>
        <p:spPr>
          <a:xfrm>
            <a:off x="10563120" y="5315040"/>
            <a:ext cx="1541520" cy="8348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3" descr="图片1"/>
          <p:cNvPicPr/>
          <p:nvPr/>
        </p:nvPicPr>
        <p:blipFill>
          <a:blip r:embed="rId2"/>
          <a:stretch/>
        </p:blipFill>
        <p:spPr>
          <a:xfrm>
            <a:off x="-47520" y="-66600"/>
            <a:ext cx="12287160" cy="699120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1"/>
          <p:cNvSpPr/>
          <p:nvPr/>
        </p:nvSpPr>
        <p:spPr>
          <a:xfrm>
            <a:off x="-47520" y="4124160"/>
            <a:ext cx="12287160" cy="1322640"/>
          </a:xfrm>
          <a:prstGeom prst="rect">
            <a:avLst/>
          </a:prstGeom>
          <a:solidFill>
            <a:srgbClr val="f2f2f2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标题 1"/>
          <p:cNvSpPr/>
          <p:nvPr/>
        </p:nvSpPr>
        <p:spPr>
          <a:xfrm>
            <a:off x="4299120" y="4378320"/>
            <a:ext cx="3593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咸阳城东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2"/>
          <p:cNvSpPr/>
          <p:nvPr/>
        </p:nvSpPr>
        <p:spPr>
          <a:xfrm>
            <a:off x="1820880" y="1295280"/>
            <a:ext cx="812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上”表明触发诗人情感时间之短瞬，“万里”则极言愁思空间之迢遥广大，一个“愁”字，奠定了全诗的基调。笔触低沉，景致凄迷，触景生情，苍凉伤感的情怀落笔即出，意远而势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1"/>
          <p:cNvSpPr/>
          <p:nvPr/>
        </p:nvSpPr>
        <p:spPr>
          <a:xfrm>
            <a:off x="2797200" y="851040"/>
            <a:ext cx="666756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溪云初起日沉阁，山雨欲来风满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1955880" y="1747800"/>
            <a:ext cx="803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颔联写晚眺远景，寓意深远。这是对自然景物的临摹，也是对唐王朝日薄西山，危机四伏的没落局势的形象化勾画，它淋漓尽致而又形象传神地写出了诗人“万里愁”的真实原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" descr=""/>
          <p:cNvPicPr/>
          <p:nvPr/>
        </p:nvPicPr>
        <p:blipFill>
          <a:blip r:embed="rId1"/>
          <a:stretch/>
        </p:blipFill>
        <p:spPr>
          <a:xfrm>
            <a:off x="1976400" y="563400"/>
            <a:ext cx="7871040" cy="54676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3"/>
          <p:cNvSpPr/>
          <p:nvPr/>
        </p:nvSpPr>
        <p:spPr>
          <a:xfrm>
            <a:off x="1976400" y="62064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云起日沉，雨来风满，动感分明；“风为雨头”，含蕴深刻。此联常用来比喻重大事件发生前的紧张气氛，是千古传咏的名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2709720" y="995400"/>
            <a:ext cx="666756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鸟下绿芜秦苑夕，蝉鸣黄叶汉宫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1919160" y="1852560"/>
            <a:ext cx="811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颈联写晚眺近景，虚实结合：山雨将到，鸟雀仓惶逃入遍地绿芜、秋蝉悲鸣躲在黄叶高林。这些是诗人眼前的实景。但早已荡然无存的“秦苑”“汉宫”又给人无尽联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2"/>
          <p:cNvSpPr/>
          <p:nvPr/>
        </p:nvSpPr>
        <p:spPr>
          <a:xfrm>
            <a:off x="1952640" y="981000"/>
            <a:ext cx="8039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禁苑深宫，而今绿芜遍地，黄叶满林；唯有鸟雀和虫鸣，不识兴亡，依然如故。历史的演进，王朝的更替，世事的变化沧桑，把诗人的愁怨从“万里”推向“千古”，以实景叠合虚景，吊古之情油然而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2690640" y="1087560"/>
            <a:ext cx="668196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人莫问当年事，故国东来渭水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7"/>
          <p:cNvSpPr/>
          <p:nvPr/>
        </p:nvSpPr>
        <p:spPr>
          <a:xfrm>
            <a:off x="1835280" y="1990800"/>
            <a:ext cx="819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尾联作结，融情于景。“莫问”二字，并非劝诫之辞，实乃令人思索之语，它让读者从悲凉颓败的自然景物中钩沉历史的教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2"/>
          <p:cNvSpPr/>
          <p:nvPr/>
        </p:nvSpPr>
        <p:spPr>
          <a:xfrm>
            <a:off x="1690560" y="1270080"/>
            <a:ext cx="8123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个“流”字，则暗示出颓势难救的痛惜之情。渭水无语东流的景象中，融铸着诗人相思的忧愁和感古伤今的悲凉，委婉含蓄，令人伤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2"/>
          <p:cNvGrpSpPr/>
          <p:nvPr/>
        </p:nvGrpSpPr>
        <p:grpSpPr>
          <a:xfrm>
            <a:off x="38160" y="115920"/>
            <a:ext cx="3390840" cy="695160"/>
            <a:chOff x="38160" y="115920"/>
            <a:chExt cx="3390840" cy="695160"/>
          </a:xfrm>
        </p:grpSpPr>
        <p:pic>
          <p:nvPicPr>
            <p:cNvPr id="119" name="图片 33" descr=""/>
            <p:cNvPicPr/>
            <p:nvPr/>
          </p:nvPicPr>
          <p:blipFill>
            <a:blip r:embed="rId1"/>
            <a:stretch/>
          </p:blipFill>
          <p:spPr>
            <a:xfrm>
              <a:off x="38160" y="115920"/>
              <a:ext cx="872640" cy="5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文本框 8" descr=""/>
            <p:cNvPicPr/>
            <p:nvPr/>
          </p:nvPicPr>
          <p:blipFill>
            <a:blip r:embed="rId2"/>
            <a:stretch/>
          </p:blipFill>
          <p:spPr>
            <a:xfrm>
              <a:off x="853200" y="203400"/>
              <a:ext cx="2575800" cy="60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文本框 1"/>
          <p:cNvSpPr/>
          <p:nvPr/>
        </p:nvSpPr>
        <p:spPr>
          <a:xfrm>
            <a:off x="1876320" y="1773360"/>
            <a:ext cx="797400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此诗用云、日、风、雨层层推进，又以绿芜、黄叶来渲染，勾勒出一个萧条凄凉的意境，借秦苑、汉宫的荒废，抒发了对家国衰败的无限感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"/>
          <p:cNvSpPr/>
          <p:nvPr/>
        </p:nvSpPr>
        <p:spPr>
          <a:xfrm>
            <a:off x="1886040" y="949320"/>
            <a:ext cx="8116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全诗情景交融，景中寓情，诗人通过对景物的描写，赋予抽象的感情以形体，在呈现自然之景的同时又体现丰富的生活经验，以及对历史和现实的深刻思考。景别致而凄美，情愁苦而悲怆，意蕴藉而苍凉，境雄阔而高远，神完气足，为唐人登临诗篇之佳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1"/>
          <p:cNvGrpSpPr/>
          <p:nvPr/>
        </p:nvGrpSpPr>
        <p:grpSpPr>
          <a:xfrm>
            <a:off x="157320" y="130320"/>
            <a:ext cx="3271680" cy="680400"/>
            <a:chOff x="157320" y="130320"/>
            <a:chExt cx="3271680" cy="680400"/>
          </a:xfrm>
        </p:grpSpPr>
        <p:pic>
          <p:nvPicPr>
            <p:cNvPr id="84" name="文本框 13" descr=""/>
            <p:cNvPicPr/>
            <p:nvPr/>
          </p:nvPicPr>
          <p:blipFill>
            <a:blip r:embed="rId1"/>
            <a:stretch/>
          </p:blipFill>
          <p:spPr>
            <a:xfrm>
              <a:off x="853920" y="206640"/>
              <a:ext cx="2575080" cy="60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椭圆 52"/>
            <p:cNvSpPr/>
            <p:nvPr/>
          </p:nvSpPr>
          <p:spPr>
            <a:xfrm>
              <a:off x="157320" y="130320"/>
              <a:ext cx="510480" cy="483480"/>
            </a:xfrm>
            <a:custGeom>
              <a:avLst/>
              <a:gdLst/>
              <a:ahLst/>
              <a:rect l="l" t="t" r="r" b="b"/>
              <a:pathLst>
                <a:path w="273050" h="331788">
                  <a:moveTo>
                    <a:pt x="157163" y="44450"/>
                  </a:moveTo>
                  <a:lnTo>
                    <a:pt x="157163" y="149225"/>
                  </a:lnTo>
                  <a:cubicBezTo>
                    <a:pt x="157163" y="149225"/>
                    <a:pt x="157163" y="149225"/>
                    <a:pt x="179428" y="134997"/>
                  </a:cubicBezTo>
                  <a:cubicBezTo>
                    <a:pt x="180738" y="133703"/>
                    <a:pt x="182047" y="133703"/>
                    <a:pt x="183357" y="133703"/>
                  </a:cubicBezTo>
                  <a:cubicBezTo>
                    <a:pt x="184667" y="133703"/>
                    <a:pt x="185977" y="133703"/>
                    <a:pt x="187286" y="134997"/>
                  </a:cubicBezTo>
                  <a:cubicBezTo>
                    <a:pt x="187286" y="134997"/>
                    <a:pt x="187286" y="134997"/>
                    <a:pt x="209551" y="149225"/>
                  </a:cubicBezTo>
                  <a:cubicBezTo>
                    <a:pt x="209551" y="149225"/>
                    <a:pt x="209551" y="149225"/>
                    <a:pt x="209551" y="44450"/>
                  </a:cubicBezTo>
                  <a:cubicBezTo>
                    <a:pt x="209551" y="44450"/>
                    <a:pt x="209551" y="44450"/>
                    <a:pt x="157163" y="44450"/>
                  </a:cubicBezTo>
                  <a:close/>
                  <a:moveTo>
                    <a:pt x="21721" y="12700"/>
                  </a:moveTo>
                  <a:cubicBezTo>
                    <a:pt x="16566" y="12700"/>
                    <a:pt x="12700" y="16782"/>
                    <a:pt x="12700" y="22225"/>
                  </a:cubicBezTo>
                  <a:cubicBezTo>
                    <a:pt x="12700" y="27668"/>
                    <a:pt x="16566" y="31750"/>
                    <a:pt x="21721" y="31750"/>
                  </a:cubicBezTo>
                  <a:cubicBezTo>
                    <a:pt x="21721" y="31750"/>
                    <a:pt x="21721" y="31750"/>
                    <a:pt x="231775" y="31750"/>
                  </a:cubicBezTo>
                  <a:cubicBezTo>
                    <a:pt x="231775" y="31750"/>
                    <a:pt x="231775" y="31750"/>
                    <a:pt x="231775" y="12700"/>
                  </a:cubicBezTo>
                  <a:cubicBezTo>
                    <a:pt x="231775" y="12700"/>
                    <a:pt x="231775" y="12700"/>
                    <a:pt x="21721" y="12700"/>
                  </a:cubicBezTo>
                  <a:close/>
                  <a:moveTo>
                    <a:pt x="21895" y="0"/>
                  </a:moveTo>
                  <a:cubicBezTo>
                    <a:pt x="21895" y="0"/>
                    <a:pt x="21895" y="0"/>
                    <a:pt x="238275" y="0"/>
                  </a:cubicBezTo>
                  <a:cubicBezTo>
                    <a:pt x="242139" y="0"/>
                    <a:pt x="244715" y="2592"/>
                    <a:pt x="244715" y="6480"/>
                  </a:cubicBezTo>
                  <a:cubicBezTo>
                    <a:pt x="244715" y="6480"/>
                    <a:pt x="244715" y="6480"/>
                    <a:pt x="244715" y="31105"/>
                  </a:cubicBezTo>
                  <a:cubicBezTo>
                    <a:pt x="244715" y="31105"/>
                    <a:pt x="244715" y="31105"/>
                    <a:pt x="266610" y="31105"/>
                  </a:cubicBezTo>
                  <a:cubicBezTo>
                    <a:pt x="270474" y="31105"/>
                    <a:pt x="273050" y="33697"/>
                    <a:pt x="273050" y="37585"/>
                  </a:cubicBezTo>
                  <a:cubicBezTo>
                    <a:pt x="273050" y="37585"/>
                    <a:pt x="273050" y="37585"/>
                    <a:pt x="273050" y="325308"/>
                  </a:cubicBezTo>
                  <a:cubicBezTo>
                    <a:pt x="273050" y="329196"/>
                    <a:pt x="270474" y="331788"/>
                    <a:pt x="266610" y="331788"/>
                  </a:cubicBezTo>
                  <a:cubicBezTo>
                    <a:pt x="266610" y="331788"/>
                    <a:pt x="266610" y="331788"/>
                    <a:pt x="21895" y="331788"/>
                  </a:cubicBezTo>
                  <a:cubicBezTo>
                    <a:pt x="10304" y="331788"/>
                    <a:pt x="0" y="321420"/>
                    <a:pt x="0" y="309755"/>
                  </a:cubicBezTo>
                  <a:cubicBezTo>
                    <a:pt x="0" y="309755"/>
                    <a:pt x="0" y="309755"/>
                    <a:pt x="0" y="22033"/>
                  </a:cubicBezTo>
                  <a:cubicBezTo>
                    <a:pt x="0" y="10368"/>
                    <a:pt x="10304" y="0"/>
                    <a:pt x="21895" y="0"/>
                  </a:cubicBezTo>
                  <a:close/>
                </a:path>
              </a:pathLst>
            </a:custGeom>
            <a:solidFill>
              <a:srgbClr val="65c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文本框 2"/>
          <p:cNvSpPr/>
          <p:nvPr/>
        </p:nvSpPr>
        <p:spPr>
          <a:xfrm>
            <a:off x="2092320" y="1474920"/>
            <a:ext cx="4651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【许浑】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字用晦，丹阳（今属江苏）人，唐代诗人。晚年归丹阳丁卯桥村舍闲居，自编诗集，曰《丁卯集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7072200" y="1503360"/>
            <a:ext cx="2660760" cy="38829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"/>
          <p:cNvGrpSpPr/>
          <p:nvPr/>
        </p:nvGrpSpPr>
        <p:grpSpPr>
          <a:xfrm>
            <a:off x="95400" y="225360"/>
            <a:ext cx="3333240" cy="585720"/>
            <a:chOff x="95400" y="225360"/>
            <a:chExt cx="3333240" cy="585720"/>
          </a:xfrm>
        </p:grpSpPr>
        <p:pic>
          <p:nvPicPr>
            <p:cNvPr id="89" name="文本框 13" descr=""/>
            <p:cNvPicPr/>
            <p:nvPr/>
          </p:nvPicPr>
          <p:blipFill>
            <a:blip r:embed="rId1"/>
            <a:stretch/>
          </p:blipFill>
          <p:spPr>
            <a:xfrm>
              <a:off x="853560" y="227520"/>
              <a:ext cx="2575080" cy="5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Freeform 123"/>
            <p:cNvSpPr/>
            <p:nvPr/>
          </p:nvSpPr>
          <p:spPr>
            <a:xfrm>
              <a:off x="95400" y="225360"/>
              <a:ext cx="666720" cy="397440"/>
            </a:xfrm>
            <a:custGeom>
              <a:avLst/>
              <a:gdLst/>
              <a:ahLst/>
              <a:rect l="l" t="t" r="r" b="b"/>
              <a:pathLst>
                <a:path w="2040" h="1427">
                  <a:moveTo>
                    <a:pt x="1079" y="278"/>
                  </a:moveTo>
                  <a:lnTo>
                    <a:pt x="1079" y="278"/>
                  </a:lnTo>
                  <a:lnTo>
                    <a:pt x="1079" y="276"/>
                  </a:lnTo>
                  <a:lnTo>
                    <a:pt x="1077" y="275"/>
                  </a:lnTo>
                  <a:lnTo>
                    <a:pt x="1077" y="275"/>
                  </a:lnTo>
                  <a:lnTo>
                    <a:pt x="1077" y="278"/>
                  </a:lnTo>
                  <a:lnTo>
                    <a:pt x="1076" y="278"/>
                  </a:lnTo>
                  <a:lnTo>
                    <a:pt x="1076" y="275"/>
                  </a:lnTo>
                  <a:lnTo>
                    <a:pt x="1076" y="274"/>
                  </a:lnTo>
                  <a:lnTo>
                    <a:pt x="1077" y="273"/>
                  </a:lnTo>
                  <a:lnTo>
                    <a:pt x="1077" y="273"/>
                  </a:lnTo>
                  <a:lnTo>
                    <a:pt x="1078" y="271"/>
                  </a:lnTo>
                  <a:lnTo>
                    <a:pt x="1080" y="271"/>
                  </a:lnTo>
                  <a:lnTo>
                    <a:pt x="1081" y="271"/>
                  </a:lnTo>
                  <a:lnTo>
                    <a:pt x="1082" y="271"/>
                  </a:lnTo>
                  <a:lnTo>
                    <a:pt x="1082" y="270"/>
                  </a:lnTo>
                  <a:lnTo>
                    <a:pt x="1082" y="270"/>
                  </a:lnTo>
                  <a:lnTo>
                    <a:pt x="1081" y="269"/>
                  </a:lnTo>
                  <a:lnTo>
                    <a:pt x="1081" y="267"/>
                  </a:lnTo>
                  <a:lnTo>
                    <a:pt x="1084" y="263"/>
                  </a:lnTo>
                  <a:lnTo>
                    <a:pt x="1088" y="261"/>
                  </a:lnTo>
                  <a:lnTo>
                    <a:pt x="1091" y="259"/>
                  </a:lnTo>
                  <a:lnTo>
                    <a:pt x="1091" y="259"/>
                  </a:lnTo>
                  <a:lnTo>
                    <a:pt x="1093" y="253"/>
                  </a:lnTo>
                  <a:lnTo>
                    <a:pt x="1096" y="245"/>
                  </a:lnTo>
                  <a:lnTo>
                    <a:pt x="1105" y="231"/>
                  </a:lnTo>
                  <a:lnTo>
                    <a:pt x="1115" y="218"/>
                  </a:lnTo>
                  <a:lnTo>
                    <a:pt x="1125" y="206"/>
                  </a:lnTo>
                  <a:lnTo>
                    <a:pt x="1125" y="206"/>
                  </a:lnTo>
                  <a:lnTo>
                    <a:pt x="1127" y="198"/>
                  </a:lnTo>
                  <a:lnTo>
                    <a:pt x="1130" y="191"/>
                  </a:lnTo>
                  <a:lnTo>
                    <a:pt x="1133" y="183"/>
                  </a:lnTo>
                  <a:lnTo>
                    <a:pt x="1137" y="176"/>
                  </a:lnTo>
                  <a:lnTo>
                    <a:pt x="1147" y="162"/>
                  </a:lnTo>
                  <a:lnTo>
                    <a:pt x="1156" y="147"/>
                  </a:lnTo>
                  <a:lnTo>
                    <a:pt x="1166" y="133"/>
                  </a:lnTo>
                  <a:lnTo>
                    <a:pt x="1170" y="125"/>
                  </a:lnTo>
                  <a:lnTo>
                    <a:pt x="1173" y="117"/>
                  </a:lnTo>
                  <a:lnTo>
                    <a:pt x="1177" y="109"/>
                  </a:lnTo>
                  <a:lnTo>
                    <a:pt x="1178" y="101"/>
                  </a:lnTo>
                  <a:lnTo>
                    <a:pt x="1179" y="92"/>
                  </a:lnTo>
                  <a:lnTo>
                    <a:pt x="1179" y="84"/>
                  </a:lnTo>
                  <a:lnTo>
                    <a:pt x="1179" y="84"/>
                  </a:lnTo>
                  <a:lnTo>
                    <a:pt x="1181" y="82"/>
                  </a:lnTo>
                  <a:lnTo>
                    <a:pt x="1184" y="81"/>
                  </a:lnTo>
                  <a:lnTo>
                    <a:pt x="1186" y="78"/>
                  </a:lnTo>
                  <a:lnTo>
                    <a:pt x="1188" y="75"/>
                  </a:lnTo>
                  <a:lnTo>
                    <a:pt x="1190" y="71"/>
                  </a:lnTo>
                  <a:lnTo>
                    <a:pt x="1190" y="67"/>
                  </a:lnTo>
                  <a:lnTo>
                    <a:pt x="1190" y="63"/>
                  </a:lnTo>
                  <a:lnTo>
                    <a:pt x="1187" y="60"/>
                  </a:lnTo>
                  <a:lnTo>
                    <a:pt x="1187" y="60"/>
                  </a:lnTo>
                  <a:lnTo>
                    <a:pt x="1191" y="58"/>
                  </a:lnTo>
                  <a:lnTo>
                    <a:pt x="1193" y="56"/>
                  </a:lnTo>
                  <a:lnTo>
                    <a:pt x="1196" y="48"/>
                  </a:lnTo>
                  <a:lnTo>
                    <a:pt x="1199" y="39"/>
                  </a:lnTo>
                  <a:lnTo>
                    <a:pt x="1201" y="29"/>
                  </a:lnTo>
                  <a:lnTo>
                    <a:pt x="1203" y="19"/>
                  </a:lnTo>
                  <a:lnTo>
                    <a:pt x="1207" y="11"/>
                  </a:lnTo>
                  <a:lnTo>
                    <a:pt x="1210" y="3"/>
                  </a:lnTo>
                  <a:lnTo>
                    <a:pt x="1212" y="1"/>
                  </a:lnTo>
                  <a:lnTo>
                    <a:pt x="1214" y="0"/>
                  </a:lnTo>
                  <a:lnTo>
                    <a:pt x="1214" y="0"/>
                  </a:lnTo>
                  <a:lnTo>
                    <a:pt x="1221" y="5"/>
                  </a:lnTo>
                  <a:lnTo>
                    <a:pt x="1225" y="13"/>
                  </a:lnTo>
                  <a:lnTo>
                    <a:pt x="1228" y="21"/>
                  </a:lnTo>
                  <a:lnTo>
                    <a:pt x="1231" y="30"/>
                  </a:lnTo>
                  <a:lnTo>
                    <a:pt x="1235" y="50"/>
                  </a:lnTo>
                  <a:lnTo>
                    <a:pt x="1238" y="70"/>
                  </a:lnTo>
                  <a:lnTo>
                    <a:pt x="1238" y="70"/>
                  </a:lnTo>
                  <a:lnTo>
                    <a:pt x="1240" y="80"/>
                  </a:lnTo>
                  <a:lnTo>
                    <a:pt x="1244" y="91"/>
                  </a:lnTo>
                  <a:lnTo>
                    <a:pt x="1247" y="102"/>
                  </a:lnTo>
                  <a:lnTo>
                    <a:pt x="1250" y="111"/>
                  </a:lnTo>
                  <a:lnTo>
                    <a:pt x="1250" y="111"/>
                  </a:lnTo>
                  <a:lnTo>
                    <a:pt x="1252" y="128"/>
                  </a:lnTo>
                  <a:lnTo>
                    <a:pt x="1253" y="147"/>
                  </a:lnTo>
                  <a:lnTo>
                    <a:pt x="1254" y="186"/>
                  </a:lnTo>
                  <a:lnTo>
                    <a:pt x="1254" y="186"/>
                  </a:lnTo>
                  <a:lnTo>
                    <a:pt x="1255" y="236"/>
                  </a:lnTo>
                  <a:lnTo>
                    <a:pt x="1256" y="257"/>
                  </a:lnTo>
                  <a:lnTo>
                    <a:pt x="1259" y="275"/>
                  </a:lnTo>
                  <a:lnTo>
                    <a:pt x="1259" y="275"/>
                  </a:lnTo>
                  <a:lnTo>
                    <a:pt x="1252" y="320"/>
                  </a:lnTo>
                  <a:lnTo>
                    <a:pt x="1244" y="365"/>
                  </a:lnTo>
                  <a:lnTo>
                    <a:pt x="1233" y="408"/>
                  </a:lnTo>
                  <a:lnTo>
                    <a:pt x="1228" y="429"/>
                  </a:lnTo>
                  <a:lnTo>
                    <a:pt x="1222" y="450"/>
                  </a:lnTo>
                  <a:lnTo>
                    <a:pt x="1222" y="450"/>
                  </a:lnTo>
                  <a:lnTo>
                    <a:pt x="1250" y="424"/>
                  </a:lnTo>
                  <a:lnTo>
                    <a:pt x="1278" y="398"/>
                  </a:lnTo>
                  <a:lnTo>
                    <a:pt x="1308" y="373"/>
                  </a:lnTo>
                  <a:lnTo>
                    <a:pt x="1338" y="348"/>
                  </a:lnTo>
                  <a:lnTo>
                    <a:pt x="1338" y="348"/>
                  </a:lnTo>
                  <a:lnTo>
                    <a:pt x="1356" y="334"/>
                  </a:lnTo>
                  <a:lnTo>
                    <a:pt x="1364" y="327"/>
                  </a:lnTo>
                  <a:lnTo>
                    <a:pt x="1373" y="320"/>
                  </a:lnTo>
                  <a:lnTo>
                    <a:pt x="1373" y="320"/>
                  </a:lnTo>
                  <a:lnTo>
                    <a:pt x="1382" y="314"/>
                  </a:lnTo>
                  <a:lnTo>
                    <a:pt x="1393" y="309"/>
                  </a:lnTo>
                  <a:lnTo>
                    <a:pt x="1397" y="306"/>
                  </a:lnTo>
                  <a:lnTo>
                    <a:pt x="1403" y="304"/>
                  </a:lnTo>
                  <a:lnTo>
                    <a:pt x="1407" y="300"/>
                  </a:lnTo>
                  <a:lnTo>
                    <a:pt x="1410" y="294"/>
                  </a:lnTo>
                  <a:lnTo>
                    <a:pt x="1410" y="294"/>
                  </a:lnTo>
                  <a:lnTo>
                    <a:pt x="1411" y="296"/>
                  </a:lnTo>
                  <a:lnTo>
                    <a:pt x="1413" y="297"/>
                  </a:lnTo>
                  <a:lnTo>
                    <a:pt x="1415" y="296"/>
                  </a:lnTo>
                  <a:lnTo>
                    <a:pt x="1417" y="294"/>
                  </a:lnTo>
                  <a:lnTo>
                    <a:pt x="1417" y="294"/>
                  </a:lnTo>
                  <a:lnTo>
                    <a:pt x="1428" y="287"/>
                  </a:lnTo>
                  <a:lnTo>
                    <a:pt x="1439" y="281"/>
                  </a:lnTo>
                  <a:lnTo>
                    <a:pt x="1462" y="269"/>
                  </a:lnTo>
                  <a:lnTo>
                    <a:pt x="1484" y="258"/>
                  </a:lnTo>
                  <a:lnTo>
                    <a:pt x="1495" y="251"/>
                  </a:lnTo>
                  <a:lnTo>
                    <a:pt x="1505" y="243"/>
                  </a:lnTo>
                  <a:lnTo>
                    <a:pt x="1505" y="243"/>
                  </a:lnTo>
                  <a:lnTo>
                    <a:pt x="1519" y="239"/>
                  </a:lnTo>
                  <a:lnTo>
                    <a:pt x="1532" y="233"/>
                  </a:lnTo>
                  <a:lnTo>
                    <a:pt x="1557" y="223"/>
                  </a:lnTo>
                  <a:lnTo>
                    <a:pt x="1581" y="212"/>
                  </a:lnTo>
                  <a:lnTo>
                    <a:pt x="1593" y="207"/>
                  </a:lnTo>
                  <a:lnTo>
                    <a:pt x="1607" y="202"/>
                  </a:lnTo>
                  <a:lnTo>
                    <a:pt x="1607" y="202"/>
                  </a:lnTo>
                  <a:lnTo>
                    <a:pt x="1610" y="199"/>
                  </a:lnTo>
                  <a:lnTo>
                    <a:pt x="1615" y="196"/>
                  </a:lnTo>
                  <a:lnTo>
                    <a:pt x="1623" y="190"/>
                  </a:lnTo>
                  <a:lnTo>
                    <a:pt x="1623" y="190"/>
                  </a:lnTo>
                  <a:lnTo>
                    <a:pt x="1626" y="186"/>
                  </a:lnTo>
                  <a:lnTo>
                    <a:pt x="1630" y="182"/>
                  </a:lnTo>
                  <a:lnTo>
                    <a:pt x="1633" y="178"/>
                  </a:lnTo>
                  <a:lnTo>
                    <a:pt x="1636" y="173"/>
                  </a:lnTo>
                  <a:lnTo>
                    <a:pt x="1636" y="173"/>
                  </a:lnTo>
                  <a:lnTo>
                    <a:pt x="1639" y="171"/>
                  </a:lnTo>
                  <a:lnTo>
                    <a:pt x="1644" y="170"/>
                  </a:lnTo>
                  <a:lnTo>
                    <a:pt x="1647" y="169"/>
                  </a:lnTo>
                  <a:lnTo>
                    <a:pt x="1650" y="167"/>
                  </a:lnTo>
                  <a:lnTo>
                    <a:pt x="1650" y="167"/>
                  </a:lnTo>
                  <a:lnTo>
                    <a:pt x="1656" y="161"/>
                  </a:lnTo>
                  <a:lnTo>
                    <a:pt x="1662" y="154"/>
                  </a:lnTo>
                  <a:lnTo>
                    <a:pt x="1666" y="146"/>
                  </a:lnTo>
                  <a:lnTo>
                    <a:pt x="1670" y="137"/>
                  </a:lnTo>
                  <a:lnTo>
                    <a:pt x="1680" y="120"/>
                  </a:lnTo>
                  <a:lnTo>
                    <a:pt x="1688" y="103"/>
                  </a:lnTo>
                  <a:lnTo>
                    <a:pt x="1688" y="103"/>
                  </a:lnTo>
                  <a:lnTo>
                    <a:pt x="1688" y="96"/>
                  </a:lnTo>
                  <a:lnTo>
                    <a:pt x="1687" y="91"/>
                  </a:lnTo>
                  <a:lnTo>
                    <a:pt x="1687" y="86"/>
                  </a:lnTo>
                  <a:lnTo>
                    <a:pt x="1688" y="84"/>
                  </a:lnTo>
                  <a:lnTo>
                    <a:pt x="1691" y="81"/>
                  </a:lnTo>
                  <a:lnTo>
                    <a:pt x="1691" y="81"/>
                  </a:lnTo>
                  <a:lnTo>
                    <a:pt x="1696" y="82"/>
                  </a:lnTo>
                  <a:lnTo>
                    <a:pt x="1698" y="82"/>
                  </a:lnTo>
                  <a:lnTo>
                    <a:pt x="1701" y="81"/>
                  </a:lnTo>
                  <a:lnTo>
                    <a:pt x="1701" y="81"/>
                  </a:lnTo>
                  <a:lnTo>
                    <a:pt x="1705" y="97"/>
                  </a:lnTo>
                  <a:lnTo>
                    <a:pt x="1710" y="112"/>
                  </a:lnTo>
                  <a:lnTo>
                    <a:pt x="1714" y="127"/>
                  </a:lnTo>
                  <a:lnTo>
                    <a:pt x="1715" y="135"/>
                  </a:lnTo>
                  <a:lnTo>
                    <a:pt x="1715" y="142"/>
                  </a:lnTo>
                  <a:lnTo>
                    <a:pt x="1715" y="142"/>
                  </a:lnTo>
                  <a:lnTo>
                    <a:pt x="1730" y="138"/>
                  </a:lnTo>
                  <a:lnTo>
                    <a:pt x="1742" y="134"/>
                  </a:lnTo>
                  <a:lnTo>
                    <a:pt x="1753" y="130"/>
                  </a:lnTo>
                  <a:lnTo>
                    <a:pt x="1766" y="126"/>
                  </a:lnTo>
                  <a:lnTo>
                    <a:pt x="1766" y="126"/>
                  </a:lnTo>
                  <a:lnTo>
                    <a:pt x="1781" y="147"/>
                  </a:lnTo>
                  <a:lnTo>
                    <a:pt x="1787" y="157"/>
                  </a:lnTo>
                  <a:lnTo>
                    <a:pt x="1793" y="169"/>
                  </a:lnTo>
                  <a:lnTo>
                    <a:pt x="1793" y="169"/>
                  </a:lnTo>
                  <a:lnTo>
                    <a:pt x="1797" y="168"/>
                  </a:lnTo>
                  <a:lnTo>
                    <a:pt x="1800" y="167"/>
                  </a:lnTo>
                  <a:lnTo>
                    <a:pt x="1804" y="164"/>
                  </a:lnTo>
                  <a:lnTo>
                    <a:pt x="1809" y="161"/>
                  </a:lnTo>
                  <a:lnTo>
                    <a:pt x="1812" y="161"/>
                  </a:lnTo>
                  <a:lnTo>
                    <a:pt x="1814" y="162"/>
                  </a:lnTo>
                  <a:lnTo>
                    <a:pt x="1814" y="162"/>
                  </a:lnTo>
                  <a:lnTo>
                    <a:pt x="1816" y="163"/>
                  </a:lnTo>
                  <a:lnTo>
                    <a:pt x="1818" y="164"/>
                  </a:lnTo>
                  <a:lnTo>
                    <a:pt x="1820" y="167"/>
                  </a:lnTo>
                  <a:lnTo>
                    <a:pt x="1822" y="172"/>
                  </a:lnTo>
                  <a:lnTo>
                    <a:pt x="1823" y="179"/>
                  </a:lnTo>
                  <a:lnTo>
                    <a:pt x="1823" y="184"/>
                  </a:lnTo>
                  <a:lnTo>
                    <a:pt x="1824" y="190"/>
                  </a:lnTo>
                  <a:lnTo>
                    <a:pt x="1828" y="195"/>
                  </a:lnTo>
                  <a:lnTo>
                    <a:pt x="1829" y="196"/>
                  </a:lnTo>
                  <a:lnTo>
                    <a:pt x="1831" y="197"/>
                  </a:lnTo>
                  <a:lnTo>
                    <a:pt x="1831" y="197"/>
                  </a:lnTo>
                  <a:lnTo>
                    <a:pt x="1839" y="194"/>
                  </a:lnTo>
                  <a:lnTo>
                    <a:pt x="1847" y="191"/>
                  </a:lnTo>
                  <a:lnTo>
                    <a:pt x="1856" y="190"/>
                  </a:lnTo>
                  <a:lnTo>
                    <a:pt x="1860" y="191"/>
                  </a:lnTo>
                  <a:lnTo>
                    <a:pt x="1863" y="192"/>
                  </a:lnTo>
                  <a:lnTo>
                    <a:pt x="1863" y="192"/>
                  </a:lnTo>
                  <a:lnTo>
                    <a:pt x="1866" y="198"/>
                  </a:lnTo>
                  <a:lnTo>
                    <a:pt x="1867" y="206"/>
                  </a:lnTo>
                  <a:lnTo>
                    <a:pt x="1869" y="212"/>
                  </a:lnTo>
                  <a:lnTo>
                    <a:pt x="1869" y="219"/>
                  </a:lnTo>
                  <a:lnTo>
                    <a:pt x="1869" y="233"/>
                  </a:lnTo>
                  <a:lnTo>
                    <a:pt x="1867" y="248"/>
                  </a:lnTo>
                  <a:lnTo>
                    <a:pt x="1864" y="263"/>
                  </a:lnTo>
                  <a:lnTo>
                    <a:pt x="1861" y="278"/>
                  </a:lnTo>
                  <a:lnTo>
                    <a:pt x="1852" y="305"/>
                  </a:lnTo>
                  <a:lnTo>
                    <a:pt x="1852" y="305"/>
                  </a:lnTo>
                  <a:lnTo>
                    <a:pt x="1857" y="304"/>
                  </a:lnTo>
                  <a:lnTo>
                    <a:pt x="1862" y="304"/>
                  </a:lnTo>
                  <a:lnTo>
                    <a:pt x="1873" y="303"/>
                  </a:lnTo>
                  <a:lnTo>
                    <a:pt x="1884" y="303"/>
                  </a:lnTo>
                  <a:lnTo>
                    <a:pt x="1895" y="302"/>
                  </a:lnTo>
                  <a:lnTo>
                    <a:pt x="1895" y="302"/>
                  </a:lnTo>
                  <a:lnTo>
                    <a:pt x="1902" y="299"/>
                  </a:lnTo>
                  <a:lnTo>
                    <a:pt x="1908" y="296"/>
                  </a:lnTo>
                  <a:lnTo>
                    <a:pt x="1914" y="292"/>
                  </a:lnTo>
                  <a:lnTo>
                    <a:pt x="1917" y="292"/>
                  </a:lnTo>
                  <a:lnTo>
                    <a:pt x="1920" y="293"/>
                  </a:lnTo>
                  <a:lnTo>
                    <a:pt x="1920" y="293"/>
                  </a:lnTo>
                  <a:lnTo>
                    <a:pt x="1922" y="297"/>
                  </a:lnTo>
                  <a:lnTo>
                    <a:pt x="1922" y="301"/>
                  </a:lnTo>
                  <a:lnTo>
                    <a:pt x="1922" y="305"/>
                  </a:lnTo>
                  <a:lnTo>
                    <a:pt x="1921" y="309"/>
                  </a:lnTo>
                  <a:lnTo>
                    <a:pt x="1914" y="327"/>
                  </a:lnTo>
                  <a:lnTo>
                    <a:pt x="1914" y="327"/>
                  </a:lnTo>
                  <a:lnTo>
                    <a:pt x="1908" y="349"/>
                  </a:lnTo>
                  <a:lnTo>
                    <a:pt x="1902" y="372"/>
                  </a:lnTo>
                  <a:lnTo>
                    <a:pt x="1890" y="415"/>
                  </a:lnTo>
                  <a:lnTo>
                    <a:pt x="1890" y="415"/>
                  </a:lnTo>
                  <a:lnTo>
                    <a:pt x="1923" y="415"/>
                  </a:lnTo>
                  <a:lnTo>
                    <a:pt x="1954" y="413"/>
                  </a:lnTo>
                  <a:lnTo>
                    <a:pt x="2016" y="407"/>
                  </a:lnTo>
                  <a:lnTo>
                    <a:pt x="2016" y="407"/>
                  </a:lnTo>
                  <a:lnTo>
                    <a:pt x="2023" y="415"/>
                  </a:lnTo>
                  <a:lnTo>
                    <a:pt x="2029" y="423"/>
                  </a:lnTo>
                  <a:lnTo>
                    <a:pt x="2033" y="430"/>
                  </a:lnTo>
                  <a:lnTo>
                    <a:pt x="2036" y="438"/>
                  </a:lnTo>
                  <a:lnTo>
                    <a:pt x="2039" y="446"/>
                  </a:lnTo>
                  <a:lnTo>
                    <a:pt x="2040" y="456"/>
                  </a:lnTo>
                  <a:lnTo>
                    <a:pt x="2039" y="467"/>
                  </a:lnTo>
                  <a:lnTo>
                    <a:pt x="2038" y="480"/>
                  </a:lnTo>
                  <a:lnTo>
                    <a:pt x="2038" y="480"/>
                  </a:lnTo>
                  <a:lnTo>
                    <a:pt x="2034" y="494"/>
                  </a:lnTo>
                  <a:lnTo>
                    <a:pt x="2030" y="510"/>
                  </a:lnTo>
                  <a:lnTo>
                    <a:pt x="2027" y="526"/>
                  </a:lnTo>
                  <a:lnTo>
                    <a:pt x="2024" y="542"/>
                  </a:lnTo>
                  <a:lnTo>
                    <a:pt x="2024" y="542"/>
                  </a:lnTo>
                  <a:lnTo>
                    <a:pt x="2021" y="555"/>
                  </a:lnTo>
                  <a:lnTo>
                    <a:pt x="2021" y="567"/>
                  </a:lnTo>
                  <a:lnTo>
                    <a:pt x="2020" y="580"/>
                  </a:lnTo>
                  <a:lnTo>
                    <a:pt x="2019" y="593"/>
                  </a:lnTo>
                  <a:lnTo>
                    <a:pt x="2019" y="593"/>
                  </a:lnTo>
                  <a:lnTo>
                    <a:pt x="2017" y="603"/>
                  </a:lnTo>
                  <a:lnTo>
                    <a:pt x="2014" y="612"/>
                  </a:lnTo>
                  <a:lnTo>
                    <a:pt x="2011" y="622"/>
                  </a:lnTo>
                  <a:lnTo>
                    <a:pt x="2009" y="631"/>
                  </a:lnTo>
                  <a:lnTo>
                    <a:pt x="2009" y="631"/>
                  </a:lnTo>
                  <a:lnTo>
                    <a:pt x="2005" y="647"/>
                  </a:lnTo>
                  <a:lnTo>
                    <a:pt x="2002" y="661"/>
                  </a:lnTo>
                  <a:lnTo>
                    <a:pt x="1993" y="693"/>
                  </a:lnTo>
                  <a:lnTo>
                    <a:pt x="1993" y="693"/>
                  </a:lnTo>
                  <a:lnTo>
                    <a:pt x="1974" y="768"/>
                  </a:lnTo>
                  <a:lnTo>
                    <a:pt x="1956" y="844"/>
                  </a:lnTo>
                  <a:lnTo>
                    <a:pt x="1937" y="919"/>
                  </a:lnTo>
                  <a:lnTo>
                    <a:pt x="1919" y="991"/>
                  </a:lnTo>
                  <a:lnTo>
                    <a:pt x="1919" y="991"/>
                  </a:lnTo>
                  <a:lnTo>
                    <a:pt x="1911" y="1014"/>
                  </a:lnTo>
                  <a:lnTo>
                    <a:pt x="1905" y="1036"/>
                  </a:lnTo>
                  <a:lnTo>
                    <a:pt x="1898" y="1058"/>
                  </a:lnTo>
                  <a:lnTo>
                    <a:pt x="1895" y="1069"/>
                  </a:lnTo>
                  <a:lnTo>
                    <a:pt x="1893" y="1079"/>
                  </a:lnTo>
                  <a:lnTo>
                    <a:pt x="1893" y="1079"/>
                  </a:lnTo>
                  <a:lnTo>
                    <a:pt x="1886" y="1126"/>
                  </a:lnTo>
                  <a:lnTo>
                    <a:pt x="1881" y="1149"/>
                  </a:lnTo>
                  <a:lnTo>
                    <a:pt x="1877" y="1170"/>
                  </a:lnTo>
                  <a:lnTo>
                    <a:pt x="1872" y="1192"/>
                  </a:lnTo>
                  <a:lnTo>
                    <a:pt x="1865" y="1212"/>
                  </a:lnTo>
                  <a:lnTo>
                    <a:pt x="1859" y="1232"/>
                  </a:lnTo>
                  <a:lnTo>
                    <a:pt x="1850" y="1252"/>
                  </a:lnTo>
                  <a:lnTo>
                    <a:pt x="1850" y="1252"/>
                  </a:lnTo>
                  <a:lnTo>
                    <a:pt x="1846" y="1254"/>
                  </a:lnTo>
                  <a:lnTo>
                    <a:pt x="1841" y="1257"/>
                  </a:lnTo>
                  <a:lnTo>
                    <a:pt x="1834" y="1259"/>
                  </a:lnTo>
                  <a:lnTo>
                    <a:pt x="1830" y="1262"/>
                  </a:lnTo>
                  <a:lnTo>
                    <a:pt x="1830" y="1262"/>
                  </a:lnTo>
                  <a:lnTo>
                    <a:pt x="1812" y="1265"/>
                  </a:lnTo>
                  <a:lnTo>
                    <a:pt x="1792" y="1265"/>
                  </a:lnTo>
                  <a:lnTo>
                    <a:pt x="1773" y="1263"/>
                  </a:lnTo>
                  <a:lnTo>
                    <a:pt x="1753" y="1262"/>
                  </a:lnTo>
                  <a:lnTo>
                    <a:pt x="1753" y="1262"/>
                  </a:lnTo>
                  <a:lnTo>
                    <a:pt x="1733" y="1261"/>
                  </a:lnTo>
                  <a:lnTo>
                    <a:pt x="1715" y="1262"/>
                  </a:lnTo>
                  <a:lnTo>
                    <a:pt x="1697" y="1265"/>
                  </a:lnTo>
                  <a:lnTo>
                    <a:pt x="1679" y="1268"/>
                  </a:lnTo>
                  <a:lnTo>
                    <a:pt x="1642" y="1274"/>
                  </a:lnTo>
                  <a:lnTo>
                    <a:pt x="1624" y="1276"/>
                  </a:lnTo>
                  <a:lnTo>
                    <a:pt x="1607" y="1278"/>
                  </a:lnTo>
                  <a:lnTo>
                    <a:pt x="1607" y="1278"/>
                  </a:lnTo>
                  <a:lnTo>
                    <a:pt x="1593" y="1277"/>
                  </a:lnTo>
                  <a:lnTo>
                    <a:pt x="1579" y="1277"/>
                  </a:lnTo>
                  <a:lnTo>
                    <a:pt x="1573" y="1277"/>
                  </a:lnTo>
                  <a:lnTo>
                    <a:pt x="1568" y="1280"/>
                  </a:lnTo>
                  <a:lnTo>
                    <a:pt x="1561" y="1282"/>
                  </a:lnTo>
                  <a:lnTo>
                    <a:pt x="1556" y="1285"/>
                  </a:lnTo>
                  <a:lnTo>
                    <a:pt x="1556" y="1285"/>
                  </a:lnTo>
                  <a:lnTo>
                    <a:pt x="1428" y="1293"/>
                  </a:lnTo>
                  <a:lnTo>
                    <a:pt x="1294" y="1301"/>
                  </a:lnTo>
                  <a:lnTo>
                    <a:pt x="1294" y="1301"/>
                  </a:lnTo>
                  <a:lnTo>
                    <a:pt x="1224" y="1306"/>
                  </a:lnTo>
                  <a:lnTo>
                    <a:pt x="1188" y="1311"/>
                  </a:lnTo>
                  <a:lnTo>
                    <a:pt x="1153" y="1315"/>
                  </a:lnTo>
                  <a:lnTo>
                    <a:pt x="1118" y="1320"/>
                  </a:lnTo>
                  <a:lnTo>
                    <a:pt x="1084" y="1328"/>
                  </a:lnTo>
                  <a:lnTo>
                    <a:pt x="1050" y="1335"/>
                  </a:lnTo>
                  <a:lnTo>
                    <a:pt x="1018" y="1344"/>
                  </a:lnTo>
                  <a:lnTo>
                    <a:pt x="1018" y="1344"/>
                  </a:lnTo>
                  <a:lnTo>
                    <a:pt x="1012" y="1347"/>
                  </a:lnTo>
                  <a:lnTo>
                    <a:pt x="1012" y="1347"/>
                  </a:lnTo>
                  <a:lnTo>
                    <a:pt x="999" y="1354"/>
                  </a:lnTo>
                  <a:lnTo>
                    <a:pt x="987" y="1362"/>
                  </a:lnTo>
                  <a:lnTo>
                    <a:pt x="975" y="1369"/>
                  </a:lnTo>
                  <a:lnTo>
                    <a:pt x="969" y="1373"/>
                  </a:lnTo>
                  <a:lnTo>
                    <a:pt x="961" y="1374"/>
                  </a:lnTo>
                  <a:lnTo>
                    <a:pt x="961" y="1374"/>
                  </a:lnTo>
                  <a:lnTo>
                    <a:pt x="947" y="1376"/>
                  </a:lnTo>
                  <a:lnTo>
                    <a:pt x="929" y="1377"/>
                  </a:lnTo>
                  <a:lnTo>
                    <a:pt x="912" y="1377"/>
                  </a:lnTo>
                  <a:lnTo>
                    <a:pt x="896" y="1376"/>
                  </a:lnTo>
                  <a:lnTo>
                    <a:pt x="896" y="1376"/>
                  </a:lnTo>
                  <a:lnTo>
                    <a:pt x="887" y="1374"/>
                  </a:lnTo>
                  <a:lnTo>
                    <a:pt x="877" y="1371"/>
                  </a:lnTo>
                  <a:lnTo>
                    <a:pt x="867" y="1367"/>
                  </a:lnTo>
                  <a:lnTo>
                    <a:pt x="861" y="1367"/>
                  </a:lnTo>
                  <a:lnTo>
                    <a:pt x="861" y="1367"/>
                  </a:lnTo>
                  <a:lnTo>
                    <a:pt x="839" y="1368"/>
                  </a:lnTo>
                  <a:lnTo>
                    <a:pt x="817" y="1369"/>
                  </a:lnTo>
                  <a:lnTo>
                    <a:pt x="772" y="1371"/>
                  </a:lnTo>
                  <a:lnTo>
                    <a:pt x="772" y="1371"/>
                  </a:lnTo>
                  <a:lnTo>
                    <a:pt x="741" y="1372"/>
                  </a:lnTo>
                  <a:lnTo>
                    <a:pt x="712" y="1375"/>
                  </a:lnTo>
                  <a:lnTo>
                    <a:pt x="649" y="1384"/>
                  </a:lnTo>
                  <a:lnTo>
                    <a:pt x="649" y="1384"/>
                  </a:lnTo>
                  <a:lnTo>
                    <a:pt x="614" y="1389"/>
                  </a:lnTo>
                  <a:lnTo>
                    <a:pt x="578" y="1392"/>
                  </a:lnTo>
                  <a:lnTo>
                    <a:pt x="542" y="1394"/>
                  </a:lnTo>
                  <a:lnTo>
                    <a:pt x="506" y="1397"/>
                  </a:lnTo>
                  <a:lnTo>
                    <a:pt x="506" y="1397"/>
                  </a:lnTo>
                  <a:lnTo>
                    <a:pt x="448" y="1404"/>
                  </a:lnTo>
                  <a:lnTo>
                    <a:pt x="388" y="1410"/>
                  </a:lnTo>
                  <a:lnTo>
                    <a:pt x="328" y="1415"/>
                  </a:lnTo>
                  <a:lnTo>
                    <a:pt x="298" y="1418"/>
                  </a:lnTo>
                  <a:lnTo>
                    <a:pt x="267" y="1419"/>
                  </a:lnTo>
                  <a:lnTo>
                    <a:pt x="267" y="1419"/>
                  </a:lnTo>
                  <a:lnTo>
                    <a:pt x="252" y="1418"/>
                  </a:lnTo>
                  <a:lnTo>
                    <a:pt x="244" y="1417"/>
                  </a:lnTo>
                  <a:lnTo>
                    <a:pt x="237" y="1417"/>
                  </a:lnTo>
                  <a:lnTo>
                    <a:pt x="237" y="1417"/>
                  </a:lnTo>
                  <a:lnTo>
                    <a:pt x="216" y="1419"/>
                  </a:lnTo>
                  <a:lnTo>
                    <a:pt x="196" y="1422"/>
                  </a:lnTo>
                  <a:lnTo>
                    <a:pt x="177" y="1425"/>
                  </a:lnTo>
                  <a:lnTo>
                    <a:pt x="156" y="1427"/>
                  </a:lnTo>
                  <a:lnTo>
                    <a:pt x="156" y="1427"/>
                  </a:lnTo>
                  <a:lnTo>
                    <a:pt x="134" y="1427"/>
                  </a:lnTo>
                  <a:lnTo>
                    <a:pt x="110" y="1425"/>
                  </a:lnTo>
                  <a:lnTo>
                    <a:pt x="87" y="1423"/>
                  </a:lnTo>
                  <a:lnTo>
                    <a:pt x="64" y="1422"/>
                  </a:lnTo>
                  <a:lnTo>
                    <a:pt x="64" y="1422"/>
                  </a:lnTo>
                  <a:lnTo>
                    <a:pt x="50" y="1421"/>
                  </a:lnTo>
                  <a:lnTo>
                    <a:pt x="36" y="1419"/>
                  </a:lnTo>
                  <a:lnTo>
                    <a:pt x="24" y="1415"/>
                  </a:lnTo>
                  <a:lnTo>
                    <a:pt x="11" y="1411"/>
                  </a:lnTo>
                  <a:lnTo>
                    <a:pt x="11" y="1411"/>
                  </a:lnTo>
                  <a:lnTo>
                    <a:pt x="9" y="1404"/>
                  </a:lnTo>
                  <a:lnTo>
                    <a:pt x="6" y="1394"/>
                  </a:lnTo>
                  <a:lnTo>
                    <a:pt x="4" y="1386"/>
                  </a:lnTo>
                  <a:lnTo>
                    <a:pt x="2" y="1382"/>
                  </a:lnTo>
                  <a:lnTo>
                    <a:pt x="0" y="1379"/>
                  </a:lnTo>
                  <a:lnTo>
                    <a:pt x="0" y="1379"/>
                  </a:lnTo>
                  <a:lnTo>
                    <a:pt x="21" y="1335"/>
                  </a:lnTo>
                  <a:lnTo>
                    <a:pt x="43" y="1291"/>
                  </a:lnTo>
                  <a:lnTo>
                    <a:pt x="66" y="1250"/>
                  </a:lnTo>
                  <a:lnTo>
                    <a:pt x="89" y="1210"/>
                  </a:lnTo>
                  <a:lnTo>
                    <a:pt x="89" y="1210"/>
                  </a:lnTo>
                  <a:lnTo>
                    <a:pt x="71" y="1211"/>
                  </a:lnTo>
                  <a:lnTo>
                    <a:pt x="52" y="1213"/>
                  </a:lnTo>
                  <a:lnTo>
                    <a:pt x="35" y="1215"/>
                  </a:lnTo>
                  <a:lnTo>
                    <a:pt x="18" y="1215"/>
                  </a:lnTo>
                  <a:lnTo>
                    <a:pt x="18" y="1215"/>
                  </a:lnTo>
                  <a:lnTo>
                    <a:pt x="16" y="1208"/>
                  </a:lnTo>
                  <a:lnTo>
                    <a:pt x="17" y="1199"/>
                  </a:lnTo>
                  <a:lnTo>
                    <a:pt x="19" y="1192"/>
                  </a:lnTo>
                  <a:lnTo>
                    <a:pt x="22" y="1183"/>
                  </a:lnTo>
                  <a:lnTo>
                    <a:pt x="30" y="1168"/>
                  </a:lnTo>
                  <a:lnTo>
                    <a:pt x="37" y="1153"/>
                  </a:lnTo>
                  <a:lnTo>
                    <a:pt x="37" y="1153"/>
                  </a:lnTo>
                  <a:lnTo>
                    <a:pt x="32" y="1151"/>
                  </a:lnTo>
                  <a:lnTo>
                    <a:pt x="27" y="1150"/>
                  </a:lnTo>
                  <a:lnTo>
                    <a:pt x="21" y="1151"/>
                  </a:lnTo>
                  <a:lnTo>
                    <a:pt x="16" y="1151"/>
                  </a:lnTo>
                  <a:lnTo>
                    <a:pt x="12" y="1152"/>
                  </a:lnTo>
                  <a:lnTo>
                    <a:pt x="7" y="1152"/>
                  </a:lnTo>
                  <a:lnTo>
                    <a:pt x="4" y="1151"/>
                  </a:lnTo>
                  <a:lnTo>
                    <a:pt x="0" y="1148"/>
                  </a:lnTo>
                  <a:lnTo>
                    <a:pt x="0" y="1148"/>
                  </a:lnTo>
                  <a:lnTo>
                    <a:pt x="0" y="1140"/>
                  </a:lnTo>
                  <a:lnTo>
                    <a:pt x="2" y="1134"/>
                  </a:lnTo>
                  <a:lnTo>
                    <a:pt x="5" y="1129"/>
                  </a:lnTo>
                  <a:lnTo>
                    <a:pt x="10" y="1123"/>
                  </a:lnTo>
                  <a:lnTo>
                    <a:pt x="19" y="1112"/>
                  </a:lnTo>
                  <a:lnTo>
                    <a:pt x="24" y="1107"/>
                  </a:lnTo>
                  <a:lnTo>
                    <a:pt x="27" y="1101"/>
                  </a:lnTo>
                  <a:lnTo>
                    <a:pt x="27" y="1101"/>
                  </a:lnTo>
                  <a:lnTo>
                    <a:pt x="24" y="1101"/>
                  </a:lnTo>
                  <a:lnTo>
                    <a:pt x="19" y="1101"/>
                  </a:lnTo>
                  <a:lnTo>
                    <a:pt x="14" y="1099"/>
                  </a:lnTo>
                  <a:lnTo>
                    <a:pt x="12" y="1097"/>
                  </a:lnTo>
                  <a:lnTo>
                    <a:pt x="11" y="1095"/>
                  </a:lnTo>
                  <a:lnTo>
                    <a:pt x="11" y="1095"/>
                  </a:lnTo>
                  <a:lnTo>
                    <a:pt x="14" y="1086"/>
                  </a:lnTo>
                  <a:lnTo>
                    <a:pt x="17" y="1078"/>
                  </a:lnTo>
                  <a:lnTo>
                    <a:pt x="27" y="1064"/>
                  </a:lnTo>
                  <a:lnTo>
                    <a:pt x="36" y="1051"/>
                  </a:lnTo>
                  <a:lnTo>
                    <a:pt x="41" y="1044"/>
                  </a:lnTo>
                  <a:lnTo>
                    <a:pt x="45" y="1036"/>
                  </a:lnTo>
                  <a:lnTo>
                    <a:pt x="45" y="1036"/>
                  </a:lnTo>
                  <a:lnTo>
                    <a:pt x="36" y="1036"/>
                  </a:lnTo>
                  <a:lnTo>
                    <a:pt x="29" y="1036"/>
                  </a:lnTo>
                  <a:lnTo>
                    <a:pt x="25" y="1035"/>
                  </a:lnTo>
                  <a:lnTo>
                    <a:pt x="21" y="1034"/>
                  </a:lnTo>
                  <a:lnTo>
                    <a:pt x="18" y="1031"/>
                  </a:lnTo>
                  <a:lnTo>
                    <a:pt x="16" y="1027"/>
                  </a:lnTo>
                  <a:lnTo>
                    <a:pt x="16" y="1027"/>
                  </a:lnTo>
                  <a:lnTo>
                    <a:pt x="19" y="1020"/>
                  </a:lnTo>
                  <a:lnTo>
                    <a:pt x="22" y="1014"/>
                  </a:lnTo>
                  <a:lnTo>
                    <a:pt x="33" y="1004"/>
                  </a:lnTo>
                  <a:lnTo>
                    <a:pt x="37" y="999"/>
                  </a:lnTo>
                  <a:lnTo>
                    <a:pt x="42" y="994"/>
                  </a:lnTo>
                  <a:lnTo>
                    <a:pt x="46" y="987"/>
                  </a:lnTo>
                  <a:lnTo>
                    <a:pt x="48" y="980"/>
                  </a:lnTo>
                  <a:lnTo>
                    <a:pt x="48" y="980"/>
                  </a:lnTo>
                  <a:lnTo>
                    <a:pt x="51" y="980"/>
                  </a:lnTo>
                  <a:lnTo>
                    <a:pt x="54" y="979"/>
                  </a:lnTo>
                  <a:lnTo>
                    <a:pt x="55" y="976"/>
                  </a:lnTo>
                  <a:lnTo>
                    <a:pt x="57" y="975"/>
                  </a:lnTo>
                  <a:lnTo>
                    <a:pt x="57" y="975"/>
                  </a:lnTo>
                  <a:lnTo>
                    <a:pt x="72" y="953"/>
                  </a:lnTo>
                  <a:lnTo>
                    <a:pt x="87" y="932"/>
                  </a:lnTo>
                  <a:lnTo>
                    <a:pt x="119" y="891"/>
                  </a:lnTo>
                  <a:lnTo>
                    <a:pt x="135" y="869"/>
                  </a:lnTo>
                  <a:lnTo>
                    <a:pt x="151" y="849"/>
                  </a:lnTo>
                  <a:lnTo>
                    <a:pt x="166" y="827"/>
                  </a:lnTo>
                  <a:lnTo>
                    <a:pt x="180" y="803"/>
                  </a:lnTo>
                  <a:lnTo>
                    <a:pt x="180" y="803"/>
                  </a:lnTo>
                  <a:lnTo>
                    <a:pt x="182" y="802"/>
                  </a:lnTo>
                  <a:lnTo>
                    <a:pt x="184" y="800"/>
                  </a:lnTo>
                  <a:lnTo>
                    <a:pt x="186" y="799"/>
                  </a:lnTo>
                  <a:lnTo>
                    <a:pt x="191" y="798"/>
                  </a:lnTo>
                  <a:lnTo>
                    <a:pt x="191" y="798"/>
                  </a:lnTo>
                  <a:lnTo>
                    <a:pt x="210" y="766"/>
                  </a:lnTo>
                  <a:lnTo>
                    <a:pt x="215" y="757"/>
                  </a:lnTo>
                  <a:lnTo>
                    <a:pt x="221" y="751"/>
                  </a:lnTo>
                  <a:lnTo>
                    <a:pt x="227" y="743"/>
                  </a:lnTo>
                  <a:lnTo>
                    <a:pt x="234" y="738"/>
                  </a:lnTo>
                  <a:lnTo>
                    <a:pt x="234" y="738"/>
                  </a:lnTo>
                  <a:lnTo>
                    <a:pt x="252" y="708"/>
                  </a:lnTo>
                  <a:lnTo>
                    <a:pt x="269" y="681"/>
                  </a:lnTo>
                  <a:lnTo>
                    <a:pt x="304" y="630"/>
                  </a:lnTo>
                  <a:lnTo>
                    <a:pt x="321" y="603"/>
                  </a:lnTo>
                  <a:lnTo>
                    <a:pt x="337" y="576"/>
                  </a:lnTo>
                  <a:lnTo>
                    <a:pt x="353" y="546"/>
                  </a:lnTo>
                  <a:lnTo>
                    <a:pt x="368" y="514"/>
                  </a:lnTo>
                  <a:lnTo>
                    <a:pt x="368" y="514"/>
                  </a:lnTo>
                  <a:lnTo>
                    <a:pt x="372" y="512"/>
                  </a:lnTo>
                  <a:lnTo>
                    <a:pt x="374" y="511"/>
                  </a:lnTo>
                  <a:lnTo>
                    <a:pt x="380" y="512"/>
                  </a:lnTo>
                  <a:lnTo>
                    <a:pt x="380" y="512"/>
                  </a:lnTo>
                  <a:lnTo>
                    <a:pt x="398" y="484"/>
                  </a:lnTo>
                  <a:lnTo>
                    <a:pt x="417" y="456"/>
                  </a:lnTo>
                  <a:lnTo>
                    <a:pt x="436" y="429"/>
                  </a:lnTo>
                  <a:lnTo>
                    <a:pt x="453" y="402"/>
                  </a:lnTo>
                  <a:lnTo>
                    <a:pt x="453" y="402"/>
                  </a:lnTo>
                  <a:lnTo>
                    <a:pt x="456" y="402"/>
                  </a:lnTo>
                  <a:lnTo>
                    <a:pt x="458" y="403"/>
                  </a:lnTo>
                  <a:lnTo>
                    <a:pt x="460" y="406"/>
                  </a:lnTo>
                  <a:lnTo>
                    <a:pt x="464" y="409"/>
                  </a:lnTo>
                  <a:lnTo>
                    <a:pt x="465" y="410"/>
                  </a:lnTo>
                  <a:lnTo>
                    <a:pt x="468" y="410"/>
                  </a:lnTo>
                  <a:lnTo>
                    <a:pt x="468" y="410"/>
                  </a:lnTo>
                  <a:lnTo>
                    <a:pt x="482" y="408"/>
                  </a:lnTo>
                  <a:lnTo>
                    <a:pt x="497" y="406"/>
                  </a:lnTo>
                  <a:lnTo>
                    <a:pt x="513" y="405"/>
                  </a:lnTo>
                  <a:lnTo>
                    <a:pt x="529" y="405"/>
                  </a:lnTo>
                  <a:lnTo>
                    <a:pt x="562" y="406"/>
                  </a:lnTo>
                  <a:lnTo>
                    <a:pt x="595" y="409"/>
                  </a:lnTo>
                  <a:lnTo>
                    <a:pt x="595" y="409"/>
                  </a:lnTo>
                  <a:lnTo>
                    <a:pt x="647" y="412"/>
                  </a:lnTo>
                  <a:lnTo>
                    <a:pt x="698" y="413"/>
                  </a:lnTo>
                  <a:lnTo>
                    <a:pt x="748" y="415"/>
                  </a:lnTo>
                  <a:lnTo>
                    <a:pt x="797" y="420"/>
                  </a:lnTo>
                  <a:lnTo>
                    <a:pt x="797" y="420"/>
                  </a:lnTo>
                  <a:lnTo>
                    <a:pt x="815" y="424"/>
                  </a:lnTo>
                  <a:lnTo>
                    <a:pt x="834" y="428"/>
                  </a:lnTo>
                  <a:lnTo>
                    <a:pt x="878" y="436"/>
                  </a:lnTo>
                  <a:lnTo>
                    <a:pt x="902" y="440"/>
                  </a:lnTo>
                  <a:lnTo>
                    <a:pt x="924" y="444"/>
                  </a:lnTo>
                  <a:lnTo>
                    <a:pt x="948" y="450"/>
                  </a:lnTo>
                  <a:lnTo>
                    <a:pt x="969" y="456"/>
                  </a:lnTo>
                  <a:lnTo>
                    <a:pt x="969" y="456"/>
                  </a:lnTo>
                  <a:lnTo>
                    <a:pt x="985" y="429"/>
                  </a:lnTo>
                  <a:lnTo>
                    <a:pt x="993" y="414"/>
                  </a:lnTo>
                  <a:lnTo>
                    <a:pt x="999" y="399"/>
                  </a:lnTo>
                  <a:lnTo>
                    <a:pt x="999" y="399"/>
                  </a:lnTo>
                  <a:lnTo>
                    <a:pt x="1002" y="399"/>
                  </a:lnTo>
                  <a:lnTo>
                    <a:pt x="1004" y="399"/>
                  </a:lnTo>
                  <a:lnTo>
                    <a:pt x="1005" y="399"/>
                  </a:lnTo>
                  <a:lnTo>
                    <a:pt x="1008" y="398"/>
                  </a:lnTo>
                  <a:lnTo>
                    <a:pt x="1008" y="398"/>
                  </a:lnTo>
                  <a:lnTo>
                    <a:pt x="1026" y="368"/>
                  </a:lnTo>
                  <a:lnTo>
                    <a:pt x="1043" y="338"/>
                  </a:lnTo>
                  <a:lnTo>
                    <a:pt x="1061" y="308"/>
                  </a:lnTo>
                  <a:lnTo>
                    <a:pt x="1079" y="278"/>
                  </a:lnTo>
                  <a:lnTo>
                    <a:pt x="1079" y="278"/>
                  </a:lnTo>
                  <a:close/>
                  <a:moveTo>
                    <a:pt x="1042" y="789"/>
                  </a:moveTo>
                  <a:lnTo>
                    <a:pt x="1042" y="789"/>
                  </a:lnTo>
                  <a:lnTo>
                    <a:pt x="1046" y="778"/>
                  </a:lnTo>
                  <a:lnTo>
                    <a:pt x="1049" y="769"/>
                  </a:lnTo>
                  <a:lnTo>
                    <a:pt x="1056" y="748"/>
                  </a:lnTo>
                  <a:lnTo>
                    <a:pt x="1056" y="748"/>
                  </a:lnTo>
                  <a:lnTo>
                    <a:pt x="1063" y="726"/>
                  </a:lnTo>
                  <a:lnTo>
                    <a:pt x="1066" y="714"/>
                  </a:lnTo>
                  <a:lnTo>
                    <a:pt x="1067" y="710"/>
                  </a:lnTo>
                  <a:lnTo>
                    <a:pt x="1066" y="709"/>
                  </a:lnTo>
                  <a:lnTo>
                    <a:pt x="1066" y="709"/>
                  </a:lnTo>
                  <a:lnTo>
                    <a:pt x="1069" y="708"/>
                  </a:lnTo>
                  <a:lnTo>
                    <a:pt x="1070" y="706"/>
                  </a:lnTo>
                  <a:lnTo>
                    <a:pt x="1073" y="700"/>
                  </a:lnTo>
                  <a:lnTo>
                    <a:pt x="1075" y="692"/>
                  </a:lnTo>
                  <a:lnTo>
                    <a:pt x="1076" y="684"/>
                  </a:lnTo>
                  <a:lnTo>
                    <a:pt x="1076" y="684"/>
                  </a:lnTo>
                  <a:lnTo>
                    <a:pt x="1114" y="609"/>
                  </a:lnTo>
                  <a:lnTo>
                    <a:pt x="1152" y="535"/>
                  </a:lnTo>
                  <a:lnTo>
                    <a:pt x="1152" y="535"/>
                  </a:lnTo>
                  <a:lnTo>
                    <a:pt x="1156" y="533"/>
                  </a:lnTo>
                  <a:lnTo>
                    <a:pt x="1160" y="532"/>
                  </a:lnTo>
                  <a:lnTo>
                    <a:pt x="1163" y="531"/>
                  </a:lnTo>
                  <a:lnTo>
                    <a:pt x="1166" y="528"/>
                  </a:lnTo>
                  <a:lnTo>
                    <a:pt x="1166" y="528"/>
                  </a:lnTo>
                  <a:lnTo>
                    <a:pt x="1176" y="511"/>
                  </a:lnTo>
                  <a:lnTo>
                    <a:pt x="1185" y="495"/>
                  </a:lnTo>
                  <a:lnTo>
                    <a:pt x="1207" y="464"/>
                  </a:lnTo>
                  <a:lnTo>
                    <a:pt x="1207" y="464"/>
                  </a:lnTo>
                  <a:lnTo>
                    <a:pt x="1220" y="412"/>
                  </a:lnTo>
                  <a:lnTo>
                    <a:pt x="1229" y="359"/>
                  </a:lnTo>
                  <a:lnTo>
                    <a:pt x="1233" y="332"/>
                  </a:lnTo>
                  <a:lnTo>
                    <a:pt x="1238" y="304"/>
                  </a:lnTo>
                  <a:lnTo>
                    <a:pt x="1240" y="277"/>
                  </a:lnTo>
                  <a:lnTo>
                    <a:pt x="1242" y="249"/>
                  </a:lnTo>
                  <a:lnTo>
                    <a:pt x="1243" y="223"/>
                  </a:lnTo>
                  <a:lnTo>
                    <a:pt x="1243" y="195"/>
                  </a:lnTo>
                  <a:lnTo>
                    <a:pt x="1241" y="168"/>
                  </a:lnTo>
                  <a:lnTo>
                    <a:pt x="1239" y="142"/>
                  </a:lnTo>
                  <a:lnTo>
                    <a:pt x="1236" y="116"/>
                  </a:lnTo>
                  <a:lnTo>
                    <a:pt x="1230" y="90"/>
                  </a:lnTo>
                  <a:lnTo>
                    <a:pt x="1224" y="65"/>
                  </a:lnTo>
                  <a:lnTo>
                    <a:pt x="1216" y="41"/>
                  </a:lnTo>
                  <a:lnTo>
                    <a:pt x="1216" y="41"/>
                  </a:lnTo>
                  <a:lnTo>
                    <a:pt x="1210" y="54"/>
                  </a:lnTo>
                  <a:lnTo>
                    <a:pt x="1205" y="66"/>
                  </a:lnTo>
                  <a:lnTo>
                    <a:pt x="1196" y="92"/>
                  </a:lnTo>
                  <a:lnTo>
                    <a:pt x="1188" y="119"/>
                  </a:lnTo>
                  <a:lnTo>
                    <a:pt x="1181" y="143"/>
                  </a:lnTo>
                  <a:lnTo>
                    <a:pt x="1181" y="143"/>
                  </a:lnTo>
                  <a:lnTo>
                    <a:pt x="1176" y="154"/>
                  </a:lnTo>
                  <a:lnTo>
                    <a:pt x="1169" y="164"/>
                  </a:lnTo>
                  <a:lnTo>
                    <a:pt x="1157" y="183"/>
                  </a:lnTo>
                  <a:lnTo>
                    <a:pt x="1157" y="183"/>
                  </a:lnTo>
                  <a:lnTo>
                    <a:pt x="1155" y="187"/>
                  </a:lnTo>
                  <a:lnTo>
                    <a:pt x="1154" y="192"/>
                  </a:lnTo>
                  <a:lnTo>
                    <a:pt x="1153" y="196"/>
                  </a:lnTo>
                  <a:lnTo>
                    <a:pt x="1152" y="199"/>
                  </a:lnTo>
                  <a:lnTo>
                    <a:pt x="1152" y="199"/>
                  </a:lnTo>
                  <a:lnTo>
                    <a:pt x="1147" y="206"/>
                  </a:lnTo>
                  <a:lnTo>
                    <a:pt x="1141" y="212"/>
                  </a:lnTo>
                  <a:lnTo>
                    <a:pt x="1136" y="217"/>
                  </a:lnTo>
                  <a:lnTo>
                    <a:pt x="1131" y="224"/>
                  </a:lnTo>
                  <a:lnTo>
                    <a:pt x="1131" y="224"/>
                  </a:lnTo>
                  <a:lnTo>
                    <a:pt x="1101" y="270"/>
                  </a:lnTo>
                  <a:lnTo>
                    <a:pt x="1101" y="270"/>
                  </a:lnTo>
                  <a:lnTo>
                    <a:pt x="1091" y="285"/>
                  </a:lnTo>
                  <a:lnTo>
                    <a:pt x="1082" y="301"/>
                  </a:lnTo>
                  <a:lnTo>
                    <a:pt x="1074" y="316"/>
                  </a:lnTo>
                  <a:lnTo>
                    <a:pt x="1066" y="332"/>
                  </a:lnTo>
                  <a:lnTo>
                    <a:pt x="1066" y="332"/>
                  </a:lnTo>
                  <a:lnTo>
                    <a:pt x="1053" y="349"/>
                  </a:lnTo>
                  <a:lnTo>
                    <a:pt x="1041" y="366"/>
                  </a:lnTo>
                  <a:lnTo>
                    <a:pt x="1029" y="384"/>
                  </a:lnTo>
                  <a:lnTo>
                    <a:pt x="1017" y="404"/>
                  </a:lnTo>
                  <a:lnTo>
                    <a:pt x="996" y="442"/>
                  </a:lnTo>
                  <a:lnTo>
                    <a:pt x="984" y="461"/>
                  </a:lnTo>
                  <a:lnTo>
                    <a:pt x="972" y="480"/>
                  </a:lnTo>
                  <a:lnTo>
                    <a:pt x="972" y="480"/>
                  </a:lnTo>
                  <a:lnTo>
                    <a:pt x="973" y="482"/>
                  </a:lnTo>
                  <a:lnTo>
                    <a:pt x="973" y="484"/>
                  </a:lnTo>
                  <a:lnTo>
                    <a:pt x="972" y="487"/>
                  </a:lnTo>
                  <a:lnTo>
                    <a:pt x="971" y="490"/>
                  </a:lnTo>
                  <a:lnTo>
                    <a:pt x="970" y="493"/>
                  </a:lnTo>
                  <a:lnTo>
                    <a:pt x="971" y="496"/>
                  </a:lnTo>
                  <a:lnTo>
                    <a:pt x="971" y="496"/>
                  </a:lnTo>
                  <a:lnTo>
                    <a:pt x="947" y="533"/>
                  </a:lnTo>
                  <a:lnTo>
                    <a:pt x="922" y="572"/>
                  </a:lnTo>
                  <a:lnTo>
                    <a:pt x="910" y="591"/>
                  </a:lnTo>
                  <a:lnTo>
                    <a:pt x="899" y="610"/>
                  </a:lnTo>
                  <a:lnTo>
                    <a:pt x="889" y="631"/>
                  </a:lnTo>
                  <a:lnTo>
                    <a:pt x="880" y="650"/>
                  </a:lnTo>
                  <a:lnTo>
                    <a:pt x="880" y="650"/>
                  </a:lnTo>
                  <a:lnTo>
                    <a:pt x="884" y="669"/>
                  </a:lnTo>
                  <a:lnTo>
                    <a:pt x="890" y="686"/>
                  </a:lnTo>
                  <a:lnTo>
                    <a:pt x="896" y="703"/>
                  </a:lnTo>
                  <a:lnTo>
                    <a:pt x="902" y="720"/>
                  </a:lnTo>
                  <a:lnTo>
                    <a:pt x="902" y="720"/>
                  </a:lnTo>
                  <a:lnTo>
                    <a:pt x="909" y="752"/>
                  </a:lnTo>
                  <a:lnTo>
                    <a:pt x="913" y="783"/>
                  </a:lnTo>
                  <a:lnTo>
                    <a:pt x="917" y="814"/>
                  </a:lnTo>
                  <a:lnTo>
                    <a:pt x="919" y="845"/>
                  </a:lnTo>
                  <a:lnTo>
                    <a:pt x="919" y="877"/>
                  </a:lnTo>
                  <a:lnTo>
                    <a:pt x="918" y="908"/>
                  </a:lnTo>
                  <a:lnTo>
                    <a:pt x="914" y="971"/>
                  </a:lnTo>
                  <a:lnTo>
                    <a:pt x="910" y="1036"/>
                  </a:lnTo>
                  <a:lnTo>
                    <a:pt x="908" y="1069"/>
                  </a:lnTo>
                  <a:lnTo>
                    <a:pt x="907" y="1103"/>
                  </a:lnTo>
                  <a:lnTo>
                    <a:pt x="907" y="1136"/>
                  </a:lnTo>
                  <a:lnTo>
                    <a:pt x="908" y="1171"/>
                  </a:lnTo>
                  <a:lnTo>
                    <a:pt x="910" y="1207"/>
                  </a:lnTo>
                  <a:lnTo>
                    <a:pt x="913" y="1242"/>
                  </a:lnTo>
                  <a:lnTo>
                    <a:pt x="913" y="1242"/>
                  </a:lnTo>
                  <a:lnTo>
                    <a:pt x="936" y="1140"/>
                  </a:lnTo>
                  <a:lnTo>
                    <a:pt x="947" y="1091"/>
                  </a:lnTo>
                  <a:lnTo>
                    <a:pt x="958" y="1043"/>
                  </a:lnTo>
                  <a:lnTo>
                    <a:pt x="971" y="996"/>
                  </a:lnTo>
                  <a:lnTo>
                    <a:pt x="985" y="950"/>
                  </a:lnTo>
                  <a:lnTo>
                    <a:pt x="999" y="903"/>
                  </a:lnTo>
                  <a:lnTo>
                    <a:pt x="1015" y="857"/>
                  </a:lnTo>
                  <a:lnTo>
                    <a:pt x="1015" y="857"/>
                  </a:lnTo>
                  <a:lnTo>
                    <a:pt x="1017" y="854"/>
                  </a:lnTo>
                  <a:lnTo>
                    <a:pt x="1016" y="852"/>
                  </a:lnTo>
                  <a:lnTo>
                    <a:pt x="1014" y="850"/>
                  </a:lnTo>
                  <a:lnTo>
                    <a:pt x="1014" y="849"/>
                  </a:lnTo>
                  <a:lnTo>
                    <a:pt x="1013" y="848"/>
                  </a:lnTo>
                  <a:lnTo>
                    <a:pt x="1013" y="848"/>
                  </a:lnTo>
                  <a:lnTo>
                    <a:pt x="1018" y="849"/>
                  </a:lnTo>
                  <a:lnTo>
                    <a:pt x="1020" y="848"/>
                  </a:lnTo>
                  <a:lnTo>
                    <a:pt x="1020" y="844"/>
                  </a:lnTo>
                  <a:lnTo>
                    <a:pt x="1020" y="844"/>
                  </a:lnTo>
                  <a:lnTo>
                    <a:pt x="1030" y="821"/>
                  </a:lnTo>
                  <a:lnTo>
                    <a:pt x="1034" y="809"/>
                  </a:lnTo>
                  <a:lnTo>
                    <a:pt x="1039" y="798"/>
                  </a:lnTo>
                  <a:lnTo>
                    <a:pt x="1039" y="798"/>
                  </a:lnTo>
                  <a:lnTo>
                    <a:pt x="1038" y="797"/>
                  </a:lnTo>
                  <a:lnTo>
                    <a:pt x="1038" y="796"/>
                  </a:lnTo>
                  <a:lnTo>
                    <a:pt x="1036" y="798"/>
                  </a:lnTo>
                  <a:lnTo>
                    <a:pt x="1035" y="800"/>
                  </a:lnTo>
                  <a:lnTo>
                    <a:pt x="1035" y="800"/>
                  </a:lnTo>
                  <a:lnTo>
                    <a:pt x="1034" y="798"/>
                  </a:lnTo>
                  <a:lnTo>
                    <a:pt x="1034" y="798"/>
                  </a:lnTo>
                  <a:lnTo>
                    <a:pt x="1034" y="796"/>
                  </a:lnTo>
                  <a:lnTo>
                    <a:pt x="1035" y="794"/>
                  </a:lnTo>
                  <a:lnTo>
                    <a:pt x="1039" y="793"/>
                  </a:lnTo>
                  <a:lnTo>
                    <a:pt x="1042" y="792"/>
                  </a:lnTo>
                  <a:lnTo>
                    <a:pt x="1042" y="791"/>
                  </a:lnTo>
                  <a:lnTo>
                    <a:pt x="1042" y="789"/>
                  </a:lnTo>
                  <a:lnTo>
                    <a:pt x="1042" y="789"/>
                  </a:lnTo>
                  <a:close/>
                  <a:moveTo>
                    <a:pt x="1666" y="178"/>
                  </a:moveTo>
                  <a:lnTo>
                    <a:pt x="1666" y="178"/>
                  </a:lnTo>
                  <a:lnTo>
                    <a:pt x="1650" y="190"/>
                  </a:lnTo>
                  <a:lnTo>
                    <a:pt x="1634" y="201"/>
                  </a:lnTo>
                  <a:lnTo>
                    <a:pt x="1617" y="212"/>
                  </a:lnTo>
                  <a:lnTo>
                    <a:pt x="1599" y="222"/>
                  </a:lnTo>
                  <a:lnTo>
                    <a:pt x="1599" y="222"/>
                  </a:lnTo>
                  <a:lnTo>
                    <a:pt x="1572" y="231"/>
                  </a:lnTo>
                  <a:lnTo>
                    <a:pt x="1545" y="242"/>
                  </a:lnTo>
                  <a:lnTo>
                    <a:pt x="1520" y="254"/>
                  </a:lnTo>
                  <a:lnTo>
                    <a:pt x="1496" y="264"/>
                  </a:lnTo>
                  <a:lnTo>
                    <a:pt x="1471" y="277"/>
                  </a:lnTo>
                  <a:lnTo>
                    <a:pt x="1449" y="290"/>
                  </a:lnTo>
                  <a:lnTo>
                    <a:pt x="1426" y="303"/>
                  </a:lnTo>
                  <a:lnTo>
                    <a:pt x="1405" y="316"/>
                  </a:lnTo>
                  <a:lnTo>
                    <a:pt x="1405" y="316"/>
                  </a:lnTo>
                  <a:lnTo>
                    <a:pt x="1374" y="337"/>
                  </a:lnTo>
                  <a:lnTo>
                    <a:pt x="1344" y="360"/>
                  </a:lnTo>
                  <a:lnTo>
                    <a:pt x="1287" y="407"/>
                  </a:lnTo>
                  <a:lnTo>
                    <a:pt x="1287" y="407"/>
                  </a:lnTo>
                  <a:lnTo>
                    <a:pt x="1259" y="431"/>
                  </a:lnTo>
                  <a:lnTo>
                    <a:pt x="1245" y="443"/>
                  </a:lnTo>
                  <a:lnTo>
                    <a:pt x="1232" y="457"/>
                  </a:lnTo>
                  <a:lnTo>
                    <a:pt x="1221" y="470"/>
                  </a:lnTo>
                  <a:lnTo>
                    <a:pt x="1209" y="485"/>
                  </a:lnTo>
                  <a:lnTo>
                    <a:pt x="1198" y="500"/>
                  </a:lnTo>
                  <a:lnTo>
                    <a:pt x="1187" y="515"/>
                  </a:lnTo>
                  <a:lnTo>
                    <a:pt x="1187" y="515"/>
                  </a:lnTo>
                  <a:lnTo>
                    <a:pt x="1167" y="547"/>
                  </a:lnTo>
                  <a:lnTo>
                    <a:pt x="1147" y="577"/>
                  </a:lnTo>
                  <a:lnTo>
                    <a:pt x="1147" y="577"/>
                  </a:lnTo>
                  <a:lnTo>
                    <a:pt x="1139" y="589"/>
                  </a:lnTo>
                  <a:lnTo>
                    <a:pt x="1133" y="602"/>
                  </a:lnTo>
                  <a:lnTo>
                    <a:pt x="1120" y="629"/>
                  </a:lnTo>
                  <a:lnTo>
                    <a:pt x="1099" y="681"/>
                  </a:lnTo>
                  <a:lnTo>
                    <a:pt x="1099" y="681"/>
                  </a:lnTo>
                  <a:lnTo>
                    <a:pt x="1087" y="710"/>
                  </a:lnTo>
                  <a:lnTo>
                    <a:pt x="1075" y="740"/>
                  </a:lnTo>
                  <a:lnTo>
                    <a:pt x="1055" y="799"/>
                  </a:lnTo>
                  <a:lnTo>
                    <a:pt x="1033" y="858"/>
                  </a:lnTo>
                  <a:lnTo>
                    <a:pt x="1012" y="918"/>
                  </a:lnTo>
                  <a:lnTo>
                    <a:pt x="1012" y="918"/>
                  </a:lnTo>
                  <a:lnTo>
                    <a:pt x="999" y="952"/>
                  </a:lnTo>
                  <a:lnTo>
                    <a:pt x="988" y="986"/>
                  </a:lnTo>
                  <a:lnTo>
                    <a:pt x="978" y="1021"/>
                  </a:lnTo>
                  <a:lnTo>
                    <a:pt x="968" y="1058"/>
                  </a:lnTo>
                  <a:lnTo>
                    <a:pt x="950" y="1130"/>
                  </a:lnTo>
                  <a:lnTo>
                    <a:pt x="932" y="1203"/>
                  </a:lnTo>
                  <a:lnTo>
                    <a:pt x="932" y="1203"/>
                  </a:lnTo>
                  <a:lnTo>
                    <a:pt x="933" y="1209"/>
                  </a:lnTo>
                  <a:lnTo>
                    <a:pt x="933" y="1215"/>
                  </a:lnTo>
                  <a:lnTo>
                    <a:pt x="930" y="1227"/>
                  </a:lnTo>
                  <a:lnTo>
                    <a:pt x="929" y="1233"/>
                  </a:lnTo>
                  <a:lnTo>
                    <a:pt x="928" y="1239"/>
                  </a:lnTo>
                  <a:lnTo>
                    <a:pt x="928" y="1244"/>
                  </a:lnTo>
                  <a:lnTo>
                    <a:pt x="929" y="1250"/>
                  </a:lnTo>
                  <a:lnTo>
                    <a:pt x="929" y="1250"/>
                  </a:lnTo>
                  <a:lnTo>
                    <a:pt x="935" y="1236"/>
                  </a:lnTo>
                  <a:lnTo>
                    <a:pt x="939" y="1222"/>
                  </a:lnTo>
                  <a:lnTo>
                    <a:pt x="942" y="1215"/>
                  </a:lnTo>
                  <a:lnTo>
                    <a:pt x="947" y="1210"/>
                  </a:lnTo>
                  <a:lnTo>
                    <a:pt x="951" y="1206"/>
                  </a:lnTo>
                  <a:lnTo>
                    <a:pt x="956" y="1201"/>
                  </a:lnTo>
                  <a:lnTo>
                    <a:pt x="956" y="1201"/>
                  </a:lnTo>
                  <a:lnTo>
                    <a:pt x="974" y="1172"/>
                  </a:lnTo>
                  <a:lnTo>
                    <a:pt x="993" y="1142"/>
                  </a:lnTo>
                  <a:lnTo>
                    <a:pt x="1013" y="1115"/>
                  </a:lnTo>
                  <a:lnTo>
                    <a:pt x="1023" y="1102"/>
                  </a:lnTo>
                  <a:lnTo>
                    <a:pt x="1033" y="1090"/>
                  </a:lnTo>
                  <a:lnTo>
                    <a:pt x="1033" y="1090"/>
                  </a:lnTo>
                  <a:lnTo>
                    <a:pt x="1045" y="1077"/>
                  </a:lnTo>
                  <a:lnTo>
                    <a:pt x="1057" y="1065"/>
                  </a:lnTo>
                  <a:lnTo>
                    <a:pt x="1071" y="1053"/>
                  </a:lnTo>
                  <a:lnTo>
                    <a:pt x="1082" y="1040"/>
                  </a:lnTo>
                  <a:lnTo>
                    <a:pt x="1082" y="1040"/>
                  </a:lnTo>
                  <a:lnTo>
                    <a:pt x="1105" y="1013"/>
                  </a:lnTo>
                  <a:lnTo>
                    <a:pt x="1117" y="1000"/>
                  </a:lnTo>
                  <a:lnTo>
                    <a:pt x="1129" y="988"/>
                  </a:lnTo>
                  <a:lnTo>
                    <a:pt x="1129" y="988"/>
                  </a:lnTo>
                  <a:lnTo>
                    <a:pt x="1168" y="956"/>
                  </a:lnTo>
                  <a:lnTo>
                    <a:pt x="1210" y="924"/>
                  </a:lnTo>
                  <a:lnTo>
                    <a:pt x="1230" y="909"/>
                  </a:lnTo>
                  <a:lnTo>
                    <a:pt x="1253" y="895"/>
                  </a:lnTo>
                  <a:lnTo>
                    <a:pt x="1275" y="881"/>
                  </a:lnTo>
                  <a:lnTo>
                    <a:pt x="1298" y="868"/>
                  </a:lnTo>
                  <a:lnTo>
                    <a:pt x="1321" y="857"/>
                  </a:lnTo>
                  <a:lnTo>
                    <a:pt x="1347" y="846"/>
                  </a:lnTo>
                  <a:lnTo>
                    <a:pt x="1372" y="837"/>
                  </a:lnTo>
                  <a:lnTo>
                    <a:pt x="1398" y="829"/>
                  </a:lnTo>
                  <a:lnTo>
                    <a:pt x="1426" y="822"/>
                  </a:lnTo>
                  <a:lnTo>
                    <a:pt x="1454" y="818"/>
                  </a:lnTo>
                  <a:lnTo>
                    <a:pt x="1484" y="815"/>
                  </a:lnTo>
                  <a:lnTo>
                    <a:pt x="1515" y="814"/>
                  </a:lnTo>
                  <a:lnTo>
                    <a:pt x="1515" y="814"/>
                  </a:lnTo>
                  <a:lnTo>
                    <a:pt x="1518" y="783"/>
                  </a:lnTo>
                  <a:lnTo>
                    <a:pt x="1524" y="753"/>
                  </a:lnTo>
                  <a:lnTo>
                    <a:pt x="1529" y="723"/>
                  </a:lnTo>
                  <a:lnTo>
                    <a:pt x="1535" y="693"/>
                  </a:lnTo>
                  <a:lnTo>
                    <a:pt x="1542" y="664"/>
                  </a:lnTo>
                  <a:lnTo>
                    <a:pt x="1550" y="634"/>
                  </a:lnTo>
                  <a:lnTo>
                    <a:pt x="1568" y="572"/>
                  </a:lnTo>
                  <a:lnTo>
                    <a:pt x="1568" y="572"/>
                  </a:lnTo>
                  <a:lnTo>
                    <a:pt x="1579" y="536"/>
                  </a:lnTo>
                  <a:lnTo>
                    <a:pt x="1592" y="501"/>
                  </a:lnTo>
                  <a:lnTo>
                    <a:pt x="1618" y="431"/>
                  </a:lnTo>
                  <a:lnTo>
                    <a:pt x="1618" y="431"/>
                  </a:lnTo>
                  <a:lnTo>
                    <a:pt x="1625" y="413"/>
                  </a:lnTo>
                  <a:lnTo>
                    <a:pt x="1633" y="394"/>
                  </a:lnTo>
                  <a:lnTo>
                    <a:pt x="1650" y="358"/>
                  </a:lnTo>
                  <a:lnTo>
                    <a:pt x="1668" y="320"/>
                  </a:lnTo>
                  <a:lnTo>
                    <a:pt x="1684" y="283"/>
                  </a:lnTo>
                  <a:lnTo>
                    <a:pt x="1691" y="263"/>
                  </a:lnTo>
                  <a:lnTo>
                    <a:pt x="1697" y="244"/>
                  </a:lnTo>
                  <a:lnTo>
                    <a:pt x="1701" y="225"/>
                  </a:lnTo>
                  <a:lnTo>
                    <a:pt x="1705" y="206"/>
                  </a:lnTo>
                  <a:lnTo>
                    <a:pt x="1707" y="186"/>
                  </a:lnTo>
                  <a:lnTo>
                    <a:pt x="1707" y="166"/>
                  </a:lnTo>
                  <a:lnTo>
                    <a:pt x="1705" y="147"/>
                  </a:lnTo>
                  <a:lnTo>
                    <a:pt x="1699" y="126"/>
                  </a:lnTo>
                  <a:lnTo>
                    <a:pt x="1699" y="126"/>
                  </a:lnTo>
                  <a:lnTo>
                    <a:pt x="1699" y="124"/>
                  </a:lnTo>
                  <a:lnTo>
                    <a:pt x="1698" y="124"/>
                  </a:lnTo>
                  <a:lnTo>
                    <a:pt x="1698" y="124"/>
                  </a:lnTo>
                  <a:lnTo>
                    <a:pt x="1695" y="132"/>
                  </a:lnTo>
                  <a:lnTo>
                    <a:pt x="1691" y="139"/>
                  </a:lnTo>
                  <a:lnTo>
                    <a:pt x="1682" y="151"/>
                  </a:lnTo>
                  <a:lnTo>
                    <a:pt x="1674" y="164"/>
                  </a:lnTo>
                  <a:lnTo>
                    <a:pt x="1669" y="170"/>
                  </a:lnTo>
                  <a:lnTo>
                    <a:pt x="1666" y="178"/>
                  </a:lnTo>
                  <a:lnTo>
                    <a:pt x="1666" y="178"/>
                  </a:lnTo>
                  <a:close/>
                  <a:moveTo>
                    <a:pt x="1717" y="151"/>
                  </a:moveTo>
                  <a:lnTo>
                    <a:pt x="1717" y="151"/>
                  </a:lnTo>
                  <a:lnTo>
                    <a:pt x="1720" y="170"/>
                  </a:lnTo>
                  <a:lnTo>
                    <a:pt x="1720" y="188"/>
                  </a:lnTo>
                  <a:lnTo>
                    <a:pt x="1718" y="206"/>
                  </a:lnTo>
                  <a:lnTo>
                    <a:pt x="1716" y="223"/>
                  </a:lnTo>
                  <a:lnTo>
                    <a:pt x="1713" y="240"/>
                  </a:lnTo>
                  <a:lnTo>
                    <a:pt x="1709" y="256"/>
                  </a:lnTo>
                  <a:lnTo>
                    <a:pt x="1703" y="272"/>
                  </a:lnTo>
                  <a:lnTo>
                    <a:pt x="1698" y="287"/>
                  </a:lnTo>
                  <a:lnTo>
                    <a:pt x="1685" y="318"/>
                  </a:lnTo>
                  <a:lnTo>
                    <a:pt x="1670" y="347"/>
                  </a:lnTo>
                  <a:lnTo>
                    <a:pt x="1655" y="377"/>
                  </a:lnTo>
                  <a:lnTo>
                    <a:pt x="1641" y="407"/>
                  </a:lnTo>
                  <a:lnTo>
                    <a:pt x="1641" y="407"/>
                  </a:lnTo>
                  <a:lnTo>
                    <a:pt x="1632" y="430"/>
                  </a:lnTo>
                  <a:lnTo>
                    <a:pt x="1623" y="454"/>
                  </a:lnTo>
                  <a:lnTo>
                    <a:pt x="1607" y="503"/>
                  </a:lnTo>
                  <a:lnTo>
                    <a:pt x="1607" y="503"/>
                  </a:lnTo>
                  <a:lnTo>
                    <a:pt x="1581" y="580"/>
                  </a:lnTo>
                  <a:lnTo>
                    <a:pt x="1570" y="620"/>
                  </a:lnTo>
                  <a:lnTo>
                    <a:pt x="1558" y="660"/>
                  </a:lnTo>
                  <a:lnTo>
                    <a:pt x="1547" y="700"/>
                  </a:lnTo>
                  <a:lnTo>
                    <a:pt x="1539" y="742"/>
                  </a:lnTo>
                  <a:lnTo>
                    <a:pt x="1531" y="785"/>
                  </a:lnTo>
                  <a:lnTo>
                    <a:pt x="1526" y="829"/>
                  </a:lnTo>
                  <a:lnTo>
                    <a:pt x="1526" y="829"/>
                  </a:lnTo>
                  <a:lnTo>
                    <a:pt x="1498" y="830"/>
                  </a:lnTo>
                  <a:lnTo>
                    <a:pt x="1470" y="831"/>
                  </a:lnTo>
                  <a:lnTo>
                    <a:pt x="1417" y="833"/>
                  </a:lnTo>
                  <a:lnTo>
                    <a:pt x="1417" y="833"/>
                  </a:lnTo>
                  <a:lnTo>
                    <a:pt x="1391" y="842"/>
                  </a:lnTo>
                  <a:lnTo>
                    <a:pt x="1365" y="851"/>
                  </a:lnTo>
                  <a:lnTo>
                    <a:pt x="1339" y="862"/>
                  </a:lnTo>
                  <a:lnTo>
                    <a:pt x="1315" y="874"/>
                  </a:lnTo>
                  <a:lnTo>
                    <a:pt x="1291" y="887"/>
                  </a:lnTo>
                  <a:lnTo>
                    <a:pt x="1268" y="899"/>
                  </a:lnTo>
                  <a:lnTo>
                    <a:pt x="1245" y="913"/>
                  </a:lnTo>
                  <a:lnTo>
                    <a:pt x="1223" y="927"/>
                  </a:lnTo>
                  <a:lnTo>
                    <a:pt x="1223" y="927"/>
                  </a:lnTo>
                  <a:lnTo>
                    <a:pt x="1207" y="940"/>
                  </a:lnTo>
                  <a:lnTo>
                    <a:pt x="1192" y="954"/>
                  </a:lnTo>
                  <a:lnTo>
                    <a:pt x="1165" y="980"/>
                  </a:lnTo>
                  <a:lnTo>
                    <a:pt x="1165" y="980"/>
                  </a:lnTo>
                  <a:lnTo>
                    <a:pt x="1154" y="987"/>
                  </a:lnTo>
                  <a:lnTo>
                    <a:pt x="1145" y="995"/>
                  </a:lnTo>
                  <a:lnTo>
                    <a:pt x="1135" y="1001"/>
                  </a:lnTo>
                  <a:lnTo>
                    <a:pt x="1125" y="1010"/>
                  </a:lnTo>
                  <a:lnTo>
                    <a:pt x="1125" y="1010"/>
                  </a:lnTo>
                  <a:lnTo>
                    <a:pt x="1117" y="1018"/>
                  </a:lnTo>
                  <a:lnTo>
                    <a:pt x="1108" y="1028"/>
                  </a:lnTo>
                  <a:lnTo>
                    <a:pt x="1091" y="1047"/>
                  </a:lnTo>
                  <a:lnTo>
                    <a:pt x="1091" y="1047"/>
                  </a:lnTo>
                  <a:lnTo>
                    <a:pt x="1056" y="1082"/>
                  </a:lnTo>
                  <a:lnTo>
                    <a:pt x="1039" y="1101"/>
                  </a:lnTo>
                  <a:lnTo>
                    <a:pt x="1023" y="1120"/>
                  </a:lnTo>
                  <a:lnTo>
                    <a:pt x="1023" y="1120"/>
                  </a:lnTo>
                  <a:lnTo>
                    <a:pt x="1008" y="1140"/>
                  </a:lnTo>
                  <a:lnTo>
                    <a:pt x="993" y="1161"/>
                  </a:lnTo>
                  <a:lnTo>
                    <a:pt x="979" y="1182"/>
                  </a:lnTo>
                  <a:lnTo>
                    <a:pt x="965" y="1205"/>
                  </a:lnTo>
                  <a:lnTo>
                    <a:pt x="952" y="1226"/>
                  </a:lnTo>
                  <a:lnTo>
                    <a:pt x="940" y="1250"/>
                  </a:lnTo>
                  <a:lnTo>
                    <a:pt x="928" y="1272"/>
                  </a:lnTo>
                  <a:lnTo>
                    <a:pt x="918" y="1296"/>
                  </a:lnTo>
                  <a:lnTo>
                    <a:pt x="918" y="1296"/>
                  </a:lnTo>
                  <a:lnTo>
                    <a:pt x="923" y="1290"/>
                  </a:lnTo>
                  <a:lnTo>
                    <a:pt x="928" y="1284"/>
                  </a:lnTo>
                  <a:lnTo>
                    <a:pt x="933" y="1275"/>
                  </a:lnTo>
                  <a:lnTo>
                    <a:pt x="937" y="1268"/>
                  </a:lnTo>
                  <a:lnTo>
                    <a:pt x="944" y="1251"/>
                  </a:lnTo>
                  <a:lnTo>
                    <a:pt x="953" y="1233"/>
                  </a:lnTo>
                  <a:lnTo>
                    <a:pt x="953" y="1233"/>
                  </a:lnTo>
                  <a:lnTo>
                    <a:pt x="959" y="1225"/>
                  </a:lnTo>
                  <a:lnTo>
                    <a:pt x="967" y="1216"/>
                  </a:lnTo>
                  <a:lnTo>
                    <a:pt x="975" y="1208"/>
                  </a:lnTo>
                  <a:lnTo>
                    <a:pt x="983" y="1200"/>
                  </a:lnTo>
                  <a:lnTo>
                    <a:pt x="983" y="1200"/>
                  </a:lnTo>
                  <a:lnTo>
                    <a:pt x="998" y="1179"/>
                  </a:lnTo>
                  <a:lnTo>
                    <a:pt x="1013" y="1157"/>
                  </a:lnTo>
                  <a:lnTo>
                    <a:pt x="1013" y="1157"/>
                  </a:lnTo>
                  <a:lnTo>
                    <a:pt x="1020" y="1147"/>
                  </a:lnTo>
                  <a:lnTo>
                    <a:pt x="1028" y="1136"/>
                  </a:lnTo>
                  <a:lnTo>
                    <a:pt x="1032" y="1131"/>
                  </a:lnTo>
                  <a:lnTo>
                    <a:pt x="1036" y="1126"/>
                  </a:lnTo>
                  <a:lnTo>
                    <a:pt x="1042" y="1123"/>
                  </a:lnTo>
                  <a:lnTo>
                    <a:pt x="1047" y="1121"/>
                  </a:lnTo>
                  <a:lnTo>
                    <a:pt x="1047" y="1121"/>
                  </a:lnTo>
                  <a:lnTo>
                    <a:pt x="1038" y="1138"/>
                  </a:lnTo>
                  <a:lnTo>
                    <a:pt x="1027" y="1153"/>
                  </a:lnTo>
                  <a:lnTo>
                    <a:pt x="1003" y="1184"/>
                  </a:lnTo>
                  <a:lnTo>
                    <a:pt x="980" y="1214"/>
                  </a:lnTo>
                  <a:lnTo>
                    <a:pt x="969" y="1230"/>
                  </a:lnTo>
                  <a:lnTo>
                    <a:pt x="960" y="1246"/>
                  </a:lnTo>
                  <a:lnTo>
                    <a:pt x="960" y="1246"/>
                  </a:lnTo>
                  <a:lnTo>
                    <a:pt x="954" y="1257"/>
                  </a:lnTo>
                  <a:lnTo>
                    <a:pt x="949" y="1270"/>
                  </a:lnTo>
                  <a:lnTo>
                    <a:pt x="943" y="1282"/>
                  </a:lnTo>
                  <a:lnTo>
                    <a:pt x="940" y="1294"/>
                  </a:lnTo>
                  <a:lnTo>
                    <a:pt x="940" y="1294"/>
                  </a:lnTo>
                  <a:lnTo>
                    <a:pt x="945" y="1293"/>
                  </a:lnTo>
                  <a:lnTo>
                    <a:pt x="951" y="1292"/>
                  </a:lnTo>
                  <a:lnTo>
                    <a:pt x="956" y="1291"/>
                  </a:lnTo>
                  <a:lnTo>
                    <a:pt x="961" y="1290"/>
                  </a:lnTo>
                  <a:lnTo>
                    <a:pt x="961" y="1290"/>
                  </a:lnTo>
                  <a:lnTo>
                    <a:pt x="1012" y="1221"/>
                  </a:lnTo>
                  <a:lnTo>
                    <a:pt x="1038" y="1186"/>
                  </a:lnTo>
                  <a:lnTo>
                    <a:pt x="1064" y="1152"/>
                  </a:lnTo>
                  <a:lnTo>
                    <a:pt x="1091" y="1118"/>
                  </a:lnTo>
                  <a:lnTo>
                    <a:pt x="1119" y="1086"/>
                  </a:lnTo>
                  <a:lnTo>
                    <a:pt x="1147" y="1055"/>
                  </a:lnTo>
                  <a:lnTo>
                    <a:pt x="1177" y="1024"/>
                  </a:lnTo>
                  <a:lnTo>
                    <a:pt x="1177" y="1024"/>
                  </a:lnTo>
                  <a:lnTo>
                    <a:pt x="1181" y="1024"/>
                  </a:lnTo>
                  <a:lnTo>
                    <a:pt x="1184" y="1023"/>
                  </a:lnTo>
                  <a:lnTo>
                    <a:pt x="1190" y="1020"/>
                  </a:lnTo>
                  <a:lnTo>
                    <a:pt x="1190" y="1020"/>
                  </a:lnTo>
                  <a:lnTo>
                    <a:pt x="1220" y="995"/>
                  </a:lnTo>
                  <a:lnTo>
                    <a:pt x="1251" y="969"/>
                  </a:lnTo>
                  <a:lnTo>
                    <a:pt x="1284" y="943"/>
                  </a:lnTo>
                  <a:lnTo>
                    <a:pt x="1317" y="919"/>
                  </a:lnTo>
                  <a:lnTo>
                    <a:pt x="1317" y="919"/>
                  </a:lnTo>
                  <a:lnTo>
                    <a:pt x="1338" y="905"/>
                  </a:lnTo>
                  <a:lnTo>
                    <a:pt x="1360" y="892"/>
                  </a:lnTo>
                  <a:lnTo>
                    <a:pt x="1381" y="880"/>
                  </a:lnTo>
                  <a:lnTo>
                    <a:pt x="1404" y="869"/>
                  </a:lnTo>
                  <a:lnTo>
                    <a:pt x="1428" y="861"/>
                  </a:lnTo>
                  <a:lnTo>
                    <a:pt x="1441" y="858"/>
                  </a:lnTo>
                  <a:lnTo>
                    <a:pt x="1454" y="854"/>
                  </a:lnTo>
                  <a:lnTo>
                    <a:pt x="1468" y="851"/>
                  </a:lnTo>
                  <a:lnTo>
                    <a:pt x="1482" y="850"/>
                  </a:lnTo>
                  <a:lnTo>
                    <a:pt x="1496" y="848"/>
                  </a:lnTo>
                  <a:lnTo>
                    <a:pt x="1511" y="848"/>
                  </a:lnTo>
                  <a:lnTo>
                    <a:pt x="1511" y="848"/>
                  </a:lnTo>
                  <a:lnTo>
                    <a:pt x="1524" y="848"/>
                  </a:lnTo>
                  <a:lnTo>
                    <a:pt x="1532" y="849"/>
                  </a:lnTo>
                  <a:lnTo>
                    <a:pt x="1541" y="849"/>
                  </a:lnTo>
                  <a:lnTo>
                    <a:pt x="1553" y="848"/>
                  </a:lnTo>
                  <a:lnTo>
                    <a:pt x="1553" y="848"/>
                  </a:lnTo>
                  <a:lnTo>
                    <a:pt x="1580" y="752"/>
                  </a:lnTo>
                  <a:lnTo>
                    <a:pt x="1609" y="656"/>
                  </a:lnTo>
                  <a:lnTo>
                    <a:pt x="1622" y="607"/>
                  </a:lnTo>
                  <a:lnTo>
                    <a:pt x="1635" y="559"/>
                  </a:lnTo>
                  <a:lnTo>
                    <a:pt x="1647" y="509"/>
                  </a:lnTo>
                  <a:lnTo>
                    <a:pt x="1656" y="456"/>
                  </a:lnTo>
                  <a:lnTo>
                    <a:pt x="1656" y="456"/>
                  </a:lnTo>
                  <a:lnTo>
                    <a:pt x="1659" y="453"/>
                  </a:lnTo>
                  <a:lnTo>
                    <a:pt x="1662" y="450"/>
                  </a:lnTo>
                  <a:lnTo>
                    <a:pt x="1664" y="446"/>
                  </a:lnTo>
                  <a:lnTo>
                    <a:pt x="1666" y="442"/>
                  </a:lnTo>
                  <a:lnTo>
                    <a:pt x="1666" y="442"/>
                  </a:lnTo>
                  <a:lnTo>
                    <a:pt x="1672" y="424"/>
                  </a:lnTo>
                  <a:lnTo>
                    <a:pt x="1678" y="406"/>
                  </a:lnTo>
                  <a:lnTo>
                    <a:pt x="1682" y="387"/>
                  </a:lnTo>
                  <a:lnTo>
                    <a:pt x="1685" y="368"/>
                  </a:lnTo>
                  <a:lnTo>
                    <a:pt x="1694" y="330"/>
                  </a:lnTo>
                  <a:lnTo>
                    <a:pt x="1699" y="313"/>
                  </a:lnTo>
                  <a:lnTo>
                    <a:pt x="1705" y="294"/>
                  </a:lnTo>
                  <a:lnTo>
                    <a:pt x="1705" y="294"/>
                  </a:lnTo>
                  <a:lnTo>
                    <a:pt x="1707" y="291"/>
                  </a:lnTo>
                  <a:lnTo>
                    <a:pt x="1710" y="289"/>
                  </a:lnTo>
                  <a:lnTo>
                    <a:pt x="1712" y="286"/>
                  </a:lnTo>
                  <a:lnTo>
                    <a:pt x="1714" y="283"/>
                  </a:lnTo>
                  <a:lnTo>
                    <a:pt x="1714" y="283"/>
                  </a:lnTo>
                  <a:lnTo>
                    <a:pt x="1723" y="256"/>
                  </a:lnTo>
                  <a:lnTo>
                    <a:pt x="1730" y="229"/>
                  </a:lnTo>
                  <a:lnTo>
                    <a:pt x="1737" y="202"/>
                  </a:lnTo>
                  <a:lnTo>
                    <a:pt x="1744" y="178"/>
                  </a:lnTo>
                  <a:lnTo>
                    <a:pt x="1744" y="178"/>
                  </a:lnTo>
                  <a:lnTo>
                    <a:pt x="1751" y="162"/>
                  </a:lnTo>
                  <a:lnTo>
                    <a:pt x="1753" y="154"/>
                  </a:lnTo>
                  <a:lnTo>
                    <a:pt x="1753" y="150"/>
                  </a:lnTo>
                  <a:lnTo>
                    <a:pt x="1751" y="146"/>
                  </a:lnTo>
                  <a:lnTo>
                    <a:pt x="1751" y="146"/>
                  </a:lnTo>
                  <a:lnTo>
                    <a:pt x="1742" y="148"/>
                  </a:lnTo>
                  <a:lnTo>
                    <a:pt x="1735" y="150"/>
                  </a:lnTo>
                  <a:lnTo>
                    <a:pt x="1727" y="152"/>
                  </a:lnTo>
                  <a:lnTo>
                    <a:pt x="1723" y="152"/>
                  </a:lnTo>
                  <a:lnTo>
                    <a:pt x="1717" y="151"/>
                  </a:lnTo>
                  <a:lnTo>
                    <a:pt x="1717" y="151"/>
                  </a:lnTo>
                  <a:close/>
                  <a:moveTo>
                    <a:pt x="1785" y="576"/>
                  </a:moveTo>
                  <a:lnTo>
                    <a:pt x="1785" y="576"/>
                  </a:lnTo>
                  <a:lnTo>
                    <a:pt x="1783" y="575"/>
                  </a:lnTo>
                  <a:lnTo>
                    <a:pt x="1782" y="575"/>
                  </a:lnTo>
                  <a:lnTo>
                    <a:pt x="1781" y="576"/>
                  </a:lnTo>
                  <a:lnTo>
                    <a:pt x="1781" y="577"/>
                  </a:lnTo>
                  <a:lnTo>
                    <a:pt x="1778" y="581"/>
                  </a:lnTo>
                  <a:lnTo>
                    <a:pt x="1776" y="587"/>
                  </a:lnTo>
                  <a:lnTo>
                    <a:pt x="1776" y="587"/>
                  </a:lnTo>
                  <a:lnTo>
                    <a:pt x="1781" y="556"/>
                  </a:lnTo>
                  <a:lnTo>
                    <a:pt x="1785" y="526"/>
                  </a:lnTo>
                  <a:lnTo>
                    <a:pt x="1798" y="464"/>
                  </a:lnTo>
                  <a:lnTo>
                    <a:pt x="1811" y="399"/>
                  </a:lnTo>
                  <a:lnTo>
                    <a:pt x="1822" y="334"/>
                  </a:lnTo>
                  <a:lnTo>
                    <a:pt x="1822" y="334"/>
                  </a:lnTo>
                  <a:lnTo>
                    <a:pt x="1827" y="327"/>
                  </a:lnTo>
                  <a:lnTo>
                    <a:pt x="1831" y="320"/>
                  </a:lnTo>
                  <a:lnTo>
                    <a:pt x="1831" y="320"/>
                  </a:lnTo>
                  <a:lnTo>
                    <a:pt x="1831" y="312"/>
                  </a:lnTo>
                  <a:lnTo>
                    <a:pt x="1833" y="303"/>
                  </a:lnTo>
                  <a:lnTo>
                    <a:pt x="1838" y="282"/>
                  </a:lnTo>
                  <a:lnTo>
                    <a:pt x="1844" y="260"/>
                  </a:lnTo>
                  <a:lnTo>
                    <a:pt x="1849" y="240"/>
                  </a:lnTo>
                  <a:lnTo>
                    <a:pt x="1849" y="240"/>
                  </a:lnTo>
                  <a:lnTo>
                    <a:pt x="1852" y="237"/>
                  </a:lnTo>
                  <a:lnTo>
                    <a:pt x="1854" y="232"/>
                  </a:lnTo>
                  <a:lnTo>
                    <a:pt x="1857" y="227"/>
                  </a:lnTo>
                  <a:lnTo>
                    <a:pt x="1858" y="222"/>
                  </a:lnTo>
                  <a:lnTo>
                    <a:pt x="1858" y="222"/>
                  </a:lnTo>
                  <a:lnTo>
                    <a:pt x="1853" y="217"/>
                  </a:lnTo>
                  <a:lnTo>
                    <a:pt x="1849" y="213"/>
                  </a:lnTo>
                  <a:lnTo>
                    <a:pt x="1844" y="211"/>
                  </a:lnTo>
                  <a:lnTo>
                    <a:pt x="1838" y="210"/>
                  </a:lnTo>
                  <a:lnTo>
                    <a:pt x="1838" y="210"/>
                  </a:lnTo>
                  <a:lnTo>
                    <a:pt x="1835" y="213"/>
                  </a:lnTo>
                  <a:lnTo>
                    <a:pt x="1832" y="216"/>
                  </a:lnTo>
                  <a:lnTo>
                    <a:pt x="1828" y="225"/>
                  </a:lnTo>
                  <a:lnTo>
                    <a:pt x="1824" y="236"/>
                  </a:lnTo>
                  <a:lnTo>
                    <a:pt x="1822" y="246"/>
                  </a:lnTo>
                  <a:lnTo>
                    <a:pt x="1820" y="257"/>
                  </a:lnTo>
                  <a:lnTo>
                    <a:pt x="1818" y="268"/>
                  </a:lnTo>
                  <a:lnTo>
                    <a:pt x="1815" y="277"/>
                  </a:lnTo>
                  <a:lnTo>
                    <a:pt x="1809" y="286"/>
                  </a:lnTo>
                  <a:lnTo>
                    <a:pt x="1809" y="286"/>
                  </a:lnTo>
                  <a:lnTo>
                    <a:pt x="1809" y="278"/>
                  </a:lnTo>
                  <a:lnTo>
                    <a:pt x="1809" y="271"/>
                  </a:lnTo>
                  <a:lnTo>
                    <a:pt x="1813" y="253"/>
                  </a:lnTo>
                  <a:lnTo>
                    <a:pt x="1817" y="233"/>
                  </a:lnTo>
                  <a:lnTo>
                    <a:pt x="1820" y="215"/>
                  </a:lnTo>
                  <a:lnTo>
                    <a:pt x="1820" y="215"/>
                  </a:lnTo>
                  <a:lnTo>
                    <a:pt x="1818" y="212"/>
                  </a:lnTo>
                  <a:lnTo>
                    <a:pt x="1816" y="209"/>
                  </a:lnTo>
                  <a:lnTo>
                    <a:pt x="1814" y="201"/>
                  </a:lnTo>
                  <a:lnTo>
                    <a:pt x="1813" y="194"/>
                  </a:lnTo>
                  <a:lnTo>
                    <a:pt x="1809" y="186"/>
                  </a:lnTo>
                  <a:lnTo>
                    <a:pt x="1809" y="186"/>
                  </a:lnTo>
                  <a:lnTo>
                    <a:pt x="1804" y="204"/>
                  </a:lnTo>
                  <a:lnTo>
                    <a:pt x="1800" y="223"/>
                  </a:lnTo>
                  <a:lnTo>
                    <a:pt x="1794" y="241"/>
                  </a:lnTo>
                  <a:lnTo>
                    <a:pt x="1791" y="248"/>
                  </a:lnTo>
                  <a:lnTo>
                    <a:pt x="1787" y="256"/>
                  </a:lnTo>
                  <a:lnTo>
                    <a:pt x="1787" y="256"/>
                  </a:lnTo>
                  <a:lnTo>
                    <a:pt x="1787" y="246"/>
                  </a:lnTo>
                  <a:lnTo>
                    <a:pt x="1788" y="237"/>
                  </a:lnTo>
                  <a:lnTo>
                    <a:pt x="1792" y="219"/>
                  </a:lnTo>
                  <a:lnTo>
                    <a:pt x="1796" y="202"/>
                  </a:lnTo>
                  <a:lnTo>
                    <a:pt x="1797" y="194"/>
                  </a:lnTo>
                  <a:lnTo>
                    <a:pt x="1798" y="186"/>
                  </a:lnTo>
                  <a:lnTo>
                    <a:pt x="1798" y="186"/>
                  </a:lnTo>
                  <a:lnTo>
                    <a:pt x="1794" y="191"/>
                  </a:lnTo>
                  <a:lnTo>
                    <a:pt x="1791" y="196"/>
                  </a:lnTo>
                  <a:lnTo>
                    <a:pt x="1789" y="207"/>
                  </a:lnTo>
                  <a:lnTo>
                    <a:pt x="1787" y="217"/>
                  </a:lnTo>
                  <a:lnTo>
                    <a:pt x="1785" y="229"/>
                  </a:lnTo>
                  <a:lnTo>
                    <a:pt x="1785" y="229"/>
                  </a:lnTo>
                  <a:lnTo>
                    <a:pt x="1771" y="272"/>
                  </a:lnTo>
                  <a:lnTo>
                    <a:pt x="1765" y="293"/>
                  </a:lnTo>
                  <a:lnTo>
                    <a:pt x="1760" y="315"/>
                  </a:lnTo>
                  <a:lnTo>
                    <a:pt x="1760" y="315"/>
                  </a:lnTo>
                  <a:lnTo>
                    <a:pt x="1758" y="324"/>
                  </a:lnTo>
                  <a:lnTo>
                    <a:pt x="1757" y="333"/>
                  </a:lnTo>
                  <a:lnTo>
                    <a:pt x="1756" y="336"/>
                  </a:lnTo>
                  <a:lnTo>
                    <a:pt x="1754" y="339"/>
                  </a:lnTo>
                  <a:lnTo>
                    <a:pt x="1752" y="342"/>
                  </a:lnTo>
                  <a:lnTo>
                    <a:pt x="1750" y="343"/>
                  </a:lnTo>
                  <a:lnTo>
                    <a:pt x="1750" y="343"/>
                  </a:lnTo>
                  <a:lnTo>
                    <a:pt x="1752" y="321"/>
                  </a:lnTo>
                  <a:lnTo>
                    <a:pt x="1756" y="300"/>
                  </a:lnTo>
                  <a:lnTo>
                    <a:pt x="1765" y="259"/>
                  </a:lnTo>
                  <a:lnTo>
                    <a:pt x="1775" y="217"/>
                  </a:lnTo>
                  <a:lnTo>
                    <a:pt x="1780" y="196"/>
                  </a:lnTo>
                  <a:lnTo>
                    <a:pt x="1783" y="173"/>
                  </a:lnTo>
                  <a:lnTo>
                    <a:pt x="1783" y="173"/>
                  </a:lnTo>
                  <a:lnTo>
                    <a:pt x="1776" y="164"/>
                  </a:lnTo>
                  <a:lnTo>
                    <a:pt x="1772" y="160"/>
                  </a:lnTo>
                  <a:lnTo>
                    <a:pt x="1767" y="156"/>
                  </a:lnTo>
                  <a:lnTo>
                    <a:pt x="1767" y="156"/>
                  </a:lnTo>
                  <a:lnTo>
                    <a:pt x="1753" y="197"/>
                  </a:lnTo>
                  <a:lnTo>
                    <a:pt x="1740" y="239"/>
                  </a:lnTo>
                  <a:lnTo>
                    <a:pt x="1714" y="323"/>
                  </a:lnTo>
                  <a:lnTo>
                    <a:pt x="1690" y="410"/>
                  </a:lnTo>
                  <a:lnTo>
                    <a:pt x="1666" y="497"/>
                  </a:lnTo>
                  <a:lnTo>
                    <a:pt x="1641" y="584"/>
                  </a:lnTo>
                  <a:lnTo>
                    <a:pt x="1617" y="670"/>
                  </a:lnTo>
                  <a:lnTo>
                    <a:pt x="1592" y="756"/>
                  </a:lnTo>
                  <a:lnTo>
                    <a:pt x="1578" y="799"/>
                  </a:lnTo>
                  <a:lnTo>
                    <a:pt x="1564" y="841"/>
                  </a:lnTo>
                  <a:lnTo>
                    <a:pt x="1564" y="841"/>
                  </a:lnTo>
                  <a:lnTo>
                    <a:pt x="1569" y="847"/>
                  </a:lnTo>
                  <a:lnTo>
                    <a:pt x="1574" y="851"/>
                  </a:lnTo>
                  <a:lnTo>
                    <a:pt x="1577" y="853"/>
                  </a:lnTo>
                  <a:lnTo>
                    <a:pt x="1581" y="854"/>
                  </a:lnTo>
                  <a:lnTo>
                    <a:pt x="1586" y="855"/>
                  </a:lnTo>
                  <a:lnTo>
                    <a:pt x="1591" y="854"/>
                  </a:lnTo>
                  <a:lnTo>
                    <a:pt x="1591" y="854"/>
                  </a:lnTo>
                  <a:lnTo>
                    <a:pt x="1592" y="842"/>
                  </a:lnTo>
                  <a:lnTo>
                    <a:pt x="1595" y="830"/>
                  </a:lnTo>
                  <a:lnTo>
                    <a:pt x="1599" y="817"/>
                  </a:lnTo>
                  <a:lnTo>
                    <a:pt x="1602" y="805"/>
                  </a:lnTo>
                  <a:lnTo>
                    <a:pt x="1610" y="782"/>
                  </a:lnTo>
                  <a:lnTo>
                    <a:pt x="1615" y="769"/>
                  </a:lnTo>
                  <a:lnTo>
                    <a:pt x="1618" y="757"/>
                  </a:lnTo>
                  <a:lnTo>
                    <a:pt x="1618" y="757"/>
                  </a:lnTo>
                  <a:lnTo>
                    <a:pt x="1620" y="744"/>
                  </a:lnTo>
                  <a:lnTo>
                    <a:pt x="1621" y="730"/>
                  </a:lnTo>
                  <a:lnTo>
                    <a:pt x="1622" y="724"/>
                  </a:lnTo>
                  <a:lnTo>
                    <a:pt x="1624" y="717"/>
                  </a:lnTo>
                  <a:lnTo>
                    <a:pt x="1626" y="711"/>
                  </a:lnTo>
                  <a:lnTo>
                    <a:pt x="1631" y="706"/>
                  </a:lnTo>
                  <a:lnTo>
                    <a:pt x="1631" y="706"/>
                  </a:lnTo>
                  <a:lnTo>
                    <a:pt x="1629" y="725"/>
                  </a:lnTo>
                  <a:lnTo>
                    <a:pt x="1625" y="743"/>
                  </a:lnTo>
                  <a:lnTo>
                    <a:pt x="1618" y="779"/>
                  </a:lnTo>
                  <a:lnTo>
                    <a:pt x="1609" y="816"/>
                  </a:lnTo>
                  <a:lnTo>
                    <a:pt x="1605" y="834"/>
                  </a:lnTo>
                  <a:lnTo>
                    <a:pt x="1602" y="853"/>
                  </a:lnTo>
                  <a:lnTo>
                    <a:pt x="1602" y="853"/>
                  </a:lnTo>
                  <a:lnTo>
                    <a:pt x="1605" y="852"/>
                  </a:lnTo>
                  <a:lnTo>
                    <a:pt x="1607" y="852"/>
                  </a:lnTo>
                  <a:lnTo>
                    <a:pt x="1611" y="852"/>
                  </a:lnTo>
                  <a:lnTo>
                    <a:pt x="1616" y="853"/>
                  </a:lnTo>
                  <a:lnTo>
                    <a:pt x="1618" y="853"/>
                  </a:lnTo>
                  <a:lnTo>
                    <a:pt x="1620" y="853"/>
                  </a:lnTo>
                  <a:lnTo>
                    <a:pt x="1620" y="853"/>
                  </a:lnTo>
                  <a:lnTo>
                    <a:pt x="1626" y="823"/>
                  </a:lnTo>
                  <a:lnTo>
                    <a:pt x="1634" y="792"/>
                  </a:lnTo>
                  <a:lnTo>
                    <a:pt x="1650" y="731"/>
                  </a:lnTo>
                  <a:lnTo>
                    <a:pt x="1665" y="669"/>
                  </a:lnTo>
                  <a:lnTo>
                    <a:pt x="1672" y="637"/>
                  </a:lnTo>
                  <a:lnTo>
                    <a:pt x="1678" y="604"/>
                  </a:lnTo>
                  <a:lnTo>
                    <a:pt x="1678" y="604"/>
                  </a:lnTo>
                  <a:lnTo>
                    <a:pt x="1681" y="600"/>
                  </a:lnTo>
                  <a:lnTo>
                    <a:pt x="1684" y="595"/>
                  </a:lnTo>
                  <a:lnTo>
                    <a:pt x="1685" y="590"/>
                  </a:lnTo>
                  <a:lnTo>
                    <a:pt x="1686" y="584"/>
                  </a:lnTo>
                  <a:lnTo>
                    <a:pt x="1687" y="571"/>
                  </a:lnTo>
                  <a:lnTo>
                    <a:pt x="1688" y="558"/>
                  </a:lnTo>
                  <a:lnTo>
                    <a:pt x="1688" y="558"/>
                  </a:lnTo>
                  <a:lnTo>
                    <a:pt x="1693" y="537"/>
                  </a:lnTo>
                  <a:lnTo>
                    <a:pt x="1698" y="517"/>
                  </a:lnTo>
                  <a:lnTo>
                    <a:pt x="1702" y="497"/>
                  </a:lnTo>
                  <a:lnTo>
                    <a:pt x="1707" y="476"/>
                  </a:lnTo>
                  <a:lnTo>
                    <a:pt x="1707" y="476"/>
                  </a:lnTo>
                  <a:lnTo>
                    <a:pt x="1709" y="466"/>
                  </a:lnTo>
                  <a:lnTo>
                    <a:pt x="1712" y="456"/>
                  </a:lnTo>
                  <a:lnTo>
                    <a:pt x="1717" y="436"/>
                  </a:lnTo>
                  <a:lnTo>
                    <a:pt x="1717" y="436"/>
                  </a:lnTo>
                  <a:lnTo>
                    <a:pt x="1720" y="425"/>
                  </a:lnTo>
                  <a:lnTo>
                    <a:pt x="1721" y="414"/>
                  </a:lnTo>
                  <a:lnTo>
                    <a:pt x="1722" y="409"/>
                  </a:lnTo>
                  <a:lnTo>
                    <a:pt x="1724" y="405"/>
                  </a:lnTo>
                  <a:lnTo>
                    <a:pt x="1727" y="402"/>
                  </a:lnTo>
                  <a:lnTo>
                    <a:pt x="1731" y="398"/>
                  </a:lnTo>
                  <a:lnTo>
                    <a:pt x="1731" y="398"/>
                  </a:lnTo>
                  <a:lnTo>
                    <a:pt x="1726" y="434"/>
                  </a:lnTo>
                  <a:lnTo>
                    <a:pt x="1720" y="471"/>
                  </a:lnTo>
                  <a:lnTo>
                    <a:pt x="1712" y="509"/>
                  </a:lnTo>
                  <a:lnTo>
                    <a:pt x="1705" y="547"/>
                  </a:lnTo>
                  <a:lnTo>
                    <a:pt x="1686" y="624"/>
                  </a:lnTo>
                  <a:lnTo>
                    <a:pt x="1667" y="700"/>
                  </a:lnTo>
                  <a:lnTo>
                    <a:pt x="1667" y="700"/>
                  </a:lnTo>
                  <a:lnTo>
                    <a:pt x="1664" y="716"/>
                  </a:lnTo>
                  <a:lnTo>
                    <a:pt x="1662" y="733"/>
                  </a:lnTo>
                  <a:lnTo>
                    <a:pt x="1659" y="749"/>
                  </a:lnTo>
                  <a:lnTo>
                    <a:pt x="1655" y="766"/>
                  </a:lnTo>
                  <a:lnTo>
                    <a:pt x="1655" y="766"/>
                  </a:lnTo>
                  <a:lnTo>
                    <a:pt x="1651" y="779"/>
                  </a:lnTo>
                  <a:lnTo>
                    <a:pt x="1646" y="794"/>
                  </a:lnTo>
                  <a:lnTo>
                    <a:pt x="1635" y="824"/>
                  </a:lnTo>
                  <a:lnTo>
                    <a:pt x="1630" y="841"/>
                  </a:lnTo>
                  <a:lnTo>
                    <a:pt x="1626" y="855"/>
                  </a:lnTo>
                  <a:lnTo>
                    <a:pt x="1623" y="869"/>
                  </a:lnTo>
                  <a:lnTo>
                    <a:pt x="1623" y="883"/>
                  </a:lnTo>
                  <a:lnTo>
                    <a:pt x="1623" y="883"/>
                  </a:lnTo>
                  <a:lnTo>
                    <a:pt x="1630" y="888"/>
                  </a:lnTo>
                  <a:lnTo>
                    <a:pt x="1635" y="891"/>
                  </a:lnTo>
                  <a:lnTo>
                    <a:pt x="1650" y="894"/>
                  </a:lnTo>
                  <a:lnTo>
                    <a:pt x="1650" y="894"/>
                  </a:lnTo>
                  <a:lnTo>
                    <a:pt x="1651" y="879"/>
                  </a:lnTo>
                  <a:lnTo>
                    <a:pt x="1654" y="865"/>
                  </a:lnTo>
                  <a:lnTo>
                    <a:pt x="1657" y="852"/>
                  </a:lnTo>
                  <a:lnTo>
                    <a:pt x="1662" y="838"/>
                  </a:lnTo>
                  <a:lnTo>
                    <a:pt x="1671" y="813"/>
                  </a:lnTo>
                  <a:lnTo>
                    <a:pt x="1680" y="787"/>
                  </a:lnTo>
                  <a:lnTo>
                    <a:pt x="1680" y="787"/>
                  </a:lnTo>
                  <a:lnTo>
                    <a:pt x="1683" y="775"/>
                  </a:lnTo>
                  <a:lnTo>
                    <a:pt x="1685" y="763"/>
                  </a:lnTo>
                  <a:lnTo>
                    <a:pt x="1688" y="741"/>
                  </a:lnTo>
                  <a:lnTo>
                    <a:pt x="1691" y="729"/>
                  </a:lnTo>
                  <a:lnTo>
                    <a:pt x="1693" y="717"/>
                  </a:lnTo>
                  <a:lnTo>
                    <a:pt x="1697" y="707"/>
                  </a:lnTo>
                  <a:lnTo>
                    <a:pt x="1703" y="697"/>
                  </a:lnTo>
                  <a:lnTo>
                    <a:pt x="1703" y="697"/>
                  </a:lnTo>
                  <a:lnTo>
                    <a:pt x="1699" y="727"/>
                  </a:lnTo>
                  <a:lnTo>
                    <a:pt x="1694" y="761"/>
                  </a:lnTo>
                  <a:lnTo>
                    <a:pt x="1691" y="778"/>
                  </a:lnTo>
                  <a:lnTo>
                    <a:pt x="1686" y="794"/>
                  </a:lnTo>
                  <a:lnTo>
                    <a:pt x="1680" y="808"/>
                  </a:lnTo>
                  <a:lnTo>
                    <a:pt x="1677" y="815"/>
                  </a:lnTo>
                  <a:lnTo>
                    <a:pt x="1672" y="821"/>
                  </a:lnTo>
                  <a:lnTo>
                    <a:pt x="1672" y="821"/>
                  </a:lnTo>
                  <a:lnTo>
                    <a:pt x="1665" y="857"/>
                  </a:lnTo>
                  <a:lnTo>
                    <a:pt x="1656" y="894"/>
                  </a:lnTo>
                  <a:lnTo>
                    <a:pt x="1656" y="894"/>
                  </a:lnTo>
                  <a:lnTo>
                    <a:pt x="1660" y="893"/>
                  </a:lnTo>
                  <a:lnTo>
                    <a:pt x="1663" y="894"/>
                  </a:lnTo>
                  <a:lnTo>
                    <a:pt x="1665" y="897"/>
                  </a:lnTo>
                  <a:lnTo>
                    <a:pt x="1666" y="902"/>
                  </a:lnTo>
                  <a:lnTo>
                    <a:pt x="1670" y="911"/>
                  </a:lnTo>
                  <a:lnTo>
                    <a:pt x="1672" y="915"/>
                  </a:lnTo>
                  <a:lnTo>
                    <a:pt x="1675" y="919"/>
                  </a:lnTo>
                  <a:lnTo>
                    <a:pt x="1675" y="919"/>
                  </a:lnTo>
                  <a:lnTo>
                    <a:pt x="1681" y="888"/>
                  </a:lnTo>
                  <a:lnTo>
                    <a:pt x="1688" y="857"/>
                  </a:lnTo>
                  <a:lnTo>
                    <a:pt x="1697" y="827"/>
                  </a:lnTo>
                  <a:lnTo>
                    <a:pt x="1707" y="796"/>
                  </a:lnTo>
                  <a:lnTo>
                    <a:pt x="1726" y="735"/>
                  </a:lnTo>
                  <a:lnTo>
                    <a:pt x="1736" y="703"/>
                  </a:lnTo>
                  <a:lnTo>
                    <a:pt x="1742" y="671"/>
                  </a:lnTo>
                  <a:lnTo>
                    <a:pt x="1742" y="671"/>
                  </a:lnTo>
                  <a:lnTo>
                    <a:pt x="1742" y="665"/>
                  </a:lnTo>
                  <a:lnTo>
                    <a:pt x="1742" y="658"/>
                  </a:lnTo>
                  <a:lnTo>
                    <a:pt x="1743" y="655"/>
                  </a:lnTo>
                  <a:lnTo>
                    <a:pt x="1744" y="652"/>
                  </a:lnTo>
                  <a:lnTo>
                    <a:pt x="1746" y="650"/>
                  </a:lnTo>
                  <a:lnTo>
                    <a:pt x="1750" y="649"/>
                  </a:lnTo>
                  <a:lnTo>
                    <a:pt x="1750" y="649"/>
                  </a:lnTo>
                  <a:lnTo>
                    <a:pt x="1750" y="660"/>
                  </a:lnTo>
                  <a:lnTo>
                    <a:pt x="1750" y="671"/>
                  </a:lnTo>
                  <a:lnTo>
                    <a:pt x="1747" y="695"/>
                  </a:lnTo>
                  <a:lnTo>
                    <a:pt x="1743" y="718"/>
                  </a:lnTo>
                  <a:lnTo>
                    <a:pt x="1737" y="743"/>
                  </a:lnTo>
                  <a:lnTo>
                    <a:pt x="1737" y="743"/>
                  </a:lnTo>
                  <a:lnTo>
                    <a:pt x="1730" y="766"/>
                  </a:lnTo>
                  <a:lnTo>
                    <a:pt x="1724" y="789"/>
                  </a:lnTo>
                  <a:lnTo>
                    <a:pt x="1708" y="837"/>
                  </a:lnTo>
                  <a:lnTo>
                    <a:pt x="1693" y="887"/>
                  </a:lnTo>
                  <a:lnTo>
                    <a:pt x="1686" y="911"/>
                  </a:lnTo>
                  <a:lnTo>
                    <a:pt x="1682" y="935"/>
                  </a:lnTo>
                  <a:lnTo>
                    <a:pt x="1682" y="935"/>
                  </a:lnTo>
                  <a:lnTo>
                    <a:pt x="1678" y="937"/>
                  </a:lnTo>
                  <a:lnTo>
                    <a:pt x="1675" y="940"/>
                  </a:lnTo>
                  <a:lnTo>
                    <a:pt x="1667" y="945"/>
                  </a:lnTo>
                  <a:lnTo>
                    <a:pt x="1667" y="945"/>
                  </a:lnTo>
                  <a:lnTo>
                    <a:pt x="1660" y="945"/>
                  </a:lnTo>
                  <a:lnTo>
                    <a:pt x="1651" y="945"/>
                  </a:lnTo>
                  <a:lnTo>
                    <a:pt x="1634" y="944"/>
                  </a:lnTo>
                  <a:lnTo>
                    <a:pt x="1616" y="943"/>
                  </a:lnTo>
                  <a:lnTo>
                    <a:pt x="1606" y="944"/>
                  </a:lnTo>
                  <a:lnTo>
                    <a:pt x="1596" y="945"/>
                  </a:lnTo>
                  <a:lnTo>
                    <a:pt x="1596" y="945"/>
                  </a:lnTo>
                  <a:lnTo>
                    <a:pt x="1562" y="954"/>
                  </a:lnTo>
                  <a:lnTo>
                    <a:pt x="1527" y="963"/>
                  </a:lnTo>
                  <a:lnTo>
                    <a:pt x="1490" y="972"/>
                  </a:lnTo>
                  <a:lnTo>
                    <a:pt x="1456" y="981"/>
                  </a:lnTo>
                  <a:lnTo>
                    <a:pt x="1456" y="981"/>
                  </a:lnTo>
                  <a:lnTo>
                    <a:pt x="1438" y="986"/>
                  </a:lnTo>
                  <a:lnTo>
                    <a:pt x="1420" y="993"/>
                  </a:lnTo>
                  <a:lnTo>
                    <a:pt x="1403" y="1000"/>
                  </a:lnTo>
                  <a:lnTo>
                    <a:pt x="1387" y="1008"/>
                  </a:lnTo>
                  <a:lnTo>
                    <a:pt x="1354" y="1025"/>
                  </a:lnTo>
                  <a:lnTo>
                    <a:pt x="1322" y="1040"/>
                  </a:lnTo>
                  <a:lnTo>
                    <a:pt x="1322" y="1040"/>
                  </a:lnTo>
                  <a:lnTo>
                    <a:pt x="1308" y="1047"/>
                  </a:lnTo>
                  <a:lnTo>
                    <a:pt x="1296" y="1055"/>
                  </a:lnTo>
                  <a:lnTo>
                    <a:pt x="1273" y="1069"/>
                  </a:lnTo>
                  <a:lnTo>
                    <a:pt x="1273" y="1069"/>
                  </a:lnTo>
                  <a:lnTo>
                    <a:pt x="1267" y="1072"/>
                  </a:lnTo>
                  <a:lnTo>
                    <a:pt x="1259" y="1074"/>
                  </a:lnTo>
                  <a:lnTo>
                    <a:pt x="1253" y="1077"/>
                  </a:lnTo>
                  <a:lnTo>
                    <a:pt x="1246" y="1080"/>
                  </a:lnTo>
                  <a:lnTo>
                    <a:pt x="1246" y="1080"/>
                  </a:lnTo>
                  <a:lnTo>
                    <a:pt x="1221" y="1099"/>
                  </a:lnTo>
                  <a:lnTo>
                    <a:pt x="1195" y="1117"/>
                  </a:lnTo>
                  <a:lnTo>
                    <a:pt x="1144" y="1154"/>
                  </a:lnTo>
                  <a:lnTo>
                    <a:pt x="1118" y="1174"/>
                  </a:lnTo>
                  <a:lnTo>
                    <a:pt x="1093" y="1194"/>
                  </a:lnTo>
                  <a:lnTo>
                    <a:pt x="1071" y="1215"/>
                  </a:lnTo>
                  <a:lnTo>
                    <a:pt x="1060" y="1227"/>
                  </a:lnTo>
                  <a:lnTo>
                    <a:pt x="1049" y="1239"/>
                  </a:lnTo>
                  <a:lnTo>
                    <a:pt x="1049" y="1239"/>
                  </a:lnTo>
                  <a:lnTo>
                    <a:pt x="1099" y="1210"/>
                  </a:lnTo>
                  <a:lnTo>
                    <a:pt x="1149" y="1182"/>
                  </a:lnTo>
                  <a:lnTo>
                    <a:pt x="1201" y="1155"/>
                  </a:lnTo>
                  <a:lnTo>
                    <a:pt x="1254" y="1129"/>
                  </a:lnTo>
                  <a:lnTo>
                    <a:pt x="1254" y="1129"/>
                  </a:lnTo>
                  <a:lnTo>
                    <a:pt x="1258" y="1125"/>
                  </a:lnTo>
                  <a:lnTo>
                    <a:pt x="1262" y="1122"/>
                  </a:lnTo>
                  <a:lnTo>
                    <a:pt x="1267" y="1119"/>
                  </a:lnTo>
                  <a:lnTo>
                    <a:pt x="1271" y="1116"/>
                  </a:lnTo>
                  <a:lnTo>
                    <a:pt x="1271" y="1116"/>
                  </a:lnTo>
                  <a:lnTo>
                    <a:pt x="1304" y="1102"/>
                  </a:lnTo>
                  <a:lnTo>
                    <a:pt x="1339" y="1090"/>
                  </a:lnTo>
                  <a:lnTo>
                    <a:pt x="1375" y="1079"/>
                  </a:lnTo>
                  <a:lnTo>
                    <a:pt x="1411" y="1070"/>
                  </a:lnTo>
                  <a:lnTo>
                    <a:pt x="1449" y="1061"/>
                  </a:lnTo>
                  <a:lnTo>
                    <a:pt x="1486" y="1054"/>
                  </a:lnTo>
                  <a:lnTo>
                    <a:pt x="1562" y="1040"/>
                  </a:lnTo>
                  <a:lnTo>
                    <a:pt x="1562" y="1040"/>
                  </a:lnTo>
                  <a:lnTo>
                    <a:pt x="1581" y="1035"/>
                  </a:lnTo>
                  <a:lnTo>
                    <a:pt x="1599" y="1031"/>
                  </a:lnTo>
                  <a:lnTo>
                    <a:pt x="1617" y="1029"/>
                  </a:lnTo>
                  <a:lnTo>
                    <a:pt x="1635" y="1027"/>
                  </a:lnTo>
                  <a:lnTo>
                    <a:pt x="1671" y="1024"/>
                  </a:lnTo>
                  <a:lnTo>
                    <a:pt x="1710" y="1020"/>
                  </a:lnTo>
                  <a:lnTo>
                    <a:pt x="1710" y="1020"/>
                  </a:lnTo>
                  <a:lnTo>
                    <a:pt x="1722" y="982"/>
                  </a:lnTo>
                  <a:lnTo>
                    <a:pt x="1733" y="945"/>
                  </a:lnTo>
                  <a:lnTo>
                    <a:pt x="1743" y="908"/>
                  </a:lnTo>
                  <a:lnTo>
                    <a:pt x="1752" y="872"/>
                  </a:lnTo>
                  <a:lnTo>
                    <a:pt x="1769" y="797"/>
                  </a:lnTo>
                  <a:lnTo>
                    <a:pt x="1787" y="720"/>
                  </a:lnTo>
                  <a:lnTo>
                    <a:pt x="1787" y="720"/>
                  </a:lnTo>
                  <a:lnTo>
                    <a:pt x="1797" y="683"/>
                  </a:lnTo>
                  <a:lnTo>
                    <a:pt x="1808" y="645"/>
                  </a:lnTo>
                  <a:lnTo>
                    <a:pt x="1819" y="607"/>
                  </a:lnTo>
                  <a:lnTo>
                    <a:pt x="1830" y="571"/>
                  </a:lnTo>
                  <a:lnTo>
                    <a:pt x="1830" y="571"/>
                  </a:lnTo>
                  <a:lnTo>
                    <a:pt x="1838" y="530"/>
                  </a:lnTo>
                  <a:lnTo>
                    <a:pt x="1847" y="488"/>
                  </a:lnTo>
                  <a:lnTo>
                    <a:pt x="1847" y="488"/>
                  </a:lnTo>
                  <a:lnTo>
                    <a:pt x="1850" y="479"/>
                  </a:lnTo>
                  <a:lnTo>
                    <a:pt x="1853" y="469"/>
                  </a:lnTo>
                  <a:lnTo>
                    <a:pt x="1860" y="451"/>
                  </a:lnTo>
                  <a:lnTo>
                    <a:pt x="1866" y="431"/>
                  </a:lnTo>
                  <a:lnTo>
                    <a:pt x="1868" y="422"/>
                  </a:lnTo>
                  <a:lnTo>
                    <a:pt x="1871" y="412"/>
                  </a:lnTo>
                  <a:lnTo>
                    <a:pt x="1871" y="412"/>
                  </a:lnTo>
                  <a:lnTo>
                    <a:pt x="1876" y="403"/>
                  </a:lnTo>
                  <a:lnTo>
                    <a:pt x="1880" y="391"/>
                  </a:lnTo>
                  <a:lnTo>
                    <a:pt x="1883" y="378"/>
                  </a:lnTo>
                  <a:lnTo>
                    <a:pt x="1887" y="364"/>
                  </a:lnTo>
                  <a:lnTo>
                    <a:pt x="1893" y="337"/>
                  </a:lnTo>
                  <a:lnTo>
                    <a:pt x="1898" y="313"/>
                  </a:lnTo>
                  <a:lnTo>
                    <a:pt x="1898" y="313"/>
                  </a:lnTo>
                  <a:lnTo>
                    <a:pt x="1886" y="315"/>
                  </a:lnTo>
                  <a:lnTo>
                    <a:pt x="1873" y="317"/>
                  </a:lnTo>
                  <a:lnTo>
                    <a:pt x="1850" y="321"/>
                  </a:lnTo>
                  <a:lnTo>
                    <a:pt x="1850" y="321"/>
                  </a:lnTo>
                  <a:lnTo>
                    <a:pt x="1845" y="338"/>
                  </a:lnTo>
                  <a:lnTo>
                    <a:pt x="1839" y="357"/>
                  </a:lnTo>
                  <a:lnTo>
                    <a:pt x="1831" y="394"/>
                  </a:lnTo>
                  <a:lnTo>
                    <a:pt x="1822" y="431"/>
                  </a:lnTo>
                  <a:lnTo>
                    <a:pt x="1817" y="450"/>
                  </a:lnTo>
                  <a:lnTo>
                    <a:pt x="1812" y="467"/>
                  </a:lnTo>
                  <a:lnTo>
                    <a:pt x="1812" y="467"/>
                  </a:lnTo>
                  <a:lnTo>
                    <a:pt x="1811" y="465"/>
                  </a:lnTo>
                  <a:lnTo>
                    <a:pt x="1811" y="465"/>
                  </a:lnTo>
                  <a:lnTo>
                    <a:pt x="1809" y="466"/>
                  </a:lnTo>
                  <a:lnTo>
                    <a:pt x="1809" y="466"/>
                  </a:lnTo>
                  <a:lnTo>
                    <a:pt x="1808" y="480"/>
                  </a:lnTo>
                  <a:lnTo>
                    <a:pt x="1806" y="494"/>
                  </a:lnTo>
                  <a:lnTo>
                    <a:pt x="1799" y="520"/>
                  </a:lnTo>
                  <a:lnTo>
                    <a:pt x="1791" y="547"/>
                  </a:lnTo>
                  <a:lnTo>
                    <a:pt x="1788" y="561"/>
                  </a:lnTo>
                  <a:lnTo>
                    <a:pt x="1785" y="576"/>
                  </a:lnTo>
                  <a:lnTo>
                    <a:pt x="1785" y="576"/>
                  </a:lnTo>
                  <a:close/>
                  <a:moveTo>
                    <a:pt x="794" y="441"/>
                  </a:moveTo>
                  <a:lnTo>
                    <a:pt x="794" y="441"/>
                  </a:lnTo>
                  <a:lnTo>
                    <a:pt x="787" y="437"/>
                  </a:lnTo>
                  <a:lnTo>
                    <a:pt x="779" y="435"/>
                  </a:lnTo>
                  <a:lnTo>
                    <a:pt x="771" y="434"/>
                  </a:lnTo>
                  <a:lnTo>
                    <a:pt x="763" y="434"/>
                  </a:lnTo>
                  <a:lnTo>
                    <a:pt x="746" y="434"/>
                  </a:lnTo>
                  <a:lnTo>
                    <a:pt x="729" y="434"/>
                  </a:lnTo>
                  <a:lnTo>
                    <a:pt x="729" y="434"/>
                  </a:lnTo>
                  <a:lnTo>
                    <a:pt x="717" y="433"/>
                  </a:lnTo>
                  <a:lnTo>
                    <a:pt x="706" y="430"/>
                  </a:lnTo>
                  <a:lnTo>
                    <a:pt x="683" y="426"/>
                  </a:lnTo>
                  <a:lnTo>
                    <a:pt x="673" y="424"/>
                  </a:lnTo>
                  <a:lnTo>
                    <a:pt x="664" y="423"/>
                  </a:lnTo>
                  <a:lnTo>
                    <a:pt x="654" y="423"/>
                  </a:lnTo>
                  <a:lnTo>
                    <a:pt x="646" y="425"/>
                  </a:lnTo>
                  <a:lnTo>
                    <a:pt x="646" y="425"/>
                  </a:lnTo>
                  <a:lnTo>
                    <a:pt x="647" y="425"/>
                  </a:lnTo>
                  <a:lnTo>
                    <a:pt x="647" y="426"/>
                  </a:lnTo>
                  <a:lnTo>
                    <a:pt x="646" y="426"/>
                  </a:lnTo>
                  <a:lnTo>
                    <a:pt x="646" y="426"/>
                  </a:lnTo>
                  <a:lnTo>
                    <a:pt x="624" y="424"/>
                  </a:lnTo>
                  <a:lnTo>
                    <a:pt x="603" y="422"/>
                  </a:lnTo>
                  <a:lnTo>
                    <a:pt x="581" y="419"/>
                  </a:lnTo>
                  <a:lnTo>
                    <a:pt x="560" y="418"/>
                  </a:lnTo>
                  <a:lnTo>
                    <a:pt x="560" y="418"/>
                  </a:lnTo>
                  <a:lnTo>
                    <a:pt x="471" y="418"/>
                  </a:lnTo>
                  <a:lnTo>
                    <a:pt x="471" y="418"/>
                  </a:lnTo>
                  <a:lnTo>
                    <a:pt x="464" y="423"/>
                  </a:lnTo>
                  <a:lnTo>
                    <a:pt x="457" y="429"/>
                  </a:lnTo>
                  <a:lnTo>
                    <a:pt x="445" y="444"/>
                  </a:lnTo>
                  <a:lnTo>
                    <a:pt x="435" y="459"/>
                  </a:lnTo>
                  <a:lnTo>
                    <a:pt x="425" y="476"/>
                  </a:lnTo>
                  <a:lnTo>
                    <a:pt x="425" y="476"/>
                  </a:lnTo>
                  <a:lnTo>
                    <a:pt x="411" y="497"/>
                  </a:lnTo>
                  <a:lnTo>
                    <a:pt x="398" y="516"/>
                  </a:lnTo>
                  <a:lnTo>
                    <a:pt x="369" y="556"/>
                  </a:lnTo>
                  <a:lnTo>
                    <a:pt x="355" y="575"/>
                  </a:lnTo>
                  <a:lnTo>
                    <a:pt x="342" y="594"/>
                  </a:lnTo>
                  <a:lnTo>
                    <a:pt x="330" y="615"/>
                  </a:lnTo>
                  <a:lnTo>
                    <a:pt x="318" y="635"/>
                  </a:lnTo>
                  <a:lnTo>
                    <a:pt x="318" y="635"/>
                  </a:lnTo>
                  <a:lnTo>
                    <a:pt x="317" y="636"/>
                  </a:lnTo>
                  <a:lnTo>
                    <a:pt x="316" y="636"/>
                  </a:lnTo>
                  <a:lnTo>
                    <a:pt x="315" y="635"/>
                  </a:lnTo>
                  <a:lnTo>
                    <a:pt x="314" y="633"/>
                  </a:lnTo>
                  <a:lnTo>
                    <a:pt x="313" y="633"/>
                  </a:lnTo>
                  <a:lnTo>
                    <a:pt x="312" y="635"/>
                  </a:lnTo>
                  <a:lnTo>
                    <a:pt x="312" y="635"/>
                  </a:lnTo>
                  <a:lnTo>
                    <a:pt x="306" y="647"/>
                  </a:lnTo>
                  <a:lnTo>
                    <a:pt x="301" y="657"/>
                  </a:lnTo>
                  <a:lnTo>
                    <a:pt x="288" y="680"/>
                  </a:lnTo>
                  <a:lnTo>
                    <a:pt x="273" y="701"/>
                  </a:lnTo>
                  <a:lnTo>
                    <a:pt x="258" y="723"/>
                  </a:lnTo>
                  <a:lnTo>
                    <a:pt x="242" y="744"/>
                  </a:lnTo>
                  <a:lnTo>
                    <a:pt x="227" y="766"/>
                  </a:lnTo>
                  <a:lnTo>
                    <a:pt x="213" y="788"/>
                  </a:lnTo>
                  <a:lnTo>
                    <a:pt x="207" y="800"/>
                  </a:lnTo>
                  <a:lnTo>
                    <a:pt x="201" y="813"/>
                  </a:lnTo>
                  <a:lnTo>
                    <a:pt x="201" y="813"/>
                  </a:lnTo>
                  <a:lnTo>
                    <a:pt x="163" y="861"/>
                  </a:lnTo>
                  <a:lnTo>
                    <a:pt x="124" y="911"/>
                  </a:lnTo>
                  <a:lnTo>
                    <a:pt x="87" y="961"/>
                  </a:lnTo>
                  <a:lnTo>
                    <a:pt x="70" y="987"/>
                  </a:lnTo>
                  <a:lnTo>
                    <a:pt x="51" y="1013"/>
                  </a:lnTo>
                  <a:lnTo>
                    <a:pt x="51" y="1013"/>
                  </a:lnTo>
                  <a:lnTo>
                    <a:pt x="78" y="1015"/>
                  </a:lnTo>
                  <a:lnTo>
                    <a:pt x="105" y="1018"/>
                  </a:lnTo>
                  <a:lnTo>
                    <a:pt x="132" y="1024"/>
                  </a:lnTo>
                  <a:lnTo>
                    <a:pt x="157" y="1028"/>
                  </a:lnTo>
                  <a:lnTo>
                    <a:pt x="210" y="1041"/>
                  </a:lnTo>
                  <a:lnTo>
                    <a:pt x="263" y="1054"/>
                  </a:lnTo>
                  <a:lnTo>
                    <a:pt x="263" y="1054"/>
                  </a:lnTo>
                  <a:lnTo>
                    <a:pt x="285" y="1060"/>
                  </a:lnTo>
                  <a:lnTo>
                    <a:pt x="306" y="1067"/>
                  </a:lnTo>
                  <a:lnTo>
                    <a:pt x="328" y="1074"/>
                  </a:lnTo>
                  <a:lnTo>
                    <a:pt x="348" y="1080"/>
                  </a:lnTo>
                  <a:lnTo>
                    <a:pt x="348" y="1080"/>
                  </a:lnTo>
                  <a:lnTo>
                    <a:pt x="376" y="1088"/>
                  </a:lnTo>
                  <a:lnTo>
                    <a:pt x="403" y="1094"/>
                  </a:lnTo>
                  <a:lnTo>
                    <a:pt x="427" y="1100"/>
                  </a:lnTo>
                  <a:lnTo>
                    <a:pt x="450" y="1102"/>
                  </a:lnTo>
                  <a:lnTo>
                    <a:pt x="450" y="1102"/>
                  </a:lnTo>
                  <a:lnTo>
                    <a:pt x="501" y="1118"/>
                  </a:lnTo>
                  <a:lnTo>
                    <a:pt x="557" y="1135"/>
                  </a:lnTo>
                  <a:lnTo>
                    <a:pt x="615" y="1155"/>
                  </a:lnTo>
                  <a:lnTo>
                    <a:pt x="670" y="1175"/>
                  </a:lnTo>
                  <a:lnTo>
                    <a:pt x="670" y="1175"/>
                  </a:lnTo>
                  <a:lnTo>
                    <a:pt x="678" y="1179"/>
                  </a:lnTo>
                  <a:lnTo>
                    <a:pt x="684" y="1183"/>
                  </a:lnTo>
                  <a:lnTo>
                    <a:pt x="692" y="1187"/>
                  </a:lnTo>
                  <a:lnTo>
                    <a:pt x="699" y="1191"/>
                  </a:lnTo>
                  <a:lnTo>
                    <a:pt x="699" y="1191"/>
                  </a:lnTo>
                  <a:lnTo>
                    <a:pt x="713" y="1196"/>
                  </a:lnTo>
                  <a:lnTo>
                    <a:pt x="727" y="1200"/>
                  </a:lnTo>
                  <a:lnTo>
                    <a:pt x="755" y="1208"/>
                  </a:lnTo>
                  <a:lnTo>
                    <a:pt x="769" y="1211"/>
                  </a:lnTo>
                  <a:lnTo>
                    <a:pt x="782" y="1216"/>
                  </a:lnTo>
                  <a:lnTo>
                    <a:pt x="793" y="1223"/>
                  </a:lnTo>
                  <a:lnTo>
                    <a:pt x="799" y="1227"/>
                  </a:lnTo>
                  <a:lnTo>
                    <a:pt x="804" y="1231"/>
                  </a:lnTo>
                  <a:lnTo>
                    <a:pt x="804" y="1231"/>
                  </a:lnTo>
                  <a:lnTo>
                    <a:pt x="819" y="1236"/>
                  </a:lnTo>
                  <a:lnTo>
                    <a:pt x="833" y="1241"/>
                  </a:lnTo>
                  <a:lnTo>
                    <a:pt x="846" y="1247"/>
                  </a:lnTo>
                  <a:lnTo>
                    <a:pt x="858" y="1254"/>
                  </a:lnTo>
                  <a:lnTo>
                    <a:pt x="881" y="1269"/>
                  </a:lnTo>
                  <a:lnTo>
                    <a:pt x="893" y="1276"/>
                  </a:lnTo>
                  <a:lnTo>
                    <a:pt x="905" y="1284"/>
                  </a:lnTo>
                  <a:lnTo>
                    <a:pt x="905" y="1284"/>
                  </a:lnTo>
                  <a:lnTo>
                    <a:pt x="900" y="1261"/>
                  </a:lnTo>
                  <a:lnTo>
                    <a:pt x="897" y="1239"/>
                  </a:lnTo>
                  <a:lnTo>
                    <a:pt x="895" y="1217"/>
                  </a:lnTo>
                  <a:lnTo>
                    <a:pt x="893" y="1196"/>
                  </a:lnTo>
                  <a:lnTo>
                    <a:pt x="889" y="1115"/>
                  </a:lnTo>
                  <a:lnTo>
                    <a:pt x="889" y="1115"/>
                  </a:lnTo>
                  <a:lnTo>
                    <a:pt x="895" y="1033"/>
                  </a:lnTo>
                  <a:lnTo>
                    <a:pt x="899" y="955"/>
                  </a:lnTo>
                  <a:lnTo>
                    <a:pt x="900" y="879"/>
                  </a:lnTo>
                  <a:lnTo>
                    <a:pt x="899" y="803"/>
                  </a:lnTo>
                  <a:lnTo>
                    <a:pt x="899" y="803"/>
                  </a:lnTo>
                  <a:lnTo>
                    <a:pt x="898" y="785"/>
                  </a:lnTo>
                  <a:lnTo>
                    <a:pt x="895" y="768"/>
                  </a:lnTo>
                  <a:lnTo>
                    <a:pt x="891" y="751"/>
                  </a:lnTo>
                  <a:lnTo>
                    <a:pt x="885" y="735"/>
                  </a:lnTo>
                  <a:lnTo>
                    <a:pt x="880" y="717"/>
                  </a:lnTo>
                  <a:lnTo>
                    <a:pt x="876" y="701"/>
                  </a:lnTo>
                  <a:lnTo>
                    <a:pt x="873" y="684"/>
                  </a:lnTo>
                  <a:lnTo>
                    <a:pt x="872" y="666"/>
                  </a:lnTo>
                  <a:lnTo>
                    <a:pt x="872" y="666"/>
                  </a:lnTo>
                  <a:lnTo>
                    <a:pt x="867" y="660"/>
                  </a:lnTo>
                  <a:lnTo>
                    <a:pt x="864" y="653"/>
                  </a:lnTo>
                  <a:lnTo>
                    <a:pt x="862" y="647"/>
                  </a:lnTo>
                  <a:lnTo>
                    <a:pt x="861" y="640"/>
                  </a:lnTo>
                  <a:lnTo>
                    <a:pt x="861" y="640"/>
                  </a:lnTo>
                  <a:lnTo>
                    <a:pt x="875" y="622"/>
                  </a:lnTo>
                  <a:lnTo>
                    <a:pt x="889" y="602"/>
                  </a:lnTo>
                  <a:lnTo>
                    <a:pt x="902" y="580"/>
                  </a:lnTo>
                  <a:lnTo>
                    <a:pt x="914" y="559"/>
                  </a:lnTo>
                  <a:lnTo>
                    <a:pt x="939" y="514"/>
                  </a:lnTo>
                  <a:lnTo>
                    <a:pt x="964" y="469"/>
                  </a:lnTo>
                  <a:lnTo>
                    <a:pt x="964" y="469"/>
                  </a:lnTo>
                  <a:lnTo>
                    <a:pt x="920" y="459"/>
                  </a:lnTo>
                  <a:lnTo>
                    <a:pt x="876" y="449"/>
                  </a:lnTo>
                  <a:lnTo>
                    <a:pt x="854" y="444"/>
                  </a:lnTo>
                  <a:lnTo>
                    <a:pt x="833" y="441"/>
                  </a:lnTo>
                  <a:lnTo>
                    <a:pt x="814" y="440"/>
                  </a:lnTo>
                  <a:lnTo>
                    <a:pt x="794" y="441"/>
                  </a:lnTo>
                  <a:lnTo>
                    <a:pt x="794" y="441"/>
                  </a:lnTo>
                  <a:close/>
                  <a:moveTo>
                    <a:pt x="1957" y="430"/>
                  </a:moveTo>
                  <a:lnTo>
                    <a:pt x="1957" y="430"/>
                  </a:lnTo>
                  <a:lnTo>
                    <a:pt x="1927" y="430"/>
                  </a:lnTo>
                  <a:lnTo>
                    <a:pt x="1913" y="433"/>
                  </a:lnTo>
                  <a:lnTo>
                    <a:pt x="1898" y="436"/>
                  </a:lnTo>
                  <a:lnTo>
                    <a:pt x="1898" y="436"/>
                  </a:lnTo>
                  <a:lnTo>
                    <a:pt x="1892" y="437"/>
                  </a:lnTo>
                  <a:lnTo>
                    <a:pt x="1886" y="439"/>
                  </a:lnTo>
                  <a:lnTo>
                    <a:pt x="1882" y="441"/>
                  </a:lnTo>
                  <a:lnTo>
                    <a:pt x="1881" y="443"/>
                  </a:lnTo>
                  <a:lnTo>
                    <a:pt x="1880" y="446"/>
                  </a:lnTo>
                  <a:lnTo>
                    <a:pt x="1881" y="451"/>
                  </a:lnTo>
                  <a:lnTo>
                    <a:pt x="1881" y="451"/>
                  </a:lnTo>
                  <a:lnTo>
                    <a:pt x="1895" y="454"/>
                  </a:lnTo>
                  <a:lnTo>
                    <a:pt x="1911" y="455"/>
                  </a:lnTo>
                  <a:lnTo>
                    <a:pt x="1928" y="455"/>
                  </a:lnTo>
                  <a:lnTo>
                    <a:pt x="1938" y="453"/>
                  </a:lnTo>
                  <a:lnTo>
                    <a:pt x="1947" y="451"/>
                  </a:lnTo>
                  <a:lnTo>
                    <a:pt x="1947" y="451"/>
                  </a:lnTo>
                  <a:lnTo>
                    <a:pt x="1947" y="454"/>
                  </a:lnTo>
                  <a:lnTo>
                    <a:pt x="1948" y="455"/>
                  </a:lnTo>
                  <a:lnTo>
                    <a:pt x="1950" y="456"/>
                  </a:lnTo>
                  <a:lnTo>
                    <a:pt x="1952" y="456"/>
                  </a:lnTo>
                  <a:lnTo>
                    <a:pt x="1952" y="456"/>
                  </a:lnTo>
                  <a:lnTo>
                    <a:pt x="1952" y="472"/>
                  </a:lnTo>
                  <a:lnTo>
                    <a:pt x="1950" y="487"/>
                  </a:lnTo>
                  <a:lnTo>
                    <a:pt x="1948" y="502"/>
                  </a:lnTo>
                  <a:lnTo>
                    <a:pt x="1944" y="516"/>
                  </a:lnTo>
                  <a:lnTo>
                    <a:pt x="1937" y="545"/>
                  </a:lnTo>
                  <a:lnTo>
                    <a:pt x="1928" y="574"/>
                  </a:lnTo>
                  <a:lnTo>
                    <a:pt x="1908" y="629"/>
                  </a:lnTo>
                  <a:lnTo>
                    <a:pt x="1899" y="655"/>
                  </a:lnTo>
                  <a:lnTo>
                    <a:pt x="1892" y="682"/>
                  </a:lnTo>
                  <a:lnTo>
                    <a:pt x="1892" y="682"/>
                  </a:lnTo>
                  <a:lnTo>
                    <a:pt x="1879" y="736"/>
                  </a:lnTo>
                  <a:lnTo>
                    <a:pt x="1874" y="762"/>
                  </a:lnTo>
                  <a:lnTo>
                    <a:pt x="1866" y="789"/>
                  </a:lnTo>
                  <a:lnTo>
                    <a:pt x="1866" y="789"/>
                  </a:lnTo>
                  <a:lnTo>
                    <a:pt x="1859" y="818"/>
                  </a:lnTo>
                  <a:lnTo>
                    <a:pt x="1850" y="847"/>
                  </a:lnTo>
                  <a:lnTo>
                    <a:pt x="1842" y="876"/>
                  </a:lnTo>
                  <a:lnTo>
                    <a:pt x="1833" y="905"/>
                  </a:lnTo>
                  <a:lnTo>
                    <a:pt x="1833" y="905"/>
                  </a:lnTo>
                  <a:lnTo>
                    <a:pt x="1824" y="933"/>
                  </a:lnTo>
                  <a:lnTo>
                    <a:pt x="1815" y="960"/>
                  </a:lnTo>
                  <a:lnTo>
                    <a:pt x="1806" y="987"/>
                  </a:lnTo>
                  <a:lnTo>
                    <a:pt x="1802" y="1001"/>
                  </a:lnTo>
                  <a:lnTo>
                    <a:pt x="1799" y="1015"/>
                  </a:lnTo>
                  <a:lnTo>
                    <a:pt x="1799" y="1015"/>
                  </a:lnTo>
                  <a:lnTo>
                    <a:pt x="1790" y="1061"/>
                  </a:lnTo>
                  <a:lnTo>
                    <a:pt x="1786" y="1085"/>
                  </a:lnTo>
                  <a:lnTo>
                    <a:pt x="1782" y="1107"/>
                  </a:lnTo>
                  <a:lnTo>
                    <a:pt x="1782" y="1107"/>
                  </a:lnTo>
                  <a:lnTo>
                    <a:pt x="1776" y="1127"/>
                  </a:lnTo>
                  <a:lnTo>
                    <a:pt x="1770" y="1149"/>
                  </a:lnTo>
                  <a:lnTo>
                    <a:pt x="1767" y="1159"/>
                  </a:lnTo>
                  <a:lnTo>
                    <a:pt x="1761" y="1168"/>
                  </a:lnTo>
                  <a:lnTo>
                    <a:pt x="1756" y="1177"/>
                  </a:lnTo>
                  <a:lnTo>
                    <a:pt x="1750" y="1185"/>
                  </a:lnTo>
                  <a:lnTo>
                    <a:pt x="1750" y="1185"/>
                  </a:lnTo>
                  <a:lnTo>
                    <a:pt x="1739" y="1181"/>
                  </a:lnTo>
                  <a:lnTo>
                    <a:pt x="1735" y="1179"/>
                  </a:lnTo>
                  <a:lnTo>
                    <a:pt x="1730" y="1177"/>
                  </a:lnTo>
                  <a:lnTo>
                    <a:pt x="1730" y="1177"/>
                  </a:lnTo>
                  <a:lnTo>
                    <a:pt x="1710" y="1177"/>
                  </a:lnTo>
                  <a:lnTo>
                    <a:pt x="1690" y="1177"/>
                  </a:lnTo>
                  <a:lnTo>
                    <a:pt x="1647" y="1175"/>
                  </a:lnTo>
                  <a:lnTo>
                    <a:pt x="1626" y="1174"/>
                  </a:lnTo>
                  <a:lnTo>
                    <a:pt x="1606" y="1175"/>
                  </a:lnTo>
                  <a:lnTo>
                    <a:pt x="1586" y="1176"/>
                  </a:lnTo>
                  <a:lnTo>
                    <a:pt x="1568" y="1179"/>
                  </a:lnTo>
                  <a:lnTo>
                    <a:pt x="1568" y="1179"/>
                  </a:lnTo>
                  <a:lnTo>
                    <a:pt x="1562" y="1175"/>
                  </a:lnTo>
                  <a:lnTo>
                    <a:pt x="1558" y="1174"/>
                  </a:lnTo>
                  <a:lnTo>
                    <a:pt x="1553" y="1174"/>
                  </a:lnTo>
                  <a:lnTo>
                    <a:pt x="1549" y="1175"/>
                  </a:lnTo>
                  <a:lnTo>
                    <a:pt x="1541" y="1179"/>
                  </a:lnTo>
                  <a:lnTo>
                    <a:pt x="1536" y="1181"/>
                  </a:lnTo>
                  <a:lnTo>
                    <a:pt x="1532" y="1182"/>
                  </a:lnTo>
                  <a:lnTo>
                    <a:pt x="1532" y="1182"/>
                  </a:lnTo>
                  <a:lnTo>
                    <a:pt x="1515" y="1184"/>
                  </a:lnTo>
                  <a:lnTo>
                    <a:pt x="1497" y="1185"/>
                  </a:lnTo>
                  <a:lnTo>
                    <a:pt x="1478" y="1186"/>
                  </a:lnTo>
                  <a:lnTo>
                    <a:pt x="1459" y="1187"/>
                  </a:lnTo>
                  <a:lnTo>
                    <a:pt x="1459" y="1187"/>
                  </a:lnTo>
                  <a:lnTo>
                    <a:pt x="1399" y="1195"/>
                  </a:lnTo>
                  <a:lnTo>
                    <a:pt x="1399" y="1195"/>
                  </a:lnTo>
                  <a:lnTo>
                    <a:pt x="1326" y="1202"/>
                  </a:lnTo>
                  <a:lnTo>
                    <a:pt x="1288" y="1207"/>
                  </a:lnTo>
                  <a:lnTo>
                    <a:pt x="1252" y="1212"/>
                  </a:lnTo>
                  <a:lnTo>
                    <a:pt x="1252" y="1212"/>
                  </a:lnTo>
                  <a:lnTo>
                    <a:pt x="1245" y="1214"/>
                  </a:lnTo>
                  <a:lnTo>
                    <a:pt x="1239" y="1216"/>
                  </a:lnTo>
                  <a:lnTo>
                    <a:pt x="1233" y="1220"/>
                  </a:lnTo>
                  <a:lnTo>
                    <a:pt x="1227" y="1221"/>
                  </a:lnTo>
                  <a:lnTo>
                    <a:pt x="1227" y="1221"/>
                  </a:lnTo>
                  <a:lnTo>
                    <a:pt x="1184" y="1231"/>
                  </a:lnTo>
                  <a:lnTo>
                    <a:pt x="1164" y="1237"/>
                  </a:lnTo>
                  <a:lnTo>
                    <a:pt x="1144" y="1243"/>
                  </a:lnTo>
                  <a:lnTo>
                    <a:pt x="1123" y="1250"/>
                  </a:lnTo>
                  <a:lnTo>
                    <a:pt x="1105" y="1258"/>
                  </a:lnTo>
                  <a:lnTo>
                    <a:pt x="1086" y="1267"/>
                  </a:lnTo>
                  <a:lnTo>
                    <a:pt x="1069" y="1278"/>
                  </a:lnTo>
                  <a:lnTo>
                    <a:pt x="1069" y="1278"/>
                  </a:lnTo>
                  <a:lnTo>
                    <a:pt x="1141" y="1268"/>
                  </a:lnTo>
                  <a:lnTo>
                    <a:pt x="1214" y="1259"/>
                  </a:lnTo>
                  <a:lnTo>
                    <a:pt x="1362" y="1241"/>
                  </a:lnTo>
                  <a:lnTo>
                    <a:pt x="1362" y="1241"/>
                  </a:lnTo>
                  <a:lnTo>
                    <a:pt x="1394" y="1236"/>
                  </a:lnTo>
                  <a:lnTo>
                    <a:pt x="1426" y="1230"/>
                  </a:lnTo>
                  <a:lnTo>
                    <a:pt x="1458" y="1226"/>
                  </a:lnTo>
                  <a:lnTo>
                    <a:pt x="1475" y="1225"/>
                  </a:lnTo>
                  <a:lnTo>
                    <a:pt x="1491" y="1225"/>
                  </a:lnTo>
                  <a:lnTo>
                    <a:pt x="1491" y="1225"/>
                  </a:lnTo>
                  <a:lnTo>
                    <a:pt x="1531" y="1226"/>
                  </a:lnTo>
                  <a:lnTo>
                    <a:pt x="1550" y="1226"/>
                  </a:lnTo>
                  <a:lnTo>
                    <a:pt x="1568" y="1226"/>
                  </a:lnTo>
                  <a:lnTo>
                    <a:pt x="1568" y="1226"/>
                  </a:lnTo>
                  <a:lnTo>
                    <a:pt x="1578" y="1225"/>
                  </a:lnTo>
                  <a:lnTo>
                    <a:pt x="1589" y="1224"/>
                  </a:lnTo>
                  <a:lnTo>
                    <a:pt x="1593" y="1224"/>
                  </a:lnTo>
                  <a:lnTo>
                    <a:pt x="1597" y="1226"/>
                  </a:lnTo>
                  <a:lnTo>
                    <a:pt x="1601" y="1229"/>
                  </a:lnTo>
                  <a:lnTo>
                    <a:pt x="1602" y="1236"/>
                  </a:lnTo>
                  <a:lnTo>
                    <a:pt x="1602" y="1236"/>
                  </a:lnTo>
                  <a:lnTo>
                    <a:pt x="1594" y="1239"/>
                  </a:lnTo>
                  <a:lnTo>
                    <a:pt x="1586" y="1241"/>
                  </a:lnTo>
                  <a:lnTo>
                    <a:pt x="1577" y="1241"/>
                  </a:lnTo>
                  <a:lnTo>
                    <a:pt x="1569" y="1241"/>
                  </a:lnTo>
                  <a:lnTo>
                    <a:pt x="1551" y="1239"/>
                  </a:lnTo>
                  <a:lnTo>
                    <a:pt x="1534" y="1237"/>
                  </a:lnTo>
                  <a:lnTo>
                    <a:pt x="1534" y="1237"/>
                  </a:lnTo>
                  <a:lnTo>
                    <a:pt x="1511" y="1238"/>
                  </a:lnTo>
                  <a:lnTo>
                    <a:pt x="1487" y="1239"/>
                  </a:lnTo>
                  <a:lnTo>
                    <a:pt x="1440" y="1244"/>
                  </a:lnTo>
                  <a:lnTo>
                    <a:pt x="1396" y="1251"/>
                  </a:lnTo>
                  <a:lnTo>
                    <a:pt x="1357" y="1255"/>
                  </a:lnTo>
                  <a:lnTo>
                    <a:pt x="1357" y="1255"/>
                  </a:lnTo>
                  <a:lnTo>
                    <a:pt x="1290" y="1261"/>
                  </a:lnTo>
                  <a:lnTo>
                    <a:pt x="1232" y="1268"/>
                  </a:lnTo>
                  <a:lnTo>
                    <a:pt x="1232" y="1268"/>
                  </a:lnTo>
                  <a:lnTo>
                    <a:pt x="1211" y="1271"/>
                  </a:lnTo>
                  <a:lnTo>
                    <a:pt x="1190" y="1275"/>
                  </a:lnTo>
                  <a:lnTo>
                    <a:pt x="1169" y="1281"/>
                  </a:lnTo>
                  <a:lnTo>
                    <a:pt x="1149" y="1284"/>
                  </a:lnTo>
                  <a:lnTo>
                    <a:pt x="1149" y="1284"/>
                  </a:lnTo>
                  <a:lnTo>
                    <a:pt x="1106" y="1288"/>
                  </a:lnTo>
                  <a:lnTo>
                    <a:pt x="1087" y="1290"/>
                  </a:lnTo>
                  <a:lnTo>
                    <a:pt x="1067" y="1293"/>
                  </a:lnTo>
                  <a:lnTo>
                    <a:pt x="1049" y="1298"/>
                  </a:lnTo>
                  <a:lnTo>
                    <a:pt x="1032" y="1303"/>
                  </a:lnTo>
                  <a:lnTo>
                    <a:pt x="1015" y="1311"/>
                  </a:lnTo>
                  <a:lnTo>
                    <a:pt x="999" y="1320"/>
                  </a:lnTo>
                  <a:lnTo>
                    <a:pt x="999" y="1320"/>
                  </a:lnTo>
                  <a:lnTo>
                    <a:pt x="1002" y="1322"/>
                  </a:lnTo>
                  <a:lnTo>
                    <a:pt x="1003" y="1326"/>
                  </a:lnTo>
                  <a:lnTo>
                    <a:pt x="1004" y="1330"/>
                  </a:lnTo>
                  <a:lnTo>
                    <a:pt x="1004" y="1335"/>
                  </a:lnTo>
                  <a:lnTo>
                    <a:pt x="1004" y="1335"/>
                  </a:lnTo>
                  <a:lnTo>
                    <a:pt x="1026" y="1326"/>
                  </a:lnTo>
                  <a:lnTo>
                    <a:pt x="1047" y="1317"/>
                  </a:lnTo>
                  <a:lnTo>
                    <a:pt x="1071" y="1311"/>
                  </a:lnTo>
                  <a:lnTo>
                    <a:pt x="1095" y="1306"/>
                  </a:lnTo>
                  <a:lnTo>
                    <a:pt x="1095" y="1306"/>
                  </a:lnTo>
                  <a:lnTo>
                    <a:pt x="1167" y="1298"/>
                  </a:lnTo>
                  <a:lnTo>
                    <a:pt x="1242" y="1290"/>
                  </a:lnTo>
                  <a:lnTo>
                    <a:pt x="1318" y="1285"/>
                  </a:lnTo>
                  <a:lnTo>
                    <a:pt x="1396" y="1278"/>
                  </a:lnTo>
                  <a:lnTo>
                    <a:pt x="1474" y="1272"/>
                  </a:lnTo>
                  <a:lnTo>
                    <a:pt x="1554" y="1266"/>
                  </a:lnTo>
                  <a:lnTo>
                    <a:pt x="1631" y="1258"/>
                  </a:lnTo>
                  <a:lnTo>
                    <a:pt x="1707" y="1250"/>
                  </a:lnTo>
                  <a:lnTo>
                    <a:pt x="1707" y="1250"/>
                  </a:lnTo>
                  <a:lnTo>
                    <a:pt x="1725" y="1248"/>
                  </a:lnTo>
                  <a:lnTo>
                    <a:pt x="1744" y="1248"/>
                  </a:lnTo>
                  <a:lnTo>
                    <a:pt x="1782" y="1251"/>
                  </a:lnTo>
                  <a:lnTo>
                    <a:pt x="1799" y="1250"/>
                  </a:lnTo>
                  <a:lnTo>
                    <a:pt x="1807" y="1248"/>
                  </a:lnTo>
                  <a:lnTo>
                    <a:pt x="1816" y="1247"/>
                  </a:lnTo>
                  <a:lnTo>
                    <a:pt x="1823" y="1245"/>
                  </a:lnTo>
                  <a:lnTo>
                    <a:pt x="1831" y="1241"/>
                  </a:lnTo>
                  <a:lnTo>
                    <a:pt x="1837" y="1237"/>
                  </a:lnTo>
                  <a:lnTo>
                    <a:pt x="1844" y="1231"/>
                  </a:lnTo>
                  <a:lnTo>
                    <a:pt x="1844" y="1231"/>
                  </a:lnTo>
                  <a:lnTo>
                    <a:pt x="1853" y="1203"/>
                  </a:lnTo>
                  <a:lnTo>
                    <a:pt x="1861" y="1176"/>
                  </a:lnTo>
                  <a:lnTo>
                    <a:pt x="1867" y="1147"/>
                  </a:lnTo>
                  <a:lnTo>
                    <a:pt x="1873" y="1118"/>
                  </a:lnTo>
                  <a:lnTo>
                    <a:pt x="1884" y="1059"/>
                  </a:lnTo>
                  <a:lnTo>
                    <a:pt x="1890" y="1030"/>
                  </a:lnTo>
                  <a:lnTo>
                    <a:pt x="1897" y="1001"/>
                  </a:lnTo>
                  <a:lnTo>
                    <a:pt x="1897" y="1001"/>
                  </a:lnTo>
                  <a:lnTo>
                    <a:pt x="1903" y="982"/>
                  </a:lnTo>
                  <a:lnTo>
                    <a:pt x="1909" y="964"/>
                  </a:lnTo>
                  <a:lnTo>
                    <a:pt x="1915" y="944"/>
                  </a:lnTo>
                  <a:lnTo>
                    <a:pt x="1922" y="926"/>
                  </a:lnTo>
                  <a:lnTo>
                    <a:pt x="1922" y="926"/>
                  </a:lnTo>
                  <a:lnTo>
                    <a:pt x="1933" y="884"/>
                  </a:lnTo>
                  <a:lnTo>
                    <a:pt x="1938" y="863"/>
                  </a:lnTo>
                  <a:lnTo>
                    <a:pt x="1943" y="843"/>
                  </a:lnTo>
                  <a:lnTo>
                    <a:pt x="1943" y="843"/>
                  </a:lnTo>
                  <a:lnTo>
                    <a:pt x="1948" y="822"/>
                  </a:lnTo>
                  <a:lnTo>
                    <a:pt x="1953" y="802"/>
                  </a:lnTo>
                  <a:lnTo>
                    <a:pt x="1958" y="782"/>
                  </a:lnTo>
                  <a:lnTo>
                    <a:pt x="1963" y="760"/>
                  </a:lnTo>
                  <a:lnTo>
                    <a:pt x="1963" y="760"/>
                  </a:lnTo>
                  <a:lnTo>
                    <a:pt x="1972" y="717"/>
                  </a:lnTo>
                  <a:lnTo>
                    <a:pt x="1977" y="696"/>
                  </a:lnTo>
                  <a:lnTo>
                    <a:pt x="1982" y="676"/>
                  </a:lnTo>
                  <a:lnTo>
                    <a:pt x="1982" y="676"/>
                  </a:lnTo>
                  <a:lnTo>
                    <a:pt x="1985" y="667"/>
                  </a:lnTo>
                  <a:lnTo>
                    <a:pt x="1988" y="661"/>
                  </a:lnTo>
                  <a:lnTo>
                    <a:pt x="1993" y="653"/>
                  </a:lnTo>
                  <a:lnTo>
                    <a:pt x="1995" y="645"/>
                  </a:lnTo>
                  <a:lnTo>
                    <a:pt x="1995" y="645"/>
                  </a:lnTo>
                  <a:lnTo>
                    <a:pt x="2000" y="617"/>
                  </a:lnTo>
                  <a:lnTo>
                    <a:pt x="2004" y="588"/>
                  </a:lnTo>
                  <a:lnTo>
                    <a:pt x="2009" y="560"/>
                  </a:lnTo>
                  <a:lnTo>
                    <a:pt x="2011" y="546"/>
                  </a:lnTo>
                  <a:lnTo>
                    <a:pt x="2014" y="533"/>
                  </a:lnTo>
                  <a:lnTo>
                    <a:pt x="2014" y="533"/>
                  </a:lnTo>
                  <a:lnTo>
                    <a:pt x="2014" y="521"/>
                  </a:lnTo>
                  <a:lnTo>
                    <a:pt x="2016" y="510"/>
                  </a:lnTo>
                  <a:lnTo>
                    <a:pt x="2021" y="482"/>
                  </a:lnTo>
                  <a:lnTo>
                    <a:pt x="2024" y="468"/>
                  </a:lnTo>
                  <a:lnTo>
                    <a:pt x="2025" y="454"/>
                  </a:lnTo>
                  <a:lnTo>
                    <a:pt x="2024" y="449"/>
                  </a:lnTo>
                  <a:lnTo>
                    <a:pt x="2021" y="442"/>
                  </a:lnTo>
                  <a:lnTo>
                    <a:pt x="2019" y="437"/>
                  </a:lnTo>
                  <a:lnTo>
                    <a:pt x="2016" y="431"/>
                  </a:lnTo>
                  <a:lnTo>
                    <a:pt x="2016" y="431"/>
                  </a:lnTo>
                  <a:lnTo>
                    <a:pt x="2010" y="429"/>
                  </a:lnTo>
                  <a:lnTo>
                    <a:pt x="2002" y="428"/>
                  </a:lnTo>
                  <a:lnTo>
                    <a:pt x="1995" y="427"/>
                  </a:lnTo>
                  <a:lnTo>
                    <a:pt x="1987" y="427"/>
                  </a:lnTo>
                  <a:lnTo>
                    <a:pt x="1972" y="429"/>
                  </a:lnTo>
                  <a:lnTo>
                    <a:pt x="1957" y="430"/>
                  </a:lnTo>
                  <a:lnTo>
                    <a:pt x="1957" y="430"/>
                  </a:lnTo>
                  <a:close/>
                  <a:moveTo>
                    <a:pt x="1876" y="466"/>
                  </a:moveTo>
                  <a:lnTo>
                    <a:pt x="1876" y="466"/>
                  </a:lnTo>
                  <a:lnTo>
                    <a:pt x="1867" y="496"/>
                  </a:lnTo>
                  <a:lnTo>
                    <a:pt x="1859" y="525"/>
                  </a:lnTo>
                  <a:lnTo>
                    <a:pt x="1845" y="585"/>
                  </a:lnTo>
                  <a:lnTo>
                    <a:pt x="1831" y="645"/>
                  </a:lnTo>
                  <a:lnTo>
                    <a:pt x="1823" y="673"/>
                  </a:lnTo>
                  <a:lnTo>
                    <a:pt x="1815" y="703"/>
                  </a:lnTo>
                  <a:lnTo>
                    <a:pt x="1815" y="703"/>
                  </a:lnTo>
                  <a:lnTo>
                    <a:pt x="1796" y="771"/>
                  </a:lnTo>
                  <a:lnTo>
                    <a:pt x="1796" y="771"/>
                  </a:lnTo>
                  <a:lnTo>
                    <a:pt x="1791" y="789"/>
                  </a:lnTo>
                  <a:lnTo>
                    <a:pt x="1787" y="807"/>
                  </a:lnTo>
                  <a:lnTo>
                    <a:pt x="1780" y="844"/>
                  </a:lnTo>
                  <a:lnTo>
                    <a:pt x="1780" y="844"/>
                  </a:lnTo>
                  <a:lnTo>
                    <a:pt x="1770" y="881"/>
                  </a:lnTo>
                  <a:lnTo>
                    <a:pt x="1759" y="919"/>
                  </a:lnTo>
                  <a:lnTo>
                    <a:pt x="1747" y="955"/>
                  </a:lnTo>
                  <a:lnTo>
                    <a:pt x="1737" y="991"/>
                  </a:lnTo>
                  <a:lnTo>
                    <a:pt x="1737" y="991"/>
                  </a:lnTo>
                  <a:lnTo>
                    <a:pt x="1736" y="999"/>
                  </a:lnTo>
                  <a:lnTo>
                    <a:pt x="1736" y="1008"/>
                  </a:lnTo>
                  <a:lnTo>
                    <a:pt x="1735" y="1011"/>
                  </a:lnTo>
                  <a:lnTo>
                    <a:pt x="1733" y="1015"/>
                  </a:lnTo>
                  <a:lnTo>
                    <a:pt x="1730" y="1017"/>
                  </a:lnTo>
                  <a:lnTo>
                    <a:pt x="1726" y="1020"/>
                  </a:lnTo>
                  <a:lnTo>
                    <a:pt x="1726" y="1020"/>
                  </a:lnTo>
                  <a:lnTo>
                    <a:pt x="1728" y="1025"/>
                  </a:lnTo>
                  <a:lnTo>
                    <a:pt x="1729" y="1029"/>
                  </a:lnTo>
                  <a:lnTo>
                    <a:pt x="1729" y="1032"/>
                  </a:lnTo>
                  <a:lnTo>
                    <a:pt x="1726" y="1036"/>
                  </a:lnTo>
                  <a:lnTo>
                    <a:pt x="1726" y="1036"/>
                  </a:lnTo>
                  <a:lnTo>
                    <a:pt x="1683" y="1038"/>
                  </a:lnTo>
                  <a:lnTo>
                    <a:pt x="1639" y="1042"/>
                  </a:lnTo>
                  <a:lnTo>
                    <a:pt x="1593" y="1046"/>
                  </a:lnTo>
                  <a:lnTo>
                    <a:pt x="1547" y="1054"/>
                  </a:lnTo>
                  <a:lnTo>
                    <a:pt x="1547" y="1054"/>
                  </a:lnTo>
                  <a:lnTo>
                    <a:pt x="1512" y="1061"/>
                  </a:lnTo>
                  <a:lnTo>
                    <a:pt x="1478" y="1069"/>
                  </a:lnTo>
                  <a:lnTo>
                    <a:pt x="1442" y="1076"/>
                  </a:lnTo>
                  <a:lnTo>
                    <a:pt x="1409" y="1085"/>
                  </a:lnTo>
                  <a:lnTo>
                    <a:pt x="1376" y="1095"/>
                  </a:lnTo>
                  <a:lnTo>
                    <a:pt x="1343" y="1106"/>
                  </a:lnTo>
                  <a:lnTo>
                    <a:pt x="1311" y="1118"/>
                  </a:lnTo>
                  <a:lnTo>
                    <a:pt x="1279" y="1131"/>
                  </a:lnTo>
                  <a:lnTo>
                    <a:pt x="1279" y="1131"/>
                  </a:lnTo>
                  <a:lnTo>
                    <a:pt x="1260" y="1139"/>
                  </a:lnTo>
                  <a:lnTo>
                    <a:pt x="1241" y="1149"/>
                  </a:lnTo>
                  <a:lnTo>
                    <a:pt x="1203" y="1170"/>
                  </a:lnTo>
                  <a:lnTo>
                    <a:pt x="1129" y="1212"/>
                  </a:lnTo>
                  <a:lnTo>
                    <a:pt x="1129" y="1212"/>
                  </a:lnTo>
                  <a:lnTo>
                    <a:pt x="1091" y="1233"/>
                  </a:lnTo>
                  <a:lnTo>
                    <a:pt x="1073" y="1244"/>
                  </a:lnTo>
                  <a:lnTo>
                    <a:pt x="1055" y="1255"/>
                  </a:lnTo>
                  <a:lnTo>
                    <a:pt x="1055" y="1255"/>
                  </a:lnTo>
                  <a:lnTo>
                    <a:pt x="1027" y="1271"/>
                  </a:lnTo>
                  <a:lnTo>
                    <a:pt x="1013" y="1280"/>
                  </a:lnTo>
                  <a:lnTo>
                    <a:pt x="1001" y="1289"/>
                  </a:lnTo>
                  <a:lnTo>
                    <a:pt x="1001" y="1289"/>
                  </a:lnTo>
                  <a:lnTo>
                    <a:pt x="995" y="1294"/>
                  </a:lnTo>
                  <a:lnTo>
                    <a:pt x="993" y="1299"/>
                  </a:lnTo>
                  <a:lnTo>
                    <a:pt x="991" y="1301"/>
                  </a:lnTo>
                  <a:lnTo>
                    <a:pt x="993" y="1303"/>
                  </a:lnTo>
                  <a:lnTo>
                    <a:pt x="993" y="1303"/>
                  </a:lnTo>
                  <a:lnTo>
                    <a:pt x="995" y="1303"/>
                  </a:lnTo>
                  <a:lnTo>
                    <a:pt x="998" y="1302"/>
                  </a:lnTo>
                  <a:lnTo>
                    <a:pt x="1003" y="1299"/>
                  </a:lnTo>
                  <a:lnTo>
                    <a:pt x="1009" y="1293"/>
                  </a:lnTo>
                  <a:lnTo>
                    <a:pt x="1013" y="1289"/>
                  </a:lnTo>
                  <a:lnTo>
                    <a:pt x="1013" y="1289"/>
                  </a:lnTo>
                  <a:lnTo>
                    <a:pt x="1025" y="1283"/>
                  </a:lnTo>
                  <a:lnTo>
                    <a:pt x="1036" y="1276"/>
                  </a:lnTo>
                  <a:lnTo>
                    <a:pt x="1061" y="1263"/>
                  </a:lnTo>
                  <a:lnTo>
                    <a:pt x="1061" y="1263"/>
                  </a:lnTo>
                  <a:lnTo>
                    <a:pt x="1087" y="1252"/>
                  </a:lnTo>
                  <a:lnTo>
                    <a:pt x="1111" y="1241"/>
                  </a:lnTo>
                  <a:lnTo>
                    <a:pt x="1111" y="1241"/>
                  </a:lnTo>
                  <a:lnTo>
                    <a:pt x="1131" y="1232"/>
                  </a:lnTo>
                  <a:lnTo>
                    <a:pt x="1150" y="1225"/>
                  </a:lnTo>
                  <a:lnTo>
                    <a:pt x="1170" y="1218"/>
                  </a:lnTo>
                  <a:lnTo>
                    <a:pt x="1191" y="1212"/>
                  </a:lnTo>
                  <a:lnTo>
                    <a:pt x="1211" y="1207"/>
                  </a:lnTo>
                  <a:lnTo>
                    <a:pt x="1232" y="1202"/>
                  </a:lnTo>
                  <a:lnTo>
                    <a:pt x="1275" y="1194"/>
                  </a:lnTo>
                  <a:lnTo>
                    <a:pt x="1320" y="1187"/>
                  </a:lnTo>
                  <a:lnTo>
                    <a:pt x="1365" y="1182"/>
                  </a:lnTo>
                  <a:lnTo>
                    <a:pt x="1456" y="1174"/>
                  </a:lnTo>
                  <a:lnTo>
                    <a:pt x="1456" y="1174"/>
                  </a:lnTo>
                  <a:lnTo>
                    <a:pt x="1529" y="1166"/>
                  </a:lnTo>
                  <a:lnTo>
                    <a:pt x="1565" y="1162"/>
                  </a:lnTo>
                  <a:lnTo>
                    <a:pt x="1603" y="1160"/>
                  </a:lnTo>
                  <a:lnTo>
                    <a:pt x="1639" y="1157"/>
                  </a:lnTo>
                  <a:lnTo>
                    <a:pt x="1677" y="1159"/>
                  </a:lnTo>
                  <a:lnTo>
                    <a:pt x="1714" y="1161"/>
                  </a:lnTo>
                  <a:lnTo>
                    <a:pt x="1732" y="1163"/>
                  </a:lnTo>
                  <a:lnTo>
                    <a:pt x="1751" y="1166"/>
                  </a:lnTo>
                  <a:lnTo>
                    <a:pt x="1751" y="1166"/>
                  </a:lnTo>
                  <a:lnTo>
                    <a:pt x="1775" y="1067"/>
                  </a:lnTo>
                  <a:lnTo>
                    <a:pt x="1801" y="967"/>
                  </a:lnTo>
                  <a:lnTo>
                    <a:pt x="1829" y="867"/>
                  </a:lnTo>
                  <a:lnTo>
                    <a:pt x="1856" y="773"/>
                  </a:lnTo>
                  <a:lnTo>
                    <a:pt x="1856" y="773"/>
                  </a:lnTo>
                  <a:lnTo>
                    <a:pt x="1858" y="766"/>
                  </a:lnTo>
                  <a:lnTo>
                    <a:pt x="1859" y="758"/>
                  </a:lnTo>
                  <a:lnTo>
                    <a:pt x="1861" y="743"/>
                  </a:lnTo>
                  <a:lnTo>
                    <a:pt x="1861" y="743"/>
                  </a:lnTo>
                  <a:lnTo>
                    <a:pt x="1865" y="733"/>
                  </a:lnTo>
                  <a:lnTo>
                    <a:pt x="1869" y="723"/>
                  </a:lnTo>
                  <a:lnTo>
                    <a:pt x="1874" y="713"/>
                  </a:lnTo>
                  <a:lnTo>
                    <a:pt x="1877" y="703"/>
                  </a:lnTo>
                  <a:lnTo>
                    <a:pt x="1877" y="703"/>
                  </a:lnTo>
                  <a:lnTo>
                    <a:pt x="1880" y="692"/>
                  </a:lnTo>
                  <a:lnTo>
                    <a:pt x="1882" y="680"/>
                  </a:lnTo>
                  <a:lnTo>
                    <a:pt x="1884" y="668"/>
                  </a:lnTo>
                  <a:lnTo>
                    <a:pt x="1888" y="655"/>
                  </a:lnTo>
                  <a:lnTo>
                    <a:pt x="1888" y="655"/>
                  </a:lnTo>
                  <a:lnTo>
                    <a:pt x="1903" y="609"/>
                  </a:lnTo>
                  <a:lnTo>
                    <a:pt x="1917" y="563"/>
                  </a:lnTo>
                  <a:lnTo>
                    <a:pt x="1923" y="541"/>
                  </a:lnTo>
                  <a:lnTo>
                    <a:pt x="1928" y="518"/>
                  </a:lnTo>
                  <a:lnTo>
                    <a:pt x="1933" y="497"/>
                  </a:lnTo>
                  <a:lnTo>
                    <a:pt x="1936" y="476"/>
                  </a:lnTo>
                  <a:lnTo>
                    <a:pt x="1936" y="476"/>
                  </a:lnTo>
                  <a:lnTo>
                    <a:pt x="1922" y="473"/>
                  </a:lnTo>
                  <a:lnTo>
                    <a:pt x="1906" y="470"/>
                  </a:lnTo>
                  <a:lnTo>
                    <a:pt x="1891" y="468"/>
                  </a:lnTo>
                  <a:lnTo>
                    <a:pt x="1876" y="466"/>
                  </a:lnTo>
                  <a:lnTo>
                    <a:pt x="1876" y="466"/>
                  </a:lnTo>
                  <a:close/>
                  <a:moveTo>
                    <a:pt x="1783" y="572"/>
                  </a:moveTo>
                  <a:lnTo>
                    <a:pt x="1783" y="572"/>
                  </a:lnTo>
                  <a:lnTo>
                    <a:pt x="1785" y="566"/>
                  </a:lnTo>
                  <a:lnTo>
                    <a:pt x="1786" y="560"/>
                  </a:lnTo>
                  <a:lnTo>
                    <a:pt x="1788" y="554"/>
                  </a:lnTo>
                  <a:lnTo>
                    <a:pt x="1788" y="551"/>
                  </a:lnTo>
                  <a:lnTo>
                    <a:pt x="1787" y="549"/>
                  </a:lnTo>
                  <a:lnTo>
                    <a:pt x="1787" y="549"/>
                  </a:lnTo>
                  <a:lnTo>
                    <a:pt x="1783" y="561"/>
                  </a:lnTo>
                  <a:lnTo>
                    <a:pt x="1782" y="567"/>
                  </a:lnTo>
                  <a:lnTo>
                    <a:pt x="1782" y="570"/>
                  </a:lnTo>
                  <a:lnTo>
                    <a:pt x="1783" y="572"/>
                  </a:lnTo>
                  <a:lnTo>
                    <a:pt x="1783" y="572"/>
                  </a:lnTo>
                  <a:close/>
                  <a:moveTo>
                    <a:pt x="1470" y="862"/>
                  </a:moveTo>
                  <a:lnTo>
                    <a:pt x="1470" y="862"/>
                  </a:lnTo>
                  <a:lnTo>
                    <a:pt x="1458" y="864"/>
                  </a:lnTo>
                  <a:lnTo>
                    <a:pt x="1448" y="866"/>
                  </a:lnTo>
                  <a:lnTo>
                    <a:pt x="1425" y="873"/>
                  </a:lnTo>
                  <a:lnTo>
                    <a:pt x="1405" y="881"/>
                  </a:lnTo>
                  <a:lnTo>
                    <a:pt x="1385" y="892"/>
                  </a:lnTo>
                  <a:lnTo>
                    <a:pt x="1366" y="903"/>
                  </a:lnTo>
                  <a:lnTo>
                    <a:pt x="1348" y="913"/>
                  </a:lnTo>
                  <a:lnTo>
                    <a:pt x="1311" y="937"/>
                  </a:lnTo>
                  <a:lnTo>
                    <a:pt x="1311" y="937"/>
                  </a:lnTo>
                  <a:lnTo>
                    <a:pt x="1282" y="960"/>
                  </a:lnTo>
                  <a:lnTo>
                    <a:pt x="1252" y="983"/>
                  </a:lnTo>
                  <a:lnTo>
                    <a:pt x="1222" y="1005"/>
                  </a:lnTo>
                  <a:lnTo>
                    <a:pt x="1193" y="1029"/>
                  </a:lnTo>
                  <a:lnTo>
                    <a:pt x="1193" y="1029"/>
                  </a:lnTo>
                  <a:lnTo>
                    <a:pt x="1164" y="1059"/>
                  </a:lnTo>
                  <a:lnTo>
                    <a:pt x="1136" y="1089"/>
                  </a:lnTo>
                  <a:lnTo>
                    <a:pt x="1108" y="1121"/>
                  </a:lnTo>
                  <a:lnTo>
                    <a:pt x="1080" y="1152"/>
                  </a:lnTo>
                  <a:lnTo>
                    <a:pt x="1054" y="1185"/>
                  </a:lnTo>
                  <a:lnTo>
                    <a:pt x="1028" y="1218"/>
                  </a:lnTo>
                  <a:lnTo>
                    <a:pt x="1004" y="1252"/>
                  </a:lnTo>
                  <a:lnTo>
                    <a:pt x="982" y="1285"/>
                  </a:lnTo>
                  <a:lnTo>
                    <a:pt x="982" y="1285"/>
                  </a:lnTo>
                  <a:lnTo>
                    <a:pt x="1017" y="1246"/>
                  </a:lnTo>
                  <a:lnTo>
                    <a:pt x="1055" y="1209"/>
                  </a:lnTo>
                  <a:lnTo>
                    <a:pt x="1075" y="1191"/>
                  </a:lnTo>
                  <a:lnTo>
                    <a:pt x="1094" y="1174"/>
                  </a:lnTo>
                  <a:lnTo>
                    <a:pt x="1115" y="1156"/>
                  </a:lnTo>
                  <a:lnTo>
                    <a:pt x="1136" y="1139"/>
                  </a:lnTo>
                  <a:lnTo>
                    <a:pt x="1136" y="1139"/>
                  </a:lnTo>
                  <a:lnTo>
                    <a:pt x="1142" y="1137"/>
                  </a:lnTo>
                  <a:lnTo>
                    <a:pt x="1149" y="1134"/>
                  </a:lnTo>
                  <a:lnTo>
                    <a:pt x="1162" y="1124"/>
                  </a:lnTo>
                  <a:lnTo>
                    <a:pt x="1185" y="1104"/>
                  </a:lnTo>
                  <a:lnTo>
                    <a:pt x="1185" y="1104"/>
                  </a:lnTo>
                  <a:lnTo>
                    <a:pt x="1200" y="1096"/>
                  </a:lnTo>
                  <a:lnTo>
                    <a:pt x="1215" y="1087"/>
                  </a:lnTo>
                  <a:lnTo>
                    <a:pt x="1243" y="1069"/>
                  </a:lnTo>
                  <a:lnTo>
                    <a:pt x="1271" y="1048"/>
                  </a:lnTo>
                  <a:lnTo>
                    <a:pt x="1285" y="1040"/>
                  </a:lnTo>
                  <a:lnTo>
                    <a:pt x="1300" y="1031"/>
                  </a:lnTo>
                  <a:lnTo>
                    <a:pt x="1300" y="1031"/>
                  </a:lnTo>
                  <a:lnTo>
                    <a:pt x="1329" y="1015"/>
                  </a:lnTo>
                  <a:lnTo>
                    <a:pt x="1359" y="999"/>
                  </a:lnTo>
                  <a:lnTo>
                    <a:pt x="1375" y="991"/>
                  </a:lnTo>
                  <a:lnTo>
                    <a:pt x="1391" y="984"/>
                  </a:lnTo>
                  <a:lnTo>
                    <a:pt x="1407" y="978"/>
                  </a:lnTo>
                  <a:lnTo>
                    <a:pt x="1424" y="972"/>
                  </a:lnTo>
                  <a:lnTo>
                    <a:pt x="1424" y="972"/>
                  </a:lnTo>
                  <a:lnTo>
                    <a:pt x="1426" y="969"/>
                  </a:lnTo>
                  <a:lnTo>
                    <a:pt x="1429" y="968"/>
                  </a:lnTo>
                  <a:lnTo>
                    <a:pt x="1433" y="966"/>
                  </a:lnTo>
                  <a:lnTo>
                    <a:pt x="1435" y="964"/>
                  </a:lnTo>
                  <a:lnTo>
                    <a:pt x="1435" y="964"/>
                  </a:lnTo>
                  <a:lnTo>
                    <a:pt x="1485" y="948"/>
                  </a:lnTo>
                  <a:lnTo>
                    <a:pt x="1513" y="939"/>
                  </a:lnTo>
                  <a:lnTo>
                    <a:pt x="1542" y="933"/>
                  </a:lnTo>
                  <a:lnTo>
                    <a:pt x="1572" y="927"/>
                  </a:lnTo>
                  <a:lnTo>
                    <a:pt x="1587" y="925"/>
                  </a:lnTo>
                  <a:lnTo>
                    <a:pt x="1602" y="924"/>
                  </a:lnTo>
                  <a:lnTo>
                    <a:pt x="1617" y="924"/>
                  </a:lnTo>
                  <a:lnTo>
                    <a:pt x="1632" y="925"/>
                  </a:lnTo>
                  <a:lnTo>
                    <a:pt x="1647" y="927"/>
                  </a:lnTo>
                  <a:lnTo>
                    <a:pt x="1661" y="929"/>
                  </a:lnTo>
                  <a:lnTo>
                    <a:pt x="1661" y="929"/>
                  </a:lnTo>
                  <a:lnTo>
                    <a:pt x="1661" y="926"/>
                  </a:lnTo>
                  <a:lnTo>
                    <a:pt x="1661" y="923"/>
                  </a:lnTo>
                  <a:lnTo>
                    <a:pt x="1659" y="919"/>
                  </a:lnTo>
                  <a:lnTo>
                    <a:pt x="1656" y="914"/>
                  </a:lnTo>
                  <a:lnTo>
                    <a:pt x="1655" y="910"/>
                  </a:lnTo>
                  <a:lnTo>
                    <a:pt x="1655" y="910"/>
                  </a:lnTo>
                  <a:lnTo>
                    <a:pt x="1626" y="908"/>
                  </a:lnTo>
                  <a:lnTo>
                    <a:pt x="1626" y="908"/>
                  </a:lnTo>
                  <a:lnTo>
                    <a:pt x="1617" y="904"/>
                  </a:lnTo>
                  <a:lnTo>
                    <a:pt x="1607" y="900"/>
                  </a:lnTo>
                  <a:lnTo>
                    <a:pt x="1596" y="899"/>
                  </a:lnTo>
                  <a:lnTo>
                    <a:pt x="1585" y="898"/>
                  </a:lnTo>
                  <a:lnTo>
                    <a:pt x="1573" y="899"/>
                  </a:lnTo>
                  <a:lnTo>
                    <a:pt x="1561" y="899"/>
                  </a:lnTo>
                  <a:lnTo>
                    <a:pt x="1538" y="903"/>
                  </a:lnTo>
                  <a:lnTo>
                    <a:pt x="1538" y="903"/>
                  </a:lnTo>
                  <a:lnTo>
                    <a:pt x="1505" y="909"/>
                  </a:lnTo>
                  <a:lnTo>
                    <a:pt x="1489" y="913"/>
                  </a:lnTo>
                  <a:lnTo>
                    <a:pt x="1473" y="918"/>
                  </a:lnTo>
                  <a:lnTo>
                    <a:pt x="1458" y="923"/>
                  </a:lnTo>
                  <a:lnTo>
                    <a:pt x="1443" y="928"/>
                  </a:lnTo>
                  <a:lnTo>
                    <a:pt x="1429" y="935"/>
                  </a:lnTo>
                  <a:lnTo>
                    <a:pt x="1417" y="942"/>
                  </a:lnTo>
                  <a:lnTo>
                    <a:pt x="1417" y="942"/>
                  </a:lnTo>
                  <a:lnTo>
                    <a:pt x="1407" y="950"/>
                  </a:lnTo>
                  <a:lnTo>
                    <a:pt x="1397" y="957"/>
                  </a:lnTo>
                  <a:lnTo>
                    <a:pt x="1392" y="960"/>
                  </a:lnTo>
                  <a:lnTo>
                    <a:pt x="1388" y="963"/>
                  </a:lnTo>
                  <a:lnTo>
                    <a:pt x="1382" y="965"/>
                  </a:lnTo>
                  <a:lnTo>
                    <a:pt x="1376" y="965"/>
                  </a:lnTo>
                  <a:lnTo>
                    <a:pt x="1376" y="965"/>
                  </a:lnTo>
                  <a:lnTo>
                    <a:pt x="1380" y="960"/>
                  </a:lnTo>
                  <a:lnTo>
                    <a:pt x="1387" y="957"/>
                  </a:lnTo>
                  <a:lnTo>
                    <a:pt x="1399" y="951"/>
                  </a:lnTo>
                  <a:lnTo>
                    <a:pt x="1399" y="951"/>
                  </a:lnTo>
                  <a:lnTo>
                    <a:pt x="1408" y="942"/>
                  </a:lnTo>
                  <a:lnTo>
                    <a:pt x="1418" y="934"/>
                  </a:lnTo>
                  <a:lnTo>
                    <a:pt x="1428" y="927"/>
                  </a:lnTo>
                  <a:lnTo>
                    <a:pt x="1439" y="921"/>
                  </a:lnTo>
                  <a:lnTo>
                    <a:pt x="1452" y="915"/>
                  </a:lnTo>
                  <a:lnTo>
                    <a:pt x="1465" y="910"/>
                  </a:lnTo>
                  <a:lnTo>
                    <a:pt x="1478" y="906"/>
                  </a:lnTo>
                  <a:lnTo>
                    <a:pt x="1491" y="902"/>
                  </a:lnTo>
                  <a:lnTo>
                    <a:pt x="1520" y="895"/>
                  </a:lnTo>
                  <a:lnTo>
                    <a:pt x="1551" y="891"/>
                  </a:lnTo>
                  <a:lnTo>
                    <a:pt x="1582" y="888"/>
                  </a:lnTo>
                  <a:lnTo>
                    <a:pt x="1612" y="885"/>
                  </a:lnTo>
                  <a:lnTo>
                    <a:pt x="1612" y="885"/>
                  </a:lnTo>
                  <a:lnTo>
                    <a:pt x="1612" y="880"/>
                  </a:lnTo>
                  <a:lnTo>
                    <a:pt x="1612" y="876"/>
                  </a:lnTo>
                  <a:lnTo>
                    <a:pt x="1611" y="872"/>
                  </a:lnTo>
                  <a:lnTo>
                    <a:pt x="1609" y="869"/>
                  </a:lnTo>
                  <a:lnTo>
                    <a:pt x="1609" y="869"/>
                  </a:lnTo>
                  <a:lnTo>
                    <a:pt x="1585" y="869"/>
                  </a:lnTo>
                  <a:lnTo>
                    <a:pt x="1560" y="873"/>
                  </a:lnTo>
                  <a:lnTo>
                    <a:pt x="1535" y="877"/>
                  </a:lnTo>
                  <a:lnTo>
                    <a:pt x="1511" y="882"/>
                  </a:lnTo>
                  <a:lnTo>
                    <a:pt x="1486" y="889"/>
                  </a:lnTo>
                  <a:lnTo>
                    <a:pt x="1464" y="896"/>
                  </a:lnTo>
                  <a:lnTo>
                    <a:pt x="1422" y="910"/>
                  </a:lnTo>
                  <a:lnTo>
                    <a:pt x="1422" y="910"/>
                  </a:lnTo>
                  <a:lnTo>
                    <a:pt x="1436" y="900"/>
                  </a:lnTo>
                  <a:lnTo>
                    <a:pt x="1451" y="892"/>
                  </a:lnTo>
                  <a:lnTo>
                    <a:pt x="1467" y="885"/>
                  </a:lnTo>
                  <a:lnTo>
                    <a:pt x="1484" y="879"/>
                  </a:lnTo>
                  <a:lnTo>
                    <a:pt x="1502" y="874"/>
                  </a:lnTo>
                  <a:lnTo>
                    <a:pt x="1519" y="868"/>
                  </a:lnTo>
                  <a:lnTo>
                    <a:pt x="1554" y="860"/>
                  </a:lnTo>
                  <a:lnTo>
                    <a:pt x="1554" y="860"/>
                  </a:lnTo>
                  <a:lnTo>
                    <a:pt x="1511" y="860"/>
                  </a:lnTo>
                  <a:lnTo>
                    <a:pt x="1490" y="860"/>
                  </a:lnTo>
                  <a:lnTo>
                    <a:pt x="1470" y="862"/>
                  </a:lnTo>
                  <a:lnTo>
                    <a:pt x="1470" y="862"/>
                  </a:lnTo>
                  <a:close/>
                  <a:moveTo>
                    <a:pt x="437" y="1121"/>
                  </a:moveTo>
                  <a:lnTo>
                    <a:pt x="437" y="1121"/>
                  </a:lnTo>
                  <a:lnTo>
                    <a:pt x="430" y="1120"/>
                  </a:lnTo>
                  <a:lnTo>
                    <a:pt x="423" y="1118"/>
                  </a:lnTo>
                  <a:lnTo>
                    <a:pt x="423" y="1118"/>
                  </a:lnTo>
                  <a:lnTo>
                    <a:pt x="336" y="1093"/>
                  </a:lnTo>
                  <a:lnTo>
                    <a:pt x="294" y="1081"/>
                  </a:lnTo>
                  <a:lnTo>
                    <a:pt x="254" y="1072"/>
                  </a:lnTo>
                  <a:lnTo>
                    <a:pt x="254" y="1072"/>
                  </a:lnTo>
                  <a:lnTo>
                    <a:pt x="209" y="1062"/>
                  </a:lnTo>
                  <a:lnTo>
                    <a:pt x="163" y="1054"/>
                  </a:lnTo>
                  <a:lnTo>
                    <a:pt x="76" y="1038"/>
                  </a:lnTo>
                  <a:lnTo>
                    <a:pt x="76" y="1038"/>
                  </a:lnTo>
                  <a:lnTo>
                    <a:pt x="71" y="1041"/>
                  </a:lnTo>
                  <a:lnTo>
                    <a:pt x="65" y="1041"/>
                  </a:lnTo>
                  <a:lnTo>
                    <a:pt x="61" y="1041"/>
                  </a:lnTo>
                  <a:lnTo>
                    <a:pt x="55" y="1042"/>
                  </a:lnTo>
                  <a:lnTo>
                    <a:pt x="55" y="1042"/>
                  </a:lnTo>
                  <a:lnTo>
                    <a:pt x="49" y="1051"/>
                  </a:lnTo>
                  <a:lnTo>
                    <a:pt x="42" y="1061"/>
                  </a:lnTo>
                  <a:lnTo>
                    <a:pt x="35" y="1070"/>
                  </a:lnTo>
                  <a:lnTo>
                    <a:pt x="30" y="1080"/>
                  </a:lnTo>
                  <a:lnTo>
                    <a:pt x="30" y="1080"/>
                  </a:lnTo>
                  <a:lnTo>
                    <a:pt x="51" y="1081"/>
                  </a:lnTo>
                  <a:lnTo>
                    <a:pt x="70" y="1084"/>
                  </a:lnTo>
                  <a:lnTo>
                    <a:pt x="107" y="1088"/>
                  </a:lnTo>
                  <a:lnTo>
                    <a:pt x="107" y="1088"/>
                  </a:lnTo>
                  <a:lnTo>
                    <a:pt x="179" y="1099"/>
                  </a:lnTo>
                  <a:lnTo>
                    <a:pt x="251" y="1110"/>
                  </a:lnTo>
                  <a:lnTo>
                    <a:pt x="321" y="1122"/>
                  </a:lnTo>
                  <a:lnTo>
                    <a:pt x="391" y="1132"/>
                  </a:lnTo>
                  <a:lnTo>
                    <a:pt x="391" y="1132"/>
                  </a:lnTo>
                  <a:lnTo>
                    <a:pt x="454" y="1139"/>
                  </a:lnTo>
                  <a:lnTo>
                    <a:pt x="487" y="1144"/>
                  </a:lnTo>
                  <a:lnTo>
                    <a:pt x="523" y="1148"/>
                  </a:lnTo>
                  <a:lnTo>
                    <a:pt x="523" y="1148"/>
                  </a:lnTo>
                  <a:lnTo>
                    <a:pt x="530" y="1151"/>
                  </a:lnTo>
                  <a:lnTo>
                    <a:pt x="534" y="1151"/>
                  </a:lnTo>
                  <a:lnTo>
                    <a:pt x="535" y="1150"/>
                  </a:lnTo>
                  <a:lnTo>
                    <a:pt x="536" y="1148"/>
                  </a:lnTo>
                  <a:lnTo>
                    <a:pt x="536" y="1148"/>
                  </a:lnTo>
                  <a:lnTo>
                    <a:pt x="487" y="1136"/>
                  </a:lnTo>
                  <a:lnTo>
                    <a:pt x="461" y="1130"/>
                  </a:lnTo>
                  <a:lnTo>
                    <a:pt x="437" y="1121"/>
                  </a:lnTo>
                  <a:lnTo>
                    <a:pt x="437" y="1121"/>
                  </a:lnTo>
                  <a:close/>
                  <a:moveTo>
                    <a:pt x="657" y="1209"/>
                  </a:moveTo>
                  <a:lnTo>
                    <a:pt x="657" y="1209"/>
                  </a:lnTo>
                  <a:lnTo>
                    <a:pt x="624" y="1195"/>
                  </a:lnTo>
                  <a:lnTo>
                    <a:pt x="607" y="1188"/>
                  </a:lnTo>
                  <a:lnTo>
                    <a:pt x="589" y="1182"/>
                  </a:lnTo>
                  <a:lnTo>
                    <a:pt x="589" y="1182"/>
                  </a:lnTo>
                  <a:lnTo>
                    <a:pt x="572" y="1176"/>
                  </a:lnTo>
                  <a:lnTo>
                    <a:pt x="555" y="1169"/>
                  </a:lnTo>
                  <a:lnTo>
                    <a:pt x="555" y="1169"/>
                  </a:lnTo>
                  <a:lnTo>
                    <a:pt x="546" y="1167"/>
                  </a:lnTo>
                  <a:lnTo>
                    <a:pt x="536" y="1166"/>
                  </a:lnTo>
                  <a:lnTo>
                    <a:pt x="515" y="1164"/>
                  </a:lnTo>
                  <a:lnTo>
                    <a:pt x="494" y="1162"/>
                  </a:lnTo>
                  <a:lnTo>
                    <a:pt x="473" y="1159"/>
                  </a:lnTo>
                  <a:lnTo>
                    <a:pt x="473" y="1159"/>
                  </a:lnTo>
                  <a:lnTo>
                    <a:pt x="442" y="1154"/>
                  </a:lnTo>
                  <a:lnTo>
                    <a:pt x="411" y="1150"/>
                  </a:lnTo>
                  <a:lnTo>
                    <a:pt x="347" y="1142"/>
                  </a:lnTo>
                  <a:lnTo>
                    <a:pt x="347" y="1142"/>
                  </a:lnTo>
                  <a:lnTo>
                    <a:pt x="307" y="1138"/>
                  </a:lnTo>
                  <a:lnTo>
                    <a:pt x="269" y="1132"/>
                  </a:lnTo>
                  <a:lnTo>
                    <a:pt x="194" y="1118"/>
                  </a:lnTo>
                  <a:lnTo>
                    <a:pt x="156" y="1111"/>
                  </a:lnTo>
                  <a:lnTo>
                    <a:pt x="119" y="1105"/>
                  </a:lnTo>
                  <a:lnTo>
                    <a:pt x="82" y="1100"/>
                  </a:lnTo>
                  <a:lnTo>
                    <a:pt x="46" y="1096"/>
                  </a:lnTo>
                  <a:lnTo>
                    <a:pt x="46" y="1096"/>
                  </a:lnTo>
                  <a:lnTo>
                    <a:pt x="42" y="1101"/>
                  </a:lnTo>
                  <a:lnTo>
                    <a:pt x="37" y="1105"/>
                  </a:lnTo>
                  <a:lnTo>
                    <a:pt x="30" y="1115"/>
                  </a:lnTo>
                  <a:lnTo>
                    <a:pt x="25" y="1126"/>
                  </a:lnTo>
                  <a:lnTo>
                    <a:pt x="21" y="1136"/>
                  </a:lnTo>
                  <a:lnTo>
                    <a:pt x="21" y="1136"/>
                  </a:lnTo>
                  <a:lnTo>
                    <a:pt x="57" y="1138"/>
                  </a:lnTo>
                  <a:lnTo>
                    <a:pt x="93" y="1142"/>
                  </a:lnTo>
                  <a:lnTo>
                    <a:pt x="131" y="1147"/>
                  </a:lnTo>
                  <a:lnTo>
                    <a:pt x="169" y="1152"/>
                  </a:lnTo>
                  <a:lnTo>
                    <a:pt x="169" y="1152"/>
                  </a:lnTo>
                  <a:lnTo>
                    <a:pt x="215" y="1155"/>
                  </a:lnTo>
                  <a:lnTo>
                    <a:pt x="264" y="1157"/>
                  </a:lnTo>
                  <a:lnTo>
                    <a:pt x="313" y="1160"/>
                  </a:lnTo>
                  <a:lnTo>
                    <a:pt x="335" y="1162"/>
                  </a:lnTo>
                  <a:lnTo>
                    <a:pt x="355" y="1164"/>
                  </a:lnTo>
                  <a:lnTo>
                    <a:pt x="355" y="1164"/>
                  </a:lnTo>
                  <a:lnTo>
                    <a:pt x="393" y="1168"/>
                  </a:lnTo>
                  <a:lnTo>
                    <a:pt x="410" y="1170"/>
                  </a:lnTo>
                  <a:lnTo>
                    <a:pt x="427" y="1174"/>
                  </a:lnTo>
                  <a:lnTo>
                    <a:pt x="427" y="1174"/>
                  </a:lnTo>
                  <a:lnTo>
                    <a:pt x="430" y="1175"/>
                  </a:lnTo>
                  <a:lnTo>
                    <a:pt x="435" y="1177"/>
                  </a:lnTo>
                  <a:lnTo>
                    <a:pt x="439" y="1179"/>
                  </a:lnTo>
                  <a:lnTo>
                    <a:pt x="442" y="1180"/>
                  </a:lnTo>
                  <a:lnTo>
                    <a:pt x="442" y="1180"/>
                  </a:lnTo>
                  <a:lnTo>
                    <a:pt x="455" y="1183"/>
                  </a:lnTo>
                  <a:lnTo>
                    <a:pt x="467" y="1184"/>
                  </a:lnTo>
                  <a:lnTo>
                    <a:pt x="491" y="1186"/>
                  </a:lnTo>
                  <a:lnTo>
                    <a:pt x="516" y="1188"/>
                  </a:lnTo>
                  <a:lnTo>
                    <a:pt x="529" y="1191"/>
                  </a:lnTo>
                  <a:lnTo>
                    <a:pt x="541" y="1193"/>
                  </a:lnTo>
                  <a:lnTo>
                    <a:pt x="541" y="1193"/>
                  </a:lnTo>
                  <a:lnTo>
                    <a:pt x="616" y="1212"/>
                  </a:lnTo>
                  <a:lnTo>
                    <a:pt x="684" y="1231"/>
                  </a:lnTo>
                  <a:lnTo>
                    <a:pt x="684" y="1231"/>
                  </a:lnTo>
                  <a:lnTo>
                    <a:pt x="710" y="1240"/>
                  </a:lnTo>
                  <a:lnTo>
                    <a:pt x="723" y="1243"/>
                  </a:lnTo>
                  <a:lnTo>
                    <a:pt x="729" y="1243"/>
                  </a:lnTo>
                  <a:lnTo>
                    <a:pt x="736" y="1242"/>
                  </a:lnTo>
                  <a:lnTo>
                    <a:pt x="736" y="1242"/>
                  </a:lnTo>
                  <a:lnTo>
                    <a:pt x="725" y="1240"/>
                  </a:lnTo>
                  <a:lnTo>
                    <a:pt x="714" y="1236"/>
                  </a:lnTo>
                  <a:lnTo>
                    <a:pt x="695" y="1226"/>
                  </a:lnTo>
                  <a:lnTo>
                    <a:pt x="676" y="1216"/>
                  </a:lnTo>
                  <a:lnTo>
                    <a:pt x="667" y="1212"/>
                  </a:lnTo>
                  <a:lnTo>
                    <a:pt x="657" y="1209"/>
                  </a:lnTo>
                  <a:lnTo>
                    <a:pt x="657" y="1209"/>
                  </a:lnTo>
                  <a:close/>
                  <a:moveTo>
                    <a:pt x="587" y="1164"/>
                  </a:moveTo>
                  <a:lnTo>
                    <a:pt x="587" y="1164"/>
                  </a:lnTo>
                  <a:lnTo>
                    <a:pt x="564" y="1155"/>
                  </a:lnTo>
                  <a:lnTo>
                    <a:pt x="541" y="1148"/>
                  </a:lnTo>
                  <a:lnTo>
                    <a:pt x="541" y="1148"/>
                  </a:lnTo>
                  <a:lnTo>
                    <a:pt x="545" y="1151"/>
                  </a:lnTo>
                  <a:lnTo>
                    <a:pt x="550" y="1154"/>
                  </a:lnTo>
                  <a:lnTo>
                    <a:pt x="563" y="1159"/>
                  </a:lnTo>
                  <a:lnTo>
                    <a:pt x="576" y="1162"/>
                  </a:lnTo>
                  <a:lnTo>
                    <a:pt x="587" y="1164"/>
                  </a:lnTo>
                  <a:lnTo>
                    <a:pt x="587" y="1164"/>
                  </a:lnTo>
                  <a:close/>
                  <a:moveTo>
                    <a:pt x="474" y="1198"/>
                  </a:moveTo>
                  <a:lnTo>
                    <a:pt x="474" y="1198"/>
                  </a:lnTo>
                  <a:lnTo>
                    <a:pt x="439" y="1193"/>
                  </a:lnTo>
                  <a:lnTo>
                    <a:pt x="421" y="1190"/>
                  </a:lnTo>
                  <a:lnTo>
                    <a:pt x="402" y="1187"/>
                  </a:lnTo>
                  <a:lnTo>
                    <a:pt x="402" y="1187"/>
                  </a:lnTo>
                  <a:lnTo>
                    <a:pt x="370" y="1183"/>
                  </a:lnTo>
                  <a:lnTo>
                    <a:pt x="340" y="1178"/>
                  </a:lnTo>
                  <a:lnTo>
                    <a:pt x="309" y="1172"/>
                  </a:lnTo>
                  <a:lnTo>
                    <a:pt x="296" y="1170"/>
                  </a:lnTo>
                  <a:lnTo>
                    <a:pt x="281" y="1169"/>
                  </a:lnTo>
                  <a:lnTo>
                    <a:pt x="281" y="1169"/>
                  </a:lnTo>
                  <a:lnTo>
                    <a:pt x="199" y="1167"/>
                  </a:lnTo>
                  <a:lnTo>
                    <a:pt x="161" y="1166"/>
                  </a:lnTo>
                  <a:lnTo>
                    <a:pt x="142" y="1165"/>
                  </a:lnTo>
                  <a:lnTo>
                    <a:pt x="124" y="1163"/>
                  </a:lnTo>
                  <a:lnTo>
                    <a:pt x="124" y="1163"/>
                  </a:lnTo>
                  <a:lnTo>
                    <a:pt x="91" y="1159"/>
                  </a:lnTo>
                  <a:lnTo>
                    <a:pt x="91" y="1159"/>
                  </a:lnTo>
                  <a:lnTo>
                    <a:pt x="81" y="1157"/>
                  </a:lnTo>
                  <a:lnTo>
                    <a:pt x="71" y="1155"/>
                  </a:lnTo>
                  <a:lnTo>
                    <a:pt x="61" y="1153"/>
                  </a:lnTo>
                  <a:lnTo>
                    <a:pt x="57" y="1153"/>
                  </a:lnTo>
                  <a:lnTo>
                    <a:pt x="54" y="1153"/>
                  </a:lnTo>
                  <a:lnTo>
                    <a:pt x="54" y="1153"/>
                  </a:lnTo>
                  <a:lnTo>
                    <a:pt x="48" y="1156"/>
                  </a:lnTo>
                  <a:lnTo>
                    <a:pt x="43" y="1161"/>
                  </a:lnTo>
                  <a:lnTo>
                    <a:pt x="40" y="1167"/>
                  </a:lnTo>
                  <a:lnTo>
                    <a:pt x="36" y="1174"/>
                  </a:lnTo>
                  <a:lnTo>
                    <a:pt x="31" y="1188"/>
                  </a:lnTo>
                  <a:lnTo>
                    <a:pt x="29" y="1201"/>
                  </a:lnTo>
                  <a:lnTo>
                    <a:pt x="29" y="1201"/>
                  </a:lnTo>
                  <a:lnTo>
                    <a:pt x="39" y="1199"/>
                  </a:lnTo>
                  <a:lnTo>
                    <a:pt x="50" y="1198"/>
                  </a:lnTo>
                  <a:lnTo>
                    <a:pt x="73" y="1197"/>
                  </a:lnTo>
                  <a:lnTo>
                    <a:pt x="82" y="1196"/>
                  </a:lnTo>
                  <a:lnTo>
                    <a:pt x="92" y="1195"/>
                  </a:lnTo>
                  <a:lnTo>
                    <a:pt x="100" y="1192"/>
                  </a:lnTo>
                  <a:lnTo>
                    <a:pt x="103" y="1190"/>
                  </a:lnTo>
                  <a:lnTo>
                    <a:pt x="105" y="1187"/>
                  </a:lnTo>
                  <a:lnTo>
                    <a:pt x="105" y="1187"/>
                  </a:lnTo>
                  <a:lnTo>
                    <a:pt x="110" y="1192"/>
                  </a:lnTo>
                  <a:lnTo>
                    <a:pt x="118" y="1194"/>
                  </a:lnTo>
                  <a:lnTo>
                    <a:pt x="126" y="1195"/>
                  </a:lnTo>
                  <a:lnTo>
                    <a:pt x="135" y="1194"/>
                  </a:lnTo>
                  <a:lnTo>
                    <a:pt x="153" y="1192"/>
                  </a:lnTo>
                  <a:lnTo>
                    <a:pt x="162" y="1192"/>
                  </a:lnTo>
                  <a:lnTo>
                    <a:pt x="170" y="1191"/>
                  </a:lnTo>
                  <a:lnTo>
                    <a:pt x="170" y="1191"/>
                  </a:lnTo>
                  <a:lnTo>
                    <a:pt x="178" y="1192"/>
                  </a:lnTo>
                  <a:lnTo>
                    <a:pt x="185" y="1194"/>
                  </a:lnTo>
                  <a:lnTo>
                    <a:pt x="193" y="1195"/>
                  </a:lnTo>
                  <a:lnTo>
                    <a:pt x="201" y="1196"/>
                  </a:lnTo>
                  <a:lnTo>
                    <a:pt x="201" y="1196"/>
                  </a:lnTo>
                  <a:lnTo>
                    <a:pt x="275" y="1199"/>
                  </a:lnTo>
                  <a:lnTo>
                    <a:pt x="352" y="1200"/>
                  </a:lnTo>
                  <a:lnTo>
                    <a:pt x="352" y="1200"/>
                  </a:lnTo>
                  <a:lnTo>
                    <a:pt x="372" y="1200"/>
                  </a:lnTo>
                  <a:lnTo>
                    <a:pt x="392" y="1201"/>
                  </a:lnTo>
                  <a:lnTo>
                    <a:pt x="430" y="1205"/>
                  </a:lnTo>
                  <a:lnTo>
                    <a:pt x="469" y="1211"/>
                  </a:lnTo>
                  <a:lnTo>
                    <a:pt x="506" y="1217"/>
                  </a:lnTo>
                  <a:lnTo>
                    <a:pt x="580" y="1230"/>
                  </a:lnTo>
                  <a:lnTo>
                    <a:pt x="616" y="1236"/>
                  </a:lnTo>
                  <a:lnTo>
                    <a:pt x="651" y="1239"/>
                  </a:lnTo>
                  <a:lnTo>
                    <a:pt x="651" y="1239"/>
                  </a:lnTo>
                  <a:lnTo>
                    <a:pt x="610" y="1226"/>
                  </a:lnTo>
                  <a:lnTo>
                    <a:pt x="567" y="1214"/>
                  </a:lnTo>
                  <a:lnTo>
                    <a:pt x="521" y="1205"/>
                  </a:lnTo>
                  <a:lnTo>
                    <a:pt x="498" y="1201"/>
                  </a:lnTo>
                  <a:lnTo>
                    <a:pt x="474" y="1198"/>
                  </a:lnTo>
                  <a:lnTo>
                    <a:pt x="474" y="1198"/>
                  </a:lnTo>
                  <a:close/>
                  <a:moveTo>
                    <a:pt x="770" y="1237"/>
                  </a:moveTo>
                  <a:lnTo>
                    <a:pt x="770" y="1237"/>
                  </a:lnTo>
                  <a:lnTo>
                    <a:pt x="798" y="1250"/>
                  </a:lnTo>
                  <a:lnTo>
                    <a:pt x="827" y="1262"/>
                  </a:lnTo>
                  <a:lnTo>
                    <a:pt x="854" y="1275"/>
                  </a:lnTo>
                  <a:lnTo>
                    <a:pt x="882" y="1285"/>
                  </a:lnTo>
                  <a:lnTo>
                    <a:pt x="882" y="1285"/>
                  </a:lnTo>
                  <a:lnTo>
                    <a:pt x="853" y="1269"/>
                  </a:lnTo>
                  <a:lnTo>
                    <a:pt x="824" y="1255"/>
                  </a:lnTo>
                  <a:lnTo>
                    <a:pt x="794" y="1241"/>
                  </a:lnTo>
                  <a:lnTo>
                    <a:pt x="764" y="1228"/>
                  </a:lnTo>
                  <a:lnTo>
                    <a:pt x="733" y="1216"/>
                  </a:lnTo>
                  <a:lnTo>
                    <a:pt x="702" y="1205"/>
                  </a:lnTo>
                  <a:lnTo>
                    <a:pt x="636" y="1182"/>
                  </a:lnTo>
                  <a:lnTo>
                    <a:pt x="636" y="1182"/>
                  </a:lnTo>
                  <a:lnTo>
                    <a:pt x="669" y="1197"/>
                  </a:lnTo>
                  <a:lnTo>
                    <a:pt x="702" y="1212"/>
                  </a:lnTo>
                  <a:lnTo>
                    <a:pt x="720" y="1220"/>
                  </a:lnTo>
                  <a:lnTo>
                    <a:pt x="736" y="1227"/>
                  </a:lnTo>
                  <a:lnTo>
                    <a:pt x="753" y="1232"/>
                  </a:lnTo>
                  <a:lnTo>
                    <a:pt x="770" y="1237"/>
                  </a:lnTo>
                  <a:lnTo>
                    <a:pt x="770" y="1237"/>
                  </a:lnTo>
                  <a:close/>
                  <a:moveTo>
                    <a:pt x="552" y="1239"/>
                  </a:moveTo>
                  <a:lnTo>
                    <a:pt x="552" y="1239"/>
                  </a:lnTo>
                  <a:lnTo>
                    <a:pt x="516" y="1233"/>
                  </a:lnTo>
                  <a:lnTo>
                    <a:pt x="480" y="1226"/>
                  </a:lnTo>
                  <a:lnTo>
                    <a:pt x="480" y="1226"/>
                  </a:lnTo>
                  <a:lnTo>
                    <a:pt x="441" y="1221"/>
                  </a:lnTo>
                  <a:lnTo>
                    <a:pt x="399" y="1216"/>
                  </a:lnTo>
                  <a:lnTo>
                    <a:pt x="358" y="1213"/>
                  </a:lnTo>
                  <a:lnTo>
                    <a:pt x="314" y="1211"/>
                  </a:lnTo>
                  <a:lnTo>
                    <a:pt x="230" y="1209"/>
                  </a:lnTo>
                  <a:lnTo>
                    <a:pt x="156" y="1207"/>
                  </a:lnTo>
                  <a:lnTo>
                    <a:pt x="156" y="1207"/>
                  </a:lnTo>
                  <a:lnTo>
                    <a:pt x="151" y="1211"/>
                  </a:lnTo>
                  <a:lnTo>
                    <a:pt x="146" y="1216"/>
                  </a:lnTo>
                  <a:lnTo>
                    <a:pt x="142" y="1222"/>
                  </a:lnTo>
                  <a:lnTo>
                    <a:pt x="138" y="1228"/>
                  </a:lnTo>
                  <a:lnTo>
                    <a:pt x="132" y="1241"/>
                  </a:lnTo>
                  <a:lnTo>
                    <a:pt x="127" y="1256"/>
                  </a:lnTo>
                  <a:lnTo>
                    <a:pt x="118" y="1286"/>
                  </a:lnTo>
                  <a:lnTo>
                    <a:pt x="112" y="1300"/>
                  </a:lnTo>
                  <a:lnTo>
                    <a:pt x="109" y="1307"/>
                  </a:lnTo>
                  <a:lnTo>
                    <a:pt x="105" y="1314"/>
                  </a:lnTo>
                  <a:lnTo>
                    <a:pt x="105" y="1314"/>
                  </a:lnTo>
                  <a:lnTo>
                    <a:pt x="132" y="1305"/>
                  </a:lnTo>
                  <a:lnTo>
                    <a:pt x="160" y="1296"/>
                  </a:lnTo>
                  <a:lnTo>
                    <a:pt x="190" y="1288"/>
                  </a:lnTo>
                  <a:lnTo>
                    <a:pt x="219" y="1281"/>
                  </a:lnTo>
                  <a:lnTo>
                    <a:pt x="252" y="1274"/>
                  </a:lnTo>
                  <a:lnTo>
                    <a:pt x="284" y="1268"/>
                  </a:lnTo>
                  <a:lnTo>
                    <a:pt x="317" y="1263"/>
                  </a:lnTo>
                  <a:lnTo>
                    <a:pt x="350" y="1260"/>
                  </a:lnTo>
                  <a:lnTo>
                    <a:pt x="350" y="1260"/>
                  </a:lnTo>
                  <a:lnTo>
                    <a:pt x="379" y="1258"/>
                  </a:lnTo>
                  <a:lnTo>
                    <a:pt x="407" y="1257"/>
                  </a:lnTo>
                  <a:lnTo>
                    <a:pt x="464" y="1257"/>
                  </a:lnTo>
                  <a:lnTo>
                    <a:pt x="520" y="1258"/>
                  </a:lnTo>
                  <a:lnTo>
                    <a:pt x="575" y="1261"/>
                  </a:lnTo>
                  <a:lnTo>
                    <a:pt x="630" y="1267"/>
                  </a:lnTo>
                  <a:lnTo>
                    <a:pt x="682" y="1272"/>
                  </a:lnTo>
                  <a:lnTo>
                    <a:pt x="781" y="1284"/>
                  </a:lnTo>
                  <a:lnTo>
                    <a:pt x="781" y="1284"/>
                  </a:lnTo>
                  <a:lnTo>
                    <a:pt x="752" y="1275"/>
                  </a:lnTo>
                  <a:lnTo>
                    <a:pt x="723" y="1269"/>
                  </a:lnTo>
                  <a:lnTo>
                    <a:pt x="666" y="1257"/>
                  </a:lnTo>
                  <a:lnTo>
                    <a:pt x="609" y="1247"/>
                  </a:lnTo>
                  <a:lnTo>
                    <a:pt x="552" y="1239"/>
                  </a:lnTo>
                  <a:lnTo>
                    <a:pt x="552" y="1239"/>
                  </a:lnTo>
                  <a:close/>
                  <a:moveTo>
                    <a:pt x="116" y="1207"/>
                  </a:moveTo>
                  <a:lnTo>
                    <a:pt x="116" y="1207"/>
                  </a:lnTo>
                  <a:lnTo>
                    <a:pt x="110" y="1211"/>
                  </a:lnTo>
                  <a:lnTo>
                    <a:pt x="105" y="1216"/>
                  </a:lnTo>
                  <a:lnTo>
                    <a:pt x="96" y="1227"/>
                  </a:lnTo>
                  <a:lnTo>
                    <a:pt x="89" y="1239"/>
                  </a:lnTo>
                  <a:lnTo>
                    <a:pt x="80" y="1253"/>
                  </a:lnTo>
                  <a:lnTo>
                    <a:pt x="80" y="1253"/>
                  </a:lnTo>
                  <a:lnTo>
                    <a:pt x="70" y="1271"/>
                  </a:lnTo>
                  <a:lnTo>
                    <a:pt x="59" y="1289"/>
                  </a:lnTo>
                  <a:lnTo>
                    <a:pt x="59" y="1289"/>
                  </a:lnTo>
                  <a:lnTo>
                    <a:pt x="44" y="1316"/>
                  </a:lnTo>
                  <a:lnTo>
                    <a:pt x="37" y="1329"/>
                  </a:lnTo>
                  <a:lnTo>
                    <a:pt x="32" y="1342"/>
                  </a:lnTo>
                  <a:lnTo>
                    <a:pt x="27" y="1354"/>
                  </a:lnTo>
                  <a:lnTo>
                    <a:pt x="24" y="1368"/>
                  </a:lnTo>
                  <a:lnTo>
                    <a:pt x="21" y="1382"/>
                  </a:lnTo>
                  <a:lnTo>
                    <a:pt x="21" y="1397"/>
                  </a:lnTo>
                  <a:lnTo>
                    <a:pt x="21" y="1397"/>
                  </a:lnTo>
                  <a:lnTo>
                    <a:pt x="35" y="1403"/>
                  </a:lnTo>
                  <a:lnTo>
                    <a:pt x="49" y="1406"/>
                  </a:lnTo>
                  <a:lnTo>
                    <a:pt x="64" y="1409"/>
                  </a:lnTo>
                  <a:lnTo>
                    <a:pt x="79" y="1411"/>
                  </a:lnTo>
                  <a:lnTo>
                    <a:pt x="94" y="1412"/>
                  </a:lnTo>
                  <a:lnTo>
                    <a:pt x="109" y="1412"/>
                  </a:lnTo>
                  <a:lnTo>
                    <a:pt x="140" y="1412"/>
                  </a:lnTo>
                  <a:lnTo>
                    <a:pt x="171" y="1410"/>
                  </a:lnTo>
                  <a:lnTo>
                    <a:pt x="201" y="1407"/>
                  </a:lnTo>
                  <a:lnTo>
                    <a:pt x="230" y="1405"/>
                  </a:lnTo>
                  <a:lnTo>
                    <a:pt x="258" y="1404"/>
                  </a:lnTo>
                  <a:lnTo>
                    <a:pt x="258" y="1404"/>
                  </a:lnTo>
                  <a:lnTo>
                    <a:pt x="289" y="1404"/>
                  </a:lnTo>
                  <a:lnTo>
                    <a:pt x="321" y="1402"/>
                  </a:lnTo>
                  <a:lnTo>
                    <a:pt x="352" y="1399"/>
                  </a:lnTo>
                  <a:lnTo>
                    <a:pt x="384" y="1396"/>
                  </a:lnTo>
                  <a:lnTo>
                    <a:pt x="448" y="1389"/>
                  </a:lnTo>
                  <a:lnTo>
                    <a:pt x="511" y="1383"/>
                  </a:lnTo>
                  <a:lnTo>
                    <a:pt x="511" y="1383"/>
                  </a:lnTo>
                  <a:lnTo>
                    <a:pt x="577" y="1377"/>
                  </a:lnTo>
                  <a:lnTo>
                    <a:pt x="610" y="1374"/>
                  </a:lnTo>
                  <a:lnTo>
                    <a:pt x="641" y="1373"/>
                  </a:lnTo>
                  <a:lnTo>
                    <a:pt x="641" y="1373"/>
                  </a:lnTo>
                  <a:lnTo>
                    <a:pt x="667" y="1366"/>
                  </a:lnTo>
                  <a:lnTo>
                    <a:pt x="693" y="1362"/>
                  </a:lnTo>
                  <a:lnTo>
                    <a:pt x="720" y="1359"/>
                  </a:lnTo>
                  <a:lnTo>
                    <a:pt x="746" y="1357"/>
                  </a:lnTo>
                  <a:lnTo>
                    <a:pt x="801" y="1354"/>
                  </a:lnTo>
                  <a:lnTo>
                    <a:pt x="853" y="1352"/>
                  </a:lnTo>
                  <a:lnTo>
                    <a:pt x="853" y="1352"/>
                  </a:lnTo>
                  <a:lnTo>
                    <a:pt x="850" y="1341"/>
                  </a:lnTo>
                  <a:lnTo>
                    <a:pt x="846" y="1330"/>
                  </a:lnTo>
                  <a:lnTo>
                    <a:pt x="846" y="1330"/>
                  </a:lnTo>
                  <a:lnTo>
                    <a:pt x="773" y="1334"/>
                  </a:lnTo>
                  <a:lnTo>
                    <a:pt x="701" y="1338"/>
                  </a:lnTo>
                  <a:lnTo>
                    <a:pt x="666" y="1341"/>
                  </a:lnTo>
                  <a:lnTo>
                    <a:pt x="632" y="1344"/>
                  </a:lnTo>
                  <a:lnTo>
                    <a:pt x="597" y="1348"/>
                  </a:lnTo>
                  <a:lnTo>
                    <a:pt x="563" y="1352"/>
                  </a:lnTo>
                  <a:lnTo>
                    <a:pt x="563" y="1352"/>
                  </a:lnTo>
                  <a:lnTo>
                    <a:pt x="551" y="1356"/>
                  </a:lnTo>
                  <a:lnTo>
                    <a:pt x="541" y="1358"/>
                  </a:lnTo>
                  <a:lnTo>
                    <a:pt x="529" y="1360"/>
                  </a:lnTo>
                  <a:lnTo>
                    <a:pt x="517" y="1362"/>
                  </a:lnTo>
                  <a:lnTo>
                    <a:pt x="517" y="1362"/>
                  </a:lnTo>
                  <a:lnTo>
                    <a:pt x="513" y="1361"/>
                  </a:lnTo>
                  <a:lnTo>
                    <a:pt x="508" y="1361"/>
                  </a:lnTo>
                  <a:lnTo>
                    <a:pt x="502" y="1360"/>
                  </a:lnTo>
                  <a:lnTo>
                    <a:pt x="498" y="1360"/>
                  </a:lnTo>
                  <a:lnTo>
                    <a:pt x="498" y="1360"/>
                  </a:lnTo>
                  <a:lnTo>
                    <a:pt x="469" y="1363"/>
                  </a:lnTo>
                  <a:lnTo>
                    <a:pt x="439" y="1368"/>
                  </a:lnTo>
                  <a:lnTo>
                    <a:pt x="379" y="1378"/>
                  </a:lnTo>
                  <a:lnTo>
                    <a:pt x="348" y="1382"/>
                  </a:lnTo>
                  <a:lnTo>
                    <a:pt x="317" y="1386"/>
                  </a:lnTo>
                  <a:lnTo>
                    <a:pt x="287" y="1388"/>
                  </a:lnTo>
                  <a:lnTo>
                    <a:pt x="256" y="1389"/>
                  </a:lnTo>
                  <a:lnTo>
                    <a:pt x="256" y="1389"/>
                  </a:lnTo>
                  <a:lnTo>
                    <a:pt x="272" y="1383"/>
                  </a:lnTo>
                  <a:lnTo>
                    <a:pt x="287" y="1379"/>
                  </a:lnTo>
                  <a:lnTo>
                    <a:pt x="303" y="1377"/>
                  </a:lnTo>
                  <a:lnTo>
                    <a:pt x="319" y="1375"/>
                  </a:lnTo>
                  <a:lnTo>
                    <a:pt x="352" y="1372"/>
                  </a:lnTo>
                  <a:lnTo>
                    <a:pt x="368" y="1369"/>
                  </a:lnTo>
                  <a:lnTo>
                    <a:pt x="384" y="1367"/>
                  </a:lnTo>
                  <a:lnTo>
                    <a:pt x="384" y="1367"/>
                  </a:lnTo>
                  <a:lnTo>
                    <a:pt x="422" y="1359"/>
                  </a:lnTo>
                  <a:lnTo>
                    <a:pt x="459" y="1351"/>
                  </a:lnTo>
                  <a:lnTo>
                    <a:pt x="498" y="1345"/>
                  </a:lnTo>
                  <a:lnTo>
                    <a:pt x="516" y="1343"/>
                  </a:lnTo>
                  <a:lnTo>
                    <a:pt x="535" y="1342"/>
                  </a:lnTo>
                  <a:lnTo>
                    <a:pt x="535" y="1342"/>
                  </a:lnTo>
                  <a:lnTo>
                    <a:pt x="489" y="1342"/>
                  </a:lnTo>
                  <a:lnTo>
                    <a:pt x="440" y="1342"/>
                  </a:lnTo>
                  <a:lnTo>
                    <a:pt x="389" y="1344"/>
                  </a:lnTo>
                  <a:lnTo>
                    <a:pt x="362" y="1346"/>
                  </a:lnTo>
                  <a:lnTo>
                    <a:pt x="334" y="1349"/>
                  </a:lnTo>
                  <a:lnTo>
                    <a:pt x="334" y="1349"/>
                  </a:lnTo>
                  <a:lnTo>
                    <a:pt x="309" y="1351"/>
                  </a:lnTo>
                  <a:lnTo>
                    <a:pt x="285" y="1352"/>
                  </a:lnTo>
                  <a:lnTo>
                    <a:pt x="285" y="1352"/>
                  </a:lnTo>
                  <a:lnTo>
                    <a:pt x="258" y="1357"/>
                  </a:lnTo>
                  <a:lnTo>
                    <a:pt x="232" y="1361"/>
                  </a:lnTo>
                  <a:lnTo>
                    <a:pt x="208" y="1364"/>
                  </a:lnTo>
                  <a:lnTo>
                    <a:pt x="195" y="1365"/>
                  </a:lnTo>
                  <a:lnTo>
                    <a:pt x="183" y="1365"/>
                  </a:lnTo>
                  <a:lnTo>
                    <a:pt x="183" y="1365"/>
                  </a:lnTo>
                  <a:lnTo>
                    <a:pt x="165" y="1364"/>
                  </a:lnTo>
                  <a:lnTo>
                    <a:pt x="147" y="1363"/>
                  </a:lnTo>
                  <a:lnTo>
                    <a:pt x="130" y="1362"/>
                  </a:lnTo>
                  <a:lnTo>
                    <a:pt x="112" y="1363"/>
                  </a:lnTo>
                  <a:lnTo>
                    <a:pt x="112" y="1363"/>
                  </a:lnTo>
                  <a:lnTo>
                    <a:pt x="105" y="1365"/>
                  </a:lnTo>
                  <a:lnTo>
                    <a:pt x="97" y="1367"/>
                  </a:lnTo>
                  <a:lnTo>
                    <a:pt x="91" y="1369"/>
                  </a:lnTo>
                  <a:lnTo>
                    <a:pt x="87" y="1369"/>
                  </a:lnTo>
                  <a:lnTo>
                    <a:pt x="84" y="1368"/>
                  </a:lnTo>
                  <a:lnTo>
                    <a:pt x="84" y="1368"/>
                  </a:lnTo>
                  <a:lnTo>
                    <a:pt x="82" y="1365"/>
                  </a:lnTo>
                  <a:lnTo>
                    <a:pt x="82" y="1362"/>
                  </a:lnTo>
                  <a:lnTo>
                    <a:pt x="82" y="1356"/>
                  </a:lnTo>
                  <a:lnTo>
                    <a:pt x="86" y="1350"/>
                  </a:lnTo>
                  <a:lnTo>
                    <a:pt x="89" y="1346"/>
                  </a:lnTo>
                  <a:lnTo>
                    <a:pt x="89" y="1346"/>
                  </a:lnTo>
                  <a:lnTo>
                    <a:pt x="88" y="1337"/>
                  </a:lnTo>
                  <a:lnTo>
                    <a:pt x="87" y="1328"/>
                  </a:lnTo>
                  <a:lnTo>
                    <a:pt x="88" y="1320"/>
                  </a:lnTo>
                  <a:lnTo>
                    <a:pt x="89" y="1315"/>
                  </a:lnTo>
                  <a:lnTo>
                    <a:pt x="89" y="1315"/>
                  </a:lnTo>
                  <a:lnTo>
                    <a:pt x="99" y="1293"/>
                  </a:lnTo>
                  <a:lnTo>
                    <a:pt x="110" y="1269"/>
                  </a:lnTo>
                  <a:lnTo>
                    <a:pt x="121" y="1243"/>
                  </a:lnTo>
                  <a:lnTo>
                    <a:pt x="125" y="1230"/>
                  </a:lnTo>
                  <a:lnTo>
                    <a:pt x="128" y="1217"/>
                  </a:lnTo>
                  <a:lnTo>
                    <a:pt x="128" y="1217"/>
                  </a:lnTo>
                  <a:lnTo>
                    <a:pt x="132" y="1215"/>
                  </a:lnTo>
                  <a:lnTo>
                    <a:pt x="137" y="1212"/>
                  </a:lnTo>
                  <a:lnTo>
                    <a:pt x="138" y="1210"/>
                  </a:lnTo>
                  <a:lnTo>
                    <a:pt x="139" y="1209"/>
                  </a:lnTo>
                  <a:lnTo>
                    <a:pt x="139" y="1208"/>
                  </a:lnTo>
                  <a:lnTo>
                    <a:pt x="137" y="1207"/>
                  </a:lnTo>
                  <a:lnTo>
                    <a:pt x="137" y="1207"/>
                  </a:lnTo>
                  <a:lnTo>
                    <a:pt x="126" y="1208"/>
                  </a:lnTo>
                  <a:lnTo>
                    <a:pt x="116" y="1207"/>
                  </a:lnTo>
                  <a:lnTo>
                    <a:pt x="116" y="1207"/>
                  </a:lnTo>
                  <a:close/>
                  <a:moveTo>
                    <a:pt x="380" y="1271"/>
                  </a:moveTo>
                  <a:lnTo>
                    <a:pt x="380" y="1271"/>
                  </a:lnTo>
                  <a:lnTo>
                    <a:pt x="379" y="1271"/>
                  </a:lnTo>
                  <a:lnTo>
                    <a:pt x="379" y="1273"/>
                  </a:lnTo>
                  <a:lnTo>
                    <a:pt x="378" y="1274"/>
                  </a:lnTo>
                  <a:lnTo>
                    <a:pt x="377" y="1274"/>
                  </a:lnTo>
                  <a:lnTo>
                    <a:pt x="377" y="1274"/>
                  </a:lnTo>
                  <a:lnTo>
                    <a:pt x="361" y="1275"/>
                  </a:lnTo>
                  <a:lnTo>
                    <a:pt x="345" y="1276"/>
                  </a:lnTo>
                  <a:lnTo>
                    <a:pt x="311" y="1280"/>
                  </a:lnTo>
                  <a:lnTo>
                    <a:pt x="275" y="1285"/>
                  </a:lnTo>
                  <a:lnTo>
                    <a:pt x="240" y="1290"/>
                  </a:lnTo>
                  <a:lnTo>
                    <a:pt x="240" y="1290"/>
                  </a:lnTo>
                  <a:lnTo>
                    <a:pt x="206" y="1297"/>
                  </a:lnTo>
                  <a:lnTo>
                    <a:pt x="171" y="1306"/>
                  </a:lnTo>
                  <a:lnTo>
                    <a:pt x="155" y="1312"/>
                  </a:lnTo>
                  <a:lnTo>
                    <a:pt x="139" y="1317"/>
                  </a:lnTo>
                  <a:lnTo>
                    <a:pt x="123" y="1324"/>
                  </a:lnTo>
                  <a:lnTo>
                    <a:pt x="108" y="1331"/>
                  </a:lnTo>
                  <a:lnTo>
                    <a:pt x="108" y="1331"/>
                  </a:lnTo>
                  <a:lnTo>
                    <a:pt x="120" y="1331"/>
                  </a:lnTo>
                  <a:lnTo>
                    <a:pt x="132" y="1330"/>
                  </a:lnTo>
                  <a:lnTo>
                    <a:pt x="142" y="1329"/>
                  </a:lnTo>
                  <a:lnTo>
                    <a:pt x="148" y="1330"/>
                  </a:lnTo>
                  <a:lnTo>
                    <a:pt x="153" y="1331"/>
                  </a:lnTo>
                  <a:lnTo>
                    <a:pt x="153" y="1331"/>
                  </a:lnTo>
                  <a:lnTo>
                    <a:pt x="146" y="1334"/>
                  </a:lnTo>
                  <a:lnTo>
                    <a:pt x="138" y="1336"/>
                  </a:lnTo>
                  <a:lnTo>
                    <a:pt x="122" y="1337"/>
                  </a:lnTo>
                  <a:lnTo>
                    <a:pt x="115" y="1338"/>
                  </a:lnTo>
                  <a:lnTo>
                    <a:pt x="109" y="1342"/>
                  </a:lnTo>
                  <a:lnTo>
                    <a:pt x="106" y="1343"/>
                  </a:lnTo>
                  <a:lnTo>
                    <a:pt x="104" y="1345"/>
                  </a:lnTo>
                  <a:lnTo>
                    <a:pt x="103" y="1348"/>
                  </a:lnTo>
                  <a:lnTo>
                    <a:pt x="102" y="1351"/>
                  </a:lnTo>
                  <a:lnTo>
                    <a:pt x="102" y="1351"/>
                  </a:lnTo>
                  <a:lnTo>
                    <a:pt x="155" y="1349"/>
                  </a:lnTo>
                  <a:lnTo>
                    <a:pt x="211" y="1346"/>
                  </a:lnTo>
                  <a:lnTo>
                    <a:pt x="322" y="1336"/>
                  </a:lnTo>
                  <a:lnTo>
                    <a:pt x="377" y="1332"/>
                  </a:lnTo>
                  <a:lnTo>
                    <a:pt x="431" y="1329"/>
                  </a:lnTo>
                  <a:lnTo>
                    <a:pt x="485" y="1327"/>
                  </a:lnTo>
                  <a:lnTo>
                    <a:pt x="536" y="1326"/>
                  </a:lnTo>
                  <a:lnTo>
                    <a:pt x="536" y="1326"/>
                  </a:lnTo>
                  <a:lnTo>
                    <a:pt x="616" y="1327"/>
                  </a:lnTo>
                  <a:lnTo>
                    <a:pt x="685" y="1324"/>
                  </a:lnTo>
                  <a:lnTo>
                    <a:pt x="754" y="1320"/>
                  </a:lnTo>
                  <a:lnTo>
                    <a:pt x="827" y="1314"/>
                  </a:lnTo>
                  <a:lnTo>
                    <a:pt x="827" y="1314"/>
                  </a:lnTo>
                  <a:lnTo>
                    <a:pt x="791" y="1311"/>
                  </a:lnTo>
                  <a:lnTo>
                    <a:pt x="754" y="1307"/>
                  </a:lnTo>
                  <a:lnTo>
                    <a:pt x="713" y="1303"/>
                  </a:lnTo>
                  <a:lnTo>
                    <a:pt x="692" y="1302"/>
                  </a:lnTo>
                  <a:lnTo>
                    <a:pt x="668" y="1301"/>
                  </a:lnTo>
                  <a:lnTo>
                    <a:pt x="668" y="1301"/>
                  </a:lnTo>
                  <a:lnTo>
                    <a:pt x="677" y="1298"/>
                  </a:lnTo>
                  <a:lnTo>
                    <a:pt x="687" y="1294"/>
                  </a:lnTo>
                  <a:lnTo>
                    <a:pt x="698" y="1293"/>
                  </a:lnTo>
                  <a:lnTo>
                    <a:pt x="702" y="1293"/>
                  </a:lnTo>
                  <a:lnTo>
                    <a:pt x="708" y="1294"/>
                  </a:lnTo>
                  <a:lnTo>
                    <a:pt x="708" y="1294"/>
                  </a:lnTo>
                  <a:lnTo>
                    <a:pt x="686" y="1288"/>
                  </a:lnTo>
                  <a:lnTo>
                    <a:pt x="665" y="1284"/>
                  </a:lnTo>
                  <a:lnTo>
                    <a:pt x="642" y="1281"/>
                  </a:lnTo>
                  <a:lnTo>
                    <a:pt x="621" y="1277"/>
                  </a:lnTo>
                  <a:lnTo>
                    <a:pt x="600" y="1275"/>
                  </a:lnTo>
                  <a:lnTo>
                    <a:pt x="578" y="1274"/>
                  </a:lnTo>
                  <a:lnTo>
                    <a:pt x="536" y="1273"/>
                  </a:lnTo>
                  <a:lnTo>
                    <a:pt x="455" y="1273"/>
                  </a:lnTo>
                  <a:lnTo>
                    <a:pt x="417" y="1273"/>
                  </a:lnTo>
                  <a:lnTo>
                    <a:pt x="380" y="1271"/>
                  </a:lnTo>
                  <a:lnTo>
                    <a:pt x="380" y="1271"/>
                  </a:lnTo>
                  <a:close/>
                  <a:moveTo>
                    <a:pt x="789" y="1299"/>
                  </a:moveTo>
                  <a:lnTo>
                    <a:pt x="789" y="1299"/>
                  </a:lnTo>
                  <a:lnTo>
                    <a:pt x="766" y="1296"/>
                  </a:lnTo>
                  <a:lnTo>
                    <a:pt x="754" y="1294"/>
                  </a:lnTo>
                  <a:lnTo>
                    <a:pt x="748" y="1294"/>
                  </a:lnTo>
                  <a:lnTo>
                    <a:pt x="743" y="1296"/>
                  </a:lnTo>
                  <a:lnTo>
                    <a:pt x="743" y="1296"/>
                  </a:lnTo>
                  <a:lnTo>
                    <a:pt x="769" y="1299"/>
                  </a:lnTo>
                  <a:lnTo>
                    <a:pt x="781" y="1300"/>
                  </a:lnTo>
                  <a:lnTo>
                    <a:pt x="786" y="1300"/>
                  </a:lnTo>
                  <a:lnTo>
                    <a:pt x="789" y="1299"/>
                  </a:lnTo>
                  <a:lnTo>
                    <a:pt x="789" y="1299"/>
                  </a:lnTo>
                  <a:close/>
                  <a:moveTo>
                    <a:pt x="926" y="1341"/>
                  </a:moveTo>
                  <a:lnTo>
                    <a:pt x="926" y="1341"/>
                  </a:lnTo>
                  <a:lnTo>
                    <a:pt x="922" y="1341"/>
                  </a:lnTo>
                  <a:lnTo>
                    <a:pt x="917" y="1341"/>
                  </a:lnTo>
                  <a:lnTo>
                    <a:pt x="914" y="1341"/>
                  </a:lnTo>
                  <a:lnTo>
                    <a:pt x="914" y="1342"/>
                  </a:lnTo>
                  <a:lnTo>
                    <a:pt x="915" y="1344"/>
                  </a:lnTo>
                  <a:lnTo>
                    <a:pt x="915" y="1344"/>
                  </a:lnTo>
                  <a:lnTo>
                    <a:pt x="890" y="1337"/>
                  </a:lnTo>
                  <a:lnTo>
                    <a:pt x="862" y="1330"/>
                  </a:lnTo>
                  <a:lnTo>
                    <a:pt x="862" y="1330"/>
                  </a:lnTo>
                  <a:lnTo>
                    <a:pt x="862" y="1335"/>
                  </a:lnTo>
                  <a:lnTo>
                    <a:pt x="863" y="1339"/>
                  </a:lnTo>
                  <a:lnTo>
                    <a:pt x="864" y="1343"/>
                  </a:lnTo>
                  <a:lnTo>
                    <a:pt x="867" y="1346"/>
                  </a:lnTo>
                  <a:lnTo>
                    <a:pt x="873" y="1351"/>
                  </a:lnTo>
                  <a:lnTo>
                    <a:pt x="875" y="1354"/>
                  </a:lnTo>
                  <a:lnTo>
                    <a:pt x="877" y="1358"/>
                  </a:lnTo>
                  <a:lnTo>
                    <a:pt x="877" y="1358"/>
                  </a:lnTo>
                  <a:lnTo>
                    <a:pt x="909" y="1362"/>
                  </a:lnTo>
                  <a:lnTo>
                    <a:pt x="925" y="1363"/>
                  </a:lnTo>
                  <a:lnTo>
                    <a:pt x="941" y="1362"/>
                  </a:lnTo>
                  <a:lnTo>
                    <a:pt x="955" y="1360"/>
                  </a:lnTo>
                  <a:lnTo>
                    <a:pt x="963" y="1358"/>
                  </a:lnTo>
                  <a:lnTo>
                    <a:pt x="969" y="1356"/>
                  </a:lnTo>
                  <a:lnTo>
                    <a:pt x="974" y="1352"/>
                  </a:lnTo>
                  <a:lnTo>
                    <a:pt x="981" y="1348"/>
                  </a:lnTo>
                  <a:lnTo>
                    <a:pt x="986" y="1344"/>
                  </a:lnTo>
                  <a:lnTo>
                    <a:pt x="990" y="1338"/>
                  </a:lnTo>
                  <a:lnTo>
                    <a:pt x="990" y="1338"/>
                  </a:lnTo>
                  <a:lnTo>
                    <a:pt x="989" y="1333"/>
                  </a:lnTo>
                  <a:lnTo>
                    <a:pt x="986" y="1329"/>
                  </a:lnTo>
                  <a:lnTo>
                    <a:pt x="978" y="1317"/>
                  </a:lnTo>
                  <a:lnTo>
                    <a:pt x="978" y="1317"/>
                  </a:lnTo>
                  <a:lnTo>
                    <a:pt x="971" y="1319"/>
                  </a:lnTo>
                  <a:lnTo>
                    <a:pt x="966" y="1322"/>
                  </a:lnTo>
                  <a:lnTo>
                    <a:pt x="960" y="1326"/>
                  </a:lnTo>
                  <a:lnTo>
                    <a:pt x="956" y="1330"/>
                  </a:lnTo>
                  <a:lnTo>
                    <a:pt x="956" y="1330"/>
                  </a:lnTo>
                  <a:lnTo>
                    <a:pt x="954" y="1328"/>
                  </a:lnTo>
                  <a:lnTo>
                    <a:pt x="952" y="1328"/>
                  </a:lnTo>
                  <a:lnTo>
                    <a:pt x="948" y="1329"/>
                  </a:lnTo>
                  <a:lnTo>
                    <a:pt x="944" y="1331"/>
                  </a:lnTo>
                  <a:lnTo>
                    <a:pt x="936" y="1336"/>
                  </a:lnTo>
                  <a:lnTo>
                    <a:pt x="930" y="1338"/>
                  </a:lnTo>
                  <a:lnTo>
                    <a:pt x="926" y="1341"/>
                  </a:lnTo>
                  <a:lnTo>
                    <a:pt x="926" y="1341"/>
                  </a:lnTo>
                  <a:close/>
                </a:path>
              </a:pathLst>
            </a:custGeom>
            <a:solidFill>
              <a:srgbClr val="65c4ca"/>
            </a:solidFill>
            <a:ln w="9360">
              <a:solidFill>
                <a:srgbClr val="65c4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文本框 2"/>
          <p:cNvSpPr/>
          <p:nvPr/>
        </p:nvSpPr>
        <p:spPr>
          <a:xfrm>
            <a:off x="1673280" y="1241280"/>
            <a:ext cx="838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此诗大约是许浑于唐宣宗大中三年（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849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任监察御史的时候所写。此时大唐王朝已经处于风雨飘摇之际，政治非常腐败，农民起义此起彼伏。一个秋天的傍晚，诗人登上咸阳古城楼观赏风景，即兴写下了这首七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Group 126" descr=""/>
          <p:cNvPicPr/>
          <p:nvPr/>
        </p:nvPicPr>
        <p:blipFill>
          <a:blip r:embed="rId1"/>
          <a:stretch/>
        </p:blipFill>
        <p:spPr>
          <a:xfrm>
            <a:off x="10563120" y="5315040"/>
            <a:ext cx="1541520" cy="83484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7"/>
          <p:cNvGrpSpPr/>
          <p:nvPr/>
        </p:nvGrpSpPr>
        <p:grpSpPr>
          <a:xfrm>
            <a:off x="111240" y="87480"/>
            <a:ext cx="3317760" cy="723240"/>
            <a:chOff x="111240" y="87480"/>
            <a:chExt cx="3317760" cy="723240"/>
          </a:xfrm>
        </p:grpSpPr>
        <p:sp>
          <p:nvSpPr>
            <p:cNvPr id="94" name="椭圆 45"/>
            <p:cNvSpPr/>
            <p:nvPr/>
          </p:nvSpPr>
          <p:spPr>
            <a:xfrm>
              <a:off x="111240" y="87480"/>
              <a:ext cx="630000" cy="523080"/>
            </a:xfrm>
            <a:custGeom>
              <a:avLst/>
              <a:gdLst/>
              <a:ahLst/>
              <a:rect l="l" t="t" r="r" b="b"/>
              <a:pathLst>
                <a:path w="330200" h="287338">
                  <a:moveTo>
                    <a:pt x="255458" y="96838"/>
                  </a:moveTo>
                  <a:lnTo>
                    <a:pt x="319218" y="96838"/>
                  </a:lnTo>
                  <a:cubicBezTo>
                    <a:pt x="323122" y="96838"/>
                    <a:pt x="327025" y="100735"/>
                    <a:pt x="327025" y="104632"/>
                  </a:cubicBezTo>
                  <a:cubicBezTo>
                    <a:pt x="327025" y="108528"/>
                    <a:pt x="323122" y="111126"/>
                    <a:pt x="319218" y="111126"/>
                  </a:cubicBezTo>
                  <a:cubicBezTo>
                    <a:pt x="319218" y="111126"/>
                    <a:pt x="319218" y="111126"/>
                    <a:pt x="255458" y="111126"/>
                  </a:cubicBezTo>
                  <a:cubicBezTo>
                    <a:pt x="251554" y="111126"/>
                    <a:pt x="247650" y="108528"/>
                    <a:pt x="247650" y="104632"/>
                  </a:cubicBezTo>
                  <a:cubicBezTo>
                    <a:pt x="247650" y="100735"/>
                    <a:pt x="251554" y="96838"/>
                    <a:pt x="255458" y="96838"/>
                  </a:cubicBezTo>
                  <a:close/>
                  <a:moveTo>
                    <a:pt x="246441" y="79375"/>
                  </a:moveTo>
                  <a:cubicBezTo>
                    <a:pt x="246441" y="79375"/>
                    <a:pt x="246441" y="79375"/>
                    <a:pt x="317123" y="79375"/>
                  </a:cubicBezTo>
                  <a:cubicBezTo>
                    <a:pt x="319693" y="79375"/>
                    <a:pt x="322263" y="81845"/>
                    <a:pt x="322263" y="84314"/>
                  </a:cubicBezTo>
                  <a:cubicBezTo>
                    <a:pt x="322263" y="88019"/>
                    <a:pt x="319693" y="90488"/>
                    <a:pt x="317123" y="90488"/>
                  </a:cubicBezTo>
                  <a:cubicBezTo>
                    <a:pt x="317123" y="90488"/>
                    <a:pt x="317123" y="90488"/>
                    <a:pt x="246441" y="90488"/>
                  </a:cubicBezTo>
                  <a:cubicBezTo>
                    <a:pt x="243871" y="90488"/>
                    <a:pt x="241300" y="88019"/>
                    <a:pt x="241300" y="84314"/>
                  </a:cubicBezTo>
                  <a:cubicBezTo>
                    <a:pt x="241300" y="81845"/>
                    <a:pt x="243871" y="79375"/>
                    <a:pt x="246441" y="79375"/>
                  </a:cubicBezTo>
                  <a:close/>
                  <a:moveTo>
                    <a:pt x="247694" y="58738"/>
                  </a:moveTo>
                  <a:cubicBezTo>
                    <a:pt x="247694" y="58738"/>
                    <a:pt x="247694" y="58738"/>
                    <a:pt x="280944" y="58738"/>
                  </a:cubicBezTo>
                  <a:cubicBezTo>
                    <a:pt x="284781" y="58738"/>
                    <a:pt x="287338" y="62548"/>
                    <a:pt x="287338" y="65088"/>
                  </a:cubicBezTo>
                  <a:cubicBezTo>
                    <a:pt x="287338" y="68898"/>
                    <a:pt x="284781" y="71438"/>
                    <a:pt x="280944" y="71438"/>
                  </a:cubicBezTo>
                  <a:cubicBezTo>
                    <a:pt x="280944" y="71438"/>
                    <a:pt x="280944" y="71438"/>
                    <a:pt x="247694" y="71438"/>
                  </a:cubicBezTo>
                  <a:cubicBezTo>
                    <a:pt x="243858" y="71438"/>
                    <a:pt x="241300" y="68898"/>
                    <a:pt x="241300" y="65088"/>
                  </a:cubicBezTo>
                  <a:cubicBezTo>
                    <a:pt x="241300" y="62548"/>
                    <a:pt x="243858" y="58738"/>
                    <a:pt x="247694" y="58738"/>
                  </a:cubicBezTo>
                  <a:close/>
                  <a:moveTo>
                    <a:pt x="113506" y="0"/>
                  </a:moveTo>
                  <a:cubicBezTo>
                    <a:pt x="136723" y="0"/>
                    <a:pt x="154781" y="18120"/>
                    <a:pt x="154781" y="41418"/>
                  </a:cubicBezTo>
                  <a:cubicBezTo>
                    <a:pt x="154781" y="58244"/>
                    <a:pt x="143172" y="73776"/>
                    <a:pt x="127694" y="78953"/>
                  </a:cubicBezTo>
                  <a:cubicBezTo>
                    <a:pt x="156071" y="104840"/>
                    <a:pt x="156071" y="104840"/>
                    <a:pt x="156071" y="104840"/>
                  </a:cubicBezTo>
                  <a:cubicBezTo>
                    <a:pt x="196056" y="107428"/>
                    <a:pt x="196056" y="107428"/>
                    <a:pt x="196056" y="107428"/>
                  </a:cubicBezTo>
                  <a:cubicBezTo>
                    <a:pt x="197346" y="107428"/>
                    <a:pt x="197346" y="107428"/>
                    <a:pt x="198636" y="107428"/>
                  </a:cubicBezTo>
                  <a:cubicBezTo>
                    <a:pt x="205085" y="110017"/>
                    <a:pt x="208954" y="116489"/>
                    <a:pt x="208954" y="122960"/>
                  </a:cubicBezTo>
                  <a:cubicBezTo>
                    <a:pt x="208954" y="126843"/>
                    <a:pt x="207665" y="129432"/>
                    <a:pt x="206375" y="132020"/>
                  </a:cubicBezTo>
                  <a:cubicBezTo>
                    <a:pt x="239911" y="132020"/>
                    <a:pt x="239911" y="132020"/>
                    <a:pt x="239911" y="132020"/>
                  </a:cubicBezTo>
                  <a:cubicBezTo>
                    <a:pt x="237331" y="130726"/>
                    <a:pt x="234751" y="128137"/>
                    <a:pt x="234751" y="125549"/>
                  </a:cubicBezTo>
                  <a:cubicBezTo>
                    <a:pt x="234751" y="120371"/>
                    <a:pt x="238621" y="117783"/>
                    <a:pt x="242491" y="117783"/>
                  </a:cubicBezTo>
                  <a:cubicBezTo>
                    <a:pt x="305693" y="117783"/>
                    <a:pt x="305693" y="117783"/>
                    <a:pt x="305693" y="117783"/>
                  </a:cubicBezTo>
                  <a:cubicBezTo>
                    <a:pt x="309563" y="117783"/>
                    <a:pt x="313432" y="120371"/>
                    <a:pt x="313432" y="125549"/>
                  </a:cubicBezTo>
                  <a:cubicBezTo>
                    <a:pt x="313432" y="128137"/>
                    <a:pt x="310853" y="130726"/>
                    <a:pt x="308273" y="132020"/>
                  </a:cubicBezTo>
                  <a:cubicBezTo>
                    <a:pt x="322461" y="132020"/>
                    <a:pt x="322461" y="132020"/>
                    <a:pt x="322461" y="132020"/>
                  </a:cubicBezTo>
                  <a:cubicBezTo>
                    <a:pt x="326331" y="132020"/>
                    <a:pt x="330200" y="135903"/>
                    <a:pt x="330200" y="139786"/>
                  </a:cubicBezTo>
                  <a:cubicBezTo>
                    <a:pt x="330200" y="143669"/>
                    <a:pt x="326331" y="147552"/>
                    <a:pt x="322461" y="147552"/>
                  </a:cubicBezTo>
                  <a:cubicBezTo>
                    <a:pt x="297954" y="147552"/>
                    <a:pt x="297954" y="147552"/>
                    <a:pt x="297954" y="147552"/>
                  </a:cubicBezTo>
                  <a:cubicBezTo>
                    <a:pt x="297954" y="278278"/>
                    <a:pt x="297954" y="278278"/>
                    <a:pt x="297954" y="278278"/>
                  </a:cubicBezTo>
                  <a:cubicBezTo>
                    <a:pt x="297954" y="282161"/>
                    <a:pt x="294085" y="284750"/>
                    <a:pt x="290215" y="284750"/>
                  </a:cubicBezTo>
                  <a:cubicBezTo>
                    <a:pt x="203795" y="284750"/>
                    <a:pt x="203795" y="284750"/>
                    <a:pt x="203795" y="284750"/>
                  </a:cubicBezTo>
                  <a:cubicBezTo>
                    <a:pt x="198636" y="284750"/>
                    <a:pt x="196056" y="282161"/>
                    <a:pt x="196056" y="278278"/>
                  </a:cubicBezTo>
                  <a:cubicBezTo>
                    <a:pt x="196056" y="147552"/>
                    <a:pt x="196056" y="147552"/>
                    <a:pt x="196056" y="147552"/>
                  </a:cubicBezTo>
                  <a:cubicBezTo>
                    <a:pt x="141883" y="147552"/>
                    <a:pt x="141883" y="147552"/>
                    <a:pt x="141883" y="147552"/>
                  </a:cubicBezTo>
                  <a:cubicBezTo>
                    <a:pt x="136723" y="147552"/>
                    <a:pt x="134144" y="143669"/>
                    <a:pt x="134144" y="139786"/>
                  </a:cubicBezTo>
                  <a:cubicBezTo>
                    <a:pt x="134144" y="138492"/>
                    <a:pt x="134144" y="135903"/>
                    <a:pt x="135433" y="134609"/>
                  </a:cubicBezTo>
                  <a:cubicBezTo>
                    <a:pt x="112216" y="115194"/>
                    <a:pt x="112216" y="115194"/>
                    <a:pt x="112216" y="115194"/>
                  </a:cubicBezTo>
                  <a:cubicBezTo>
                    <a:pt x="110926" y="113900"/>
                    <a:pt x="110926" y="113900"/>
                    <a:pt x="109636" y="113900"/>
                  </a:cubicBezTo>
                  <a:cubicBezTo>
                    <a:pt x="109636" y="113900"/>
                    <a:pt x="108347" y="113900"/>
                    <a:pt x="108347" y="115194"/>
                  </a:cubicBezTo>
                  <a:cubicBezTo>
                    <a:pt x="88999" y="165672"/>
                    <a:pt x="88999" y="165672"/>
                    <a:pt x="88999" y="165672"/>
                  </a:cubicBezTo>
                  <a:cubicBezTo>
                    <a:pt x="88999" y="166967"/>
                    <a:pt x="88999" y="169555"/>
                    <a:pt x="90289" y="170850"/>
                  </a:cubicBezTo>
                  <a:cubicBezTo>
                    <a:pt x="91579" y="173438"/>
                    <a:pt x="94158" y="173438"/>
                    <a:pt x="95448" y="173438"/>
                  </a:cubicBezTo>
                  <a:cubicBezTo>
                    <a:pt x="130274" y="173438"/>
                    <a:pt x="130274" y="173438"/>
                    <a:pt x="130274" y="173438"/>
                  </a:cubicBezTo>
                  <a:cubicBezTo>
                    <a:pt x="140593" y="173438"/>
                    <a:pt x="150911" y="182499"/>
                    <a:pt x="152201" y="192853"/>
                  </a:cubicBezTo>
                  <a:cubicBezTo>
                    <a:pt x="163810" y="267923"/>
                    <a:pt x="163810" y="267923"/>
                    <a:pt x="163810" y="267923"/>
                  </a:cubicBezTo>
                  <a:cubicBezTo>
                    <a:pt x="165100" y="273101"/>
                    <a:pt x="163810" y="276984"/>
                    <a:pt x="159940" y="280867"/>
                  </a:cubicBezTo>
                  <a:cubicBezTo>
                    <a:pt x="157361" y="284750"/>
                    <a:pt x="152201" y="287338"/>
                    <a:pt x="148332" y="287338"/>
                  </a:cubicBezTo>
                  <a:cubicBezTo>
                    <a:pt x="139303" y="287338"/>
                    <a:pt x="132854" y="280867"/>
                    <a:pt x="131564" y="273101"/>
                  </a:cubicBezTo>
                  <a:cubicBezTo>
                    <a:pt x="121245" y="216151"/>
                    <a:pt x="121245" y="216151"/>
                    <a:pt x="121245" y="216151"/>
                  </a:cubicBezTo>
                  <a:cubicBezTo>
                    <a:pt x="119955" y="213562"/>
                    <a:pt x="117376" y="210974"/>
                    <a:pt x="113506" y="210974"/>
                  </a:cubicBezTo>
                  <a:cubicBezTo>
                    <a:pt x="91579" y="210974"/>
                    <a:pt x="91579" y="210974"/>
                    <a:pt x="91579" y="210974"/>
                  </a:cubicBezTo>
                  <a:cubicBezTo>
                    <a:pt x="91579" y="278278"/>
                    <a:pt x="91579" y="278278"/>
                    <a:pt x="91579" y="278278"/>
                  </a:cubicBezTo>
                  <a:cubicBezTo>
                    <a:pt x="91579" y="282161"/>
                    <a:pt x="87709" y="284750"/>
                    <a:pt x="83840" y="284750"/>
                  </a:cubicBezTo>
                  <a:cubicBezTo>
                    <a:pt x="19347" y="284750"/>
                    <a:pt x="19347" y="284750"/>
                    <a:pt x="19347" y="284750"/>
                  </a:cubicBezTo>
                  <a:cubicBezTo>
                    <a:pt x="15478" y="284750"/>
                    <a:pt x="11608" y="282161"/>
                    <a:pt x="11608" y="278278"/>
                  </a:cubicBezTo>
                  <a:cubicBezTo>
                    <a:pt x="11608" y="208385"/>
                    <a:pt x="11608" y="208385"/>
                    <a:pt x="11608" y="208385"/>
                  </a:cubicBezTo>
                  <a:cubicBezTo>
                    <a:pt x="0" y="119077"/>
                    <a:pt x="0" y="119077"/>
                    <a:pt x="0" y="119077"/>
                  </a:cubicBezTo>
                  <a:cubicBezTo>
                    <a:pt x="0" y="113900"/>
                    <a:pt x="2579" y="110017"/>
                    <a:pt x="6449" y="110017"/>
                  </a:cubicBezTo>
                  <a:cubicBezTo>
                    <a:pt x="10319" y="110017"/>
                    <a:pt x="14188" y="112606"/>
                    <a:pt x="15478" y="116489"/>
                  </a:cubicBezTo>
                  <a:cubicBezTo>
                    <a:pt x="25797" y="196736"/>
                    <a:pt x="25797" y="196736"/>
                    <a:pt x="25797" y="196736"/>
                  </a:cubicBezTo>
                  <a:cubicBezTo>
                    <a:pt x="38695" y="196736"/>
                    <a:pt x="38695" y="196736"/>
                    <a:pt x="38695" y="196736"/>
                  </a:cubicBezTo>
                  <a:cubicBezTo>
                    <a:pt x="37405" y="194147"/>
                    <a:pt x="36115" y="191559"/>
                    <a:pt x="36115" y="188970"/>
                  </a:cubicBezTo>
                  <a:cubicBezTo>
                    <a:pt x="36115" y="186382"/>
                    <a:pt x="37405" y="183793"/>
                    <a:pt x="37405" y="181204"/>
                  </a:cubicBezTo>
                  <a:cubicBezTo>
                    <a:pt x="69651" y="91897"/>
                    <a:pt x="69651" y="91897"/>
                    <a:pt x="69651" y="91897"/>
                  </a:cubicBezTo>
                  <a:cubicBezTo>
                    <a:pt x="72231" y="82836"/>
                    <a:pt x="79970" y="75070"/>
                    <a:pt x="87709" y="72482"/>
                  </a:cubicBezTo>
                  <a:cubicBezTo>
                    <a:pt x="78680" y="64716"/>
                    <a:pt x="73521" y="53067"/>
                    <a:pt x="73521" y="41418"/>
                  </a:cubicBezTo>
                  <a:cubicBezTo>
                    <a:pt x="73521" y="18120"/>
                    <a:pt x="91579" y="0"/>
                    <a:pt x="113506" y="0"/>
                  </a:cubicBezTo>
                  <a:close/>
                </a:path>
              </a:pathLst>
            </a:custGeom>
            <a:solidFill>
              <a:srgbClr val="65c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文本框 67" descr=""/>
            <p:cNvPicPr/>
            <p:nvPr/>
          </p:nvPicPr>
          <p:blipFill>
            <a:blip r:embed="rId2"/>
            <a:stretch/>
          </p:blipFill>
          <p:spPr>
            <a:xfrm>
              <a:off x="854280" y="198720"/>
              <a:ext cx="2574720" cy="61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Rectangle 5"/>
          <p:cNvSpPr/>
          <p:nvPr/>
        </p:nvSpPr>
        <p:spPr>
          <a:xfrm>
            <a:off x="2351160" y="1461960"/>
            <a:ext cx="769932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上高城万里愁，蒹葭杨柳似汀洲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溪云初起日沉阁，山雨欲来风满楼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鸟下绿芜秦苑夕，蝉鸣黄叶汉宫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行人莫问当年事，故国东来渭水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2"/>
          <p:cNvSpPr/>
          <p:nvPr/>
        </p:nvSpPr>
        <p:spPr>
          <a:xfrm>
            <a:off x="1779480" y="1222200"/>
            <a:ext cx="818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b7de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登上百尺高楼，引我万里乡愁。芦苇杨柳丛生，好似家乡沙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b7de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乌云刚刚浮起在溪水边上，夕阳已经沉落楼阁后面。山雨即将来临，满楼风声飒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Group 126" descr=""/>
          <p:cNvPicPr/>
          <p:nvPr/>
        </p:nvPicPr>
        <p:blipFill>
          <a:blip r:embed="rId1"/>
          <a:stretch/>
        </p:blipFill>
        <p:spPr>
          <a:xfrm>
            <a:off x="10563120" y="5315040"/>
            <a:ext cx="1541520" cy="83484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2"/>
          <p:cNvSpPr/>
          <p:nvPr/>
        </p:nvSpPr>
        <p:spPr>
          <a:xfrm>
            <a:off x="1255680" y="1116000"/>
            <a:ext cx="948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b7de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秦汉宫苑，一片荒凉。鸟儿落入乱草之中，秋蝉鸣叫枯黄叶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b7de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b7de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行人莫问当年繁华盛事，都城依旧，只见渭水不停东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"/>
          <p:cNvGrpSpPr/>
          <p:nvPr/>
        </p:nvGrpSpPr>
        <p:grpSpPr>
          <a:xfrm>
            <a:off x="138240" y="119160"/>
            <a:ext cx="3290760" cy="691920"/>
            <a:chOff x="138240" y="119160"/>
            <a:chExt cx="3290760" cy="691920"/>
          </a:xfrm>
        </p:grpSpPr>
        <p:sp>
          <p:nvSpPr>
            <p:cNvPr id="101" name="椭圆 2"/>
            <p:cNvSpPr/>
            <p:nvPr/>
          </p:nvSpPr>
          <p:spPr>
            <a:xfrm>
              <a:off x="138240" y="119160"/>
              <a:ext cx="692280" cy="497160"/>
            </a:xfrm>
            <a:custGeom>
              <a:avLst/>
              <a:gdLst/>
              <a:ahLst/>
              <a:rect l="l" t="t" r="r" b="b"/>
              <a:pathLst>
                <a:path w="323554" h="313525">
                  <a:moveTo>
                    <a:pt x="58918" y="189699"/>
                  </a:moveTo>
                  <a:cubicBezTo>
                    <a:pt x="58918" y="189699"/>
                    <a:pt x="58918" y="189699"/>
                    <a:pt x="101421" y="189699"/>
                  </a:cubicBezTo>
                  <a:cubicBezTo>
                    <a:pt x="102709" y="189699"/>
                    <a:pt x="102709" y="189699"/>
                    <a:pt x="103997" y="189699"/>
                  </a:cubicBezTo>
                  <a:cubicBezTo>
                    <a:pt x="109149" y="189699"/>
                    <a:pt x="114301" y="195046"/>
                    <a:pt x="114301" y="201731"/>
                  </a:cubicBezTo>
                  <a:cubicBezTo>
                    <a:pt x="114301" y="203067"/>
                    <a:pt x="114301" y="204404"/>
                    <a:pt x="113013" y="205741"/>
                  </a:cubicBezTo>
                  <a:cubicBezTo>
                    <a:pt x="111725" y="211088"/>
                    <a:pt x="107861" y="215099"/>
                    <a:pt x="101421" y="215099"/>
                  </a:cubicBezTo>
                  <a:cubicBezTo>
                    <a:pt x="101421" y="215099"/>
                    <a:pt x="101421" y="215099"/>
                    <a:pt x="58918" y="215099"/>
                  </a:cubicBezTo>
                  <a:cubicBezTo>
                    <a:pt x="51190" y="215099"/>
                    <a:pt x="46038" y="209752"/>
                    <a:pt x="46038" y="201731"/>
                  </a:cubicBezTo>
                  <a:cubicBezTo>
                    <a:pt x="46038" y="195046"/>
                    <a:pt x="51190" y="189699"/>
                    <a:pt x="58918" y="189699"/>
                  </a:cubicBezTo>
                  <a:close/>
                  <a:moveTo>
                    <a:pt x="149225" y="165887"/>
                  </a:moveTo>
                  <a:lnTo>
                    <a:pt x="142875" y="186525"/>
                  </a:lnTo>
                  <a:lnTo>
                    <a:pt x="153988" y="196050"/>
                  </a:lnTo>
                  <a:lnTo>
                    <a:pt x="173038" y="188112"/>
                  </a:lnTo>
                  <a:close/>
                  <a:moveTo>
                    <a:pt x="145188" y="151599"/>
                  </a:moveTo>
                  <a:cubicBezTo>
                    <a:pt x="145188" y="151599"/>
                    <a:pt x="145188" y="151599"/>
                    <a:pt x="187326" y="190104"/>
                  </a:cubicBezTo>
                  <a:cubicBezTo>
                    <a:pt x="187326" y="190104"/>
                    <a:pt x="187326" y="190104"/>
                    <a:pt x="138803" y="210640"/>
                  </a:cubicBezTo>
                  <a:cubicBezTo>
                    <a:pt x="136249" y="211924"/>
                    <a:pt x="133696" y="211924"/>
                    <a:pt x="131142" y="210640"/>
                  </a:cubicBezTo>
                  <a:cubicBezTo>
                    <a:pt x="129865" y="208073"/>
                    <a:pt x="128588" y="205506"/>
                    <a:pt x="129865" y="202939"/>
                  </a:cubicBezTo>
                  <a:cubicBezTo>
                    <a:pt x="129865" y="202939"/>
                    <a:pt x="129865" y="202939"/>
                    <a:pt x="145188" y="151599"/>
                  </a:cubicBezTo>
                  <a:close/>
                  <a:moveTo>
                    <a:pt x="58982" y="146837"/>
                  </a:moveTo>
                  <a:cubicBezTo>
                    <a:pt x="58982" y="146837"/>
                    <a:pt x="58982" y="146837"/>
                    <a:pt x="130176" y="146837"/>
                  </a:cubicBezTo>
                  <a:cubicBezTo>
                    <a:pt x="130176" y="148186"/>
                    <a:pt x="130176" y="148186"/>
                    <a:pt x="130176" y="148186"/>
                  </a:cubicBezTo>
                  <a:lnTo>
                    <a:pt x="122409" y="173825"/>
                  </a:lnTo>
                  <a:cubicBezTo>
                    <a:pt x="122409" y="173825"/>
                    <a:pt x="122409" y="173825"/>
                    <a:pt x="58982" y="173825"/>
                  </a:cubicBezTo>
                  <a:cubicBezTo>
                    <a:pt x="51216" y="173825"/>
                    <a:pt x="46038" y="167078"/>
                    <a:pt x="46038" y="160331"/>
                  </a:cubicBezTo>
                  <a:cubicBezTo>
                    <a:pt x="46038" y="153584"/>
                    <a:pt x="51216" y="146837"/>
                    <a:pt x="58982" y="146837"/>
                  </a:cubicBezTo>
                  <a:close/>
                  <a:moveTo>
                    <a:pt x="59011" y="105562"/>
                  </a:moveTo>
                  <a:lnTo>
                    <a:pt x="166688" y="105562"/>
                  </a:lnTo>
                  <a:cubicBezTo>
                    <a:pt x="166688" y="105562"/>
                    <a:pt x="166688" y="105562"/>
                    <a:pt x="144634" y="130962"/>
                  </a:cubicBezTo>
                  <a:cubicBezTo>
                    <a:pt x="144634" y="130962"/>
                    <a:pt x="144634" y="130962"/>
                    <a:pt x="59011" y="130962"/>
                  </a:cubicBezTo>
                  <a:cubicBezTo>
                    <a:pt x="51227" y="130962"/>
                    <a:pt x="46038" y="125615"/>
                    <a:pt x="46038" y="118930"/>
                  </a:cubicBezTo>
                  <a:cubicBezTo>
                    <a:pt x="46038" y="110909"/>
                    <a:pt x="51227" y="105562"/>
                    <a:pt x="59011" y="105562"/>
                  </a:cubicBezTo>
                  <a:close/>
                  <a:moveTo>
                    <a:pt x="226883" y="81749"/>
                  </a:moveTo>
                  <a:cubicBezTo>
                    <a:pt x="225587" y="81749"/>
                    <a:pt x="224292" y="83037"/>
                    <a:pt x="224292" y="83037"/>
                  </a:cubicBezTo>
                  <a:cubicBezTo>
                    <a:pt x="224292" y="83037"/>
                    <a:pt x="224292" y="83037"/>
                    <a:pt x="171159" y="140996"/>
                  </a:cubicBezTo>
                  <a:cubicBezTo>
                    <a:pt x="169863" y="142284"/>
                    <a:pt x="169863" y="144860"/>
                    <a:pt x="172455" y="146148"/>
                  </a:cubicBezTo>
                  <a:cubicBezTo>
                    <a:pt x="172455" y="146148"/>
                    <a:pt x="172455" y="146148"/>
                    <a:pt x="175047" y="148724"/>
                  </a:cubicBezTo>
                  <a:cubicBezTo>
                    <a:pt x="175047" y="148724"/>
                    <a:pt x="176343" y="150012"/>
                    <a:pt x="177639" y="150012"/>
                  </a:cubicBezTo>
                  <a:cubicBezTo>
                    <a:pt x="177639" y="150012"/>
                    <a:pt x="178934" y="148724"/>
                    <a:pt x="180230" y="148724"/>
                  </a:cubicBezTo>
                  <a:cubicBezTo>
                    <a:pt x="180230" y="148724"/>
                    <a:pt x="180230" y="148724"/>
                    <a:pt x="232067" y="90765"/>
                  </a:cubicBezTo>
                  <a:cubicBezTo>
                    <a:pt x="233363" y="89477"/>
                    <a:pt x="233363" y="86901"/>
                    <a:pt x="232067" y="85613"/>
                  </a:cubicBezTo>
                  <a:cubicBezTo>
                    <a:pt x="232067" y="85613"/>
                    <a:pt x="232067" y="85613"/>
                    <a:pt x="229475" y="83037"/>
                  </a:cubicBezTo>
                  <a:cubicBezTo>
                    <a:pt x="228179" y="81749"/>
                    <a:pt x="226883" y="81749"/>
                    <a:pt x="226883" y="81749"/>
                  </a:cubicBezTo>
                  <a:close/>
                  <a:moveTo>
                    <a:pt x="247254" y="62303"/>
                  </a:moveTo>
                  <a:cubicBezTo>
                    <a:pt x="244873" y="61112"/>
                    <a:pt x="243682" y="62303"/>
                    <a:pt x="242491" y="63493"/>
                  </a:cubicBezTo>
                  <a:cubicBezTo>
                    <a:pt x="242491" y="63493"/>
                    <a:pt x="242491" y="63493"/>
                    <a:pt x="237729" y="68256"/>
                  </a:cubicBezTo>
                  <a:cubicBezTo>
                    <a:pt x="237729" y="68256"/>
                    <a:pt x="236538" y="69447"/>
                    <a:pt x="236538" y="70637"/>
                  </a:cubicBezTo>
                  <a:cubicBezTo>
                    <a:pt x="236538" y="70637"/>
                    <a:pt x="237729" y="71828"/>
                    <a:pt x="237729" y="73019"/>
                  </a:cubicBezTo>
                  <a:cubicBezTo>
                    <a:pt x="237729" y="73019"/>
                    <a:pt x="237729" y="73019"/>
                    <a:pt x="240110" y="74209"/>
                  </a:cubicBezTo>
                  <a:cubicBezTo>
                    <a:pt x="241301" y="75400"/>
                    <a:pt x="242491" y="75400"/>
                    <a:pt x="242491" y="75400"/>
                  </a:cubicBezTo>
                  <a:cubicBezTo>
                    <a:pt x="243682" y="75400"/>
                    <a:pt x="243682" y="75400"/>
                    <a:pt x="244873" y="75400"/>
                  </a:cubicBezTo>
                  <a:cubicBezTo>
                    <a:pt x="244873" y="74209"/>
                    <a:pt x="244873" y="74209"/>
                    <a:pt x="244873" y="74209"/>
                  </a:cubicBezTo>
                  <a:cubicBezTo>
                    <a:pt x="244873" y="74209"/>
                    <a:pt x="244873" y="74209"/>
                    <a:pt x="249635" y="69447"/>
                  </a:cubicBezTo>
                  <a:cubicBezTo>
                    <a:pt x="250826" y="68256"/>
                    <a:pt x="250826" y="65875"/>
                    <a:pt x="249635" y="64684"/>
                  </a:cubicBezTo>
                  <a:cubicBezTo>
                    <a:pt x="249635" y="64684"/>
                    <a:pt x="249635" y="64684"/>
                    <a:pt x="247254" y="62303"/>
                  </a:cubicBezTo>
                  <a:close/>
                  <a:moveTo>
                    <a:pt x="24647" y="48412"/>
                  </a:moveTo>
                  <a:cubicBezTo>
                    <a:pt x="24647" y="48412"/>
                    <a:pt x="24647" y="48412"/>
                    <a:pt x="201069" y="48412"/>
                  </a:cubicBezTo>
                  <a:cubicBezTo>
                    <a:pt x="206258" y="48412"/>
                    <a:pt x="210149" y="49705"/>
                    <a:pt x="214041" y="52292"/>
                  </a:cubicBezTo>
                  <a:cubicBezTo>
                    <a:pt x="214041" y="52292"/>
                    <a:pt x="214041" y="52292"/>
                    <a:pt x="193285" y="76863"/>
                  </a:cubicBezTo>
                  <a:cubicBezTo>
                    <a:pt x="189394" y="74277"/>
                    <a:pt x="185502" y="72983"/>
                    <a:pt x="181610" y="72983"/>
                  </a:cubicBezTo>
                  <a:cubicBezTo>
                    <a:pt x="181610" y="72983"/>
                    <a:pt x="181610" y="72983"/>
                    <a:pt x="45403" y="72983"/>
                  </a:cubicBezTo>
                  <a:cubicBezTo>
                    <a:pt x="33728" y="72983"/>
                    <a:pt x="24647" y="82036"/>
                    <a:pt x="24647" y="93675"/>
                  </a:cubicBezTo>
                  <a:cubicBezTo>
                    <a:pt x="24647" y="93675"/>
                    <a:pt x="24647" y="93675"/>
                    <a:pt x="24647" y="268262"/>
                  </a:cubicBezTo>
                  <a:cubicBezTo>
                    <a:pt x="24647" y="278608"/>
                    <a:pt x="33728" y="287660"/>
                    <a:pt x="45403" y="287660"/>
                  </a:cubicBezTo>
                  <a:cubicBezTo>
                    <a:pt x="45403" y="287660"/>
                    <a:pt x="45403" y="287660"/>
                    <a:pt x="181610" y="287660"/>
                  </a:cubicBezTo>
                  <a:cubicBezTo>
                    <a:pt x="193285" y="287660"/>
                    <a:pt x="202366" y="278608"/>
                    <a:pt x="202366" y="268262"/>
                  </a:cubicBezTo>
                  <a:cubicBezTo>
                    <a:pt x="202366" y="268262"/>
                    <a:pt x="202366" y="268262"/>
                    <a:pt x="202366" y="202307"/>
                  </a:cubicBezTo>
                  <a:cubicBezTo>
                    <a:pt x="202366" y="202307"/>
                    <a:pt x="202366" y="201014"/>
                    <a:pt x="203663" y="201014"/>
                  </a:cubicBezTo>
                  <a:cubicBezTo>
                    <a:pt x="203663" y="199720"/>
                    <a:pt x="204960" y="199720"/>
                    <a:pt x="206258" y="198427"/>
                  </a:cubicBezTo>
                  <a:cubicBezTo>
                    <a:pt x="206258" y="198427"/>
                    <a:pt x="206258" y="198427"/>
                    <a:pt x="227013" y="175149"/>
                  </a:cubicBezTo>
                  <a:cubicBezTo>
                    <a:pt x="227013" y="175149"/>
                    <a:pt x="227013" y="175149"/>
                    <a:pt x="227013" y="287660"/>
                  </a:cubicBezTo>
                  <a:cubicBezTo>
                    <a:pt x="227013" y="301886"/>
                    <a:pt x="215338" y="313525"/>
                    <a:pt x="201069" y="313525"/>
                  </a:cubicBezTo>
                  <a:cubicBezTo>
                    <a:pt x="201069" y="313525"/>
                    <a:pt x="201069" y="313525"/>
                    <a:pt x="25944" y="313525"/>
                  </a:cubicBezTo>
                  <a:cubicBezTo>
                    <a:pt x="11675" y="313525"/>
                    <a:pt x="0" y="301886"/>
                    <a:pt x="0" y="287660"/>
                  </a:cubicBezTo>
                  <a:cubicBezTo>
                    <a:pt x="0" y="287660"/>
                    <a:pt x="0" y="287660"/>
                    <a:pt x="0" y="72983"/>
                  </a:cubicBezTo>
                  <a:cubicBezTo>
                    <a:pt x="0" y="60051"/>
                    <a:pt x="10378" y="48412"/>
                    <a:pt x="24647" y="48412"/>
                  </a:cubicBezTo>
                  <a:close/>
                  <a:moveTo>
                    <a:pt x="242888" y="42062"/>
                  </a:moveTo>
                  <a:lnTo>
                    <a:pt x="285751" y="81750"/>
                  </a:lnTo>
                  <a:lnTo>
                    <a:pt x="279401" y="89687"/>
                  </a:lnTo>
                  <a:lnTo>
                    <a:pt x="200026" y="178587"/>
                  </a:lnTo>
                  <a:lnTo>
                    <a:pt x="193676" y="184937"/>
                  </a:lnTo>
                  <a:lnTo>
                    <a:pt x="150813" y="146837"/>
                  </a:lnTo>
                  <a:lnTo>
                    <a:pt x="155576" y="138899"/>
                  </a:lnTo>
                  <a:lnTo>
                    <a:pt x="236538" y="48412"/>
                  </a:lnTo>
                  <a:close/>
                  <a:moveTo>
                    <a:pt x="257175" y="26187"/>
                  </a:moveTo>
                  <a:lnTo>
                    <a:pt x="301625" y="64287"/>
                  </a:lnTo>
                  <a:lnTo>
                    <a:pt x="295275" y="72225"/>
                  </a:lnTo>
                  <a:lnTo>
                    <a:pt x="290513" y="75400"/>
                  </a:lnTo>
                  <a:lnTo>
                    <a:pt x="247650" y="37300"/>
                  </a:lnTo>
                  <a:lnTo>
                    <a:pt x="250825" y="34125"/>
                  </a:lnTo>
                  <a:close/>
                  <a:moveTo>
                    <a:pt x="285750" y="11899"/>
                  </a:moveTo>
                  <a:lnTo>
                    <a:pt x="279400" y="19837"/>
                  </a:lnTo>
                  <a:lnTo>
                    <a:pt x="304800" y="43649"/>
                  </a:lnTo>
                  <a:lnTo>
                    <a:pt x="312738" y="35712"/>
                  </a:lnTo>
                  <a:close/>
                  <a:moveTo>
                    <a:pt x="285265" y="516"/>
                  </a:moveTo>
                  <a:cubicBezTo>
                    <a:pt x="289152" y="-801"/>
                    <a:pt x="291744" y="516"/>
                    <a:pt x="294336" y="3151"/>
                  </a:cubicBezTo>
                  <a:cubicBezTo>
                    <a:pt x="294336" y="3151"/>
                    <a:pt x="294336" y="3151"/>
                    <a:pt x="318958" y="25545"/>
                  </a:cubicBezTo>
                  <a:cubicBezTo>
                    <a:pt x="324142" y="30814"/>
                    <a:pt x="325438" y="38718"/>
                    <a:pt x="320254" y="43987"/>
                  </a:cubicBezTo>
                  <a:cubicBezTo>
                    <a:pt x="320254" y="43987"/>
                    <a:pt x="320254" y="43987"/>
                    <a:pt x="305999" y="61112"/>
                  </a:cubicBezTo>
                  <a:cubicBezTo>
                    <a:pt x="305999" y="61112"/>
                    <a:pt x="305999" y="61112"/>
                    <a:pt x="261938" y="20276"/>
                  </a:cubicBezTo>
                  <a:cubicBezTo>
                    <a:pt x="261938" y="20276"/>
                    <a:pt x="261938" y="20276"/>
                    <a:pt x="276193" y="4468"/>
                  </a:cubicBezTo>
                  <a:cubicBezTo>
                    <a:pt x="278785" y="1834"/>
                    <a:pt x="281377" y="516"/>
                    <a:pt x="285265" y="516"/>
                  </a:cubicBezTo>
                  <a:close/>
                </a:path>
              </a:pathLst>
            </a:custGeom>
            <a:solidFill>
              <a:srgbClr val="65c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文本框 3" descr=""/>
            <p:cNvPicPr/>
            <p:nvPr/>
          </p:nvPicPr>
          <p:blipFill>
            <a:blip r:embed="rId1"/>
            <a:stretch/>
          </p:blipFill>
          <p:spPr>
            <a:xfrm>
              <a:off x="853560" y="204480"/>
              <a:ext cx="2575440" cy="60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1"/>
          <p:cNvSpPr/>
          <p:nvPr/>
        </p:nvSpPr>
        <p:spPr>
          <a:xfrm>
            <a:off x="2627280" y="1719360"/>
            <a:ext cx="666756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上高城万里愁，蒹葭杨柳似汀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1641600" y="2584440"/>
            <a:ext cx="803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此诗首联扣题，抒情写景。“蒹葭”，暗用《诗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国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秦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蒹葭》的诗意，表思念心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52520" y="958680"/>
            <a:ext cx="7686720" cy="4938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0e8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"/>
          <p:cNvSpPr/>
          <p:nvPr/>
        </p:nvSpPr>
        <p:spPr>
          <a:xfrm>
            <a:off x="2144880" y="1255680"/>
            <a:ext cx="817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诗人一登上咸阳高高的城楼，向南望去，远处烟笼蒹葭，雾罩杨柳，很像长江中的汀洲。诗人游宦长安，远离家乡，一旦登临，思乡之情涌上心头。蒹葭杨柳，居然略类江南。万里之愁，正以乡思为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2T10:14:00Z</dcterms:created>
  <dc:creator/>
  <dc:description/>
  <cp:keywords/>
  <dc:language>en-US</dc:language>
  <cp:lastModifiedBy>微软用户</cp:lastModifiedBy>
  <dcterms:modified xsi:type="dcterms:W3CDTF">2019-12-27T00:23:25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