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13.gif" ContentType="image/gif"/>
  <Override PartName="/ppt/media/image16.jpeg" ContentType="image/jpeg"/>
  <Override PartName="/ppt/media/image5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1C4-9453-4A9F-963A-37EF40FB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3EA1-C029-4064-A62A-5C154459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B04-F4E5-46D4-A93D-54A3D0BA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A05-76E3-4CFE-8DC0-97569A65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8A2-D837-4F5A-BAEE-5F73126A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1C71-8238-40F4-808D-1F0E4E5C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A74-A45A-4EC5-B689-5CB44E46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175-2292-44C7-B081-B463034E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0FD2-0A9F-4057-8896-C2DC27D4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47D-6131-44B5-A155-16DC099A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C354-C5DF-4FF6-81BB-923BEF1B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80E-4FA1-41B7-9A15-F87EE6FD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37F2-EB04-4C35-98D3-734C67BB3A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19320" y="762120"/>
            <a:ext cx="67816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小溪流的歌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995640" y="3141720"/>
            <a:ext cx="264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严 文 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5236" t="0" r="529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380880"/>
            <a:ext cx="7162560" cy="609624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762120" y="0"/>
            <a:ext cx="5943600" cy="4343400"/>
            <a:chOff x="762120" y="0"/>
            <a:chExt cx="5943600" cy="4343400"/>
          </a:xfrm>
        </p:grpSpPr>
        <p:sp>
          <p:nvSpPr>
            <p:cNvPr id="109" name=""/>
            <p:cNvSpPr/>
            <p:nvPr/>
          </p:nvSpPr>
          <p:spPr>
            <a:xfrm>
              <a:off x="1219320" y="685800"/>
              <a:ext cx="4876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        </a:t>
              </a: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我翻腾起白色的泡沫，强烈地向着四方欢唱，一秒种也不停止自己的运动。拒绝了沉船的请求，不断涌起来，唱着小小溪流的歌“永远不休息，永远不休息！”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5943600" cy="4343400"/>
            </a:xfrm>
            <a:prstGeom prst="cloudCallout">
              <a:avLst>
                <a:gd name="adj1" fmla="val 71768"/>
                <a:gd name="adj2" fmla="val 3275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58920" y="4724280"/>
            <a:ext cx="3521160" cy="48996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猛烈柔和、充满热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8728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4169" t="0" r="5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979640" y="177336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溪流的歌体现了什么精神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2852640"/>
            <a:ext cx="53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小溪流的歌体现了一种永远前进，不怕一切阻力，多干实事的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492360" y="40464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584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探究主题</a:t>
            </a:r>
            <a:endParaRPr b="0" lang="en-US" sz="2400" spc="1" strike="noStrike">
              <a:ln w="1584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0666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溪流的精神给我们以怎样的启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0640" y="1905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勇往直前，永不停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60640" y="27432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生命不息，奋斗不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98120" y="3581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既要有进取心，又要有实际行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47640" y="17002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童话的语言有怎样的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2421000"/>
            <a:ext cx="42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运用拟人、夸张等艺术手法，来塑造艺术形象，反映社会生活；语言形象传神、生动有趣，充满童趣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411280" y="765000"/>
            <a:ext cx="3673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品味童话语言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2120" y="1736640"/>
            <a:ext cx="74102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童话是</a:t>
            </a:r>
            <a:r>
              <a:rPr b="1" lang="zh-CN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儿童文学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一种。这种作品通过丰富的</a:t>
            </a:r>
            <a:r>
              <a:rPr b="1" lang="zh-CN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想象、幻想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夸张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来塑造形象，反映生活，对儿童进行思想教育。语言通俗、生动，故事情节往往离奇曲折 ，引人入胜。童话又往往采用</a:t>
            </a:r>
            <a:r>
              <a:rPr b="1" lang="zh-CN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拟人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方法，举凡鸟兽虫鱼，花草树木，整个大自然以及家具、玩具都可赋予生命，注入思想感情，使它们人格化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16000" y="765000"/>
            <a:ext cx="1368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24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童话</a:t>
            </a:r>
            <a:endParaRPr b="0" lang="en-US" sz="2400" spc="1" strike="noStrike">
              <a:ln w="324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4169" t="0" r="41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699720" y="457200"/>
            <a:ext cx="1209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6600cc"/>
                </a:solidFill>
                <a:latin typeface="Times New Roman"/>
                <a:ea typeface="方正舒体"/>
              </a:rPr>
              <a:t>考考你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905120"/>
            <a:ext cx="746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下列各组中音、形、义完全正确的一项是（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ào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）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阻碍            兴志勃勃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低沉：天色阴暗；（声音）低；（情绪）低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吓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优愁            积畜力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眺望：往高处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淀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à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）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汹涌            毫不费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富足：丰富充足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怨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uā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恨           泡沫             无颜六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卵石：岩石经过水流冲击、摩擦所形成的卵形石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2920" y="1828800"/>
            <a:ext cx="62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4169" t="0" r="41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699720" y="304920"/>
            <a:ext cx="1209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6600cc"/>
                </a:solidFill>
                <a:latin typeface="Times New Roman"/>
                <a:ea typeface="方正舒体"/>
              </a:rPr>
              <a:t>考考你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295280"/>
            <a:ext cx="693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、下列对课文的理解错误的一项是（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小溪流在成长的过程中，力量越来越强大，声音变得低沉而洪亮。这些描写刻画符合事物发展变化的特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结尾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月亮出来了，月亮向着他微笑。太阳出来了，太阳向着他微笑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在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结构上使文章首尾呼应，内容上相同的句式错落出现，也有反映时间发展变化，暗合文章主题的意义，同时也从侧面烘托了成长中的愉快氛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宋体"/>
              </a:rPr>
              <a:t>C</a:t>
            </a:r>
            <a:r>
              <a:rPr b="1" lang="en-US" sz="2400" spc="-1" strike="noStrike">
                <a:solidFill>
                  <a:srgbClr val="6600cc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小溪流在成长的过程中，不仅自己不断壮大，而且给人们带来好处，带来欢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宋体"/>
              </a:rPr>
              <a:t>D</a:t>
            </a:r>
            <a:r>
              <a:rPr b="1" lang="en-US" sz="2400" spc="-1" strike="noStrike">
                <a:solidFill>
                  <a:srgbClr val="6600cc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中的枯树桩、乌鸦、泥沙和沉船是小溪流成长过程中的伙伴，是他们帮助小溪流最终成长为海洋。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31240" y="1181160"/>
            <a:ext cx="491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5291" t="0" r="5291" b="0"/>
          <a:stretch/>
        </p:blipFill>
        <p:spPr>
          <a:xfrm>
            <a:off x="0" y="0"/>
            <a:ext cx="9144000" cy="6737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08000" y="2924280"/>
            <a:ext cx="53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、请设想一下“在流淌的过程中，因为种种原因，最后只能干涸”的小溪流会有怎样的经历？放飞想象的翅膀，试着写一篇童话。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403280" y="692280"/>
            <a:ext cx="1297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240">
                  <a:solidFill>
                    <a:srgbClr val="9933ff"/>
                  </a:solidFill>
                  <a:miter/>
                </a:ln>
                <a:solidFill>
                  <a:srgbClr val="cc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作业</a:t>
            </a:r>
            <a:endParaRPr b="0" lang="en-US" sz="2400" spc="1" strike="noStrike">
              <a:ln w="3240">
                <a:solidFill>
                  <a:srgbClr val="9933ff"/>
                </a:solidFill>
                <a:miter/>
              </a:ln>
              <a:solidFill>
                <a:srgbClr val="cc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"/>
          <p:cNvSpPr/>
          <p:nvPr/>
        </p:nvSpPr>
        <p:spPr>
          <a:xfrm>
            <a:off x="1979640" y="443700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温馨提示：运用拟人、夸张等修辞手法，塑造形象，揭示道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148428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下面两题，选做一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198900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、搜集与本篇童话主旨相近的一两个童话或民间故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2501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38080" y="762120"/>
            <a:ext cx="65534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6600cc"/>
                </a:solidFill>
                <a:latin typeface="Times New Roman"/>
              </a:rPr>
              <a:t>枯树桩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——衰朽没落，缺乏信心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6600cc"/>
                </a:solidFill>
                <a:latin typeface="Times New Roman"/>
              </a:rPr>
              <a:t>乌    鸦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——无上进心，不思进取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6600cc"/>
                </a:solidFill>
                <a:latin typeface="Times New Roman"/>
              </a:rPr>
              <a:t>泥    沙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——半途而废，自甘堕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6600cc"/>
                </a:solidFill>
                <a:latin typeface="Times New Roman"/>
              </a:rPr>
              <a:t>沉    船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——贪图享受，不愿奉献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3357720"/>
            <a:ext cx="6624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反衬小溪流永远前进，不怕一切阻力，多干实事的精神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8001000" y="57913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304920"/>
            <a:ext cx="5638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9900cc"/>
                </a:solidFill>
                <a:latin typeface="宋体"/>
              </a:rPr>
              <a:t>原名严文锦，湖北省武昌人。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</a:rPr>
              <a:t>1915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</a:rPr>
              <a:t>年生，</a:t>
            </a:r>
            <a:r>
              <a:rPr b="1" lang="zh-CN" sz="2500" spc="-1" strike="noStrike">
                <a:solidFill>
                  <a:srgbClr val="9900cc"/>
                </a:solidFill>
                <a:latin typeface="_x000b__x000c_"/>
              </a:rPr>
              <a:t>2005</a:t>
            </a:r>
            <a:r>
              <a:rPr b="1" lang="zh-CN" sz="2500" spc="-1" strike="noStrike">
                <a:solidFill>
                  <a:srgbClr val="9900cc"/>
                </a:solidFill>
                <a:latin typeface="_x000b__x000c_"/>
              </a:rPr>
              <a:t>年</a:t>
            </a:r>
            <a:r>
              <a:rPr b="1" lang="zh-CN" sz="2500" spc="-1" strike="noStrike">
                <a:solidFill>
                  <a:srgbClr val="9900cc"/>
                </a:solidFill>
                <a:latin typeface="_x000b__x000c_"/>
              </a:rPr>
              <a:t>7</a:t>
            </a:r>
            <a:r>
              <a:rPr b="1" lang="zh-CN" sz="2500" spc="-1" strike="noStrike">
                <a:solidFill>
                  <a:srgbClr val="9900cc"/>
                </a:solidFill>
                <a:latin typeface="_x000b__x000c_"/>
              </a:rPr>
              <a:t>月</a:t>
            </a:r>
            <a:r>
              <a:rPr b="1" lang="zh-CN" sz="2500" spc="-1" strike="noStrike">
                <a:solidFill>
                  <a:srgbClr val="9900cc"/>
                </a:solidFill>
                <a:latin typeface="_x000b__x000c_"/>
              </a:rPr>
              <a:t>20</a:t>
            </a:r>
            <a:r>
              <a:rPr b="1" lang="zh-CN" sz="2500" spc="-1" strike="noStrike">
                <a:solidFill>
                  <a:srgbClr val="9900cc"/>
                </a:solidFill>
                <a:latin typeface="_x000b__x000c_"/>
              </a:rPr>
              <a:t>日凌晨</a:t>
            </a:r>
            <a:r>
              <a:rPr b="1" lang="zh-CN" sz="2500" spc="-1" strike="noStrike">
                <a:solidFill>
                  <a:srgbClr val="9900cc"/>
                </a:solidFill>
                <a:latin typeface="_x000b__x000c_"/>
              </a:rPr>
              <a:t>4</a:t>
            </a:r>
            <a:r>
              <a:rPr b="1" lang="zh-CN" sz="2500" spc="-1" strike="noStrike">
                <a:solidFill>
                  <a:srgbClr val="9900cc"/>
                </a:solidFill>
                <a:latin typeface="_x000b__x000c_"/>
              </a:rPr>
              <a:t>时</a:t>
            </a:r>
            <a:r>
              <a:rPr b="1" lang="zh-CN" sz="2500" spc="-1" strike="noStrike">
                <a:solidFill>
                  <a:srgbClr val="9900cc"/>
                </a:solidFill>
                <a:latin typeface="_x000b__x000c_"/>
              </a:rPr>
              <a:t>30</a:t>
            </a:r>
            <a:r>
              <a:rPr b="1" lang="zh-CN" sz="2500" spc="-1" strike="noStrike">
                <a:solidFill>
                  <a:srgbClr val="9900cc"/>
                </a:solidFill>
                <a:latin typeface="_x000b__x000c_"/>
              </a:rPr>
              <a:t>分在北京协和医院逝世，享年</a:t>
            </a:r>
            <a:r>
              <a:rPr b="1" lang="zh-CN" sz="2500" spc="-1" strike="noStrike">
                <a:solidFill>
                  <a:srgbClr val="9900cc"/>
                </a:solidFill>
                <a:latin typeface="_x000b__x000c_"/>
              </a:rPr>
              <a:t>90</a:t>
            </a:r>
            <a:r>
              <a:rPr b="1" lang="zh-CN" sz="2500" spc="-1" strike="noStrike">
                <a:solidFill>
                  <a:srgbClr val="9900cc"/>
                </a:solidFill>
                <a:latin typeface="_x000b__x000c_"/>
              </a:rPr>
              <a:t>岁。</a:t>
            </a:r>
            <a:r>
              <a:rPr b="1" lang="zh-CN" sz="2500" spc="-1" strike="noStrike">
                <a:solidFill>
                  <a:srgbClr val="9900cc"/>
                </a:solidFill>
                <a:latin typeface="_x000b__x000c_"/>
              </a:rPr>
              <a:t>1934</a:t>
            </a:r>
            <a:r>
              <a:rPr b="1" lang="zh-CN" sz="2500" spc="-1" strike="noStrike">
                <a:solidFill>
                  <a:srgbClr val="9900cc"/>
                </a:solidFill>
                <a:latin typeface="宋体"/>
              </a:rPr>
              <a:t>年毕业于湖北省立高中，次年到北京图书馆工作，并开始以“严文井”的名字发表作品。《严文井散文选》获中国作家协会首届全国优秀散文杂文奖。在第二次全国少年儿童文艺创作评奖中被授予荣誉奖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宋体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581280"/>
            <a:ext cx="311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ff0000"/>
                </a:solidFill>
                <a:latin typeface="宋体"/>
              </a:rPr>
              <a:t>严文井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 ，</a:t>
            </a:r>
            <a:r>
              <a:rPr b="1" lang="zh-CN" sz="2500" spc="-1" strike="noStrike">
                <a:solidFill>
                  <a:srgbClr val="ff0000"/>
                </a:solidFill>
                <a:latin typeface="宋体"/>
              </a:rPr>
              <a:t>中国现当代文学的著名作家、文学评论家、编辑出版家，中国作家协会顾问，人民文学出版社原社长、总编辑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 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292640"/>
            <a:ext cx="2938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0000cc"/>
                </a:solidFill>
                <a:latin typeface="宋体"/>
              </a:rPr>
              <a:t>严文井的童话很有特色，他主张“诗意童话”，他说童话就是诗。</a:t>
            </a:r>
            <a:r>
              <a:rPr b="1" lang="zh-CN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228600"/>
            <a:ext cx="8077320" cy="6324480"/>
            <a:chOff x="380880" y="228600"/>
            <a:chExt cx="8077320" cy="63244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380880" y="228600"/>
              <a:ext cx="274320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6324480" y="3429000"/>
              <a:ext cx="2133720" cy="312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1989000"/>
            <a:ext cx="609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6600cc"/>
                </a:solidFill>
                <a:latin typeface="Times New Roman"/>
              </a:rPr>
              <a:t>、速读课文，说说小溪流的成长包括几个阶段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908000" y="3357720"/>
            <a:ext cx="6121440" cy="550800"/>
            <a:chOff x="1908000" y="3357720"/>
            <a:chExt cx="6121440" cy="550800"/>
          </a:xfrm>
        </p:grpSpPr>
        <p:sp>
          <p:nvSpPr>
            <p:cNvPr id="55" name=""/>
            <p:cNvSpPr/>
            <p:nvPr/>
          </p:nvSpPr>
          <p:spPr>
            <a:xfrm>
              <a:off x="1908000" y="3357720"/>
              <a:ext cx="612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Times New Roman"/>
                </a:rPr>
                <a:t>小溪流      小河      大江      海洋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76720" y="3573360"/>
              <a:ext cx="431640" cy="142920"/>
            </a:xfrm>
            <a:prstGeom prst="rightArrow">
              <a:avLst>
                <a:gd name="adj1" fmla="val 50000"/>
                <a:gd name="adj2" fmla="val 75504"/>
              </a:avLst>
            </a:prstGeom>
            <a:solidFill>
              <a:srgbClr val="3333cc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867280" y="3573360"/>
              <a:ext cx="432000" cy="142920"/>
            </a:xfrm>
            <a:prstGeom prst="rightArrow">
              <a:avLst>
                <a:gd name="adj1" fmla="val 50000"/>
                <a:gd name="adj2" fmla="val 75567"/>
              </a:avLst>
            </a:prstGeom>
            <a:solidFill>
              <a:srgbClr val="3333cc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2000" y="3573360"/>
              <a:ext cx="431640" cy="142920"/>
            </a:xfrm>
            <a:prstGeom prst="rightArrow">
              <a:avLst>
                <a:gd name="adj1" fmla="val 50000"/>
                <a:gd name="adj2" fmla="val 75504"/>
              </a:avLst>
            </a:prstGeom>
            <a:solidFill>
              <a:srgbClr val="3333cc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 txBox="1"/>
          <p:nvPr/>
        </p:nvSpPr>
        <p:spPr>
          <a:xfrm>
            <a:off x="3348000" y="1052640"/>
            <a:ext cx="251928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648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整体感知</a:t>
            </a:r>
            <a:endParaRPr b="0" lang="en-US" sz="2400" spc="1" strike="noStrike">
              <a:ln w="648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79640" y="14130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、分组朗读，归纳小溪流在各个成长阶段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歌声特点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力量表现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劝阻者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4169" t="0" r="333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762120" y="228600"/>
          <a:ext cx="7467480" cy="6248520"/>
        </p:xfrm>
        <a:graphic>
          <a:graphicData uri="http://schemas.openxmlformats.org/drawingml/2006/table">
            <a:tbl>
              <a:tblPr/>
              <a:tblGrid>
                <a:gridCol w="898560"/>
                <a:gridCol w="2143080"/>
                <a:gridCol w="2977920"/>
                <a:gridCol w="144792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成长阶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990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小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1880" y="4114800"/>
            <a:ext cx="91188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大  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7640" y="5293080"/>
            <a:ext cx="5461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海 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06160" y="380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歌声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5360" y="380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力量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44840" y="45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劝阻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1219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用清亮的嗓子歌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129528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推着小树叶打转、冲过石块的阻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114300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枯树桩、枯黄的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2819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沙声地歌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2362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翻腾起沉淀的泥沙，卷起漂浮的枯树枝，推送着木排，托起沉重的木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274320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乌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低声吟唱，用洪亮而低沉的声音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96320" y="41148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掀起汹涌的波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举起庞大的轮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03320" y="100044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小溪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434340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泥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533412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强烈地向着四方欢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5229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不断涌起来，向上，向前，向着四面八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548640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沉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79640" y="1773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用第一人称简洁地叙说小溪流成长过程中的每个阶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5236" t="0" r="529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7543800" cy="63244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2700360" y="981000"/>
            <a:ext cx="6225840" cy="3352680"/>
            <a:chOff x="2700360" y="981000"/>
            <a:chExt cx="6225840" cy="3352680"/>
          </a:xfrm>
        </p:grpSpPr>
        <p:sp>
          <p:nvSpPr>
            <p:cNvPr id="88" name=""/>
            <p:cNvSpPr/>
            <p:nvPr/>
          </p:nvSpPr>
          <p:spPr>
            <a:xfrm>
              <a:off x="2700360" y="981000"/>
              <a:ext cx="6225840" cy="3352680"/>
            </a:xfrm>
            <a:prstGeom prst="cloudCallout">
              <a:avLst>
                <a:gd name="adj1" fmla="val -12578"/>
                <a:gd name="adj2" fmla="val 106722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84840" y="1590480"/>
              <a:ext cx="570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00"/>
                  </a:solidFill>
                  <a:latin typeface="宋体"/>
                </a:rPr>
                <a:t>    </a:t>
              </a:r>
              <a:r>
                <a:rPr b="1" lang="zh-CN" sz="2600" spc="-1" strike="noStrike">
                  <a:solidFill>
                    <a:srgbClr val="ffff00"/>
                  </a:solidFill>
                  <a:latin typeface="宋体"/>
                </a:rPr>
                <a:t>我不知疲倦地往前奔流，冲过巨大石块的阻拦，拒绝枯树桩的劝止，同我的伙伴们汇合在一起，我就长大了。——我成为一条小河。</a:t>
              </a:r>
              <a:r>
                <a:rPr b="1" lang="zh-CN" sz="26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038400" y="5013360"/>
            <a:ext cx="331560" cy="489960"/>
          </a:xfrm>
          <a:prstGeom prst="rect">
            <a:avLst/>
          </a:prstGeom>
          <a:solidFill>
            <a:srgbClr val="cc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快乐真诚、顽皮执著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5892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5236" t="0" r="529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467840" cy="62481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838080" y="1066680"/>
            <a:ext cx="6324840" cy="3353040"/>
            <a:chOff x="838080" y="1066680"/>
            <a:chExt cx="6324840" cy="3353040"/>
          </a:xfrm>
        </p:grpSpPr>
        <p:sp>
          <p:nvSpPr>
            <p:cNvPr id="95" name=""/>
            <p:cNvSpPr/>
            <p:nvPr/>
          </p:nvSpPr>
          <p:spPr>
            <a:xfrm>
              <a:off x="1066680" y="1600200"/>
              <a:ext cx="595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9f93f"/>
                  </a:solidFill>
                  <a:latin typeface="宋体"/>
                </a:rPr>
                <a:t>    </a:t>
              </a:r>
              <a:r>
                <a:rPr b="1" lang="zh-CN" sz="2600" spc="-1" strike="noStrike">
                  <a:solidFill>
                    <a:srgbClr val="f9f93f"/>
                  </a:solidFill>
                  <a:latin typeface="宋体"/>
                </a:rPr>
                <a:t>我精力旺盛，精神饱满，托起沉重的木船，拒绝乌鸦的恐吓，不知疲倦地奔流、奔流，别的小河同我汇在一起，我又长大了。——成为一条大江。</a:t>
              </a:r>
              <a:r>
                <a:rPr b="1" lang="zh-CN" sz="2600" spc="-1" strike="noStrike">
                  <a:solidFill>
                    <a:srgbClr val="f9f93f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066680"/>
              <a:ext cx="6324840" cy="3353040"/>
            </a:xfrm>
            <a:prstGeom prst="cloudCallout">
              <a:avLst>
                <a:gd name="adj1" fmla="val 30546"/>
                <a:gd name="adj2" fmla="val 84800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547640" y="5084640"/>
            <a:ext cx="3353040" cy="48996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兴致勃勃、乐观执著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11600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5236" t="0" r="529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838080" y="228600"/>
            <a:ext cx="7467840" cy="63244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1143000" y="0"/>
            <a:ext cx="8001000" cy="4343400"/>
            <a:chOff x="1143000" y="0"/>
            <a:chExt cx="8001000" cy="4343400"/>
          </a:xfrm>
        </p:grpSpPr>
        <p:sp>
          <p:nvSpPr>
            <p:cNvPr id="102" name=""/>
            <p:cNvSpPr/>
            <p:nvPr/>
          </p:nvSpPr>
          <p:spPr>
            <a:xfrm>
              <a:off x="1752480" y="762120"/>
              <a:ext cx="634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00"/>
                  </a:solidFill>
                  <a:latin typeface="Times New Roman"/>
                </a:rPr>
                <a:t>        </a:t>
              </a:r>
              <a:r>
                <a:rPr b="1" lang="zh-CN" sz="2600" spc="-1" strike="noStrike">
                  <a:solidFill>
                    <a:srgbClr val="ffff00"/>
                  </a:solidFill>
                  <a:latin typeface="Times New Roman"/>
                </a:rPr>
                <a:t>我积蓄了巨大无比的精力，掀起汹涌的波涛，举起庞大的轮船帮助他们迅速航行，拒绝了泥沙的阻止，不知疲倦地奔流着，奔流着，永远向着前方。——成为海洋。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3000" y="0"/>
              <a:ext cx="8001000" cy="4343400"/>
            </a:xfrm>
            <a:prstGeom prst="cloudCallout">
              <a:avLst>
                <a:gd name="adj1" fmla="val -29939"/>
                <a:gd name="adj2" fmla="val 75583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116000" y="5229360"/>
            <a:ext cx="3216240" cy="489960"/>
          </a:xfrm>
          <a:prstGeom prst="rect">
            <a:avLst/>
          </a:prstGeom>
          <a:solidFill>
            <a:srgbClr val="cc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沉着乐观、自信执著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16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11-14T13:20:44Z</dcterms:modified>
  <cp:revision>38</cp:revision>
  <dc:subject/>
  <dc:title>幻灯片</dc:title>
</cp:coreProperties>
</file>