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3.png" ContentType="image/png"/>
  <Override PartName="/ppt/media/image23.png" ContentType="image/png"/>
  <Override PartName="/ppt/media/image2.gif" ContentType="image/gif"/>
  <Override PartName="/ppt/media/image6.png" ContentType="image/png"/>
  <Override PartName="/ppt/media/type.wav" ContentType="audio/x-wav"/>
  <Override PartName="/ppt/media/image15.jpeg" ContentType="image/jpeg"/>
  <Override PartName="/ppt/media/image17.gif" ContentType="image/gif"/>
  <Override PartName="/ppt/media/chimes.wav" ContentType="audio/x-wav"/>
  <Override PartName="/ppt/media/image16.png" ContentType="image/png"/>
  <Override PartName="/ppt/media/image14.jpeg" ContentType="image/jpeg"/>
  <Override PartName="/ppt/media/image21.gif" ContentType="image/gif"/>
  <Override PartName="/ppt/media/image1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105-DFEC-418A-8208-AE9A7FD2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6EB-3620-4081-B8CF-534335B9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B77-9158-46EA-BC93-C6660D4F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A4B-1A4C-4C9D-BF76-4AA65150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C47-2A25-47D5-9014-3DBAEE0C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B56-57E9-4518-9333-C29155E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78B-3E0C-4FC8-B02B-82EA3E81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6A2-6B5B-45DD-86E6-EBD9F768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A2B-EFD0-4EC5-900F-EA228B86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783-F1CD-40E8-8DAE-6E3491DF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BE2-5422-4B48-B8AC-AA8EE72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577-3F2E-4999-90A8-D5953700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F31E-7132-4FA9-ABC4-AB17F839BB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file:///&#23567;&#28330;&#27969;.ppt" TargetMode="External"/><Relationship Id="rId5" Type="http://schemas.openxmlformats.org/officeDocument/2006/relationships/hyperlink" Target="file:///&#23567;&#27827;.ppt" TargetMode="External"/><Relationship Id="rId6" Type="http://schemas.openxmlformats.org/officeDocument/2006/relationships/hyperlink" Target="file:///&#22823;&#27743;.ppt" TargetMode="External"/><Relationship Id="rId7" Type="http://schemas.openxmlformats.org/officeDocument/2006/relationships/hyperlink" Target="file:///&#22823;&#28023;.ppt" TargetMode="External"/><Relationship Id="rId8" Type="http://schemas.openxmlformats.org/officeDocument/2006/relationships/image" Target="../media/image3.png"/><Relationship Id="rId9" Type="http://schemas.openxmlformats.org/officeDocument/2006/relationships/hyperlink" Target="file:///1&#36827;&#21462;.ppt" TargetMode="External"/><Relationship Id="rId10" Type="http://schemas.openxmlformats.org/officeDocument/2006/relationships/hyperlink" Target="file:///2&#20048;&#35266;.ppt" TargetMode="External"/><Relationship Id="rId11" Type="http://schemas.openxmlformats.org/officeDocument/2006/relationships/hyperlink" Target="file:///3&#22857;&#29486;.ppt" TargetMode="External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" Target="slide6.xml"/><Relationship Id="rId4" Type="http://schemas.openxmlformats.org/officeDocument/2006/relationships/image" Target="../media/image21.gif"/><Relationship Id="rId5" Type="http://schemas.openxmlformats.org/officeDocument/2006/relationships/slide" Target="slide6.xm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2.pn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2.pn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2.gif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25080" cy="70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12536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幼圆"/>
                <a:ea typeface="幼圆"/>
              </a:rPr>
              <a:t>18   </a:t>
            </a:r>
            <a:r>
              <a:rPr b="1" lang="zh-CN" sz="4000" spc="-1" strike="noStrike">
                <a:solidFill>
                  <a:srgbClr val="000099"/>
                </a:solidFill>
                <a:latin typeface="幼圆"/>
                <a:ea typeface="幼圆"/>
              </a:rPr>
              <a:t>小溪流的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863000">
            <a:off x="2195280" y="5445000"/>
            <a:ext cx="450720" cy="622440"/>
          </a:xfrm>
          <a:custGeom>
            <a:avLst/>
            <a:gdLst>
              <a:gd name="textAreaLeft" fmla="*/ 185760 w 450720"/>
              <a:gd name="textAreaRight" fmla="*/ 264960 w 450720"/>
              <a:gd name="textAreaTop" fmla="*/ 256320 h 622440"/>
              <a:gd name="textAreaBottom" fmla="*/ 366120 h 62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4582200">
            <a:off x="4984920" y="1992960"/>
            <a:ext cx="687240" cy="5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4582200">
            <a:off x="2751840" y="4744080"/>
            <a:ext cx="687240" cy="504720"/>
          </a:xfrm>
          <a:custGeom>
            <a:avLst/>
            <a:gdLst>
              <a:gd name="textAreaLeft" fmla="*/ 282960 w 687240"/>
              <a:gd name="textAreaRight" fmla="*/ 404280 w 68724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70400">
            <a:off x="3924000" y="6210360"/>
            <a:ext cx="576360" cy="647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3673800">
            <a:off x="4138920" y="3788280"/>
            <a:ext cx="504720" cy="360360"/>
          </a:xfrm>
          <a:custGeom>
            <a:avLst/>
            <a:gdLst>
              <a:gd name="textAreaLeft" fmla="*/ 186840 w 504720"/>
              <a:gd name="textAreaRight" fmla="*/ 317880 w 504720"/>
              <a:gd name="textAreaTop" fmla="*/ 133200 h 360360"/>
              <a:gd name="textAreaBottom" fmla="*/ 227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92" y="7992"/>
                </a:lnTo>
                <a:lnTo>
                  <a:pt x="10800" y="0"/>
                </a:lnTo>
                <a:lnTo>
                  <a:pt x="13608" y="7992"/>
                </a:lnTo>
                <a:lnTo>
                  <a:pt x="21600" y="10800"/>
                </a:lnTo>
                <a:lnTo>
                  <a:pt x="13608" y="13608"/>
                </a:lnTo>
                <a:lnTo>
                  <a:pt x="10800" y="21600"/>
                </a:lnTo>
                <a:lnTo>
                  <a:pt x="7992" y="13608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744000">
            <a:off x="2771280" y="5733720"/>
            <a:ext cx="576360" cy="772920"/>
          </a:xfrm>
          <a:custGeom>
            <a:avLst/>
            <a:gdLst>
              <a:gd name="textAreaLeft" fmla="*/ 237600 w 576360"/>
              <a:gd name="textAreaRight" fmla="*/ 338760 w 576360"/>
              <a:gd name="textAreaTop" fmla="*/ 318600 h 772920"/>
              <a:gd name="textAreaBottom" fmla="*/ 454320 h 77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5373720"/>
            <a:ext cx="792000" cy="43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12589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534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728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严文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63640" y="333360"/>
            <a:ext cx="5256360" cy="2590920"/>
          </a:xfrm>
          <a:prstGeom prst="cloudCallout">
            <a:avLst>
              <a:gd name="adj1" fmla="val -40333"/>
              <a:gd name="adj2" fmla="val 156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836640"/>
            <a:ext cx="4680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什么呀？就不！不能够停留！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70400">
            <a:off x="3924000" y="6210360"/>
            <a:ext cx="576360" cy="647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70400">
            <a:off x="4543200" y="3774600"/>
            <a:ext cx="204480" cy="322200"/>
          </a:xfrm>
          <a:custGeom>
            <a:avLst/>
            <a:gdLst>
              <a:gd name="textAreaLeft" fmla="*/ 84240 w 204480"/>
              <a:gd name="textAreaRight" fmla="*/ 120240 w 204480"/>
              <a:gd name="textAreaTop" fmla="*/ 132840 h 322200"/>
              <a:gd name="textAreaBottom" fmla="*/ 189360 h 32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4582200">
            <a:off x="2751840" y="4744080"/>
            <a:ext cx="687240" cy="504720"/>
          </a:xfrm>
          <a:custGeom>
            <a:avLst/>
            <a:gdLst>
              <a:gd name="textAreaLeft" fmla="*/ 282960 w 687240"/>
              <a:gd name="textAreaRight" fmla="*/ 404280 w 68724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4582200">
            <a:off x="1701000" y="5282280"/>
            <a:ext cx="399960" cy="217440"/>
          </a:xfrm>
          <a:custGeom>
            <a:avLst/>
            <a:gdLst>
              <a:gd name="textAreaLeft" fmla="*/ 164880 w 399960"/>
              <a:gd name="textAreaRight" fmla="*/ 235080 w 399960"/>
              <a:gd name="textAreaTop" fmla="*/ 89640 h 217440"/>
              <a:gd name="textAreaBottom" fmla="*/ 12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70400">
            <a:off x="2266560" y="5877000"/>
            <a:ext cx="576360" cy="647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229600" y="52560"/>
            <a:ext cx="8809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15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1155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115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115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10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100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1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1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100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92360" y="0"/>
            <a:ext cx="5111640" cy="2997360"/>
          </a:xfrm>
          <a:prstGeom prst="cloudCallout">
            <a:avLst>
              <a:gd name="adj1" fmla="val -26023"/>
              <a:gd name="adj2" fmla="val 140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549360"/>
            <a:ext cx="41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什么？才不听你的咧！就不能停留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971280" cy="466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971640" cy="46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08720" y="1989000"/>
            <a:ext cx="971640" cy="466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8028000" y="0"/>
            <a:ext cx="7365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03280" y="0"/>
            <a:ext cx="6121440" cy="2536920"/>
          </a:xfrm>
          <a:prstGeom prst="cloudCallout">
            <a:avLst>
              <a:gd name="adj1" fmla="val 48652"/>
              <a:gd name="adj2" fmla="val 92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692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什么？不行！不能停留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828720" cy="396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136000" y="3141720"/>
            <a:ext cx="1008000" cy="482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8263080" y="0"/>
            <a:ext cx="8809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71640" y="0"/>
            <a:ext cx="5545440" cy="3672000"/>
          </a:xfrm>
          <a:prstGeom prst="cloudCallout">
            <a:avLst>
              <a:gd name="adj1" fmla="val -31476"/>
              <a:gd name="adj2" fmla="val 81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105264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休息？为什么？那可不成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1258920" cy="560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077320" y="914400"/>
            <a:ext cx="1331640" cy="63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572000" y="4343400"/>
            <a:ext cx="2232000" cy="1071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8263080" y="0"/>
            <a:ext cx="8809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038480" y="1676520"/>
            <a:ext cx="2438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启示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048120"/>
            <a:ext cx="55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坚持前进、永不停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4038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在前进中不断成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87280" y="2924280"/>
            <a:ext cx="12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0792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部分中，找出直接赞颂小溪流的精神的句子，然后说说小溪流的精神是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89000"/>
            <a:ext cx="32004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找一找，说一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5373720"/>
            <a:ext cx="792000" cy="43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4582200">
            <a:off x="2406240" y="5022720"/>
            <a:ext cx="784080" cy="453960"/>
          </a:xfrm>
          <a:custGeom>
            <a:avLst/>
            <a:gdLst>
              <a:gd name="textAreaLeft" fmla="*/ 336960 w 784080"/>
              <a:gd name="textAreaRight" fmla="*/ 447120 w 784080"/>
              <a:gd name="textAreaTop" fmla="*/ 195120 h 453960"/>
              <a:gd name="textAreaBottom" fmla="*/ 258840 h 45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81" y="9281"/>
                </a:lnTo>
                <a:lnTo>
                  <a:pt x="10800" y="0"/>
                </a:lnTo>
                <a:lnTo>
                  <a:pt x="12319" y="9281"/>
                </a:lnTo>
                <a:lnTo>
                  <a:pt x="21600" y="10800"/>
                </a:lnTo>
                <a:lnTo>
                  <a:pt x="12319" y="12319"/>
                </a:lnTo>
                <a:lnTo>
                  <a:pt x="10800" y="21600"/>
                </a:lnTo>
                <a:lnTo>
                  <a:pt x="9281" y="12319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4582200">
            <a:off x="3399480" y="6072840"/>
            <a:ext cx="687240" cy="504720"/>
          </a:xfrm>
          <a:custGeom>
            <a:avLst/>
            <a:gdLst>
              <a:gd name="textAreaLeft" fmla="*/ 295200 w 687240"/>
              <a:gd name="textAreaRight" fmla="*/ 392040 w 687240"/>
              <a:gd name="textAreaTop" fmla="*/ 216720 h 504720"/>
              <a:gd name="textAreaBottom" fmla="*/ 2880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81" y="9281"/>
                </a:lnTo>
                <a:lnTo>
                  <a:pt x="10800" y="0"/>
                </a:lnTo>
                <a:lnTo>
                  <a:pt x="12319" y="9281"/>
                </a:lnTo>
                <a:lnTo>
                  <a:pt x="21600" y="10800"/>
                </a:lnTo>
                <a:lnTo>
                  <a:pt x="12319" y="12319"/>
                </a:lnTo>
                <a:lnTo>
                  <a:pt x="10800" y="21600"/>
                </a:lnTo>
                <a:lnTo>
                  <a:pt x="9281" y="12319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564000" y="0"/>
            <a:ext cx="1025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3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1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1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868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3882960"/>
            <a:ext cx="4643280" cy="2975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4500720" cy="2997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788000" y="333360"/>
            <a:ext cx="3166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小溪流的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8000" y="314172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小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52293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大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6000" y="4365720"/>
            <a:ext cx="122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大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98100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小河、大江、海洋这三部分中，分别找出表现小溪流精神的句子，有感情地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8459640" y="249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324000" y="0"/>
            <a:ext cx="32004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找一找，读一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3141720"/>
            <a:ext cx="136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9"/>
              </a:rPr>
              <a:t>进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3640" y="3141720"/>
            <a:ext cx="1368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0"/>
              </a:rPr>
              <a:t>乐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141720"/>
            <a:ext cx="1944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1"/>
              </a:rPr>
              <a:t>奉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6588000" y="4602240"/>
            <a:ext cx="63684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2700360" y="43657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7391520" y="476280"/>
            <a:ext cx="6364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318919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16000" y="357336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059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5059f"/>
                </a:solidFill>
                <a:latin typeface="Times New Roman"/>
              </a:rPr>
              <a:t>在他清亮的眼睛里，世界上所有的东西都像他自己一样新鲜，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119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059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5059f"/>
                </a:solidFill>
                <a:latin typeface="Times New Roman"/>
              </a:rPr>
              <a:t>小溪流就这样不知疲倦地奔流，奔流，渐渐又有旁的小溪流来同他会合在一起，小溪流就长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589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059f"/>
                </a:solidFill>
                <a:latin typeface="Times New Roman"/>
              </a:rPr>
              <a:t>村庄里有水磨等着他去转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4762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1d05"/>
                </a:solidFill>
                <a:latin typeface="Times New Roman"/>
                <a:ea typeface="楷体_GB2312"/>
              </a:rPr>
              <a:t>进取、百折不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2852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1d05"/>
                </a:solidFill>
                <a:latin typeface="Times New Roman"/>
                <a:ea typeface="楷体_GB2312"/>
              </a:rPr>
              <a:t>乐观、充满活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486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1d05"/>
                </a:solidFill>
                <a:latin typeface="Times New Roman"/>
                <a:ea typeface="楷体_GB2312"/>
              </a:rPr>
              <a:t>奉献、无尽无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924680" y="4076640"/>
            <a:ext cx="1219320" cy="1682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175360"/>
            <a:ext cx="1219320" cy="1682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64360" y="5175360"/>
            <a:ext cx="1219320" cy="168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28600" y="0"/>
            <a:ext cx="28195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中宋"/>
              </a:rPr>
              <a:t>拓展训练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1430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请以第一人称“我”的口吻写出小溪流成长为海洋的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2590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例：我不知疲惫地往前奔流，冲过巨大石块的阻拦，拒绝枯树桩的劝止，同我的伙伴们汇合在一起，我就长大了。——我成为了一条小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3440" y="1828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严文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原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严文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91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生，湖北省武昌人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当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家。他以童话和寓言的作品成就最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作品都收集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《严文井童话寓言集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914400"/>
            <a:ext cx="7238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给下面划线字注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牢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望    泡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恨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133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2133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d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133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1337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m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2133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ti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3809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m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3809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yu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luă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95280" y="533520"/>
            <a:ext cx="75438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解释下列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积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汹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致勃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穷无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1263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积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81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水猛烈地向上涌或向前翻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743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丰富而充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42900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形容兴趣很浓，兴头很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勃勃，兴盛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876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穷尽，这里形容数量极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2103480" cy="2446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2120" y="457200"/>
            <a:ext cx="2438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整体感知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23464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方正舒体"/>
              </a:rPr>
              <a:t>请听课文朗读录音，找出小溪流逐步成长的四个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349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-7920"/>
            <a:ext cx="4500720" cy="340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3882960"/>
            <a:ext cx="4140360" cy="2975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4500720" cy="299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59280" y="328464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溪流的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2205000"/>
            <a:ext cx="1513080" cy="647640"/>
          </a:xfrm>
          <a:prstGeom prst="cloudCallout">
            <a:avLst>
              <a:gd name="adj1" fmla="val -108972"/>
              <a:gd name="adj2" fmla="val 110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421000"/>
            <a:ext cx="1512720" cy="647640"/>
          </a:xfrm>
          <a:prstGeom prst="cloudCallout">
            <a:avLst>
              <a:gd name="adj1" fmla="val 106976"/>
              <a:gd name="adj2" fmla="val 50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5157720"/>
            <a:ext cx="1225440" cy="647640"/>
          </a:xfrm>
          <a:prstGeom prst="cloudCallout">
            <a:avLst>
              <a:gd name="adj1" fmla="val 47018"/>
              <a:gd name="adj2" fmla="val -171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5013360"/>
            <a:ext cx="1512720" cy="647640"/>
          </a:xfrm>
          <a:prstGeom prst="cloudCallout">
            <a:avLst>
              <a:gd name="adj1" fmla="val -50421"/>
              <a:gd name="adj2" fmla="val -156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溪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227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5229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50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780000" y="0"/>
            <a:ext cx="1584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4" name=""/>
            <p:cNvGrpSpPr/>
            <p:nvPr/>
          </p:nvGrpSpPr>
          <p:grpSpPr>
            <a:xfrm>
              <a:off x="0" y="0"/>
              <a:ext cx="1600200" cy="6858000"/>
              <a:chOff x="0" y="0"/>
              <a:chExt cx="1600200" cy="68580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600200" cy="139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371600"/>
                <a:ext cx="160020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114800"/>
                <a:ext cx="160020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743200"/>
                <a:ext cx="160020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486400"/>
                <a:ext cx="16002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" name=""/>
            <p:cNvGrpSpPr/>
            <p:nvPr/>
          </p:nvGrpSpPr>
          <p:grpSpPr>
            <a:xfrm>
              <a:off x="1600200" y="0"/>
              <a:ext cx="2362320" cy="6858000"/>
              <a:chOff x="1600200" y="0"/>
              <a:chExt cx="2362320" cy="6858000"/>
            </a:xfrm>
          </p:grpSpPr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00200" y="0"/>
                <a:ext cx="2362320" cy="13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00200" y="1371600"/>
                <a:ext cx="236232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600200" y="2743200"/>
                <a:ext cx="236232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00200" y="5486400"/>
                <a:ext cx="236232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0200" y="4114800"/>
                <a:ext cx="236232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3962520" y="0"/>
              <a:ext cx="3809880" cy="6858000"/>
              <a:chOff x="3962520" y="0"/>
              <a:chExt cx="3809880" cy="68580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962520" y="2743200"/>
                <a:ext cx="380988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962520" y="0"/>
                <a:ext cx="3809880" cy="13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962520" y="1371600"/>
                <a:ext cx="380988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62520" y="4114800"/>
                <a:ext cx="380988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62520" y="5486400"/>
                <a:ext cx="380988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7772400" y="0"/>
              <a:ext cx="1371600" cy="6858000"/>
              <a:chOff x="7772400" y="0"/>
              <a:chExt cx="1371600" cy="68580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72400" y="0"/>
                <a:ext cx="1371600" cy="13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772400" y="1371600"/>
                <a:ext cx="137160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772400" y="2743200"/>
                <a:ext cx="137160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772400" y="5486400"/>
                <a:ext cx="137160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772400" y="4114800"/>
                <a:ext cx="13716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" name=""/>
          <p:cNvSpPr/>
          <p:nvPr/>
        </p:nvSpPr>
        <p:spPr>
          <a:xfrm>
            <a:off x="0" y="380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长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395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声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457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力量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752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小溪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3124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小   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大   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5867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海   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6160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哼哼唱歌，用清亮的嗓子歌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124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沙声地歌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114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声吟唱，用洪亮而低沉的声音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5654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强烈地向着四方欢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1616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着小树枝打转，冲破石块的阻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2774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翻腾起沉淀的泥沙，卷起漂浮的枯树枝，推送着木排，托起沉重的木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43592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掀起汹涌的泥涛，举起庞大的轮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断地涌起来，向上，向前，向着四面八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457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劝阻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16765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枯树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枯黄的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乌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泥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沉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00400" y="16765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幼圆"/>
              </a:rPr>
              <a:t>小溪流唱的歌是一首什么样的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43200" y="30492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合作探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381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一首永不息止的在前进中不断成长壮大的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5094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74560" y="2895480"/>
            <a:ext cx="7993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分角色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品味小溪流的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000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1439640" cy="69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924360" y="476280"/>
            <a:ext cx="143964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907920"/>
            <a:ext cx="1079640" cy="517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rot="744000">
            <a:off x="1476000" y="5733720"/>
            <a:ext cx="576360" cy="772920"/>
          </a:xfrm>
          <a:custGeom>
            <a:avLst/>
            <a:gdLst>
              <a:gd name="textAreaLeft" fmla="*/ 237600 w 576360"/>
              <a:gd name="textAreaRight" fmla="*/ 338760 w 576360"/>
              <a:gd name="textAreaTop" fmla="*/ 318600 h 772920"/>
              <a:gd name="textAreaBottom" fmla="*/ 454320 h 77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744000">
            <a:off x="2906640" y="4882680"/>
            <a:ext cx="576360" cy="774720"/>
          </a:xfrm>
          <a:custGeom>
            <a:avLst/>
            <a:gdLst>
              <a:gd name="textAreaLeft" fmla="*/ 237240 w 576360"/>
              <a:gd name="textAreaRight" fmla="*/ 339120 w 576360"/>
              <a:gd name="textAreaTop" fmla="*/ 318960 h 774720"/>
              <a:gd name="textAreaBottom" fmla="*/ 455760 h 77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2" y="8892"/>
                </a:lnTo>
                <a:lnTo>
                  <a:pt x="10800" y="0"/>
                </a:lnTo>
                <a:lnTo>
                  <a:pt x="12708" y="8892"/>
                </a:lnTo>
                <a:lnTo>
                  <a:pt x="21600" y="10800"/>
                </a:lnTo>
                <a:lnTo>
                  <a:pt x="12708" y="12708"/>
                </a:lnTo>
                <a:lnTo>
                  <a:pt x="10800" y="21600"/>
                </a:lnTo>
                <a:lnTo>
                  <a:pt x="8892" y="1270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744000">
            <a:off x="3068640" y="5805000"/>
            <a:ext cx="720720" cy="846360"/>
          </a:xfrm>
          <a:custGeom>
            <a:avLst/>
            <a:gdLst>
              <a:gd name="textAreaLeft" fmla="*/ 297000 w 720720"/>
              <a:gd name="textAreaRight" fmla="*/ 423720 w 720720"/>
              <a:gd name="textAreaTop" fmla="*/ 348840 h 846360"/>
              <a:gd name="textAreaBottom" fmla="*/ 4975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16280"/>
            <a:ext cx="3097440" cy="1800360"/>
          </a:xfrm>
          <a:prstGeom prst="cloudCallout">
            <a:avLst>
              <a:gd name="adj1" fmla="val -105921"/>
              <a:gd name="adj2" fmla="val 47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8047080" y="0"/>
            <a:ext cx="1096920" cy="97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33520" y="457200"/>
            <a:ext cx="2057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cc00ff"/>
                </a:solidFill>
                <a:latin typeface="宋体"/>
              </a:rPr>
              <a:t>品读课文</a:t>
            </a:r>
            <a:r>
              <a:rPr b="0" lang="en-US" sz="1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cc00ff"/>
                </a:solidFill>
                <a:latin typeface="宋体"/>
              </a:rPr>
              <a:t>:</a:t>
            </a:r>
            <a:endParaRPr b="0" lang="en-US" sz="1800" spc="1" strike="noStrike">
              <a:ln w="9360">
                <a:solidFill>
                  <a:srgbClr val="cc00ff"/>
                </a:solidFill>
                <a:miter/>
              </a:ln>
              <a:solidFill>
                <a:srgbClr val="cc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8:31:24Z</dcterms:created>
  <dc:creator>zly</dc:creator>
  <dc:description/>
  <dc:language>en-US</dc:language>
  <cp:lastModifiedBy>曾忠凡</cp:lastModifiedBy>
  <dcterms:modified xsi:type="dcterms:W3CDTF">2004-12-18T15:13:30Z</dcterms:modified>
  <cp:revision>53</cp:revision>
  <dc:subject/>
  <dc:title>幻灯片 1</dc:title>
</cp:coreProperties>
</file>