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whoosh.wav" ContentType="audio/x-wav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gif" ContentType="image/gif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741-123F-4F99-AC10-4C5F5E9D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611-AE50-4093-BC4F-3ECAAB6B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5EE-3F34-4219-9B9C-0D72FDFE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1E1-0E93-44A1-BFA9-14EE5FB9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3A1C-34ED-464A-9027-2DF590C1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E14C-57A4-4818-A1A4-018391B2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3B4E-A917-4435-9EF8-E44F9765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0BB8-4FFD-4241-B412-4AA0F0E1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3452-1E19-40F2-954F-80963624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25BB-F226-4E12-ADB7-9735A0C9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B167-9B79-44A1-9B4C-291EF9BC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1F8-149C-4852-96A3-A77C99E7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07DA-5B3A-4624-8D00-471A8E2D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AAA3-3675-4E8F-85BC-495FA917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3CE1-B456-45E9-9FFC-3EAD1444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D11D-BB3B-461D-90C9-2E27AB81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0C91-93E5-4404-B1D0-769CD4C5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4707-319D-4E4C-8962-8DCC4925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5775-5C97-4D05-AA6D-FF98B056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68DF-CE5B-45DD-8133-426ABF71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3213-F756-40C3-8987-4496724B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7F87-F60C-416D-8092-A9DCBE5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CE7-E25B-472C-9B29-53359A8C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5839-5ECA-4D4C-BD6E-BA4B61BD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B2B05-6962-4F46-B1CF-DF3DBC34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7A43-1249-4E63-AC53-78B1AEA8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2F13-65F2-4C2E-922E-96AD8A5C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5963-5F1E-44DB-9F91-71CE295B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E07E5-DDED-456B-9AAC-199DF9F5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7A079-9E88-4607-A693-F341C561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355E6-065F-4431-A9A3-E1455BE4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7B0FD-7154-41CA-A9FC-06AACC2F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8C615-7632-43E1-938C-D7072D9A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822-53DE-43AC-8231-25728BB9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E8E2F-7168-4226-814A-65EF3D26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78403-F9D5-415F-97D1-C135800C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D2AF-609C-4463-91E7-9C233F48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8261-8FBA-4427-A4BF-126164CA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96A7-FE54-48DC-A29D-34193D13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69CA-38D2-47C2-A63B-44CF0BE3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F256F-5496-422B-A382-8B9B5115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67AC1-B93B-4818-B486-82514296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EAB04-E206-4386-8087-A06A6E58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EA86E-1032-4BEC-A130-E1C5B023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E5C-6361-4587-A4CE-056A0709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805C7-4A73-4B3B-844D-F3F41554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7C9A5-D1F3-498B-9082-E8A32FD4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5FE0E-6DFD-4E34-996E-0FB557AC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7CC0D-1F7F-4126-819A-2F046EE9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16F94-613F-4BC0-B64D-FA3E48BA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F6240-138C-4439-9A2D-66F5473B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69F33-59B9-46E4-91EC-786791D6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7722F-7DFF-4B84-96F6-3B397FD9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A4905-31C2-4A72-ABDC-7DAB5CB1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27FDA-B875-4C46-B591-F42AA872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3B0-ECC9-4244-8810-4ECB78D3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E7952-60F2-481F-8661-041F14E3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B45-6649-44B8-AF7C-B9277E13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922-CDE4-4FDD-9A97-D6560585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814-8B88-4196-A65A-20289E3A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1B1F-003E-4C15-B260-4252D83054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4C4C-B4BA-41FE-BA69-099E62709CB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CC77-665C-41A7-BDA5-822A899BC68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6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220C-1710-47DB-80CC-8426B1180BE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73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143B-F243-48F2-A91F-C2BB487DEA1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8.pn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" Target="slide10.xml"/><Relationship Id="rId12" Type="http://schemas.openxmlformats.org/officeDocument/2006/relationships/slide" Target="slide13.xml"/><Relationship Id="rId13" Type="http://schemas.openxmlformats.org/officeDocument/2006/relationships/slide" Target="slide12.xml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763640"/>
            <a:ext cx="9144000" cy="50943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032000" y="5444640"/>
            <a:ext cx="5111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执教人：杨站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141300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小溪流的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31417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952f0"/>
                </a:solidFill>
                <a:latin typeface="Arial"/>
                <a:ea typeface="华文行楷"/>
              </a:rPr>
              <a:t>严文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3336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952f0"/>
                </a:solidFill>
                <a:latin typeface="Arial"/>
                <a:ea typeface="隶书"/>
              </a:rPr>
              <a:t>安庆市语文优质课评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1368720" cy="655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380360" y="836640"/>
            <a:ext cx="72072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95280" y="1484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小溪流变成海洋的过程中，你一定会有所感触，请拿起你手中的笔，写下你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3429000"/>
            <a:ext cx="81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767ff"/>
                </a:solidFill>
                <a:latin typeface="华文行楷"/>
                <a:ea typeface="华文行楷"/>
              </a:rPr>
              <a:t>提示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可仿照下面的句式写一句话：感悟小溪流的成长，我懂得了（联想到了）           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也可以用你搜集的名言来表达你的感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84360" y="5013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2438280"/>
            <a:ext cx="777240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路漫漫其修远兮，吾将上下而求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——  屈  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锲而不舍，金石可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—— 《荀子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坚持就是胜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——爱迪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进步是今天的活动，明天的保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——爱默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只有一条路不能选择——那就是放弃；只有一条路不能拒绝——那就是成长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培  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4572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小溪流的歌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坚持前进，永不停息，不断进步，快乐成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72360" y="6165720"/>
            <a:ext cx="647640" cy="503280"/>
          </a:xfrm>
          <a:prstGeom prst="leftArrow">
            <a:avLst>
              <a:gd name="adj1" fmla="val 50000"/>
              <a:gd name="adj2" fmla="val 3217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视频欣赏，再次感悟小溪流的成长过程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908000" y="1701720"/>
            <a:ext cx="6120000" cy="38242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8244000" y="6453360"/>
            <a:ext cx="647640" cy="404640"/>
          </a:xfrm>
          <a:prstGeom prst="leftArrow">
            <a:avLst>
              <a:gd name="adj1" fmla="val 50000"/>
              <a:gd name="adj2" fmla="val 4001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1" dur="1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5554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Verdana"/>
                <a:ea typeface="华文行楷"/>
              </a:rPr>
              <a:t>即兴创作，挑战自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684360" y="2997360"/>
            <a:ext cx="7848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联系生活实际，展开想象的翅膀，以“小溪流与             的对话”为题，练写一段童话，可小组讨论，再即兴表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43280" y="40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56720" y="6165720"/>
            <a:ext cx="647640" cy="503280"/>
          </a:xfrm>
          <a:prstGeom prst="leftArrow">
            <a:avLst>
              <a:gd name="adj1" fmla="val 50000"/>
              <a:gd name="adj2" fmla="val 3217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1763640"/>
            <a:ext cx="9144000" cy="50943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468360" y="11970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《小溪流的歌》改成课本剧，自编自导自演，并将其作为新年晚会的汇报节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928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课后练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596360" y="434880"/>
            <a:ext cx="792000" cy="4809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788000" y="2060640"/>
            <a:ext cx="1439640" cy="6904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826920" y="2852640"/>
            <a:ext cx="1079640" cy="5176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rot="744000">
            <a:off x="1476000" y="5733720"/>
            <a:ext cx="576360" cy="772920"/>
          </a:xfrm>
          <a:custGeom>
            <a:avLst/>
            <a:gdLst>
              <a:gd name="textAreaLeft" fmla="*/ 237600 w 576360"/>
              <a:gd name="textAreaRight" fmla="*/ 338760 w 576360"/>
              <a:gd name="textAreaTop" fmla="*/ 318600 h 772920"/>
              <a:gd name="textAreaBottom" fmla="*/ 454320 h 77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744000">
            <a:off x="2906640" y="4882680"/>
            <a:ext cx="576360" cy="774720"/>
          </a:xfrm>
          <a:custGeom>
            <a:avLst/>
            <a:gdLst>
              <a:gd name="textAreaLeft" fmla="*/ 237240 w 576360"/>
              <a:gd name="textAreaRight" fmla="*/ 339120 w 576360"/>
              <a:gd name="textAreaTop" fmla="*/ 318960 h 774720"/>
              <a:gd name="textAreaBottom" fmla="*/ 455760 h 77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2" y="8892"/>
                </a:lnTo>
                <a:lnTo>
                  <a:pt x="10800" y="0"/>
                </a:lnTo>
                <a:lnTo>
                  <a:pt x="12708" y="8892"/>
                </a:lnTo>
                <a:lnTo>
                  <a:pt x="21600" y="10800"/>
                </a:lnTo>
                <a:lnTo>
                  <a:pt x="12708" y="12708"/>
                </a:lnTo>
                <a:lnTo>
                  <a:pt x="10800" y="21600"/>
                </a:lnTo>
                <a:lnTo>
                  <a:pt x="8892" y="1270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744000">
            <a:off x="3068640" y="5805000"/>
            <a:ext cx="720720" cy="846360"/>
          </a:xfrm>
          <a:custGeom>
            <a:avLst/>
            <a:gdLst>
              <a:gd name="textAreaLeft" fmla="*/ 297000 w 720720"/>
              <a:gd name="textAreaRight" fmla="*/ 423720 w 720720"/>
              <a:gd name="textAreaTop" fmla="*/ 348840 h 846360"/>
              <a:gd name="textAreaBottom" fmla="*/ 4975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4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0072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643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3"/>
            <a:stretch/>
          </p:blipFill>
          <p:spPr>
            <a:xfrm>
              <a:off x="4500720" y="3429000"/>
              <a:ext cx="4643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4"/>
            <a:stretch/>
          </p:blipFill>
          <p:spPr>
            <a:xfrm>
              <a:off x="4495680" y="0"/>
              <a:ext cx="464832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"/>
          <p:cNvSpPr/>
          <p:nvPr/>
        </p:nvSpPr>
        <p:spPr>
          <a:xfrm>
            <a:off x="0" y="1905120"/>
            <a:ext cx="961236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谢谢各位老师和同学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ef25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再见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9" presetSubtype="10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1763640"/>
            <a:ext cx="9144000" cy="509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971640" y="76500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一、感知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13372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二、揣摩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3573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三、感悟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5229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四、创新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44000" y="6165720"/>
            <a:ext cx="649080" cy="43200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3049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ff"/>
                </a:solidFill>
                <a:latin typeface="Times New Roman"/>
                <a:ea typeface="华文行楷"/>
              </a:rPr>
              <a:t>童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21337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是儿童文学的一种。童话作品常通过想象、幻想、拟人、夸张等来塑造形象，反映生活，对儿童进行思想教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09680" y="2590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772400" y="3352680"/>
            <a:ext cx="304920" cy="76320"/>
          </a:xfrm>
          <a:prstGeom prst="line">
            <a:avLst/>
          </a:prstGeom>
          <a:ln w="381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1981080"/>
            <a:ext cx="8077320" cy="4876560"/>
            <a:chOff x="0" y="1981080"/>
            <a:chExt cx="8077320" cy="4876560"/>
          </a:xfrm>
        </p:grpSpPr>
        <p:sp>
          <p:nvSpPr>
            <p:cNvPr id="238" name=""/>
            <p:cNvSpPr/>
            <p:nvPr/>
          </p:nvSpPr>
          <p:spPr>
            <a:xfrm>
              <a:off x="380880" y="2666880"/>
              <a:ext cx="228600" cy="7632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2895480" y="3581280"/>
              <a:ext cx="381240" cy="228600"/>
              <a:chOff x="2895480" y="3581280"/>
              <a:chExt cx="381240" cy="228600"/>
            </a:xfrm>
          </p:grpSpPr>
          <p:sp>
            <p:nvSpPr>
              <p:cNvPr id="240" name=""/>
              <p:cNvSpPr/>
              <p:nvPr/>
            </p:nvSpPr>
            <p:spPr>
              <a:xfrm>
                <a:off x="3048120" y="3581280"/>
                <a:ext cx="228600" cy="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95480" y="3733920"/>
                <a:ext cx="304920" cy="759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0" y="1981080"/>
              <a:ext cx="7772400" cy="1506600"/>
            </a:xfrm>
            <a:custGeom>
              <a:avLst/>
              <a:gdLst/>
              <a:ahLst/>
              <a:rect l="l" t="t" r="r" b="b"/>
              <a:pathLst>
                <a:path w="4896" h="949">
                  <a:moveTo>
                    <a:pt x="0" y="0"/>
                  </a:moveTo>
                  <a:cubicBezTo>
                    <a:pt x="36" y="24"/>
                    <a:pt x="72" y="48"/>
                    <a:pt x="108" y="72"/>
                  </a:cubicBezTo>
                  <a:cubicBezTo>
                    <a:pt x="122" y="81"/>
                    <a:pt x="130" y="99"/>
                    <a:pt x="144" y="108"/>
                  </a:cubicBezTo>
                  <a:cubicBezTo>
                    <a:pt x="155" y="115"/>
                    <a:pt x="169" y="114"/>
                    <a:pt x="180" y="120"/>
                  </a:cubicBezTo>
                  <a:cubicBezTo>
                    <a:pt x="205" y="134"/>
                    <a:pt x="228" y="152"/>
                    <a:pt x="252" y="168"/>
                  </a:cubicBezTo>
                  <a:cubicBezTo>
                    <a:pt x="284" y="189"/>
                    <a:pt x="324" y="192"/>
                    <a:pt x="360" y="204"/>
                  </a:cubicBezTo>
                  <a:cubicBezTo>
                    <a:pt x="372" y="208"/>
                    <a:pt x="384" y="212"/>
                    <a:pt x="396" y="216"/>
                  </a:cubicBezTo>
                  <a:cubicBezTo>
                    <a:pt x="408" y="220"/>
                    <a:pt x="432" y="228"/>
                    <a:pt x="432" y="228"/>
                  </a:cubicBezTo>
                  <a:cubicBezTo>
                    <a:pt x="537" y="220"/>
                    <a:pt x="610" y="207"/>
                    <a:pt x="708" y="240"/>
                  </a:cubicBezTo>
                  <a:cubicBezTo>
                    <a:pt x="747" y="279"/>
                    <a:pt x="753" y="307"/>
                    <a:pt x="804" y="324"/>
                  </a:cubicBezTo>
                  <a:cubicBezTo>
                    <a:pt x="811" y="335"/>
                    <a:pt x="835" y="386"/>
                    <a:pt x="864" y="372"/>
                  </a:cubicBezTo>
                  <a:cubicBezTo>
                    <a:pt x="875" y="366"/>
                    <a:pt x="872" y="348"/>
                    <a:pt x="876" y="336"/>
                  </a:cubicBezTo>
                  <a:cubicBezTo>
                    <a:pt x="880" y="348"/>
                    <a:pt x="878" y="365"/>
                    <a:pt x="888" y="372"/>
                  </a:cubicBezTo>
                  <a:cubicBezTo>
                    <a:pt x="909" y="387"/>
                    <a:pt x="936" y="388"/>
                    <a:pt x="960" y="396"/>
                  </a:cubicBezTo>
                  <a:cubicBezTo>
                    <a:pt x="1007" y="412"/>
                    <a:pt x="1024" y="441"/>
                    <a:pt x="1068" y="456"/>
                  </a:cubicBezTo>
                  <a:cubicBezTo>
                    <a:pt x="1212" y="447"/>
                    <a:pt x="1238" y="418"/>
                    <a:pt x="1332" y="480"/>
                  </a:cubicBezTo>
                  <a:cubicBezTo>
                    <a:pt x="1340" y="492"/>
                    <a:pt x="1345" y="507"/>
                    <a:pt x="1356" y="516"/>
                  </a:cubicBezTo>
                  <a:cubicBezTo>
                    <a:pt x="1366" y="524"/>
                    <a:pt x="1381" y="522"/>
                    <a:pt x="1392" y="528"/>
                  </a:cubicBezTo>
                  <a:cubicBezTo>
                    <a:pt x="1405" y="534"/>
                    <a:pt x="1415" y="546"/>
                    <a:pt x="1428" y="552"/>
                  </a:cubicBezTo>
                  <a:cubicBezTo>
                    <a:pt x="1490" y="580"/>
                    <a:pt x="1557" y="597"/>
                    <a:pt x="1620" y="624"/>
                  </a:cubicBezTo>
                  <a:cubicBezTo>
                    <a:pt x="1648" y="636"/>
                    <a:pt x="1676" y="649"/>
                    <a:pt x="1704" y="660"/>
                  </a:cubicBezTo>
                  <a:cubicBezTo>
                    <a:pt x="1727" y="669"/>
                    <a:pt x="1776" y="684"/>
                    <a:pt x="1776" y="684"/>
                  </a:cubicBezTo>
                  <a:cubicBezTo>
                    <a:pt x="1778" y="672"/>
                    <a:pt x="1780" y="591"/>
                    <a:pt x="1824" y="600"/>
                  </a:cubicBezTo>
                  <a:cubicBezTo>
                    <a:pt x="1838" y="603"/>
                    <a:pt x="1837" y="627"/>
                    <a:pt x="1848" y="636"/>
                  </a:cubicBezTo>
                  <a:cubicBezTo>
                    <a:pt x="1858" y="644"/>
                    <a:pt x="1873" y="642"/>
                    <a:pt x="1884" y="648"/>
                  </a:cubicBezTo>
                  <a:cubicBezTo>
                    <a:pt x="1934" y="676"/>
                    <a:pt x="1976" y="710"/>
                    <a:pt x="2028" y="732"/>
                  </a:cubicBezTo>
                  <a:cubicBezTo>
                    <a:pt x="2106" y="765"/>
                    <a:pt x="2196" y="751"/>
                    <a:pt x="2280" y="756"/>
                  </a:cubicBezTo>
                  <a:cubicBezTo>
                    <a:pt x="2389" y="745"/>
                    <a:pt x="2427" y="731"/>
                    <a:pt x="2532" y="744"/>
                  </a:cubicBezTo>
                  <a:cubicBezTo>
                    <a:pt x="2585" y="762"/>
                    <a:pt x="2623" y="798"/>
                    <a:pt x="2676" y="816"/>
                  </a:cubicBezTo>
                  <a:cubicBezTo>
                    <a:pt x="2684" y="804"/>
                    <a:pt x="2686" y="783"/>
                    <a:pt x="2700" y="780"/>
                  </a:cubicBezTo>
                  <a:cubicBezTo>
                    <a:pt x="2714" y="777"/>
                    <a:pt x="2723" y="798"/>
                    <a:pt x="2736" y="804"/>
                  </a:cubicBezTo>
                  <a:cubicBezTo>
                    <a:pt x="2783" y="828"/>
                    <a:pt x="2829" y="847"/>
                    <a:pt x="2880" y="864"/>
                  </a:cubicBezTo>
                  <a:cubicBezTo>
                    <a:pt x="2894" y="869"/>
                    <a:pt x="2903" y="882"/>
                    <a:pt x="2916" y="888"/>
                  </a:cubicBezTo>
                  <a:cubicBezTo>
                    <a:pt x="2916" y="888"/>
                    <a:pt x="3006" y="918"/>
                    <a:pt x="3024" y="924"/>
                  </a:cubicBezTo>
                  <a:cubicBezTo>
                    <a:pt x="3036" y="928"/>
                    <a:pt x="3060" y="936"/>
                    <a:pt x="3060" y="936"/>
                  </a:cubicBezTo>
                  <a:cubicBezTo>
                    <a:pt x="3157" y="924"/>
                    <a:pt x="3250" y="909"/>
                    <a:pt x="3348" y="900"/>
                  </a:cubicBezTo>
                  <a:cubicBezTo>
                    <a:pt x="3397" y="827"/>
                    <a:pt x="3439" y="850"/>
                    <a:pt x="3516" y="876"/>
                  </a:cubicBezTo>
                  <a:cubicBezTo>
                    <a:pt x="3552" y="870"/>
                    <a:pt x="3587" y="852"/>
                    <a:pt x="3624" y="852"/>
                  </a:cubicBezTo>
                  <a:cubicBezTo>
                    <a:pt x="3680" y="852"/>
                    <a:pt x="3717" y="863"/>
                    <a:pt x="3768" y="876"/>
                  </a:cubicBezTo>
                  <a:cubicBezTo>
                    <a:pt x="3851" y="931"/>
                    <a:pt x="3813" y="915"/>
                    <a:pt x="3876" y="936"/>
                  </a:cubicBezTo>
                  <a:cubicBezTo>
                    <a:pt x="4051" y="914"/>
                    <a:pt x="4036" y="913"/>
                    <a:pt x="4272" y="924"/>
                  </a:cubicBezTo>
                  <a:cubicBezTo>
                    <a:pt x="4368" y="920"/>
                    <a:pt x="4464" y="912"/>
                    <a:pt x="4560" y="912"/>
                  </a:cubicBezTo>
                  <a:cubicBezTo>
                    <a:pt x="4616" y="912"/>
                    <a:pt x="4672" y="916"/>
                    <a:pt x="4728" y="924"/>
                  </a:cubicBezTo>
                  <a:cubicBezTo>
                    <a:pt x="4896" y="949"/>
                    <a:pt x="4760" y="948"/>
                    <a:pt x="4812" y="948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0" y="2438280"/>
              <a:ext cx="8001000" cy="4419360"/>
              <a:chOff x="0" y="2438280"/>
              <a:chExt cx="8001000" cy="4419360"/>
            </a:xfrm>
          </p:grpSpPr>
          <p:sp>
            <p:nvSpPr>
              <p:cNvPr id="244" name=""/>
              <p:cNvSpPr/>
              <p:nvPr/>
            </p:nvSpPr>
            <p:spPr>
              <a:xfrm>
                <a:off x="37440" y="2555640"/>
                <a:ext cx="7661160" cy="4302000"/>
              </a:xfrm>
              <a:custGeom>
                <a:avLst/>
                <a:gdLst/>
                <a:ahLst/>
                <a:rect l="l" t="t" r="r" b="b"/>
                <a:pathLst>
                  <a:path w="4872" h="2640">
                    <a:moveTo>
                      <a:pt x="0" y="0"/>
                    </a:moveTo>
                    <a:cubicBezTo>
                      <a:pt x="58" y="173"/>
                      <a:pt x="171" y="155"/>
                      <a:pt x="336" y="168"/>
                    </a:cubicBezTo>
                    <a:cubicBezTo>
                      <a:pt x="348" y="172"/>
                      <a:pt x="363" y="171"/>
                      <a:pt x="372" y="180"/>
                    </a:cubicBezTo>
                    <a:cubicBezTo>
                      <a:pt x="392" y="200"/>
                      <a:pt x="393" y="243"/>
                      <a:pt x="420" y="252"/>
                    </a:cubicBezTo>
                    <a:cubicBezTo>
                      <a:pt x="506" y="281"/>
                      <a:pt x="471" y="262"/>
                      <a:pt x="528" y="300"/>
                    </a:cubicBezTo>
                    <a:cubicBezTo>
                      <a:pt x="540" y="319"/>
                      <a:pt x="582" y="381"/>
                      <a:pt x="600" y="408"/>
                    </a:cubicBezTo>
                    <a:cubicBezTo>
                      <a:pt x="610" y="423"/>
                      <a:pt x="613" y="473"/>
                      <a:pt x="636" y="480"/>
                    </a:cubicBezTo>
                    <a:cubicBezTo>
                      <a:pt x="682" y="493"/>
                      <a:pt x="732" y="488"/>
                      <a:pt x="780" y="492"/>
                    </a:cubicBezTo>
                    <a:cubicBezTo>
                      <a:pt x="834" y="510"/>
                      <a:pt x="877" y="545"/>
                      <a:pt x="924" y="576"/>
                    </a:cubicBezTo>
                    <a:cubicBezTo>
                      <a:pt x="935" y="583"/>
                      <a:pt x="949" y="582"/>
                      <a:pt x="960" y="588"/>
                    </a:cubicBezTo>
                    <a:cubicBezTo>
                      <a:pt x="1035" y="626"/>
                      <a:pt x="1059" y="634"/>
                      <a:pt x="1140" y="648"/>
                    </a:cubicBezTo>
                    <a:cubicBezTo>
                      <a:pt x="1195" y="685"/>
                      <a:pt x="1202" y="742"/>
                      <a:pt x="1260" y="768"/>
                    </a:cubicBezTo>
                    <a:cubicBezTo>
                      <a:pt x="1374" y="818"/>
                      <a:pt x="1490" y="849"/>
                      <a:pt x="1608" y="888"/>
                    </a:cubicBezTo>
                    <a:cubicBezTo>
                      <a:pt x="1624" y="893"/>
                      <a:pt x="1753" y="921"/>
                      <a:pt x="1776" y="936"/>
                    </a:cubicBezTo>
                    <a:cubicBezTo>
                      <a:pt x="1811" y="959"/>
                      <a:pt x="1847" y="975"/>
                      <a:pt x="1884" y="996"/>
                    </a:cubicBezTo>
                    <a:cubicBezTo>
                      <a:pt x="1900" y="1005"/>
                      <a:pt x="1916" y="1013"/>
                      <a:pt x="1932" y="1020"/>
                    </a:cubicBezTo>
                    <a:cubicBezTo>
                      <a:pt x="1944" y="1025"/>
                      <a:pt x="1957" y="1026"/>
                      <a:pt x="1968" y="1032"/>
                    </a:cubicBezTo>
                    <a:cubicBezTo>
                      <a:pt x="2029" y="1063"/>
                      <a:pt x="2081" y="1094"/>
                      <a:pt x="2148" y="1116"/>
                    </a:cubicBezTo>
                    <a:cubicBezTo>
                      <a:pt x="2187" y="1129"/>
                      <a:pt x="2256" y="1176"/>
                      <a:pt x="2256" y="1176"/>
                    </a:cubicBezTo>
                    <a:cubicBezTo>
                      <a:pt x="2260" y="1192"/>
                      <a:pt x="2258" y="1211"/>
                      <a:pt x="2268" y="1224"/>
                    </a:cubicBezTo>
                    <a:cubicBezTo>
                      <a:pt x="2276" y="1234"/>
                      <a:pt x="2293" y="1230"/>
                      <a:pt x="2304" y="1236"/>
                    </a:cubicBezTo>
                    <a:cubicBezTo>
                      <a:pt x="2378" y="1273"/>
                      <a:pt x="2439" y="1290"/>
                      <a:pt x="2520" y="1308"/>
                    </a:cubicBezTo>
                    <a:cubicBezTo>
                      <a:pt x="2548" y="1314"/>
                      <a:pt x="2575" y="1328"/>
                      <a:pt x="2604" y="1332"/>
                    </a:cubicBezTo>
                    <a:cubicBezTo>
                      <a:pt x="2656" y="1338"/>
                      <a:pt x="2708" y="1340"/>
                      <a:pt x="2760" y="1344"/>
                    </a:cubicBezTo>
                    <a:cubicBezTo>
                      <a:pt x="2772" y="1356"/>
                      <a:pt x="2782" y="1371"/>
                      <a:pt x="2796" y="1380"/>
                    </a:cubicBezTo>
                    <a:cubicBezTo>
                      <a:pt x="2833" y="1405"/>
                      <a:pt x="2857" y="1376"/>
                      <a:pt x="2796" y="1416"/>
                    </a:cubicBezTo>
                    <a:cubicBezTo>
                      <a:pt x="2860" y="1437"/>
                      <a:pt x="2920" y="1462"/>
                      <a:pt x="2976" y="1500"/>
                    </a:cubicBezTo>
                    <a:cubicBezTo>
                      <a:pt x="2989" y="1539"/>
                      <a:pt x="2982" y="1541"/>
                      <a:pt x="3024" y="1560"/>
                    </a:cubicBezTo>
                    <a:cubicBezTo>
                      <a:pt x="3047" y="1570"/>
                      <a:pt x="3096" y="1584"/>
                      <a:pt x="3096" y="1584"/>
                    </a:cubicBezTo>
                    <a:cubicBezTo>
                      <a:pt x="3130" y="1577"/>
                      <a:pt x="3170" y="1570"/>
                      <a:pt x="3204" y="1560"/>
                    </a:cubicBezTo>
                    <a:cubicBezTo>
                      <a:pt x="3228" y="1553"/>
                      <a:pt x="3276" y="1536"/>
                      <a:pt x="3276" y="1536"/>
                    </a:cubicBezTo>
                    <a:cubicBezTo>
                      <a:pt x="3309" y="1540"/>
                      <a:pt x="3371" y="1542"/>
                      <a:pt x="3408" y="1560"/>
                    </a:cubicBezTo>
                    <a:cubicBezTo>
                      <a:pt x="3487" y="1599"/>
                      <a:pt x="3400" y="1567"/>
                      <a:pt x="3480" y="1620"/>
                    </a:cubicBezTo>
                    <a:cubicBezTo>
                      <a:pt x="3491" y="1627"/>
                      <a:pt x="3505" y="1626"/>
                      <a:pt x="3516" y="1632"/>
                    </a:cubicBezTo>
                    <a:cubicBezTo>
                      <a:pt x="3516" y="1632"/>
                      <a:pt x="3606" y="1692"/>
                      <a:pt x="3624" y="1704"/>
                    </a:cubicBezTo>
                    <a:cubicBezTo>
                      <a:pt x="3636" y="1712"/>
                      <a:pt x="3660" y="1728"/>
                      <a:pt x="3660" y="1728"/>
                    </a:cubicBezTo>
                    <a:cubicBezTo>
                      <a:pt x="3696" y="1782"/>
                      <a:pt x="3731" y="1828"/>
                      <a:pt x="3792" y="1848"/>
                    </a:cubicBezTo>
                    <a:cubicBezTo>
                      <a:pt x="3800" y="1860"/>
                      <a:pt x="3805" y="1875"/>
                      <a:pt x="3816" y="1884"/>
                    </a:cubicBezTo>
                    <a:cubicBezTo>
                      <a:pt x="3826" y="1892"/>
                      <a:pt x="3843" y="1887"/>
                      <a:pt x="3852" y="1896"/>
                    </a:cubicBezTo>
                    <a:cubicBezTo>
                      <a:pt x="3861" y="1905"/>
                      <a:pt x="3857" y="1921"/>
                      <a:pt x="3864" y="1932"/>
                    </a:cubicBezTo>
                    <a:cubicBezTo>
                      <a:pt x="3882" y="1960"/>
                      <a:pt x="3909" y="1974"/>
                      <a:pt x="3936" y="1992"/>
                    </a:cubicBezTo>
                    <a:cubicBezTo>
                      <a:pt x="3978" y="2055"/>
                      <a:pt x="3936" y="2009"/>
                      <a:pt x="4008" y="2040"/>
                    </a:cubicBezTo>
                    <a:cubicBezTo>
                      <a:pt x="4058" y="2061"/>
                      <a:pt x="4100" y="2095"/>
                      <a:pt x="4152" y="2112"/>
                    </a:cubicBezTo>
                    <a:cubicBezTo>
                      <a:pt x="4267" y="2227"/>
                      <a:pt x="4120" y="2091"/>
                      <a:pt x="4224" y="2160"/>
                    </a:cubicBezTo>
                    <a:cubicBezTo>
                      <a:pt x="4238" y="2169"/>
                      <a:pt x="4245" y="2188"/>
                      <a:pt x="4260" y="2196"/>
                    </a:cubicBezTo>
                    <a:cubicBezTo>
                      <a:pt x="4274" y="2204"/>
                      <a:pt x="4293" y="2202"/>
                      <a:pt x="4308" y="2208"/>
                    </a:cubicBezTo>
                    <a:cubicBezTo>
                      <a:pt x="4366" y="2232"/>
                      <a:pt x="4417" y="2272"/>
                      <a:pt x="4476" y="2292"/>
                    </a:cubicBezTo>
                    <a:cubicBezTo>
                      <a:pt x="4519" y="2357"/>
                      <a:pt x="4590" y="2394"/>
                      <a:pt x="4644" y="2448"/>
                    </a:cubicBezTo>
                    <a:cubicBezTo>
                      <a:pt x="4654" y="2458"/>
                      <a:pt x="4658" y="2474"/>
                      <a:pt x="4668" y="2484"/>
                    </a:cubicBezTo>
                    <a:cubicBezTo>
                      <a:pt x="4678" y="2494"/>
                      <a:pt x="4693" y="2499"/>
                      <a:pt x="4704" y="2508"/>
                    </a:cubicBezTo>
                    <a:cubicBezTo>
                      <a:pt x="4759" y="2555"/>
                      <a:pt x="4806" y="2607"/>
                      <a:pt x="4872" y="2640"/>
                    </a:cubicBezTo>
                  </a:path>
                </a:pathLst>
              </a:custGeom>
              <a:noFill/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438280"/>
                <a:ext cx="226440" cy="15660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7280" y="2594880"/>
                <a:ext cx="301680" cy="777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30160" y="2672640"/>
                <a:ext cx="377280" cy="15660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4560" y="2829600"/>
                <a:ext cx="377280" cy="15624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81000" y="3063960"/>
                <a:ext cx="377280" cy="2343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30160" y="2751120"/>
                <a:ext cx="528120" cy="2343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85080" y="3063960"/>
                <a:ext cx="754560" cy="2343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33880" y="3142080"/>
                <a:ext cx="452880" cy="2343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811520" y="3454920"/>
                <a:ext cx="830160" cy="31284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13560" y="3376800"/>
                <a:ext cx="754560" cy="2343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792880" y="3924360"/>
                <a:ext cx="452880" cy="2343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188800" y="3689640"/>
                <a:ext cx="226440" cy="78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717280" y="3298680"/>
                <a:ext cx="377280" cy="15624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321000" y="3533400"/>
                <a:ext cx="377280" cy="777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45760" y="3768120"/>
                <a:ext cx="301680" cy="777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170160" y="3924360"/>
                <a:ext cx="452880" cy="15624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96600" y="4237560"/>
                <a:ext cx="377280" cy="15624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49480" y="3533400"/>
                <a:ext cx="301680" cy="777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3845880"/>
                <a:ext cx="905760" cy="39132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25080" y="3768120"/>
                <a:ext cx="377280" cy="15624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849480" y="4237560"/>
                <a:ext cx="377280" cy="15624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925080" y="4550040"/>
                <a:ext cx="301680" cy="78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377960" y="3689640"/>
                <a:ext cx="452880" cy="15624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28800" y="3924360"/>
                <a:ext cx="377280" cy="15624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208120" y="3845880"/>
                <a:ext cx="830160" cy="15660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32520" y="4080600"/>
                <a:ext cx="377280" cy="78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453200" y="4393800"/>
                <a:ext cx="377280" cy="15624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79640" y="4784760"/>
                <a:ext cx="301680" cy="78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755240" y="4315320"/>
                <a:ext cx="754560" cy="2343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83720" y="4784760"/>
                <a:ext cx="603720" cy="15660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736600" y="4393800"/>
                <a:ext cx="1283040" cy="31284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40320" y="4080600"/>
                <a:ext cx="1585080" cy="78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642360" y="4941360"/>
                <a:ext cx="1056600" cy="3909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87440" y="5253840"/>
                <a:ext cx="1358640" cy="78228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89480" y="5019480"/>
                <a:ext cx="377280" cy="15660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95240" y="5567040"/>
                <a:ext cx="905760" cy="3909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19640" y="4471920"/>
                <a:ext cx="905760" cy="15624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40320" y="4315320"/>
                <a:ext cx="452880" cy="78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87440" y="4706640"/>
                <a:ext cx="301680" cy="777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48120" y="5019480"/>
                <a:ext cx="452880" cy="78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548120" y="6270840"/>
                <a:ext cx="377280" cy="234360"/>
              </a:xfrm>
              <a:prstGeom prst="line">
                <a:avLst/>
              </a:prstGeom>
              <a:ln w="3168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0" y="2209680"/>
              <a:ext cx="380880" cy="15264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5800" y="2438280"/>
              <a:ext cx="380880" cy="15264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71600" y="2743200"/>
              <a:ext cx="533520" cy="15228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2362320"/>
              <a:ext cx="457200" cy="15228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480" y="2590920"/>
              <a:ext cx="152640" cy="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7920" y="2895480"/>
              <a:ext cx="304560" cy="7632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9320" y="2590920"/>
              <a:ext cx="228600" cy="7596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33720" y="2895480"/>
              <a:ext cx="304560" cy="7632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05120" y="3048120"/>
              <a:ext cx="304560" cy="7596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8280" y="3124080"/>
              <a:ext cx="381240" cy="7632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71800" y="3200400"/>
              <a:ext cx="228600" cy="7632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38280" y="3352680"/>
              <a:ext cx="228600" cy="7632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76720" y="3352680"/>
              <a:ext cx="457200" cy="7632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33920" y="3276720"/>
              <a:ext cx="609480" cy="15228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3400" y="3505320"/>
              <a:ext cx="685800" cy="15228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10080" y="3581280"/>
              <a:ext cx="609840" cy="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3733920"/>
              <a:ext cx="838080" cy="7596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8680" y="3429000"/>
              <a:ext cx="152640" cy="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324480" y="3504960"/>
              <a:ext cx="457200" cy="7596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77120" y="3733920"/>
              <a:ext cx="609480" cy="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477120" y="3886200"/>
              <a:ext cx="457200" cy="7632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38880" y="3581280"/>
              <a:ext cx="609840" cy="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62920" y="3886200"/>
              <a:ext cx="685800" cy="7632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67480" y="3733920"/>
              <a:ext cx="609840" cy="0"/>
            </a:xfrm>
            <a:prstGeom prst="line">
              <a:avLst/>
            </a:prstGeom>
            <a:ln w="3168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8290080" y="4648320"/>
            <a:ext cx="549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189000"/>
            <a:ext cx="54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速读课文，理清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55897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溪流在前进的过程中不断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314172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隶书"/>
              </a:rPr>
              <a:t>小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16360" y="3068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ff"/>
                </a:solidFill>
                <a:latin typeface="Arial"/>
                <a:ea typeface="隶书"/>
              </a:rPr>
              <a:t>大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28000" y="2852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952f0"/>
                </a:solidFill>
                <a:latin typeface="Arial"/>
                <a:ea typeface="隶书"/>
              </a:rPr>
              <a:t>大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2000" y="551664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成长壮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0920" y="321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小溪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35280" y="3500280"/>
            <a:ext cx="576000" cy="144720"/>
          </a:xfrm>
          <a:prstGeom prst="rightArrow">
            <a:avLst>
              <a:gd name="adj1" fmla="val 50000"/>
              <a:gd name="adj2" fmla="val 995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51280" y="3429000"/>
            <a:ext cx="865080" cy="216000"/>
          </a:xfrm>
          <a:prstGeom prst="rightArrow">
            <a:avLst>
              <a:gd name="adj1" fmla="val 50000"/>
              <a:gd name="adj2" fmla="val 100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00720" y="335772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56720" y="4149720"/>
            <a:ext cx="576000" cy="1008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905120" y="34290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53341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629400" y="3124080"/>
            <a:ext cx="457200" cy="533520"/>
          </a:xfrm>
          <a:prstGeom prst="upArrow">
            <a:avLst>
              <a:gd name="adj1" fmla="val 50000"/>
              <a:gd name="adj2" fmla="val 29173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95680" cy="3581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403280" y="1413000"/>
            <a:ext cx="1584360" cy="79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溪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12000" y="4724280"/>
            <a:ext cx="1584360" cy="792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4653000"/>
            <a:ext cx="1584360" cy="79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40360" y="1413000"/>
            <a:ext cx="1584360" cy="792000"/>
          </a:xfrm>
          <a:prstGeom prst="wedgeRoundRectCallout">
            <a:avLst>
              <a:gd name="adj1" fmla="val -43787"/>
              <a:gd name="adj2" fmla="val 13356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选读课文，合作朗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4000" y="5950080"/>
            <a:ext cx="720720" cy="503280"/>
          </a:xfrm>
          <a:prstGeom prst="leftArrow">
            <a:avLst>
              <a:gd name="adj1" fmla="val 50000"/>
              <a:gd name="adj2" fmla="val 35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Verdana"/>
                <a:ea typeface="华文行楷"/>
              </a:rPr>
              <a:t>合作探究，分析课文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060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在课文中找到分别概括小溪流、小河、大江、大海特征的词语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8360" y="3573360"/>
            <a:ext cx="6696000" cy="581400"/>
            <a:chOff x="468360" y="3573360"/>
            <a:chExt cx="6696000" cy="581400"/>
          </a:xfrm>
        </p:grpSpPr>
        <p:sp>
          <p:nvSpPr>
            <p:cNvPr id="338" name=""/>
            <p:cNvSpPr/>
            <p:nvPr/>
          </p:nvSpPr>
          <p:spPr>
            <a:xfrm>
              <a:off x="468360" y="357336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快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76360" y="38606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40000" y="3573360"/>
              <a:ext cx="170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旺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19640" y="38606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11640" y="357336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3200" spc="-1" strike="noStrike">
                  <a:solidFill>
                    <a:srgbClr val="6600cc"/>
                  </a:solidFill>
                  <a:latin typeface="Arial"/>
                </a:rPr>
                <a:t>强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84720" y="35733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6952f0"/>
                  </a:solidFill>
                  <a:latin typeface="Arial"/>
                </a:rPr>
                <a:t>巨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92720" y="3860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24000" y="472428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溪流在成长过程中力量在不断的发生变化，你能从文中找到表现这种变化的语句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0" y="0"/>
            <a:ext cx="1600200" cy="6858000"/>
            <a:chOff x="0" y="0"/>
            <a:chExt cx="1600200" cy="6858000"/>
          </a:xfrm>
        </p:grpSpPr>
        <p:pic>
          <p:nvPicPr>
            <p:cNvPr id="3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600200" cy="13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16002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3"/>
            <a:stretch/>
          </p:blipFill>
          <p:spPr>
            <a:xfrm>
              <a:off x="0" y="4114800"/>
              <a:ext cx="16002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4"/>
            <a:stretch/>
          </p:blipFill>
          <p:spPr>
            <a:xfrm>
              <a:off x="0" y="2743200"/>
              <a:ext cx="16002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5"/>
            <a:stretch/>
          </p:blipFill>
          <p:spPr>
            <a:xfrm>
              <a:off x="0" y="5486400"/>
              <a:ext cx="160020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"/>
          <p:cNvGrpSpPr/>
          <p:nvPr/>
        </p:nvGrpSpPr>
        <p:grpSpPr>
          <a:xfrm>
            <a:off x="1619280" y="0"/>
            <a:ext cx="7524360" cy="6858000"/>
            <a:chOff x="1619280" y="0"/>
            <a:chExt cx="7524360" cy="6858000"/>
          </a:xfrm>
        </p:grpSpPr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1619280" y="2743200"/>
              <a:ext cx="75243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7"/>
            <a:stretch/>
          </p:blipFill>
          <p:spPr>
            <a:xfrm>
              <a:off x="1619280" y="0"/>
              <a:ext cx="7524360" cy="13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8"/>
            <a:stretch/>
          </p:blipFill>
          <p:spPr>
            <a:xfrm>
              <a:off x="1619280" y="1371600"/>
              <a:ext cx="75243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9"/>
            <a:stretch/>
          </p:blipFill>
          <p:spPr>
            <a:xfrm>
              <a:off x="1619280" y="4114800"/>
              <a:ext cx="75243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10"/>
            <a:stretch/>
          </p:blipFill>
          <p:spPr>
            <a:xfrm>
              <a:off x="1619280" y="5486400"/>
              <a:ext cx="752436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"/>
          <p:cNvSpPr/>
          <p:nvPr/>
        </p:nvSpPr>
        <p:spPr>
          <a:xfrm>
            <a:off x="0" y="380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长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404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力量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11" action="ppaction://hlinksldjump"/>
          </p:cNvPr>
          <p:cNvSpPr/>
          <p:nvPr/>
        </p:nvSpPr>
        <p:spPr>
          <a:xfrm>
            <a:off x="0" y="1752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小溪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12" action="ppaction://hlinksldjump"/>
          </p:cNvPr>
          <p:cNvSpPr/>
          <p:nvPr/>
        </p:nvSpPr>
        <p:spPr>
          <a:xfrm>
            <a:off x="76320" y="3124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小   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13" action="ppaction://hlinksldjump"/>
          </p:cNvPr>
          <p:cNvSpPr/>
          <p:nvPr/>
        </p:nvSpPr>
        <p:spPr>
          <a:xfrm>
            <a:off x="76320" y="4495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大   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320" y="5867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海   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19280" y="1628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着小树枝打转，冲破石块的阻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19280" y="2852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翻腾起沉淀的泥沙，卷起漂浮的枯树枝，推送着木排，托起沉重的木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19280" y="436572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掀起汹涌的波涛，举起庞大的轮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19280" y="5734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断地涌起来，向上，向前，向着四面八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71640" y="292428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溪流————小河————大江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1800000" cy="919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1979640" y="3716280"/>
            <a:ext cx="2160720" cy="11383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6454440" y="2060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泥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小溪流在成长过程中难道就是一帆风顺的吗？他遇到了哪些阻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663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文章主旨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Verdana"/>
                <a:ea typeface="楷体_GB2312"/>
              </a:rPr>
              <a:t>小溪流唱的是一首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352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——————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522936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4572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————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58920" y="2852640"/>
            <a:ext cx="739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坚持前进、永不停步，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前进中不断成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17080" y="6237360"/>
            <a:ext cx="576000" cy="431640"/>
          </a:xfrm>
          <a:prstGeom prst="leftArrow">
            <a:avLst>
              <a:gd name="adj1" fmla="val 57111"/>
              <a:gd name="adj2" fmla="val 5036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0:05:56Z</dcterms:created>
  <dc:creator>杨站芬</dc:creator>
  <dc:description/>
  <dc:language>en-US</dc:language>
  <cp:lastModifiedBy>番茄花园</cp:lastModifiedBy>
  <dcterms:modified xsi:type="dcterms:W3CDTF">2007-01-04T12:20:11Z</dcterms:modified>
  <cp:revision>47</cp:revision>
  <dc:subject/>
  <dc:title>小溪流的歌.ppt</dc:title>
</cp:coreProperties>
</file>