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824-2EFB-4A29-B522-F29BB7B6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CEF-EE3B-4652-8A25-6535327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CCF-5A2A-4381-BEF6-6D6471A9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DB0-CC2D-4691-917F-A2772C1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775-B6F0-4E7B-B176-B99FC7B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B8A-8F5F-4636-BF68-101F6C3A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93D-F5E3-4D97-8094-C752F71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CD6-E11C-46B2-9C5A-0369C51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36D-A55B-4CEF-B0E0-6E191273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384-B19C-48A8-86F4-9B6F4EB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90E-5084-4CBF-86D3-F21CAF5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02B-AECE-49AB-908A-17D82FE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13C7-8610-4FF8-B209-6827FF76B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371484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20000" y="836640"/>
            <a:ext cx="107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小溪巴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443700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肖复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745080" cy="489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60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巴赫的艰辛岁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620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8920" y="355680"/>
            <a:ext cx="55450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8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生于德 国一音乐世家，是虔诚的基督教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九岁那年，父母相继去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得靠大哥继续抚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十五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独立外出谋生，十七岁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辗转魏玛、莱比锡等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担任过管风琴手、乐队队长和宫廷作曲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晚年双目失明。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7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在莱比锡与世长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3240" y="14130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音乐常在我们的市镇上回响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5480" y="4508640"/>
            <a:ext cx="507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4581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贫困与死亡一生相随，眼睁睁地将自已的第一任妻子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个孩子送进坟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而他创作了千余部作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765000"/>
            <a:ext cx="3384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54000" tIns="8280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虔诚的基督教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541440" y="-1325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那一晚忽然洞开的窗子 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肖复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41720"/>
            <a:ext cx="72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413000"/>
            <a:ext cx="727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“童年的巴赫感到莫名的兴奋，也感到格外的奇怪，他抬起头望望窗子，窗子已经关上，只有头顶的夜空一天繁星怒放。他认为这肯定是上帝赐予他的恩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立刻跪在草在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着默默的夜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上帝祷告、膜拜。他相信万能的上帝一定就藏在闪烁的星光中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8936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三百多年前的巴赫就是这样的，因为一个神秘的夜晚、因为一扇忽然洞开的窗子，幼小的他在饥寒交迫中依然听见了上帝美妙的声音，于是，直至他生命的终结，他一刻也没有放弃过用音乐把上帝的声音一笔一画地雕刻在时光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765000"/>
            <a:ext cx="734544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所有音乐的目的及其始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变的动机，除了赞颂上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纯洁的灵魂以外没有别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　　　　　——  巴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28132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43280" y="148428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48000" y="76392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今天，你已和我同在乐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——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《圣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56000" y="3068640"/>
            <a:ext cx="47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体会十字架上耶稣的死，是为克服死的恐惧，迎向永恒复活救赎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56000" y="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小溪的意义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1916280"/>
            <a:ext cx="478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小溪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巴赫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4941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够了，这就是小溪的伟大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692280"/>
            <a:ext cx="47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埋没不了，常青常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价值与时间成正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577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生命力旺盛；不在意外界是否关注；拥有稳定、匀称、安详、恬静和旷日持久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56000" y="595008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滋养后人；因信念而一如既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981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628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肖复兴说，巴赫是小溪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21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贝多芬说，巴赫不是小溪，是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079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听听巴赫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49228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推荐《音乐笔记》：《永远的海菲兹》、《光是从那里来的》、《勃拉姆斯笔记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36640"/>
            <a:ext cx="784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谈音乐是一件非常难的事情，不仅很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，而且谈它本身就是一件非常蠢的事情。圣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就说过：“音乐起于词尽之处。”但为什么我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来谈？一个原因是我从内心深处喜欢他。另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原因，无论我们多么外行……作为爱好者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们对音乐的热情并不亚于音乐家们，所以我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还是有资格来谈一谈音乐的。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肖复兴《在时间中流淌的音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628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是一切时代的音乐中最伟大的奇迹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瓦格纳 （德国著名作曲家、文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用一个简单的主题，呼唤出了整个世界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威策尔（德国音乐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像山峦一样列举伟大作曲家们的名字，那么位于其顶峰的无疑是巴赫。”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尔基 （前苏联无产阶级作家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是能给予你投资最大回报的音乐家，大师将亲自告诉你如何管理自己的财富，如何使它增长，直到有一天，突然间你会发现，你已经拥有了一个世界上任何人都夺不走的宝藏，那就是——对巴赫音乐的理解和热爱。”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房龙（美国传记作家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19640" y="2349360"/>
            <a:ext cx="31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溪”与“巴赫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相似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765000"/>
            <a:ext cx="34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巴赫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56000" y="33336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小溪的意义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2060640"/>
            <a:ext cx="478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小溪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巴赫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4221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够了，这就是小溪的伟大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981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埋没不了，常青常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价值与时间成正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16872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26028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的《勃莱登堡协奏曲》非常有名，死后就卖了六便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写过三百多首康塔塔，但生前只出版过一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赫死的时候连一块墓地都没有，第一天埋了，第二天找不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49228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房龙在《巴赫传》中曾说：巴赫当时“收入只有现在贫困线的百分之六十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6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肖复兴在《巴赫的遗产》中写道：巴赫的这点可怜巴巴的遗产，杯水车薪，不可能够照顾他的遗孀和孩子们日后的生活……而现在巴赫的手稿已经价值连城。我们有时就是这样愚弄着我们的艺术和艺术家，我们有时就是这样翻手为云覆手为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356000" y="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小溪的意义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916280"/>
            <a:ext cx="478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小溪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巴赫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4941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够了，这就是小溪的伟大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83664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巴赫的音乐：埋没不了，常青常绿；价值与时间成正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33577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生命力旺盛；不在意外界是否关注；拥有稳定、匀称、安详、恬静和旷日持久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745080" cy="4897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60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巴赫的艰辛岁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620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8920" y="355680"/>
            <a:ext cx="55450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68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生于德 国一音乐世家，是虔诚的基督教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九岁那年，父母相继去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得靠大哥继续抚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十五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独立外出谋生，十七岁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辗转魏玛、莱比锡等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担任过管风琴手、乐队队长和宫廷作曲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晚年双目失明。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7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在莱比锡与世长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3240" y="14130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音乐常在我们的市镇上回响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5480" y="4508640"/>
            <a:ext cx="507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581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贫困与死亡一生相随，眼睁睁地将自已的第一任妻子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个孩子送进坟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而他创作了千余部作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56000" y="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小溪的意义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1916280"/>
            <a:ext cx="478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小溪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才是巴赫的性格和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941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够了，这就是小溪的伟大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83664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巴赫的音乐：埋没不了，常青常绿；价值与时间成正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3577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生命力旺盛；不在意外界是否关注；拥有稳定、匀称、安详、恬静和旷日持久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46:00Z</dcterms:created>
  <dc:creator>微软用户</dc:creator>
  <dc:description/>
  <dc:language>en-US</dc:language>
  <cp:lastModifiedBy>yaoyuqing</cp:lastModifiedBy>
  <dcterms:modified xsi:type="dcterms:W3CDTF">2007-03-22T01:39:31Z</dcterms:modified>
  <cp:revision>22</cp:revision>
  <dc:subject/>
  <dc:title>幻灯片 1</dc:title>
</cp:coreProperties>
</file>