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761-A0C1-4684-9B12-2162A465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7F9-AA71-4C2B-8273-8E509805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9E2-8E3D-4D69-BC22-9D165A1F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18A-7B80-43DE-9F02-7B18CDA3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03E-A933-4A78-97F1-169123AE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220-A057-49CE-87A6-54B0E8E0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696-D401-4EB5-9813-7335FA2C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3EB-EB42-46F0-8680-0A656AF0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ECB-7F7B-4497-ABFB-E05D35BD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6D1-A2CF-45E9-92DA-3CBBC5E4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E0D-009E-420F-BF1F-BCD7A647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620-B9C8-40FD-883D-ADA9E0BE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8D26-831C-43A2-9ED8-73226C8CC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1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5335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00ff"/>
                </a:solidFill>
                <a:latin typeface="Arial"/>
              </a:rPr>
              <a:t>小溪巴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巴赫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4495680" cy="533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4840" y="5794200"/>
            <a:ext cx="357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山东莱芜    娄陶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zrzy_0223@sohu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9880" y="39625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小溪，涓涓细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就这样流着、流着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00400" y="4343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被树荫掩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6880" y="3657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被杂草遮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62520" y="36576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被乱石覆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4572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或在那高高的山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五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8080" y="2971800"/>
            <a:ext cx="3962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在险峻的悬崖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它照样 流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00400" y="3581280"/>
            <a:ext cx="4038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在偏僻的角落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它照样流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971800" y="3657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在阳光月色的照耀下，它照样流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05120" y="24382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在风霜雨雪的袭击下，它照样流淌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9280" y="260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理解：小溪、巴赫以及巴赫的音乐三者融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25360"/>
            <a:ext cx="9144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明确：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节到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节是文章的主体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节到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节写小溪的意义：“涓涓细流”却“永不停止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节到第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5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节描绘了“小溪”与“巴赫的性格和品格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小溪的看似平凡实则伟大的特征，是与巴赫的性格、品格及其音乐在世界音乐史上的地位相照应的。巴赫的个性沉静而坚韧，生前默默无闻，死时悄然离去，而他的音乐却具有极高的价值和成就，滋养着后世无数的伟大音乐家。随着作者对“小溪”意象的充分挖掘，我们对巴赫的了解也逐渐深入。“小溪”、“巴赫”、“巴赫的音乐”三者相融一体，“小溪”便是巴赫和他的音乐的完美写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838080"/>
            <a:ext cx="4952880" cy="1373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c5f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约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赛巴斯蒂安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巴赫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ohann Sebastian Bach,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685-175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），德国最伟大的作曲家之一，生于爱森那赫市音乐世家。十八岁起历任多处教堂和宫廷的乐长及管风琴师。巴赫生前仅以管风琴演奏家著名，去世近百年后，其创作才得到应有的尊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380880"/>
            <a:ext cx="878544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历代音乐家评巴赫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音乐归功于巴赫的东西，就像宗教归功于其创立者一样的多。——舒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如果巴赫时代以来所有的音乐作品都丧失了，也可以在巴赫的基础上重新构成。——古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研究巴赫，你将在他那里找到一切。——勃拉姆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北方快乐的孩子们，你们能够吮吸到巴赫的乳汁，我多么羡慕你们。——威尔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巴赫是一切时代的音乐中最伟大的奇迹。——瓦格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他（巴赫的名字德文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ach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，是小溪的意思）不是小溪，是大海。）——贝多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巴赫一生作品浩如烟海，主要作品有：二百多部宗教及世俗“康塔塔”、若干部宗教《受难曲》、《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小调弥撒曲》、《平均律钢琴曲集》、《创意曲集》、《古钢琴组曲》、小提琴和大提琴《无伴奏奏鸣曲》、《勃兰登堡协奏曲》六首、《乐队组曲》四首和大量管风琴曲及晚年所著《赋格的艺术》一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巴赫" descr=""/>
          <p:cNvPicPr/>
          <p:nvPr/>
        </p:nvPicPr>
        <p:blipFill>
          <a:blip r:embed="rId2"/>
          <a:stretch/>
        </p:blipFill>
        <p:spPr>
          <a:xfrm>
            <a:off x="0" y="1981080"/>
            <a:ext cx="3886200" cy="4876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48320" y="471636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609480"/>
            <a:ext cx="7467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关于巴洛克音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巴洛克是一个时期的简称，通常指从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1600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到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1750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年之间的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150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年范围。这个时期内产生的作品，习惯上便称之为“巴洛克音乐“。”巴洛克“一词来源于葡萄牙语，意义是形态不够圆或不完美的珍珠，而且最初用于建筑领域，后来才逐渐用于艺术和音乐领域。这一时期的建筑特点是多用精致华丽的装饰，表现在音乐旋律上的特点为：乐句长度不一。气息较长，无论是声乐还是器乐，旋律都空前的华丽复杂，有相当多的装饰音和模进音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5943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肖复兴，北京人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4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年生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6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年高中毕业于北京汇文中学；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6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年到北大荒插队；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8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年毕业于中央戏剧学院。当过大中小学教师，曾任《小说选刊》副主编。现任《人民文学》杂志社副主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肖复兴是中国八十年代以来创作较为活跃，收获颇为丰厚的作家之一。作者的作品朴实无华，向人们讲述着一个个看上去颇为平常的故事。而正是在这一系列似乎谁都可能经历的故事中，作者写出了他对生活的独到观感，写出了人的处境，人的精神渴求，写出了社会在其演进发展过程中的细微变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1497284819917714" descr="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85800"/>
            <a:ext cx="50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作者语：“人其实是很脆弱的，伤怀往事，尤其是蹉跎的青春往事，心里的感受无可言说。我知道，无论过去是对是错，是可以伤感，还是可以悔恨，都是不可追回的了。人可以回过头往后看，但路却总是要往前走。过去的路是一张弓，只能弹射得我们向前飞奔，这就是我们无法逃避又不可选择的命运。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U982P112T3D186090F48DT20050628112740" descr=""/>
          <p:cNvPicPr/>
          <p:nvPr/>
        </p:nvPicPr>
        <p:blipFill>
          <a:blip r:embed="rId2"/>
          <a:stretch/>
        </p:blipFill>
        <p:spPr>
          <a:xfrm>
            <a:off x="4753080" y="343080"/>
            <a:ext cx="4419360" cy="632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巴赫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3962160" cy="5333760"/>
          </a:xfrm>
          <a:prstGeom prst="rect">
            <a:avLst/>
          </a:prstGeom>
          <a:ln w="0">
            <a:noFill/>
          </a:ln>
        </p:spPr>
      </p:pic>
      <p:pic>
        <p:nvPicPr>
          <p:cNvPr id="55" name="巴赫1" descr=""/>
          <p:cNvPicPr/>
          <p:nvPr/>
        </p:nvPicPr>
        <p:blipFill>
          <a:blip r:embed="rId3"/>
          <a:stretch/>
        </p:blipFill>
        <p:spPr>
          <a:xfrm>
            <a:off x="4952880" y="609480"/>
            <a:ext cx="3886200" cy="5639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114800" y="6019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巴赫1" descr=""/>
          <p:cNvPicPr/>
          <p:nvPr/>
        </p:nvPicPr>
        <p:blipFill>
          <a:blip r:embed="rId5"/>
          <a:stretch/>
        </p:blipFill>
        <p:spPr>
          <a:xfrm>
            <a:off x="498600" y="380880"/>
            <a:ext cx="3962160" cy="5639040"/>
          </a:xfrm>
          <a:prstGeom prst="rect">
            <a:avLst/>
          </a:prstGeom>
          <a:ln w="0">
            <a:noFill/>
          </a:ln>
        </p:spPr>
      </p:pic>
      <p:pic>
        <p:nvPicPr>
          <p:cNvPr id="58" name="巴赫" descr=""/>
          <p:cNvPicPr/>
          <p:nvPr/>
        </p:nvPicPr>
        <p:blipFill>
          <a:blip r:embed="rId6"/>
          <a:stretch/>
        </p:blipFill>
        <p:spPr>
          <a:xfrm>
            <a:off x="4952880" y="838080"/>
            <a:ext cx="3962520" cy="533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xit" presetID="2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38088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理解“小溪”这一意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找出文中解读这一意象内涵的语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638680" y="32004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小溪常青常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1:48:28Z</dcterms:created>
  <dc:creator/>
  <dc:description/>
  <dc:language>en-US</dc:language>
  <cp:lastModifiedBy>zmj</cp:lastModifiedBy>
  <dcterms:modified xsi:type="dcterms:W3CDTF">2012-02-13T11:49:29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